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7E3C-0665-4072-9A0B-3A80628B5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D0C2-6047-4F63-B7CE-7F384A2D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7337-A379-4BC5-AA4C-DF5536677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FACE-1D41-42A9-BE3A-879FF2F08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0504-84D7-4244-AC9C-E2A3FEDFB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E043-1756-4AA4-9FE8-A74EE731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28B9-1D8A-4F4F-987B-BAC9198F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A6F8-6678-45A2-B577-EA05382B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6027-177E-42C6-9441-3AB1A733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2473-7BAF-4BD2-88D7-DBBE4BFA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6040-3809-40B6-8847-610EEF7F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8D3A-BE78-4C12-B44D-AE41FB00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34CA-6C92-4A99-BAA5-8FEFCA52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142B-0E84-4CE0-96E3-D694C2E4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DC7B-E273-4E85-A266-C352B433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7D48-B888-439A-8FEF-6017E2658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03E7-F59F-4DF5-BB62-1BD2AEE4D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2864-266C-457B-A071-6FDD3B3D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8425-44F6-4D0C-B6E9-8A9E8D94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8BC7-65B4-462D-9C73-C1DD6F2E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79AF-50D7-42E0-A158-540038AF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5BA9-6EFE-4F91-9FB0-B95A2F96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2430-FEFC-464F-B10C-683A0C7A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5BA5-E6ED-4EE0-AA87-9A8E2D0E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8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B90E-C9F1-46EF-854D-43F66DC86668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8693-9378-46DA-BB6F-00A77F0E4478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AA11-3633-4DB2-B79C-5A17C1659501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59D5-9A48-4196-9D08-851B6530C3A0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28840" y="2500200"/>
            <a:ext cx="7407360" cy="2571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70f62"/>
                </a:solidFill>
                <a:latin typeface="Arial"/>
              </a:rPr>
              <a:t>ŠKOLA ZA MOSTOVE I PUTEVE U PARIZU- PRVA INŽENJERSKA Š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70f62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770f62"/>
                </a:solidFill>
                <a:latin typeface="Arial"/>
              </a:rPr>
              <a:t>(ECOLE NATIONALE DES PONTS ET CHAUSSE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65D7-95B0-48D5-B035-3BE55C8E87D5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0E99-46BB-4B7E-823A-3C22F4FD7B2F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1285920" y="428760"/>
            <a:ext cx="36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đevinski fakultet univerziteta u Beogra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F871-7110-4C6F-8C9A-544CFBF7C8DF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9EE1-0452-4F06-B3DA-88E1374F5B61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7"/>
          <p:cNvSpPr/>
          <p:nvPr/>
        </p:nvSpPr>
        <p:spPr>
          <a:xfrm>
            <a:off x="2124000" y="404640"/>
            <a:ext cx="532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2124000" y="404640"/>
            <a:ext cx="50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2124000" y="26028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1258920" y="1484280"/>
            <a:ext cx="7489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NP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e jedan od fakulteta na kome studenti dobijaju tzv. op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obrazova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kon toga brzo postaju vod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mena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0" descr=""/>
          <p:cNvPicPr/>
          <p:nvPr/>
        </p:nvPicPr>
        <p:blipFill>
          <a:blip r:embed="rId2"/>
          <a:stretch/>
        </p:blipFill>
        <p:spPr>
          <a:xfrm>
            <a:off x="3492360" y="3860640"/>
            <a:ext cx="2033640" cy="2565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F6FF-1D1A-45F7-9122-860DDA72BEC7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A60C-5E55-4BB9-A37F-2FD8BFE22122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7"/>
          <p:cNvSpPr/>
          <p:nvPr/>
        </p:nvSpPr>
        <p:spPr>
          <a:xfrm>
            <a:off x="2771640" y="18900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epeni stud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1258920" y="1484280"/>
            <a:ext cx="7561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 glavn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epe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oja su u ponu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ki programi: vod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5-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d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ji  programi postdiplomskih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kih stepena, illi mast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ktorski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ionalni programi za postdiplo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56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69,102,-84)"/>
                                      </p:to>
                                    </p:set>
                                    <p:set>
                                      <p:cBhvr>
                                        <p:cTn id="157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69,102,-84)"/>
                                      </p:to>
                                    </p:set>
                                    <p:set>
                                      <p:cBhvr>
                                        <p:cTn id="158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2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69,102,-84)"/>
                                      </p:to>
                                    </p:set>
                                    <p:set>
                                      <p:cBhvr>
                                        <p:cTn id="163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69,102,-84)"/>
                                      </p:to>
                                    </p:set>
                                    <p:set>
                                      <p:cBhvr>
                                        <p:cTn id="164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FA42-D865-41BD-BF12-1F17437ACA5B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5372-97B5-4819-82F9-C941E6241D9A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>
            <a:off x="1258920" y="1628640"/>
            <a:ext cx="619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2124000" y="33336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1714680" y="1785960"/>
            <a:ext cx="7215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 kvalitetnom radu škole svedoči činjenica da se škola uspešno održala i do današnjih d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 u trećem veku od svog osnivanja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a iza sebe ima zavidan broj visoko obrazovanih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 u svom poslu najuspešnijih inženj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6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7AB3-0BE5-414D-8816-C2F2F9D8A470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968C-1FBE-4332-8D8A-0AA5E41A1335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6"/>
          <p:cNvSpPr/>
          <p:nvPr/>
        </p:nvSpPr>
        <p:spPr>
          <a:xfrm rot="21180600">
            <a:off x="1486080" y="1991880"/>
            <a:ext cx="7072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ZAHVALJUJEMO VAM SE NA PAŽNJI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NADAMO SE DA STE UŽIV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                                       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Auto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3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0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2" dur="2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9C31-349A-4E34-B824-89FD2680CFBD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0848-3C47-467E-B99B-E7FD3BF6906B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2"/>
          <p:cNvSpPr/>
          <p:nvPr/>
        </p:nvSpPr>
        <p:spPr>
          <a:xfrm>
            <a:off x="1214280" y="285840"/>
            <a:ext cx="771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regled izlag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4"/>
          <p:cNvSpPr/>
          <p:nvPr/>
        </p:nvSpPr>
        <p:spPr>
          <a:xfrm>
            <a:off x="1714680" y="1428840"/>
            <a:ext cx="678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UVOD U GRADJEVINARST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istorijski raz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nastanak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ionale de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ts e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ussé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lokali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rad 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stepeni stud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D2D7-D58B-440A-AC9A-37B77FCFDE02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FF82-1D60-41A9-8DE4-F0D85810BEF2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"/>
          <p:cNvSpPr/>
          <p:nvPr/>
        </p:nvSpPr>
        <p:spPr>
          <a:xfrm>
            <a:off x="1214280" y="214200"/>
            <a:ext cx="75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storijski raz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1285920" y="1571760"/>
            <a:ext cx="7286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đevinarstvo je staro koliko i ljudska civilizacija i jedna je od najznačajnijih i najstarijih privrednih gra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"/>
          <p:cNvPicPr/>
          <p:nvPr/>
        </p:nvPicPr>
        <p:blipFill>
          <a:blip r:embed="rId2"/>
          <a:stretch/>
        </p:blipFill>
        <p:spPr>
          <a:xfrm>
            <a:off x="1428840" y="3143160"/>
            <a:ext cx="3071880" cy="32767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3"/>
          <p:cNvSpPr/>
          <p:nvPr/>
        </p:nvSpPr>
        <p:spPr>
          <a:xfrm>
            <a:off x="4786200" y="3429000"/>
            <a:ext cx="4071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zvoj gr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narstva kao na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 discipline po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je osnivanjem slavn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P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EC70-254B-4846-B162-418DA444972C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766F-E5C9-456A-A0AC-099F1352A75B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1285920" y="35712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stanak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PC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1187280" y="1557360"/>
            <a:ext cx="77155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ionale de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ts e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ussées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snovana j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47. godine u Francusko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P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e najstarija civilna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k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 da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jih dana v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za jednu od najprest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jih Francuskih Velikih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a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t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2" descr=""/>
          <p:cNvPicPr/>
          <p:nvPr/>
        </p:nvPicPr>
        <p:blipFill>
          <a:blip r:embed="rId2"/>
          <a:stretch/>
        </p:blipFill>
        <p:spPr>
          <a:xfrm>
            <a:off x="3571920" y="2571840"/>
            <a:ext cx="2143080" cy="20336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C5F7-60B7-4152-B395-C951BC2DA4BA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2092-3790-4615-BDB5-E3811F57C10E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1619280" y="333360"/>
            <a:ext cx="619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z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1547640" y="1557360"/>
            <a:ext cx="66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a se razvijala godinama, od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j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voju poziciju kao vod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edukaciona ustanova u Francusko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4" descr=""/>
          <p:cNvPicPr/>
          <p:nvPr/>
        </p:nvPicPr>
        <p:blipFill>
          <a:blip r:embed="rId2"/>
          <a:stretch/>
        </p:blipFill>
        <p:spPr>
          <a:xfrm>
            <a:off x="2556000" y="3933720"/>
            <a:ext cx="4105080" cy="2087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B08F-B6CE-4EFD-9829-A27694D52BB7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4CAE-CB54-4500-BA0F-C063F862D755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1285920" y="285840"/>
            <a:ext cx="70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Lokali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http://www.jpmoser.com/images/golfhotelmv/marne-map.jpg"/>
          <p:cNvPicPr/>
          <p:nvPr/>
        </p:nvPicPr>
        <p:blipFill>
          <a:blip r:embed="rId2"/>
          <a:stretch/>
        </p:blipFill>
        <p:spPr>
          <a:xfrm>
            <a:off x="2428920" y="1428840"/>
            <a:ext cx="4929120" cy="1928880"/>
          </a:xfrm>
          <a:prstGeom prst="rect">
            <a:avLst/>
          </a:prstGeom>
          <a:ln w="0">
            <a:noFill/>
          </a:ln>
        </p:spPr>
      </p:pic>
      <p:sp>
        <p:nvSpPr>
          <p:cNvPr id="132" name="TextBox 8"/>
          <p:cNvSpPr/>
          <p:nvPr/>
        </p:nvSpPr>
        <p:spPr>
          <a:xfrm>
            <a:off x="1143000" y="3500280"/>
            <a:ext cx="7572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d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e u  </a:t>
            </a:r>
            <a:r>
              <a:rPr b="0" lang="sr-Latn-CS" sz="3200" spc="-1" strike="noStrike" u="sng">
                <a:solidFill>
                  <a:srgbClr val="ff0000"/>
                </a:solidFill>
                <a:uFillTx/>
                <a:latin typeface="Arial"/>
              </a:rPr>
              <a:t>Marne-la-Valle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gr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Pariza,udaljenom 15km od njega), i ima istorijske gr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ne 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Pariz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AEC6-6D41-4C19-A1D6-344BF6667446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6E40-FCE8-4B7C-AA87-F9F8687DF019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Straight Connector 9" descr=""/>
          <p:cNvPicPr/>
          <p:nvPr/>
        </p:nvPicPr>
        <p:blipFill>
          <a:blip r:embed="rId1"/>
          <a:stretch/>
        </p:blipFill>
        <p:spPr>
          <a:xfrm>
            <a:off x="871560" y="105408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7"/>
          <p:cNvSpPr/>
          <p:nvPr/>
        </p:nvSpPr>
        <p:spPr>
          <a:xfrm>
            <a:off x="2050920" y="26028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1389960" y="1784160"/>
            <a:ext cx="72914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Edukacija za master studente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organizovana u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est slede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Calibri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ih odsek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Civilno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enjerstvo i konstruk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Transport, planiranje,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ivotna ok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M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instvo i materij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F516-9394-4564-9D9D-349A56C308AA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C8EB-A900-4D85-8753-DF46EB3A684E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2050920" y="26028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1258920" y="1700280"/>
            <a:ext cx="734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njena matematika i informa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konomija, mena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, finans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jsko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tvo i mena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2"/>
          <a:stretch/>
        </p:blipFill>
        <p:spPr>
          <a:xfrm>
            <a:off x="3492360" y="4221000"/>
            <a:ext cx="273708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561C-8325-41D9-B3A1-B390A9A8B6DA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23C7-E1CF-41C7-8DA6-D4E9FCC116C6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1692360" y="333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332000" y="1557360"/>
            <a:ext cx="763272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7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 godine je osnovan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NP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chool of International Manag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 stran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NPC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 osnivanja je primala z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nu pod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 od mat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3" descr=""/>
          <p:cNvPicPr/>
          <p:nvPr/>
        </p:nvPicPr>
        <p:blipFill>
          <a:blip r:embed="rId2"/>
          <a:stretch/>
        </p:blipFill>
        <p:spPr>
          <a:xfrm>
            <a:off x="4067280" y="4941720"/>
            <a:ext cx="2160360" cy="1511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6:17:52Z</dcterms:created>
  <dc:creator>stud126xp</dc:creator>
  <dc:description/>
  <dc:language>en-US</dc:language>
  <cp:lastModifiedBy>jelena</cp:lastModifiedBy>
  <dcterms:modified xsi:type="dcterms:W3CDTF">2008-07-09T12:59:40Z</dcterms:modified>
  <cp:revision>34</cp:revision>
  <dc:subject/>
  <dc:title>Slide 1</dc:title>
</cp:coreProperties>
</file>