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2EDC-11B9-4838-8646-A807EC5A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7073-022C-479D-9F25-F5A500F9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8BE6-AC0C-4957-908E-421CF09B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43AB-FB7A-4D33-8279-2AC3830C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7B0C-3D2D-40CF-84B7-B1D1AFD1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6E01-3028-4D6C-B857-1815004C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F532-266E-45A7-A889-1C75149C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629D-177A-471C-AAF0-696446A3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78EF-007D-4659-B997-3A67B0C5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D8F4-1D71-42CC-8AE3-B6598CB7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D328-ECA6-493D-9438-6F7398D2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8D94-2C52-4372-A42B-8FD5AE7F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A483-B9C8-400D-B049-097CE77E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62F8-99F5-4AD6-8954-73BDB455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92E8-7D60-4644-9A21-C3CBB786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841B-2CB8-47DC-9CA1-42F2F393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A692-C2F7-4CCA-8B40-2169CBD1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8B2F-210C-4175-B6B2-49178C3E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C74D-DD2A-4D48-AB04-15E558E2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4ABD-96A9-4041-A159-75E8C9A9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DB3B-2D11-4D0C-9D09-D3A033F8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6FD4-6EFB-4D64-BB36-16292307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0B8F-AA7B-47BD-BDA1-F1546A0D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846E-3E93-4A0D-9FBA-CDBFE275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8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F4B5-B9C2-47FC-8246-E1861AF01308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8FAA-CB7C-43C4-9D3B-9C9208F90701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084B-1D81-44ED-B219-8BBBE1405DE8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9EF8-6404-4E0B-878D-E967505DE1C5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28840" y="2500200"/>
            <a:ext cx="7407360" cy="2571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70f62"/>
                </a:solidFill>
                <a:latin typeface="Arial"/>
              </a:rPr>
              <a:t>ŠKOLA ZA MOSTOVE I PUTEVE U PARIZU- PRVA INŽENJERSKA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70f62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770f62"/>
                </a:solidFill>
                <a:latin typeface="Arial"/>
              </a:rPr>
              <a:t>(ECOLE NATIONALE DES PONTS ET CHAUSS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7661-2903-45A7-9B27-74731B3C198C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6135-6820-43E7-8A13-15807B7B9068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1285920" y="42876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đevinski fakultet univerziteta u Beogr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D3CB-ABF0-49D5-9BBC-EE92EA2EF4B6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EC38-90A7-4B44-8E59-65D33B1F80CF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2124000" y="404640"/>
            <a:ext cx="532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124000" y="404640"/>
            <a:ext cx="50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2124000" y="2602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258920" y="1484280"/>
            <a:ext cx="7489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jedan od fakulteta na kome studenti dobijaju tzv. op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obrazova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kon toga brzo postaju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2"/>
          <a:stretch/>
        </p:blipFill>
        <p:spPr>
          <a:xfrm>
            <a:off x="3492360" y="3860640"/>
            <a:ext cx="2033640" cy="2565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E964-C593-4210-9970-2D295DC73A90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1682-4CC8-49A1-84D3-65770E50F636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2771640" y="1890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epeni stu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258920" y="1484280"/>
            <a:ext cx="756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 glavn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epe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oja su u ponu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i programi: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5-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d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  programi postdiplomskih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ih stepena, illi mast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ktorski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ionalni programi za postdiplo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3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64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65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9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70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71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9D87-5A33-41C5-B796-0D5FDF5D7443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B8B7-D0CA-4A59-86F7-969963B0514F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1258920" y="1628640"/>
            <a:ext cx="61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124000" y="333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1714680" y="1785960"/>
            <a:ext cx="7215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 kvalitetnom radu škole svedoči činjenica da se škola uspešno održala i do današnjih d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u trećem veku od svog osnivanja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a iza sebe ima zavidan broj visoko obrazovanih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u svom poslu najuspešnijih inženj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51A3-9044-4004-9E5B-00A2AE52E4D5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ED78-7664-4571-8739-C52CF4DA6351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 rot="21180600">
            <a:off x="1486080" y="1991880"/>
            <a:ext cx="7072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ZAHVALJUJEMO VAM SE NA PAŽNJI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NADAMO SE DA STE UŽIV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Auto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3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7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259D-361E-450D-A9BD-7EA7ED0137DF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CE13-BFB7-4EA3-9FC9-7518797A5578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2"/>
          <p:cNvSpPr/>
          <p:nvPr/>
        </p:nvSpPr>
        <p:spPr>
          <a:xfrm>
            <a:off x="1214280" y="28584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1714680" y="1428840"/>
            <a:ext cx="678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UVOD U GRADJEVINARST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istorijsk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nastanak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ionale d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s e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ussé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lokal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rad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stepeni stu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0088-12F8-44EC-A9B5-D9097A3AFFE7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479D-BF39-4BED-9497-CBD95BDB8D0D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1214280" y="214200"/>
            <a:ext cx="75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torijsk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1285920" y="1571760"/>
            <a:ext cx="728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đevinarstvo je staro koliko i ljudska civilizacija i jedna je od najznačajnijih i najstarijih privrednih gra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/>
          <a:stretch/>
        </p:blipFill>
        <p:spPr>
          <a:xfrm>
            <a:off x="1428840" y="3143160"/>
            <a:ext cx="3071880" cy="32767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3"/>
          <p:cNvSpPr/>
          <p:nvPr/>
        </p:nvSpPr>
        <p:spPr>
          <a:xfrm>
            <a:off x="4786200" y="3429000"/>
            <a:ext cx="4071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voj 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narstva kao na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discipline p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je osnivanjem slavn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1343-DC8C-4E39-A0F4-2D95A751E7AF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7916-66E1-443A-A15E-8BFCDB0F5AC6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1285920" y="357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stanak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1187280" y="1557360"/>
            <a:ext cx="7715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ionale d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s e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ussées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novana j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47. godine u Francusko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najstarija civilna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da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h dana v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za jednu od najpres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jih Francuskih Velikih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t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"/>
          <p:cNvPicPr/>
          <p:nvPr/>
        </p:nvPicPr>
        <p:blipFill>
          <a:blip r:embed="rId2"/>
          <a:stretch/>
        </p:blipFill>
        <p:spPr>
          <a:xfrm>
            <a:off x="3571920" y="2571840"/>
            <a:ext cx="2143080" cy="2033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7631-C8ED-4A48-B748-60BF8F5A9FFB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419B-555C-42BB-AB06-29C6DD84AA8D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1619280" y="333360"/>
            <a:ext cx="619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547640" y="155736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se razvijala godinama, od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j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voju poziciju kao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dukaciona ustanova u Francusko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4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410508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6C40-A5B0-4358-93EA-1BEFD3953C8C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D20F-6A82-4D72-A214-5A421C1B653D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1285920" y="28584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okal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http://www.jpmoser.com/images/golfhotelmv/marne-map.jpg"/>
          <p:cNvPicPr/>
          <p:nvPr/>
        </p:nvPicPr>
        <p:blipFill>
          <a:blip r:embed="rId2"/>
          <a:stretch/>
        </p:blipFill>
        <p:spPr>
          <a:xfrm>
            <a:off x="2428920" y="1428840"/>
            <a:ext cx="4929120" cy="19288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1143000" y="3500280"/>
            <a:ext cx="757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u  </a:t>
            </a:r>
            <a:r>
              <a:rPr b="0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Marne-la-Valle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ariza,udaljenom 15km od njega), i ima istorijske 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ne 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Pari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975C-169E-4305-B5C3-D3FCA3F85F0E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75EF-AFA8-4753-8D01-8117F5E1376D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Straight Connector 9" descr=""/>
          <p:cNvPicPr/>
          <p:nvPr/>
        </p:nvPicPr>
        <p:blipFill>
          <a:blip r:embed="rId1"/>
          <a:stretch/>
        </p:blipFill>
        <p:spPr>
          <a:xfrm>
            <a:off x="871560" y="105408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2050920" y="260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1389960" y="1784160"/>
            <a:ext cx="7291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dukacija za master studente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organizovana u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st slede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Calibri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h odse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Civilno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njerstvo i konstru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Transport, planiranje,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votna ok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M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nstvo i materij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6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BCC8-6E0B-43A3-80BA-7667B2C0901E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D27C-BAF3-400A-B5FA-D0873B15C77C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2050920" y="260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258920" y="1700280"/>
            <a:ext cx="73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njena matematika i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ja,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, finans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jsko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tvo i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3492360" y="4221000"/>
            <a:ext cx="273708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B90F-6AA7-4448-9160-95490AF7C616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99A2-D6F4-4363-A454-F3E9C717FD17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1692360" y="333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332000" y="1557360"/>
            <a:ext cx="76327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godine je osnovan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chool of International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 stra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 osnivanja je primala z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nu pod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 od ma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3" descr=""/>
          <p:cNvPicPr/>
          <p:nvPr/>
        </p:nvPicPr>
        <p:blipFill>
          <a:blip r:embed="rId2"/>
          <a:stretch/>
        </p:blipFill>
        <p:spPr>
          <a:xfrm>
            <a:off x="4067280" y="4941720"/>
            <a:ext cx="2160360" cy="1511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6:17:52Z</dcterms:created>
  <dc:creator>stud126xp</dc:creator>
  <dc:description/>
  <dc:language>en-US</dc:language>
  <cp:lastModifiedBy>jelena</cp:lastModifiedBy>
  <dcterms:modified xsi:type="dcterms:W3CDTF">2008-07-09T12:59:40Z</dcterms:modified>
  <cp:revision>34</cp:revision>
  <dc:subject/>
  <dc:title>Slide 1</dc:title>
</cp:coreProperties>
</file>