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708-43C2-49EF-A35D-C95287D0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AB6-6AB6-4954-AB66-B95491F2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DF5-958E-4007-8A1F-F2B2ECFF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075-8776-4CA0-BBC8-F7801D2A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79D0-35BC-43A6-A563-1FD89551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8DF6-C620-4673-AF29-0C4BC808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7598-2B30-41F2-9CA0-F89F6D3D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8F1F-0B77-435A-9C7D-ED9DE18A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77AD-D24A-4BA2-9169-BCBC9196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82AB-B1F4-470E-A153-F3973260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E179-A20F-43F8-A59F-04460141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B6F-7906-4D2D-ACCB-71AD7032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AF85-DD7E-4905-8F1C-D5A7B97B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8B1C-9B19-46C6-81B2-07241446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70FA-0AE3-4422-9AE4-7F32E459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BF5C-5843-45DB-9FE7-81D4FB2A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3F96-5CF8-4913-9843-13213A4C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44077-EF0E-4819-8FA5-25C0E5C8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5B933-697D-4E17-890C-D3CBF7FE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BAD57-02CF-4227-8F36-559D270B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4CEAB-3CBE-4F80-BD1D-37660BE9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9DADC-D87E-46F5-82D8-275C9DE3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421-4C75-4E46-AE15-B380F197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82C4-FF4C-41CE-842D-928DEF01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75FD8-1E28-4FFF-877F-0FEB6F46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3E435-BB47-4393-B3BE-650608C6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1B51C-F307-43F5-ABCE-D250D8C7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5F20F-2972-4116-BDB7-6E581D16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153FA-B9E4-43F6-AFB2-F87D0B67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72CDD-5294-40AE-9DE7-BA49DC08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4EF1-0765-415A-B77D-50BF7E1F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CFCAC-0BD6-40D4-B9CF-6918EBFF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82F2B-FCC0-4C7D-9E05-225C6A20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9E7-260B-4176-A284-75326749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2F69C-3AD7-40A0-BE37-6DE1035C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336D5-28E7-4E57-AD0E-98B89AA4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6A287-1036-452B-8C17-270489B7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A0BE7-52D0-42E2-A0A4-587BAA61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6F6D8-01EE-4FDF-8D31-8F0CD2EB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F8A23-E741-469A-9022-5D6E032E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CFA62-07D5-43C0-A391-F07097A5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5A76E-B70E-42A9-A763-328FBAF2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960EF-DC67-4D1D-A5A8-581CC216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2B795-3440-4387-ADBD-CCF157E8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08D-092E-4DE7-81A4-DB273080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5C0B8-A746-4B25-B58C-0FBF094C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113C8-ECB6-43E4-A61E-8BAB6725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4377C-7DF8-47CE-AC7E-33F9DAF5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BDCEA-EED3-44D4-9AD9-56F42599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D474F-564A-48FE-BF89-D94A17F1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D16DB-D937-4372-941B-F62CD4C4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4A56D-7CD5-4DA5-A623-9AD67650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212C8-F6AE-4CE4-B6A4-C5CA3E21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61AA3-04E1-43DB-AEE4-F7E854AC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AF55D-49E5-4F87-90D9-92BD19B3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4D7-F2B3-4D02-9321-FF7A19B5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9564D-4183-48F0-86A1-78C8DA66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9DE5B-ED69-40D7-B8A4-6FB069C2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936C1-7BA4-4BFE-B0DE-BF69123C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D6876-B52B-4D73-A1AC-4DAC3D95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DD5ED-E738-47C6-BE78-5EFF401B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11363-A38E-4555-AA19-01F2AA99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DCD5C-CE96-4DF4-8DEF-F5D8D2CF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8B71A-2E4F-4BE9-9B7E-8D7840B6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DB36E-30CF-46CD-8A9B-F0556F60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6617F-0479-427A-A6B5-EBAC7962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BF8-4EAE-4E8B-9AC4-7AE72A64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BD004-8689-4CDC-9747-9DF6DC99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A2C7F-590A-442B-A770-28886529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F3302-ED89-46B1-A8B2-0301EB47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31C33-5E8E-4119-9361-44290664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5E661-B09E-4197-A714-714E20C9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54897-CBF7-4FD8-A8CE-0C910F5D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9080A-5F14-4414-8364-8D74C50F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D3BDC-0562-4150-A643-F387D507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F27DA-AE5E-4500-8B38-98A7526F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B2F21-4CE8-4F6E-9115-8301297C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4F8-4CB1-4D23-B6D6-F11D59E6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F8CF8-F572-4830-9479-4C00A667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6D45E-68D8-418B-AEAE-AE6D757D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7768D-E105-49D4-9D5C-65DF19DE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E75AA-C4AB-4C03-A215-3A3D2A56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6BABD-DC6F-40E2-BEC2-FE004598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3C6-79BE-4317-AF77-B1FAEC8E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C7E1-7827-4B84-B4E5-A1C47DD6B82E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75D4-0A73-43D5-A420-0FC086FA56F1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3336-2894-4EBC-876B-583AB890F05F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0FAB-1D82-4743-814F-F3E02532B267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9BDB-4EAC-4656-B382-2A2E55791F99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1590-F4A0-46F8-9559-A6C33FB2CF24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F51E-9B7D-481F-B838-52F4E00B3F72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6BAE-EB15-4BD5-8C49-C29DA5898A15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F8D2-63F2-4801-9BA7-F24723CED8F5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3667-AF32-4204-9F04-84FC02F48FAF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F90A-5955-4112-8C54-3A37D2A9CE05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FBAD-B2AD-4088-A0CB-8B1A7B858578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2E28-2D21-4B63-9569-FA868AFD4CAC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3430-502D-46C9-ACE9-BF1172F17F09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0" y="1499760"/>
            <a:ext cx="6858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Pore</a:t>
            </a: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đenje chat klijenata</a:t>
            </a:r>
            <a:br>
              <a:rPr sz="4300"/>
            </a:b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14520" y="3714840"/>
            <a:ext cx="4621320" cy="3579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357200" y="3857760"/>
            <a:ext cx="18576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429240" y="1285920"/>
            <a:ext cx="2714760" cy="5572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GOOGLE  TALK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5857920" cy="5715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gTALK morate imati otvoren nalog na gmail-u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U poslednje vreme je jako zastupljen medju internet korisnicima jer 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pored zvucnog (Skype) i pisanog oblika, sada podr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ž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ava i peer-2-peer varijantu(nema ogran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enja u vel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ini i tipu fajla)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N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ovost je i voice mail, kada user nije online, mozete poslati audio poruku koju user dobija kao E-mail attachment na Gmail-u..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ffffff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1720" y="1643040"/>
            <a:ext cx="7407000" cy="5214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SN je lansiran 1999 kao konkurencija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OL Instant Messenge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u,od kompanije Microsof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Prvobitan naziv bio j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 Service“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,ali je kasnije pojednostavljen ka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.“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Termin MSN je postao sinonim za sve messenger servise u internet sleng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6"/>
          <p:cNvSpPr/>
          <p:nvPr/>
        </p:nvSpPr>
        <p:spPr>
          <a:xfrm flipH="1">
            <a:off x="1355760" y="1440"/>
            <a:ext cx="144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85560" y="1071360"/>
            <a:ext cx="5143320" cy="5429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je najrasprostanjeniji medju internet korisnicima govori činjenica da ga danas koristi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225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iliona ljud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MSN morate imati otvoren nalog na hotmail-u</a:t>
            </a: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285920" y="5214960"/>
            <a:ext cx="1409760" cy="1305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6410160" y="1071720"/>
            <a:ext cx="27338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643040" cy="2143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KOJI IZABRATI?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1720" y="1071360"/>
            <a:ext cx="7407000" cy="4071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ijedan chat klijent ne možemo izdvojiti kao najbolji.Svaki od njih nam nudi veliki broj mogućnosti,koje mi koristimo u skladu sa našim potreba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Često korisnici imaju instalirana 2-3 različita chat klijenta,i na taj način pokrivaju najveći deo onoga što nude                .            Chat klijent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"/>
          <p:cNvPicPr/>
          <p:nvPr/>
        </p:nvPicPr>
        <p:blipFill>
          <a:blip r:embed="rId2"/>
          <a:stretch/>
        </p:blipFill>
        <p:spPr>
          <a:xfrm>
            <a:off x="3143160" y="5572080"/>
            <a:ext cx="1181160" cy="1047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3"/>
          <a:stretch/>
        </p:blipFill>
        <p:spPr>
          <a:xfrm>
            <a:off x="5072040" y="557208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img338.imageshack.us/img338/2901/promotewallpaperthzy8.jpg"/>
          <p:cNvPicPr/>
          <p:nvPr/>
        </p:nvPicPr>
        <p:blipFill>
          <a:blip r:embed="rId4"/>
          <a:stretch/>
        </p:blipFill>
        <p:spPr>
          <a:xfrm>
            <a:off x="6786720" y="5286240"/>
            <a:ext cx="2071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64646"/>
                </a:solidFill>
                <a:latin typeface="Gill Sans MT"/>
              </a:rPr>
              <a:t>ALL-IN-ONE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8143920" cy="3429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e nekoliko godina objavljeni su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all-in-one</a:t>
            </a: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svi u jednom)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chat programi koji podržavaju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ICQ, AIM, MSN, Yahoo, IRC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od njih su: Miranda,Trillian,Jabber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214280" y="3286080"/>
            <a:ext cx="3571920" cy="292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 rot="20915400">
            <a:off x="5489280" y="3717720"/>
            <a:ext cx="3159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LL-IN-ONE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431720" y="1285920"/>
            <a:ext cx="7407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Ukoliko imate Gtalk,a vaš novi poslovni partner MSN messenger,vi zahvaljujući all-in-one ne morate dodatno da se mučite instalirajući MSN,otvarajući nalog na hotmail-u,ili slali njemu pozivnicu za Gmail,pa čekali 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je prihvati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voljno je da imte instaliran neki od all-in-one da biste komunicirali sa njim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4840" cy="866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7643880" y="4357800"/>
            <a:ext cx="11714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4643280" y="5214960"/>
            <a:ext cx="2214720" cy="971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ZAKLJUČAK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43000" y="1356840"/>
            <a:ext cx="77868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Iako naizgled različiti,svi Chat klijenti pružaju donekle iste usluge svojim korisnici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Za koji god da se odlučite u svako doba dana i noći ćete moći da komunicirate i razmenjujete fajlove sa ljudima,bilo da oni žive u zgradi do vaše ili na hiljadama kilometara dalek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8097840" y="0"/>
            <a:ext cx="1046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PREGLED IZLAGANJ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071720" y="1213920"/>
            <a:ext cx="7858080" cy="528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lvl="1" marL="971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je cha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Prednosti u odnosu na e-mai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rste chat klijen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pružaju korisnicim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o više o: ICQ,Gtalk,Msn i all-in-one chat klijentima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ji 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brati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ključak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20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Šta je chat?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071360" y="1785600"/>
            <a:ext cx="8072280" cy="302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ili IRC (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nternet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aly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hat) je jedan od servisa koji je donekle sličan elektronskoj pošti i predstavlja ćaskanje(engl.chat) putem interne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5715000" y="3865680"/>
            <a:ext cx="2214720" cy="203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857240" y="4714920"/>
            <a:ext cx="2143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Gill Sans MT"/>
              </a:rPr>
              <a:t>Prednosti u odnosu na e-mail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00080" y="1714320"/>
            <a:ext cx="5143680" cy="5143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 razliku od elektronske pošte komunikacija se obavlja u realnom vremenu tj.svi učesnici u komunikaciji moraju da se nalaze istovremeno u blizini računa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6048360" y="1071720"/>
            <a:ext cx="30956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VRSTE CHAT KLIJENAT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571400" y="1785600"/>
            <a:ext cx="688644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kao najrasprostranjeniji komunikacioni servis na internetu se  vrši putem chat klijenata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Google talk,Mirabilis,AOL messenger,          mIRC,XChat,MSN,Skype,Yahoo messenger,ICQ,Jabber,Trillian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6286680" y="4929120"/>
            <a:ext cx="207144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1143000" y="5715000"/>
            <a:ext cx="1928880" cy="92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3"/>
          <a:stretch/>
        </p:blipFill>
        <p:spPr>
          <a:xfrm>
            <a:off x="7286760" y="1214280"/>
            <a:ext cx="1571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ŠTA PRUŽAJU KORISNICIMA?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00080" y="1213920"/>
            <a:ext cx="7215120" cy="5643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mogućavaju nam komunikaciju s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jatel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Rodbin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oslovnim partner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chat klijenti dozvoljavaju video i glasovnu komunikaciju,razmenu fajlova,kao i izražavanje emocija preko velikog broja emotikona,winkova i s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5572080" y="1785960"/>
            <a:ext cx="3571920" cy="2214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7915320" y="0"/>
            <a:ext cx="1228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2428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6722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431720" y="1357200"/>
            <a:ext cx="7407000" cy="5500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Aj-Si-Kj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(ICQ, igra reči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ngl.</a:t>
            </a:r>
            <a:r>
              <a:rPr b="0" i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I Seek Yo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- „tražim te“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Prva verzija programa je izaš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. godine, a naziv je nastao kao gore pomenuta igra reči na engleskom jeziku.</a:t>
            </a:r>
            <a:r>
              <a:rPr b="0" lang="vi-VN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Vremenom, pojavile su se i mogućnosti prenosa fajlova, slike pa i „onlajn“ igranja između korisnik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85960" y="142920"/>
            <a:ext cx="66722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99720" y="1071360"/>
            <a:ext cx="6000840" cy="5500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d 2007 god. Omogućeno je slanje besplatnih SMS poruka preko njega,podržava glasovnu i video komunika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edjutim iako je bio jako popularan u svoje vreme,nove generacije chat klijenat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su ga ubrzo zamenile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ada postoje oni koji su mu ostali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sledn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"/>
          <p:cNvPicPr/>
          <p:nvPr/>
        </p:nvPicPr>
        <p:blipFill>
          <a:blip r:embed="rId1"/>
          <a:stretch/>
        </p:blipFill>
        <p:spPr>
          <a:xfrm>
            <a:off x="6429240" y="521496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3"/>
          <a:stretch/>
        </p:blipFill>
        <p:spPr>
          <a:xfrm>
            <a:off x="6899400" y="1500120"/>
            <a:ext cx="22446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GOOGLE TALK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31720" y="1213920"/>
            <a:ext cx="7407000" cy="5000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je servis kompa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Google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koji pruža uslugu Internet telefo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(VoIP - Voice over Internet Protocol) i chat-a (IM - Instant Messaging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 beta verzija izašla je 24. avgusta 2005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Za sada program može da radi samo na Windows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perativnim sistemima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2000,XP,server 2003,Vista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čekuje se da neka od budućih verzija podržava i video konferen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20:53:16Z</dcterms:created>
  <dc:creator>jelena</dc:creator>
  <dc:description/>
  <dc:language>en-US</dc:language>
  <cp:lastModifiedBy>jelena</cp:lastModifiedBy>
  <dcterms:modified xsi:type="dcterms:W3CDTF">2008-07-09T13:03:05Z</dcterms:modified>
  <cp:revision>72</cp:revision>
  <dc:subject/>
  <dc:title>Poređenje chat klijenata </dc:title>
</cp:coreProperties>
</file>