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BD54-E289-44D5-A012-75D43AFF0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8408-7997-481B-94FC-8ECAA4D89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3DBD-C89B-4878-9B92-2157088F6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0C68-1FAC-4745-A4E2-D09B52284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E566-EDBE-430F-A9C2-E7869C32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2CB1-6F33-40AE-BF67-FEE636B0E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F5F3-52DC-4180-8C6B-148669A9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2D9C-803C-4A3E-9150-87CE1CF1D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60D1-B16A-419A-9409-7FF64425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5305-1F04-4768-9A64-C05C0F5B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1924-5F17-4D35-9ACF-2AA8080A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5A3B-1AF4-42F0-B807-0C4BBBF9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2B6F-A75C-4F16-9A02-91F58B0C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30A9-F2E9-4271-BB13-B3538A6D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4E31-CBC3-406F-B9AC-E8B302AB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8663-9E9A-42BE-AEEC-52F57C40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A28E-5B3F-4D38-B136-F6A55DE1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6F09-6ED3-4F52-AA55-D9C6A1F9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BD98-D154-493F-9391-18BBD1610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62E6-F8FF-49AB-A63C-7BD24756D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B56C-907F-4CC6-8F9C-02385F06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0F89-9E85-434C-8EFB-2E713080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AD43-2B6E-4C67-B97A-9F520F47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5705-64D2-415A-A298-7F93FC5F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DE0E-EB95-48F3-93C3-FEB22400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6AFC-74FA-46E0-9E06-7166A1BC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82B7-E2F2-4999-800F-1FF35277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977D-26D7-4369-8B71-2E4556EC4780}" type="datetime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34C4-4643-473C-9AE6-0E1F6504C8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F559-010B-4633-A09E-7019830F8AFF}" type="datetime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5D1F-EEEE-4186-B15A-2689CF28EE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hutterstock.com/subscribe.mhtml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hutterstock.com/subscribe.m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LOGA INTERNE POSLOV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 flipH="1">
            <a:off x="0" y="220500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>
            <a:off x="1187280" y="0"/>
            <a:ext cx="0" cy="22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1" descr="2700,1191537882,111.jpg"/>
          <p:cNvPicPr/>
          <p:nvPr/>
        </p:nvPicPr>
        <p:blipFill>
          <a:blip r:embed="rId1"/>
          <a:stretch/>
        </p:blipFill>
        <p:spPr>
          <a:xfrm>
            <a:off x="285840" y="3214800"/>
            <a:ext cx="4357440" cy="3500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1214280" cy="10000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stock photo : Business people and team. Isolated over white backgroun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85960"/>
            <a:ext cx="4286160" cy="3643200"/>
          </a:xfrm>
          <a:prstGeom prst="rect">
            <a:avLst/>
          </a:prstGeom>
          <a:ln w="0">
            <a:noFill/>
          </a:ln>
        </p:spPr>
      </p:pic>
      <p:sp>
        <p:nvSpPr>
          <p:cNvPr id="170" name="Date Placeholder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721C-612E-49CF-A64A-81EAFB0D57EE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FD1D-EA27-4DDF-A55A-5890FD82161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3929040" y="1357200"/>
            <a:ext cx="52149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Neuvažavanje interne komunikacije u svakodnevnom poslovanju organizacije dovodi do loše produktivnosti i loših tržišnih rezultata,što u toku kriznih situacija ili velikih promena može dovesti čak i do sloma celog siste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a li je to ono što želimo?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HVALA NA PAŽNJI!!!!!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1E67-C505-4B0B-AC3A-16FAB26827AF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39E8-5AB7-495D-B23B-52FADD7313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REGLED IZLAG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nterno komunic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Funkcional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rednos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  <a:ea typeface="Arial"/>
              </a:rPr>
              <a:t>¤</a:t>
            </a:r>
            <a:r>
              <a:rPr b="0" lang="sr-Latn-CS" sz="3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ntegrativni znač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  <a:ea typeface="Arial"/>
              </a:rPr>
              <a:t>¤</a:t>
            </a:r>
            <a:r>
              <a:rPr b="0" lang="sr-Latn-CS" sz="3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tivacioni znač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C:\Documents and Settings\jelena\Desktop\slike za pkp\64484,1162212365,1231.jpg"/>
          <p:cNvPicPr/>
          <p:nvPr/>
        </p:nvPicPr>
        <p:blipFill>
          <a:blip r:embed="rId1"/>
          <a:stretch/>
        </p:blipFill>
        <p:spPr>
          <a:xfrm>
            <a:off x="714240" y="3929040"/>
            <a:ext cx="2286000" cy="2714760"/>
          </a:xfrm>
          <a:prstGeom prst="rect">
            <a:avLst/>
          </a:prstGeom>
          <a:ln w="0">
            <a:noFill/>
          </a:ln>
        </p:spPr>
      </p:pic>
      <p:sp>
        <p:nvSpPr>
          <p:cNvPr id="113" name="Date Placeholder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575A-A27A-4EFE-BC3A-C2D5DEF0B457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66F9-586D-41AA-9869-0C6D0FFF5F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INTERNO KOMUNIC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merne opstrukcije, obustave rada, štrajkovi dolaze kao krajnje posledice, a sve počinje od glasina, nemotivisanosti, loše komunikacije između viših i nižih menadžera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rektora koji se zaposlenima obraća samo putem saopštenja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dnom rečju –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tu 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postavljen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n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omunikacij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C:\Documents and Settings\jelena\Desktop\slike za pkp\untitled5234.bmp"/>
          <p:cNvPicPr/>
          <p:nvPr/>
        </p:nvPicPr>
        <p:blipFill>
          <a:blip r:embed="rId1"/>
          <a:stretch/>
        </p:blipFill>
        <p:spPr>
          <a:xfrm>
            <a:off x="5143680" y="4071960"/>
            <a:ext cx="3714480" cy="2571840"/>
          </a:xfrm>
          <a:prstGeom prst="rect">
            <a:avLst/>
          </a:prstGeom>
          <a:ln w="0">
            <a:noFill/>
          </a:ln>
        </p:spPr>
      </p:pic>
      <p:sp>
        <p:nvSpPr>
          <p:cNvPr id="120" name="Date Placeholder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5687-E905-4A9A-9A58-88F31E8B9F71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0162-66B2-471B-B876-BFDBCC29B9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FUNKCIONAL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kcionalni značaj interne komunikacije ima dinamički karakter jer se ostvaruje putem konkretnih i opipljivih aktivnosti koje imaju svoj početak, svoje trajanje i završnicu u realnom prostoru i vremenu i preduzimaju ih zaposleni u organizacij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Office life"/>
          <p:cNvPicPr/>
          <p:nvPr/>
        </p:nvPicPr>
        <p:blipFill>
          <a:blip r:embed="rId1"/>
          <a:stretch/>
        </p:blipFill>
        <p:spPr>
          <a:xfrm>
            <a:off x="1928880" y="4786200"/>
            <a:ext cx="3571920" cy="1905120"/>
          </a:xfrm>
          <a:prstGeom prst="rect">
            <a:avLst/>
          </a:prstGeom>
          <a:ln w="0">
            <a:noFill/>
          </a:ln>
        </p:spPr>
      </p:pic>
      <p:sp>
        <p:nvSpPr>
          <p:cNvPr id="127" name="Date Placeholder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A9C3-AD2F-4BEA-8898-880393AFDB77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8D89-0932-4AD4-B2B6-6039849EC3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FUNKCIONAL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 aktivnosti s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Ostvarivanje organizacijski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ljeva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Obavešta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Povezivanj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Stvaranje konkurentne prednos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Upravljanje promena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Upravljanje kriz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C:\Documents and Settings\jelena\Desktop\slike za pkp\1294,1204969060,2.jpg"/>
          <p:cNvPicPr/>
          <p:nvPr/>
        </p:nvPicPr>
        <p:blipFill>
          <a:blip r:embed="rId1"/>
          <a:stretch/>
        </p:blipFill>
        <p:spPr>
          <a:xfrm>
            <a:off x="500040" y="228600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C:\Documents and Settings\jelena\Desktop\slike za pkp\2700,1197308483,1.jpg"/>
          <p:cNvPicPr/>
          <p:nvPr/>
        </p:nvPicPr>
        <p:blipFill>
          <a:blip r:embed="rId2"/>
          <a:stretch/>
        </p:blipFill>
        <p:spPr>
          <a:xfrm>
            <a:off x="500040" y="4286160"/>
            <a:ext cx="1620720" cy="1571760"/>
          </a:xfrm>
          <a:prstGeom prst="rect">
            <a:avLst/>
          </a:prstGeom>
          <a:ln w="0">
            <a:noFill/>
          </a:ln>
        </p:spPr>
      </p:pic>
      <p:sp>
        <p:nvSpPr>
          <p:cNvPr id="135" name="Date Placeholder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3922-5F3A-4E21-B8AE-8AF45287E7D7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9A45-F565-4CF8-A8D8-98D65A4127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REDNOSNI ZNAČAJ INTERN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pitanju su neopipljive kategorije kao što su svest, poznavanje, dopadljivost, odbojnost, razumevanje, nerazumevanje, poverenje ili nepovere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est o nečem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li osećanje o tome imaju značaj utoliko što najčešće prethode nekoj odluci ili akciji, i sastavni su deo intrapersonalnog komunikacionog sklopa i unutrašnjeg govora svake ličnost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stock photo : Business people plann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286000" cy="135720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98B2-6547-43DF-BB68-9C9267DF0971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2013-D3B8-4EC3-B5E2-41CC2EE59F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10"/>
          <p:cNvSpPr/>
          <p:nvPr/>
        </p:nvSpPr>
        <p:spPr>
          <a:xfrm>
            <a:off x="2286000" y="6215040"/>
            <a:ext cx="2895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REDNOS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ednosni značaj interne komunikacije ogleda se u njegovoj ulozi kao integrativnog i motivacionog faktora kod zaposleni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alima interne komunikacije se na poseban način osmišljavaju poruke i sa zaposlenima dele osnovne vrednosti i principi koji su u temeljima organizaci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C:\Documents and Settings\jelena\Desktop\slike za pkp\4884,1153446901,2.jpg"/>
          <p:cNvPicPr/>
          <p:nvPr/>
        </p:nvPicPr>
        <p:blipFill>
          <a:blip r:embed="rId1"/>
          <a:stretch/>
        </p:blipFill>
        <p:spPr>
          <a:xfrm>
            <a:off x="0" y="214200"/>
            <a:ext cx="1398600" cy="1122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C:\Documents and Settings\jelena\Desktop\slike za pkp\2700,1172261793,2.jpg"/>
          <p:cNvPicPr/>
          <p:nvPr/>
        </p:nvPicPr>
        <p:blipFill>
          <a:blip r:embed="rId2"/>
          <a:stretch/>
        </p:blipFill>
        <p:spPr>
          <a:xfrm>
            <a:off x="7643880" y="314316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50" name="Date Placeholder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EBB2-BCCC-436A-9298-BDA8607D9023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7CA6-ED61-4C71-9A01-7478AD71DC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REDNOS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oliko zaposleni shvataju i prihvataju osnovnu filozofiju, vrednosti i principe svoje organizacije i u njima žele da učestvuju, oni su prijemčiviji za više forme i sadržaje čiji je značaj da ih motiviše te da kroz lično unapređenje i ličnu korist postignu konkretan napredak i za kompani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C:\Documents and Settings\jelena\Desktop\slike za pkp\2700,1202717691,1.jpg"/>
          <p:cNvPicPr/>
          <p:nvPr/>
        </p:nvPicPr>
        <p:blipFill>
          <a:blip r:embed="rId1"/>
          <a:stretch/>
        </p:blipFill>
        <p:spPr>
          <a:xfrm>
            <a:off x="7215120" y="4714920"/>
            <a:ext cx="1762200" cy="1938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C:\Documents and Settings\jelena\Desktop\slike za pkp\2700,1178054340,1.jpg"/>
          <p:cNvPicPr/>
          <p:nvPr/>
        </p:nvPicPr>
        <p:blipFill>
          <a:blip r:embed="rId2"/>
          <a:stretch/>
        </p:blipFill>
        <p:spPr>
          <a:xfrm>
            <a:off x="0" y="0"/>
            <a:ext cx="1500120" cy="1714680"/>
          </a:xfrm>
          <a:prstGeom prst="rect">
            <a:avLst/>
          </a:prstGeom>
          <a:ln w="0">
            <a:noFill/>
          </a:ln>
        </p:spPr>
      </p:pic>
      <p:sp>
        <p:nvSpPr>
          <p:cNvPr id="158" name="Date Placeholder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F83E-F1C2-46BF-ACEC-C36306094770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24C7-A88F-45B5-8114-804C535772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REDNOS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ciona uloga interne komunikacije je u tome da se opredmeti u konkretnoj aktivnosti i u određenom ponašan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 komunikacija je tada zaokruženi ciklus, jer putem poruka koje nose kvalitativni i vrednosni smisao postiže i funkcionalne ciljeve koji obuhvataju bolje i produktivnije bazično poslova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C:\Documents and Settings\jelena\Desktop\slike za pkp\91282,1202830938,1.jpg"/>
          <p:cNvPicPr/>
          <p:nvPr/>
        </p:nvPicPr>
        <p:blipFill>
          <a:blip r:embed="rId1"/>
          <a:stretch/>
        </p:blipFill>
        <p:spPr>
          <a:xfrm>
            <a:off x="0" y="0"/>
            <a:ext cx="1371600" cy="1500120"/>
          </a:xfrm>
          <a:prstGeom prst="rect">
            <a:avLst/>
          </a:prstGeom>
          <a:ln w="0">
            <a:noFill/>
          </a:ln>
        </p:spPr>
      </p:pic>
      <p:sp>
        <p:nvSpPr>
          <p:cNvPr id="165" name="Date Placeholder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9BFF-C341-4083-B106-4B43DA49EE41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F686-6076-41C3-B51C-ECA241CC45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4:03:33Z</dcterms:created>
  <dc:creator>User</dc:creator>
  <dc:description/>
  <dc:language>en-US</dc:language>
  <cp:lastModifiedBy>jelena</cp:lastModifiedBy>
  <dcterms:modified xsi:type="dcterms:W3CDTF">2008-07-09T13:01:53Z</dcterms:modified>
  <cp:revision>23</cp:revision>
  <dc:subject/>
  <dc:title>ULOGA INTERNE POSLOVNE KOMUNIKACIJE</dc:title>
</cp:coreProperties>
</file>