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DFB-1C56-433C-B8B3-F35DC1E0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499-3A51-48CF-A1AE-79993A40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EF65-91D3-4B0F-9720-8572CB35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089-53FA-4658-8EE9-B98B3563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674C-9570-4D84-9C0B-535D1285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E15A-3BF0-4914-911A-1A1F553C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6E6A-14AD-4900-BF23-289546E9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AEE6-850A-40DE-B28D-1B6D8626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173E-B59E-4C0F-839F-843745A2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7BA0-D500-4002-9B9E-3BC7CA80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32FB-5C9A-4B52-8E9D-D964532E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B08D-F76B-4F76-9A42-0323769C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2ACD-291F-442C-A9C1-95EDE312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94F7-D9C2-4076-A15F-66E2F6C9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0F66-8DDA-4E5E-961D-44F4FF21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24CB-6E76-4702-86B7-07625856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A154-A99F-429D-BE6D-C714061F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1D1-CBEE-4768-ABD8-9371E2F7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940F-85EA-4AF8-9B7B-7C3BB342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CD2-5769-479F-8C19-6174497C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DFDA-B4B3-44B9-B110-52FFB78C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8896-78B7-428B-8274-0FBD1D35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437-C626-4075-AAB1-8BF7CB80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17C-EF87-45A3-A9D5-7751835D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368C-3323-4F80-9286-1F6BD3562AB9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6A82-ECF1-4155-AA9E-226B611270B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340D-2753-461D-89C1-AB055B2F959D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03D6-FC69-492F-8AF3-5E25E89D9D9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hotovault.com/Link/People/Abstracts/Closeups/show.asp?tg=PACVolume01/PACV01P05_12B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EB6F-6261-4068-BABA-13A1782C9329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286000"/>
            <a:ext cx="7623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INTERPRETACIJE POKRETA O</a:t>
            </a: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ČIMA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www.photovault.com/Link/People/Abstracts/Closeups/PACVolume01/PACV01P05_12B.t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285920"/>
            <a:ext cx="866880" cy="571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9871-7372-4F1C-B99E-25B9A93408AB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0718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zdvaja usne kada vam se pogledi susretnu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otkriva da je zadovoljan onim što vid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http://www.photovault.com/Link/People/Abstracts/Closeups/PACVolume01/PACV01P15_12.2677.tn.jpg"/>
          <p:cNvPicPr/>
          <p:nvPr/>
        </p:nvPicPr>
        <p:blipFill>
          <a:blip r:embed="rId1"/>
          <a:stretch/>
        </p:blipFill>
        <p:spPr>
          <a:xfrm>
            <a:off x="785880" y="3500280"/>
            <a:ext cx="2571840" cy="150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http://www.fotosearch.com/bthumb/RBL/RBL204/b02432.jpg"/>
          <p:cNvPicPr/>
          <p:nvPr/>
        </p:nvPicPr>
        <p:blipFill>
          <a:blip r:embed="rId2"/>
          <a:stretch/>
        </p:blipFill>
        <p:spPr>
          <a:xfrm>
            <a:off x="4786200" y="3286080"/>
            <a:ext cx="321480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3045-403F-4871-A045-ED91ADC334AD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095640" cy="115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Eyes Upward Left"/>
          <p:cNvPicPr/>
          <p:nvPr/>
        </p:nvPicPr>
        <p:blipFill>
          <a:blip r:embed="rId3"/>
          <a:stretch/>
        </p:blipFill>
        <p:spPr>
          <a:xfrm>
            <a:off x="857160" y="378612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s Up Right"/>
          <p:cNvPicPr/>
          <p:nvPr/>
        </p:nvPicPr>
        <p:blipFill>
          <a:blip r:embed="rId4"/>
          <a:stretch/>
        </p:blipFill>
        <p:spPr>
          <a:xfrm>
            <a:off x="5143680" y="371484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5143680" y="2714760"/>
            <a:ext cx="350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pravo go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osadu,sarkazam i slično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785880" y="264312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onstantan pogled-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čava da je osoba  zainteresovana za razgov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5214960" y="492912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označava da osoba pokušava da se seti ranije zapamćene sl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857160" y="514368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a osoba “konstruiše” sliku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B083-8240-4993-8092-E8108CCE9912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Eyes Right"/>
          <p:cNvPicPr/>
          <p:nvPr/>
        </p:nvPicPr>
        <p:blipFill>
          <a:blip r:embed="rId1"/>
          <a:stretch/>
        </p:blipFill>
        <p:spPr>
          <a:xfrm>
            <a:off x="42876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Eyes Left"/>
          <p:cNvPicPr/>
          <p:nvPr/>
        </p:nvPicPr>
        <p:blipFill>
          <a:blip r:embed="rId2"/>
          <a:stretch/>
        </p:blipFill>
        <p:spPr>
          <a:xfrm>
            <a:off x="564372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Eyes Down Right"/>
          <p:cNvPicPr/>
          <p:nvPr/>
        </p:nvPicPr>
        <p:blipFill>
          <a:blip r:embed="rId3"/>
          <a:stretch/>
        </p:blipFill>
        <p:spPr>
          <a:xfrm>
            <a:off x="428760" y="392904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Eyes Down Left"/>
          <p:cNvPicPr/>
          <p:nvPr/>
        </p:nvPicPr>
        <p:blipFill>
          <a:blip r:embed="rId4"/>
          <a:stretch/>
        </p:blipFill>
        <p:spPr>
          <a:xfrm>
            <a:off x="5857920" y="385776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Eyes Down"/>
          <p:cNvPicPr/>
          <p:nvPr/>
        </p:nvPicPr>
        <p:blipFill>
          <a:blip r:embed="rId5"/>
          <a:stretch/>
        </p:blipFill>
        <p:spPr>
          <a:xfrm>
            <a:off x="3071880" y="200016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428760" y="207180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se priseti ranije zapamćenog zvu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6143760" y="207180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osmisli zvuk koji nikada ranije nije č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3071880" y="3286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se oseća neprijatno ili postiđ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428760" y="5143680"/>
            <a:ext cx="30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razvija unutrašnji dijalog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5857920" y="507204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levo-osob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kušava da zamisli kako je nešto navodi da se oseć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ACFE-F649-44E2-86CA-BEAA25BFA805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OČI..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5" name="Picture 5" descr="C:\Documents and Settings\jelena\My Documents\My Pictures\Picture1.png"/>
          <p:cNvPicPr/>
          <p:nvPr/>
        </p:nvPicPr>
        <p:blipFill>
          <a:blip r:embed="rId1"/>
          <a:stretch/>
        </p:blipFill>
        <p:spPr>
          <a:xfrm>
            <a:off x="571680" y="1428840"/>
            <a:ext cx="8001000" cy="450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07DB-EAB6-45B7-94D2-C29105000395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verbalna komunikacija stalni je podtekst svega što činim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 možemo prestati pokazivati izraze lica ili držanje, ili prikrivati ton kojim nešto govor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o grešimo u odabiru emocionalnih poruka koje upućujemo bićemo odbacivan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:\Documents and Settings\jelena\Desktop\New Folder (2)\gs26301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D9D3-EE71-47A8-AFD0-0C4F05DFC967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Text Box 5"/>
          <p:cNvSpPr/>
          <p:nvPr/>
        </p:nvSpPr>
        <p:spPr>
          <a:xfrm rot="20275800">
            <a:off x="2411280" y="27813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9847-2520-4A60-BD65-B6D249846EEC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76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kreti oč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http://www.fotosearch.com/bthumb/UNX/UNX017/u29012759.jpg"/>
          <p:cNvPicPr/>
          <p:nvPr/>
        </p:nvPicPr>
        <p:blipFill>
          <a:blip r:embed="rId1"/>
          <a:stretch/>
        </p:blipFill>
        <p:spPr>
          <a:xfrm>
            <a:off x="4714920" y="3929040"/>
            <a:ext cx="2405160" cy="181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DBA1-FE2B-4A09-AABE-3BD72878ADBE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ovek najveći 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vog vremena provodi u komunikaciji sa drugim ljud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 se verbalna komunikacija odnosi na stvarne reči koje se koriste pri razgovoru, neverbalna komunikacija se sastoji od mnoštva znakova od kojih svaki ima svoje znač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http://www.photovault.com/Link/People/Abstracts/Closeups/PACVolume01/PACV01P02_15C.tn.jpg"/>
          <p:cNvPicPr/>
          <p:nvPr/>
        </p:nvPicPr>
        <p:blipFill>
          <a:blip r:embed="rId1"/>
          <a:stretch/>
        </p:blipFill>
        <p:spPr>
          <a:xfrm>
            <a:off x="500040" y="357120"/>
            <a:ext cx="85716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D121-F434-4A9A-A76E-DBD1769D841C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a komunikacija često bude i uzrok sukoba – mnogi obračuni počinju nerazumevanjem neverbalne poruke, npr. neki pogled se protumači kao uvredljiv, a zapravo je sl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jan ili u prolaz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http://www.photovault.com/Link/People/Abstracts/Closeups/PACVolume01/PACPCD0658_064B.tn.jpg"/>
          <p:cNvPicPr/>
          <p:nvPr/>
        </p:nvPicPr>
        <p:blipFill>
          <a:blip r:embed="rId1"/>
          <a:stretch/>
        </p:blipFill>
        <p:spPr>
          <a:xfrm>
            <a:off x="5357880" y="4500720"/>
            <a:ext cx="1285920" cy="107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www.fotosearch.com/bthumb/GSH/GSH370/gs261100.jpg"/>
          <p:cNvPicPr/>
          <p:nvPr/>
        </p:nvPicPr>
        <p:blipFill>
          <a:blip r:embed="rId2"/>
          <a:stretch/>
        </p:blipFill>
        <p:spPr>
          <a:xfrm>
            <a:off x="1643040" y="4500720"/>
            <a:ext cx="164304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0C14-27DA-46CF-B285-918F30F0F5D8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i znakovi uključuj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ze lic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 glas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žaj tela ili pokr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ir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g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C:\Documents and Settings\jelena\Desktop\New Folder (2)\7578015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403C-23F8-4F38-A49D-0F7D10709BFC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ntakt očima je vrlo važan u svakodnevnoj komunikaciji. Obično su razdoblja kontakta očima vrlo kratk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da su produžena, ili kad jedna od osoba počne buljiti u drugu, dolazi do napetosti i to se može protumačiti kao pretnj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C:\Documents and Settings\jelena\Desktop\New Folder (2)\1574R-26112[1].jpg"/>
          <p:cNvPicPr/>
          <p:nvPr/>
        </p:nvPicPr>
        <p:blipFill>
          <a:blip r:embed="rId1"/>
          <a:stretch/>
        </p:blipFill>
        <p:spPr>
          <a:xfrm>
            <a:off x="7072200" y="4286160"/>
            <a:ext cx="107640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28E4-7235-414E-8E9F-C3D2AC4E3217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zbegavanje gledanja u oči povezuje se sa nesigurnim ponašanjem, što upućuje na prepredenost, pa čak i nepošten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širene zenice pokazuju emocionalno uzbuđenje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pak, ako je dvoje ljudi zaljubljeno, kontakt očima puno je češć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www.photovault.com/Link/People/Abstracts/Closeups/PACVolume01/PACV01P13_18B.tn.jpg"/>
          <p:cNvPicPr/>
          <p:nvPr/>
        </p:nvPicPr>
        <p:blipFill>
          <a:blip r:embed="rId1"/>
          <a:stretch/>
        </p:blipFill>
        <p:spPr>
          <a:xfrm>
            <a:off x="642960" y="357120"/>
            <a:ext cx="84780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1194-506A-4BF6-860C-4FCAA9F1D621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a vidimo nekog ko nas privl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, naše obrve se automatski podignu, a zatim spuste. Ako nam je ta osoba sklona, onda i ona podigne obr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 ovo traje tek de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kunde, a dešava se svim ljudima na svetu, bez obzira na godine, rasu ili društvenu pripadno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Documents and Settings\jelena\Desktop\New Folder (2)\bn267125[1].jpg"/>
          <p:cNvPicPr/>
          <p:nvPr/>
        </p:nvPicPr>
        <p:blipFill>
          <a:blip r:embed="rId1"/>
          <a:stretch/>
        </p:blipFill>
        <p:spPr>
          <a:xfrm>
            <a:off x="571680" y="357120"/>
            <a:ext cx="161892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D84F-E83B-426D-94CF-7ADB038FF7E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Sev" obrva može lako da se propusti, ali ako ga u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š kod onog ko te interesuje, budi sigurna da mu se dopadaš, mada on toga možda još nije svest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rve mu ostaju blago podignute dok p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 tobo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o je signal da misli da si fascinant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br>
              <a:rPr sz="2800"/>
            </a:b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C:\Documents and Settings\jelena\Desktop\New Folder (2)\bxp209595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9:41:35Z</dcterms:created>
  <dc:creator>User</dc:creator>
  <dc:description/>
  <dc:language>en-US</dc:language>
  <cp:lastModifiedBy>jelena</cp:lastModifiedBy>
  <dcterms:modified xsi:type="dcterms:W3CDTF">2008-07-09T13:01:20Z</dcterms:modified>
  <cp:revision>21</cp:revision>
  <dc:subject/>
  <dc:title>INTERPRETACIJE POKRETA OČIMA </dc:title>
</cp:coreProperties>
</file>