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F19D-61F7-4B6E-8632-257AC8DB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15AC-8AE1-4DC8-BAE0-B2FD0236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7B0E-5DCC-4430-8F81-7847940A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189E-BD62-4E72-A16C-4F1CF6143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8087-1AF8-4F50-8B42-FB70351A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CEC7-C7B5-4AEE-83D2-B74DB537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A94B-EFFE-4043-B110-4FA1A65C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A777-577F-47C2-9AB2-F098CE46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C074-96CF-418C-96B3-F8A64CE3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B03B-4254-4A1B-A700-773F1D20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2A7B-C22E-4C8B-93B8-3A4E2726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5D72-3B45-4D7F-9C62-358C2D50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121F-7C18-42B6-87F9-1A642F37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23D6-19BB-4BEA-A49E-DC583901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AC47-BA0D-41D8-938B-ED05F5B0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0EC6-1250-43EA-9FA5-46FEC97C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DA92-1EB8-468B-957D-4CFFD98D6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CBB8A3-1CD8-4AA3-95A1-662C6835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9E6CA-4ACB-4757-9815-D236882C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70C529-D1AB-4A8D-AE0F-E13B562F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B4F106-D252-4CA5-BC42-9C271218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555C74-2F87-41E0-AF4E-F510824B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5E4A-ED32-4E06-9265-2CAB91E7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29C9B9-F276-4695-B11C-05DFF14C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E3C034-8461-4A4B-9C4C-8F649246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C8DE19-7F81-46E1-8BE2-735F3754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EEC3BD-6397-4179-971F-348E8FE0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BEC223-A152-4FDE-A41B-FE1C41A8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0C76B-6FD8-400B-A53B-7ED458FC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3710ED-B08D-4972-B9A4-1A7B69ACA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C2CF8-4BC2-419A-A395-BC28831B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D230E-D921-4FEE-A14B-13D09801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6BCC0-3861-45F7-9D2C-CDD7A092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45B4-CD7F-4F76-903B-6F021468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2C1AA-EF4D-4AB0-B114-D1272887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596D4-31D8-46FE-8E9A-03B45CDA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F29F3-3C43-43BB-B422-0925AF3B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733C3-0288-49FD-9F4F-BEEBF229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19746-740D-4D9B-BCD7-2A1C4795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504D7-5365-425D-A8EA-751ED155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4E105-A7DE-42D8-9422-0BFB7F12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37C5A-CF5D-4AFB-A686-C09AAA2E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8648E-AB82-4426-97E5-F4D52699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FBE27E-393B-46D0-A403-3F912D9D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1779-9E63-40BB-B28E-277EB490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0CACCC-DD6B-484F-A0DB-CFC2B4DA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08212F-3ED3-4AF4-B663-03672644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0F5790-C0BD-40F1-BDEA-AFC7C14C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1C7F67-2D5D-4CF9-B442-51B6C1F3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645573-ABEC-4D49-8209-B52E7BF0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1BF7A3-8C47-4ACA-8C5D-51AA1373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D10F2B-4B6A-42DC-8A99-10FAA05E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F9B851-2988-418B-B530-738699A9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923A62-BFF2-434A-958D-0A560094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CBF747-5CA0-4CE2-B309-CF3D5344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9AA6-5971-4F7B-9FDC-9C740018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CCE80B-2FE4-436E-9E03-4A7EBA09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3400E0-7468-4C60-937C-A190E8B3B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33BB1E-9138-4423-9E60-D7C8E50B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2FED21-DB65-4043-AA85-312F5814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F52404-45E6-46F2-9021-00218222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4F20B5-5A6D-4F7B-8B5C-D8124650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81FFBD-C6E2-4970-A340-9060A818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4734AD-9ADB-4CA8-BAC8-94A8451F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0F3ECF-6A47-4270-9404-291A302C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726772-4F7B-40CF-841E-24E6F16B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FBD6-14C3-4339-8C39-CE212FA7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C8E999-FD69-401B-9F4E-1582A44C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8A68AA-0B90-40CA-9606-6E394869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5715FE-D9EA-45F7-A5C4-9E93D4F1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DAAC61-EA12-4ED0-AC3F-ED2B33D1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5C6C99-D3DE-4724-98DB-5B12D105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2165B2-30B6-481B-9818-819A4F54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238A92-85A3-42B2-8803-8FB67806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9025BF-58F7-433A-A263-1EB9F033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867BB5-942D-4F9B-9EC1-A32DCD95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043E80-919C-490E-B3BC-84368525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F8B6-1D25-42EB-AD2E-6C198611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64EB96-AC65-4021-9C68-CC9C6F15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16020E-B9A2-4E7A-9C67-AEA4D622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C6DD96-0782-436D-A2E9-EF0BB11E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06C55B-C3E4-4689-8031-7739DC57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ADAB40-08B2-4871-AB1F-946C9790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4A65-E4F6-4001-9C10-0D974F74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E683-E1DF-41ED-A5C9-ADBF9C4ED8A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E104-8726-49D3-9095-8E0016AA488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2BB4-B8DD-4863-910F-911BE7FC5A7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EC6E-832C-43B7-A7FB-DCEF7518242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09BC-5C1F-47D4-A0EC-42D350D6863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53DF-139B-46B1-8579-0620555447C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EDC2-A300-4025-A7D5-0096FA7AE55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09320" y="1600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entury Schoolbook"/>
              </a:rPr>
              <a:t>DELOVI POSLOVNOG PISMA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4038120"/>
            <a:ext cx="61722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5b6f"/>
                </a:solidFill>
                <a:latin typeface="Century Schoolbook"/>
              </a:rPr>
              <a:t>               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Straight Connector 6"/>
          <p:cNvSpPr/>
          <p:nvPr/>
        </p:nvSpPr>
        <p:spPr>
          <a:xfrm flipH="1" flipV="1">
            <a:off x="0" y="1066320"/>
            <a:ext cx="9144000" cy="180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d13b"/>
                </a:solidFill>
                <a:latin typeface="Century Schoolbook"/>
              </a:rPr>
              <a:t>4)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zivni znaci (oznake)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su u funkciji lakšeg razvrstavanja pošte. To mogu biti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nicijali ličnosti ili odeljenja firme u kojoj je pismo napisano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5)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redmet ili sažetak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edstavlja kratak sadržaj poslovnog pisma. Ispisuje se ispod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drese, pre sadržaja pisma s leve strane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06FC-22E1-4A15-84FA-7D6526D0829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6" descr=""/>
          <p:cNvPicPr/>
          <p:nvPr/>
        </p:nvPicPr>
        <p:blipFill>
          <a:blip r:embed="rId1"/>
          <a:stretch/>
        </p:blipFill>
        <p:spPr>
          <a:xfrm>
            <a:off x="2971800" y="5410080"/>
            <a:ext cx="3200400" cy="10670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6)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Sadržaj ili sadržina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isma je glavni deo pisma koji se saopštava poslovna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nformacija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7)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zdrav.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Uljudni oproštaj sa poslovnim partnerom rečima kao: Pozdravljam Vas;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imite naše pozdrave; S poštovanjem; S osobitim poštovanjem i sl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8)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tpis.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To je sastavni deo pisma, koji ono dobija značaj službenog dokumenta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2313-AAA5-43B1-B92D-5C21593DFA7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152360" cy="838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poredni delovi poslovnog pisma su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Oslovljavanje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prilozi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ačin otpreme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raspored kopija (dostavljeno)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dodatak ili post-scriptum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F6E7-30ED-4B3C-B0DA-5876C9F7505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6" descr=""/>
          <p:cNvPicPr/>
          <p:nvPr/>
        </p:nvPicPr>
        <p:blipFill>
          <a:blip r:embed="rId1"/>
          <a:stretch/>
        </p:blipFill>
        <p:spPr>
          <a:xfrm>
            <a:off x="4800600" y="2743200"/>
            <a:ext cx="2771640" cy="1338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5b6f"/>
                </a:solidFill>
                <a:latin typeface="Century Schoolbook"/>
              </a:rPr>
              <a:t>NEKE PREPORUKE ZA PISANJE POSLOVNOG PISMA:</a:t>
            </a:r>
            <a:endParaRPr b="0" lang="en-US" sz="3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reba pisati kratkim i jasnim rečenicama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e sme se zanemariti interpunkcija (naročito</a:t>
            </a: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zapete)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zbegavati pisanje više poruka u jednom pismu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00E9-2A6B-4D9C-88D6-43A95DBADE1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tretch/>
        </p:blipFill>
        <p:spPr>
          <a:xfrm>
            <a:off x="5486400" y="3276720"/>
            <a:ext cx="2438280" cy="838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5b6f"/>
                </a:solidFill>
                <a:latin typeface="Century Schoolbook"/>
              </a:rPr>
              <a:t>NEKE PREPORUKE ZA PISANJE POSLOVNOG PISMA:</a:t>
            </a:r>
            <a:endParaRPr b="0" lang="en-US" sz="3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Ton pisma mora biti primeran i učtiv čak i kada su u pitanju neprijatne vesti,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Odgovor na neučtivo pismo treba da bude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posebno pristojan i korektan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Pisanje poslovnog pisma ne treba shvatiti kao šablonski posao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DCB3-2277-4006-8B92-D8BB72C6D37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TRI SU OSNOVNA OBLIKA:</a:t>
            </a:r>
            <a:br>
              <a:rPr sz="3200"/>
            </a:b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Evropski (francuski), zupčasti, stepenasti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eglednost sadržaja i adrese primaoc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merički (blok forma) Pisanje        pojednostavljeno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mbinovani. Kombinacija evropskih i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meričkih oblik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Firma može napraviti svoj model poslovnog pism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5560-0E8E-460A-AFC9-F7600B2906A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6" descr=""/>
          <p:cNvPicPr/>
          <p:nvPr/>
        </p:nvPicPr>
        <p:blipFill>
          <a:blip r:embed="rId1"/>
          <a:stretch/>
        </p:blipFill>
        <p:spPr>
          <a:xfrm>
            <a:off x="6934320" y="2057400"/>
            <a:ext cx="1752480" cy="1905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ZAKLJU</a:t>
            </a:r>
            <a:r>
              <a:rPr b="0" lang="sr-Latn-CS" sz="3000" spc="-1" strike="noStrike">
                <a:solidFill>
                  <a:srgbClr val="4e5b6f"/>
                </a:solidFill>
                <a:latin typeface="Century Schoolbook"/>
              </a:rPr>
              <a:t>Č</a:t>
            </a: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AK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Delovi poslovnog pisma su vrlo bitni jer se iz njih može naslutiti ozbiljnost namere partenera i uspešnost poslovanja što je bitno za ostvarivanje profita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7272-48C8-4BCE-A6D3-EC78F989785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1"/>
          <a:stretch/>
        </p:blipFill>
        <p:spPr>
          <a:xfrm rot="21111600">
            <a:off x="1595160" y="4875120"/>
            <a:ext cx="5129280" cy="1086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Century Schoolbook"/>
              </a:rPr>
              <a:t>PREGLED IZLAGANJA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snovne odlike pisanog poslovno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komuniciranj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LOVNO P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elovi poslovnog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Neke preporuke za pisanje poslovnog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225440" cy="838440"/>
          </a:xfrm>
          <a:prstGeom prst="rect">
            <a:avLst/>
          </a:prstGeom>
          <a:ln w="0">
            <a:noFill/>
          </a:ln>
        </p:spPr>
      </p:pic>
      <p:sp>
        <p:nvSpPr>
          <p:cNvPr id="359" name="Slide Number Placehold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5715-71AF-4855-B0C5-C0482180657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e5b6f"/>
                </a:solidFill>
                <a:latin typeface="Century Schoolbook"/>
              </a:rPr>
              <a:t>   </a:t>
            </a:r>
            <a:br>
              <a:rPr sz="3200"/>
            </a:b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isano poslovno komuniciranje, za razliku od usmenog, ostavlja pisani trag u poslovnim aktivnostim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itna prednost pisanog poslovnog komuniciranja je u tome što ostavlja dokument koji se može čuvati i koji služi kao dokaz u ostvarivanju prava, ili u međusobnom odnosu poslovnih partner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4766-0AF8-4AAC-956B-6AA4579E166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7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38440" cy="1000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oslovni iskaz se može doterivati i dopunjavati sve dok definitivno ne bude poslat poslovnom partneru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uprotno tome, u usmenom poslovnom komuniciranju svaka ispravka ili dopuna je primetna, posebno su primenti neverbalni znaci komuniciranj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4BA8-0D37-475D-A4F9-94B11D66882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457200" y="4800600"/>
            <a:ext cx="7696080" cy="20574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OSNOVNE ODLIKE PISANOG POSLOVNOG</a:t>
            </a:r>
            <a:br>
              <a:rPr sz="3200"/>
            </a:b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KOMUNICIRANJA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a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ivi i odgovor na pozive - kratke poruk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Zapisnici (prijem, primopredaja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olb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stanc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V Izveštaj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Radovi, Priručnici, knjig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8262-09B7-48AD-AA70-7E78C883CFC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7" descr=""/>
          <p:cNvPicPr/>
          <p:nvPr/>
        </p:nvPicPr>
        <p:blipFill>
          <a:blip r:embed="rId1"/>
          <a:stretch/>
        </p:blipFill>
        <p:spPr>
          <a:xfrm>
            <a:off x="4800600" y="3809880"/>
            <a:ext cx="1924200" cy="1181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Century Schoolbook"/>
              </a:rPr>
              <a:t>POSLOVNO PISMO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je najčešći oblik pisanog poslovnog komuniciranja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no se sastavlja i šalje posebno svakom poslovnom partneru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je dokument o određenom poslu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snovna karakteristika je da ono pre</a:t>
            </a: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tavlja odgovor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DBAB-2E77-4E07-8335-3B33ECD2A34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219320" cy="885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ima delove koji se mogu podeliti u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- glavne 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- sporedn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z poslovnog pisma ne može biti izostavljen ni jedan glavni deo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poredni delovi se unose u pismo prema potrebi, dopunjuju glavnu poruku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9737-D605-4F78-BC80-49A98607268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3076560" cy="1200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lavni delovi poslovnog pisma su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Zaglavlje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esto i datum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dresa primaoca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ivni znaci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redmet (sažetak)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držaj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drav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tpi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EDD3-93D0-43B4-8C83-AAFEDDAD9CA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6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2971800" cy="288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Zaglavlje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drži sve bitne elemente kojima se pošiljalac poslovnog pisma legitimiš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esto i datum.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išu se odmah iza zaglavlja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fd13b"/>
                </a:solidFill>
                <a:latin typeface="Century Schoolbook"/>
              </a:rPr>
              <a:t>3)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dresa primaoca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stoji se od naziva firme, njene delatnosti i odredišta (ulica, broj,poštanski broj, naziv mesta)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F03C-4126-4934-976C-7DA43BC0E51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6" descr=""/>
          <p:cNvPicPr/>
          <p:nvPr/>
        </p:nvPicPr>
        <p:blipFill>
          <a:blip r:embed="rId1"/>
          <a:stretch/>
        </p:blipFill>
        <p:spPr>
          <a:xfrm>
            <a:off x="6934320" y="1981080"/>
            <a:ext cx="1752480" cy="8384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20:46:39Z</dcterms:created>
  <dc:creator>Lana</dc:creator>
  <dc:description/>
  <dc:language>en-US</dc:language>
  <cp:lastModifiedBy>jelena</cp:lastModifiedBy>
  <dcterms:modified xsi:type="dcterms:W3CDTF">2008-07-09T13:02:24Z</dcterms:modified>
  <cp:revision>35</cp:revision>
  <dc:subject/>
  <dc:title>POSLOVNO PISMO</dc:title>
</cp:coreProperties>
</file>