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7753-772D-44B7-9B4E-81EB869D4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A1A0-AD8F-4DA8-A828-2188AF36A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0F0D-D63D-40A2-8B86-EF27979D8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12D9-E3E6-4781-BF88-EB6A9CDF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3072-24CB-4DC1-AEDA-FE911129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21C6-872B-4F20-8442-B0EA04D6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B516-8D0F-4449-A787-872A8A78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8AC2-DF6A-4B31-AFEE-188A65FC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A91C-A775-4C54-8587-19E6B074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4BEA-0978-47AB-B0A6-D33F83A8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3C9E-70CB-4D81-B65E-97577D7B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B544-5B32-4445-924E-6066F6F9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DDC7-8BD5-461F-933A-C4CF447F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2410-19A6-485A-8616-432325F7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E192-C860-4580-B801-4B134F5D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F92C-297C-4ADC-B830-15CA24D5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26C8-EAD7-479F-B153-957CA485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E923-C613-464C-B451-4C61C500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8508-D9B4-4164-AAEE-A9AF72FD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FF79-6FF4-4892-BB9C-809D2B7A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0109-CC94-41A0-A0B8-D52EA05C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BE8B-B5AE-45E3-9EEE-966B5A01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9CF8-808D-43EB-BCC0-AA6886E7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73C5-A3DB-403B-A009-C887E0F3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8E1C-0B74-490C-BE73-5DB68BEF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9BA7-6613-4FA0-AE8D-B00F4142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4E0-6232-4AF8-99AC-D9DE989D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4EF8-C15D-449E-8C96-FE9570481B7F}" type="datetime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B39E-E101-438E-9480-C2B11AF41C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7DCF-D580-4D91-8C31-0EFD11DF5E9B}" type="datetime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68ED-56B4-4140-8E31-5736400867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hutterstock.com/subscribe.mhtm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hutterstock.com/subscribe.m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LOGA INTERNE POSLOV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0" y="220500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1187280" y="0"/>
            <a:ext cx="0" cy="22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2700,1191537882,111.jpg"/>
          <p:cNvPicPr/>
          <p:nvPr/>
        </p:nvPicPr>
        <p:blipFill>
          <a:blip r:embed="rId1"/>
          <a:stretch/>
        </p:blipFill>
        <p:spPr>
          <a:xfrm>
            <a:off x="285840" y="3214800"/>
            <a:ext cx="4357440" cy="350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121428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stock photo : Business people and team. Isolated over white backgroun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85960"/>
            <a:ext cx="4286160" cy="3643200"/>
          </a:xfrm>
          <a:prstGeom prst="rect">
            <a:avLst/>
          </a:prstGeom>
          <a:ln w="0">
            <a:noFill/>
          </a:ln>
        </p:spPr>
      </p:pic>
      <p:sp>
        <p:nvSpPr>
          <p:cNvPr id="170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D96B-3ACC-4AFD-9B28-1FFE7D81CABC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9FC8-E414-434F-AC27-9A73E8DF1A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3929040" y="1357200"/>
            <a:ext cx="52149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euvažavanje interne komunikacije u svakodnevnom poslovanju organizacije dovodi do loše produktivnosti i loših tržišnih rezultata,što u toku kriznih situacija ili velikih promena može dovesti čak i do sloma celog siste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a li je to ono što želimo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VALA NA PAŽNJI!!!!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E8CB-C676-4683-BC55-8C2BA5BF7B92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7484-6371-4269-BCE1-9D8BA369FC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terno komunic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  <a:ea typeface="Arial"/>
              </a:rPr>
              <a:t>¤</a:t>
            </a:r>
            <a:r>
              <a:rPr b="0" lang="sr-Latn-CS" sz="3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tegrativni znač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  <a:ea typeface="Arial"/>
              </a:rPr>
              <a:t>¤</a:t>
            </a:r>
            <a:r>
              <a:rPr b="0" lang="sr-Latn-CS" sz="3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tivacioni znač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C:\Documents and Settings\jelena\Desktop\slike za pkp\64484,1162212365,1231.jpg"/>
          <p:cNvPicPr/>
          <p:nvPr/>
        </p:nvPicPr>
        <p:blipFill>
          <a:blip r:embed="rId1"/>
          <a:stretch/>
        </p:blipFill>
        <p:spPr>
          <a:xfrm>
            <a:off x="714240" y="3929040"/>
            <a:ext cx="2286000" cy="2714760"/>
          </a:xfrm>
          <a:prstGeom prst="rect">
            <a:avLst/>
          </a:prstGeom>
          <a:ln w="0">
            <a:noFill/>
          </a:ln>
        </p:spPr>
      </p:pic>
      <p:sp>
        <p:nvSpPr>
          <p:cNvPr id="113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F260-41FA-43AC-899C-BADC48EA8F9F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8A8B-B2B0-4B00-B3B0-562EDFB223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INTERNO KOMUNIC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rne opstrukcije, obustave rada, štrajkovi dolaze kao krajnje posledice, a sve počinje od glasina, nemotivisanosti, loše komunikacije između viših i nižih menadžer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rektora koji se zaposlenima obraća samo putem saopštenja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dnom rečju –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u 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postavljen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omunikacij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C:\Documents and Settings\jelena\Desktop\slike za pkp\untitled5234.bmp"/>
          <p:cNvPicPr/>
          <p:nvPr/>
        </p:nvPicPr>
        <p:blipFill>
          <a:blip r:embed="rId1"/>
          <a:stretch/>
        </p:blipFill>
        <p:spPr>
          <a:xfrm>
            <a:off x="5143680" y="4071960"/>
            <a:ext cx="3714480" cy="2571840"/>
          </a:xfrm>
          <a:prstGeom prst="rect">
            <a:avLst/>
          </a:prstGeom>
          <a:ln w="0">
            <a:noFill/>
          </a:ln>
        </p:spPr>
      </p:pic>
      <p:sp>
        <p:nvSpPr>
          <p:cNvPr id="120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2320-6754-488C-BE6E-4978BFD3FFEE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8A1D-AFDA-4BDD-AA5C-E8B587E7E3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kcionalni značaj interne komunikacije ima dinamički karakter jer se ostvaruje putem konkretnih i opipljivih aktivnosti koje imaju svoj početak, svoje trajanje i završnicu u realnom prostoru i vremenu i preduzimaju ih zaposleni u organizaci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Office life"/>
          <p:cNvPicPr/>
          <p:nvPr/>
        </p:nvPicPr>
        <p:blipFill>
          <a:blip r:embed="rId1"/>
          <a:stretch/>
        </p:blipFill>
        <p:spPr>
          <a:xfrm>
            <a:off x="1928880" y="4786200"/>
            <a:ext cx="3571920" cy="1905120"/>
          </a:xfrm>
          <a:prstGeom prst="rect">
            <a:avLst/>
          </a:prstGeom>
          <a:ln w="0">
            <a:noFill/>
          </a:ln>
        </p:spPr>
      </p:pic>
      <p:sp>
        <p:nvSpPr>
          <p:cNvPr id="127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E56D-F570-4735-97BD-970CB4EC2C37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7C9C-5E23-428D-A001-447C4574EE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 aktivnosti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Ostvarivanje organizacijsk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ljev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Obavešta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ovezivanj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Stvaranje konkurentne pred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Upravljanje promen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Upravljanje kriz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C:\Documents and Settings\jelena\Desktop\slike za pkp\1294,1204969060,2.jpg"/>
          <p:cNvPicPr/>
          <p:nvPr/>
        </p:nvPicPr>
        <p:blipFill>
          <a:blip r:embed="rId1"/>
          <a:stretch/>
        </p:blipFill>
        <p:spPr>
          <a:xfrm>
            <a:off x="500040" y="228600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Documents and Settings\jelena\Desktop\slike za pkp\2700,1197308483,1.jpg"/>
          <p:cNvPicPr/>
          <p:nvPr/>
        </p:nvPicPr>
        <p:blipFill>
          <a:blip r:embed="rId2"/>
          <a:stretch/>
        </p:blipFill>
        <p:spPr>
          <a:xfrm>
            <a:off x="500040" y="4286160"/>
            <a:ext cx="1620720" cy="1571760"/>
          </a:xfrm>
          <a:prstGeom prst="rect">
            <a:avLst/>
          </a:prstGeom>
          <a:ln w="0">
            <a:noFill/>
          </a:ln>
        </p:spPr>
      </p:pic>
      <p:sp>
        <p:nvSpPr>
          <p:cNvPr id="135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05D4-5B75-401D-AC67-53723B7850C5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B71A-BCAE-4E08-8345-EE6FD9BDE9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itanju su neopipljive kategorije kao što su svest, poznavanje, dopadljivost, odbojnost, razumevanje, nerazumevanje, poverenje ili nepovere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est o neče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li osećanje o tome imaju značaj utoliko što najčešće prethode nekoj odluci ili akciji, i sastavni su deo intrapersonalnog komunikacionog sklopa i unutrašnjeg govora svake ličnos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stock photo : Business people plann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286000" cy="135720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79E6-0467-4528-94B6-F504EA16A425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42B2-CB8F-4516-8ECE-735AA36850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10"/>
          <p:cNvSpPr/>
          <p:nvPr/>
        </p:nvSpPr>
        <p:spPr>
          <a:xfrm>
            <a:off x="2286000" y="6215040"/>
            <a:ext cx="289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ednosni značaj interne komunikacije ogleda se u njegovoj ulozi kao integrativnog i motivacionog faktora kod zaposleni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alima interne komunikacije se na poseban način osmišljavaju poruke i sa zaposlenima dele osnovne vrednosti i principi koji su u temeljima organizaci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C:\Documents and Settings\jelena\Desktop\slike za pkp\4884,1153446901,2.jpg"/>
          <p:cNvPicPr/>
          <p:nvPr/>
        </p:nvPicPr>
        <p:blipFill>
          <a:blip r:embed="rId1"/>
          <a:stretch/>
        </p:blipFill>
        <p:spPr>
          <a:xfrm>
            <a:off x="0" y="214200"/>
            <a:ext cx="1398600" cy="1122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:\Documents and Settings\jelena\Desktop\slike za pkp\2700,1172261793,2.jpg"/>
          <p:cNvPicPr/>
          <p:nvPr/>
        </p:nvPicPr>
        <p:blipFill>
          <a:blip r:embed="rId2"/>
          <a:stretch/>
        </p:blipFill>
        <p:spPr>
          <a:xfrm>
            <a:off x="7643880" y="314316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50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718D-8C3C-45BF-BCA2-AF30120E3EB0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5B66-0957-48FF-895B-2F4B6C3367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oliko zaposleni shvataju i prihvataju osnovnu filozofiju, vrednosti i principe svoje organizacije i u njima žele da učestvuju, oni su prijemčiviji za više forme i sadržaje čiji je značaj da ih motiviše te da kroz lično unapređenje i ličnu korist postignu konkretan napredak i za kompani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C:\Documents and Settings\jelena\Desktop\slike za pkp\2700,1202717691,1.jpg"/>
          <p:cNvPicPr/>
          <p:nvPr/>
        </p:nvPicPr>
        <p:blipFill>
          <a:blip r:embed="rId1"/>
          <a:stretch/>
        </p:blipFill>
        <p:spPr>
          <a:xfrm>
            <a:off x="7215120" y="4714920"/>
            <a:ext cx="1762200" cy="1938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C:\Documents and Settings\jelena\Desktop\slike za pkp\2700,1178054340,1.jpg"/>
          <p:cNvPicPr/>
          <p:nvPr/>
        </p:nvPicPr>
        <p:blipFill>
          <a:blip r:embed="rId2"/>
          <a:stretch/>
        </p:blipFill>
        <p:spPr>
          <a:xfrm>
            <a:off x="0" y="0"/>
            <a:ext cx="1500120" cy="1714680"/>
          </a:xfrm>
          <a:prstGeom prst="rect">
            <a:avLst/>
          </a:prstGeom>
          <a:ln w="0">
            <a:noFill/>
          </a:ln>
        </p:spPr>
      </p:pic>
      <p:sp>
        <p:nvSpPr>
          <p:cNvPr id="158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EE7C-AD6F-4EDC-AC94-E69BBEDF77D9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6F7F-B352-4C98-87BB-15D0681E47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ciona uloga interne komunikacije je u tome da se opredmeti u konkretnoj aktivnosti i u određenom ponašan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 komunikacija je tada zaokruženi ciklus, jer putem poruka koje nose kvalitativni i vrednosni smisao postiže i funkcionalne ciljeve koji obuhvataju bolje i produktivnije bazično poslova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C:\Documents and Settings\jelena\Desktop\slike za pkp\91282,1202830938,1.jpg"/>
          <p:cNvPicPr/>
          <p:nvPr/>
        </p:nvPicPr>
        <p:blipFill>
          <a:blip r:embed="rId1"/>
          <a:stretch/>
        </p:blipFill>
        <p:spPr>
          <a:xfrm>
            <a:off x="0" y="0"/>
            <a:ext cx="1371600" cy="1500120"/>
          </a:xfrm>
          <a:prstGeom prst="rect">
            <a:avLst/>
          </a:prstGeom>
          <a:ln w="0">
            <a:noFill/>
          </a:ln>
        </p:spPr>
      </p:pic>
      <p:sp>
        <p:nvSpPr>
          <p:cNvPr id="165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191C-9567-45BE-BD5B-00B300802BC3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E320-3156-4B8F-8E5C-F823DE27F1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4:03:33Z</dcterms:created>
  <dc:creator>User</dc:creator>
  <dc:description/>
  <dc:language>en-US</dc:language>
  <cp:lastModifiedBy>jelena</cp:lastModifiedBy>
  <dcterms:modified xsi:type="dcterms:W3CDTF">2008-07-09T13:01:53Z</dcterms:modified>
  <cp:revision>23</cp:revision>
  <dc:subject/>
  <dc:title>ULOGA INTERNE POSLOVNE KOMUNIKACIJE</dc:title>
</cp:coreProperties>
</file>