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1716-5BE7-4335-A00E-89441CA8C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8D70-ECA2-46F5-BE1C-AB34707CA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95C5-0035-4EA8-9297-23DEDF572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CE38-9653-4E1E-9755-39098FAB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F6E6-77F1-49F4-A2EF-2B9DA9DF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AE73-3DCE-483D-B8FA-07CA1383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2304-C189-4268-B31C-60483990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FD90-1152-4978-97E1-4C3FF55D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B84F-7F71-4F11-9215-C112A457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B80B-EE7C-44C9-B09E-FBBAA08C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F92D-3547-46D5-9ADC-DC154D4E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FB2E-ED25-4160-A644-950FB04F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83D9-5A99-4228-9086-1BFB9FE3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E2D1-91D5-4F30-ABAE-77A48A25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E11E-D70D-41AA-868B-69D93F01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D460-5E3A-4DB7-A5DD-54A5D334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3264-0C4D-4E39-B1B1-E9561D1B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AA21-8CA8-45DB-B35A-C4F50C1F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0F82-2895-4105-910F-15B7E6A0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62C2-7F8C-4EFA-B04C-6C30B25E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AC6-325B-4C09-91B6-E269D2B9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ECC7-4771-4CAE-96CC-D9D7BA3D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AA01-1FA5-4368-98D7-E4215FBD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5D9-7B0E-4095-97CC-6E8D1D5F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D0A4-94AC-48B3-A7D4-D8C48170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CCB5-949E-4AC9-A576-67556852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7BB3-6AD2-4CB8-9CC4-B04ABCC0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8759-7D7B-46BB-8912-719360F69C6F}" type="datetime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C7CC-E608-42D4-B1F5-18C60098CD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3338-CB5F-4894-9D2C-BD23D001F29A}" type="datetime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26E1-E15E-4872-B0A3-BF3F74C4CD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OGA INTERNE POSLOV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0" y="220500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1187280" y="0"/>
            <a:ext cx="0" cy="22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2700,1191537882,111.jpg"/>
          <p:cNvPicPr/>
          <p:nvPr/>
        </p:nvPicPr>
        <p:blipFill>
          <a:blip r:embed="rId1"/>
          <a:stretch/>
        </p:blipFill>
        <p:spPr>
          <a:xfrm>
            <a:off x="285840" y="3214800"/>
            <a:ext cx="4357440" cy="350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stock photo : Business people and team. Isolated over white backgroun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85960"/>
            <a:ext cx="4286160" cy="3643200"/>
          </a:xfrm>
          <a:prstGeom prst="rect">
            <a:avLst/>
          </a:prstGeom>
          <a:ln w="0">
            <a:noFill/>
          </a:ln>
        </p:spPr>
      </p:pic>
      <p:sp>
        <p:nvSpPr>
          <p:cNvPr id="170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36C2-847D-457E-AB99-2182BA2B4D2F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38EF-921B-4DA5-8C60-0AD6584D31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3929040" y="1357200"/>
            <a:ext cx="52149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euvažavanje interne komunikacije u svakodnevnom poslovanju organizacije dovodi do loše produktivnosti i loših tržišnih rezultata,što u toku kriznih situacija ili velikih promena može dovesti čak i do sloma celog siste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a li je to ono što želimo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VALA NA PAŽNJI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6405-10AA-4F8A-949B-FDC6F4897CFA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4613-3178-41AC-80EE-B948B360FB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erno komunic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¤</a:t>
            </a:r>
            <a:r>
              <a:rPr b="0" lang="sr-Latn-CS" sz="3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egrativni znač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¤</a:t>
            </a:r>
            <a:r>
              <a:rPr b="0" lang="sr-Latn-CS" sz="3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tivacioni znač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C:\Documents and Settings\jelena\Desktop\slike za pkp\64484,1162212365,1231.jpg"/>
          <p:cNvPicPr/>
          <p:nvPr/>
        </p:nvPicPr>
        <p:blipFill>
          <a:blip r:embed="rId1"/>
          <a:stretch/>
        </p:blipFill>
        <p:spPr>
          <a:xfrm>
            <a:off x="714240" y="3929040"/>
            <a:ext cx="2286000" cy="2714760"/>
          </a:xfrm>
          <a:prstGeom prst="rect">
            <a:avLst/>
          </a:prstGeom>
          <a:ln w="0">
            <a:noFill/>
          </a:ln>
        </p:spPr>
      </p:pic>
      <p:sp>
        <p:nvSpPr>
          <p:cNvPr id="113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689A-89EB-44BF-B6D7-0931C8916814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F710-399F-4DC8-950F-37FBB91089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NTERNO KOMUNIC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rne opstrukcije, obustave rada, štrajkovi dolaze kao krajnje posledice, a sve počinje od glasina, nemotivisanosti, loše komunikacije između viših i nižih menadžer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rektora koji se zaposlenima obraća samo putem saopštenj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dnom rečju –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u 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postavljen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omunikaci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C:\Documents and Settings\jelena\Desktop\slike za pkp\untitled5234.bmp"/>
          <p:cNvPicPr/>
          <p:nvPr/>
        </p:nvPicPr>
        <p:blipFill>
          <a:blip r:embed="rId1"/>
          <a:stretch/>
        </p:blipFill>
        <p:spPr>
          <a:xfrm>
            <a:off x="5143680" y="4071960"/>
            <a:ext cx="3714480" cy="2571840"/>
          </a:xfrm>
          <a:prstGeom prst="rect">
            <a:avLst/>
          </a:prstGeom>
          <a:ln w="0">
            <a:noFill/>
          </a:ln>
        </p:spPr>
      </p:pic>
      <p:sp>
        <p:nvSpPr>
          <p:cNvPr id="120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1536-FD0B-412D-A308-3BCA687191D4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0DAA-3931-4A26-9620-0D976C5110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kcionalni značaj interne komunikacije ima dinamički karakter jer se ostvaruje putem konkretnih i opipljivih aktivnosti koje imaju svoj početak, svoje trajanje i završnicu u realnom prostoru i vremenu i preduzimaju ih zaposleni u organizaci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Office life"/>
          <p:cNvPicPr/>
          <p:nvPr/>
        </p:nvPicPr>
        <p:blipFill>
          <a:blip r:embed="rId1"/>
          <a:stretch/>
        </p:blipFill>
        <p:spPr>
          <a:xfrm>
            <a:off x="1928880" y="4786200"/>
            <a:ext cx="3571920" cy="1905120"/>
          </a:xfrm>
          <a:prstGeom prst="rect">
            <a:avLst/>
          </a:prstGeom>
          <a:ln w="0">
            <a:noFill/>
          </a:ln>
        </p:spPr>
      </p:pic>
      <p:sp>
        <p:nvSpPr>
          <p:cNvPr id="127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31E6-B20D-4664-A753-AF70F9C78FDD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C95B-42C0-4882-BB94-728CF24E8E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 aktivnosti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Ostvarivanje organizacijsk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ljev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Obavešta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ovezivanj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Stvaranje konkurentne pred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Upravljanje promen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Upravljanje kriz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C:\Documents and Settings\jelena\Desktop\slike za pkp\1294,1204969060,2.jpg"/>
          <p:cNvPicPr/>
          <p:nvPr/>
        </p:nvPicPr>
        <p:blipFill>
          <a:blip r:embed="rId1"/>
          <a:stretch/>
        </p:blipFill>
        <p:spPr>
          <a:xfrm>
            <a:off x="500040" y="2286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Documents and Settings\jelena\Desktop\slike za pkp\2700,1197308483,1.jpg"/>
          <p:cNvPicPr/>
          <p:nvPr/>
        </p:nvPicPr>
        <p:blipFill>
          <a:blip r:embed="rId2"/>
          <a:stretch/>
        </p:blipFill>
        <p:spPr>
          <a:xfrm>
            <a:off x="500040" y="4286160"/>
            <a:ext cx="1620720" cy="1571760"/>
          </a:xfrm>
          <a:prstGeom prst="rect">
            <a:avLst/>
          </a:prstGeom>
          <a:ln w="0">
            <a:noFill/>
          </a:ln>
        </p:spPr>
      </p:pic>
      <p:sp>
        <p:nvSpPr>
          <p:cNvPr id="135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B0A7-4999-4277-AC9D-2592379738E1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BCA3-9191-4A43-A95B-FBFA523E60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itanju su neopipljive kategorije kao što su svest, poznavanje, dopadljivost, odbojnost, razumevanje, nerazumevanje, poverenje ili nepovere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st o neče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li osećanje o tome imaju značaj utoliko što najčešće prethode nekoj odluci ili akciji, i sastavni su deo intrapersonalnog komunikacionog sklopa i unutrašnjeg govora svake ličnos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stock photo : Business people plann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86000" cy="135720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89E5-B917-4B8D-B320-C172AE61A35D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C243-F789-4F63-98CF-9A93785031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10"/>
          <p:cNvSpPr/>
          <p:nvPr/>
        </p:nvSpPr>
        <p:spPr>
          <a:xfrm>
            <a:off x="2286000" y="6215040"/>
            <a:ext cx="289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ednosni značaj interne komunikacije ogleda se u njegovoj ulozi kao integrativnog i motivacionog faktora kod zaposleni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alima interne komunikacije se na poseban način osmišljavaju poruke i sa zaposlenima dele osnovne vrednosti i principi koji su u temeljima organizaci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C:\Documents and Settings\jelena\Desktop\slike za pkp\4884,1153446901,2.jpg"/>
          <p:cNvPicPr/>
          <p:nvPr/>
        </p:nvPicPr>
        <p:blipFill>
          <a:blip r:embed="rId1"/>
          <a:stretch/>
        </p:blipFill>
        <p:spPr>
          <a:xfrm>
            <a:off x="0" y="214200"/>
            <a:ext cx="1398600" cy="1122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Documents and Settings\jelena\Desktop\slike za pkp\2700,1172261793,2.jpg"/>
          <p:cNvPicPr/>
          <p:nvPr/>
        </p:nvPicPr>
        <p:blipFill>
          <a:blip r:embed="rId2"/>
          <a:stretch/>
        </p:blipFill>
        <p:spPr>
          <a:xfrm>
            <a:off x="7643880" y="314316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50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E104-ED8D-4FF3-9146-ADE6BE695CA1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734D-65A9-4321-9C35-D4CFC475D5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oliko zaposleni shvataju i prihvataju osnovnu filozofiju, vrednosti i principe svoje organizacije i u njima žele da učestvuju, oni su prijemčiviji za više forme i sadržaje čiji je značaj da ih motiviše te da kroz lično unapređenje i ličnu korist postignu konkretan napredak i za kompa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C:\Documents and Settings\jelena\Desktop\slike za pkp\2700,1202717691,1.jpg"/>
          <p:cNvPicPr/>
          <p:nvPr/>
        </p:nvPicPr>
        <p:blipFill>
          <a:blip r:embed="rId1"/>
          <a:stretch/>
        </p:blipFill>
        <p:spPr>
          <a:xfrm>
            <a:off x="7215120" y="4714920"/>
            <a:ext cx="1762200" cy="1938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C:\Documents and Settings\jelena\Desktop\slike za pkp\2700,1178054340,1.jpg"/>
          <p:cNvPicPr/>
          <p:nvPr/>
        </p:nvPicPr>
        <p:blipFill>
          <a:blip r:embed="rId2"/>
          <a:stretch/>
        </p:blipFill>
        <p:spPr>
          <a:xfrm>
            <a:off x="0" y="0"/>
            <a:ext cx="1500120" cy="1714680"/>
          </a:xfrm>
          <a:prstGeom prst="rect">
            <a:avLst/>
          </a:prstGeom>
          <a:ln w="0">
            <a:noFill/>
          </a:ln>
        </p:spPr>
      </p:pic>
      <p:sp>
        <p:nvSpPr>
          <p:cNvPr id="158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5B34-975D-4DED-AD5F-AB6950D19C77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8EF0-EE6E-4AA7-8384-7AAB713834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ciona uloga interne komunikacije je u tome da se opredmeti u konkretnoj aktivnosti i u određenom ponaša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 komunikacija je tada zaokruženi ciklus, jer putem poruka koje nose kvalitativni i vrednosni smisao postiže i funkcionalne ciljeve koji obuhvataju bolje i produktivnije bazično poslova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C:\Documents and Settings\jelena\Desktop\slike za pkp\91282,1202830938,1.jpg"/>
          <p:cNvPicPr/>
          <p:nvPr/>
        </p:nvPicPr>
        <p:blipFill>
          <a:blip r:embed="rId1"/>
          <a:stretch/>
        </p:blipFill>
        <p:spPr>
          <a:xfrm>
            <a:off x="0" y="0"/>
            <a:ext cx="1371600" cy="1500120"/>
          </a:xfrm>
          <a:prstGeom prst="rect">
            <a:avLst/>
          </a:prstGeom>
          <a:ln w="0">
            <a:noFill/>
          </a:ln>
        </p:spPr>
      </p:pic>
      <p:sp>
        <p:nvSpPr>
          <p:cNvPr id="165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6503-E5FE-4F17-97C0-D8B6396C1373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C53D-585E-4BBE-B568-8B70F86783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4:03:33Z</dcterms:created>
  <dc:creator>User</dc:creator>
  <dc:description/>
  <dc:language>en-US</dc:language>
  <cp:lastModifiedBy>jelena</cp:lastModifiedBy>
  <dcterms:modified xsi:type="dcterms:W3CDTF">2008-07-09T13:01:53Z</dcterms:modified>
  <cp:revision>23</cp:revision>
  <dc:subject/>
  <dc:title>ULOGA INTERNE POSLOVNE KOMUNIKACIJE</dc:title>
</cp:coreProperties>
</file>