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5A24-B695-46BA-B7DD-4DD177E88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363A-A553-4324-853B-B7142326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CE1C-45CB-4F4D-BFEC-D637E409C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FFD2-C0C8-47E3-B028-6DFA523D9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272B-E84F-47E6-B84E-9AA535404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C51D-CA85-483B-A2E9-83F6E6E1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0E64-469A-4E10-B093-8C3B564B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6D7E5-EF4E-4BC4-8553-BEFE7543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4964A-F6EE-4673-9888-718AD524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8632-9D9C-439C-97E6-CE10EEAD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5CEE-620A-44F9-B95C-28B5C80D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867B-FB95-418F-9185-66AB75F4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C69F-9D67-4DDF-9967-ADBD7936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E780-202D-407E-A16F-7E664257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0898-A17C-4ABC-9C76-5B63C20E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7668-884E-44D6-964C-6E88E3D0A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7042-DF73-4015-BDC9-6443C3E43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33E5AF-23D5-47A8-BE47-9F6379548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949183-0FAD-466A-9F8C-FE2E7D57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69AD85-8CA0-4274-ABCE-1F964F9A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B39F1A-3599-4A03-80AC-58B2CCC9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410E16-A9C6-46B8-A548-F3E2600F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D330-7FC5-49F9-A62C-3C6AF7AB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EF7052-C556-47DB-A821-DC39E0AE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067B0C-DC28-465F-B0B4-260AAA2A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935A87-312E-404C-B733-52C8FD2A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397044-08CC-4677-AAF1-EFDEADFC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3BB097-E9AD-4EE1-B38F-1F7C2406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3B00AE-0739-4F18-B3B4-FCE989DB3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3E66EB-6CD7-459C-A66C-BEF7E8E39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AC518-0F61-433E-B081-7401C2601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B4659-7E94-4D7E-9B9C-847A82BA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E4D8D-36F7-4574-9E76-CB93FC64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4A1B-BC1A-43D7-9D4C-C9140FD3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F93E6-6870-4CFF-BCEE-F6B3A336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851ED-04B3-4A4B-A8D2-F6BC99F6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8731C-BC12-48A5-9956-30BF5A1C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207BD-7A3D-4C47-8FAD-A6395BDA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0F8DB-4924-4C01-9506-FEBA0FC0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BFEF0-3F06-4B4D-938D-836DE6FE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F8958-419A-44DD-8C19-A917E1FE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AA3F2-3E50-4F6D-8930-4FB40140B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1B048-3043-4FD6-BF69-1314882B8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7D7357-23E3-433C-8B00-00254D80A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BC63-FA67-4A83-A87A-0BB8D35E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CDB8C1-E59E-42CB-98C1-235AEA8D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F72645-DB38-45A8-AFE2-A8948CF8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47BCAF-09D8-4587-B424-D969FBD0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65627D-A252-4D5C-8B99-6A395706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1293E3-E2CA-4F22-824A-14FB2EEC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EB3C17-C59E-41E0-98A3-D871D458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31E16B-23B0-49AB-BEAC-C4C252A6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0F8E4A-3C1A-47F0-92EF-20D11200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D4B6E5-0371-4FCD-8DD8-7157AF9D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367835-0A07-45A3-8DDF-BF162D0DC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EF95-C976-4C32-A13A-B5FED8C4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DB8641-59A8-433D-AF16-83292BAE8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F15DCE-DB53-4ACB-AA42-D6C7DAAF7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91FC50-6F18-4AC4-89DD-A4069897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A88FFA-86DA-4F5E-8341-687BEF28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41AF13-62A3-4C3C-B976-9E9737F2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399C63-674B-4A9C-B777-12AAC3A3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2C79C6-624D-41EC-98FF-E4570284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0E9E8B-3425-464C-83D7-05910A51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261E35-CD37-4BCC-B95D-5819B24E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3BAD9F-1B06-4594-B332-25D440D5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F8FB-0C63-4E8C-BD58-60FCD9B5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041290-9BA8-41CC-BB70-821A09BD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EC3DAB-6C64-48F0-B0B6-BAC09DE9B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94169E-4B95-47EA-9783-BA1BBB726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2FFD35-716F-4FD1-BBB8-A646401CD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A5740F-D4DF-4774-9DEB-419FF82E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9C017D-43E7-4EF8-A859-EB819FBD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D23494-0C31-4134-8E58-75934219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4239D9-F3A4-40D9-8FD1-951F5D69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5B85FF-D04D-4EAC-B1B1-8EC398B6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B30B05-2573-41CA-9F0B-8B12366F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163C-7CD7-4CC6-B61F-6CDABA87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67082B-3466-4F0A-AADB-9DB08734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BAF68F-B794-4973-8595-B28F84FF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2C2AAC-DC97-4343-B537-3A3F4D65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A93B69-D4D8-40F9-8BF4-0070BB3C7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55006D-B205-4BDF-8D15-423BEF3C5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B443-849E-46CC-9915-CF33C532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02B1-DE72-42CD-A23E-211A460E92F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C238-9686-452F-A706-AE370B7B632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D330-3748-4FCE-9026-E8FEE9EFF89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C5A9-BF66-48DC-83B8-04D6C780ADE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6BC1-8953-4FAD-BC5F-B0DCD9CD7D5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7924-0649-42CA-B1C2-84730765BC2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AADF-E0BC-46FA-8C05-1B2928016FF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09320" y="16002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entury Schoolbook"/>
              </a:rPr>
              <a:t>DELOVI POSLOVNOG PISMA</a:t>
            </a:r>
            <a:endParaRPr b="0" lang="en-US" sz="36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4038120"/>
            <a:ext cx="617220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5b6f"/>
                </a:solidFill>
                <a:latin typeface="Century Schoolbook"/>
              </a:rPr>
              <a:t>                 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Straight Connector 6"/>
          <p:cNvSpPr/>
          <p:nvPr/>
        </p:nvSpPr>
        <p:spPr>
          <a:xfrm flipH="1" flipV="1">
            <a:off x="0" y="1066320"/>
            <a:ext cx="9144000" cy="1800"/>
          </a:xfrm>
          <a:prstGeom prst="line">
            <a:avLst/>
          </a:prstGeom>
          <a:ln w="12600">
            <a:solidFill>
              <a:srgbClr val="69d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1752480" cy="1066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d13b"/>
                </a:solidFill>
                <a:latin typeface="Century Schoolbook"/>
              </a:rPr>
              <a:t>4)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Pozivni znaci (oznake)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su u funkciji lakšeg razvrstavanja pošte. To mogu biti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inicijali ličnosti ili odeljenja firme u kojoj je pismo napisano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d13b"/>
                </a:solidFill>
                <a:latin typeface="Century Schoolbook"/>
              </a:rPr>
              <a:t>5)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Predmet ili sažetak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redstavlja kratak sadržaj poslovnog pisma. Ispisuje se ispod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adrese, pre sadržaja pisma s leve strane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33C6-4CAE-4C78-9BF9-9B52DFDA199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6" descr=""/>
          <p:cNvPicPr/>
          <p:nvPr/>
        </p:nvPicPr>
        <p:blipFill>
          <a:blip r:embed="rId1"/>
          <a:stretch/>
        </p:blipFill>
        <p:spPr>
          <a:xfrm>
            <a:off x="2971800" y="5410080"/>
            <a:ext cx="3200400" cy="10670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d13b"/>
                </a:solidFill>
                <a:latin typeface="Century Schoolbook"/>
              </a:rPr>
              <a:t>6)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Sadržaj ili sadržina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isma je glavni deo pisma koji se saopštava poslovna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informacija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d13b"/>
                </a:solidFill>
                <a:latin typeface="Century Schoolbook"/>
              </a:rPr>
              <a:t>7)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Pozdrav.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Uljudni oproštaj sa poslovnim partnerom rečima kao: Pozdravljam Vas;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rimite naše pozdrave; S poštovanjem; S osobitim poštovanjem i sl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7fd13b"/>
                </a:solidFill>
                <a:latin typeface="Century Schoolbook"/>
              </a:rPr>
              <a:t>8)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Potpis.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To je sastavni deo pisma, koji ono dobija značaj službenog dokumenta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1AC9-DF8E-4643-825A-23C02C031B5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1152360" cy="8380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Sporedni delovi poslovnog pisma su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Oslovljavanje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prilozi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način otpreme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raspored kopija (dostavljeno)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dodatak ili post-scriptum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8A7F-8AC1-4C77-9845-DBCF70133EE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6" descr=""/>
          <p:cNvPicPr/>
          <p:nvPr/>
        </p:nvPicPr>
        <p:blipFill>
          <a:blip r:embed="rId1"/>
          <a:stretch/>
        </p:blipFill>
        <p:spPr>
          <a:xfrm>
            <a:off x="4800600" y="2743200"/>
            <a:ext cx="2771640" cy="13381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e5b6f"/>
                </a:solidFill>
                <a:latin typeface="Century Schoolbook"/>
              </a:rPr>
              <a:t>NEKE PREPORUKE ZA PISANJE POSLOVNOG PISMA:</a:t>
            </a:r>
            <a:endParaRPr b="0" lang="en-US" sz="34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reba pisati kratkim i jasnim rečenicama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ne sme se zanemariti interpunkcija (naročito</a:t>
            </a:r>
            <a:r>
              <a:rPr b="0" lang="sr-Latn-C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zapete)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izbegavati pisanje više poruka u jednom pismu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33D5-CE8B-46CA-972C-3175FFA035A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1"/>
          <a:stretch/>
        </p:blipFill>
        <p:spPr>
          <a:xfrm>
            <a:off x="5486400" y="3276720"/>
            <a:ext cx="2438280" cy="8380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e5b6f"/>
                </a:solidFill>
                <a:latin typeface="Century Schoolbook"/>
              </a:rPr>
              <a:t>NEKE PREPORUKE ZA PISANJE POSLOVNOG PISMA:</a:t>
            </a:r>
            <a:endParaRPr b="0" lang="en-US" sz="34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Ton pisma mora biti primeran i učtiv čak i kada su u pitanju neprijatne vesti,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Odgovor na neučtivo pismo treba da bude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posebno pristojan i korektan.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Pisanje poslovnog pisma ne treba shvatiti kao šablonski posao.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8290-F4E8-461B-97A7-70D432B1DA4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Century Schoolbook"/>
              </a:rPr>
              <a:t>TRI SU OSNOVNA OBLIKA:</a:t>
            </a:r>
            <a:br>
              <a:rPr sz="3200"/>
            </a:br>
            <a:endParaRPr b="0" lang="en-US" sz="3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Evropski (francuski), zupčasti, stepenasti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reglednost sadržaja i adrese primaoca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Američki (blok forma) Pisanje        pojednostavljeno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Kombinovani. Kombinacija evropskih i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američkih oblika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Firma može napraviti svoj model poslovnog pisma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5383-35D2-45A6-8AB7-58C32EE7EEC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6" descr=""/>
          <p:cNvPicPr/>
          <p:nvPr/>
        </p:nvPicPr>
        <p:blipFill>
          <a:blip r:embed="rId1"/>
          <a:stretch/>
        </p:blipFill>
        <p:spPr>
          <a:xfrm>
            <a:off x="6934320" y="2057400"/>
            <a:ext cx="1752480" cy="19051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ZAKLJU</a:t>
            </a:r>
            <a:r>
              <a:rPr b="0" lang="sr-Latn-CS" sz="3000" spc="-1" strike="noStrike">
                <a:solidFill>
                  <a:srgbClr val="4e5b6f"/>
                </a:solidFill>
                <a:latin typeface="Century Schoolbook"/>
              </a:rPr>
              <a:t>Č</a:t>
            </a: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AK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sr-Latn-CS" sz="3600" spc="-1" strike="noStrike">
                <a:solidFill>
                  <a:srgbClr val="000000"/>
                </a:solidFill>
                <a:latin typeface="Century Schoolbook"/>
              </a:rPr>
              <a:t>Delovi poslovnog pisma su vrlo bitni jer se iz njih može naslutiti ozbiljnost namere partenera i uspešnost poslovanja što je bitno za ostvarivanje profita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6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B387-46C8-4190-8EDD-F5460681738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6" descr=""/>
          <p:cNvPicPr/>
          <p:nvPr/>
        </p:nvPicPr>
        <p:blipFill>
          <a:blip r:embed="rId1"/>
          <a:stretch/>
        </p:blipFill>
        <p:spPr>
          <a:xfrm rot="21111600">
            <a:off x="1595160" y="4875120"/>
            <a:ext cx="5129280" cy="10861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Century Schoolbook"/>
              </a:rPr>
              <a:t>PREGLED IZLAGANJA</a:t>
            </a:r>
            <a:endParaRPr b="0" lang="en-US" sz="36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isano poslovno komuniciranj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Osnovne odlike pisanog poslovno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komuniciranj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SLOVNO PIS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Delovi poslovnog pism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Neke preporuke za pisanje poslovnog pism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6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225440" cy="838440"/>
          </a:xfrm>
          <a:prstGeom prst="rect">
            <a:avLst/>
          </a:prstGeom>
          <a:ln w="0">
            <a:noFill/>
          </a:ln>
        </p:spPr>
      </p:pic>
      <p:sp>
        <p:nvSpPr>
          <p:cNvPr id="359" name="Slide Number Placeholder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8115-3290-4F5F-AEEF-BDB0FB745CA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e5b6f"/>
                </a:solidFill>
                <a:latin typeface="Century Schoolbook"/>
              </a:rPr>
              <a:t>   </a:t>
            </a:r>
            <a:br>
              <a:rPr sz="3200"/>
            </a:br>
            <a:r>
              <a:rPr b="0" lang="en-US" sz="3200" spc="-1" strike="noStrike">
                <a:solidFill>
                  <a:srgbClr val="4e5b6f"/>
                </a:solidFill>
                <a:latin typeface="Century Schoolbook"/>
              </a:rPr>
              <a:t>PISANO POSLOVNO KOMUNICIRANJE</a:t>
            </a:r>
            <a:endParaRPr b="0" lang="en-US" sz="3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isano poslovno komuniciranje, za razliku od usmenog, ostavlja pisani trag u poslovnim aktivnostima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Bitna prednost pisanog poslovnog komuniciranja je u tome što ostavlja dokument koji se može čuvati i koji služi kao dokaz u ostvarivanju prava, ili u međusobnom odnosu poslovnih partnera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148C-8744-4E67-B397-7E77C69D481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7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38440" cy="10000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Century Schoolbook"/>
              </a:rPr>
              <a:t>PISANO POSLOVNO KOMUNICIRANJE</a:t>
            </a:r>
            <a:endParaRPr b="0" lang="en-US" sz="3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oslovni iskaz se može doterivati i dopunjavati sve dok definitivno ne bude poslat poslovnom partneru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uprotno tome, u usmenom poslovnom komuniciranju svaka ispravka ili dopuna je primetna, posebno su primenti neverbalni znaci komuniciranja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3B3B-0B8D-49E5-8F70-647FFE9FA7A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6" descr=""/>
          <p:cNvPicPr/>
          <p:nvPr/>
        </p:nvPicPr>
        <p:blipFill>
          <a:blip r:embed="rId1"/>
          <a:stretch/>
        </p:blipFill>
        <p:spPr>
          <a:xfrm>
            <a:off x="457200" y="4800600"/>
            <a:ext cx="7696080" cy="20574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Century Schoolbook"/>
              </a:rPr>
              <a:t>OSNOVNE ODLIKE PISANOG POSLOVNOG</a:t>
            </a:r>
            <a:br>
              <a:rPr sz="3200"/>
            </a:br>
            <a:r>
              <a:rPr b="0" lang="en-US" sz="3200" spc="-1" strike="noStrike">
                <a:solidFill>
                  <a:srgbClr val="4e5b6f"/>
                </a:solidFill>
                <a:latin typeface="Century Schoolbook"/>
              </a:rPr>
              <a:t>KOMUNICIRANJA</a:t>
            </a:r>
            <a:endParaRPr b="0" lang="en-US" sz="3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slovna pism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zivi i odgovor na pozive - kratke poruk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Zapisnici (prijem, primopredaja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olb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astanci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V Izveštaji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Radovi, Priručnici, knjig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FF94-0B8E-47F9-AD09-551F56E479F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7" descr=""/>
          <p:cNvPicPr/>
          <p:nvPr/>
        </p:nvPicPr>
        <p:blipFill>
          <a:blip r:embed="rId1"/>
          <a:stretch/>
        </p:blipFill>
        <p:spPr>
          <a:xfrm>
            <a:off x="4800600" y="3809880"/>
            <a:ext cx="1924200" cy="11811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Century Schoolbook"/>
              </a:rPr>
              <a:t>POSLOVNO PISMO</a:t>
            </a:r>
            <a:endParaRPr b="0" lang="en-US" sz="36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slovno pismo je najčešći oblik pisanog poslovnog komuniciranja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Ono se sastavlja i šalje posebno svakom poslovnom partneru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slovno pismo je dokument o određenom poslu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Osnovna karakteristika je da ono pre</a:t>
            </a:r>
            <a:r>
              <a:rPr b="0" lang="sr-Latn-CS" sz="3200" spc="-1" strike="noStrike">
                <a:solidFill>
                  <a:srgbClr val="000000"/>
                </a:solidFill>
                <a:latin typeface="Century Schoolbook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stavlja odgovor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D35D-EDE4-4E02-AE01-DFD12CC73EC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7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1219320" cy="8859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slovno pismo ima delove koji se mogu podeliti u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- glavne i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- sporedne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z poslovnog pisma ne može biti izostavljen ni jedan glavni deo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poredni delovi se unose u pismo prema potrebi, dopunjuju glavnu poruku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D293-413F-477D-B4AB-2365FB4ABE5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6" descr=""/>
          <p:cNvPicPr/>
          <p:nvPr/>
        </p:nvPicPr>
        <p:blipFill>
          <a:blip r:embed="rId1"/>
          <a:stretch/>
        </p:blipFill>
        <p:spPr>
          <a:xfrm>
            <a:off x="4038480" y="2438280"/>
            <a:ext cx="3076560" cy="1200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Glavni delovi poslovnog pisma su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Zaglavlje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esto i datum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Adresa primaoca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zivni znaci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redmet (sažetak)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adržaj...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zdrav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tpi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774B-FABB-4744-8EB4-65796EB13D3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6" descr=""/>
          <p:cNvPicPr/>
          <p:nvPr/>
        </p:nvPicPr>
        <p:blipFill>
          <a:blip r:embed="rId1"/>
          <a:stretch/>
        </p:blipFill>
        <p:spPr>
          <a:xfrm>
            <a:off x="5029200" y="2743200"/>
            <a:ext cx="2971800" cy="288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Zaglavlje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adrži sve bitne elemente kojima se pošiljalac poslovnog pisma legitimiše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Mesto i datum.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išu se odmah iza zaglavlja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7fd13b"/>
                </a:solidFill>
                <a:latin typeface="Century Schoolbook"/>
              </a:rPr>
              <a:t>3)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Adresa primaoca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astoji se od naziva firme, njene delatnosti i odredišta (ulica, broj,poštanski broj, naziv mesta)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E4C3-BCA0-4E9E-B406-C170B8D81E0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6" descr=""/>
          <p:cNvPicPr/>
          <p:nvPr/>
        </p:nvPicPr>
        <p:blipFill>
          <a:blip r:embed="rId1"/>
          <a:stretch/>
        </p:blipFill>
        <p:spPr>
          <a:xfrm>
            <a:off x="6934320" y="1981080"/>
            <a:ext cx="1752480" cy="8384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8T20:46:39Z</dcterms:created>
  <dc:creator>Lana</dc:creator>
  <dc:description/>
  <dc:language>en-US</dc:language>
  <cp:lastModifiedBy>jelena</cp:lastModifiedBy>
  <dcterms:modified xsi:type="dcterms:W3CDTF">2008-07-09T13:02:24Z</dcterms:modified>
  <cp:revision>35</cp:revision>
  <dc:subject/>
  <dc:title>POSLOVNO PISMO</dc:title>
</cp:coreProperties>
</file>