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1049D-7446-4D80-8848-3D4C0C1DF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4C3C9-DC37-4A08-B439-636364CE8B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8C1C9-E845-4276-A41C-81C806CF31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BC0B8-D94D-4E41-9472-571D332689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DD3DB-64EF-455C-AD9C-046F37A722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C3353-81CC-49C0-AB6F-DF3C2EB2B4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86391-08ED-48B0-A3F5-4F38E6BE54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E8A5F-DF0C-4A7F-B9A8-C26BF9D06A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E8C6F-39CE-484F-8B71-127FD498A1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B120A-4DB9-4812-819A-3FAA314EBA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974E3-B1B7-4063-A5B8-BD99AED7C5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102D2-2EA6-456B-9A02-0CA1A5DACC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BF6F-AAFD-4CCE-894A-36861A312AD0}" type="slidenum">
              <a:rPr b="0" lang="en-US" sz="1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Verbalne i Neverbaln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Komunikacije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072040" y="4214880"/>
            <a:ext cx="323676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mart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8A2C-DEA8-4032-8DAA-2F70BBBF21B4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Masovni Medij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ovni mediji (tv,radio,novine,internet ...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 mediji spadaju pod verbalane komunikacije i u današnje vreme pretstvaljaju bitan deo života svakog čoveka (informisanost)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lici mas medija mogu biti usmeni (tv, radio) ili pismeni (novine, www) ali su u oba slučaja posredni 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884B-35A1-4275-8C25-5A9F5082B7C2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adr</a:t>
            </a: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žaj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komunikacija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omunikacioni znakovi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del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486B-3FDE-4BED-BC0B-F2657165356C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reklo reči komunikacija je od lat. reči “communicatio” ili “communicare” što znači saopštiti ili saopštavat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je sastavni deo svakog kontakta među ljudima, a njen najrazvijeniji oblik je govor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d pojmom 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od ljudi podrazumevam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renošenje poruka putem znakov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stoje dve vrste komunikacijskih znakov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mbo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gna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C77A-38D1-46FC-9572-132588E20E4F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oni znakov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mbol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znaci koji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amerno i 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upućuju da bi se drugima nešto saopštil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znaci su npr. reči i rečenice u razgovoru.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gnali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u znaci koji se javljaju spontano tj.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namerno i ne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 Nazivamo ih i </a:t>
            </a:r>
            <a:r>
              <a:rPr b="0" i="1" lang="sr-Latn-CS" sz="2400" spc="-1" strike="noStrike">
                <a:solidFill>
                  <a:srgbClr val="4d4d4d"/>
                </a:solidFill>
                <a:latin typeface="Arial"/>
              </a:rPr>
              <a:t>ekspresivnim znakovim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su npr. bledilo ili rumenilo lica ili neka grimasa i pokret kao izraz uzbuđenja a ne namernog ponašan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9334-CE98-46B7-A3A9-853903CEE3E3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Podel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317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rema vrsti znakova koji se koriste razlikujemo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Komunikaciju simbolima (svesno, namer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Ekspresivnu komunikaciju (nesveno, sponta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Ukoliko se za komuniciranje koriste neka tehnička 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redstva takva 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osredn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posredn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ad nema tehničkih sredstav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ajvažnija podela komunikacije je n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Ne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2C43-64A3-4A30-AFC1-8DF249802656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a je komunikacija pri kojoj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 koriste reč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među ljudima je puna neverbalnih komunikacionih znakova a bez njih bi ona bila mnogo siromašnija, nepotpunija i teže bi se odvijal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om komunikacijom se izražavaju prvenstveno emocije i stavovi učesnika u komunikacij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utem neverbalne komunikacije mi možemo da vidimo reagovanja slušaoca a da nam on ništa ni ne kaže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379E-3610-4B42-A0F4-71E402FAC46E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209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ropratne glasovne odlike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vrsta neverbalnih znakov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Ustvari to nisu pravi govorni znaci (kao reči) već karakteristike pri izgovaranju reči i rečenica npr. razlike u brzini, intenzitetu i ritmu izgovaranja (npr. kod homonima)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Ekstralingvistički komunikacioni znac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oni koji nisu sastvaljeni ni od osnovnih ni propratnih glasovnih draži,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a uglavnom se odnose na pokrete i facijalnu ekspresiju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Pod facijalnom ekspresijom podrazumevamo razne izraze lica izazvanom pokretima mišića lic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481B-6CCB-44D8-8C00-5BF4D9D35A43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- Verbalna 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je ona koja se odvija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utem reć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i sklopova reči određenog jezik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Verbalna komunikacija je najbogatija i najrazvijenija simbolička komunikacija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ako svaki jezik raspolaže sa stotinama hiljada reći, i mogućnostima njihovog menjanja i kombinovanja, verbalna komunikacija predstavalja gotov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ograničenu mogućnost kombinovanja znakov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, formulisanja i saopštavanja složenih sadrža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22A4-682B-4470-AD91-261997DAD6AF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Verbalna komunikacija počiva na sposobnosti čoveka da proizvodi veći broj glasova koji se povezuju u skupove glasova ili reči.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Na izgovaranju glasova počiva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u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, dok je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pi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slonjenja na slova tj. grafički prikaz glasov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 114/06</dc:creator>
  <dc:description/>
  <dc:language>en-US</dc:language>
  <cp:lastModifiedBy>HOME</cp:lastModifiedBy>
  <dcterms:modified xsi:type="dcterms:W3CDTF">2008-02-02T11:01:50Z</dcterms:modified>
  <cp:revision>20</cp:revision>
  <dc:subject>Komunikacije</dc:subject>
  <dc:title>Verbalne i Neverbalne Komunikaci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