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76B-4500-4D4E-8C55-528AB6C7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0C0-70E9-416D-A1CC-FCCDC862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6AA-BFF6-48A7-BD87-7B545E93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57A-11CF-43B3-BC5E-F1CFDD8F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2A45-7DAC-4771-A574-46F28180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2DB4-ADD7-4A39-98CB-249AF8CF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B11F-B428-4666-BF42-A316795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9191-9E4D-4268-99DB-E28FF608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2D5E-4732-4E46-96B6-065B5AC7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83D9-C588-49B7-A0D9-A008525E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3C69-7C61-4778-98AB-89C18AB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0F2B-87E2-46F5-8ADD-D8838088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14DB-212F-466B-B8C4-8119B865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7280-90CB-4935-BE30-6FB4A524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6023-823E-4C11-A596-3A1A059E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236E-E5E5-40A1-9ECC-49046C61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6C17-CABE-42C1-B3D5-199A9DAC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7A5-A41A-4926-BC99-7F7146A7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C45-3F4D-4517-A91B-FECB7CD3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8D3-9936-4482-A8A3-9B787122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958-2761-4EEC-AEBC-CB5ED783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555-2127-4CC7-9247-65390C62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DAF-D687-46B4-94FA-F6BBA48C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EE7-8117-407E-B157-21F5CF3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D121-1929-4308-AF99-159495E47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E4AD-67A3-4C4C-8A62-2E8CB42AA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2030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460520" y="2162160"/>
            <a:ext cx="144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0" y="1508040"/>
          <a:ext cx="5634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8040"/>
                    <a:ext cx="563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1268280" y="116208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423720" y="204624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920" y="13921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38280" y="25066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7800" y="23907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2766600" y="112392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27440" y="1316160"/>
            <a:ext cx="5684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r=3  →n=3-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1608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zola u prostor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2424240" y="400536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579680" y="4889520"/>
            <a:ext cx="8445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30600" y="35449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86000" y="408132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87880" y="323676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22200" y="3967200"/>
            <a:ext cx="652680" cy="882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4957920" y="4889520"/>
            <a:ext cx="1650960" cy="84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879800" y="4351320"/>
            <a:ext cx="115920" cy="1305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346040" y="4927680"/>
            <a:ext cx="1268640" cy="1074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08880" y="4849920"/>
            <a:ext cx="6904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652840" y="3621240"/>
            <a:ext cx="0" cy="57456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652840" y="496584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690280" y="4389480"/>
            <a:ext cx="538200" cy="4604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30600" y="5195880"/>
            <a:ext cx="69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Z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344760" y="3736800"/>
            <a:ext cx="730080" cy="614160"/>
            <a:chOff x="3344760" y="3736800"/>
            <a:chExt cx="730080" cy="614160"/>
          </a:xfrm>
        </p:grpSpPr>
        <p:sp>
          <p:nvSpPr>
            <p:cNvPr id="511" name=""/>
            <p:cNvSpPr/>
            <p:nvPr/>
          </p:nvSpPr>
          <p:spPr>
            <a:xfrm flipH="1">
              <a:off x="3536640" y="3736800"/>
              <a:ext cx="538200" cy="4600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344760" y="4159080"/>
              <a:ext cx="230400" cy="1918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646000" y="5775840"/>
            <a:ext cx="11520" cy="954000"/>
            <a:chOff x="2646000" y="5775840"/>
            <a:chExt cx="11520" cy="954000"/>
          </a:xfrm>
        </p:grpSpPr>
        <p:sp>
          <p:nvSpPr>
            <p:cNvPr id="514" name=""/>
            <p:cNvSpPr/>
            <p:nvPr/>
          </p:nvSpPr>
          <p:spPr>
            <a:xfrm flipH="1" flipV="1">
              <a:off x="2646000" y="6022080"/>
              <a:ext cx="11520" cy="7077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2649960" y="5775840"/>
              <a:ext cx="1080" cy="29952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4360" y="4880880"/>
            <a:ext cx="954000" cy="11520"/>
            <a:chOff x="504360" y="4880880"/>
            <a:chExt cx="954000" cy="11520"/>
          </a:xfrm>
        </p:grpSpPr>
        <p:sp>
          <p:nvSpPr>
            <p:cNvPr id="517" name=""/>
            <p:cNvSpPr/>
            <p:nvPr/>
          </p:nvSpPr>
          <p:spPr>
            <a:xfrm flipV="1">
              <a:off x="504360" y="4880880"/>
              <a:ext cx="707760" cy="115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158840" y="4884840"/>
              <a:ext cx="299520" cy="1080"/>
            </a:xfrm>
            <a:prstGeom prst="line">
              <a:avLst/>
            </a:prstGeom>
            <a:ln w="63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843280" y="604044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5920" y="4119480"/>
            <a:ext cx="879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0" lang="sr-Latn-CS" sz="3200" spc="-1" strike="noStrike" baseline="-25000">
                <a:solidFill>
                  <a:srgbClr val="cc0000"/>
                </a:solidFill>
                <a:latin typeface="Times New Roman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16000" y="550224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53400" y="42354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52800" y="35830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071960" y="5886360"/>
            <a:ext cx="476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: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36590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3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I) Složeni nosači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su oni nosači koji se sastoje od sistema štapova, vezanih međusobno unutrašnjim vez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139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erberova gre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501480" y="2468520"/>
            <a:ext cx="384480" cy="2700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295920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31880" y="2468520"/>
            <a:ext cx="80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2300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3828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4600" y="2468520"/>
            <a:ext cx="1996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199872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36115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689280" y="2468520"/>
            <a:ext cx="728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417920" y="2430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468520"/>
            <a:ext cx="22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994280" y="246852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tretch/>
        </p:blipFill>
        <p:spPr>
          <a:xfrm>
            <a:off x="58388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800760" y="2468520"/>
            <a:ext cx="1074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6"/>
          <a:stretch/>
        </p:blipFill>
        <p:spPr>
          <a:xfrm>
            <a:off x="7183440" y="2468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923760" y="196992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459160" y="189216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727440" y="18921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454720" y="19303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953400" y="193032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N=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22360" y="25066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4974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200" y="254628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84800" y="258444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Mz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23720" y="3083040"/>
            <a:ext cx="4071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5, M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N-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273560"/>
            <a:ext cx="91440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međuzglobova je: M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=N-1. Da bi nosač bio stabilan mora biti: 3N=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(r=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3N-2(N-1)=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885960" y="741240"/>
            <a:ext cx="230040" cy="88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16000" y="11635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9200" y="11253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35160" y="11635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187880" y="116352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1116000" y="7794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726080" y="43344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4=N+2=2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64240" y="1316160"/>
            <a:ext cx="4147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23760" y="3813120"/>
            <a:ext cx="18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6696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843280" y="3813120"/>
            <a:ext cx="884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26000" y="377496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3760" y="3813120"/>
            <a:ext cx="134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956120" y="377496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731880" y="381312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1730520" y="38131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802040" y="2968560"/>
            <a:ext cx="1920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; 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48480" y="2928960"/>
            <a:ext cx="249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(N-1)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454720" y="3621240"/>
            <a:ext cx="33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N-r=3x3-9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00" y="435132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eze nisu dobro (pravilno) raspoređ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00" y="4888080"/>
            <a:ext cx="88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krajnjem polju ne smeju biti dva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70000" y="5541840"/>
            <a:ext cx="887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srednjim poljima broj međuzglobova ne sme biti veći od d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241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Luk sa tri zglob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770040" y="663480"/>
            <a:ext cx="3265560" cy="2534760"/>
            <a:chOff x="770040" y="663480"/>
            <a:chExt cx="3265560" cy="2534760"/>
          </a:xfrm>
        </p:grpSpPr>
        <p:sp>
          <p:nvSpPr>
            <p:cNvPr id="578" name=""/>
            <p:cNvSpPr/>
            <p:nvPr/>
          </p:nvSpPr>
          <p:spPr>
            <a:xfrm flipH="1">
              <a:off x="130824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"/>
            <a:stretch/>
          </p:blipFill>
          <p:spPr>
            <a:xfrm>
              <a:off x="111600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2268720" y="123984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84560" y="1277640"/>
              <a:ext cx="1920240" cy="192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2"/>
            <a:stretch/>
          </p:blipFill>
          <p:spPr>
            <a:xfrm>
              <a:off x="3113280" y="223812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346400" y="2276280"/>
              <a:ext cx="84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308240" y="123948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84240" y="1738080"/>
              <a:ext cx="38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9640" y="931680"/>
              <a:ext cx="5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40" y="1777680"/>
              <a:ext cx="46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21080" y="1777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52800" y="663480"/>
              <a:ext cx="6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4226040" y="932040"/>
            <a:ext cx="491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=3N-rs-r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x2-4-2=6-6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698920"/>
            <a:ext cx="89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Odre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đivanje reakcija veza luka na tri zglob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47760" y="3352680"/>
            <a:ext cx="4110120" cy="3187440"/>
            <a:chOff x="347760" y="3352680"/>
            <a:chExt cx="4110120" cy="3187440"/>
          </a:xfrm>
        </p:grpSpPr>
        <p:sp>
          <p:nvSpPr>
            <p:cNvPr id="593" name=""/>
            <p:cNvSpPr/>
            <p:nvPr/>
          </p:nvSpPr>
          <p:spPr>
            <a:xfrm flipV="1">
              <a:off x="1154160" y="408132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54160" y="408132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14640" y="4043160"/>
              <a:ext cx="7776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2400" y="4081320"/>
              <a:ext cx="107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7360" y="4081320"/>
              <a:ext cx="0" cy="169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962280" y="515772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" descr=""/>
            <p:cNvPicPr/>
            <p:nvPr/>
          </p:nvPicPr>
          <p:blipFill>
            <a:blip r:embed="rId4"/>
            <a:stretch/>
          </p:blipFill>
          <p:spPr>
            <a:xfrm>
              <a:off x="3075120" y="577188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1154160" y="5464080"/>
              <a:ext cx="0" cy="10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67360" y="6040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92400" y="5848200"/>
              <a:ext cx="0" cy="6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54160" y="6348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52800" y="6348240"/>
              <a:ext cx="111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89640" y="4081320"/>
              <a:ext cx="61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27800" y="5810040"/>
              <a:ext cx="73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27800" y="5157720"/>
              <a:ext cx="6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97440" y="408132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997440" y="5195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154160" y="339084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368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67360" y="33526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267360" y="408132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47760" y="408132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31920" y="339084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83280" y="3504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52840" y="33526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62320" y="573372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60960" y="577188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497400" y="4311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97400" y="5195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46400" y="5003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84600" y="354456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76520" y="5310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4764240" y="4159080"/>
            <a:ext cx="4186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pozna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ređivanje reakcija primenom dekompozi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84240" y="327492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46000" y="292896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482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4560" y="362268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44560" y="66528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152360" y="300816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87880" y="1316160"/>
            <a:ext cx="1074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62480" y="1316160"/>
            <a:ext cx="0" cy="16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5070600" y="3006720"/>
            <a:ext cx="384120" cy="2700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148280" y="3583080"/>
            <a:ext cx="1114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684760" y="1316160"/>
            <a:ext cx="61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722920" y="3044880"/>
            <a:ext cx="73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22920" y="239220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992920" y="1316160"/>
            <a:ext cx="0" cy="107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992920" y="243036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62480" y="587520"/>
            <a:ext cx="0" cy="690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62480" y="1316160"/>
            <a:ext cx="690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78400" y="739800"/>
            <a:ext cx="730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48320" y="587520"/>
            <a:ext cx="730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56080" y="3006720"/>
            <a:ext cx="5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492880" y="154620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492880" y="2430360"/>
            <a:ext cx="69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54484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62480" y="32767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262480" y="3008160"/>
            <a:ext cx="690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262480" y="30463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766880" y="62712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457080" y="1317600"/>
            <a:ext cx="690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86080" y="58896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3083040"/>
            <a:ext cx="43797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64240" y="2968560"/>
            <a:ext cx="43797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o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8160" y="665280"/>
            <a:ext cx="2690640" cy="2645640"/>
            <a:chOff x="38160" y="665280"/>
            <a:chExt cx="2690640" cy="2645640"/>
          </a:xfrm>
        </p:grpSpPr>
        <p:sp>
          <p:nvSpPr>
            <p:cNvPr id="659" name=""/>
            <p:cNvSpPr/>
            <p:nvPr/>
          </p:nvSpPr>
          <p:spPr>
            <a:xfrm flipV="1">
              <a:off x="844560" y="13557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44560" y="13557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1" name="" descr=""/>
            <p:cNvPicPr/>
            <p:nvPr/>
          </p:nvPicPr>
          <p:blipFill>
            <a:blip r:embed="rId2"/>
            <a:stretch/>
          </p:blipFill>
          <p:spPr>
            <a:xfrm>
              <a:off x="652320" y="2432160"/>
              <a:ext cx="38448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54080" y="13557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160" y="13557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2320" y="6652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36800" y="227808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4080" y="24703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844560" y="2507760"/>
              <a:ext cx="0" cy="69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768320" y="135576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7360" y="1854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5920" y="266220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60560" y="150804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3305160" y="146988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44640" y="54936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305160" y="587520"/>
            <a:ext cx="76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0" y="5157720"/>
          <a:ext cx="4111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57720"/>
                    <a:ext cx="4111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4687920" y="4927680"/>
          <a:ext cx="479520" cy="108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7920" y="4927680"/>
                    <a:ext cx="47952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6031080" y="2354400"/>
            <a:ext cx="806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40240" y="3006720"/>
            <a:ext cx="88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dređivanje prvo spoljašnjih reakcija (Delimična dekompozicija)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000080" y="315900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12920" y="3735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038320" y="354348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113360" y="1585800"/>
            <a:ext cx="503064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(G)LEV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0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3112920" y="4427640"/>
            <a:ext cx="0" cy="690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93680" y="1930320"/>
            <a:ext cx="4110120" cy="3222360"/>
            <a:chOff x="193680" y="1930320"/>
            <a:chExt cx="4110120" cy="3222360"/>
          </a:xfrm>
        </p:grpSpPr>
        <p:sp>
          <p:nvSpPr>
            <p:cNvPr id="688" name=""/>
            <p:cNvSpPr/>
            <p:nvPr/>
          </p:nvSpPr>
          <p:spPr>
            <a:xfrm flipV="1">
              <a:off x="1000080" y="2658960"/>
              <a:ext cx="0" cy="107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000080" y="2658960"/>
              <a:ext cx="96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60560" y="2621160"/>
              <a:ext cx="77760" cy="75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38320" y="2658960"/>
              <a:ext cx="107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12920" y="2658960"/>
              <a:ext cx="0" cy="169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808200" y="3735360"/>
              <a:ext cx="38412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2"/>
            <a:stretch/>
          </p:blipFill>
          <p:spPr>
            <a:xfrm>
              <a:off x="2921040" y="4349880"/>
              <a:ext cx="384120" cy="26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000080" y="4926240"/>
              <a:ext cx="10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98720" y="4926240"/>
              <a:ext cx="111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35200" y="2658960"/>
              <a:ext cx="6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73360" y="4388040"/>
              <a:ext cx="73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73360" y="3735360"/>
              <a:ext cx="6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43360" y="2658960"/>
              <a:ext cx="0" cy="10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43360" y="377352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000080" y="196848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9600" y="2658960"/>
              <a:ext cx="690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12920" y="1930320"/>
              <a:ext cx="0" cy="69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3112560" y="2658960"/>
              <a:ext cx="690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3680" y="265896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77840" y="196848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28840" y="2082960"/>
              <a:ext cx="730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98760" y="1930320"/>
              <a:ext cx="730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08240" y="4311720"/>
              <a:ext cx="576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06520" y="4349880"/>
              <a:ext cx="576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343320" y="288936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43320" y="37735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92320" y="358164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0520" y="212256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22440" y="388800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73360" y="4311720"/>
              <a:ext cx="692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000080" y="385128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09600" y="3773520"/>
              <a:ext cx="690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3112560" y="4389480"/>
              <a:ext cx="69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93680" y="3159360"/>
              <a:ext cx="806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4005360"/>
              <a:ext cx="8827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75120" y="4503960"/>
              <a:ext cx="882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4" name=""/>
          <p:cNvGraphicFramePr/>
          <p:nvPr/>
        </p:nvGraphicFramePr>
        <p:xfrm>
          <a:off x="4071960" y="3006720"/>
          <a:ext cx="33984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3006720"/>
                    <a:ext cx="33984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4111560" y="4149720"/>
          <a:ext cx="39384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560" y="4149720"/>
                    <a:ext cx="39384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tim određujemo unutrašnje reakcij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189240" y="1009800"/>
            <a:ext cx="572472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F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ontrola reše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461880" y="1123920"/>
            <a:ext cx="2690640" cy="2837880"/>
            <a:chOff x="461880" y="1123920"/>
            <a:chExt cx="2690640" cy="2837880"/>
          </a:xfrm>
        </p:grpSpPr>
        <p:grpSp>
          <p:nvGrpSpPr>
            <p:cNvPr id="731" name=""/>
            <p:cNvGrpSpPr/>
            <p:nvPr/>
          </p:nvGrpSpPr>
          <p:grpSpPr>
            <a:xfrm>
              <a:off x="461880" y="1316160"/>
              <a:ext cx="2690640" cy="2645640"/>
              <a:chOff x="461880" y="1316160"/>
              <a:chExt cx="2690640" cy="2645640"/>
            </a:xfrm>
          </p:grpSpPr>
          <p:sp>
            <p:nvSpPr>
              <p:cNvPr id="732" name=""/>
              <p:cNvSpPr/>
              <p:nvPr/>
            </p:nvSpPr>
            <p:spPr>
              <a:xfrm flipV="1">
                <a:off x="1268280" y="2006640"/>
                <a:ext cx="0" cy="1076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268280" y="2006640"/>
                <a:ext cx="96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76040" y="3083040"/>
                <a:ext cx="384480" cy="26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577800" y="2006640"/>
                <a:ext cx="6904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1880" y="2006640"/>
                <a:ext cx="730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346040" y="1316160"/>
                <a:ext cx="730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460520" y="2928960"/>
                <a:ext cx="537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77800" y="3121200"/>
                <a:ext cx="690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268280" y="3158640"/>
                <a:ext cx="0" cy="69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192040" y="2006640"/>
                <a:ext cx="690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1080" y="2505240"/>
                <a:ext cx="8064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9640" y="3313080"/>
                <a:ext cx="882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384280" y="2158920"/>
                <a:ext cx="768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268640" y="1279800"/>
              <a:ext cx="0" cy="69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189160" y="1279800"/>
              <a:ext cx="0" cy="69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05080" y="1123920"/>
              <a:ext cx="768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0" y="40435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tod delimične dekompozi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 Cilj je da se prvo postavi potpun sistem jednačina za određivanje reakcija spoljnih veza-ukidaju se samo spoljne ve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914400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 Postavljamo uslove ravnoteže spoljnih sila(aktivne i reakcije spoljnih veza) za nosač kao cel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 Raspolažemo uslovima anuliranja momenata u međuzglobovima za sile levo ili desno od međuzglo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Naknadno postavljamo uslove ravnoteže za pojedine delove, iz kojih nalazimo reakcije unutrašnjih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4.Nosači mogu biti: </a:t>
            </a:r>
            <a:r>
              <a:rPr b="1" lang="sr-Latn-CS" sz="3600" spc="-1" strike="noStrike">
                <a:solidFill>
                  <a:srgbClr val="cc0000"/>
                </a:solidFill>
                <a:latin typeface="Times New Roman"/>
              </a:rPr>
              <a:t>puni i rešetka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ŠETKASTI NOSAČI</a:t>
            </a:r>
            <a:r>
              <a:rPr b="1" lang="sr-Latn-CS" sz="3200" spc="-1" strike="noStrike" u="sng">
                <a:solidFill>
                  <a:srgbClr val="660066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5112000" y="900360"/>
            <a:ext cx="722520" cy="48384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691600" y="1047600"/>
            <a:ext cx="511560" cy="648720"/>
            <a:chOff x="5691600" y="1047600"/>
            <a:chExt cx="511560" cy="648720"/>
          </a:xfrm>
        </p:grpSpPr>
        <p:sp>
          <p:nvSpPr>
            <p:cNvPr id="753" name=""/>
            <p:cNvSpPr/>
            <p:nvPr/>
          </p:nvSpPr>
          <p:spPr>
            <a:xfrm>
              <a:off x="5691600" y="104760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24080" y="109152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190600" y="1355760"/>
            <a:ext cx="3647160" cy="1418400"/>
            <a:chOff x="2190600" y="1355760"/>
            <a:chExt cx="3647160" cy="1418400"/>
          </a:xfrm>
        </p:grpSpPr>
        <p:grpSp>
          <p:nvGrpSpPr>
            <p:cNvPr id="756" name=""/>
            <p:cNvGrpSpPr/>
            <p:nvPr/>
          </p:nvGrpSpPr>
          <p:grpSpPr>
            <a:xfrm>
              <a:off x="5394240" y="2182680"/>
              <a:ext cx="443520" cy="350640"/>
              <a:chOff x="5394240" y="2182680"/>
              <a:chExt cx="443520" cy="350640"/>
            </a:xfrm>
          </p:grpSpPr>
          <p:sp>
            <p:nvSpPr>
              <p:cNvPr id="757" name=""/>
              <p:cNvSpPr/>
              <p:nvPr/>
            </p:nvSpPr>
            <p:spPr>
              <a:xfrm>
                <a:off x="5542560" y="21826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394240" y="243000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394240" y="25333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549180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 flipV="1">
                <a:off x="5591520" y="2277720"/>
                <a:ext cx="9936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190600" y="2174760"/>
              <a:ext cx="443520" cy="409680"/>
              <a:chOff x="2190600" y="2174760"/>
              <a:chExt cx="443520" cy="409680"/>
            </a:xfrm>
          </p:grpSpPr>
          <p:sp>
            <p:nvSpPr>
              <p:cNvPr id="763" name=""/>
              <p:cNvSpPr/>
              <p:nvPr/>
            </p:nvSpPr>
            <p:spPr>
              <a:xfrm>
                <a:off x="2338920" y="217476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90600" y="2421720"/>
                <a:ext cx="44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288160" y="226980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 flipV="1">
                <a:off x="2387880" y="2269440"/>
                <a:ext cx="9936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190600" y="2430360"/>
                <a:ext cx="443520" cy="154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8" name=""/>
            <p:cNvSpPr/>
            <p:nvPr/>
          </p:nvSpPr>
          <p:spPr>
            <a:xfrm>
              <a:off x="3429720" y="2182680"/>
              <a:ext cx="914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3684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1160" y="22273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556880" y="222732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507920" y="2174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900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63320" y="1406520"/>
              <a:ext cx="98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965760" y="136404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056200" y="1355760"/>
              <a:ext cx="91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8920" y="1355760"/>
              <a:ext cx="918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3648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930040" y="1458720"/>
              <a:ext cx="541800" cy="71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52080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401436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4605120" y="1406520"/>
              <a:ext cx="49356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5098680" y="1406160"/>
              <a:ext cx="492840" cy="76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67880" y="2234160"/>
              <a:ext cx="575280" cy="540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001040" y="2276640"/>
            <a:ext cx="511560" cy="648720"/>
            <a:chOff x="4001040" y="2276640"/>
            <a:chExt cx="511560" cy="648720"/>
          </a:xfrm>
        </p:grpSpPr>
        <p:sp>
          <p:nvSpPr>
            <p:cNvPr id="786" name=""/>
            <p:cNvSpPr/>
            <p:nvPr/>
          </p:nvSpPr>
          <p:spPr>
            <a:xfrm>
              <a:off x="4001040" y="22766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33520" y="23205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0" y="2852640"/>
            <a:ext cx="914400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red punih nosača, imamo i rešetkaste. Karakteristike rešetk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Kod rešetke imamo samo prave štapov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U čvoru rešetke ose svih štapova moraju da se seku u jednoj tačk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Aktivne sile deluju samo u čvorovima rešetk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slonci su samo u čorovi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-720" y="0"/>
            <a:ext cx="32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lementi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1880" y="549360"/>
            <a:ext cx="7758360" cy="3259080"/>
            <a:chOff x="461880" y="549360"/>
            <a:chExt cx="7758360" cy="3259080"/>
          </a:xfrm>
        </p:grpSpPr>
        <p:grpSp>
          <p:nvGrpSpPr>
            <p:cNvPr id="791" name=""/>
            <p:cNvGrpSpPr/>
            <p:nvPr/>
          </p:nvGrpSpPr>
          <p:grpSpPr>
            <a:xfrm>
              <a:off x="5164200" y="2719440"/>
              <a:ext cx="444240" cy="350640"/>
              <a:chOff x="5164200" y="2719440"/>
              <a:chExt cx="444240" cy="350640"/>
            </a:xfrm>
          </p:grpSpPr>
          <p:sp>
            <p:nvSpPr>
              <p:cNvPr id="792" name=""/>
              <p:cNvSpPr/>
              <p:nvPr/>
            </p:nvSpPr>
            <p:spPr>
              <a:xfrm>
                <a:off x="5312880" y="27194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164200" y="296676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64200" y="307008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526176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5361480" y="2814480"/>
                <a:ext cx="9972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960560" y="2711520"/>
              <a:ext cx="444240" cy="408960"/>
              <a:chOff x="1960560" y="2711520"/>
              <a:chExt cx="444240" cy="408960"/>
            </a:xfrm>
          </p:grpSpPr>
          <p:sp>
            <p:nvSpPr>
              <p:cNvPr id="798" name=""/>
              <p:cNvSpPr/>
              <p:nvPr/>
            </p:nvSpPr>
            <p:spPr>
              <a:xfrm>
                <a:off x="2109240" y="271152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960560" y="295812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2058120" y="280656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2157840" y="280620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960560" y="2966760"/>
                <a:ext cx="44424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2651040" y="271944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1906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90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25760" y="276408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78240" y="27115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749680" y="1393920"/>
              <a:ext cx="97776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03760" y="1393920"/>
              <a:ext cx="101592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27440" y="13176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26160" y="18925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649600" y="1892520"/>
              <a:ext cx="9216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22064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690640" y="1995480"/>
              <a:ext cx="972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290400" y="1393920"/>
              <a:ext cx="47484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3803760" y="1432080"/>
              <a:ext cx="47448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4375080" y="1943280"/>
              <a:ext cx="49392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 flipV="1">
              <a:off x="4868640" y="1943280"/>
              <a:ext cx="49356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14800" y="271944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28800" y="1970280"/>
              <a:ext cx="49860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28800" y="2776680"/>
              <a:ext cx="46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587520"/>
              <a:ext cx="2879640" cy="652320"/>
            </a:xfrm>
            <a:prstGeom prst="borderCallout1">
              <a:avLst>
                <a:gd name="adj1" fmla="val 18750"/>
                <a:gd name="adj2" fmla="val -8333"/>
                <a:gd name="adj3" fmla="val 146472"/>
                <a:gd name="adj4" fmla="val -1532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Gor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65560" y="3198960"/>
              <a:ext cx="2036520" cy="609480"/>
            </a:xfrm>
            <a:prstGeom prst="borderCallout1">
              <a:avLst>
                <a:gd name="adj1" fmla="val 18750"/>
                <a:gd name="adj2" fmla="val -8333"/>
                <a:gd name="adj3" fmla="val -121356"/>
                <a:gd name="adj4" fmla="val -265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ertik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22920" y="2162160"/>
              <a:ext cx="2497320" cy="609840"/>
            </a:xfrm>
            <a:prstGeom prst="borderCallout1">
              <a:avLst>
                <a:gd name="adj1" fmla="val 18750"/>
                <a:gd name="adj2" fmla="val -8333"/>
                <a:gd name="adj3" fmla="val 100782"/>
                <a:gd name="adj4" fmla="val -368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onji poja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61880" y="549360"/>
              <a:ext cx="2297160" cy="609840"/>
            </a:xfrm>
            <a:prstGeom prst="borderCallout1">
              <a:avLst>
                <a:gd name="adj1" fmla="val 18750"/>
                <a:gd name="adj2" fmla="val -8333"/>
                <a:gd name="adj3" fmla="val 303907"/>
                <a:gd name="adj4" fmla="val 11237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ijagona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193680" y="3967200"/>
            <a:ext cx="845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18900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NOS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Č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268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 nosačem u Mehanici (Statici) podrazumevamo krut štap ili sistem krutih štapova, čija je sloboda kretanja, sistema kao celine, pa i svakog štapa u sastavu sistema, eliminisana, a pri tome im je namena da primaju aktivne sile i prenose ih na osl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02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orni, ravanski i linij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69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ELA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je kruta, ako se rastojanja između njenih čvorova 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ogu menj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3720" y="2928960"/>
            <a:ext cx="2149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93720" y="127800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459160" y="23922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70040" y="112392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1384200" y="1507680"/>
            <a:ext cx="768600" cy="7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384200" y="22766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93720" y="227664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346040" y="2276640"/>
            <a:ext cx="119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614600" y="1854360"/>
            <a:ext cx="38376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36880" y="170028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36920" y="1278000"/>
            <a:ext cx="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923760" y="170028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52760" y="108576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rot="19902600">
            <a:off x="6157440" y="2201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5588280" y="225756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6210720" y="1922400"/>
            <a:ext cx="567360" cy="30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806160" y="160200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rot="19902600">
            <a:off x="6771960" y="18604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5551920" y="14414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6174360" y="1106640"/>
            <a:ext cx="565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rot="19902600">
            <a:off x="6116760" y="138924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9902600">
            <a:off x="6738480" y="104472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9902600">
            <a:off x="5489640" y="1717560"/>
            <a:ext cx="6012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523120" y="1760040"/>
            <a:ext cx="4248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5546160" y="1802880"/>
            <a:ext cx="614160" cy="39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144840" y="1426680"/>
            <a:ext cx="42840" cy="75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6145200" y="1425600"/>
            <a:ext cx="610200" cy="453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7280" y="1092240"/>
            <a:ext cx="44280" cy="75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6767640" y="1090080"/>
            <a:ext cx="610200" cy="45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rot="19902600">
            <a:off x="5532120" y="249876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9902600">
            <a:off x="7354440" y="1538280"/>
            <a:ext cx="58680" cy="85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64240" y="3044880"/>
            <a:ext cx="20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300720" y="24685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764240" y="1393920"/>
            <a:ext cx="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840200" y="104760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570640" y="26226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4725720" y="2546280"/>
            <a:ext cx="80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23000" y="193032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686560" y="2546280"/>
            <a:ext cx="119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301440" y="2122560"/>
            <a:ext cx="38304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605720" y="1163520"/>
            <a:ext cx="9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953400" y="2506680"/>
            <a:ext cx="2717640" cy="609480"/>
          </a:xfrm>
          <a:prstGeom prst="borderCallout1">
            <a:avLst>
              <a:gd name="adj1" fmla="val 18750"/>
              <a:gd name="adj2" fmla="val -8333"/>
              <a:gd name="adj3" fmla="val -25782"/>
              <a:gd name="adj4" fmla="val -334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ut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1880" y="3236760"/>
            <a:ext cx="334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abilna reš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923760" y="3967200"/>
            <a:ext cx="2803680" cy="922320"/>
            <a:chOff x="923760" y="3967200"/>
            <a:chExt cx="2803680" cy="922320"/>
          </a:xfrm>
        </p:grpSpPr>
        <p:sp>
          <p:nvSpPr>
            <p:cNvPr id="872" name=""/>
            <p:cNvSpPr/>
            <p:nvPr/>
          </p:nvSpPr>
          <p:spPr>
            <a:xfrm>
              <a:off x="2009520" y="479412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015920" y="4838760"/>
              <a:ext cx="987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100240" y="483876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87360" y="4786200"/>
              <a:ext cx="9072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012680" y="4017960"/>
              <a:ext cx="98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74680" y="4017960"/>
              <a:ext cx="98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98360" y="397512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51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2376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61920" y="408312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2036520" y="4044600"/>
              <a:ext cx="15840" cy="74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3072960" y="4082760"/>
              <a:ext cx="1404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23760" y="4773600"/>
              <a:ext cx="903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00008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207612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3189240" y="4005360"/>
              <a:ext cx="4604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51080" y="4005360"/>
              <a:ext cx="498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35280" y="3967200"/>
              <a:ext cx="9216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501480" y="4888080"/>
            <a:ext cx="771876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zna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- broj čvor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-broj štapova rešet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883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d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1998720" y="855720"/>
            <a:ext cx="3647160" cy="1802520"/>
            <a:chOff x="1998720" y="855720"/>
            <a:chExt cx="3647160" cy="1802520"/>
          </a:xfrm>
        </p:grpSpPr>
        <p:grpSp>
          <p:nvGrpSpPr>
            <p:cNvPr id="893" name=""/>
            <p:cNvGrpSpPr/>
            <p:nvPr/>
          </p:nvGrpSpPr>
          <p:grpSpPr>
            <a:xfrm>
              <a:off x="5202000" y="2257200"/>
              <a:ext cx="443880" cy="349920"/>
              <a:chOff x="5202000" y="2257200"/>
              <a:chExt cx="443880" cy="349920"/>
            </a:xfrm>
          </p:grpSpPr>
          <p:sp>
            <p:nvSpPr>
              <p:cNvPr id="894" name=""/>
              <p:cNvSpPr/>
              <p:nvPr/>
            </p:nvSpPr>
            <p:spPr>
              <a:xfrm>
                <a:off x="5350320" y="225720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02000" y="250380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202000" y="260712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299200" y="235224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5398920" y="23518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1998720" y="2249280"/>
              <a:ext cx="443880" cy="408960"/>
              <a:chOff x="1998720" y="2249280"/>
              <a:chExt cx="443880" cy="408960"/>
            </a:xfrm>
          </p:grpSpPr>
          <p:sp>
            <p:nvSpPr>
              <p:cNvPr id="900" name=""/>
              <p:cNvSpPr/>
              <p:nvPr/>
            </p:nvSpPr>
            <p:spPr>
              <a:xfrm>
                <a:off x="2147040" y="224928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98720" y="249588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209592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2195640" y="2344320"/>
                <a:ext cx="99720" cy="15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98720" y="2504520"/>
                <a:ext cx="443880" cy="1537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2688840" y="225720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2840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328560" y="2301480"/>
              <a:ext cx="98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16040" y="2249280"/>
              <a:ext cx="9036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787480" y="931320"/>
              <a:ext cx="97740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41560" y="931680"/>
              <a:ext cx="1015560" cy="54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65240" y="8557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1468080"/>
              <a:ext cx="914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7400" y="142992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228400" y="1507680"/>
              <a:ext cx="499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2728440" y="1532880"/>
              <a:ext cx="936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303360" y="931680"/>
              <a:ext cx="499680" cy="134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803040" y="969480"/>
              <a:ext cx="512280" cy="131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17560" y="1545840"/>
              <a:ext cx="499680" cy="73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flipV="1">
              <a:off x="4917600" y="1545480"/>
              <a:ext cx="4824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526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766600" y="1507680"/>
              <a:ext cx="498240" cy="76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66600" y="2314440"/>
              <a:ext cx="49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865400" y="2257200"/>
              <a:ext cx="9000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55760" y="2314440"/>
              <a:ext cx="42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417560" y="2314440"/>
              <a:ext cx="460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08240" y="1545480"/>
              <a:ext cx="9000" cy="70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270000" y="2814480"/>
            <a:ext cx="8680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=2k-3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 izmeđ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d krute rešetk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09600" y="477360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šetka u ravni je kruta ako je sastavljena iz trouglo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570640" y="779400"/>
            <a:ext cx="3573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=9;s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k-s=18-15=3=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ređivanje reakcija rešetkast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779280" y="13899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3876840" y="1441440"/>
            <a:ext cx="98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92160" y="14414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1757520" y="1432080"/>
            <a:ext cx="9331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2701800" y="1397880"/>
            <a:ext cx="9072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33540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2251080" y="22622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3243240" y="220896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2152080" y="2216880"/>
            <a:ext cx="918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4329000" y="2216880"/>
            <a:ext cx="921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4419720" y="1494000"/>
            <a:ext cx="4442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827520" y="1494000"/>
            <a:ext cx="542880" cy="71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305160" y="1494000"/>
            <a:ext cx="47484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92520" y="1494000"/>
            <a:ext cx="43632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2230560" y="1494000"/>
            <a:ext cx="465120" cy="7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708200" y="1494000"/>
            <a:ext cx="446040" cy="70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256920" y="89388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653480" y="1393920"/>
            <a:ext cx="903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1653480" y="294876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730520" y="2316240"/>
            <a:ext cx="423720" cy="65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308240" y="1201680"/>
            <a:ext cx="345960" cy="1997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654200" y="1201680"/>
            <a:ext cx="0" cy="199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 flipV="1">
            <a:off x="4867200" y="1393920"/>
            <a:ext cx="9072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1193760" y="3044520"/>
            <a:ext cx="460440" cy="53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001880" y="1432080"/>
            <a:ext cx="614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692360" y="971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39640" y="3083040"/>
            <a:ext cx="768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7400" y="779400"/>
            <a:ext cx="69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808280" y="70164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31080" y="1393920"/>
            <a:ext cx="0" cy="84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838840" y="1393920"/>
            <a:ext cx="192240" cy="84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031080" y="1778040"/>
            <a:ext cx="1152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621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akcije se određuju kao i kod punih nosač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574680" y="1198800"/>
            <a:ext cx="576000" cy="54108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0" y="4197240"/>
            <a:ext cx="9144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tatička određenost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sač je statički određen ako je broj uslova ravnoteže jednak broju reakcija v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+s-2k=0 (za ravan) i rs+s-3k=0 (za pro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41560" y="26028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postoje prekobrojne veze, nosač je statič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eodređen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433760" y="2259000"/>
            <a:ext cx="444240" cy="350640"/>
            <a:chOff x="4433760" y="2259000"/>
            <a:chExt cx="444240" cy="350640"/>
          </a:xfrm>
        </p:grpSpPr>
        <p:sp>
          <p:nvSpPr>
            <p:cNvPr id="968" name=""/>
            <p:cNvSpPr/>
            <p:nvPr/>
          </p:nvSpPr>
          <p:spPr>
            <a:xfrm>
              <a:off x="4582440" y="225900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33760" y="25063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33760" y="260964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453132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>
              <a:off x="4631040" y="2354040"/>
              <a:ext cx="997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230480" y="2251080"/>
            <a:ext cx="443880" cy="408960"/>
            <a:chOff x="1230480" y="2251080"/>
            <a:chExt cx="443880" cy="408960"/>
          </a:xfrm>
        </p:grpSpPr>
        <p:sp>
          <p:nvSpPr>
            <p:cNvPr id="974" name=""/>
            <p:cNvSpPr/>
            <p:nvPr/>
          </p:nvSpPr>
          <p:spPr>
            <a:xfrm>
              <a:off x="1378800" y="225108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230480" y="249768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1327680" y="23461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1427400" y="234576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230480" y="250632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470320" y="225900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47636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560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595680" y="2303640"/>
            <a:ext cx="987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548160" y="2251080"/>
            <a:ext cx="903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019240" y="1482840"/>
            <a:ext cx="9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03560" y="1482840"/>
            <a:ext cx="98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005280" y="1440000"/>
            <a:ext cx="918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09572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19160" y="1432080"/>
            <a:ext cx="921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147600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1969560" y="1534680"/>
            <a:ext cx="543240" cy="716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56032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05424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644640" y="1482840"/>
            <a:ext cx="49356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4138560" y="1482840"/>
            <a:ext cx="49392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322360" y="2276640"/>
            <a:ext cx="444240" cy="350280"/>
            <a:chOff x="2322360" y="2276640"/>
            <a:chExt cx="444240" cy="350280"/>
          </a:xfrm>
        </p:grpSpPr>
        <p:sp>
          <p:nvSpPr>
            <p:cNvPr id="996" name=""/>
            <p:cNvSpPr/>
            <p:nvPr/>
          </p:nvSpPr>
          <p:spPr>
            <a:xfrm>
              <a:off x="2471040" y="227664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22360" y="252360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322360" y="262692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2419920" y="237168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2519640" y="237132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4802040" y="1316160"/>
            <a:ext cx="43419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=2k-s-r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=2x7-11-4 =-1 (1x statički neod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0" y="323676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ila u štapu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4197240"/>
            <a:ext cx="895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 utiacaj štapa na čvor rešetke, predstavlja silu u štapu rešet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546408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Izračunavanje sila u štapovima rešet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96120" y="115920"/>
            <a:ext cx="89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irketno postavljanje uslova ravnoteže čvoro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-analitički nači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isecanje čvorov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343320" y="281448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690640" y="2814480"/>
            <a:ext cx="3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57480" y="2814480"/>
            <a:ext cx="5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730520" y="2673360"/>
            <a:ext cx="443880" cy="408960"/>
            <a:chOff x="1730520" y="2673360"/>
            <a:chExt cx="443880" cy="408960"/>
          </a:xfrm>
        </p:grpSpPr>
        <p:sp>
          <p:nvSpPr>
            <p:cNvPr id="1010" name=""/>
            <p:cNvSpPr/>
            <p:nvPr/>
          </p:nvSpPr>
          <p:spPr>
            <a:xfrm>
              <a:off x="1878840" y="2673360"/>
              <a:ext cx="918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730520" y="291996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827720" y="276840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1927440" y="2768040"/>
              <a:ext cx="99720" cy="15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30520" y="2928600"/>
              <a:ext cx="443880" cy="153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4578480" y="2724120"/>
            <a:ext cx="607680" cy="434520"/>
            <a:chOff x="4578480" y="2724120"/>
            <a:chExt cx="607680" cy="434520"/>
          </a:xfrm>
        </p:grpSpPr>
        <p:sp>
          <p:nvSpPr>
            <p:cNvPr id="1016" name=""/>
            <p:cNvSpPr/>
            <p:nvPr/>
          </p:nvSpPr>
          <p:spPr>
            <a:xfrm>
              <a:off x="4781880" y="2724120"/>
              <a:ext cx="125640" cy="11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578480" y="303048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78480" y="3158640"/>
              <a:ext cx="60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71204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4848480" y="2842200"/>
              <a:ext cx="136440" cy="18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3335400" y="2724120"/>
            <a:ext cx="12384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7640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59240" y="2779560"/>
            <a:ext cx="134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2719440" y="1763640"/>
            <a:ext cx="134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4067280" y="1709640"/>
            <a:ext cx="125280" cy="1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581200" y="1700280"/>
            <a:ext cx="127080" cy="11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76040" y="1793880"/>
            <a:ext cx="66060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H="1" flipV="1">
            <a:off x="2688840" y="1778040"/>
            <a:ext cx="654120" cy="92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3424320" y="1843200"/>
            <a:ext cx="684000" cy="90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4159080" y="1842840"/>
            <a:ext cx="649440" cy="871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4158720" y="1793880"/>
            <a:ext cx="11034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610160" y="1123920"/>
            <a:ext cx="6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496960" y="12016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03760" y="1201680"/>
            <a:ext cx="7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228760" y="262260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79800" y="216216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1267920" y="2738520"/>
            <a:ext cx="614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922400" y="223812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4840200" y="2852280"/>
            <a:ext cx="0" cy="42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994280" y="266076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652760" y="15858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85960" y="2084400"/>
            <a:ext cx="72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344680" y="220032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151080" y="2008080"/>
            <a:ext cx="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841920" y="216216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495680" y="1854360"/>
            <a:ext cx="53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073320" y="10857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9224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69064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38148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4972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879800" y="29289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92240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284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38292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51160" y="358308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46600" y="17780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686560" y="27766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992920" y="1778040"/>
            <a:ext cx="0" cy="998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30830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05120" y="30798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4974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02000" y="304164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530680" y="1969920"/>
            <a:ext cx="5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614600" y="243036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073320" y="243036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33840" y="2506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344680" y="1201680"/>
            <a:ext cx="61452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803760" y="1201680"/>
            <a:ext cx="614160" cy="922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4846680"/>
            <a:ext cx="16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649680" y="4805280"/>
            <a:ext cx="54943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 Y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1384200" y="4419720"/>
            <a:ext cx="2305080" cy="1766160"/>
            <a:chOff x="1384200" y="4419720"/>
            <a:chExt cx="2305080" cy="1766160"/>
          </a:xfrm>
        </p:grpSpPr>
        <p:grpSp>
          <p:nvGrpSpPr>
            <p:cNvPr id="1073" name=""/>
            <p:cNvGrpSpPr/>
            <p:nvPr/>
          </p:nvGrpSpPr>
          <p:grpSpPr>
            <a:xfrm>
              <a:off x="2152440" y="5153040"/>
              <a:ext cx="444240" cy="408960"/>
              <a:chOff x="2152440" y="5153040"/>
              <a:chExt cx="444240" cy="408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301120" y="5153040"/>
                <a:ext cx="9180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152440" y="539964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>
                <a:off x="2250000" y="524808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2349720" y="5247720"/>
                <a:ext cx="9972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52440" y="5408280"/>
                <a:ext cx="444240" cy="153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"/>
            <p:cNvSpPr/>
            <p:nvPr/>
          </p:nvSpPr>
          <p:spPr>
            <a:xfrm flipV="1">
              <a:off x="2344680" y="5266800"/>
              <a:ext cx="0" cy="65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692360" y="5191200"/>
              <a:ext cx="614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84280" y="553716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84200" y="44197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82840" y="51912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382840" y="46526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6920" y="4844880"/>
              <a:ext cx="383760" cy="69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035160" y="4422600"/>
              <a:ext cx="615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74760" y="5191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076480" y="453852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6605640" y="1469880"/>
            <a:ext cx="253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n45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=      =0.707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8039160" y="1355760"/>
          <a:ext cx="45072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9160" y="1355760"/>
                    <a:ext cx="4507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"/>
          <p:cNvGrpSpPr/>
          <p:nvPr/>
        </p:nvGrpSpPr>
        <p:grpSpPr>
          <a:xfrm>
            <a:off x="1192320" y="0"/>
            <a:ext cx="2381040" cy="1762920"/>
            <a:chOff x="1192320" y="0"/>
            <a:chExt cx="2381040" cy="1762920"/>
          </a:xfrm>
        </p:grpSpPr>
        <p:sp>
          <p:nvSpPr>
            <p:cNvPr id="1093" name=""/>
            <p:cNvSpPr/>
            <p:nvPr/>
          </p:nvSpPr>
          <p:spPr>
            <a:xfrm>
              <a:off x="2306520" y="998640"/>
              <a:ext cx="123840" cy="11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2100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421000" y="536040"/>
              <a:ext cx="57636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 flipV="1">
              <a:off x="1806120" y="460440"/>
              <a:ext cx="50004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1461960" y="107460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00120" y="11142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192320" y="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51040" y="107460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959200" y="2682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28760" y="1074600"/>
              <a:ext cx="38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0" y="549360"/>
            <a:ext cx="15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1760" y="739800"/>
            <a:ext cx="383040" cy="69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1884240" y="741240"/>
            <a:ext cx="383760" cy="69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227400" y="0"/>
            <a:ext cx="61070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0.707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2276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362124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0" y="4927680"/>
            <a:ext cx="19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vor I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1460520" y="1542960"/>
            <a:ext cx="1843200" cy="1801080"/>
            <a:chOff x="1460520" y="1542960"/>
            <a:chExt cx="1843200" cy="1801080"/>
          </a:xfrm>
        </p:grpSpPr>
        <p:sp>
          <p:nvSpPr>
            <p:cNvPr id="1111" name=""/>
            <p:cNvSpPr/>
            <p:nvPr/>
          </p:nvSpPr>
          <p:spPr>
            <a:xfrm>
              <a:off x="2575080" y="254124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074680" y="200268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1730520" y="261756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68320" y="26571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60520" y="15429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612880" y="1931760"/>
              <a:ext cx="49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2612880" y="2660040"/>
              <a:ext cx="0" cy="576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75080" y="2695320"/>
              <a:ext cx="728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2075040" y="2238120"/>
              <a:ext cx="383040" cy="69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"/>
          <p:cNvSpPr/>
          <p:nvPr/>
        </p:nvSpPr>
        <p:spPr>
          <a:xfrm>
            <a:off x="3305160" y="1623960"/>
            <a:ext cx="49546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1652760" y="3313080"/>
            <a:ext cx="1844640" cy="1263240"/>
            <a:chOff x="1652760" y="3313080"/>
            <a:chExt cx="1844640" cy="1263240"/>
          </a:xfrm>
        </p:grpSpPr>
        <p:sp>
          <p:nvSpPr>
            <p:cNvPr id="1122" name=""/>
            <p:cNvSpPr/>
            <p:nvPr/>
          </p:nvSpPr>
          <p:spPr>
            <a:xfrm>
              <a:off x="2536920" y="381636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51040" y="389268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1960200" y="3892680"/>
              <a:ext cx="57636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52760" y="354636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81440" y="3927600"/>
              <a:ext cx="614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344680" y="3892680"/>
              <a:ext cx="61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12880" y="3929760"/>
              <a:ext cx="50004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882880" y="331308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3265560" y="3044880"/>
            <a:ext cx="5570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+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344760" y="4503600"/>
            <a:ext cx="57992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: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F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0.707(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1654200" y="4503600"/>
            <a:ext cx="1727280" cy="1761480"/>
            <a:chOff x="1654200" y="4503600"/>
            <a:chExt cx="1727280" cy="1761480"/>
          </a:xfrm>
        </p:grpSpPr>
        <p:sp>
          <p:nvSpPr>
            <p:cNvPr id="1133" name=""/>
            <p:cNvSpPr/>
            <p:nvPr/>
          </p:nvSpPr>
          <p:spPr>
            <a:xfrm>
              <a:off x="2498760" y="5155920"/>
              <a:ext cx="123840" cy="119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12880" y="5232240"/>
              <a:ext cx="692280" cy="5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2612520" y="5194080"/>
              <a:ext cx="76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54200" y="5232240"/>
              <a:ext cx="84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60560" y="561636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806480" y="453852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51040" y="5540040"/>
              <a:ext cx="614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5232240"/>
              <a:ext cx="92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1922040" y="5271120"/>
              <a:ext cx="576360" cy="46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728800" y="450360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4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0" y="6078600"/>
            <a:ext cx="914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10 jed; 10nepoznatih: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7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95280" y="404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or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sve tri dimenzije. Primer: Temeljni nosa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465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427640" y="371772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427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149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19564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86728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27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95640" y="3213000"/>
            <a:ext cx="1439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35280" y="321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3789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24360" y="35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40360" y="3499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72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40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49236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92436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92360" y="3499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2781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140360" y="2491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49236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2436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4076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427640" y="4365360"/>
            <a:ext cx="1439640" cy="93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95640" y="530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4724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4221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32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0072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88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31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404640"/>
            <a:ext cx="8497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ovršin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jednu dimenziju mnogo manju u odnosu na ostale d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imeri: ploča i 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5280" y="2997000"/>
            <a:ext cx="3671640" cy="2303280"/>
            <a:chOff x="395280" y="2997000"/>
            <a:chExt cx="3671640" cy="2303280"/>
          </a:xfrm>
        </p:grpSpPr>
        <p:sp>
          <p:nvSpPr>
            <p:cNvPr id="252" name=""/>
            <p:cNvSpPr/>
            <p:nvPr/>
          </p:nvSpPr>
          <p:spPr>
            <a:xfrm flipV="1">
              <a:off x="2627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5280" y="3933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95280" y="3933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66920" y="299700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627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95280" y="2997000"/>
              <a:ext cx="143964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27280" y="479736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6920" y="3860640"/>
              <a:ext cx="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627280" y="4149720"/>
              <a:ext cx="1439640" cy="93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5280" y="508464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8920" y="450828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3280" y="400500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34920" y="2997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92720" y="2852640"/>
            <a:ext cx="3166920" cy="2447640"/>
            <a:chOff x="5292720" y="2852640"/>
            <a:chExt cx="3166920" cy="2447640"/>
          </a:xfrm>
        </p:grpSpPr>
        <p:sp>
          <p:nvSpPr>
            <p:cNvPr id="267" name=""/>
            <p:cNvSpPr/>
            <p:nvPr/>
          </p:nvSpPr>
          <p:spPr>
            <a:xfrm>
              <a:off x="5292720" y="371772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2720" y="285264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88000" y="4005000"/>
              <a:ext cx="1871640" cy="865080"/>
            </a:xfrm>
            <a:custGeom>
              <a:avLst/>
              <a:gdLst/>
              <a:ahLst/>
              <a:rect l="l" t="t" r="r" b="b"/>
              <a:pathLst>
                <a:path w="1179" h="545">
                  <a:moveTo>
                    <a:pt x="0" y="545"/>
                  </a:moveTo>
                  <a:cubicBezTo>
                    <a:pt x="173" y="386"/>
                    <a:pt x="347" y="227"/>
                    <a:pt x="544" y="136"/>
                  </a:cubicBezTo>
                  <a:cubicBezTo>
                    <a:pt x="741" y="45"/>
                    <a:pt x="960" y="22"/>
                    <a:pt x="117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64360" y="2852640"/>
              <a:ext cx="1295280" cy="1150920"/>
            </a:xfrm>
            <a:custGeom>
              <a:avLst/>
              <a:gdLst/>
              <a:ahLst/>
              <a:rect l="l" t="t" r="r" b="b"/>
              <a:pathLst>
                <a:path w="816" h="725">
                  <a:moveTo>
                    <a:pt x="0" y="0"/>
                  </a:moveTo>
                  <a:cubicBezTo>
                    <a:pt x="226" y="52"/>
                    <a:pt x="453" y="105"/>
                    <a:pt x="589" y="226"/>
                  </a:cubicBezTo>
                  <a:cubicBezTo>
                    <a:pt x="725" y="347"/>
                    <a:pt x="778" y="642"/>
                    <a:pt x="816" y="7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92720" y="3717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88000" y="4868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9640" y="4005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11280" y="55166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lo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445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Lju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1590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 ravanske nosače spadaju i ramovski nosači koji spadaju u grupu linijskih nosač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84480" y="550224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65560" y="5462640"/>
            <a:ext cx="7164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5740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2424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03680" y="6384960"/>
            <a:ext cx="345960" cy="263520"/>
            <a:chOff x="2803680" y="6384960"/>
            <a:chExt cx="345960" cy="263520"/>
          </a:xfrm>
        </p:grpSpPr>
        <p:sp>
          <p:nvSpPr>
            <p:cNvPr id="282" name=""/>
            <p:cNvSpPr/>
            <p:nvPr/>
          </p:nvSpPr>
          <p:spPr>
            <a:xfrm>
              <a:off x="291960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0368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0368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88000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295776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070520" y="6384960"/>
            <a:ext cx="345960" cy="263520"/>
            <a:chOff x="4070520" y="6384960"/>
            <a:chExt cx="345960" cy="263520"/>
          </a:xfrm>
        </p:grpSpPr>
        <p:sp>
          <p:nvSpPr>
            <p:cNvPr id="288" name=""/>
            <p:cNvSpPr/>
            <p:nvPr/>
          </p:nvSpPr>
          <p:spPr>
            <a:xfrm>
              <a:off x="4186440" y="6384960"/>
              <a:ext cx="71280" cy="71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70520" y="657072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70520" y="6648480"/>
              <a:ext cx="34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146840" y="645660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224600" y="6456240"/>
              <a:ext cx="777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07040" y="6384960"/>
            <a:ext cx="346320" cy="307440"/>
            <a:chOff x="6107040" y="6384960"/>
            <a:chExt cx="346320" cy="307440"/>
          </a:xfrm>
        </p:grpSpPr>
        <p:sp>
          <p:nvSpPr>
            <p:cNvPr id="294" name=""/>
            <p:cNvSpPr/>
            <p:nvPr/>
          </p:nvSpPr>
          <p:spPr>
            <a:xfrm>
              <a:off x="6222960" y="6384960"/>
              <a:ext cx="71640" cy="7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7040" y="6570360"/>
              <a:ext cx="34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618336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6261120" y="6456240"/>
              <a:ext cx="7776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07040" y="6576840"/>
              <a:ext cx="346320" cy="11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5146560" y="5502240"/>
            <a:ext cx="111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1120" y="5502240"/>
            <a:ext cx="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Linijsk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imaju dve dimenzije mnogo manje u odnosu n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eću dimenz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2608800">
            <a:off x="1082160" y="1009800"/>
            <a:ext cx="806760" cy="23526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63680" y="1123560"/>
            <a:ext cx="1995480" cy="2112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841920" y="1047600"/>
            <a:ext cx="3879720" cy="1960560"/>
            <a:chOff x="3841920" y="1047600"/>
            <a:chExt cx="3879720" cy="1960560"/>
          </a:xfrm>
        </p:grpSpPr>
        <p:sp>
          <p:nvSpPr>
            <p:cNvPr id="305" name=""/>
            <p:cNvSpPr/>
            <p:nvPr/>
          </p:nvSpPr>
          <p:spPr>
            <a:xfrm>
              <a:off x="4111560" y="216216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115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1560" y="300672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3384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8320" y="2278080"/>
              <a:ext cx="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49760" y="227808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156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8320" y="28922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1156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2040" y="216216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156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72040" y="28922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11156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072040" y="104760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072040" y="116352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64976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5072040" y="1777680"/>
              <a:ext cx="222732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5072040" y="1892160"/>
              <a:ext cx="222732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111560" y="2700000"/>
              <a:ext cx="42228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77080" y="177804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9360" y="177804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99360" y="104760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38880" y="1047600"/>
              <a:ext cx="9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77080" y="1393560"/>
              <a:ext cx="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1920" y="1087200"/>
              <a:ext cx="3879720" cy="18813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0" y="31608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reseci normalni na osu štapa su poprečni preseci. Osa štapa spaja težišta poprečnih prese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2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određeni i statički neodređ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2398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tatički određen no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kod koga je r=3 u ravni i r=6 u prostoru. Nosač je u ravnoteži (miruje) jer je n=r-3=0 za ravan, odnosno n=r-6=0 za prostor, pod uticajem spoljašnjih sila i veza, ali je isto tako u ravnoteži i pod uticajem aktivnih sila i reakcija veza, posle primene aksioma o oslobađ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-Nosač je statički određen, ako uslovi ravnoteže čine potpun sistem jednačina za određivanje reakcija veza nosač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6181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Statički neodređeni nosač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u nosači kod kojih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broj veza u ravni r&gt;3 a u prostoru r&gt;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3.Nosači mogu biti: 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prosti i slož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93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c0000"/>
                </a:solidFill>
                <a:uFillTx/>
                <a:latin typeface="Times New Roman"/>
              </a:rPr>
              <a:t>I) Prost nosač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je nosač sastavljen samo od jednog šta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manji broj veza u ravni je r=3 a u prostoru r=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61880" y="2354400"/>
            <a:ext cx="7692120" cy="4469400"/>
            <a:chOff x="461880" y="2354400"/>
            <a:chExt cx="7692120" cy="4469400"/>
          </a:xfrm>
        </p:grpSpPr>
        <p:sp>
          <p:nvSpPr>
            <p:cNvPr id="338" name=""/>
            <p:cNvSpPr/>
            <p:nvPr/>
          </p:nvSpPr>
          <p:spPr>
            <a:xfrm flipH="1">
              <a:off x="4609800" y="5925960"/>
              <a:ext cx="57636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40240" y="5618160"/>
              <a:ext cx="460440" cy="11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61880" y="2391840"/>
              <a:ext cx="2391480" cy="2356560"/>
              <a:chOff x="461880" y="2391840"/>
              <a:chExt cx="2391480" cy="2356560"/>
            </a:xfrm>
          </p:grpSpPr>
          <p:sp>
            <p:nvSpPr>
              <p:cNvPr id="341" name=""/>
              <p:cNvSpPr/>
              <p:nvPr/>
            </p:nvSpPr>
            <p:spPr>
              <a:xfrm flipH="1" rot="868800">
                <a:off x="774360" y="2999520"/>
                <a:ext cx="1917000" cy="153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1880" y="3774960"/>
                <a:ext cx="199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61880" y="23918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5040" y="33526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77800" y="2392200"/>
                <a:ext cx="30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038240" y="24303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 flipH="1" rot="868800">
              <a:off x="3502080" y="29214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89240" y="377496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189240" y="2391840"/>
              <a:ext cx="0" cy="13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2040" y="3352680"/>
              <a:ext cx="3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05160" y="23922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5600" y="2430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868800">
              <a:off x="6075360" y="28836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2520" y="3736800"/>
              <a:ext cx="19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762520" y="235440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75680" y="331488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78440" y="235440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38880" y="239220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5954760" y="3390840"/>
              <a:ext cx="345960" cy="308160"/>
              <a:chOff x="5954760" y="3390840"/>
              <a:chExt cx="345960" cy="308160"/>
            </a:xfrm>
          </p:grpSpPr>
          <p:sp>
            <p:nvSpPr>
              <p:cNvPr id="360" name=""/>
              <p:cNvSpPr/>
              <p:nvPr/>
            </p:nvSpPr>
            <p:spPr>
              <a:xfrm>
                <a:off x="6070320" y="33908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954760" y="35766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6030360" y="34624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6108120" y="34621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954760" y="3583080"/>
                <a:ext cx="345960" cy="115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381480" y="3429000"/>
              <a:ext cx="345960" cy="307440"/>
              <a:chOff x="3381480" y="3429000"/>
              <a:chExt cx="345960" cy="307440"/>
            </a:xfrm>
          </p:grpSpPr>
          <p:sp>
            <p:nvSpPr>
              <p:cNvPr id="366" name=""/>
              <p:cNvSpPr/>
              <p:nvPr/>
            </p:nvSpPr>
            <p:spPr>
              <a:xfrm>
                <a:off x="3497040" y="3429000"/>
                <a:ext cx="71280" cy="71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381480" y="3614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345708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3534840" y="3500280"/>
                <a:ext cx="77400" cy="1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81480" y="3620880"/>
                <a:ext cx="345960" cy="11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67520" y="2852640"/>
              <a:ext cx="345960" cy="263520"/>
              <a:chOff x="7067520" y="2852640"/>
              <a:chExt cx="345960" cy="263520"/>
            </a:xfrm>
          </p:grpSpPr>
          <p:sp>
            <p:nvSpPr>
              <p:cNvPr id="372" name=""/>
              <p:cNvSpPr/>
              <p:nvPr/>
            </p:nvSpPr>
            <p:spPr>
              <a:xfrm>
                <a:off x="7183080" y="2852640"/>
                <a:ext cx="71280" cy="71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67520" y="303840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67520" y="3116160"/>
                <a:ext cx="34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7143120" y="292428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7220880" y="2923920"/>
                <a:ext cx="7740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961920" y="4503240"/>
              <a:ext cx="3044880" cy="2282040"/>
              <a:chOff x="961920" y="4503240"/>
              <a:chExt cx="3044880" cy="2282040"/>
            </a:xfrm>
          </p:grpSpPr>
          <p:sp>
            <p:nvSpPr>
              <p:cNvPr id="378" name=""/>
              <p:cNvSpPr/>
              <p:nvPr/>
            </p:nvSpPr>
            <p:spPr>
              <a:xfrm flipH="1" rot="868800">
                <a:off x="1927440" y="5034600"/>
                <a:ext cx="1917720" cy="153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1368" y="15"/>
                    </a:moveTo>
                    <a:arcTo wR="10800" hR="10800" stAng="-5219233" swAng="521923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1368" y="15"/>
                    </a:moveTo>
                    <a:arcTo wR="10800" hR="10800" stAng="-5219233" swAng="521923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614600" y="5886360"/>
                <a:ext cx="19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1614600" y="4503240"/>
                <a:ext cx="0" cy="138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27400" y="5464080"/>
                <a:ext cx="38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730520" y="4503600"/>
                <a:ext cx="30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90600" y="4541760"/>
                <a:ext cx="13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n=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037880" y="5886360"/>
                <a:ext cx="57636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61920" y="5694480"/>
                <a:ext cx="26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806480" y="5541840"/>
                <a:ext cx="346320" cy="308160"/>
                <a:chOff x="1806480" y="5541840"/>
                <a:chExt cx="346320" cy="308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922400" y="5541840"/>
                  <a:ext cx="71640" cy="71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806480" y="5727600"/>
                  <a:ext cx="34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1882800" y="561348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1960560" y="5613120"/>
                  <a:ext cx="77760" cy="11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806480" y="5734080"/>
                  <a:ext cx="346320" cy="1159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"/>
            <p:cNvSpPr/>
            <p:nvPr/>
          </p:nvSpPr>
          <p:spPr>
            <a:xfrm flipH="1" rot="868800">
              <a:off x="5499000" y="5074200"/>
              <a:ext cx="1917000" cy="153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68" y="15"/>
                  </a:moveTo>
                  <a:arcTo wR="10800" hR="10800" stAng="-5219233" swAng="52192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68" y="15"/>
                  </a:moveTo>
                  <a:arcTo wR="10800" hR="10800" stAng="-5219233" swAng="52192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86520" y="5925960"/>
              <a:ext cx="19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186520" y="4543560"/>
              <a:ext cx="0" cy="13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99320" y="550404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02080" y="4543560"/>
              <a:ext cx="3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2520" y="4581360"/>
              <a:ext cx="13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n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33840" y="5734080"/>
              <a:ext cx="2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40240" y="561816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cc0000"/>
                </a:solidFill>
                <a:uFillTx/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2584440"/>
            <a:ext cx="99864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46040" y="37749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152000" y="2776680"/>
            <a:ext cx="39960" cy="1496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18921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47760" y="1009440"/>
            <a:ext cx="8594640" cy="3144600"/>
            <a:chOff x="347760" y="1009440"/>
            <a:chExt cx="8594640" cy="3144600"/>
          </a:xfrm>
        </p:grpSpPr>
        <p:sp>
          <p:nvSpPr>
            <p:cNvPr id="406" name=""/>
            <p:cNvSpPr/>
            <p:nvPr/>
          </p:nvSpPr>
          <p:spPr>
            <a:xfrm flipH="1" flipV="1">
              <a:off x="1139760" y="10094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557560" y="187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9560" y="1081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1139760" y="2449440"/>
            <a:ext cx="6912000" cy="339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9760" y="2449440"/>
                      <a:ext cx="691200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347760" y="2449440"/>
              <a:ext cx="1584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7188120" y="2449440"/>
              <a:ext cx="156204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270080" y="1816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93200" y="1873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648680" y="1267560"/>
              <a:ext cx="1834920" cy="1285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5105520" y="1297080"/>
              <a:ext cx="511560" cy="648720"/>
              <a:chOff x="5105520" y="1297080"/>
              <a:chExt cx="511560" cy="648720"/>
            </a:xfrm>
          </p:grpSpPr>
          <p:sp>
            <p:nvSpPr>
              <p:cNvPr id="417" name=""/>
              <p:cNvSpPr/>
              <p:nvPr/>
            </p:nvSpPr>
            <p:spPr>
              <a:xfrm>
                <a:off x="5105520" y="1297080"/>
                <a:ext cx="511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317920" y="13698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8067600" y="2546280"/>
              <a:ext cx="844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8028000" y="2776320"/>
              <a:ext cx="39600" cy="1266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68960" y="3505320"/>
              <a:ext cx="84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00"/>
                  </a:solidFill>
                  <a:latin typeface="Times New Roman"/>
                </a:rPr>
                <a:t>Y</a:t>
              </a:r>
              <a:r>
                <a:rPr b="1" lang="sr-Latn-CS" sz="3200" spc="-1" strike="noStrike" baseline="-25000">
                  <a:solidFill>
                    <a:srgbClr val="cc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9600" y="5003640"/>
            <a:ext cx="806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r=3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→ n=3-r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86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Greda sa prepustima (statički određen nosač)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2000" y="222084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87920" y="2166840"/>
            <a:ext cx="76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37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60560" y="1892160"/>
            <a:ext cx="0" cy="80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61120" y="185436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913520" y="18162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1946160" y="756720"/>
            <a:ext cx="5040" cy="1049400"/>
          </a:xfrm>
          <a:prstGeom prst="line">
            <a:avLst/>
          </a:prstGeom>
          <a:ln w="57240">
            <a:solidFill>
              <a:srgbClr val="ff99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435520" y="1281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74720" y="800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38280" y="1668600"/>
          <a:ext cx="7451640" cy="1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668600"/>
                    <a:ext cx="745164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1444680" y="1779480"/>
            <a:ext cx="1003320" cy="506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5784840" y="1779480"/>
            <a:ext cx="988920" cy="5065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2030400" y="124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5628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4172040" y="915480"/>
            <a:ext cx="1158120" cy="77580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309200" y="741240"/>
            <a:ext cx="511560" cy="648720"/>
            <a:chOff x="4309200" y="741240"/>
            <a:chExt cx="511560" cy="648720"/>
          </a:xfrm>
        </p:grpSpPr>
        <p:sp>
          <p:nvSpPr>
            <p:cNvPr id="441" name=""/>
            <p:cNvSpPr/>
            <p:nvPr/>
          </p:nvSpPr>
          <p:spPr>
            <a:xfrm>
              <a:off x="4309200" y="74124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41680" y="78516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977240" y="1779480"/>
            <a:ext cx="5349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16040" y="260820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2880" y="2608200"/>
            <a:ext cx="430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46720" y="260820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937200" y="2138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942600" y="838440"/>
            <a:ext cx="971640" cy="880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7441200" y="757080"/>
            <a:ext cx="511560" cy="648720"/>
            <a:chOff x="7441200" y="757080"/>
            <a:chExt cx="511560" cy="648720"/>
          </a:xfrm>
        </p:grpSpPr>
        <p:sp>
          <p:nvSpPr>
            <p:cNvPr id="450" name=""/>
            <p:cNvSpPr/>
            <p:nvPr/>
          </p:nvSpPr>
          <p:spPr>
            <a:xfrm>
              <a:off x="7441200" y="7570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3680" y="801000"/>
              <a:ext cx="136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2" name=""/>
          <p:cNvGraphicFramePr/>
          <p:nvPr/>
        </p:nvGraphicFramePr>
        <p:xfrm>
          <a:off x="996840" y="4849920"/>
          <a:ext cx="7452000" cy="2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4849920"/>
                    <a:ext cx="745200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574560" y="5003640"/>
            <a:ext cx="1003320" cy="703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1437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768240" y="4389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51000" y="4311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74600" y="6156360"/>
            <a:ext cx="1266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41440" y="6156360"/>
            <a:ext cx="430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5640" y="615636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20920" y="5618160"/>
            <a:ext cx="4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6480" y="5541840"/>
            <a:ext cx="7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96120" y="55022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03640" y="558000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746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4380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94760" y="5541840"/>
            <a:ext cx="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1803240" y="5041800"/>
            <a:ext cx="989280" cy="703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7756560" y="5003640"/>
            <a:ext cx="988920" cy="7034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8065800" y="4427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413400" y="4351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074240" y="5079960"/>
            <a:ext cx="1800" cy="998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03640" y="5041800"/>
            <a:ext cx="0" cy="884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643800" y="5157720"/>
            <a:ext cx="0" cy="882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294760" y="5157720"/>
            <a:ext cx="0" cy="92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1840" y="4927680"/>
            <a:ext cx="844560" cy="0"/>
          </a:xfrm>
          <a:prstGeom prst="line">
            <a:avLst/>
          </a:prstGeom>
          <a:ln w="63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Kontinualan nosač (statički neodređe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427356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31840" y="550224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728800" y="538812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3248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99440" y="5580000"/>
            <a:ext cx="844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429000"/>
            <a:ext cx="87962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=5 (X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n=3-5=-2, Dakle 2 puta statički neodređen nosa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14T08:52:12Z</dcterms:modified>
  <cp:revision>520</cp:revision>
  <dc:subject/>
  <dc:title>Slide 1</dc:title>
</cp:coreProperties>
</file>