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2C69-952D-40C2-8426-ECBD9BF9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B4AB-DE90-496C-8CEA-08D77F44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62FB-CC05-4D23-8F6C-5109A07D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3391-2B7B-4225-8AF0-F34752A2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D639-58FB-4E47-B54D-5E55C6ED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A7E6-7334-467D-AB08-EEC718DA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6E33-F8BF-4182-B47E-936ED08C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AE3D-BCCF-4D63-AE8C-FE998513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9638-F62A-4600-8B6C-6CDD4332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2675-D46C-446E-B2D5-708689F3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241E-011B-4642-8A46-7DC0FE43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A602-93AC-46B7-AE69-DCCEC188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5751-8D1D-488A-8005-CC0E5F71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8040-01DA-49D2-961F-7E17C72A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9CE5-1A14-4808-9536-AFB76DE2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415E-7302-4554-8C69-765D6B44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E37E-859A-4266-ABAD-D5E424DB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484B-F29B-491F-B39A-6D939CAA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2FC-2FB7-460A-A68E-7C71E222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BE1A-E80F-46EC-BBCE-F05D1481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B600-7CDB-48F1-AF3E-EBBBB1BC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D243-A275-4B14-B001-629BE1AE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F23-CDFF-4BE3-AF46-61B9B00D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8CD2-8162-47B6-901E-66D48168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A1E1-D828-457E-8BC0-2340EAFBC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2E10-C20A-463E-B14A-2D058CEDF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prof. dr Dragoslav Šumarac</a:t>
            </a:r>
            <a:br>
              <a:rPr sz="4400"/>
            </a:b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Građevinski fakultet, </a:t>
            </a:r>
            <a:br>
              <a:rPr sz="4000"/>
            </a:b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Beograd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55640" y="549360"/>
            <a:ext cx="77770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DINAM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KLASIČ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NJUTNOVSKE)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H OBJEKAT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UZIMAJUĆI U OBZ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JIHOVU MATERIJAL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(INERCIJALNE EFEKTE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AO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I UZROK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JI USLOVLJAVA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 KRETANJA (SI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16000" y="1125360"/>
            <a:ext cx="75596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TAT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(GEOMETRIJA SI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MIROV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ATERIJALNIH TEL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SU IZLOŽENA DEJST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ILA (DRUGIH TEL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68360" y="1557360"/>
            <a:ext cx="8353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ZVOJ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STATIKE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POČINJE S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ARHIMED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287-212 p.n.e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DINAMIKE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GALILEJE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1564-1642. 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NJUTN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1642-1721. 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24000" y="1341360"/>
            <a:ext cx="835344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OSNOVU MEHANIKE Č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KSIOMI MEHANI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ISAK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NJUTN (NEWT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Philosphie Naturalis Principia Matemat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Axiomata Sive Leges Mo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5280" y="260280"/>
            <a:ext cx="835344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1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telo ostaje u stanju mirovanja ili jednolikog pravolinijskog kretanja, sve dok pod uticajem sile ne bude prinuđeno da to stanje prome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ukazuje n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egzistenciju sile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 i defini</a:t>
            </a: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š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e silu</a:t>
            </a: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280" y="260280"/>
            <a:ext cx="83534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Promena količine kretanja materijalne tačke (tela) proporcionalna je sili koja dejstvuje na tu materijalnu tačku (telo) i vrši su u pravcu i smeru delovanja s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(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je poznat kao II Njutnov zakon)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95280" y="333360"/>
            <a:ext cx="83534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Uzajamni mehanički uticaji dvaju tela ispoljavaju se silama koje su jednakog pravca i intenziteta, a deluju u suprotnim smerovim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Kr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će: Akciji uvek odgovara jednaka po intenzitetu i pravcu a suprotna po smeru reakcij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74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(Zakon nezavisnosti dejstv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(dopuna uz A2)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Pri istovremenom dejstvu dve sile na telo, ono opisuje dijagonalu paralelograma za isto vreme, za koje opiše njegove stranice, pri dejstvu svake sile posebn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ukazuje n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vektorsku prirodu sile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250920" y="1197000"/>
            <a:ext cx="8353440" cy="2775240"/>
            <a:chOff x="250920" y="1197000"/>
            <a:chExt cx="8353440" cy="2775240"/>
          </a:xfrm>
        </p:grpSpPr>
        <p:sp>
          <p:nvSpPr>
            <p:cNvPr id="249" name=""/>
            <p:cNvSpPr/>
            <p:nvPr/>
          </p:nvSpPr>
          <p:spPr>
            <a:xfrm>
              <a:off x="250920" y="1197000"/>
              <a:ext cx="835344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800" spc="-1" strike="noStrike">
                  <a:solidFill>
                    <a:srgbClr val="ff0000"/>
                  </a:solidFill>
                  <a:latin typeface="Times New Roman"/>
                </a:rPr>
                <a:t>A1: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stanje mirovanja      stanju jednolikog pravolinijskog kretanj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435640" y="2997360"/>
              <a:ext cx="433440" cy="144360"/>
              <a:chOff x="5435640" y="2997360"/>
              <a:chExt cx="433440" cy="144360"/>
            </a:xfrm>
          </p:grpSpPr>
          <p:sp>
            <p:nvSpPr>
              <p:cNvPr id="251" name=""/>
              <p:cNvSpPr/>
              <p:nvPr/>
            </p:nvSpPr>
            <p:spPr>
              <a:xfrm>
                <a:off x="5435640" y="299736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35640" y="307044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435640" y="314172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260280"/>
            <a:ext cx="8353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059280" y="1844640"/>
                <a:ext cx="309528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826920" y="4076640"/>
                <a:ext cx="73090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50920" y="1341360"/>
            <a:ext cx="860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DR NATALIJA NAERLOVIĆ-VELJKOVIĆ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MEHANIKA I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NAUČNA KNJIGA, 19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GRUPA AUTORA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ZBIRKA ZADATAK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ISPITA IZ MEHANIK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4581360"/>
            <a:ext cx="813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OKOM SEMESTRA STUDENTI 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BAVEZNI DA  POLAŽ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 KOLOKV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PREDROK, 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 ISP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0120" y="907920"/>
            <a:ext cx="545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b39257"/>
                </a:solidFill>
                <a:uFillTx/>
                <a:latin typeface="Times New Roman"/>
              </a:rPr>
              <a:t>UVODNE NAPOM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421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 preda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95280" y="260280"/>
            <a:ext cx="8353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95640" y="1484280"/>
            <a:ext cx="2449440" cy="1295280"/>
          </a:xfrm>
          <a:prstGeom prst="rect">
            <a:avLst/>
          </a:prstGeom>
          <a:solidFill>
            <a:srgbClr val="808080"/>
          </a:solidFill>
          <a:ln w="15840">
            <a:solidFill>
              <a:srgbClr val="b1a8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2781360"/>
            <a:ext cx="4103640" cy="1152360"/>
          </a:xfrm>
          <a:prstGeom prst="rect">
            <a:avLst/>
          </a:prstGeom>
          <a:solidFill>
            <a:srgbClr val="b39257"/>
          </a:solidFill>
          <a:ln w="158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40360" y="1700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28720" y="292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4920" y="177336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274920" y="278136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348000" y="1773360"/>
                <a:ext cx="6494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276720" y="2924280"/>
                <a:ext cx="10810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6012000" y="2708280"/>
            <a:ext cx="2160000" cy="2736360"/>
            <a:chOff x="6012000" y="2708280"/>
            <a:chExt cx="2160000" cy="2736360"/>
          </a:xfrm>
        </p:grpSpPr>
        <p:sp>
          <p:nvSpPr>
            <p:cNvPr id="267" name=""/>
            <p:cNvSpPr/>
            <p:nvPr/>
          </p:nvSpPr>
          <p:spPr>
            <a:xfrm>
              <a:off x="7963200" y="2708280"/>
              <a:ext cx="208800" cy="2661480"/>
            </a:xfrm>
            <a:prstGeom prst="rect">
              <a:avLst/>
            </a:prstGeom>
            <a:solidFill>
              <a:srgbClr val="b39257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12000" y="5148000"/>
              <a:ext cx="2158560" cy="296640"/>
            </a:xfrm>
            <a:prstGeom prst="rect">
              <a:avLst/>
            </a:prstGeom>
            <a:solidFill>
              <a:srgbClr val="b39257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 flipH="1" rot="18147000">
            <a:off x="6068520" y="4028400"/>
            <a:ext cx="2378520" cy="141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659640" y="414972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659640" y="515772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20000" y="3141720"/>
            <a:ext cx="93672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956720" y="3141720"/>
            <a:ext cx="9712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724360" y="3860640"/>
                <a:ext cx="7383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292720" y="5516640"/>
                <a:ext cx="1247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877080" y="2133720"/>
                <a:ext cx="85104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8101080" y="2133720"/>
                <a:ext cx="13618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76720" y="333360"/>
            <a:ext cx="16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413080" y="1628640"/>
                <a:ext cx="649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765440" y="3355920"/>
                <a:ext cx="7380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57080" y="1484280"/>
                <a:ext cx="85104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 flipV="1">
            <a:off x="684360" y="1484280"/>
            <a:ext cx="1439640" cy="187344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4360" y="3357720"/>
            <a:ext cx="28080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84360" y="1484280"/>
            <a:ext cx="4248000" cy="187344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492360" y="1484280"/>
            <a:ext cx="1440000" cy="1873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24000" y="1484280"/>
            <a:ext cx="280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932360" y="2133720"/>
            <a:ext cx="3960720" cy="2447640"/>
            <a:chOff x="4932360" y="2133720"/>
            <a:chExt cx="3960720" cy="2447640"/>
          </a:xfrm>
        </p:grpSpPr>
        <p:sp>
          <p:nvSpPr>
            <p:cNvPr id="288" name=""/>
            <p:cNvSpPr/>
            <p:nvPr/>
          </p:nvSpPr>
          <p:spPr>
            <a:xfrm>
              <a:off x="5219640" y="2709720"/>
              <a:ext cx="338436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932360" y="2854080"/>
                  <a:ext cx="3960720" cy="127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 flipH="1">
              <a:off x="5363640" y="4581360"/>
              <a:ext cx="309564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50560" y="2133720"/>
              <a:ext cx="229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slaganje si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49840" y="3933720"/>
              <a:ext cx="268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razlaganje si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39640" y="4653000"/>
                <a:ext cx="7383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68360" y="5589720"/>
                <a:ext cx="85248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003640" y="5084640"/>
                <a:ext cx="9223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26920" y="4869000"/>
                <a:ext cx="1295640" cy="19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2102760" y="5438880"/>
            <a:ext cx="29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mponent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66200" y="1052640"/>
            <a:ext cx="7735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 mehanici se koriste sledeć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osnovne jedinice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za merenj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osnovnih fizičkih veličina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dužina     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metar /m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vreme       </a:t>
            </a: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sekund /s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masa         </a:t>
            </a: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kilogram /kg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42520" y="549360"/>
            <a:ext cx="8308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 aksiomima mehanike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sila s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definiše kao vektorska veličina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koja je uzrok kretanju tel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Osnovna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jedinica za silu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I- sistemu je izvedena 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naziva se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njutn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/N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700360" y="5013360"/>
                <a:ext cx="338436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12360" y="981000"/>
            <a:ext cx="8003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Izvedene množine i delov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njutna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koji se najčešće koris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u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95280" y="3789360"/>
                <a:ext cx="8353440" cy="16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μ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26520" y="620640"/>
            <a:ext cx="834156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Težina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1 kg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mase na Zemljinoj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površini iznosi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9,80665 N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zimajući za ubrzanj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Zemljine teže veliči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000099"/>
                </a:solidFill>
                <a:latin typeface="Times New Roman"/>
              </a:rPr>
              <a:t>g= 9,80665 /s</a:t>
            </a:r>
            <a:r>
              <a:rPr b="1" lang="sr-Latn-CS" sz="6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765800" y="1268280"/>
            <a:ext cx="4694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ila može biti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koncentrisa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linij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površ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zaprem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71640" y="47628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koncentrisana si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0800" y="1628640"/>
            <a:ext cx="757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Koncentrisana sila predstavlja mehanič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uticaj između dva mehanička objekta ko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imaju dodir samo u jednoj tač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42840" y="41511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54920" y="4149720"/>
            <a:ext cx="27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lin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78200" y="5589720"/>
            <a:ext cx="27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tač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39640" y="3429000"/>
            <a:ext cx="345600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80000" y="3645000"/>
            <a:ext cx="57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27280" y="4653000"/>
            <a:ext cx="115272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56000" y="4581360"/>
            <a:ext cx="79200" cy="79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555640" y="3860640"/>
            <a:ext cx="93492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66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400" spc="-1" strike="noStrike">
                <a:solidFill>
                  <a:srgbClr val="009900"/>
                </a:solidFill>
                <a:latin typeface="Arial"/>
              </a:rPr>
              <a:t>linij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Ako je dodir dva tela ostvaren po lin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koristi se termin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linijska s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24000" y="4437000"/>
            <a:ext cx="4824360" cy="2016000"/>
            <a:chOff x="324000" y="4437000"/>
            <a:chExt cx="4824360" cy="2016000"/>
          </a:xfrm>
        </p:grpSpPr>
        <p:grpSp>
          <p:nvGrpSpPr>
            <p:cNvPr id="317" name=""/>
            <p:cNvGrpSpPr/>
            <p:nvPr/>
          </p:nvGrpSpPr>
          <p:grpSpPr>
            <a:xfrm>
              <a:off x="324000" y="4437000"/>
              <a:ext cx="4824360" cy="2016000"/>
              <a:chOff x="324000" y="4437000"/>
              <a:chExt cx="4824360" cy="2016000"/>
            </a:xfrm>
          </p:grpSpPr>
          <p:sp>
            <p:nvSpPr>
              <p:cNvPr id="318" name=""/>
              <p:cNvSpPr/>
              <p:nvPr/>
            </p:nvSpPr>
            <p:spPr>
              <a:xfrm>
                <a:off x="324000" y="596916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4000" y="645300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600560" y="443700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324000" y="443700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3871440" y="443700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3871440" y="492048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24000" y="596916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71440" y="596916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148360" y="443700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851040" y="4653000"/>
              <a:ext cx="3507840" cy="647640"/>
              <a:chOff x="851040" y="4653000"/>
              <a:chExt cx="3507840" cy="647640"/>
            </a:xfrm>
          </p:grpSpPr>
          <p:sp>
            <p:nvSpPr>
              <p:cNvPr id="328" name=""/>
              <p:cNvSpPr/>
              <p:nvPr/>
            </p:nvSpPr>
            <p:spPr>
              <a:xfrm>
                <a:off x="898560" y="5300640"/>
                <a:ext cx="3456000" cy="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81640" y="4726440"/>
                <a:ext cx="33840" cy="57384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110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674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7946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0232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518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4804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726280" y="4726440"/>
                <a:ext cx="33840" cy="57384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548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834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4120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639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8678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0964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250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51040" y="4653000"/>
                <a:ext cx="3497400" cy="88920"/>
              </a:xfrm>
              <a:custGeom>
                <a:avLst/>
                <a:gdLst/>
                <a:ahLst/>
                <a:rect l="l" t="t" r="r" b="b"/>
                <a:pathLst>
                  <a:path w="2203" h="83">
                    <a:moveTo>
                      <a:pt x="0" y="83"/>
                    </a:moveTo>
                    <a:cubicBezTo>
                      <a:pt x="68" y="60"/>
                      <a:pt x="58" y="60"/>
                      <a:pt x="128" y="83"/>
                    </a:cubicBezTo>
                    <a:cubicBezTo>
                      <a:pt x="173" y="78"/>
                      <a:pt x="231" y="77"/>
                      <a:pt x="274" y="55"/>
                    </a:cubicBezTo>
                    <a:cubicBezTo>
                      <a:pt x="342" y="21"/>
                      <a:pt x="261" y="50"/>
                      <a:pt x="329" y="28"/>
                    </a:cubicBezTo>
                    <a:cubicBezTo>
                      <a:pt x="416" y="39"/>
                      <a:pt x="498" y="33"/>
                      <a:pt x="585" y="19"/>
                    </a:cubicBezTo>
                    <a:cubicBezTo>
                      <a:pt x="655" y="29"/>
                      <a:pt x="717" y="27"/>
                      <a:pt x="786" y="10"/>
                    </a:cubicBezTo>
                    <a:cubicBezTo>
                      <a:pt x="862" y="28"/>
                      <a:pt x="861" y="27"/>
                      <a:pt x="960" y="19"/>
                    </a:cubicBezTo>
                    <a:cubicBezTo>
                      <a:pt x="1045" y="28"/>
                      <a:pt x="1067" y="37"/>
                      <a:pt x="1152" y="28"/>
                    </a:cubicBezTo>
                    <a:cubicBezTo>
                      <a:pt x="1225" y="10"/>
                      <a:pt x="1301" y="26"/>
                      <a:pt x="1371" y="0"/>
                    </a:cubicBezTo>
                    <a:cubicBezTo>
                      <a:pt x="1506" y="36"/>
                      <a:pt x="1489" y="21"/>
                      <a:pt x="1719" y="28"/>
                    </a:cubicBezTo>
                    <a:cubicBezTo>
                      <a:pt x="1803" y="49"/>
                      <a:pt x="1702" y="28"/>
                      <a:pt x="1856" y="28"/>
                    </a:cubicBezTo>
                    <a:cubicBezTo>
                      <a:pt x="1903" y="28"/>
                      <a:pt x="1940" y="51"/>
                      <a:pt x="1984" y="55"/>
                    </a:cubicBezTo>
                    <a:cubicBezTo>
                      <a:pt x="2099" y="64"/>
                      <a:pt x="2124" y="64"/>
                      <a:pt x="2203" y="64"/>
                    </a:cubicBezTo>
                  </a:path>
                </a:pathLst>
              </a:custGeom>
              <a:noFill/>
              <a:ln w="414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26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3924360" y="2205000"/>
            <a:ext cx="4824360" cy="2015640"/>
            <a:chOff x="3924360" y="2205000"/>
            <a:chExt cx="4824360" cy="2015640"/>
          </a:xfrm>
        </p:grpSpPr>
        <p:sp>
          <p:nvSpPr>
            <p:cNvPr id="347" name=""/>
            <p:cNvSpPr/>
            <p:nvPr/>
          </p:nvSpPr>
          <p:spPr>
            <a:xfrm>
              <a:off x="3924360" y="3737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24360" y="422064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00920" y="2205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92436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747180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471800" y="2688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92436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7180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748720" y="2205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211640" y="2421000"/>
            <a:ext cx="3745080" cy="647640"/>
            <a:chOff x="4211640" y="2421000"/>
            <a:chExt cx="3745080" cy="647640"/>
          </a:xfrm>
        </p:grpSpPr>
        <p:sp>
          <p:nvSpPr>
            <p:cNvPr id="357" name=""/>
            <p:cNvSpPr/>
            <p:nvPr/>
          </p:nvSpPr>
          <p:spPr>
            <a:xfrm>
              <a:off x="4211640" y="2421000"/>
              <a:ext cx="431640" cy="6476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27640" y="2421000"/>
              <a:ext cx="3529080" cy="6476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7740720" y="2421000"/>
            <a:ext cx="431640" cy="647640"/>
          </a:xfrm>
          <a:prstGeom prst="ellipse">
            <a:avLst/>
          </a:prstGeom>
          <a:solidFill>
            <a:srgbClr val="e6e3a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66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površinsk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Ako je dodir dva tela ostvaren po površ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koristi se termin</a:t>
            </a:r>
            <a:r>
              <a:rPr b="1" lang="sr-Latn-C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površinska s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324000" y="4437000"/>
            <a:ext cx="4824360" cy="2016000"/>
            <a:chOff x="324000" y="4437000"/>
            <a:chExt cx="4824360" cy="2016000"/>
          </a:xfrm>
        </p:grpSpPr>
        <p:sp>
          <p:nvSpPr>
            <p:cNvPr id="362" name=""/>
            <p:cNvSpPr/>
            <p:nvPr/>
          </p:nvSpPr>
          <p:spPr>
            <a:xfrm>
              <a:off x="324000" y="5969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4000" y="6453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560" y="4437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24000" y="4437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871440" y="4437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871440" y="4920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000" y="5969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71440" y="5969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48360" y="4437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148360" y="2421000"/>
            <a:ext cx="2519280" cy="1079280"/>
            <a:chOff x="5148360" y="2421000"/>
            <a:chExt cx="2519280" cy="1079280"/>
          </a:xfrm>
        </p:grpSpPr>
        <p:sp>
          <p:nvSpPr>
            <p:cNvPr id="372" name=""/>
            <p:cNvSpPr/>
            <p:nvPr/>
          </p:nvSpPr>
          <p:spPr>
            <a:xfrm>
              <a:off x="5148360" y="324108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48360" y="350028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15080" y="242100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5148360" y="242100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000920" y="242100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000920" y="267984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48360" y="324108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00920" y="324108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67640" y="242100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258920" y="4221000"/>
            <a:ext cx="2809800" cy="1440000"/>
            <a:chOff x="1258920" y="4221000"/>
            <a:chExt cx="2809800" cy="1440000"/>
          </a:xfrm>
        </p:grpSpPr>
        <p:sp>
          <p:nvSpPr>
            <p:cNvPr id="382" name=""/>
            <p:cNvSpPr/>
            <p:nvPr/>
          </p:nvSpPr>
          <p:spPr>
            <a:xfrm>
              <a:off x="1298520" y="566100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81600" y="50868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1836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296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2792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58920" y="5013360"/>
              <a:ext cx="2160720" cy="7128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2632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1258920" y="429264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87600" y="522936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70680" y="46548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0708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18204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1700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47640" y="4581360"/>
              <a:ext cx="2160720" cy="7164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1504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874880" y="486900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57960" y="429444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9436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6932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0428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35280" y="4221000"/>
              <a:ext cx="2160360" cy="7164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0232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33200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83528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183528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2340000" y="429264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91636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341964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340000" y="486900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91636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3492360" y="486900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140360" y="2205000"/>
            <a:ext cx="4824360" cy="2015640"/>
            <a:chOff x="4140360" y="2205000"/>
            <a:chExt cx="4824360" cy="2015640"/>
          </a:xfrm>
        </p:grpSpPr>
        <p:sp>
          <p:nvSpPr>
            <p:cNvPr id="414" name=""/>
            <p:cNvSpPr/>
            <p:nvPr/>
          </p:nvSpPr>
          <p:spPr>
            <a:xfrm>
              <a:off x="4140360" y="3737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40360" y="422064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6920" y="2205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414036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768780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687800" y="2688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4036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8780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964720" y="2205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MEHANIKA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JE NAUKA KOJA SE BAVI PROUČAVANJEM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99"/>
                </a:solidFill>
                <a:latin typeface="Times New Roman"/>
              </a:rPr>
              <a:t>KRETANJA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POJAM KRETANJA UKLJUČUJE I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99"/>
                </a:solidFill>
                <a:latin typeface="Times New Roman"/>
              </a:rPr>
              <a:t>MIROV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IME JOJ JE DAO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ARISTOTEL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(384-322p.n.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43280" y="476280"/>
            <a:ext cx="31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39257"/>
                </a:solidFill>
                <a:latin typeface="Times New Roman"/>
              </a:rPr>
              <a:t>UVO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539640" y="404640"/>
            <a:ext cx="81378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zaprem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Ako je sila raspodeljena na celu oblast tela, delujući na svaki elementarni deo mase tel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radi se o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preminski podeljenoj si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(npr. težina te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</a:t>
            </a:r>
            <a:r>
              <a:rPr b="1" i="1" lang="sr-Latn-CS" sz="3200" spc="-1" strike="noStrike">
                <a:solidFill>
                  <a:srgbClr val="333333"/>
                </a:solidFill>
                <a:latin typeface="Times New Roman"/>
              </a:rPr>
              <a:t>d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50920" y="3357720"/>
            <a:ext cx="2519640" cy="9363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4581360"/>
            <a:ext cx="287280" cy="142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284720" y="4365360"/>
            <a:ext cx="165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95280" y="7650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Analitički način predstavljanja si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042560" y="3644640"/>
            <a:ext cx="2303640" cy="2087640"/>
            <a:chOff x="1042560" y="3644640"/>
            <a:chExt cx="2303640" cy="2087640"/>
          </a:xfrm>
        </p:grpSpPr>
        <p:sp>
          <p:nvSpPr>
            <p:cNvPr id="429" name=""/>
            <p:cNvSpPr/>
            <p:nvPr/>
          </p:nvSpPr>
          <p:spPr>
            <a:xfrm flipH="1">
              <a:off x="1042560" y="4970160"/>
              <a:ext cx="963720" cy="76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06640" y="4970160"/>
              <a:ext cx="1339560" cy="592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2006640" y="3644640"/>
              <a:ext cx="5040" cy="13251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 flipH="1">
            <a:off x="1618920" y="4965840"/>
            <a:ext cx="390600" cy="3348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009880" y="4965840"/>
            <a:ext cx="544320" cy="26352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009880" y="4508640"/>
            <a:ext cx="3240" cy="4572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236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21080" y="34290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132000" y="4869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260360" y="4797360"/>
                <a:ext cx="4064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2482920" y="4508640"/>
                <a:ext cx="450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978200" y="4076640"/>
                <a:ext cx="45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1549080" y="458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8760" y="1989000"/>
            <a:ext cx="427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xyz –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referentni des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koordinatni si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476600" y="3429000"/>
                <a:ext cx="4064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4403880" y="4148280"/>
                <a:ext cx="450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403880" y="4940280"/>
                <a:ext cx="45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187880" y="3429000"/>
                <a:ext cx="129528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5626440" y="4003560"/>
            <a:ext cx="304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odgovaraju</a:t>
            </a:r>
            <a:r>
              <a:rPr b="1" lang="sr-Latn-CS" sz="3200" spc="-1" strike="noStrike">
                <a:solidFill>
                  <a:srgbClr val="ff6600"/>
                </a:solidFill>
                <a:latin typeface="Times New Roman"/>
              </a:rPr>
              <a:t>ć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jedinični vek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085800" y="1341360"/>
            <a:ext cx="2737440" cy="2524680"/>
            <a:chOff x="6085800" y="1341360"/>
            <a:chExt cx="2737440" cy="2524680"/>
          </a:xfrm>
        </p:grpSpPr>
        <p:pic>
          <p:nvPicPr>
            <p:cNvPr id="449" name="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6516720" y="1628640"/>
              <a:ext cx="1944720" cy="22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6085800" y="278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61080" y="3284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82160" y="134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1980720" y="2347920"/>
            <a:ext cx="5279040" cy="4176720"/>
            <a:chOff x="1980720" y="2347920"/>
            <a:chExt cx="5279040" cy="4176720"/>
          </a:xfrm>
        </p:grpSpPr>
        <p:sp>
          <p:nvSpPr>
            <p:cNvPr id="454" name=""/>
            <p:cNvSpPr/>
            <p:nvPr/>
          </p:nvSpPr>
          <p:spPr>
            <a:xfrm>
              <a:off x="1980720" y="5726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7600" y="54435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78640" y="23479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2141280" y="2563560"/>
              <a:ext cx="4970880" cy="3961080"/>
              <a:chOff x="2141280" y="2563560"/>
              <a:chExt cx="4970880" cy="396108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2141280" y="2563560"/>
                <a:ext cx="4970880" cy="3961080"/>
                <a:chOff x="2141280" y="2563560"/>
                <a:chExt cx="4970880" cy="3961080"/>
              </a:xfrm>
            </p:grpSpPr>
            <p:sp>
              <p:nvSpPr>
                <p:cNvPr id="459" name=""/>
                <p:cNvSpPr/>
                <p:nvPr/>
              </p:nvSpPr>
              <p:spPr>
                <a:xfrm flipH="1">
                  <a:off x="2141280" y="507852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221360" y="507852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V="1">
                  <a:off x="4221360" y="256356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3709800" y="45813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195640" y="189000"/>
                <a:ext cx="2106360" cy="28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64" name=""/>
          <p:cNvSpPr/>
          <p:nvPr/>
        </p:nvSpPr>
        <p:spPr>
          <a:xfrm>
            <a:off x="4284720" y="26028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Vektorska jednačina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599080" y="4435560"/>
            <a:ext cx="0" cy="20876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5598720" y="5948280"/>
            <a:ext cx="865080" cy="5763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40160" y="5659560"/>
            <a:ext cx="2158920" cy="8650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32160" y="5083200"/>
            <a:ext cx="1366920" cy="1441440"/>
          </a:xfrm>
          <a:prstGeom prst="line">
            <a:avLst/>
          </a:prstGeom>
          <a:ln w="442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32160" y="2995560"/>
            <a:ext cx="1366920" cy="14414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232160" y="2995200"/>
            <a:ext cx="0" cy="20876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3366720" y="5083200"/>
            <a:ext cx="865080" cy="576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32160" y="5083200"/>
            <a:ext cx="2232000" cy="86508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741920" y="4221000"/>
            <a:ext cx="452160" cy="581400"/>
            <a:chOff x="4741920" y="4221000"/>
            <a:chExt cx="452160" cy="581400"/>
          </a:xfrm>
        </p:grpSpPr>
        <p:sp>
          <p:nvSpPr>
            <p:cNvPr id="474" name=""/>
            <p:cNvSpPr/>
            <p:nvPr/>
          </p:nvSpPr>
          <p:spPr>
            <a:xfrm>
              <a:off x="4741920" y="4221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56120" y="429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4934880" y="5491080"/>
            <a:ext cx="777960" cy="774720"/>
            <a:chOff x="4934880" y="5491080"/>
            <a:chExt cx="777960" cy="774720"/>
          </a:xfrm>
        </p:grpSpPr>
        <p:sp>
          <p:nvSpPr>
            <p:cNvPr id="477" name=""/>
            <p:cNvSpPr/>
            <p:nvPr/>
          </p:nvSpPr>
          <p:spPr>
            <a:xfrm rot="1493400">
              <a:off x="5029920" y="55875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44200" y="5646240"/>
              <a:ext cx="195840" cy="9108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 flipV="1">
            <a:off x="4232160" y="4435200"/>
            <a:ext cx="1366920" cy="647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2984400" y="4815360"/>
            <a:ext cx="880560" cy="861120"/>
            <a:chOff x="2984400" y="4815360"/>
            <a:chExt cx="880560" cy="861120"/>
          </a:xfrm>
        </p:grpSpPr>
        <p:sp>
          <p:nvSpPr>
            <p:cNvPr id="481" name=""/>
            <p:cNvSpPr/>
            <p:nvPr/>
          </p:nvSpPr>
          <p:spPr>
            <a:xfrm rot="19458600">
              <a:off x="3091320" y="495504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3434760" y="4842720"/>
              <a:ext cx="175320" cy="1260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822280" y="5133960"/>
            <a:ext cx="840600" cy="749520"/>
            <a:chOff x="5822280" y="5133960"/>
            <a:chExt cx="840600" cy="749520"/>
          </a:xfrm>
        </p:grpSpPr>
        <p:sp>
          <p:nvSpPr>
            <p:cNvPr id="484" name=""/>
            <p:cNvSpPr/>
            <p:nvPr/>
          </p:nvSpPr>
          <p:spPr>
            <a:xfrm rot="1060800">
              <a:off x="5895000" y="5217840"/>
              <a:ext cx="64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Y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57320" y="5355000"/>
              <a:ext cx="205560" cy="655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445200" y="3284640"/>
            <a:ext cx="735480" cy="581400"/>
            <a:chOff x="3445200" y="3284640"/>
            <a:chExt cx="735480" cy="581400"/>
          </a:xfrm>
        </p:grpSpPr>
        <p:sp>
          <p:nvSpPr>
            <p:cNvPr id="487" name=""/>
            <p:cNvSpPr/>
            <p:nvPr/>
          </p:nvSpPr>
          <p:spPr>
            <a:xfrm>
              <a:off x="3445200" y="3284640"/>
              <a:ext cx="73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49560" y="335592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33600" y="843120"/>
            <a:ext cx="452160" cy="581400"/>
            <a:chOff x="633600" y="843120"/>
            <a:chExt cx="452160" cy="581400"/>
          </a:xfrm>
        </p:grpSpPr>
        <p:sp>
          <p:nvSpPr>
            <p:cNvPr id="490" name=""/>
            <p:cNvSpPr/>
            <p:nvPr/>
          </p:nvSpPr>
          <p:spPr>
            <a:xfrm>
              <a:off x="633600" y="8431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7800" y="9140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458360" y="843120"/>
            <a:ext cx="587880" cy="581400"/>
            <a:chOff x="1458360" y="843120"/>
            <a:chExt cx="587880" cy="581400"/>
          </a:xfrm>
        </p:grpSpPr>
        <p:sp>
          <p:nvSpPr>
            <p:cNvPr id="493" name=""/>
            <p:cNvSpPr/>
            <p:nvPr/>
          </p:nvSpPr>
          <p:spPr>
            <a:xfrm>
              <a:off x="1458360" y="8431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2920" y="914400"/>
              <a:ext cx="216000" cy="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360880" y="843120"/>
            <a:ext cx="735480" cy="581400"/>
            <a:chOff x="2360880" y="843120"/>
            <a:chExt cx="735480" cy="581400"/>
          </a:xfrm>
        </p:grpSpPr>
        <p:sp>
          <p:nvSpPr>
            <p:cNvPr id="496" name=""/>
            <p:cNvSpPr/>
            <p:nvPr/>
          </p:nvSpPr>
          <p:spPr>
            <a:xfrm>
              <a:off x="2360880" y="843120"/>
              <a:ext cx="73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65240" y="91440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065600" y="8431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963800" y="8431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2760" y="4428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prvo razlag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76400" y="1413000"/>
            <a:ext cx="31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99cc00"/>
                </a:solidFill>
                <a:uFillTx/>
                <a:latin typeface="Times New Roman"/>
              </a:rPr>
              <a:t>drugo</a:t>
            </a:r>
            <a:r>
              <a:rPr b="1" lang="en-US" sz="3200" spc="-1" strike="noStrike" u="sng">
                <a:solidFill>
                  <a:srgbClr val="99cc00"/>
                </a:solidFill>
                <a:uFillTx/>
                <a:latin typeface="Times New Roman"/>
              </a:rPr>
              <a:t> razlag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40720" y="2205000"/>
            <a:ext cx="587880" cy="581400"/>
            <a:chOff x="540720" y="2205000"/>
            <a:chExt cx="587880" cy="581400"/>
          </a:xfrm>
        </p:grpSpPr>
        <p:sp>
          <p:nvSpPr>
            <p:cNvPr id="503" name=""/>
            <p:cNvSpPr/>
            <p:nvPr/>
          </p:nvSpPr>
          <p:spPr>
            <a:xfrm>
              <a:off x="540720" y="22050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55280" y="2276640"/>
              <a:ext cx="216000" cy="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1082880" y="2205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068560" y="2205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476360" y="2205000"/>
            <a:ext cx="719280" cy="581400"/>
            <a:chOff x="1476360" y="2205000"/>
            <a:chExt cx="719280" cy="581400"/>
          </a:xfrm>
        </p:grpSpPr>
        <p:sp>
          <p:nvSpPr>
            <p:cNvPr id="508" name=""/>
            <p:cNvSpPr/>
            <p:nvPr/>
          </p:nvSpPr>
          <p:spPr>
            <a:xfrm>
              <a:off x="1476360" y="220500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79640" y="227664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412360" y="2205000"/>
            <a:ext cx="719640" cy="581400"/>
            <a:chOff x="2412360" y="2205000"/>
            <a:chExt cx="719640" cy="581400"/>
          </a:xfrm>
        </p:grpSpPr>
        <p:sp>
          <p:nvSpPr>
            <p:cNvPr id="511" name=""/>
            <p:cNvSpPr/>
            <p:nvPr/>
          </p:nvSpPr>
          <p:spPr>
            <a:xfrm>
              <a:off x="2412360" y="2205000"/>
              <a:ext cx="64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Y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16360" y="227628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4717800" y="1197000"/>
            <a:ext cx="3580920" cy="581400"/>
            <a:chOff x="4717800" y="1197000"/>
            <a:chExt cx="3580920" cy="581400"/>
          </a:xfrm>
        </p:grpSpPr>
        <p:grpSp>
          <p:nvGrpSpPr>
            <p:cNvPr id="514" name=""/>
            <p:cNvGrpSpPr/>
            <p:nvPr/>
          </p:nvGrpSpPr>
          <p:grpSpPr>
            <a:xfrm>
              <a:off x="4717800" y="1197000"/>
              <a:ext cx="452160" cy="581400"/>
              <a:chOff x="4717800" y="1197000"/>
              <a:chExt cx="452160" cy="581400"/>
            </a:xfrm>
          </p:grpSpPr>
          <p:sp>
            <p:nvSpPr>
              <p:cNvPr id="515" name=""/>
              <p:cNvSpPr/>
              <p:nvPr/>
            </p:nvSpPr>
            <p:spPr>
              <a:xfrm>
                <a:off x="4717800" y="119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32000" y="1267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514980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5780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5565600" y="1197000"/>
              <a:ext cx="719280" cy="581400"/>
              <a:chOff x="5565600" y="1197000"/>
              <a:chExt cx="719280" cy="581400"/>
            </a:xfrm>
          </p:grpSpPr>
          <p:sp>
            <p:nvSpPr>
              <p:cNvPr id="520" name=""/>
              <p:cNvSpPr/>
              <p:nvPr/>
            </p:nvSpPr>
            <p:spPr>
              <a:xfrm>
                <a:off x="5565600" y="119700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 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68880" y="126828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501600" y="1197000"/>
              <a:ext cx="719640" cy="581400"/>
              <a:chOff x="6501600" y="1197000"/>
              <a:chExt cx="719640" cy="581400"/>
            </a:xfrm>
          </p:grpSpPr>
          <p:sp>
            <p:nvSpPr>
              <p:cNvPr id="523" name=""/>
              <p:cNvSpPr/>
              <p:nvPr/>
            </p:nvSpPr>
            <p:spPr>
              <a:xfrm>
                <a:off x="6501600" y="1197000"/>
                <a:ext cx="64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Y 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005600" y="126828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7563240" y="1197000"/>
              <a:ext cx="735480" cy="581400"/>
              <a:chOff x="7563240" y="1197000"/>
              <a:chExt cx="735480" cy="581400"/>
            </a:xfrm>
          </p:grpSpPr>
          <p:sp>
            <p:nvSpPr>
              <p:cNvPr id="526" name=""/>
              <p:cNvSpPr/>
              <p:nvPr/>
            </p:nvSpPr>
            <p:spPr>
              <a:xfrm>
                <a:off x="7563240" y="1197000"/>
                <a:ext cx="73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Z 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067600" y="126828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716616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6156360" y="3645000"/>
            <a:ext cx="2608560" cy="652680"/>
            <a:chOff x="6156360" y="3645000"/>
            <a:chExt cx="2608560" cy="652680"/>
          </a:xfrm>
        </p:grpSpPr>
        <p:grpSp>
          <p:nvGrpSpPr>
            <p:cNvPr id="530" name=""/>
            <p:cNvGrpSpPr/>
            <p:nvPr/>
          </p:nvGrpSpPr>
          <p:grpSpPr>
            <a:xfrm>
              <a:off x="6157800" y="3716280"/>
              <a:ext cx="452160" cy="581400"/>
              <a:chOff x="6157800" y="3716280"/>
              <a:chExt cx="452160" cy="581400"/>
            </a:xfrm>
          </p:grpSpPr>
          <p:sp>
            <p:nvSpPr>
              <p:cNvPr id="531" name=""/>
              <p:cNvSpPr/>
              <p:nvPr/>
            </p:nvSpPr>
            <p:spPr>
              <a:xfrm>
                <a:off x="6157800" y="3716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372000" y="3787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6589440" y="371628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20000" y="3716280"/>
              <a:ext cx="174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Y; Z</a:t>
              </a: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56360" y="3645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59640" y="3645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932360" y="1844640"/>
            <a:ext cx="44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Koordinate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(projekcije na koordinatne ose)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vektora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995640" y="836640"/>
                <a:ext cx="395928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659640" y="5300640"/>
                <a:ext cx="16714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732720" y="3933720"/>
                <a:ext cx="17049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732720" y="2565360"/>
                <a:ext cx="16380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>
            <a:off x="2843280" y="18900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enzitet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il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5437080" y="189000"/>
            <a:ext cx="452160" cy="581400"/>
            <a:chOff x="5437080" y="189000"/>
            <a:chExt cx="452160" cy="581400"/>
          </a:xfrm>
        </p:grpSpPr>
        <p:sp>
          <p:nvSpPr>
            <p:cNvPr id="544" name=""/>
            <p:cNvSpPr/>
            <p:nvPr/>
          </p:nvSpPr>
          <p:spPr>
            <a:xfrm>
              <a:off x="5437080" y="18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651280" y="259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4284720" y="191628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osinusi pravaca s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8245440" y="1916280"/>
            <a:ext cx="452160" cy="581400"/>
            <a:chOff x="8245440" y="1916280"/>
            <a:chExt cx="452160" cy="581400"/>
          </a:xfrm>
        </p:grpSpPr>
        <p:sp>
          <p:nvSpPr>
            <p:cNvPr id="548" name=""/>
            <p:cNvSpPr/>
            <p:nvPr/>
          </p:nvSpPr>
          <p:spPr>
            <a:xfrm>
              <a:off x="8245440" y="191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459640" y="198720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324000" y="1628640"/>
            <a:ext cx="5259240" cy="5019480"/>
            <a:chOff x="324000" y="1628640"/>
            <a:chExt cx="5259240" cy="5019480"/>
          </a:xfrm>
        </p:grpSpPr>
        <p:pic>
          <p:nvPicPr>
            <p:cNvPr id="551" name="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324000" y="1628640"/>
              <a:ext cx="4992480" cy="50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39636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21080" y="4652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909800" y="162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900000" y="5157360"/>
              <a:ext cx="719280" cy="581400"/>
              <a:chOff x="900000" y="5157360"/>
              <a:chExt cx="719280" cy="581400"/>
            </a:xfrm>
          </p:grpSpPr>
          <p:sp>
            <p:nvSpPr>
              <p:cNvPr id="556" name=""/>
              <p:cNvSpPr/>
              <p:nvPr/>
            </p:nvSpPr>
            <p:spPr>
              <a:xfrm>
                <a:off x="900000" y="515736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 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03280" y="522900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3925440" y="4652640"/>
              <a:ext cx="719640" cy="581400"/>
              <a:chOff x="3925440" y="4652640"/>
              <a:chExt cx="719640" cy="581400"/>
            </a:xfrm>
          </p:grpSpPr>
          <p:sp>
            <p:nvSpPr>
              <p:cNvPr id="559" name=""/>
              <p:cNvSpPr/>
              <p:nvPr/>
            </p:nvSpPr>
            <p:spPr>
              <a:xfrm>
                <a:off x="3925440" y="4652640"/>
                <a:ext cx="64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Y 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429440" y="472392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1475280" y="2781000"/>
              <a:ext cx="735480" cy="581400"/>
              <a:chOff x="1475280" y="2781000"/>
              <a:chExt cx="735480" cy="581400"/>
            </a:xfrm>
          </p:grpSpPr>
          <p:sp>
            <p:nvSpPr>
              <p:cNvPr id="562" name=""/>
              <p:cNvSpPr/>
              <p:nvPr/>
            </p:nvSpPr>
            <p:spPr>
              <a:xfrm>
                <a:off x="1475280" y="2781000"/>
                <a:ext cx="73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Z 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79640" y="285228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771640" y="3139920"/>
              <a:ext cx="576000" cy="581400"/>
              <a:chOff x="2771640" y="3139920"/>
              <a:chExt cx="576000" cy="581400"/>
            </a:xfrm>
          </p:grpSpPr>
          <p:sp>
            <p:nvSpPr>
              <p:cNvPr id="565" name=""/>
              <p:cNvSpPr/>
              <p:nvPr/>
            </p:nvSpPr>
            <p:spPr>
              <a:xfrm>
                <a:off x="2771640" y="313992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018240" y="3221640"/>
                <a:ext cx="2714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3636360" y="1989000"/>
            <a:ext cx="5279040" cy="4248000"/>
            <a:chOff x="3636360" y="1989000"/>
            <a:chExt cx="5279040" cy="4248000"/>
          </a:xfrm>
        </p:grpSpPr>
        <p:sp>
          <p:nvSpPr>
            <p:cNvPr id="568" name=""/>
            <p:cNvSpPr/>
            <p:nvPr/>
          </p:nvSpPr>
          <p:spPr>
            <a:xfrm>
              <a:off x="3636360" y="551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553240" y="51559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08720" y="1989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3796920" y="2275920"/>
              <a:ext cx="4970880" cy="3961080"/>
              <a:chOff x="3796920" y="2275920"/>
              <a:chExt cx="4970880" cy="3961080"/>
            </a:xfrm>
          </p:grpSpPr>
          <p:sp>
            <p:nvSpPr>
              <p:cNvPr id="572" name=""/>
              <p:cNvSpPr/>
              <p:nvPr/>
            </p:nvSpPr>
            <p:spPr>
              <a:xfrm flipH="1">
                <a:off x="3796920" y="4790880"/>
                <a:ext cx="2079720" cy="14461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77000" y="4790880"/>
                <a:ext cx="2890800" cy="11253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5877000" y="2275920"/>
                <a:ext cx="11160" cy="2514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"/>
          <p:cNvSpPr/>
          <p:nvPr/>
        </p:nvSpPr>
        <p:spPr>
          <a:xfrm>
            <a:off x="5003640" y="38606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6999840" y="5165280"/>
            <a:ext cx="587880" cy="1425960"/>
            <a:chOff x="6999840" y="5165280"/>
            <a:chExt cx="587880" cy="1425960"/>
          </a:xfrm>
        </p:grpSpPr>
        <p:sp>
          <p:nvSpPr>
            <p:cNvPr id="577" name=""/>
            <p:cNvSpPr/>
            <p:nvPr/>
          </p:nvSpPr>
          <p:spPr>
            <a:xfrm>
              <a:off x="7061400" y="5262840"/>
              <a:ext cx="526320" cy="1328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647600">
              <a:off x="7011720" y="51771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6811920" y="3649680"/>
            <a:ext cx="1422360" cy="597960"/>
            <a:chOff x="6811920" y="3649680"/>
            <a:chExt cx="1422360" cy="597960"/>
          </a:xfrm>
        </p:grpSpPr>
        <p:sp>
          <p:nvSpPr>
            <p:cNvPr id="580" name=""/>
            <p:cNvSpPr/>
            <p:nvPr/>
          </p:nvSpPr>
          <p:spPr>
            <a:xfrm flipV="1">
              <a:off x="6909480" y="3649680"/>
              <a:ext cx="1324800" cy="5360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7821800">
              <a:off x="6823800" y="41655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4358880" y="3138480"/>
            <a:ext cx="1011600" cy="1158120"/>
            <a:chOff x="4358880" y="3138480"/>
            <a:chExt cx="1011600" cy="1158120"/>
          </a:xfrm>
        </p:grpSpPr>
        <p:sp>
          <p:nvSpPr>
            <p:cNvPr id="583" name=""/>
            <p:cNvSpPr/>
            <p:nvPr/>
          </p:nvSpPr>
          <p:spPr>
            <a:xfrm flipH="1" flipV="1">
              <a:off x="4358880" y="313848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1272200">
              <a:off x="5295960" y="42220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166160" y="3213000"/>
            <a:ext cx="549000" cy="675720"/>
            <a:chOff x="7166160" y="3213000"/>
            <a:chExt cx="549000" cy="675720"/>
          </a:xfrm>
        </p:grpSpPr>
        <p:grpSp>
          <p:nvGrpSpPr>
            <p:cNvPr id="586" name=""/>
            <p:cNvGrpSpPr/>
            <p:nvPr/>
          </p:nvGrpSpPr>
          <p:grpSpPr>
            <a:xfrm>
              <a:off x="7166160" y="3213000"/>
              <a:ext cx="452160" cy="581400"/>
              <a:chOff x="7166160" y="3213000"/>
              <a:chExt cx="452160" cy="581400"/>
            </a:xfrm>
          </p:grpSpPr>
          <p:sp>
            <p:nvSpPr>
              <p:cNvPr id="587" name=""/>
              <p:cNvSpPr/>
              <p:nvPr/>
            </p:nvSpPr>
            <p:spPr>
              <a:xfrm>
                <a:off x="716616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80360" y="32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738216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4645080" y="2997360"/>
            <a:ext cx="549000" cy="675360"/>
            <a:chOff x="4645080" y="2997360"/>
            <a:chExt cx="549000" cy="675360"/>
          </a:xfrm>
        </p:grpSpPr>
        <p:grpSp>
          <p:nvGrpSpPr>
            <p:cNvPr id="591" name=""/>
            <p:cNvGrpSpPr/>
            <p:nvPr/>
          </p:nvGrpSpPr>
          <p:grpSpPr>
            <a:xfrm>
              <a:off x="4645080" y="2997360"/>
              <a:ext cx="452160" cy="581400"/>
              <a:chOff x="4645080" y="2997360"/>
              <a:chExt cx="452160" cy="581400"/>
            </a:xfrm>
          </p:grpSpPr>
          <p:sp>
            <p:nvSpPr>
              <p:cNvPr id="592" name=""/>
              <p:cNvSpPr/>
              <p:nvPr/>
            </p:nvSpPr>
            <p:spPr>
              <a:xfrm>
                <a:off x="464508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85928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4861080" y="321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7526520" y="5877000"/>
            <a:ext cx="549000" cy="675720"/>
            <a:chOff x="7526520" y="5877000"/>
            <a:chExt cx="549000" cy="675720"/>
          </a:xfrm>
        </p:grpSpPr>
        <p:grpSp>
          <p:nvGrpSpPr>
            <p:cNvPr id="596" name=""/>
            <p:cNvGrpSpPr/>
            <p:nvPr/>
          </p:nvGrpSpPr>
          <p:grpSpPr>
            <a:xfrm>
              <a:off x="7526520" y="5877000"/>
              <a:ext cx="452160" cy="581400"/>
              <a:chOff x="7526520" y="5877000"/>
              <a:chExt cx="452160" cy="581400"/>
            </a:xfrm>
          </p:grpSpPr>
          <p:sp>
            <p:nvSpPr>
              <p:cNvPr id="597" name=""/>
              <p:cNvSpPr/>
              <p:nvPr/>
            </p:nvSpPr>
            <p:spPr>
              <a:xfrm>
                <a:off x="7526520" y="587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740720" y="594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7742520" y="609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6237000" y="3932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464160" y="4940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45000" y="4005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4718880" y="5241960"/>
            <a:ext cx="866520" cy="1268280"/>
            <a:chOff x="4718880" y="5241960"/>
            <a:chExt cx="866520" cy="1268280"/>
          </a:xfrm>
        </p:grpSpPr>
        <p:sp>
          <p:nvSpPr>
            <p:cNvPr id="604" name=""/>
            <p:cNvSpPr/>
            <p:nvPr/>
          </p:nvSpPr>
          <p:spPr>
            <a:xfrm flipH="1">
              <a:off x="4718880" y="5321880"/>
              <a:ext cx="794160" cy="118836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4968000">
              <a:off x="5511240" y="524592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5589360" y="49417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078520" y="5950080"/>
            <a:ext cx="565920" cy="675360"/>
            <a:chOff x="5078520" y="5950080"/>
            <a:chExt cx="565920" cy="675360"/>
          </a:xfrm>
        </p:grpSpPr>
        <p:grpSp>
          <p:nvGrpSpPr>
            <p:cNvPr id="608" name=""/>
            <p:cNvGrpSpPr/>
            <p:nvPr/>
          </p:nvGrpSpPr>
          <p:grpSpPr>
            <a:xfrm>
              <a:off x="5078520" y="5950080"/>
              <a:ext cx="452160" cy="581400"/>
              <a:chOff x="5078520" y="5950080"/>
              <a:chExt cx="452160" cy="581400"/>
            </a:xfrm>
          </p:grpSpPr>
          <p:sp>
            <p:nvSpPr>
              <p:cNvPr id="609" name=""/>
              <p:cNvSpPr/>
              <p:nvPr/>
            </p:nvSpPr>
            <p:spPr>
              <a:xfrm>
                <a:off x="5078520" y="5950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92720" y="6021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5294520" y="616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149800" y="692280"/>
            <a:ext cx="3229920" cy="675360"/>
            <a:chOff x="5149800" y="692280"/>
            <a:chExt cx="3229920" cy="675360"/>
          </a:xfrm>
        </p:grpSpPr>
        <p:grpSp>
          <p:nvGrpSpPr>
            <p:cNvPr id="613" name=""/>
            <p:cNvGrpSpPr/>
            <p:nvPr/>
          </p:nvGrpSpPr>
          <p:grpSpPr>
            <a:xfrm>
              <a:off x="5797440" y="692280"/>
              <a:ext cx="548640" cy="675360"/>
              <a:chOff x="5797440" y="692280"/>
              <a:chExt cx="548640" cy="67536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5797440" y="692280"/>
                <a:ext cx="452160" cy="581400"/>
                <a:chOff x="5797440" y="692280"/>
                <a:chExt cx="452160" cy="58140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579744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011640" y="76320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601308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5149800" y="692280"/>
              <a:ext cx="548640" cy="675360"/>
              <a:chOff x="5149800" y="692280"/>
              <a:chExt cx="548640" cy="67536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5149800" y="692280"/>
                <a:ext cx="452160" cy="581400"/>
                <a:chOff x="5149800" y="692280"/>
                <a:chExt cx="452160" cy="58140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14980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364000" y="76320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536544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445440" y="692280"/>
              <a:ext cx="549000" cy="675360"/>
              <a:chOff x="6445440" y="692280"/>
              <a:chExt cx="549000" cy="67536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6445440" y="692280"/>
                <a:ext cx="452160" cy="581400"/>
                <a:chOff x="6445440" y="692280"/>
                <a:chExt cx="452160" cy="5814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644544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659640" y="763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666144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7813800" y="692280"/>
              <a:ext cx="565920" cy="675360"/>
              <a:chOff x="7813800" y="692280"/>
              <a:chExt cx="565920" cy="67536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7813800" y="692280"/>
                <a:ext cx="452160" cy="581400"/>
                <a:chOff x="7813800" y="692280"/>
                <a:chExt cx="452160" cy="5814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781380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028000" y="763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"/>
              <p:cNvSpPr/>
              <p:nvPr/>
            </p:nvSpPr>
            <p:spPr>
              <a:xfrm>
                <a:off x="8029800" y="907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7020360" y="692280"/>
              <a:ext cx="69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171000" y="189000"/>
            <a:ext cx="84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istem sila koji dejstvuje na neko telo obi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n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značava na sledeći nači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42640" y="1341360"/>
            <a:ext cx="72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jihove odgovarajuće napadne tačke su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63960" y="1989000"/>
            <a:ext cx="30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3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... 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39640" y="3429000"/>
            <a:ext cx="3110400" cy="720000"/>
            <a:chOff x="539640" y="3429000"/>
            <a:chExt cx="3110400" cy="720000"/>
          </a:xfrm>
        </p:grpSpPr>
        <p:grpSp>
          <p:nvGrpSpPr>
            <p:cNvPr id="638" name=""/>
            <p:cNvGrpSpPr/>
            <p:nvPr/>
          </p:nvGrpSpPr>
          <p:grpSpPr>
            <a:xfrm>
              <a:off x="549360" y="3500280"/>
              <a:ext cx="569520" cy="648720"/>
              <a:chOff x="549360" y="3500280"/>
              <a:chExt cx="569520" cy="648720"/>
            </a:xfrm>
          </p:grpSpPr>
          <p:sp>
            <p:nvSpPr>
              <p:cNvPr id="639" name=""/>
              <p:cNvSpPr/>
              <p:nvPr/>
            </p:nvSpPr>
            <p:spPr>
              <a:xfrm>
                <a:off x="549360" y="350028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5640" y="3571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972720" y="350028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34600" y="3500280"/>
              <a:ext cx="2215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640" y="3429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42920" y="3429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Stepen slobode kretanja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e nekog mehaničkog objekta se proučava upoređujući njegov položaj sa položajem objekta koji se može nazvati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smatra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m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atematički, posmatrač je predstavljen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ordinatnim sistemom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ehaničko kretanje predstavl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menu položaj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u prostoru i vremenu jednog tela u odnosu na dru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96360" y="333360"/>
            <a:ext cx="875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Broj stepeni slobode kretanja nekog mehaničk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bjekta j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broj međusobno nezavisnih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oji jednoznačno određuju položaj t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ehaničkog objek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775320" y="2492280"/>
            <a:ext cx="51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1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ačka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875880" y="2276640"/>
            <a:ext cx="5279040" cy="4176720"/>
            <a:chOff x="875880" y="2276640"/>
            <a:chExt cx="5279040" cy="4176720"/>
          </a:xfrm>
        </p:grpSpPr>
        <p:sp>
          <p:nvSpPr>
            <p:cNvPr id="650" name=""/>
            <p:cNvSpPr/>
            <p:nvPr/>
          </p:nvSpPr>
          <p:spPr>
            <a:xfrm>
              <a:off x="875880" y="5654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92760" y="53722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773800" y="22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1036440" y="2492280"/>
              <a:ext cx="4970880" cy="3961080"/>
              <a:chOff x="1036440" y="2492280"/>
              <a:chExt cx="4970880" cy="396108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1036440" y="2492280"/>
                <a:ext cx="4970880" cy="3961080"/>
                <a:chOff x="1036440" y="2492280"/>
                <a:chExt cx="4970880" cy="3961080"/>
              </a:xfrm>
            </p:grpSpPr>
            <p:sp>
              <p:nvSpPr>
                <p:cNvPr id="655" name=""/>
                <p:cNvSpPr/>
                <p:nvPr/>
              </p:nvSpPr>
              <p:spPr>
                <a:xfrm flipH="1">
                  <a:off x="1036440" y="500724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116520" y="500724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3116520" y="249228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2604960" y="4510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"/>
          <p:cNvSpPr/>
          <p:nvPr/>
        </p:nvSpPr>
        <p:spPr>
          <a:xfrm>
            <a:off x="4643280" y="357336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0" i="1" lang="sr-Latn-CS" sz="3200" spc="-1" strike="noStrike">
                <a:solidFill>
                  <a:srgbClr val="000099"/>
                </a:solidFill>
                <a:latin typeface="Times New Roman"/>
              </a:rPr>
              <a:t>x,y,z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3132000" y="4005360"/>
            <a:ext cx="1509840" cy="1008000"/>
            <a:chOff x="3132000" y="4005360"/>
            <a:chExt cx="1509840" cy="1008000"/>
          </a:xfrm>
        </p:grpSpPr>
        <p:sp>
          <p:nvSpPr>
            <p:cNvPr id="661" name=""/>
            <p:cNvSpPr/>
            <p:nvPr/>
          </p:nvSpPr>
          <p:spPr>
            <a:xfrm flipV="1">
              <a:off x="3132000" y="4076640"/>
              <a:ext cx="1440000" cy="936720"/>
            </a:xfrm>
            <a:prstGeom prst="line">
              <a:avLst/>
            </a:prstGeom>
            <a:ln w="414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0053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6144480" y="4243320"/>
            <a:ext cx="117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315000" y="260280"/>
            <a:ext cx="783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2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ačka na površi čija je jednač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09080" y="765000"/>
            <a:ext cx="5943600" cy="4176720"/>
            <a:chOff x="109080" y="765000"/>
            <a:chExt cx="5943600" cy="4176720"/>
          </a:xfrm>
        </p:grpSpPr>
        <p:grpSp>
          <p:nvGrpSpPr>
            <p:cNvPr id="666" name=""/>
            <p:cNvGrpSpPr/>
            <p:nvPr/>
          </p:nvGrpSpPr>
          <p:grpSpPr>
            <a:xfrm>
              <a:off x="109080" y="765000"/>
              <a:ext cx="5943600" cy="4176720"/>
              <a:chOff x="109080" y="765000"/>
              <a:chExt cx="5943600" cy="417672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109080" y="765000"/>
                <a:ext cx="5278320" cy="4176720"/>
                <a:chOff x="109080" y="765000"/>
                <a:chExt cx="5278320" cy="417672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109080" y="414324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025240" y="3860640"/>
                  <a:ext cx="36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y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006280" y="765000"/>
                  <a:ext cx="33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z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1" name=""/>
                <p:cNvGrpSpPr/>
                <p:nvPr/>
              </p:nvGrpSpPr>
              <p:grpSpPr>
                <a:xfrm>
                  <a:off x="269640" y="980640"/>
                  <a:ext cx="4969800" cy="3961080"/>
                  <a:chOff x="269640" y="980640"/>
                  <a:chExt cx="4969800" cy="3961080"/>
                </a:xfrm>
              </p:grpSpPr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269640" y="980640"/>
                    <a:ext cx="4969800" cy="3961080"/>
                    <a:chOff x="269640" y="980640"/>
                    <a:chExt cx="4969800" cy="396108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 flipH="1">
                      <a:off x="269640" y="3495600"/>
                      <a:ext cx="2079360" cy="144612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2349000" y="3495600"/>
                      <a:ext cx="2890440" cy="112536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V="1">
                      <a:off x="2349000" y="980640"/>
                      <a:ext cx="10800" cy="251460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6" name=""/>
                  <p:cNvSpPr/>
                  <p:nvPr/>
                </p:nvSpPr>
                <p:spPr>
                  <a:xfrm>
                    <a:off x="1837080" y="299844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O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aphicFrame>
            <p:nvGraphicFramePr>
              <p:cNvPr id="677" name=""/>
              <p:cNvGraphicFramePr/>
              <p:nvPr/>
            </p:nvGraphicFramePr>
            <p:xfrm>
              <a:off x="2076120" y="1412640"/>
              <a:ext cx="3976560" cy="1714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7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76120" y="1412640"/>
                        <a:ext cx="3976560" cy="171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79" name=""/>
            <p:cNvSpPr/>
            <p:nvPr/>
          </p:nvSpPr>
          <p:spPr>
            <a:xfrm>
              <a:off x="4071240" y="1414440"/>
              <a:ext cx="175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P(x,y,z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6084720" y="836640"/>
                <a:ext cx="26989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y</m:t>
                    </m:r>
                    <m:r>
                      <m:t xml:space="preserve">=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5076720" y="4292640"/>
                <a:ext cx="330516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2" name=""/>
          <p:cNvSpPr/>
          <p:nvPr/>
        </p:nvSpPr>
        <p:spPr>
          <a:xfrm>
            <a:off x="1836720" y="479736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Iz jednačine povr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046480" y="2781360"/>
            <a:ext cx="409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=3   (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x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,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y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,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z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56680" y="5445000"/>
            <a:ext cx="8328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parametara 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=1    (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y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parametara: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3-1,     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5" name=""/>
          <p:cNvGraphicFramePr/>
          <p:nvPr/>
        </p:nvGraphicFramePr>
        <p:xfrm>
          <a:off x="2411280" y="1773360"/>
          <a:ext cx="2754360" cy="18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773360"/>
                    <a:ext cx="2754360" cy="18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"/>
          <p:cNvSpPr/>
          <p:nvPr/>
        </p:nvSpPr>
        <p:spPr>
          <a:xfrm>
            <a:off x="242640" y="189000"/>
            <a:ext cx="74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3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uto slobodno tel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09080" y="765000"/>
            <a:ext cx="5279040" cy="4176720"/>
            <a:chOff x="109080" y="765000"/>
            <a:chExt cx="5279040" cy="4176720"/>
          </a:xfrm>
        </p:grpSpPr>
        <p:sp>
          <p:nvSpPr>
            <p:cNvPr id="689" name=""/>
            <p:cNvSpPr/>
            <p:nvPr/>
          </p:nvSpPr>
          <p:spPr>
            <a:xfrm>
              <a:off x="109080" y="4143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25960" y="3860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07000" y="765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269640" y="980640"/>
              <a:ext cx="4970880" cy="3961080"/>
              <a:chOff x="269640" y="980640"/>
              <a:chExt cx="4970880" cy="396108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269640" y="980640"/>
                <a:ext cx="4970880" cy="3961080"/>
                <a:chOff x="269640" y="980640"/>
                <a:chExt cx="4970880" cy="3961080"/>
              </a:xfrm>
            </p:grpSpPr>
            <p:sp>
              <p:nvSpPr>
                <p:cNvPr id="694" name=""/>
                <p:cNvSpPr/>
                <p:nvPr/>
              </p:nvSpPr>
              <p:spPr>
                <a:xfrm flipH="1">
                  <a:off x="269640" y="349560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2349720" y="349560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V="1">
                  <a:off x="2349720" y="98064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7" name=""/>
              <p:cNvSpPr/>
              <p:nvPr/>
            </p:nvSpPr>
            <p:spPr>
              <a:xfrm>
                <a:off x="1838160" y="2998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8" name=""/>
          <p:cNvSpPr/>
          <p:nvPr/>
        </p:nvSpPr>
        <p:spPr>
          <a:xfrm>
            <a:off x="5249520" y="76500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046840" y="2781360"/>
            <a:ext cx="4152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9   (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,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,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362280" y="3898800"/>
            <a:ext cx="27770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parametara 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parametar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9-3,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249520" y="134136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249520" y="191628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989440" y="17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53080" y="234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91780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3333600" y="2205000"/>
          <a:ext cx="158760" cy="15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33600" y="2205000"/>
                    <a:ext cx="158760" cy="1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"/>
          <p:cNvGraphicFramePr/>
          <p:nvPr/>
        </p:nvGraphicFramePr>
        <p:xfrm>
          <a:off x="3276720" y="3059280"/>
          <a:ext cx="158760" cy="15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3059280"/>
                    <a:ext cx="158760" cy="15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4197240" y="2770200"/>
          <a:ext cx="158760" cy="15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7240" y="2770200"/>
                    <a:ext cx="158760" cy="1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612720" y="4508640"/>
                <a:ext cx="53992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480960" y="5950080"/>
                <a:ext cx="53150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547560" y="5226120"/>
                <a:ext cx="5319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42280" y="189000"/>
            <a:ext cx="818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3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uto slobodno tel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ože se izabrati 6 nezavisnih parametara i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ledeći nač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1440" y="1917720"/>
            <a:ext cx="4684320" cy="3671280"/>
            <a:chOff x="1440" y="1917720"/>
            <a:chExt cx="4684320" cy="3671280"/>
          </a:xfrm>
        </p:grpSpPr>
        <p:sp>
          <p:nvSpPr>
            <p:cNvPr id="717" name=""/>
            <p:cNvSpPr/>
            <p:nvPr/>
          </p:nvSpPr>
          <p:spPr>
            <a:xfrm>
              <a:off x="1440" y="48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323600" y="46389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669680" y="19177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142200" y="2107440"/>
              <a:ext cx="4369320" cy="3481560"/>
              <a:chOff x="142200" y="2107440"/>
              <a:chExt cx="4369320" cy="348156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142200" y="2107440"/>
                <a:ext cx="4369320" cy="3481560"/>
                <a:chOff x="142200" y="2107440"/>
                <a:chExt cx="4369320" cy="3481560"/>
              </a:xfrm>
            </p:grpSpPr>
            <p:sp>
              <p:nvSpPr>
                <p:cNvPr id="722" name=""/>
                <p:cNvSpPr/>
                <p:nvPr/>
              </p:nvSpPr>
              <p:spPr>
                <a:xfrm flipH="1">
                  <a:off x="142200" y="431784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970280" y="431784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V="1">
                  <a:off x="1970280" y="210744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5" name=""/>
              <p:cNvSpPr/>
              <p:nvPr/>
            </p:nvSpPr>
            <p:spPr>
              <a:xfrm>
                <a:off x="1522080" y="38808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"/>
          <p:cNvSpPr/>
          <p:nvPr/>
        </p:nvSpPr>
        <p:spPr>
          <a:xfrm>
            <a:off x="3017520" y="155736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670160" y="603396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835280" y="2205000"/>
            <a:ext cx="2089080" cy="1552680"/>
            <a:chOff x="1835280" y="2205000"/>
            <a:chExt cx="2089080" cy="1552680"/>
          </a:xfrm>
        </p:grpSpPr>
        <p:graphicFrame>
          <p:nvGraphicFramePr>
            <p:cNvPr id="729" name=""/>
            <p:cNvGraphicFramePr/>
            <p:nvPr/>
          </p:nvGraphicFramePr>
          <p:xfrm>
            <a:off x="1835280" y="2205000"/>
            <a:ext cx="2089080" cy="15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5280" y="2205000"/>
                      <a:ext cx="20890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31" name=""/>
            <p:cNvGrpSpPr/>
            <p:nvPr/>
          </p:nvGrpSpPr>
          <p:grpSpPr>
            <a:xfrm>
              <a:off x="2773800" y="2925720"/>
              <a:ext cx="502920" cy="585720"/>
              <a:chOff x="2773800" y="2925720"/>
              <a:chExt cx="502920" cy="585720"/>
            </a:xfrm>
          </p:grpSpPr>
          <p:sp>
            <p:nvSpPr>
              <p:cNvPr id="732" name=""/>
              <p:cNvSpPr/>
              <p:nvPr/>
            </p:nvSpPr>
            <p:spPr>
              <a:xfrm>
                <a:off x="2773800" y="2925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33" name=""/>
              <p:cNvGraphicFramePr/>
              <p:nvPr/>
            </p:nvGraphicFramePr>
            <p:xfrm>
              <a:off x="3117960" y="3357360"/>
              <a:ext cx="158760" cy="154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3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117960" y="3357360"/>
                        <a:ext cx="158760" cy="154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735" name=""/>
          <p:cNvGraphicFramePr/>
          <p:nvPr/>
        </p:nvGraphicFramePr>
        <p:xfrm>
          <a:off x="5140440" y="2131920"/>
          <a:ext cx="1584360" cy="210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0440" y="2131920"/>
                    <a:ext cx="158436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7" name=""/>
          <p:cNvGrpSpPr/>
          <p:nvPr/>
        </p:nvGrpSpPr>
        <p:grpSpPr>
          <a:xfrm>
            <a:off x="4563720" y="1242720"/>
            <a:ext cx="4368960" cy="3481200"/>
            <a:chOff x="4563720" y="1242720"/>
            <a:chExt cx="4368960" cy="3481200"/>
          </a:xfrm>
        </p:grpSpPr>
        <p:grpSp>
          <p:nvGrpSpPr>
            <p:cNvPr id="738" name=""/>
            <p:cNvGrpSpPr/>
            <p:nvPr/>
          </p:nvGrpSpPr>
          <p:grpSpPr>
            <a:xfrm>
              <a:off x="4563720" y="1242720"/>
              <a:ext cx="4368960" cy="3481200"/>
              <a:chOff x="4563720" y="1242720"/>
              <a:chExt cx="4368960" cy="3481200"/>
            </a:xfrm>
          </p:grpSpPr>
          <p:sp>
            <p:nvSpPr>
              <p:cNvPr id="739" name=""/>
              <p:cNvSpPr/>
              <p:nvPr/>
            </p:nvSpPr>
            <p:spPr>
              <a:xfrm flipH="1">
                <a:off x="4563720" y="3453120"/>
                <a:ext cx="1827720" cy="1270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391800" y="3453120"/>
                <a:ext cx="2540880" cy="9889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391800" y="1242720"/>
                <a:ext cx="9720" cy="22100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5942520" y="3016080"/>
              <a:ext cx="18396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5934240" y="2924280"/>
            <a:ext cx="502920" cy="585720"/>
            <a:chOff x="5934240" y="2924280"/>
            <a:chExt cx="502920" cy="585720"/>
          </a:xfrm>
        </p:grpSpPr>
        <p:sp>
          <p:nvSpPr>
            <p:cNvPr id="744" name=""/>
            <p:cNvSpPr/>
            <p:nvPr/>
          </p:nvSpPr>
          <p:spPr>
            <a:xfrm>
              <a:off x="5934240" y="292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5" name=""/>
            <p:cNvGraphicFramePr/>
            <p:nvPr/>
          </p:nvGraphicFramePr>
          <p:xfrm>
            <a:off x="6278400" y="3355920"/>
            <a:ext cx="158760" cy="154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78400" y="3355920"/>
                      <a:ext cx="158760" cy="15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47" name=""/>
          <p:cNvGraphicFramePr/>
          <p:nvPr/>
        </p:nvGraphicFramePr>
        <p:xfrm>
          <a:off x="4853160" y="4005360"/>
          <a:ext cx="792000" cy="49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3160" y="4005360"/>
                    <a:ext cx="79200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"/>
          <p:cNvGraphicFramePr/>
          <p:nvPr/>
        </p:nvGraphicFramePr>
        <p:xfrm>
          <a:off x="7794720" y="3645000"/>
          <a:ext cx="514080" cy="792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794720" y="3645000"/>
                    <a:ext cx="514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6076800" y="1638360"/>
          <a:ext cx="792360" cy="49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76800" y="1638360"/>
                    <a:ext cx="7923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8094960" y="33559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0600" y="422100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655320" y="126828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89880" y="5445000"/>
            <a:ext cx="8113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</a:t>
            </a: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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203640" y="3429000"/>
            <a:ext cx="31687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NEPREKIDNA SRED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206064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Pod</a:t>
            </a: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 NEPREKIDNOM SREDINOM</a:t>
            </a:r>
            <a:br>
              <a:rPr sz="4000"/>
            </a:b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se podrazumeva takva sredina, kod koje svakoj </a:t>
            </a:r>
            <a:r>
              <a:rPr b="1" lang="pl-PL" sz="4000" spc="-1" strike="noStrike">
                <a:solidFill>
                  <a:srgbClr val="000099"/>
                </a:solidFill>
                <a:latin typeface="Times New Roman"/>
              </a:rPr>
              <a:t>geometrijskoj tački</a:t>
            </a: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 odgovara </a:t>
            </a:r>
            <a:r>
              <a:rPr b="1" lang="pl-PL" sz="4000" spc="-1" strike="noStrike">
                <a:solidFill>
                  <a:srgbClr val="000099"/>
                </a:solidFill>
                <a:latin typeface="Times New Roman"/>
              </a:rPr>
              <a:t>materijalna tačka</a:t>
            </a: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 sa pripadajućom masom, i pri tome je broj tačaka neogranič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59000" y="189000"/>
            <a:ext cx="821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4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Š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Štap je kruto telo kod koga je jedna dimenz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euporedivo veća od druge dve, pa se svrst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linijske el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600120" y="3645000"/>
            <a:ext cx="8004240" cy="2165760"/>
            <a:chOff x="600120" y="3645000"/>
            <a:chExt cx="8004240" cy="2165760"/>
          </a:xfrm>
        </p:grpSpPr>
        <p:sp>
          <p:nvSpPr>
            <p:cNvPr id="760" name=""/>
            <p:cNvSpPr/>
            <p:nvPr/>
          </p:nvSpPr>
          <p:spPr>
            <a:xfrm>
              <a:off x="673200" y="3716280"/>
              <a:ext cx="6337080" cy="144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3200" y="4005360"/>
              <a:ext cx="0" cy="50328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008840" y="4005360"/>
              <a:ext cx="0" cy="50328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73200" y="4508640"/>
              <a:ext cx="63356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600120" y="4365720"/>
              <a:ext cx="217440" cy="21420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6865920" y="4437000"/>
              <a:ext cx="217440" cy="21420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82640" y="393372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00840" y="3645000"/>
              <a:ext cx="576360" cy="142920"/>
            </a:xfrm>
            <a:prstGeom prst="rect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585200" y="3933720"/>
              <a:ext cx="10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b </a:t>
              </a: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x </a:t>
              </a: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01560" y="5229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2905200" y="5373720"/>
              <a:ext cx="504720" cy="360360"/>
              <a:chOff x="2905200" y="5373720"/>
              <a:chExt cx="504720" cy="360360"/>
            </a:xfrm>
          </p:grpSpPr>
          <p:grpSp>
            <p:nvGrpSpPr>
              <p:cNvPr id="771" name=""/>
              <p:cNvGrpSpPr/>
              <p:nvPr/>
            </p:nvGrpSpPr>
            <p:grpSpPr>
              <a:xfrm>
                <a:off x="2905200" y="5373720"/>
                <a:ext cx="288720" cy="360360"/>
                <a:chOff x="2905200" y="5373720"/>
                <a:chExt cx="288720" cy="36036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290520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>
                  <a:off x="290520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3121200" y="5373720"/>
                <a:ext cx="288720" cy="360360"/>
                <a:chOff x="3121200" y="5373720"/>
                <a:chExt cx="288720" cy="36036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312120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>
                  <a:off x="312120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"/>
            <p:cNvSpPr/>
            <p:nvPr/>
          </p:nvSpPr>
          <p:spPr>
            <a:xfrm>
              <a:off x="3482640" y="522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704840" y="5229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5208480" y="5373720"/>
              <a:ext cx="504720" cy="360360"/>
              <a:chOff x="5208480" y="5373720"/>
              <a:chExt cx="504720" cy="360360"/>
            </a:xfrm>
          </p:grpSpPr>
          <p:grpSp>
            <p:nvGrpSpPr>
              <p:cNvPr id="780" name=""/>
              <p:cNvGrpSpPr/>
              <p:nvPr/>
            </p:nvGrpSpPr>
            <p:grpSpPr>
              <a:xfrm>
                <a:off x="5208480" y="5373720"/>
                <a:ext cx="288720" cy="360360"/>
                <a:chOff x="5208480" y="5373720"/>
                <a:chExt cx="288720" cy="36036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520848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520848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5424480" y="5373720"/>
                <a:ext cx="288720" cy="360360"/>
                <a:chOff x="5424480" y="5373720"/>
                <a:chExt cx="288720" cy="36036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542448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>
                  <a:off x="542448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6" name=""/>
            <p:cNvSpPr/>
            <p:nvPr/>
          </p:nvSpPr>
          <p:spPr>
            <a:xfrm>
              <a:off x="5786280" y="5229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1836720" y="333360"/>
            <a:ext cx="4684320" cy="3671280"/>
            <a:chOff x="1836720" y="333360"/>
            <a:chExt cx="4684320" cy="3671280"/>
          </a:xfrm>
        </p:grpSpPr>
        <p:sp>
          <p:nvSpPr>
            <p:cNvPr id="788" name=""/>
            <p:cNvSpPr/>
            <p:nvPr/>
          </p:nvSpPr>
          <p:spPr>
            <a:xfrm>
              <a:off x="1836720" y="3303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158880" y="30546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04960" y="333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1977480" y="523080"/>
              <a:ext cx="4369320" cy="3481560"/>
              <a:chOff x="1977480" y="523080"/>
              <a:chExt cx="4369320" cy="3481560"/>
            </a:xfrm>
          </p:grpSpPr>
          <p:grpSp>
            <p:nvGrpSpPr>
              <p:cNvPr id="792" name=""/>
              <p:cNvGrpSpPr/>
              <p:nvPr/>
            </p:nvGrpSpPr>
            <p:grpSpPr>
              <a:xfrm>
                <a:off x="1977480" y="523080"/>
                <a:ext cx="4369320" cy="3481560"/>
                <a:chOff x="1977480" y="523080"/>
                <a:chExt cx="4369320" cy="3481560"/>
              </a:xfrm>
            </p:grpSpPr>
            <p:sp>
              <p:nvSpPr>
                <p:cNvPr id="793" name=""/>
                <p:cNvSpPr/>
                <p:nvPr/>
              </p:nvSpPr>
              <p:spPr>
                <a:xfrm flipH="1">
                  <a:off x="1977480" y="273348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805560" y="273348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V="1">
                  <a:off x="3805560" y="52308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6" name=""/>
              <p:cNvSpPr/>
              <p:nvPr/>
            </p:nvSpPr>
            <p:spPr>
              <a:xfrm>
                <a:off x="3357360" y="2296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7" name=""/>
          <p:cNvGrpSpPr/>
          <p:nvPr/>
        </p:nvGrpSpPr>
        <p:grpSpPr>
          <a:xfrm>
            <a:off x="1906560" y="1182960"/>
            <a:ext cx="1267920" cy="1842840"/>
            <a:chOff x="1906560" y="1182960"/>
            <a:chExt cx="1267920" cy="1842840"/>
          </a:xfrm>
        </p:grpSpPr>
        <p:sp>
          <p:nvSpPr>
            <p:cNvPr id="798" name=""/>
            <p:cNvSpPr/>
            <p:nvPr/>
          </p:nvSpPr>
          <p:spPr>
            <a:xfrm flipV="1">
              <a:off x="1979280" y="1341360"/>
              <a:ext cx="1079640" cy="1656000"/>
            </a:xfrm>
            <a:prstGeom prst="line">
              <a:avLst/>
            </a:prstGeom>
            <a:ln w="7632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06560" y="285264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619800">
              <a:off x="2987280" y="119700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140508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57440" y="83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4295880" y="765000"/>
          <a:ext cx="2292120" cy="20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5880" y="765000"/>
                    <a:ext cx="229212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"/>
          <p:cNvSpPr/>
          <p:nvPr/>
        </p:nvSpPr>
        <p:spPr>
          <a:xfrm>
            <a:off x="4213440" y="18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5898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013440" y="76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356000" y="907920"/>
            <a:ext cx="2087640" cy="180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517800" y="126828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117080" y="134136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76080" y="4329000"/>
            <a:ext cx="7657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av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materijalna linija u prostoru 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5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tepeni slob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iv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materijalna linija, potpuno slobo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prostoru ima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6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tepeni slob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459000" y="189000"/>
            <a:ext cx="855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Times New Roman"/>
              </a:rPr>
              <a:t>5</a:t>
            </a: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ruta plo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a sledećoj slici je prikazana ploča proizvoljn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blika koja leži u ravn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Oy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i ima slobod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a u toj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84360" y="2204640"/>
            <a:ext cx="3527280" cy="3384360"/>
            <a:chOff x="684360" y="2204640"/>
            <a:chExt cx="3527280" cy="3384360"/>
          </a:xfrm>
        </p:grpSpPr>
        <p:sp>
          <p:nvSpPr>
            <p:cNvPr id="814" name=""/>
            <p:cNvSpPr/>
            <p:nvPr/>
          </p:nvSpPr>
          <p:spPr>
            <a:xfrm>
              <a:off x="684360" y="5373360"/>
              <a:ext cx="352728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900000" y="2204640"/>
              <a:ext cx="0" cy="338436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16" name=""/>
          <p:cNvGraphicFramePr/>
          <p:nvPr/>
        </p:nvGraphicFramePr>
        <p:xfrm>
          <a:off x="1116000" y="3033720"/>
          <a:ext cx="2784600" cy="18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033720"/>
                    <a:ext cx="278460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8" name=""/>
          <p:cNvGrpSpPr/>
          <p:nvPr/>
        </p:nvGrpSpPr>
        <p:grpSpPr>
          <a:xfrm>
            <a:off x="1870200" y="3372120"/>
            <a:ext cx="1361520" cy="1039680"/>
            <a:chOff x="1870200" y="3372120"/>
            <a:chExt cx="1361520" cy="1039680"/>
          </a:xfrm>
        </p:grpSpPr>
        <p:sp>
          <p:nvSpPr>
            <p:cNvPr id="819" name=""/>
            <p:cNvSpPr/>
            <p:nvPr/>
          </p:nvSpPr>
          <p:spPr>
            <a:xfrm flipH="1" flipV="1">
              <a:off x="1996200" y="3465000"/>
              <a:ext cx="1204920" cy="89460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614000">
              <a:off x="3097440" y="4276440"/>
              <a:ext cx="118800" cy="1360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7234400">
              <a:off x="1893240" y="3380760"/>
              <a:ext cx="118800" cy="1360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3205080" y="411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478160" y="2962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65080" y="47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96720" y="220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70720" y="5589720"/>
            <a:ext cx="183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99080" y="6093000"/>
            <a:ext cx="183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1784520" y="5734080"/>
                <a:ext cx="8427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2628000" y="595008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2411280" y="2355840"/>
                <a:ext cx="648180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1" name=""/>
          <p:cNvSpPr/>
          <p:nvPr/>
        </p:nvSpPr>
        <p:spPr>
          <a:xfrm>
            <a:off x="7165080" y="328464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148360" y="4292640"/>
            <a:ext cx="345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arameta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4-1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486160" y="3357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333440" y="4365720"/>
            <a:ext cx="6120000" cy="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1549440" y="1196640"/>
            <a:ext cx="0" cy="338436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23852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046160" y="119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1981080" y="1759320"/>
            <a:ext cx="1267920" cy="1842840"/>
            <a:chOff x="1981080" y="1759320"/>
            <a:chExt cx="1267920" cy="1842840"/>
          </a:xfrm>
        </p:grpSpPr>
        <p:sp>
          <p:nvSpPr>
            <p:cNvPr id="839" name=""/>
            <p:cNvSpPr/>
            <p:nvPr/>
          </p:nvSpPr>
          <p:spPr>
            <a:xfrm flipV="1">
              <a:off x="2053800" y="1917720"/>
              <a:ext cx="1079640" cy="1656000"/>
            </a:xfrm>
            <a:prstGeom prst="line">
              <a:avLst/>
            </a:prstGeom>
            <a:ln w="7632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81080" y="342900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619800">
              <a:off x="3061800" y="177336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169380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0688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4284720" y="1557360"/>
          <a:ext cx="229212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557360"/>
                    <a:ext cx="229212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6" name=""/>
          <p:cNvSpPr/>
          <p:nvPr/>
        </p:nvSpPr>
        <p:spPr>
          <a:xfrm>
            <a:off x="4143600" y="105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518520" y="328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015240" y="162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357800" y="1700280"/>
            <a:ext cx="2087280" cy="1800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592320" y="220500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51960" y="162864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317160" y="260280"/>
            <a:ext cx="65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Dve ploče vezane zglobn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01760" y="984240"/>
            <a:ext cx="113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172800" y="3070080"/>
            <a:ext cx="4684320" cy="3671280"/>
            <a:chOff x="172800" y="3070080"/>
            <a:chExt cx="4684320" cy="3671280"/>
          </a:xfrm>
        </p:grpSpPr>
        <p:sp>
          <p:nvSpPr>
            <p:cNvPr id="855" name=""/>
            <p:cNvSpPr/>
            <p:nvPr/>
          </p:nvSpPr>
          <p:spPr>
            <a:xfrm>
              <a:off x="172800" y="604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94960" y="57913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41040" y="3070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313560" y="3259800"/>
              <a:ext cx="4369320" cy="3481560"/>
              <a:chOff x="313560" y="3259800"/>
              <a:chExt cx="4369320" cy="348156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313560" y="3259800"/>
                <a:ext cx="4369320" cy="3481560"/>
                <a:chOff x="313560" y="3259800"/>
                <a:chExt cx="4369320" cy="3481560"/>
              </a:xfrm>
            </p:grpSpPr>
            <p:sp>
              <p:nvSpPr>
                <p:cNvPr id="860" name=""/>
                <p:cNvSpPr/>
                <p:nvPr/>
              </p:nvSpPr>
              <p:spPr>
                <a:xfrm flipH="1">
                  <a:off x="313560" y="547020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2141640" y="547020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V="1">
                  <a:off x="2141640" y="325980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3" name=""/>
              <p:cNvSpPr/>
              <p:nvPr/>
            </p:nvSpPr>
            <p:spPr>
              <a:xfrm>
                <a:off x="1693440" y="50331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4" name=""/>
          <p:cNvGrpSpPr/>
          <p:nvPr/>
        </p:nvGrpSpPr>
        <p:grpSpPr>
          <a:xfrm>
            <a:off x="2627280" y="907920"/>
            <a:ext cx="5643720" cy="3819240"/>
            <a:chOff x="2627280" y="907920"/>
            <a:chExt cx="5643720" cy="3819240"/>
          </a:xfrm>
        </p:grpSpPr>
        <p:graphicFrame>
          <p:nvGraphicFramePr>
            <p:cNvPr id="865" name=""/>
            <p:cNvGraphicFramePr/>
            <p:nvPr/>
          </p:nvGraphicFramePr>
          <p:xfrm>
            <a:off x="4572000" y="3068280"/>
            <a:ext cx="3699000" cy="1658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3068280"/>
                      <a:ext cx="3699000" cy="165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7" name=""/>
            <p:cNvGraphicFramePr/>
            <p:nvPr/>
          </p:nvGraphicFramePr>
          <p:xfrm>
            <a:off x="2627280" y="907920"/>
            <a:ext cx="2103480" cy="24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27280" y="907920"/>
                      <a:ext cx="2103480" cy="24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9" name=""/>
            <p:cNvGraphicFramePr/>
            <p:nvPr/>
          </p:nvGraphicFramePr>
          <p:xfrm>
            <a:off x="4500720" y="3139920"/>
            <a:ext cx="204480" cy="19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00720" y="3139920"/>
                      <a:ext cx="204480" cy="19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1" name=""/>
            <p:cNvSpPr/>
            <p:nvPr/>
          </p:nvSpPr>
          <p:spPr>
            <a:xfrm>
              <a:off x="4141800" y="3284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3636720" y="83664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452720" y="371628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07520" y="1560600"/>
            <a:ext cx="122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94920" y="2205000"/>
            <a:ext cx="12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205320" y="836640"/>
            <a:ext cx="189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275880" y="1484280"/>
            <a:ext cx="18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349320" y="2133720"/>
            <a:ext cx="186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957440" y="278136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434200" y="5300640"/>
            <a:ext cx="33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12 – 3 =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317520" y="260280"/>
            <a:ext cx="596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Dve ploče vezane zglobno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01760" y="984240"/>
            <a:ext cx="113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1403280" y="2781360"/>
            <a:ext cx="4707000" cy="2879640"/>
            <a:chOff x="1403280" y="2781360"/>
            <a:chExt cx="4707000" cy="2879640"/>
          </a:xfrm>
        </p:grpSpPr>
        <p:graphicFrame>
          <p:nvGraphicFramePr>
            <p:cNvPr id="884" name=""/>
            <p:cNvGraphicFramePr/>
            <p:nvPr/>
          </p:nvGraphicFramePr>
          <p:xfrm>
            <a:off x="2411280" y="2781360"/>
            <a:ext cx="3699000" cy="122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11280" y="2781360"/>
                      <a:ext cx="3699000" cy="122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6" name=""/>
            <p:cNvGraphicFramePr/>
            <p:nvPr/>
          </p:nvGraphicFramePr>
          <p:xfrm>
            <a:off x="1403280" y="2781360"/>
            <a:ext cx="1654200" cy="287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03280" y="2781360"/>
                      <a:ext cx="1654200" cy="28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8" name=""/>
            <p:cNvGraphicFramePr/>
            <p:nvPr/>
          </p:nvGraphicFramePr>
          <p:xfrm>
            <a:off x="2340000" y="2924280"/>
            <a:ext cx="204840" cy="19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40000" y="2924280"/>
                      <a:ext cx="204840" cy="19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90" name=""/>
          <p:cNvSpPr/>
          <p:nvPr/>
        </p:nvSpPr>
        <p:spPr>
          <a:xfrm>
            <a:off x="2125440" y="22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412720" y="465300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004720" y="321300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20240" y="981000"/>
            <a:ext cx="122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635640" y="98100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781680" y="1773360"/>
            <a:ext cx="189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707880" y="2637000"/>
            <a:ext cx="18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97080" y="357336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434560" y="5300640"/>
            <a:ext cx="30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6 – 2 =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541080" y="4581000"/>
            <a:ext cx="3598920" cy="1726920"/>
            <a:chOff x="541080" y="4581000"/>
            <a:chExt cx="3598920" cy="1726920"/>
          </a:xfrm>
        </p:grpSpPr>
        <p:sp>
          <p:nvSpPr>
            <p:cNvPr id="900" name=""/>
            <p:cNvSpPr/>
            <p:nvPr/>
          </p:nvSpPr>
          <p:spPr>
            <a:xfrm>
              <a:off x="757080" y="615276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900000" y="458100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20360" y="558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41080" y="48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17880" y="260280"/>
            <a:ext cx="65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Linijski nosač –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sta gred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1680" y="6095880"/>
            <a:ext cx="641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3 – 3 = 0,    telo miru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973080" y="2552760"/>
            <a:ext cx="8170920" cy="126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H="1" flipV="1">
            <a:off x="1116000" y="981000"/>
            <a:ext cx="6480" cy="172728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8533800" y="184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85800" y="1052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0" name=""/>
          <p:cNvGraphicFramePr/>
          <p:nvPr/>
        </p:nvGraphicFramePr>
        <p:xfrm>
          <a:off x="1116000" y="2421000"/>
          <a:ext cx="6912000" cy="3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21000"/>
                    <a:ext cx="691200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584000" cy="113184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4"/>
          <a:stretch/>
        </p:blipFill>
        <p:spPr>
          <a:xfrm>
            <a:off x="7164360" y="2421000"/>
            <a:ext cx="1562040" cy="128268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/>
          <p:nvPr/>
        </p:nvSpPr>
        <p:spPr>
          <a:xfrm>
            <a:off x="469800" y="198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69440" y="184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4624920" y="1238040"/>
            <a:ext cx="1834920" cy="12862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5081760" y="1268280"/>
            <a:ext cx="511560" cy="648720"/>
            <a:chOff x="5081760" y="1268280"/>
            <a:chExt cx="511560" cy="648720"/>
          </a:xfrm>
        </p:grpSpPr>
        <p:sp>
          <p:nvSpPr>
            <p:cNvPr id="918" name=""/>
            <p:cNvSpPr/>
            <p:nvPr/>
          </p:nvSpPr>
          <p:spPr>
            <a:xfrm>
              <a:off x="5081760" y="126828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294160" y="1341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1469520" y="3789360"/>
            <a:ext cx="59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3 moguća tri kretanj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395360" y="4437000"/>
            <a:ext cx="710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3  onemogućeno kretanje u tački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u oba koordinatna pravca, i u tački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 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pravcu ose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By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468360" y="2565360"/>
            <a:ext cx="8353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ff0000"/>
                </a:solidFill>
                <a:latin typeface="Times New Roman"/>
              </a:rPr>
              <a:t>AKSIOMI STATI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445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Ako se aksiomi mehanike primene na tela koja miruju, onda su to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aksiomi statike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. Pri tome se umesto drugog aksioma mehanike uvodi drugi aksiom statike i dodaju još dva aksioma statike A5 i A6, pri čemu ni redosled nije sasvim zadrz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395280" y="260280"/>
            <a:ext cx="835344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1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telo ostaje u stanju mirovanja ili jednolikog pravolinijskog kretanja, sve dok pod uticajem sile ne bude prinuđeno da to stanje prome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4000" y="0"/>
            <a:ext cx="6337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NEPREKIDNA SRED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16000" y="1125360"/>
            <a:ext cx="0" cy="25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6000" y="170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16000" y="2349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371808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38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11280" y="4437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1800" y="14130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5600" y="2133720"/>
            <a:ext cx="38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FLU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MEHANIKA FLU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8680" y="5013360"/>
            <a:ext cx="485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DEFORMABILNO (ČVRS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(SOLID BOD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OTPORNOST MATERIJ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35640" y="5084640"/>
            <a:ext cx="351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KR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MEHANI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MEHANIK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81440" y="333216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1128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2764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0" y="0"/>
            <a:ext cx="91440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lobodno kruto telo ostaje u stanju mirovanja, ako na njega dejstvuju duž iste napadne linije dve sile jednakog intenziteta a suprotnih smerov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42840" y="41511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354920" y="4149720"/>
            <a:ext cx="27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lin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394920" y="3357720"/>
            <a:ext cx="360036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780000" y="3645000"/>
            <a:ext cx="57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826560" y="5157720"/>
            <a:ext cx="10083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1763640" y="508464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508464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3" name=""/>
          <p:cNvSpPr/>
          <p:nvPr/>
        </p:nvSpPr>
        <p:spPr>
          <a:xfrm flipV="1">
            <a:off x="2195640" y="4005360"/>
            <a:ext cx="1008000" cy="861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4" name=""/>
          <p:cNvGraphicFramePr/>
          <p:nvPr/>
        </p:nvGraphicFramePr>
        <p:xfrm>
          <a:off x="2124000" y="479736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4797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6" name=""/>
          <p:cNvGrpSpPr/>
          <p:nvPr/>
        </p:nvGrpSpPr>
        <p:grpSpPr>
          <a:xfrm>
            <a:off x="469800" y="5300640"/>
            <a:ext cx="548640" cy="675720"/>
            <a:chOff x="469800" y="5300640"/>
            <a:chExt cx="548640" cy="675720"/>
          </a:xfrm>
        </p:grpSpPr>
        <p:grpSp>
          <p:nvGrpSpPr>
            <p:cNvPr id="937" name=""/>
            <p:cNvGrpSpPr/>
            <p:nvPr/>
          </p:nvGrpSpPr>
          <p:grpSpPr>
            <a:xfrm>
              <a:off x="469800" y="5300640"/>
              <a:ext cx="452160" cy="581400"/>
              <a:chOff x="469800" y="5300640"/>
              <a:chExt cx="452160" cy="581400"/>
            </a:xfrm>
          </p:grpSpPr>
          <p:sp>
            <p:nvSpPr>
              <p:cNvPr id="938" name=""/>
              <p:cNvSpPr/>
              <p:nvPr/>
            </p:nvSpPr>
            <p:spPr>
              <a:xfrm>
                <a:off x="469800" y="530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84000" y="5371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0" name=""/>
            <p:cNvSpPr/>
            <p:nvPr/>
          </p:nvSpPr>
          <p:spPr>
            <a:xfrm>
              <a:off x="685440" y="551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2702160" y="3429000"/>
            <a:ext cx="549000" cy="675720"/>
            <a:chOff x="2702160" y="3429000"/>
            <a:chExt cx="549000" cy="675720"/>
          </a:xfrm>
        </p:grpSpPr>
        <p:grpSp>
          <p:nvGrpSpPr>
            <p:cNvPr id="942" name=""/>
            <p:cNvGrpSpPr/>
            <p:nvPr/>
          </p:nvGrpSpPr>
          <p:grpSpPr>
            <a:xfrm>
              <a:off x="2702160" y="3429000"/>
              <a:ext cx="452160" cy="581400"/>
              <a:chOff x="2702160" y="3429000"/>
              <a:chExt cx="452160" cy="581400"/>
            </a:xfrm>
          </p:grpSpPr>
          <p:sp>
            <p:nvSpPr>
              <p:cNvPr id="943" name=""/>
              <p:cNvSpPr/>
              <p:nvPr/>
            </p:nvSpPr>
            <p:spPr>
              <a:xfrm>
                <a:off x="2702160" y="3429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916360" y="3499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2918160" y="36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268280" y="4581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844640" y="41497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4717800" y="4869000"/>
            <a:ext cx="1556640" cy="675360"/>
            <a:chOff x="4717800" y="4869000"/>
            <a:chExt cx="1556640" cy="675360"/>
          </a:xfrm>
        </p:grpSpPr>
        <p:grpSp>
          <p:nvGrpSpPr>
            <p:cNvPr id="949" name=""/>
            <p:cNvGrpSpPr/>
            <p:nvPr/>
          </p:nvGrpSpPr>
          <p:grpSpPr>
            <a:xfrm>
              <a:off x="4717800" y="4869000"/>
              <a:ext cx="548640" cy="675360"/>
              <a:chOff x="4717800" y="4869000"/>
              <a:chExt cx="548640" cy="675360"/>
            </a:xfrm>
          </p:grpSpPr>
          <p:grpSp>
            <p:nvGrpSpPr>
              <p:cNvPr id="950" name=""/>
              <p:cNvGrpSpPr/>
              <p:nvPr/>
            </p:nvGrpSpPr>
            <p:grpSpPr>
              <a:xfrm>
                <a:off x="4717800" y="4869000"/>
                <a:ext cx="452160" cy="581400"/>
                <a:chOff x="4717800" y="4869000"/>
                <a:chExt cx="452160" cy="581400"/>
              </a:xfrm>
            </p:grpSpPr>
            <p:sp>
              <p:nvSpPr>
                <p:cNvPr id="951" name=""/>
                <p:cNvSpPr/>
                <p:nvPr/>
              </p:nvSpPr>
              <p:spPr>
                <a:xfrm>
                  <a:off x="4717800" y="4869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932000" y="4939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3" name=""/>
              <p:cNvSpPr/>
              <p:nvPr/>
            </p:nvSpPr>
            <p:spPr>
              <a:xfrm>
                <a:off x="4933440" y="508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5725800" y="4869000"/>
              <a:ext cx="548640" cy="675360"/>
              <a:chOff x="5725800" y="4869000"/>
              <a:chExt cx="548640" cy="675360"/>
            </a:xfrm>
          </p:grpSpPr>
          <p:grpSp>
            <p:nvGrpSpPr>
              <p:cNvPr id="955" name=""/>
              <p:cNvGrpSpPr/>
              <p:nvPr/>
            </p:nvGrpSpPr>
            <p:grpSpPr>
              <a:xfrm>
                <a:off x="5725800" y="4869000"/>
                <a:ext cx="452160" cy="581400"/>
                <a:chOff x="5725800" y="4869000"/>
                <a:chExt cx="452160" cy="581400"/>
              </a:xfrm>
            </p:grpSpPr>
            <p:sp>
              <p:nvSpPr>
                <p:cNvPr id="956" name=""/>
                <p:cNvSpPr/>
                <p:nvPr/>
              </p:nvSpPr>
              <p:spPr>
                <a:xfrm>
                  <a:off x="5725800" y="4869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940000" y="4939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"/>
              <p:cNvSpPr/>
              <p:nvPr/>
            </p:nvSpPr>
            <p:spPr>
              <a:xfrm>
                <a:off x="5941440" y="508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5222160" y="4869000"/>
              <a:ext cx="65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= 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"/>
          <p:cNvSpPr/>
          <p:nvPr/>
        </p:nvSpPr>
        <p:spPr>
          <a:xfrm>
            <a:off x="2983320" y="5805360"/>
            <a:ext cx="58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snovni uravnoteženi sistem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0" y="0"/>
            <a:ext cx="91440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Mehanički uticaj nekog sistema sila na kruto telo neće se promeniti, ako se ovom sistemu doda ili oduzme uravnoteženi sistem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2052360" y="5877000"/>
            <a:ext cx="1556640" cy="675720"/>
            <a:chOff x="2052360" y="5877000"/>
            <a:chExt cx="1556640" cy="675720"/>
          </a:xfrm>
        </p:grpSpPr>
        <p:grpSp>
          <p:nvGrpSpPr>
            <p:cNvPr id="963" name=""/>
            <p:cNvGrpSpPr/>
            <p:nvPr/>
          </p:nvGrpSpPr>
          <p:grpSpPr>
            <a:xfrm>
              <a:off x="2052360" y="5877000"/>
              <a:ext cx="548640" cy="675720"/>
              <a:chOff x="2052360" y="5877000"/>
              <a:chExt cx="548640" cy="675720"/>
            </a:xfrm>
          </p:grpSpPr>
          <p:grpSp>
            <p:nvGrpSpPr>
              <p:cNvPr id="964" name=""/>
              <p:cNvGrpSpPr/>
              <p:nvPr/>
            </p:nvGrpSpPr>
            <p:grpSpPr>
              <a:xfrm>
                <a:off x="2052360" y="5877000"/>
                <a:ext cx="452160" cy="581400"/>
                <a:chOff x="2052360" y="5877000"/>
                <a:chExt cx="452160" cy="581400"/>
              </a:xfrm>
            </p:grpSpPr>
            <p:sp>
              <p:nvSpPr>
                <p:cNvPr id="965" name=""/>
                <p:cNvSpPr/>
                <p:nvPr/>
              </p:nvSpPr>
              <p:spPr>
                <a:xfrm>
                  <a:off x="2052360" y="587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266560" y="594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"/>
              <p:cNvSpPr/>
              <p:nvPr/>
            </p:nvSpPr>
            <p:spPr>
              <a:xfrm>
                <a:off x="2268000" y="6093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3060360" y="5877000"/>
              <a:ext cx="548640" cy="675720"/>
              <a:chOff x="3060360" y="5877000"/>
              <a:chExt cx="548640" cy="675720"/>
            </a:xfrm>
          </p:grpSpPr>
          <p:grpSp>
            <p:nvGrpSpPr>
              <p:cNvPr id="969" name=""/>
              <p:cNvGrpSpPr/>
              <p:nvPr/>
            </p:nvGrpSpPr>
            <p:grpSpPr>
              <a:xfrm>
                <a:off x="3060360" y="5877000"/>
                <a:ext cx="452160" cy="581400"/>
                <a:chOff x="3060360" y="5877000"/>
                <a:chExt cx="452160" cy="5814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3060360" y="587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3274560" y="594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2" name=""/>
              <p:cNvSpPr/>
              <p:nvPr/>
            </p:nvSpPr>
            <p:spPr>
              <a:xfrm>
                <a:off x="3276000" y="6093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2556720" y="5877000"/>
              <a:ext cx="65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= 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571640" y="2924280"/>
            <a:ext cx="3600720" cy="3024000"/>
            <a:chOff x="4571640" y="2924280"/>
            <a:chExt cx="3600720" cy="3024000"/>
          </a:xfrm>
        </p:grpSpPr>
        <p:sp>
          <p:nvSpPr>
            <p:cNvPr id="975" name=""/>
            <p:cNvSpPr/>
            <p:nvPr/>
          </p:nvSpPr>
          <p:spPr>
            <a:xfrm>
              <a:off x="5119560" y="3717720"/>
              <a:ext cx="236232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4571640" y="2924280"/>
              <a:ext cx="360036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5003280" y="4724280"/>
              <a:ext cx="100836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78" name=""/>
            <p:cNvGraphicFramePr/>
            <p:nvPr/>
          </p:nvGraphicFramePr>
          <p:xfrm>
            <a:off x="5940360" y="4651200"/>
            <a:ext cx="133560" cy="13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40360" y="465120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0" name=""/>
            <p:cNvSpPr/>
            <p:nvPr/>
          </p:nvSpPr>
          <p:spPr>
            <a:xfrm flipV="1">
              <a:off x="6372360" y="3571920"/>
              <a:ext cx="1008000" cy="8618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1" name=""/>
            <p:cNvGraphicFramePr/>
            <p:nvPr/>
          </p:nvGraphicFramePr>
          <p:xfrm>
            <a:off x="6300720" y="4363920"/>
            <a:ext cx="133560" cy="13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00720" y="436392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83" name=""/>
            <p:cNvGrpSpPr/>
            <p:nvPr/>
          </p:nvGrpSpPr>
          <p:grpSpPr>
            <a:xfrm>
              <a:off x="4646520" y="4867200"/>
              <a:ext cx="548640" cy="675720"/>
              <a:chOff x="4646520" y="4867200"/>
              <a:chExt cx="548640" cy="675720"/>
            </a:xfrm>
          </p:grpSpPr>
          <p:grpSp>
            <p:nvGrpSpPr>
              <p:cNvPr id="984" name=""/>
              <p:cNvGrpSpPr/>
              <p:nvPr/>
            </p:nvGrpSpPr>
            <p:grpSpPr>
              <a:xfrm>
                <a:off x="4646520" y="4867200"/>
                <a:ext cx="452160" cy="581400"/>
                <a:chOff x="4646520" y="4867200"/>
                <a:chExt cx="452160" cy="5814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646520" y="48672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4860720" y="49381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7" name=""/>
              <p:cNvSpPr/>
              <p:nvPr/>
            </p:nvSpPr>
            <p:spPr>
              <a:xfrm>
                <a:off x="4862160" y="508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6878880" y="2995560"/>
              <a:ext cx="549000" cy="675720"/>
              <a:chOff x="6878880" y="2995560"/>
              <a:chExt cx="549000" cy="675720"/>
            </a:xfrm>
          </p:grpSpPr>
          <p:grpSp>
            <p:nvGrpSpPr>
              <p:cNvPr id="989" name=""/>
              <p:cNvGrpSpPr/>
              <p:nvPr/>
            </p:nvGrpSpPr>
            <p:grpSpPr>
              <a:xfrm>
                <a:off x="6878880" y="2995560"/>
                <a:ext cx="452160" cy="581400"/>
                <a:chOff x="6878880" y="2995560"/>
                <a:chExt cx="452160" cy="58140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6878880" y="29955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093080" y="306648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2" name=""/>
              <p:cNvSpPr/>
              <p:nvPr/>
            </p:nvSpPr>
            <p:spPr>
              <a:xfrm>
                <a:off x="7094880" y="3211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3" name=""/>
            <p:cNvSpPr/>
            <p:nvPr/>
          </p:nvSpPr>
          <p:spPr>
            <a:xfrm>
              <a:off x="5445000" y="41479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021360" y="371628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020000" y="5010120"/>
              <a:ext cx="1152360" cy="577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96" name=""/>
            <p:cNvGraphicFramePr/>
            <p:nvPr/>
          </p:nvGraphicFramePr>
          <p:xfrm>
            <a:off x="6948360" y="4940280"/>
            <a:ext cx="133560" cy="130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48360" y="49402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98" name=""/>
            <p:cNvGrpSpPr/>
            <p:nvPr/>
          </p:nvGrpSpPr>
          <p:grpSpPr>
            <a:xfrm>
              <a:off x="7597800" y="4795920"/>
              <a:ext cx="452160" cy="581400"/>
              <a:chOff x="7597800" y="4795920"/>
              <a:chExt cx="452160" cy="581400"/>
            </a:xfrm>
          </p:grpSpPr>
          <p:sp>
            <p:nvSpPr>
              <p:cNvPr id="999" name=""/>
              <p:cNvSpPr/>
              <p:nvPr/>
            </p:nvSpPr>
            <p:spPr>
              <a:xfrm>
                <a:off x="7597800" y="4795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812000" y="486684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6517800" y="46512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468360" y="3429000"/>
            <a:ext cx="3052800" cy="1885680"/>
            <a:chOff x="468360" y="3429000"/>
            <a:chExt cx="3052800" cy="1885680"/>
          </a:xfrm>
        </p:grpSpPr>
        <p:sp>
          <p:nvSpPr>
            <p:cNvPr id="1003" name=""/>
            <p:cNvSpPr/>
            <p:nvPr/>
          </p:nvSpPr>
          <p:spPr>
            <a:xfrm>
              <a:off x="468360" y="3429000"/>
              <a:ext cx="2362320" cy="188568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68800" y="4721040"/>
              <a:ext cx="1152360" cy="577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5" name=""/>
            <p:cNvGraphicFramePr/>
            <p:nvPr/>
          </p:nvGraphicFramePr>
          <p:xfrm>
            <a:off x="2297160" y="4651200"/>
            <a:ext cx="133560" cy="130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0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97160" y="465120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07" name=""/>
            <p:cNvGrpSpPr/>
            <p:nvPr/>
          </p:nvGrpSpPr>
          <p:grpSpPr>
            <a:xfrm>
              <a:off x="2946600" y="4506840"/>
              <a:ext cx="452160" cy="581400"/>
              <a:chOff x="2946600" y="4506840"/>
              <a:chExt cx="452160" cy="581400"/>
            </a:xfrm>
          </p:grpSpPr>
          <p:sp>
            <p:nvSpPr>
              <p:cNvPr id="1008" name=""/>
              <p:cNvSpPr/>
              <p:nvPr/>
            </p:nvSpPr>
            <p:spPr>
              <a:xfrm>
                <a:off x="2946600" y="4506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160800" y="45777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1866600" y="43624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3851280" y="4076640"/>
            <a:ext cx="433440" cy="144360"/>
            <a:chOff x="3851280" y="4076640"/>
            <a:chExt cx="433440" cy="144360"/>
          </a:xfrm>
        </p:grpSpPr>
        <p:sp>
          <p:nvSpPr>
            <p:cNvPr id="1012" name=""/>
            <p:cNvSpPr/>
            <p:nvPr/>
          </p:nvSpPr>
          <p:spPr>
            <a:xfrm>
              <a:off x="3851280" y="4076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51280" y="4149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851280" y="4221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Aksiom A3 uvodi silu kao klizeći vek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rot="19815600">
            <a:off x="826560" y="1052280"/>
            <a:ext cx="312444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279000" y="907920"/>
            <a:ext cx="360036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117800" y="220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539640" y="2852640"/>
            <a:ext cx="1008000" cy="8654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0" name=""/>
          <p:cNvGraphicFramePr/>
          <p:nvPr/>
        </p:nvGraphicFramePr>
        <p:xfrm>
          <a:off x="1476360" y="278136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813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2" name=""/>
          <p:cNvGrpSpPr/>
          <p:nvPr/>
        </p:nvGrpSpPr>
        <p:grpSpPr>
          <a:xfrm>
            <a:off x="469800" y="2852640"/>
            <a:ext cx="452160" cy="581400"/>
            <a:chOff x="469800" y="2852640"/>
            <a:chExt cx="452160" cy="581400"/>
          </a:xfrm>
        </p:grpSpPr>
        <p:sp>
          <p:nvSpPr>
            <p:cNvPr id="1023" name=""/>
            <p:cNvSpPr/>
            <p:nvPr/>
          </p:nvSpPr>
          <p:spPr>
            <a:xfrm>
              <a:off x="469800" y="285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84000" y="2923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1620360" y="278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3348000" y="2708280"/>
            <a:ext cx="433440" cy="144360"/>
            <a:chOff x="3348000" y="2708280"/>
            <a:chExt cx="433440" cy="144360"/>
          </a:xfrm>
        </p:grpSpPr>
        <p:sp>
          <p:nvSpPr>
            <p:cNvPr id="1027" name=""/>
            <p:cNvSpPr/>
            <p:nvPr/>
          </p:nvSpPr>
          <p:spPr>
            <a:xfrm>
              <a:off x="3348000" y="27082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48000" y="2781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48000" y="2852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661080" y="1557360"/>
            <a:ext cx="2275560" cy="675720"/>
            <a:chOff x="6661080" y="1557360"/>
            <a:chExt cx="2275560" cy="675720"/>
          </a:xfrm>
        </p:grpSpPr>
        <p:grpSp>
          <p:nvGrpSpPr>
            <p:cNvPr id="1031" name=""/>
            <p:cNvGrpSpPr/>
            <p:nvPr/>
          </p:nvGrpSpPr>
          <p:grpSpPr>
            <a:xfrm>
              <a:off x="7380000" y="1557360"/>
              <a:ext cx="1556640" cy="675720"/>
              <a:chOff x="7380000" y="1557360"/>
              <a:chExt cx="1556640" cy="67572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7380000" y="1557360"/>
                <a:ext cx="548640" cy="675720"/>
                <a:chOff x="7380000" y="1557360"/>
                <a:chExt cx="548640" cy="675720"/>
              </a:xfrm>
            </p:grpSpPr>
            <p:grpSp>
              <p:nvGrpSpPr>
                <p:cNvPr id="1033" name=""/>
                <p:cNvGrpSpPr/>
                <p:nvPr/>
              </p:nvGrpSpPr>
              <p:grpSpPr>
                <a:xfrm>
                  <a:off x="7380000" y="1557360"/>
                  <a:ext cx="452160" cy="581400"/>
                  <a:chOff x="7380000" y="1557360"/>
                  <a:chExt cx="452160" cy="58140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>
                    <a:off x="7380000" y="155736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7594200" y="162828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"/>
                <p:cNvSpPr/>
                <p:nvPr/>
              </p:nvSpPr>
              <p:spPr>
                <a:xfrm>
                  <a:off x="7595640" y="1773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7" name=""/>
              <p:cNvGrpSpPr/>
              <p:nvPr/>
            </p:nvGrpSpPr>
            <p:grpSpPr>
              <a:xfrm>
                <a:off x="8388000" y="1557360"/>
                <a:ext cx="548640" cy="675720"/>
                <a:chOff x="8388000" y="1557360"/>
                <a:chExt cx="548640" cy="675720"/>
              </a:xfrm>
            </p:grpSpPr>
            <p:grpSp>
              <p:nvGrpSpPr>
                <p:cNvPr id="1038" name=""/>
                <p:cNvGrpSpPr/>
                <p:nvPr/>
              </p:nvGrpSpPr>
              <p:grpSpPr>
                <a:xfrm>
                  <a:off x="8388000" y="1557360"/>
                  <a:ext cx="452160" cy="581400"/>
                  <a:chOff x="8388000" y="1557360"/>
                  <a:chExt cx="452160" cy="58140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8388000" y="155736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8602200" y="162828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1" name=""/>
                <p:cNvSpPr/>
                <p:nvPr/>
              </p:nvSpPr>
              <p:spPr>
                <a:xfrm>
                  <a:off x="8603640" y="1773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2" name=""/>
              <p:cNvSpPr/>
              <p:nvPr/>
            </p:nvSpPr>
            <p:spPr>
              <a:xfrm>
                <a:off x="7884360" y="1557360"/>
                <a:ext cx="650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= 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6661080" y="1557360"/>
              <a:ext cx="785880" cy="581400"/>
              <a:chOff x="6661080" y="1557360"/>
              <a:chExt cx="785880" cy="581400"/>
            </a:xfrm>
          </p:grpSpPr>
          <p:sp>
            <p:nvSpPr>
              <p:cNvPr id="1044" name=""/>
              <p:cNvSpPr/>
              <p:nvPr/>
            </p:nvSpPr>
            <p:spPr>
              <a:xfrm>
                <a:off x="6661080" y="1557360"/>
                <a:ext cx="785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 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875280" y="162828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6" name=""/>
          <p:cNvSpPr/>
          <p:nvPr/>
        </p:nvSpPr>
        <p:spPr>
          <a:xfrm rot="19815600">
            <a:off x="2843280" y="2781360"/>
            <a:ext cx="312408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295360" y="2637000"/>
            <a:ext cx="360072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13380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2556000" y="4581360"/>
            <a:ext cx="1008000" cy="8654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0" name=""/>
          <p:cNvGraphicFramePr/>
          <p:nvPr/>
        </p:nvGraphicFramePr>
        <p:xfrm>
          <a:off x="3492360" y="451008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5100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2" name=""/>
          <p:cNvGrpSpPr/>
          <p:nvPr/>
        </p:nvGrpSpPr>
        <p:grpSpPr>
          <a:xfrm>
            <a:off x="2486160" y="4581360"/>
            <a:ext cx="452160" cy="581400"/>
            <a:chOff x="2486160" y="4581360"/>
            <a:chExt cx="452160" cy="581400"/>
          </a:xfrm>
        </p:grpSpPr>
        <p:sp>
          <p:nvSpPr>
            <p:cNvPr id="1053" name=""/>
            <p:cNvSpPr/>
            <p:nvPr/>
          </p:nvSpPr>
          <p:spPr>
            <a:xfrm>
              <a:off x="2486160" y="4581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700360" y="4652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3636720" y="45100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4211640" y="2349360"/>
            <a:ext cx="2134440" cy="1828080"/>
            <a:chOff x="4211640" y="2349360"/>
            <a:chExt cx="2134440" cy="1828080"/>
          </a:xfrm>
        </p:grpSpPr>
        <p:grpSp>
          <p:nvGrpSpPr>
            <p:cNvPr id="1057" name=""/>
            <p:cNvGrpSpPr/>
            <p:nvPr/>
          </p:nvGrpSpPr>
          <p:grpSpPr>
            <a:xfrm>
              <a:off x="4211640" y="2349360"/>
              <a:ext cx="2016720" cy="1730520"/>
              <a:chOff x="4211640" y="2349360"/>
              <a:chExt cx="2016720" cy="1730520"/>
            </a:xfrm>
          </p:grpSpPr>
          <p:grpSp>
            <p:nvGrpSpPr>
              <p:cNvPr id="1058" name=""/>
              <p:cNvGrpSpPr/>
              <p:nvPr/>
            </p:nvGrpSpPr>
            <p:grpSpPr>
              <a:xfrm>
                <a:off x="5149440" y="2349360"/>
                <a:ext cx="1078920" cy="922320"/>
                <a:chOff x="5149440" y="2349360"/>
                <a:chExt cx="1078920" cy="922320"/>
              </a:xfrm>
            </p:grpSpPr>
            <p:sp>
              <p:nvSpPr>
                <p:cNvPr id="1059" name=""/>
                <p:cNvSpPr/>
                <p:nvPr/>
              </p:nvSpPr>
              <p:spPr>
                <a:xfrm flipV="1">
                  <a:off x="5220720" y="2349360"/>
                  <a:ext cx="1007640" cy="86184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060" name=""/>
                <p:cNvGraphicFramePr/>
                <p:nvPr/>
              </p:nvGraphicFramePr>
              <p:xfrm>
                <a:off x="5149440" y="3141360"/>
                <a:ext cx="133200" cy="1303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061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5149440" y="3141360"/>
                          <a:ext cx="133200" cy="130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062" name=""/>
              <p:cNvGrpSpPr/>
              <p:nvPr/>
            </p:nvGrpSpPr>
            <p:grpSpPr>
              <a:xfrm>
                <a:off x="4211640" y="3141720"/>
                <a:ext cx="1069200" cy="938160"/>
                <a:chOff x="4211640" y="3141720"/>
                <a:chExt cx="1069200" cy="938160"/>
              </a:xfrm>
            </p:grpSpPr>
            <p:sp>
              <p:nvSpPr>
                <p:cNvPr id="1063" name=""/>
                <p:cNvSpPr/>
                <p:nvPr/>
              </p:nvSpPr>
              <p:spPr>
                <a:xfrm flipH="1">
                  <a:off x="4211640" y="3214800"/>
                  <a:ext cx="1008000" cy="86508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064" name=""/>
                <p:cNvGraphicFramePr/>
                <p:nvPr/>
              </p:nvGraphicFramePr>
              <p:xfrm>
                <a:off x="5148000" y="3141720"/>
                <a:ext cx="132840" cy="1303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065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5148000" y="3141720"/>
                          <a:ext cx="132840" cy="130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066" name=""/>
            <p:cNvGrpSpPr/>
            <p:nvPr/>
          </p:nvGrpSpPr>
          <p:grpSpPr>
            <a:xfrm>
              <a:off x="4789440" y="3502080"/>
              <a:ext cx="549000" cy="675360"/>
              <a:chOff x="4789440" y="3502080"/>
              <a:chExt cx="549000" cy="675360"/>
            </a:xfrm>
          </p:grpSpPr>
          <p:grpSp>
            <p:nvGrpSpPr>
              <p:cNvPr id="1067" name=""/>
              <p:cNvGrpSpPr/>
              <p:nvPr/>
            </p:nvGrpSpPr>
            <p:grpSpPr>
              <a:xfrm>
                <a:off x="4789440" y="3502080"/>
                <a:ext cx="452160" cy="581400"/>
                <a:chOff x="4789440" y="3502080"/>
                <a:chExt cx="452160" cy="58140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4789440" y="3502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003640" y="3573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0" name=""/>
              <p:cNvSpPr/>
              <p:nvPr/>
            </p:nvSpPr>
            <p:spPr>
              <a:xfrm>
                <a:off x="5005440" y="3717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5797440" y="2636640"/>
              <a:ext cx="548640" cy="675720"/>
              <a:chOff x="5797440" y="2636640"/>
              <a:chExt cx="548640" cy="675720"/>
            </a:xfrm>
          </p:grpSpPr>
          <p:grpSp>
            <p:nvGrpSpPr>
              <p:cNvPr id="1072" name=""/>
              <p:cNvGrpSpPr/>
              <p:nvPr/>
            </p:nvGrpSpPr>
            <p:grpSpPr>
              <a:xfrm>
                <a:off x="5797440" y="2636640"/>
                <a:ext cx="452160" cy="581400"/>
                <a:chOff x="5797440" y="2636640"/>
                <a:chExt cx="452160" cy="58140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5797440" y="263664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011640" y="270756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5" name=""/>
              <p:cNvSpPr/>
              <p:nvPr/>
            </p:nvSpPr>
            <p:spPr>
              <a:xfrm>
                <a:off x="6013080" y="28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6" name=""/>
            <p:cNvSpPr/>
            <p:nvPr/>
          </p:nvSpPr>
          <p:spPr>
            <a:xfrm>
              <a:off x="4718160" y="2709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77" name=""/>
            <p:cNvGraphicFramePr/>
            <p:nvPr/>
          </p:nvGraphicFramePr>
          <p:xfrm>
            <a:off x="5148000" y="3141720"/>
            <a:ext cx="133560" cy="129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148000" y="3141720"/>
                      <a:ext cx="13356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9" name=""/>
          <p:cNvSpPr/>
          <p:nvPr/>
        </p:nvSpPr>
        <p:spPr>
          <a:xfrm>
            <a:off x="2702160" y="98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0" name=""/>
          <p:cNvGraphicFramePr/>
          <p:nvPr/>
        </p:nvGraphicFramePr>
        <p:xfrm>
          <a:off x="3132000" y="1413000"/>
          <a:ext cx="133560" cy="12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32000" y="141300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2" name=""/>
          <p:cNvGrpSpPr/>
          <p:nvPr/>
        </p:nvGrpSpPr>
        <p:grpSpPr>
          <a:xfrm>
            <a:off x="5940360" y="3905280"/>
            <a:ext cx="433440" cy="144360"/>
            <a:chOff x="5940360" y="3905280"/>
            <a:chExt cx="433440" cy="144360"/>
          </a:xfrm>
        </p:grpSpPr>
        <p:sp>
          <p:nvSpPr>
            <p:cNvPr id="1083" name=""/>
            <p:cNvSpPr/>
            <p:nvPr/>
          </p:nvSpPr>
          <p:spPr>
            <a:xfrm>
              <a:off x="5940360" y="39052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940360" y="3978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940360" y="4049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"/>
          <p:cNvSpPr/>
          <p:nvPr/>
        </p:nvSpPr>
        <p:spPr>
          <a:xfrm rot="19815600">
            <a:off x="5435640" y="3978360"/>
            <a:ext cx="312408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4887720" y="3833640"/>
            <a:ext cx="360036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726160" y="5130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9" name=""/>
          <p:cNvGraphicFramePr/>
          <p:nvPr/>
        </p:nvGraphicFramePr>
        <p:xfrm>
          <a:off x="6084720" y="5707080"/>
          <a:ext cx="133560" cy="130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84720" y="57070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91" name=""/>
          <p:cNvGrpSpPr/>
          <p:nvPr/>
        </p:nvGrpSpPr>
        <p:grpSpPr>
          <a:xfrm>
            <a:off x="6803640" y="4338720"/>
            <a:ext cx="1070280" cy="938160"/>
            <a:chOff x="6803640" y="4338720"/>
            <a:chExt cx="1070280" cy="938160"/>
          </a:xfrm>
        </p:grpSpPr>
        <p:sp>
          <p:nvSpPr>
            <p:cNvPr id="1092" name=""/>
            <p:cNvSpPr/>
            <p:nvPr/>
          </p:nvSpPr>
          <p:spPr>
            <a:xfrm flipH="1">
              <a:off x="6803640" y="4411800"/>
              <a:ext cx="100836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93" name=""/>
            <p:cNvGraphicFramePr/>
            <p:nvPr/>
          </p:nvGraphicFramePr>
          <p:xfrm>
            <a:off x="7740720" y="4338720"/>
            <a:ext cx="133200" cy="1303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9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740720" y="433872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95" name=""/>
          <p:cNvGrpSpPr/>
          <p:nvPr/>
        </p:nvGrpSpPr>
        <p:grpSpPr>
          <a:xfrm>
            <a:off x="7597800" y="4581360"/>
            <a:ext cx="1293840" cy="675720"/>
            <a:chOff x="7597800" y="4581360"/>
            <a:chExt cx="1293840" cy="675720"/>
          </a:xfrm>
        </p:grpSpPr>
        <p:sp>
          <p:nvSpPr>
            <p:cNvPr id="1096" name=""/>
            <p:cNvSpPr/>
            <p:nvPr/>
          </p:nvSpPr>
          <p:spPr>
            <a:xfrm>
              <a:off x="8102520" y="4606560"/>
              <a:ext cx="78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= 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675640" y="4679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7597800" y="4581360"/>
              <a:ext cx="548640" cy="675720"/>
              <a:chOff x="7597800" y="4581360"/>
              <a:chExt cx="548640" cy="675720"/>
            </a:xfrm>
          </p:grpSpPr>
          <p:grpSp>
            <p:nvGrpSpPr>
              <p:cNvPr id="1099" name=""/>
              <p:cNvGrpSpPr/>
              <p:nvPr/>
            </p:nvGrpSpPr>
            <p:grpSpPr>
              <a:xfrm>
                <a:off x="7597800" y="4581360"/>
                <a:ext cx="452160" cy="581400"/>
                <a:chOff x="7597800" y="4581360"/>
                <a:chExt cx="452160" cy="58140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7597800" y="458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7812000" y="4652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2" name=""/>
              <p:cNvSpPr/>
              <p:nvPr/>
            </p:nvSpPr>
            <p:spPr>
              <a:xfrm>
                <a:off x="7813440" y="479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3" name=""/>
          <p:cNvSpPr/>
          <p:nvPr/>
        </p:nvSpPr>
        <p:spPr>
          <a:xfrm>
            <a:off x="7310520" y="3906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4" name=""/>
          <p:cNvGraphicFramePr/>
          <p:nvPr/>
        </p:nvGraphicFramePr>
        <p:xfrm>
          <a:off x="7740720" y="4338720"/>
          <a:ext cx="133200" cy="12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0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40720" y="43387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547560"/>
            <a:ext cx="91440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Mehanički uticaj sistema od dve sile koje deluju u istoj tački krutog tela u različitim pravcima jednak je uticaju jedne sile koja deluje u istoj tački, a određena je dijagonalom paralelograma konstruisanog nad pravcima datih sila (rezultanta tog sistema sil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"/>
          <p:cNvGrpSpPr/>
          <p:nvPr/>
        </p:nvGrpSpPr>
        <p:grpSpPr>
          <a:xfrm>
            <a:off x="3708360" y="2997360"/>
            <a:ext cx="433440" cy="144360"/>
            <a:chOff x="3708360" y="2997360"/>
            <a:chExt cx="433440" cy="144360"/>
          </a:xfrm>
        </p:grpSpPr>
        <p:sp>
          <p:nvSpPr>
            <p:cNvPr id="1108" name=""/>
            <p:cNvSpPr/>
            <p:nvPr/>
          </p:nvSpPr>
          <p:spPr>
            <a:xfrm>
              <a:off x="3708360" y="2997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708360" y="30704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708360" y="3141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395280" y="11253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1187280" y="331920"/>
            <a:ext cx="22608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1647720" y="979560"/>
            <a:ext cx="1008000" cy="861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4" name=""/>
          <p:cNvGraphicFramePr/>
          <p:nvPr/>
        </p:nvGraphicFramePr>
        <p:xfrm>
          <a:off x="1576440" y="177156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1771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6" name=""/>
          <p:cNvGrpSpPr/>
          <p:nvPr/>
        </p:nvGrpSpPr>
        <p:grpSpPr>
          <a:xfrm>
            <a:off x="2772000" y="2278080"/>
            <a:ext cx="549000" cy="675720"/>
            <a:chOff x="2772000" y="2278080"/>
            <a:chExt cx="549000" cy="675720"/>
          </a:xfrm>
        </p:grpSpPr>
        <p:grpSp>
          <p:nvGrpSpPr>
            <p:cNvPr id="1117" name=""/>
            <p:cNvGrpSpPr/>
            <p:nvPr/>
          </p:nvGrpSpPr>
          <p:grpSpPr>
            <a:xfrm>
              <a:off x="2772000" y="2278080"/>
              <a:ext cx="452160" cy="581400"/>
              <a:chOff x="2772000" y="2278080"/>
              <a:chExt cx="452160" cy="581400"/>
            </a:xfrm>
          </p:grpSpPr>
          <p:sp>
            <p:nvSpPr>
              <p:cNvPr id="1118" name=""/>
              <p:cNvSpPr/>
              <p:nvPr/>
            </p:nvSpPr>
            <p:spPr>
              <a:xfrm>
                <a:off x="2772000" y="227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986200" y="2349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"/>
            <p:cNvSpPr/>
            <p:nvPr/>
          </p:nvSpPr>
          <p:spPr>
            <a:xfrm>
              <a:off x="2988000" y="24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2154240" y="403200"/>
            <a:ext cx="548640" cy="675720"/>
            <a:chOff x="2154240" y="403200"/>
            <a:chExt cx="548640" cy="675720"/>
          </a:xfrm>
        </p:grpSpPr>
        <p:grpSp>
          <p:nvGrpSpPr>
            <p:cNvPr id="1122" name=""/>
            <p:cNvGrpSpPr/>
            <p:nvPr/>
          </p:nvGrpSpPr>
          <p:grpSpPr>
            <a:xfrm>
              <a:off x="2154240" y="403200"/>
              <a:ext cx="452160" cy="581400"/>
              <a:chOff x="2154240" y="403200"/>
              <a:chExt cx="452160" cy="581400"/>
            </a:xfrm>
          </p:grpSpPr>
          <p:sp>
            <p:nvSpPr>
              <p:cNvPr id="1123" name=""/>
              <p:cNvSpPr/>
              <p:nvPr/>
            </p:nvSpPr>
            <p:spPr>
              <a:xfrm>
                <a:off x="2154240" y="403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368440" y="474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5" name=""/>
            <p:cNvSpPr/>
            <p:nvPr/>
          </p:nvSpPr>
          <p:spPr>
            <a:xfrm>
              <a:off x="2369880" y="619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7679520" y="2852640"/>
            <a:ext cx="609120" cy="648720"/>
            <a:chOff x="7679520" y="2852640"/>
            <a:chExt cx="609120" cy="648720"/>
          </a:xfrm>
        </p:grpSpPr>
        <p:sp>
          <p:nvSpPr>
            <p:cNvPr id="1127" name=""/>
            <p:cNvSpPr/>
            <p:nvPr/>
          </p:nvSpPr>
          <p:spPr>
            <a:xfrm>
              <a:off x="7679520" y="28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883280" y="2923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1260000" y="1268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826560" y="1701360"/>
            <a:ext cx="385956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619280" y="1846440"/>
            <a:ext cx="1655640" cy="358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427640" y="3284640"/>
            <a:ext cx="236196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5219640" y="2490840"/>
            <a:ext cx="22608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5680080" y="3138120"/>
            <a:ext cx="100800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5" name=""/>
          <p:cNvGraphicFramePr/>
          <p:nvPr/>
        </p:nvGraphicFramePr>
        <p:xfrm>
          <a:off x="5608800" y="39304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8800" y="39304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7" name=""/>
          <p:cNvGrpSpPr/>
          <p:nvPr/>
        </p:nvGrpSpPr>
        <p:grpSpPr>
          <a:xfrm>
            <a:off x="6086520" y="4221000"/>
            <a:ext cx="549000" cy="675720"/>
            <a:chOff x="6086520" y="4221000"/>
            <a:chExt cx="549000" cy="675720"/>
          </a:xfrm>
        </p:grpSpPr>
        <p:grpSp>
          <p:nvGrpSpPr>
            <p:cNvPr id="1138" name=""/>
            <p:cNvGrpSpPr/>
            <p:nvPr/>
          </p:nvGrpSpPr>
          <p:grpSpPr>
            <a:xfrm>
              <a:off x="6086520" y="4221000"/>
              <a:ext cx="452160" cy="581400"/>
              <a:chOff x="6086520" y="4221000"/>
              <a:chExt cx="452160" cy="581400"/>
            </a:xfrm>
          </p:grpSpPr>
          <p:sp>
            <p:nvSpPr>
              <p:cNvPr id="1139" name=""/>
              <p:cNvSpPr/>
              <p:nvPr/>
            </p:nvSpPr>
            <p:spPr>
              <a:xfrm>
                <a:off x="6086520" y="422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300720" y="4291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630252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6186600" y="2562120"/>
            <a:ext cx="549000" cy="675720"/>
            <a:chOff x="6186600" y="2562120"/>
            <a:chExt cx="549000" cy="675720"/>
          </a:xfrm>
        </p:grpSpPr>
        <p:grpSp>
          <p:nvGrpSpPr>
            <p:cNvPr id="1143" name=""/>
            <p:cNvGrpSpPr/>
            <p:nvPr/>
          </p:nvGrpSpPr>
          <p:grpSpPr>
            <a:xfrm>
              <a:off x="6186600" y="2562120"/>
              <a:ext cx="452160" cy="581400"/>
              <a:chOff x="6186600" y="2562120"/>
              <a:chExt cx="452160" cy="581400"/>
            </a:xfrm>
          </p:grpSpPr>
          <p:sp>
            <p:nvSpPr>
              <p:cNvPr id="1144" name=""/>
              <p:cNvSpPr/>
              <p:nvPr/>
            </p:nvSpPr>
            <p:spPr>
              <a:xfrm>
                <a:off x="6186600" y="2562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400800" y="2633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6" name=""/>
            <p:cNvSpPr/>
            <p:nvPr/>
          </p:nvSpPr>
          <p:spPr>
            <a:xfrm>
              <a:off x="6402600" y="277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5292360" y="3427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H="1" flipV="1">
            <a:off x="4859280" y="3860280"/>
            <a:ext cx="385920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651640" y="4005360"/>
            <a:ext cx="1655640" cy="358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H="1" flipV="1">
            <a:off x="5508720" y="2923920"/>
            <a:ext cx="385920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6372000" y="3284640"/>
            <a:ext cx="226044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651640" y="3499920"/>
            <a:ext cx="2736720" cy="5050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6168240" y="765000"/>
            <a:ext cx="2408040" cy="675720"/>
            <a:chOff x="6168240" y="765000"/>
            <a:chExt cx="2408040" cy="675720"/>
          </a:xfrm>
        </p:grpSpPr>
        <p:grpSp>
          <p:nvGrpSpPr>
            <p:cNvPr id="1154" name=""/>
            <p:cNvGrpSpPr/>
            <p:nvPr/>
          </p:nvGrpSpPr>
          <p:grpSpPr>
            <a:xfrm>
              <a:off x="7019640" y="765000"/>
              <a:ext cx="1556640" cy="675720"/>
              <a:chOff x="7019640" y="765000"/>
              <a:chExt cx="1556640" cy="675720"/>
            </a:xfrm>
          </p:grpSpPr>
          <p:grpSp>
            <p:nvGrpSpPr>
              <p:cNvPr id="1155" name=""/>
              <p:cNvGrpSpPr/>
              <p:nvPr/>
            </p:nvGrpSpPr>
            <p:grpSpPr>
              <a:xfrm>
                <a:off x="7019640" y="765000"/>
                <a:ext cx="548640" cy="675720"/>
                <a:chOff x="7019640" y="765000"/>
                <a:chExt cx="548640" cy="675720"/>
              </a:xfrm>
            </p:grpSpPr>
            <p:grpSp>
              <p:nvGrpSpPr>
                <p:cNvPr id="1156" name=""/>
                <p:cNvGrpSpPr/>
                <p:nvPr/>
              </p:nvGrpSpPr>
              <p:grpSpPr>
                <a:xfrm>
                  <a:off x="7019640" y="765000"/>
                  <a:ext cx="452160" cy="581400"/>
                  <a:chOff x="7019640" y="765000"/>
                  <a:chExt cx="452160" cy="58140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>
                    <a:off x="7019640" y="765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7233840" y="835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9" name=""/>
                <p:cNvSpPr/>
                <p:nvPr/>
              </p:nvSpPr>
              <p:spPr>
                <a:xfrm>
                  <a:off x="7235280" y="981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8027640" y="765000"/>
                <a:ext cx="548640" cy="675720"/>
                <a:chOff x="8027640" y="765000"/>
                <a:chExt cx="548640" cy="675720"/>
              </a:xfrm>
            </p:grpSpPr>
            <p:grpSp>
              <p:nvGrpSpPr>
                <p:cNvPr id="1161" name=""/>
                <p:cNvGrpSpPr/>
                <p:nvPr/>
              </p:nvGrpSpPr>
              <p:grpSpPr>
                <a:xfrm>
                  <a:off x="8027640" y="765000"/>
                  <a:ext cx="452160" cy="581400"/>
                  <a:chOff x="8027640" y="765000"/>
                  <a:chExt cx="452160" cy="581400"/>
                </a:xfrm>
              </p:grpSpPr>
              <p:sp>
                <p:nvSpPr>
                  <p:cNvPr id="1162" name=""/>
                  <p:cNvSpPr/>
                  <p:nvPr/>
                </p:nvSpPr>
                <p:spPr>
                  <a:xfrm>
                    <a:off x="8027640" y="765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8241840" y="835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"/>
                <p:cNvSpPr/>
                <p:nvPr/>
              </p:nvSpPr>
              <p:spPr>
                <a:xfrm>
                  <a:off x="8243280" y="981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"/>
              <p:cNvSpPr/>
              <p:nvPr/>
            </p:nvSpPr>
            <p:spPr>
              <a:xfrm>
                <a:off x="7524360" y="765000"/>
                <a:ext cx="51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6168240" y="765000"/>
              <a:ext cx="942840" cy="648720"/>
              <a:chOff x="6168240" y="765000"/>
              <a:chExt cx="942840" cy="648720"/>
            </a:xfrm>
          </p:grpSpPr>
          <p:sp>
            <p:nvSpPr>
              <p:cNvPr id="1167" name=""/>
              <p:cNvSpPr/>
              <p:nvPr/>
            </p:nvSpPr>
            <p:spPr>
              <a:xfrm>
                <a:off x="6168240" y="765000"/>
                <a:ext cx="942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 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372000" y="83592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9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2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250920" y="907920"/>
            <a:ext cx="8208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5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Uzajamni mehanički uticaji dvaju tela ispoljavaju se silama koje su jednakog pravca i intenziteta, a deluju u suprotnim smerovima duž iste napadne linij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/>
          <p:nvPr/>
        </p:nvSpPr>
        <p:spPr>
          <a:xfrm>
            <a:off x="250920" y="1268280"/>
            <a:ext cx="8208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6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vezano (neslobodno) telo može se posmatrati kao slobodno, ako se veze uklone i njihov mehanički uticaj na telo zameni silama, tj. reakcijama veza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460800" y="-7920"/>
            <a:ext cx="83127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009900"/>
                </a:solidFill>
                <a:uFillTx/>
                <a:latin typeface="Times New Roman"/>
              </a:rPr>
              <a:t>Veze ili prin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e ili prinude su tela koja posmatran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graničavaju ili oduzimaju slobodu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68360" y="2276640"/>
            <a:ext cx="8353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Podsećanje na A5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zajamni mehanički uticaji dvaju tela ispoljavaju se silama koje su jednakog pravca i intenziteta, a deluju u suprotnim smerov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sil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kcij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i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reakcij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.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618560" y="5373720"/>
            <a:ext cx="566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ff0000"/>
                </a:solidFill>
                <a:uFillTx/>
                <a:latin typeface="Times New Roman"/>
              </a:rPr>
              <a:t>Šta je reakcija veze?</a:t>
            </a:r>
            <a:r>
              <a:rPr b="1" lang="sr-Latn-CS" sz="4800" spc="-1" strike="noStrike" u="sng">
                <a:solidFill>
                  <a:srgbClr val="009900"/>
                </a:solidFill>
                <a:uFillTx/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Određivanje reakcija veza predstavlja jedan od osnovnih zadataka statike.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eakcija veze ima isti pravac, a suprotan smer od onog u kome veza ne dopušta pomeranje datom tel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539640" y="1052640"/>
            <a:ext cx="77454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00"/>
                </a:solidFill>
                <a:uFillTx/>
                <a:latin typeface="Times New Roman"/>
              </a:rPr>
              <a:t>Ukle</a:t>
            </a: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šte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ko je problem prostorni veza oduzima telu svih 6 stepeni slobode kretanja. Reakcija veze je sila u ta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a tri nezavisne koordinate, i moment uklešte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ko je problem ravanski, onda se može reći da veza oduzima telu sva 3 stepena slobode kretanja tela u rav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ŠTA JE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KRUTO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TELO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KRUTO TELO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JE MODEL MATERIJALNE SREDINE KOJI NEPREKIDNO ISPUNJAVA ZAPREMINU TELA, A KOJA IMA OSOBINU DA SU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RASTOJANJA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IZMEĐU BILO KOG PARA MATERIJALNIH TAČAKA TE SREDINE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NEPROMENLJ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"/>
          <p:cNvGrpSpPr/>
          <p:nvPr/>
        </p:nvGrpSpPr>
        <p:grpSpPr>
          <a:xfrm>
            <a:off x="180720" y="2924280"/>
            <a:ext cx="4684320" cy="3671280"/>
            <a:chOff x="180720" y="2924280"/>
            <a:chExt cx="4684320" cy="3671280"/>
          </a:xfrm>
        </p:grpSpPr>
        <p:sp>
          <p:nvSpPr>
            <p:cNvPr id="1177" name=""/>
            <p:cNvSpPr/>
            <p:nvPr/>
          </p:nvSpPr>
          <p:spPr>
            <a:xfrm>
              <a:off x="180720" y="5893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502880" y="56455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848960" y="2924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321480" y="3114000"/>
              <a:ext cx="4369320" cy="3481560"/>
              <a:chOff x="321480" y="3114000"/>
              <a:chExt cx="4369320" cy="3481560"/>
            </a:xfrm>
          </p:grpSpPr>
          <p:grpSp>
            <p:nvGrpSpPr>
              <p:cNvPr id="1181" name=""/>
              <p:cNvGrpSpPr/>
              <p:nvPr/>
            </p:nvGrpSpPr>
            <p:grpSpPr>
              <a:xfrm>
                <a:off x="321480" y="3114000"/>
                <a:ext cx="4369320" cy="3481560"/>
                <a:chOff x="321480" y="3114000"/>
                <a:chExt cx="4369320" cy="3481560"/>
              </a:xfrm>
            </p:grpSpPr>
            <p:sp>
              <p:nvSpPr>
                <p:cNvPr id="1182" name=""/>
                <p:cNvSpPr/>
                <p:nvPr/>
              </p:nvSpPr>
              <p:spPr>
                <a:xfrm flipH="1">
                  <a:off x="321480" y="532440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149560" y="532440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V="1">
                  <a:off x="2149560" y="311400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5" name=""/>
              <p:cNvSpPr/>
              <p:nvPr/>
            </p:nvSpPr>
            <p:spPr>
              <a:xfrm>
                <a:off x="1701360" y="48873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6" name=""/>
          <p:cNvSpPr/>
          <p:nvPr/>
        </p:nvSpPr>
        <p:spPr>
          <a:xfrm>
            <a:off x="4464000" y="3168720"/>
            <a:ext cx="216000" cy="22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8856720" y="3456000"/>
            <a:ext cx="287280" cy="142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191160" y="0"/>
            <a:ext cx="3224520" cy="648720"/>
            <a:chOff x="191160" y="0"/>
            <a:chExt cx="3224520" cy="648720"/>
          </a:xfrm>
        </p:grpSpPr>
        <p:grpSp>
          <p:nvGrpSpPr>
            <p:cNvPr id="1189" name=""/>
            <p:cNvGrpSpPr/>
            <p:nvPr/>
          </p:nvGrpSpPr>
          <p:grpSpPr>
            <a:xfrm>
              <a:off x="191160" y="0"/>
              <a:ext cx="609120" cy="648720"/>
              <a:chOff x="191160" y="0"/>
              <a:chExt cx="609120" cy="648720"/>
            </a:xfrm>
          </p:grpSpPr>
          <p:sp>
            <p:nvSpPr>
              <p:cNvPr id="1190" name=""/>
              <p:cNvSpPr/>
              <p:nvPr/>
            </p:nvSpPr>
            <p:spPr>
              <a:xfrm>
                <a:off x="191160" y="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4920" y="712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612360" y="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81440" y="0"/>
              <a:ext cx="23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2700360" y="0"/>
            <a:ext cx="5619600" cy="5327640"/>
            <a:chOff x="2700360" y="0"/>
            <a:chExt cx="5619600" cy="5327640"/>
          </a:xfrm>
        </p:grpSpPr>
        <p:grpSp>
          <p:nvGrpSpPr>
            <p:cNvPr id="1195" name=""/>
            <p:cNvGrpSpPr/>
            <p:nvPr/>
          </p:nvGrpSpPr>
          <p:grpSpPr>
            <a:xfrm>
              <a:off x="4501800" y="0"/>
              <a:ext cx="3818160" cy="5327640"/>
              <a:chOff x="4501800" y="0"/>
              <a:chExt cx="3818160" cy="5327640"/>
            </a:xfrm>
          </p:grpSpPr>
          <p:sp>
            <p:nvSpPr>
              <p:cNvPr id="1196" name=""/>
              <p:cNvSpPr/>
              <p:nvPr/>
            </p:nvSpPr>
            <p:spPr>
              <a:xfrm flipV="1">
                <a:off x="5385240" y="1709640"/>
                <a:ext cx="2056680" cy="18223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7" name=""/>
              <p:cNvGrpSpPr/>
              <p:nvPr/>
            </p:nvGrpSpPr>
            <p:grpSpPr>
              <a:xfrm>
                <a:off x="4501800" y="0"/>
                <a:ext cx="3818160" cy="5327640"/>
                <a:chOff x="4501800" y="0"/>
                <a:chExt cx="3818160" cy="532764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7454880" y="1727280"/>
                  <a:ext cx="0" cy="3600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flipH="1">
                  <a:off x="7454520" y="1152720"/>
                  <a:ext cx="865080" cy="576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0" name=""/>
                <p:cNvGrpSpPr/>
                <p:nvPr/>
              </p:nvGrpSpPr>
              <p:grpSpPr>
                <a:xfrm>
                  <a:off x="4501800" y="0"/>
                  <a:ext cx="3818160" cy="5256360"/>
                  <a:chOff x="4501800" y="0"/>
                  <a:chExt cx="3818160" cy="5256360"/>
                </a:xfrm>
              </p:grpSpPr>
              <p:grpSp>
                <p:nvGrpSpPr>
                  <p:cNvPr id="1201" name=""/>
                  <p:cNvGrpSpPr/>
                  <p:nvPr/>
                </p:nvGrpSpPr>
                <p:grpSpPr>
                  <a:xfrm>
                    <a:off x="4502160" y="0"/>
                    <a:ext cx="3817440" cy="5256360"/>
                    <a:chOff x="4502160" y="0"/>
                    <a:chExt cx="3817440" cy="5256360"/>
                  </a:xfrm>
                </p:grpSpPr>
                <p:sp>
                  <p:nvSpPr>
                    <p:cNvPr id="1202" name=""/>
                    <p:cNvSpPr/>
                    <p:nvPr/>
                  </p:nvSpPr>
                  <p:spPr>
                    <a:xfrm flipH="1">
                      <a:off x="7454520" y="4680000"/>
                      <a:ext cx="865080" cy="576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>
                      <a:off x="4502160" y="50328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4" name=""/>
                    <p:cNvSpPr/>
                    <p:nvPr/>
                  </p:nvSpPr>
                  <p:spPr>
                    <a:xfrm>
                      <a:off x="5367240" y="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5" name=""/>
                  <p:cNvGrpSpPr/>
                  <p:nvPr/>
                </p:nvGrpSpPr>
                <p:grpSpPr>
                  <a:xfrm>
                    <a:off x="4501800" y="0"/>
                    <a:ext cx="3818160" cy="5256360"/>
                    <a:chOff x="4501800" y="0"/>
                    <a:chExt cx="3818160" cy="5256360"/>
                  </a:xfrm>
                </p:grpSpPr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8318520" y="107964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4502160" y="576360"/>
                      <a:ext cx="2952720" cy="1152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 flipH="1">
                      <a:off x="4501800" y="0"/>
                      <a:ext cx="865080" cy="576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>
                      <a:off x="5365800" y="0"/>
                      <a:ext cx="2952720" cy="11527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10" name=""/>
                    <p:cNvGrpSpPr/>
                    <p:nvPr/>
                  </p:nvGrpSpPr>
                  <p:grpSpPr>
                    <a:xfrm>
                      <a:off x="4503600" y="3527640"/>
                      <a:ext cx="2953080" cy="1728720"/>
                      <a:chOff x="4503600" y="3527640"/>
                      <a:chExt cx="2953080" cy="1728720"/>
                    </a:xfrm>
                  </p:grpSpPr>
                  <p:sp>
                    <p:nvSpPr>
                      <p:cNvPr id="1211" name=""/>
                      <p:cNvSpPr/>
                      <p:nvPr/>
                    </p:nvSpPr>
                    <p:spPr>
                      <a:xfrm>
                        <a:off x="4503600" y="4103640"/>
                        <a:ext cx="2953080" cy="115272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2" name=""/>
                      <p:cNvSpPr/>
                      <p:nvPr/>
                    </p:nvSpPr>
                    <p:spPr>
                      <a:xfrm flipH="1">
                        <a:off x="4503600" y="3527640"/>
                        <a:ext cx="865440" cy="5760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13" name=""/>
                    <p:cNvSpPr/>
                    <p:nvPr/>
                  </p:nvSpPr>
                  <p:spPr>
                    <a:xfrm>
                      <a:off x="5367240" y="3527640"/>
                      <a:ext cx="2952720" cy="1152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14" name=""/>
              <p:cNvGrpSpPr/>
              <p:nvPr/>
            </p:nvGrpSpPr>
            <p:grpSpPr>
              <a:xfrm>
                <a:off x="6312960" y="1584360"/>
                <a:ext cx="609120" cy="648720"/>
                <a:chOff x="6312960" y="1584360"/>
                <a:chExt cx="609120" cy="64872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6312960" y="1584360"/>
                  <a:ext cx="6091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6516720" y="1655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7" name=""/>
            <p:cNvGrpSpPr/>
            <p:nvPr/>
          </p:nvGrpSpPr>
          <p:grpSpPr>
            <a:xfrm>
              <a:off x="2700360" y="1368360"/>
              <a:ext cx="2665440" cy="3313080"/>
              <a:chOff x="2700360" y="1368360"/>
              <a:chExt cx="2665440" cy="33130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3180960" y="2133720"/>
                <a:ext cx="698760" cy="648720"/>
                <a:chOff x="3180960" y="2133720"/>
                <a:chExt cx="698760" cy="64872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3180960" y="2133720"/>
                  <a:ext cx="69876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384360" y="2204640"/>
                  <a:ext cx="21564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2700360" y="1368360"/>
                <a:ext cx="2665440" cy="3313080"/>
                <a:chOff x="2700360" y="1368360"/>
                <a:chExt cx="2665440" cy="331308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4429440" y="3168720"/>
                  <a:ext cx="9349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3" name=""/>
                <p:cNvGrpSpPr/>
                <p:nvPr/>
              </p:nvGrpSpPr>
              <p:grpSpPr>
                <a:xfrm>
                  <a:off x="3637080" y="1728720"/>
                  <a:ext cx="1728720" cy="2952720"/>
                  <a:chOff x="3637080" y="1728720"/>
                  <a:chExt cx="1728720" cy="2952720"/>
                </a:xfrm>
              </p:grpSpPr>
              <p:sp>
                <p:nvSpPr>
                  <p:cNvPr id="1224" name=""/>
                  <p:cNvSpPr/>
                  <p:nvPr/>
                </p:nvSpPr>
                <p:spPr>
                  <a:xfrm>
                    <a:off x="5364000" y="1728720"/>
                    <a:ext cx="0" cy="1800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 flipH="1">
                    <a:off x="3637080" y="352872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637080" y="2881080"/>
                    <a:ext cx="0" cy="180036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 flipH="1">
                    <a:off x="3637080" y="172872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8" name=""/>
                <p:cNvGrpSpPr/>
                <p:nvPr/>
              </p:nvGrpSpPr>
              <p:grpSpPr>
                <a:xfrm>
                  <a:off x="2700360" y="1368360"/>
                  <a:ext cx="1728720" cy="2952720"/>
                  <a:chOff x="2700360" y="1368360"/>
                  <a:chExt cx="1728720" cy="295272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4427280" y="1368360"/>
                    <a:ext cx="0" cy="1800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flipH="1">
                    <a:off x="2700360" y="316836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2700360" y="2520720"/>
                    <a:ext cx="0" cy="180036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 flipH="1">
                    <a:off x="2700360" y="136836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3" name=""/>
                <p:cNvSpPr/>
                <p:nvPr/>
              </p:nvSpPr>
              <p:spPr>
                <a:xfrm>
                  <a:off x="4429440" y="1368360"/>
                  <a:ext cx="9349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700360" y="4321080"/>
                  <a:ext cx="9367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700360" y="2520720"/>
                  <a:ext cx="9367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2750760" y="2554920"/>
                <a:ext cx="2608920" cy="964800"/>
                <a:chOff x="2750760" y="2554920"/>
                <a:chExt cx="2608920" cy="96480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2750760" y="2559240"/>
                  <a:ext cx="2608920" cy="9604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H="1" flipV="1">
                  <a:off x="3069360" y="2680200"/>
                  <a:ext cx="340920" cy="252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3096360" y="2692440"/>
                  <a:ext cx="241200" cy="209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flipH="1" flipV="1">
                  <a:off x="2761560" y="2554920"/>
                  <a:ext cx="341280" cy="252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787480" y="2566800"/>
                  <a:ext cx="241560" cy="21024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42" name=""/>
          <p:cNvGrpSpPr/>
          <p:nvPr/>
        </p:nvGrpSpPr>
        <p:grpSpPr>
          <a:xfrm>
            <a:off x="263520" y="765000"/>
            <a:ext cx="3875040" cy="648720"/>
            <a:chOff x="263520" y="765000"/>
            <a:chExt cx="3875040" cy="648720"/>
          </a:xfrm>
        </p:grpSpPr>
        <p:grpSp>
          <p:nvGrpSpPr>
            <p:cNvPr id="1243" name=""/>
            <p:cNvGrpSpPr/>
            <p:nvPr/>
          </p:nvGrpSpPr>
          <p:grpSpPr>
            <a:xfrm>
              <a:off x="263520" y="765000"/>
              <a:ext cx="698760" cy="648720"/>
              <a:chOff x="263520" y="765000"/>
              <a:chExt cx="698760" cy="648720"/>
            </a:xfrm>
          </p:grpSpPr>
          <p:sp>
            <p:nvSpPr>
              <p:cNvPr id="1244" name=""/>
              <p:cNvSpPr/>
              <p:nvPr/>
            </p:nvSpPr>
            <p:spPr>
              <a:xfrm>
                <a:off x="263520" y="765000"/>
                <a:ext cx="6987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66920" y="836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6" name=""/>
            <p:cNvSpPr/>
            <p:nvPr/>
          </p:nvSpPr>
          <p:spPr>
            <a:xfrm>
              <a:off x="684000" y="76500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176120" y="765000"/>
              <a:ext cx="2962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{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x 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; 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y 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; 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z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8" name=""/>
          <p:cNvSpPr/>
          <p:nvPr/>
        </p:nvSpPr>
        <p:spPr>
          <a:xfrm>
            <a:off x="5650200" y="5516640"/>
            <a:ext cx="338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rostorni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14980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300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470160" y="90360"/>
            <a:ext cx="279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Sferni zgl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252360" y="2997360"/>
            <a:ext cx="4684320" cy="3671280"/>
            <a:chOff x="252360" y="2997360"/>
            <a:chExt cx="4684320" cy="3671280"/>
          </a:xfrm>
        </p:grpSpPr>
        <p:sp>
          <p:nvSpPr>
            <p:cNvPr id="1252" name=""/>
            <p:cNvSpPr/>
            <p:nvPr/>
          </p:nvSpPr>
          <p:spPr>
            <a:xfrm>
              <a:off x="252360" y="596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74520" y="57186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920600" y="2997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5" name=""/>
            <p:cNvGrpSpPr/>
            <p:nvPr/>
          </p:nvGrpSpPr>
          <p:grpSpPr>
            <a:xfrm>
              <a:off x="393120" y="3187080"/>
              <a:ext cx="4369320" cy="3481560"/>
              <a:chOff x="393120" y="3187080"/>
              <a:chExt cx="4369320" cy="3481560"/>
            </a:xfrm>
          </p:grpSpPr>
          <p:grpSp>
            <p:nvGrpSpPr>
              <p:cNvPr id="1256" name=""/>
              <p:cNvGrpSpPr/>
              <p:nvPr/>
            </p:nvGrpSpPr>
            <p:grpSpPr>
              <a:xfrm>
                <a:off x="393120" y="3187080"/>
                <a:ext cx="4369320" cy="3481560"/>
                <a:chOff x="393120" y="3187080"/>
                <a:chExt cx="4369320" cy="3481560"/>
              </a:xfrm>
            </p:grpSpPr>
            <p:sp>
              <p:nvSpPr>
                <p:cNvPr id="1257" name=""/>
                <p:cNvSpPr/>
                <p:nvPr/>
              </p:nvSpPr>
              <p:spPr>
                <a:xfrm flipH="1">
                  <a:off x="393120" y="539748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221200" y="539748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flipV="1">
                  <a:off x="2221200" y="318708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"/>
              <p:cNvSpPr/>
              <p:nvPr/>
            </p:nvSpPr>
            <p:spPr>
              <a:xfrm>
                <a:off x="1773000" y="4960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1" name=""/>
          <p:cNvGrpSpPr/>
          <p:nvPr/>
        </p:nvGrpSpPr>
        <p:grpSpPr>
          <a:xfrm>
            <a:off x="1979640" y="3284640"/>
            <a:ext cx="3349440" cy="2843280"/>
            <a:chOff x="1979640" y="3284640"/>
            <a:chExt cx="3349440" cy="2843280"/>
          </a:xfrm>
        </p:grpSpPr>
        <p:graphicFrame>
          <p:nvGraphicFramePr>
            <p:cNvPr id="1262" name=""/>
            <p:cNvGraphicFramePr/>
            <p:nvPr/>
          </p:nvGraphicFramePr>
          <p:xfrm>
            <a:off x="1979640" y="3284640"/>
            <a:ext cx="3349440" cy="222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9640" y="3284640"/>
                      <a:ext cx="334944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64" name=""/>
            <p:cNvGrpSpPr/>
            <p:nvPr/>
          </p:nvGrpSpPr>
          <p:grpSpPr>
            <a:xfrm>
              <a:off x="3205080" y="4076640"/>
              <a:ext cx="1224000" cy="1152720"/>
              <a:chOff x="3205080" y="4076640"/>
              <a:chExt cx="1224000" cy="1152720"/>
            </a:xfrm>
          </p:grpSpPr>
          <p:sp>
            <p:nvSpPr>
              <p:cNvPr id="1265" name=""/>
              <p:cNvSpPr/>
              <p:nvPr/>
            </p:nvSpPr>
            <p:spPr>
              <a:xfrm flipV="1">
                <a:off x="3205080" y="4076640"/>
                <a:ext cx="287280" cy="115272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3205080" y="4508640"/>
                <a:ext cx="1224000" cy="72072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 flipV="1">
                <a:off x="3492360" y="4076640"/>
                <a:ext cx="936720" cy="43200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"/>
            <p:cNvSpPr/>
            <p:nvPr/>
          </p:nvSpPr>
          <p:spPr>
            <a:xfrm>
              <a:off x="2701800" y="472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357800" y="3932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062160" y="3645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71" name=""/>
            <p:cNvGraphicFramePr/>
            <p:nvPr/>
          </p:nvGraphicFramePr>
          <p:xfrm>
            <a:off x="2700360" y="5156280"/>
            <a:ext cx="1152360" cy="9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00360" y="5156280"/>
                      <a:ext cx="115236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3" name=""/>
            <p:cNvGraphicFramePr/>
            <p:nvPr/>
          </p:nvGraphicFramePr>
          <p:xfrm>
            <a:off x="3421080" y="4003560"/>
            <a:ext cx="142920" cy="139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1080" y="4003560"/>
                      <a:ext cx="142920" cy="1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5" name=""/>
            <p:cNvGraphicFramePr/>
            <p:nvPr/>
          </p:nvGraphicFramePr>
          <p:xfrm>
            <a:off x="4356000" y="4437000"/>
            <a:ext cx="142920" cy="139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356000" y="4437000"/>
                      <a:ext cx="142920" cy="1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7" name=""/>
          <p:cNvGrpSpPr/>
          <p:nvPr/>
        </p:nvGrpSpPr>
        <p:grpSpPr>
          <a:xfrm>
            <a:off x="3419640" y="476280"/>
            <a:ext cx="5530320" cy="2168640"/>
            <a:chOff x="3419640" y="476280"/>
            <a:chExt cx="5530320" cy="2168640"/>
          </a:xfrm>
        </p:grpSpPr>
        <mc:AlternateContent>
          <mc:Choice xmlns:a14="http://schemas.microsoft.com/office/drawing/2010/main" Requires="a14">
            <p:sp>
              <p:nvSpPr>
                <p:cNvPr id="1278" name=""/>
                <p:cNvSpPr txBox="1"/>
                <p:nvPr/>
              </p:nvSpPr>
              <p:spPr>
                <a:xfrm>
                  <a:off x="3551040" y="476280"/>
                  <a:ext cx="5398920" cy="72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9" name=""/>
                <p:cNvSpPr txBox="1"/>
                <p:nvPr/>
              </p:nvSpPr>
              <p:spPr>
                <a:xfrm>
                  <a:off x="3419640" y="1917720"/>
                  <a:ext cx="531468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0" name=""/>
                <p:cNvSpPr txBox="1"/>
                <p:nvPr/>
              </p:nvSpPr>
              <p:spPr>
                <a:xfrm>
                  <a:off x="3486240" y="1194120"/>
                  <a:ext cx="5319360" cy="72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1" name=""/>
          <p:cNvGrpSpPr/>
          <p:nvPr/>
        </p:nvGrpSpPr>
        <p:grpSpPr>
          <a:xfrm>
            <a:off x="497880" y="836640"/>
            <a:ext cx="2453400" cy="1799640"/>
            <a:chOff x="497880" y="836640"/>
            <a:chExt cx="2453400" cy="1799640"/>
          </a:xfrm>
        </p:grpSpPr>
        <p:sp>
          <p:nvSpPr>
            <p:cNvPr id="1282" name=""/>
            <p:cNvSpPr/>
            <p:nvPr/>
          </p:nvSpPr>
          <p:spPr>
            <a:xfrm>
              <a:off x="497880" y="83664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7880" y="141300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7880" y="198756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540000" y="256536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5508720" y="2781360"/>
                <a:ext cx="187164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>
            <a:off x="7741440" y="321300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003640" y="5445000"/>
            <a:ext cx="3924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465480" y="90360"/>
            <a:ext cx="380160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Sferni zgl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oduzima telu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tepena slob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akcija veze je si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ta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a t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ezavis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oordinate, tj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akcija 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roizvoljan prav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prostoru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2950920" y="2276640"/>
            <a:ext cx="4684320" cy="3671280"/>
            <a:chOff x="2950920" y="2276640"/>
            <a:chExt cx="4684320" cy="3671280"/>
          </a:xfrm>
        </p:grpSpPr>
        <p:sp>
          <p:nvSpPr>
            <p:cNvPr id="1291" name=""/>
            <p:cNvSpPr/>
            <p:nvPr/>
          </p:nvSpPr>
          <p:spPr>
            <a:xfrm>
              <a:off x="2950920" y="5246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273080" y="49978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619160" y="22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4" name=""/>
            <p:cNvGrpSpPr/>
            <p:nvPr/>
          </p:nvGrpSpPr>
          <p:grpSpPr>
            <a:xfrm>
              <a:off x="3091680" y="2466360"/>
              <a:ext cx="4369320" cy="3481560"/>
              <a:chOff x="3091680" y="2466360"/>
              <a:chExt cx="4369320" cy="3481560"/>
            </a:xfrm>
          </p:grpSpPr>
          <p:grpSp>
            <p:nvGrpSpPr>
              <p:cNvPr id="1295" name=""/>
              <p:cNvGrpSpPr/>
              <p:nvPr/>
            </p:nvGrpSpPr>
            <p:grpSpPr>
              <a:xfrm>
                <a:off x="3091680" y="2466360"/>
                <a:ext cx="4369320" cy="3481560"/>
                <a:chOff x="3091680" y="2466360"/>
                <a:chExt cx="4369320" cy="3481560"/>
              </a:xfrm>
            </p:grpSpPr>
            <p:sp>
              <p:nvSpPr>
                <p:cNvPr id="1296" name=""/>
                <p:cNvSpPr/>
                <p:nvPr/>
              </p:nvSpPr>
              <p:spPr>
                <a:xfrm flipH="1">
                  <a:off x="3091680" y="467676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4919760" y="467676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flipV="1">
                  <a:off x="4919760" y="246636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9" name=""/>
              <p:cNvSpPr/>
              <p:nvPr/>
            </p:nvSpPr>
            <p:spPr>
              <a:xfrm>
                <a:off x="4471560" y="423972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300" name=""/>
          <p:cNvGraphicFramePr/>
          <p:nvPr/>
        </p:nvGraphicFramePr>
        <p:xfrm>
          <a:off x="4678200" y="2563920"/>
          <a:ext cx="334980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8200" y="2563920"/>
                    <a:ext cx="334980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2" name=""/>
          <p:cNvSpPr/>
          <p:nvPr/>
        </p:nvSpPr>
        <p:spPr>
          <a:xfrm>
            <a:off x="5400720" y="4003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3" name=""/>
          <p:cNvGraphicFramePr/>
          <p:nvPr/>
        </p:nvGraphicFramePr>
        <p:xfrm>
          <a:off x="5398920" y="4435560"/>
          <a:ext cx="115272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8920" y="4435560"/>
                    <a:ext cx="11527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5" name=""/>
          <p:cNvSpPr/>
          <p:nvPr/>
        </p:nvSpPr>
        <p:spPr>
          <a:xfrm flipV="1">
            <a:off x="5885280" y="2690640"/>
            <a:ext cx="2056680" cy="1822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6671520" y="2781360"/>
            <a:ext cx="609120" cy="648720"/>
            <a:chOff x="6671520" y="2781360"/>
            <a:chExt cx="609120" cy="648720"/>
          </a:xfrm>
        </p:grpSpPr>
        <p:sp>
          <p:nvSpPr>
            <p:cNvPr id="1307" name=""/>
            <p:cNvSpPr/>
            <p:nvPr/>
          </p:nvSpPr>
          <p:spPr>
            <a:xfrm>
              <a:off x="6671520" y="278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875280" y="2852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"/>
          <p:cNvSpPr/>
          <p:nvPr/>
        </p:nvSpPr>
        <p:spPr>
          <a:xfrm flipV="1">
            <a:off x="5867280" y="980640"/>
            <a:ext cx="0" cy="35276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5001840" y="4508640"/>
            <a:ext cx="865080" cy="57600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867280" y="4508640"/>
            <a:ext cx="2952720" cy="1152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4516200" y="4869000"/>
            <a:ext cx="668520" cy="648720"/>
            <a:chOff x="4516200" y="4869000"/>
            <a:chExt cx="668520" cy="648720"/>
          </a:xfrm>
        </p:grpSpPr>
        <p:sp>
          <p:nvSpPr>
            <p:cNvPr id="1313" name=""/>
            <p:cNvSpPr/>
            <p:nvPr/>
          </p:nvSpPr>
          <p:spPr>
            <a:xfrm>
              <a:off x="4516200" y="486900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718160" y="494172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"/>
          <p:cNvGrpSpPr/>
          <p:nvPr/>
        </p:nvGrpSpPr>
        <p:grpSpPr>
          <a:xfrm>
            <a:off x="8116200" y="4797360"/>
            <a:ext cx="645480" cy="648720"/>
            <a:chOff x="8116200" y="4797360"/>
            <a:chExt cx="645480" cy="648720"/>
          </a:xfrm>
        </p:grpSpPr>
        <p:sp>
          <p:nvSpPr>
            <p:cNvPr id="1316" name=""/>
            <p:cNvSpPr/>
            <p:nvPr/>
          </p:nvSpPr>
          <p:spPr>
            <a:xfrm>
              <a:off x="8116200" y="4797360"/>
              <a:ext cx="645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318520" y="487008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5882400" y="1197000"/>
            <a:ext cx="645480" cy="648720"/>
            <a:chOff x="5882400" y="1197000"/>
            <a:chExt cx="645480" cy="648720"/>
          </a:xfrm>
        </p:grpSpPr>
        <p:sp>
          <p:nvSpPr>
            <p:cNvPr id="1319" name=""/>
            <p:cNvSpPr/>
            <p:nvPr/>
          </p:nvSpPr>
          <p:spPr>
            <a:xfrm>
              <a:off x="5882400" y="1197000"/>
              <a:ext cx="645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Z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084720" y="126972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5001840" y="981000"/>
            <a:ext cx="3818160" cy="5327640"/>
            <a:chOff x="5001840" y="981000"/>
            <a:chExt cx="3818160" cy="5327640"/>
          </a:xfrm>
        </p:grpSpPr>
        <p:sp>
          <p:nvSpPr>
            <p:cNvPr id="1322" name=""/>
            <p:cNvSpPr/>
            <p:nvPr/>
          </p:nvSpPr>
          <p:spPr>
            <a:xfrm>
              <a:off x="7954920" y="2708280"/>
              <a:ext cx="0" cy="360036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7954560" y="2133720"/>
              <a:ext cx="865080" cy="57600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"/>
            <p:cNvGrpSpPr/>
            <p:nvPr/>
          </p:nvGrpSpPr>
          <p:grpSpPr>
            <a:xfrm>
              <a:off x="5001840" y="981000"/>
              <a:ext cx="3818160" cy="5256360"/>
              <a:chOff x="5001840" y="981000"/>
              <a:chExt cx="3818160" cy="5256360"/>
            </a:xfrm>
          </p:grpSpPr>
          <p:grpSp>
            <p:nvGrpSpPr>
              <p:cNvPr id="1325" name=""/>
              <p:cNvGrpSpPr/>
              <p:nvPr/>
            </p:nvGrpSpPr>
            <p:grpSpPr>
              <a:xfrm>
                <a:off x="5002200" y="981000"/>
                <a:ext cx="3817440" cy="5256360"/>
                <a:chOff x="5002200" y="981000"/>
                <a:chExt cx="3817440" cy="5256360"/>
              </a:xfrm>
            </p:grpSpPr>
            <p:sp>
              <p:nvSpPr>
                <p:cNvPr id="1326" name=""/>
                <p:cNvSpPr/>
                <p:nvPr/>
              </p:nvSpPr>
              <p:spPr>
                <a:xfrm flipH="1">
                  <a:off x="7954560" y="5661000"/>
                  <a:ext cx="865080" cy="576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5002200" y="148428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5867280" y="98100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5001840" y="981000"/>
                <a:ext cx="3818160" cy="5256360"/>
                <a:chOff x="5001840" y="981000"/>
                <a:chExt cx="3818160" cy="525636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8818560" y="206064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02200" y="1557360"/>
                  <a:ext cx="2952720" cy="1152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5001840" y="981000"/>
                  <a:ext cx="865080" cy="576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5865840" y="981000"/>
                  <a:ext cx="2952720" cy="115272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4" name=""/>
                <p:cNvGrpSpPr/>
                <p:nvPr/>
              </p:nvGrpSpPr>
              <p:grpSpPr>
                <a:xfrm>
                  <a:off x="5003640" y="4508640"/>
                  <a:ext cx="2953080" cy="1728720"/>
                  <a:chOff x="5003640" y="4508640"/>
                  <a:chExt cx="2953080" cy="1728720"/>
                </a:xfrm>
              </p:grpSpPr>
              <p:sp>
                <p:nvSpPr>
                  <p:cNvPr id="1335" name=""/>
                  <p:cNvSpPr/>
                  <p:nvPr/>
                </p:nvSpPr>
                <p:spPr>
                  <a:xfrm>
                    <a:off x="5003640" y="5084640"/>
                    <a:ext cx="2953080" cy="11527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 flipH="1">
                    <a:off x="5003640" y="4508640"/>
                    <a:ext cx="865440" cy="576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7" name=""/>
                <p:cNvSpPr/>
                <p:nvPr/>
              </p:nvSpPr>
              <p:spPr>
                <a:xfrm>
                  <a:off x="5867280" y="4508640"/>
                  <a:ext cx="2952720" cy="1152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38" name=""/>
          <p:cNvGrpSpPr/>
          <p:nvPr/>
        </p:nvGrpSpPr>
        <p:grpSpPr>
          <a:xfrm>
            <a:off x="623160" y="6021360"/>
            <a:ext cx="3224520" cy="648720"/>
            <a:chOff x="623160" y="6021360"/>
            <a:chExt cx="3224520" cy="648720"/>
          </a:xfrm>
        </p:grpSpPr>
        <p:grpSp>
          <p:nvGrpSpPr>
            <p:cNvPr id="1339" name=""/>
            <p:cNvGrpSpPr/>
            <p:nvPr/>
          </p:nvGrpSpPr>
          <p:grpSpPr>
            <a:xfrm>
              <a:off x="623160" y="6021360"/>
              <a:ext cx="609120" cy="648720"/>
              <a:chOff x="623160" y="6021360"/>
              <a:chExt cx="609120" cy="648720"/>
            </a:xfrm>
          </p:grpSpPr>
          <p:sp>
            <p:nvSpPr>
              <p:cNvPr id="1340" name=""/>
              <p:cNvSpPr/>
              <p:nvPr/>
            </p:nvSpPr>
            <p:spPr>
              <a:xfrm>
                <a:off x="623160" y="602136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826920" y="609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2" name=""/>
            <p:cNvSpPr/>
            <p:nvPr/>
          </p:nvSpPr>
          <p:spPr>
            <a:xfrm>
              <a:off x="1044360" y="602136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513440" y="6021360"/>
              <a:ext cx="23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20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92" dur="3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3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3132000" y="3500280"/>
            <a:ext cx="64800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2195280" y="3500280"/>
            <a:ext cx="936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 flipH="1" flipV="1">
            <a:off x="3131640" y="3500280"/>
            <a:ext cx="1584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132000" y="1413000"/>
            <a:ext cx="0" cy="48956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469800" y="2637000"/>
            <a:ext cx="4684320" cy="3671280"/>
            <a:chOff x="469800" y="2637000"/>
            <a:chExt cx="4684320" cy="3671280"/>
          </a:xfrm>
        </p:grpSpPr>
        <p:sp>
          <p:nvSpPr>
            <p:cNvPr id="1349" name=""/>
            <p:cNvSpPr/>
            <p:nvPr/>
          </p:nvSpPr>
          <p:spPr>
            <a:xfrm>
              <a:off x="469800" y="5606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791960" y="53582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38040" y="2637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"/>
            <p:cNvGrpSpPr/>
            <p:nvPr/>
          </p:nvGrpSpPr>
          <p:grpSpPr>
            <a:xfrm>
              <a:off x="610560" y="2826720"/>
              <a:ext cx="4369320" cy="3481560"/>
              <a:chOff x="610560" y="2826720"/>
              <a:chExt cx="4369320" cy="3481560"/>
            </a:xfrm>
          </p:grpSpPr>
          <p:grpSp>
            <p:nvGrpSpPr>
              <p:cNvPr id="1353" name=""/>
              <p:cNvGrpSpPr/>
              <p:nvPr/>
            </p:nvGrpSpPr>
            <p:grpSpPr>
              <a:xfrm>
                <a:off x="610560" y="2826720"/>
                <a:ext cx="4369320" cy="3481560"/>
                <a:chOff x="610560" y="2826720"/>
                <a:chExt cx="4369320" cy="3481560"/>
              </a:xfrm>
            </p:grpSpPr>
            <p:sp>
              <p:nvSpPr>
                <p:cNvPr id="1354" name=""/>
                <p:cNvSpPr/>
                <p:nvPr/>
              </p:nvSpPr>
              <p:spPr>
                <a:xfrm flipH="1">
                  <a:off x="610560" y="503712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2438640" y="503712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flipV="1">
                  <a:off x="2438640" y="282672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7" name=""/>
              <p:cNvSpPr/>
              <p:nvPr/>
            </p:nvSpPr>
            <p:spPr>
              <a:xfrm>
                <a:off x="1990440" y="4600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28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Cilindrično ležište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859280" y="620640"/>
            <a:ext cx="411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Ova veza između tela i nepokretne podloge oduzima priključnoj tački tela mogućnost kretanja u bilo kom pravcu koji je normalan na osu cilindra (tj. u ravni normalnoj na z os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2555640" y="3357720"/>
            <a:ext cx="1152720" cy="647640"/>
            <a:chOff x="2555640" y="3357720"/>
            <a:chExt cx="1152720" cy="647640"/>
          </a:xfrm>
        </p:grpSpPr>
        <p:grpSp>
          <p:nvGrpSpPr>
            <p:cNvPr id="1361" name=""/>
            <p:cNvGrpSpPr/>
            <p:nvPr/>
          </p:nvGrpSpPr>
          <p:grpSpPr>
            <a:xfrm>
              <a:off x="2555640" y="3357720"/>
              <a:ext cx="215640" cy="647640"/>
              <a:chOff x="2555640" y="3357720"/>
              <a:chExt cx="215640" cy="647640"/>
            </a:xfrm>
          </p:grpSpPr>
          <p:grpSp>
            <p:nvGrpSpPr>
              <p:cNvPr id="1362" name=""/>
              <p:cNvGrpSpPr/>
              <p:nvPr/>
            </p:nvGrpSpPr>
            <p:grpSpPr>
              <a:xfrm>
                <a:off x="2556000" y="3357720"/>
                <a:ext cx="215280" cy="647280"/>
                <a:chOff x="2556000" y="3357720"/>
                <a:chExt cx="215280" cy="64728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2556000" y="3357720"/>
                  <a:ext cx="21528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2556000" y="4005000"/>
                  <a:ext cx="21528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flipV="1">
                  <a:off x="2771280" y="3357720"/>
                  <a:ext cx="0" cy="64728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 flipH="1">
                <a:off x="2555640" y="3357720"/>
                <a:ext cx="21564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>
                <a:off x="2555640" y="3573720"/>
                <a:ext cx="21564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2555640" y="3789720"/>
                <a:ext cx="215640" cy="21564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3492360" y="3357720"/>
              <a:ext cx="216000" cy="647640"/>
              <a:chOff x="3492360" y="3357720"/>
              <a:chExt cx="216000" cy="647640"/>
            </a:xfrm>
          </p:grpSpPr>
          <p:grpSp>
            <p:nvGrpSpPr>
              <p:cNvPr id="1370" name=""/>
              <p:cNvGrpSpPr/>
              <p:nvPr/>
            </p:nvGrpSpPr>
            <p:grpSpPr>
              <a:xfrm>
                <a:off x="3492720" y="3357720"/>
                <a:ext cx="215640" cy="647280"/>
                <a:chOff x="3492720" y="3357720"/>
                <a:chExt cx="215640" cy="647280"/>
              </a:xfrm>
            </p:grpSpPr>
            <p:sp>
              <p:nvSpPr>
                <p:cNvPr id="1371" name=""/>
                <p:cNvSpPr/>
                <p:nvPr/>
              </p:nvSpPr>
              <p:spPr>
                <a:xfrm flipH="1">
                  <a:off x="3492720" y="3357720"/>
                  <a:ext cx="21564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H="1">
                  <a:off x="3492720" y="4005000"/>
                  <a:ext cx="21564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flipV="1">
                  <a:off x="3492720" y="3357720"/>
                  <a:ext cx="0" cy="64728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4" name=""/>
              <p:cNvSpPr/>
              <p:nvPr/>
            </p:nvSpPr>
            <p:spPr>
              <a:xfrm>
                <a:off x="3492360" y="3357720"/>
                <a:ext cx="21600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492360" y="3573720"/>
                <a:ext cx="21600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492360" y="3789720"/>
                <a:ext cx="216000" cy="21564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7" name=""/>
          <p:cNvGrpSpPr/>
          <p:nvPr/>
        </p:nvGrpSpPr>
        <p:grpSpPr>
          <a:xfrm>
            <a:off x="2195280" y="3500280"/>
            <a:ext cx="2521080" cy="649440"/>
            <a:chOff x="2195280" y="3500280"/>
            <a:chExt cx="2521080" cy="649440"/>
          </a:xfrm>
        </p:grpSpPr>
        <p:sp>
          <p:nvSpPr>
            <p:cNvPr id="1378" name=""/>
            <p:cNvSpPr/>
            <p:nvPr/>
          </p:nvSpPr>
          <p:spPr>
            <a:xfrm flipH="1">
              <a:off x="2195280" y="3500280"/>
              <a:ext cx="934920" cy="6494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132000" y="3500280"/>
              <a:ext cx="1584360" cy="6494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0" name=""/>
          <p:cNvSpPr/>
          <p:nvPr/>
        </p:nvSpPr>
        <p:spPr>
          <a:xfrm>
            <a:off x="2843280" y="5300640"/>
            <a:ext cx="577800" cy="432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3779640" y="4148280"/>
            <a:ext cx="936360" cy="64908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H="1" flipV="1">
            <a:off x="2195280" y="4149720"/>
            <a:ext cx="1584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1491840" y="3357720"/>
            <a:ext cx="3598200" cy="1080360"/>
            <a:chOff x="1491840" y="3357720"/>
            <a:chExt cx="3598200" cy="1080360"/>
          </a:xfrm>
        </p:grpSpPr>
        <p:grpSp>
          <p:nvGrpSpPr>
            <p:cNvPr id="1384" name=""/>
            <p:cNvGrpSpPr/>
            <p:nvPr/>
          </p:nvGrpSpPr>
          <p:grpSpPr>
            <a:xfrm>
              <a:off x="1491840" y="3789360"/>
              <a:ext cx="668520" cy="648720"/>
              <a:chOff x="1491840" y="3789360"/>
              <a:chExt cx="668520" cy="648720"/>
            </a:xfrm>
          </p:grpSpPr>
          <p:sp>
            <p:nvSpPr>
              <p:cNvPr id="1385" name=""/>
              <p:cNvSpPr/>
              <p:nvPr/>
            </p:nvSpPr>
            <p:spPr>
              <a:xfrm>
                <a:off x="1491840" y="3789360"/>
                <a:ext cx="668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A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693800" y="3862080"/>
                <a:ext cx="21564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4444560" y="3357720"/>
              <a:ext cx="645480" cy="648720"/>
              <a:chOff x="4444560" y="3357720"/>
              <a:chExt cx="645480" cy="648720"/>
            </a:xfrm>
          </p:grpSpPr>
          <p:sp>
            <p:nvSpPr>
              <p:cNvPr id="1388" name=""/>
              <p:cNvSpPr/>
              <p:nvPr/>
            </p:nvSpPr>
            <p:spPr>
              <a:xfrm>
                <a:off x="4444560" y="3357720"/>
                <a:ext cx="645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Y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A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646880" y="3430440"/>
                <a:ext cx="21564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0" name=""/>
          <p:cNvGrpSpPr/>
          <p:nvPr/>
        </p:nvGrpSpPr>
        <p:grpSpPr>
          <a:xfrm>
            <a:off x="3791880" y="4508640"/>
            <a:ext cx="609120" cy="648720"/>
            <a:chOff x="3791880" y="4508640"/>
            <a:chExt cx="609120" cy="648720"/>
          </a:xfrm>
        </p:grpSpPr>
        <p:sp>
          <p:nvSpPr>
            <p:cNvPr id="1391" name=""/>
            <p:cNvSpPr/>
            <p:nvPr/>
          </p:nvSpPr>
          <p:spPr>
            <a:xfrm>
              <a:off x="3791880" y="4508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995640" y="45795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3494160" y="270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20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2" dur="2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3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2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/>
          <p:nvPr/>
        </p:nvSpPr>
        <p:spPr>
          <a:xfrm>
            <a:off x="4882680" y="0"/>
            <a:ext cx="4264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imer oslob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đanja 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u sluča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cilindričnog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fernog lež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3700440"/>
          </a:xfrm>
          <a:prstGeom prst="rect">
            <a:avLst/>
          </a:prstGeom>
          <a:ln w="0">
            <a:noFill/>
          </a:ln>
        </p:spPr>
      </p:pic>
      <p:pic>
        <p:nvPicPr>
          <p:cNvPr id="1396" name="" descr=""/>
          <p:cNvPicPr/>
          <p:nvPr/>
        </p:nvPicPr>
        <p:blipFill>
          <a:blip r:embed="rId2"/>
          <a:stretch/>
        </p:blipFill>
        <p:spPr>
          <a:xfrm>
            <a:off x="2771640" y="3002040"/>
            <a:ext cx="637236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7" name=""/>
          <p:cNvGrpSpPr/>
          <p:nvPr/>
        </p:nvGrpSpPr>
        <p:grpSpPr>
          <a:xfrm>
            <a:off x="3419640" y="2492280"/>
            <a:ext cx="1512720" cy="3168720"/>
            <a:chOff x="3419640" y="2492280"/>
            <a:chExt cx="1512720" cy="3168720"/>
          </a:xfrm>
        </p:grpSpPr>
        <p:sp>
          <p:nvSpPr>
            <p:cNvPr id="1398" name=""/>
            <p:cNvSpPr/>
            <p:nvPr/>
          </p:nvSpPr>
          <p:spPr>
            <a:xfrm>
              <a:off x="4932360" y="2492280"/>
              <a:ext cx="0" cy="100800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419640" y="3500280"/>
              <a:ext cx="1512720" cy="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419640" y="3500280"/>
              <a:ext cx="0" cy="100836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419640" y="4508640"/>
              <a:ext cx="1512720" cy="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932360" y="4508640"/>
              <a:ext cx="0" cy="115236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3" name=""/>
          <p:cNvSpPr/>
          <p:nvPr/>
        </p:nvSpPr>
        <p:spPr>
          <a:xfrm rot="227400">
            <a:off x="3492360" y="3644640"/>
            <a:ext cx="3533760" cy="860400"/>
          </a:xfrm>
          <a:prstGeom prst="rect">
            <a:avLst/>
          </a:prstGeom>
          <a:solidFill>
            <a:srgbClr val="64512e"/>
          </a:solidFill>
          <a:ln w="936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3204720" y="2430360"/>
            <a:ext cx="1727640" cy="3194280"/>
            <a:chOff x="3204720" y="2430360"/>
            <a:chExt cx="1727640" cy="3194280"/>
          </a:xfrm>
        </p:grpSpPr>
        <p:grpSp>
          <p:nvGrpSpPr>
            <p:cNvPr id="1405" name=""/>
            <p:cNvGrpSpPr/>
            <p:nvPr/>
          </p:nvGrpSpPr>
          <p:grpSpPr>
            <a:xfrm>
              <a:off x="3420720" y="2521080"/>
              <a:ext cx="1511280" cy="2996640"/>
              <a:chOff x="3420720" y="2521080"/>
              <a:chExt cx="1511280" cy="2996640"/>
            </a:xfrm>
          </p:grpSpPr>
          <p:sp>
            <p:nvSpPr>
              <p:cNvPr id="1406" name=""/>
              <p:cNvSpPr/>
              <p:nvPr/>
            </p:nvSpPr>
            <p:spPr>
              <a:xfrm>
                <a:off x="3420720" y="3519720"/>
                <a:ext cx="1511280" cy="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420720" y="4519080"/>
                <a:ext cx="1511280" cy="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420720" y="3519720"/>
                <a:ext cx="0" cy="99900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932000" y="2521080"/>
                <a:ext cx="0" cy="99864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932000" y="4519080"/>
                <a:ext cx="0" cy="99864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1" name=""/>
            <p:cNvSpPr/>
            <p:nvPr/>
          </p:nvSpPr>
          <p:spPr>
            <a:xfrm flipH="1">
              <a:off x="3420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3636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3852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4068360" y="328464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4284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4500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4716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4716360" y="307800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4716360" y="2852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4716360" y="26366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4716360" y="2430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420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3636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3852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4068360" y="4519440"/>
              <a:ext cx="21564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4284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4500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4716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204720" y="3500280"/>
              <a:ext cx="21564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3204720" y="3716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3204720" y="3932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3204720" y="4148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3204720" y="436392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3204720" y="457992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3204720" y="328464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4716360" y="4770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4716360" y="4986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4716360" y="5202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4716360" y="541800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0" name=""/>
          <p:cNvSpPr/>
          <p:nvPr/>
        </p:nvSpPr>
        <p:spPr>
          <a:xfrm>
            <a:off x="322560" y="260280"/>
            <a:ext cx="3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vanski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1440" y="3212640"/>
            <a:ext cx="3814920" cy="3384360"/>
            <a:chOff x="1440" y="3212640"/>
            <a:chExt cx="3814920" cy="3384360"/>
          </a:xfrm>
        </p:grpSpPr>
        <p:grpSp>
          <p:nvGrpSpPr>
            <p:cNvPr id="1442" name=""/>
            <p:cNvGrpSpPr/>
            <p:nvPr/>
          </p:nvGrpSpPr>
          <p:grpSpPr>
            <a:xfrm>
              <a:off x="289080" y="3212640"/>
              <a:ext cx="3527280" cy="3384360"/>
              <a:chOff x="289080" y="3212640"/>
              <a:chExt cx="3527280" cy="3384360"/>
            </a:xfrm>
          </p:grpSpPr>
          <p:sp>
            <p:nvSpPr>
              <p:cNvPr id="1443" name=""/>
              <p:cNvSpPr/>
              <p:nvPr/>
            </p:nvSpPr>
            <p:spPr>
              <a:xfrm>
                <a:off x="289080" y="6381360"/>
                <a:ext cx="3527280" cy="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V="1">
                <a:off x="504720" y="3212640"/>
                <a:ext cx="0" cy="338436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5" name=""/>
            <p:cNvSpPr/>
            <p:nvPr/>
          </p:nvSpPr>
          <p:spPr>
            <a:xfrm>
              <a:off x="316980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440" y="3213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7" name=""/>
          <p:cNvSpPr/>
          <p:nvPr/>
        </p:nvSpPr>
        <p:spPr>
          <a:xfrm>
            <a:off x="5003640" y="270828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H="1" flipV="1">
            <a:off x="4930560" y="4503960"/>
            <a:ext cx="12600" cy="203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515760" y="2126520"/>
            <a:ext cx="15120" cy="1438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828440" y="4397760"/>
            <a:ext cx="1634400" cy="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791440" y="2062080"/>
            <a:ext cx="70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023440" y="5086440"/>
            <a:ext cx="70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918800" y="371808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4" name=""/>
          <p:cNvGraphicFramePr/>
          <p:nvPr/>
        </p:nvGraphicFramePr>
        <p:xfrm>
          <a:off x="3780000" y="2997360"/>
          <a:ext cx="92052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997360"/>
                    <a:ext cx="92052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6" name=""/>
          <p:cNvSpPr/>
          <p:nvPr/>
        </p:nvSpPr>
        <p:spPr>
          <a:xfrm>
            <a:off x="3510720" y="4869000"/>
            <a:ext cx="79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" descr=""/>
          <p:cNvPicPr/>
          <p:nvPr/>
        </p:nvPicPr>
        <p:blipFill>
          <a:blip r:embed="rId3"/>
          <a:stretch/>
        </p:blipFill>
        <p:spPr>
          <a:xfrm>
            <a:off x="4716360" y="18900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1458" name=""/>
          <p:cNvSpPr/>
          <p:nvPr/>
        </p:nvSpPr>
        <p:spPr>
          <a:xfrm>
            <a:off x="3995640" y="62064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2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0 E">
                                      <p:cBhvr>
                                        <p:cTn id="262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0 E">
                                      <p:cBhvr>
                                        <p:cTn id="264" dur="2000" fill="hold"/>
                                        <p:tgtEl>
                                          <p:spTgt spid="1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2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3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322560" y="260280"/>
            <a:ext cx="3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vanski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5545080" y="4941360"/>
            <a:ext cx="3598920" cy="1726920"/>
            <a:chOff x="5545080" y="4941360"/>
            <a:chExt cx="3598920" cy="1726920"/>
          </a:xfrm>
        </p:grpSpPr>
        <p:sp>
          <p:nvSpPr>
            <p:cNvPr id="1461" name=""/>
            <p:cNvSpPr/>
            <p:nvPr/>
          </p:nvSpPr>
          <p:spPr>
            <a:xfrm>
              <a:off x="5761080" y="651312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 flipV="1">
              <a:off x="5904000" y="494136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424360" y="5949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545080" y="52304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317160" y="2390760"/>
            <a:ext cx="5222520" cy="4476600"/>
            <a:chOff x="317160" y="2390760"/>
            <a:chExt cx="5222520" cy="4476600"/>
          </a:xfrm>
        </p:grpSpPr>
        <p:grpSp>
          <p:nvGrpSpPr>
            <p:cNvPr id="1466" name=""/>
            <p:cNvGrpSpPr/>
            <p:nvPr/>
          </p:nvGrpSpPr>
          <p:grpSpPr>
            <a:xfrm>
              <a:off x="1908360" y="2822400"/>
              <a:ext cx="1512720" cy="3168720"/>
              <a:chOff x="1908360" y="2822400"/>
              <a:chExt cx="1512720" cy="3168720"/>
            </a:xfrm>
          </p:grpSpPr>
          <p:sp>
            <p:nvSpPr>
              <p:cNvPr id="1467" name=""/>
              <p:cNvSpPr/>
              <p:nvPr/>
            </p:nvSpPr>
            <p:spPr>
              <a:xfrm>
                <a:off x="3421080" y="2822400"/>
                <a:ext cx="0" cy="100800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>
                <a:off x="1908360" y="3830400"/>
                <a:ext cx="15127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908360" y="3830400"/>
                <a:ext cx="0" cy="100836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908360" y="4838760"/>
                <a:ext cx="15127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421080" y="4838760"/>
                <a:ext cx="0" cy="115236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2" name=""/>
            <p:cNvSpPr/>
            <p:nvPr/>
          </p:nvSpPr>
          <p:spPr>
            <a:xfrm rot="227400">
              <a:off x="1981080" y="3974760"/>
              <a:ext cx="3533760" cy="860400"/>
            </a:xfrm>
            <a:prstGeom prst="rect">
              <a:avLst/>
            </a:prstGeom>
            <a:solidFill>
              <a:srgbClr val="64512e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565440" y="3038400"/>
              <a:ext cx="649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800" spc="-1" strike="noStrike">
                  <a:solidFill>
                    <a:srgbClr val="64512e"/>
                  </a:solidFill>
                  <a:latin typeface="Times New Roman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 flipV="1">
              <a:off x="3419280" y="4834080"/>
              <a:ext cx="12600" cy="203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3401640" y="2463120"/>
              <a:ext cx="32760" cy="1361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17160" y="4727880"/>
              <a:ext cx="1634400" cy="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648520" y="2390760"/>
              <a:ext cx="703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512160" y="5416560"/>
              <a:ext cx="703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07520" y="40482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80" name=""/>
            <p:cNvGraphicFramePr/>
            <p:nvPr/>
          </p:nvGraphicFramePr>
          <p:xfrm>
            <a:off x="2268720" y="3327480"/>
            <a:ext cx="920520" cy="208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8720" y="3327480"/>
                      <a:ext cx="920520" cy="208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2" name=""/>
            <p:cNvSpPr/>
            <p:nvPr/>
          </p:nvSpPr>
          <p:spPr>
            <a:xfrm>
              <a:off x="2071080" y="5054400"/>
              <a:ext cx="790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4638240" y="260280"/>
            <a:ext cx="4254840" cy="2742120"/>
            <a:chOff x="4638240" y="260280"/>
            <a:chExt cx="4254840" cy="2742120"/>
          </a:xfrm>
        </p:grpSpPr>
        <p:sp>
          <p:nvSpPr>
            <p:cNvPr id="1484" name=""/>
            <p:cNvSpPr/>
            <p:nvPr/>
          </p:nvSpPr>
          <p:spPr>
            <a:xfrm flipV="1">
              <a:off x="6152040" y="615960"/>
              <a:ext cx="7560" cy="1159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494040" y="260280"/>
              <a:ext cx="2331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=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2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 –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375880" y="33336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084720" y="1628640"/>
              <a:ext cx="28083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638240" y="1662480"/>
              <a:ext cx="1634400" cy="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28600" y="10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90" name=""/>
            <p:cNvGraphicFramePr/>
            <p:nvPr/>
          </p:nvGraphicFramePr>
          <p:xfrm>
            <a:off x="5724360" y="981000"/>
            <a:ext cx="687600" cy="155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24360" y="981000"/>
                      <a:ext cx="687600" cy="15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2" name=""/>
            <p:cNvSpPr/>
            <p:nvPr/>
          </p:nvSpPr>
          <p:spPr>
            <a:xfrm>
              <a:off x="5022000" y="1916280"/>
              <a:ext cx="790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086520" y="17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4512e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659280" y="2421000"/>
              <a:ext cx="203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Upro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šće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5" name=""/>
          <p:cNvSpPr/>
          <p:nvPr/>
        </p:nvSpPr>
        <p:spPr>
          <a:xfrm flipV="1">
            <a:off x="4284720" y="2852280"/>
            <a:ext cx="2087640" cy="792360"/>
          </a:xfrm>
          <a:prstGeom prst="line">
            <a:avLst/>
          </a:prstGeom>
          <a:ln w="572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165440" y="328464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2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"/>
          <p:cNvSpPr/>
          <p:nvPr/>
        </p:nvSpPr>
        <p:spPr>
          <a:xfrm>
            <a:off x="5292720" y="2997360"/>
            <a:ext cx="3168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5219640" y="4508640"/>
            <a:ext cx="3168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5148360" y="3787560"/>
            <a:ext cx="2520720" cy="6476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5148360" y="3571560"/>
            <a:ext cx="3240000" cy="86364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2195640" y="1968480"/>
            <a:ext cx="1584360" cy="1081080"/>
            <a:chOff x="2195640" y="1968480"/>
            <a:chExt cx="1584360" cy="1081080"/>
          </a:xfrm>
        </p:grpSpPr>
        <p:sp>
          <p:nvSpPr>
            <p:cNvPr id="1502" name=""/>
            <p:cNvSpPr/>
            <p:nvPr/>
          </p:nvSpPr>
          <p:spPr>
            <a:xfrm>
              <a:off x="2197440" y="1968480"/>
              <a:ext cx="158256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780000" y="1968480"/>
              <a:ext cx="0" cy="108108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195640" y="1968480"/>
              <a:ext cx="0" cy="108108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195640" y="3048120"/>
              <a:ext cx="158292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6" name=""/>
          <p:cNvSpPr/>
          <p:nvPr/>
        </p:nvSpPr>
        <p:spPr>
          <a:xfrm>
            <a:off x="317520" y="260280"/>
            <a:ext cx="59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pokretna zglobn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vez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7" name=""/>
          <p:cNvGraphicFramePr/>
          <p:nvPr/>
        </p:nvGraphicFramePr>
        <p:xfrm>
          <a:off x="2124000" y="2852640"/>
          <a:ext cx="5327640" cy="3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852640"/>
                    <a:ext cx="532764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9" name="" descr=""/>
          <p:cNvPicPr/>
          <p:nvPr/>
        </p:nvPicPr>
        <p:blipFill>
          <a:blip r:embed="rId3"/>
          <a:stretch/>
        </p:blipFill>
        <p:spPr>
          <a:xfrm>
            <a:off x="1330200" y="2852640"/>
            <a:ext cx="1584360" cy="1131840"/>
          </a:xfrm>
          <a:prstGeom prst="rect">
            <a:avLst/>
          </a:prstGeom>
          <a:ln w="0">
            <a:noFill/>
          </a:ln>
        </p:spPr>
      </p:pic>
      <p:grpSp>
        <p:nvGrpSpPr>
          <p:cNvPr id="1510" name=""/>
          <p:cNvGrpSpPr/>
          <p:nvPr/>
        </p:nvGrpSpPr>
        <p:grpSpPr>
          <a:xfrm>
            <a:off x="252360" y="3933360"/>
            <a:ext cx="3598920" cy="1726920"/>
            <a:chOff x="252360" y="3933360"/>
            <a:chExt cx="3598920" cy="1726920"/>
          </a:xfrm>
        </p:grpSpPr>
        <p:sp>
          <p:nvSpPr>
            <p:cNvPr id="1511" name=""/>
            <p:cNvSpPr/>
            <p:nvPr/>
          </p:nvSpPr>
          <p:spPr>
            <a:xfrm>
              <a:off x="468360" y="550512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flipV="1">
              <a:off x="611280" y="393336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131640" y="4941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52360" y="42224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5" name=""/>
          <p:cNvSpPr/>
          <p:nvPr/>
        </p:nvSpPr>
        <p:spPr>
          <a:xfrm flipV="1">
            <a:off x="2189880" y="1911600"/>
            <a:ext cx="7560" cy="1159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188800" y="3029400"/>
            <a:ext cx="1634400" cy="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331640" y="2565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43000" y="260280"/>
            <a:ext cx="609120" cy="648720"/>
            <a:chOff x="6543000" y="260280"/>
            <a:chExt cx="609120" cy="648720"/>
          </a:xfrm>
        </p:grpSpPr>
        <p:sp>
          <p:nvSpPr>
            <p:cNvPr id="1519" name=""/>
            <p:cNvSpPr/>
            <p:nvPr/>
          </p:nvSpPr>
          <p:spPr>
            <a:xfrm>
              <a:off x="6543000" y="2602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746760" y="331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1" name=""/>
          <p:cNvSpPr/>
          <p:nvPr/>
        </p:nvSpPr>
        <p:spPr>
          <a:xfrm>
            <a:off x="6964200" y="260280"/>
            <a:ext cx="5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7423560" y="260280"/>
            <a:ext cx="1691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A </a:t>
            </a:r>
            <a:r>
              <a:rPr b="1" i="1" lang="sr-Latn-CS" sz="3200" spc="-1" strike="noStrike">
                <a:solidFill>
                  <a:srgbClr val="009900"/>
                </a:solidFill>
                <a:latin typeface="Times New Roman"/>
              </a:rPr>
              <a:t>; Y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2207160" y="1938600"/>
            <a:ext cx="1573560" cy="1139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3358440" y="3284640"/>
            <a:ext cx="609120" cy="648720"/>
            <a:chOff x="3358440" y="3284640"/>
            <a:chExt cx="609120" cy="648720"/>
          </a:xfrm>
        </p:grpSpPr>
        <p:sp>
          <p:nvSpPr>
            <p:cNvPr id="1525" name=""/>
            <p:cNvSpPr/>
            <p:nvPr/>
          </p:nvSpPr>
          <p:spPr>
            <a:xfrm>
              <a:off x="3358440" y="3284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562200" y="33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1413360" y="1700280"/>
            <a:ext cx="586080" cy="648720"/>
            <a:chOff x="1413360" y="1700280"/>
            <a:chExt cx="586080" cy="648720"/>
          </a:xfrm>
        </p:grpSpPr>
        <p:sp>
          <p:nvSpPr>
            <p:cNvPr id="1528" name=""/>
            <p:cNvSpPr/>
            <p:nvPr/>
          </p:nvSpPr>
          <p:spPr>
            <a:xfrm>
              <a:off x="1413360" y="170028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19280" y="17730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3790440" y="1484280"/>
            <a:ext cx="609120" cy="648720"/>
            <a:chOff x="3790440" y="1484280"/>
            <a:chExt cx="609120" cy="648720"/>
          </a:xfrm>
        </p:grpSpPr>
        <p:sp>
          <p:nvSpPr>
            <p:cNvPr id="1531" name=""/>
            <p:cNvSpPr/>
            <p:nvPr/>
          </p:nvSpPr>
          <p:spPr>
            <a:xfrm>
              <a:off x="3790440" y="14842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994200" y="15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3" name="" descr=""/>
          <p:cNvPicPr/>
          <p:nvPr/>
        </p:nvPicPr>
        <p:blipFill>
          <a:blip r:embed="rId4"/>
          <a:stretch/>
        </p:blipFill>
        <p:spPr>
          <a:xfrm>
            <a:off x="4284720" y="4363920"/>
            <a:ext cx="1584360" cy="1131840"/>
          </a:xfrm>
          <a:prstGeom prst="rect">
            <a:avLst/>
          </a:prstGeom>
          <a:ln w="0">
            <a:noFill/>
          </a:ln>
        </p:spPr>
      </p:pic>
      <p:sp>
        <p:nvSpPr>
          <p:cNvPr id="1534" name=""/>
          <p:cNvSpPr/>
          <p:nvPr/>
        </p:nvSpPr>
        <p:spPr>
          <a:xfrm>
            <a:off x="5219640" y="4508640"/>
            <a:ext cx="252108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7166520" y="385128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4213440" y="4003560"/>
            <a:ext cx="7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3522960" y="5791320"/>
            <a:ext cx="558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oguća je rotacija oko ose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z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j, u ravn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949440" y="481968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200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2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04" dur="2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7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2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2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 flipH="1">
            <a:off x="1042920" y="1628640"/>
            <a:ext cx="1728720" cy="3024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0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1779480" cy="284040"/>
          </a:xfrm>
          <a:prstGeom prst="rect">
            <a:avLst/>
          </a:prstGeom>
          <a:ln w="0">
            <a:noFill/>
          </a:ln>
        </p:spPr>
      </p:pic>
      <p:sp>
        <p:nvSpPr>
          <p:cNvPr id="1541" name=""/>
          <p:cNvSpPr/>
          <p:nvPr/>
        </p:nvSpPr>
        <p:spPr>
          <a:xfrm>
            <a:off x="1042920" y="3068640"/>
            <a:ext cx="7272360" cy="1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2" name=""/>
          <p:cNvGrpSpPr/>
          <p:nvPr/>
        </p:nvGrpSpPr>
        <p:grpSpPr>
          <a:xfrm>
            <a:off x="3997440" y="333000"/>
            <a:ext cx="4174920" cy="1933920"/>
            <a:chOff x="3997440" y="333000"/>
            <a:chExt cx="4174920" cy="1933920"/>
          </a:xfrm>
        </p:grpSpPr>
        <p:sp>
          <p:nvSpPr>
            <p:cNvPr id="1543" name=""/>
            <p:cNvSpPr/>
            <p:nvPr/>
          </p:nvSpPr>
          <p:spPr>
            <a:xfrm flipV="1">
              <a:off x="4932360" y="333000"/>
              <a:ext cx="3240000" cy="863640"/>
            </a:xfrm>
            <a:prstGeom prst="line">
              <a:avLst/>
            </a:prstGeom>
            <a:ln w="381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3997440" y="612720"/>
              <a:ext cx="4174920" cy="1654200"/>
              <a:chOff x="3997440" y="612720"/>
              <a:chExt cx="4174920" cy="1654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5003640" y="1270080"/>
                <a:ext cx="316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003640" y="1270080"/>
                <a:ext cx="252108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950520" y="612720"/>
                <a:ext cx="392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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997440" y="765000"/>
                <a:ext cx="717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4000" spc="-1" strike="noStrike">
                    <a:solidFill>
                      <a:srgbClr val="000099"/>
                    </a:solidFill>
                    <a:latin typeface="Times New Roman"/>
                  </a:rPr>
                  <a:t>Az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68720" y="1054080"/>
                <a:ext cx="1655640" cy="1212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0" name=""/>
            <p:cNvSpPr/>
            <p:nvPr/>
          </p:nvSpPr>
          <p:spPr>
            <a:xfrm flipV="1">
              <a:off x="4932360" y="547560"/>
              <a:ext cx="2520720" cy="647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"/>
          <p:cNvSpPr/>
          <p:nvPr/>
        </p:nvSpPr>
        <p:spPr>
          <a:xfrm>
            <a:off x="321120" y="260280"/>
            <a:ext cx="334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kretna zglobn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2" name=""/>
          <p:cNvGraphicFramePr/>
          <p:nvPr/>
        </p:nvGraphicFramePr>
        <p:xfrm>
          <a:off x="1978200" y="2925720"/>
          <a:ext cx="5327640" cy="3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8200" y="2925720"/>
                    <a:ext cx="532764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4" name=""/>
          <p:cNvGrpSpPr/>
          <p:nvPr/>
        </p:nvGrpSpPr>
        <p:grpSpPr>
          <a:xfrm>
            <a:off x="180720" y="4797000"/>
            <a:ext cx="3598920" cy="1726920"/>
            <a:chOff x="180720" y="4797000"/>
            <a:chExt cx="3598920" cy="1726920"/>
          </a:xfrm>
        </p:grpSpPr>
        <p:sp>
          <p:nvSpPr>
            <p:cNvPr id="1555" name=""/>
            <p:cNvSpPr/>
            <p:nvPr/>
          </p:nvSpPr>
          <p:spPr>
            <a:xfrm>
              <a:off x="396720" y="636876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539640" y="479700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06000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80720" y="5086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9" name=""/>
          <p:cNvSpPr/>
          <p:nvPr/>
        </p:nvSpPr>
        <p:spPr>
          <a:xfrm flipV="1">
            <a:off x="2043720" y="1984320"/>
            <a:ext cx="7560" cy="1159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477800" y="2349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1" name=""/>
          <p:cNvGrpSpPr/>
          <p:nvPr/>
        </p:nvGrpSpPr>
        <p:grpSpPr>
          <a:xfrm>
            <a:off x="1267200" y="1773360"/>
            <a:ext cx="586080" cy="648720"/>
            <a:chOff x="1267200" y="1773360"/>
            <a:chExt cx="586080" cy="648720"/>
          </a:xfrm>
        </p:grpSpPr>
        <p:sp>
          <p:nvSpPr>
            <p:cNvPr id="1562" name=""/>
            <p:cNvSpPr/>
            <p:nvPr/>
          </p:nvSpPr>
          <p:spPr>
            <a:xfrm>
              <a:off x="1267200" y="177336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473120" y="1846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4" name=""/>
          <p:cNvSpPr/>
          <p:nvPr/>
        </p:nvSpPr>
        <p:spPr>
          <a:xfrm>
            <a:off x="3106800" y="3933720"/>
            <a:ext cx="6043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Moguće je obrtanje oko ose </a:t>
            </a: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Az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tj, u ravni </a:t>
            </a: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Axy, 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i pomeranje du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x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ose, a nije moguće pomeranje 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pravcu normal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površ oslanj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5" name="" descr=""/>
          <p:cNvPicPr/>
          <p:nvPr/>
        </p:nvPicPr>
        <p:blipFill>
          <a:blip r:embed="rId5"/>
          <a:stretch/>
        </p:blipFill>
        <p:spPr>
          <a:xfrm>
            <a:off x="1114560" y="2925720"/>
            <a:ext cx="1562040" cy="1282680"/>
          </a:xfrm>
          <a:prstGeom prst="rect">
            <a:avLst/>
          </a:prstGeom>
          <a:ln w="0">
            <a:noFill/>
          </a:ln>
        </p:spPr>
      </p:pic>
      <p:pic>
        <p:nvPicPr>
          <p:cNvPr id="1566" name="" descr=""/>
          <p:cNvPicPr/>
          <p:nvPr/>
        </p:nvPicPr>
        <p:blipFill>
          <a:blip r:embed="rId6"/>
          <a:stretch/>
        </p:blipFill>
        <p:spPr>
          <a:xfrm rot="1492200">
            <a:off x="899640" y="2852640"/>
            <a:ext cx="1562040" cy="1282680"/>
          </a:xfrm>
          <a:prstGeom prst="rect">
            <a:avLst/>
          </a:prstGeom>
          <a:ln w="0">
            <a:noFill/>
          </a:ln>
        </p:spPr>
      </p:pic>
      <p:sp>
        <p:nvSpPr>
          <p:cNvPr id="1567" name=""/>
          <p:cNvSpPr/>
          <p:nvPr/>
        </p:nvSpPr>
        <p:spPr>
          <a:xfrm flipV="1">
            <a:off x="1976040" y="2090520"/>
            <a:ext cx="505440" cy="931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8" name=""/>
          <p:cNvGrpSpPr/>
          <p:nvPr/>
        </p:nvGrpSpPr>
        <p:grpSpPr>
          <a:xfrm>
            <a:off x="2351880" y="2060640"/>
            <a:ext cx="609120" cy="648720"/>
            <a:chOff x="2351880" y="2060640"/>
            <a:chExt cx="609120" cy="648720"/>
          </a:xfrm>
        </p:grpSpPr>
        <p:sp>
          <p:nvSpPr>
            <p:cNvPr id="1569" name=""/>
            <p:cNvSpPr/>
            <p:nvPr/>
          </p:nvSpPr>
          <p:spPr>
            <a:xfrm>
              <a:off x="2351880" y="20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555640" y="2131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1" name=""/>
          <p:cNvSpPr/>
          <p:nvPr/>
        </p:nvSpPr>
        <p:spPr>
          <a:xfrm>
            <a:off x="1333080" y="494172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20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2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2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2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2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2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2000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2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6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2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2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2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20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" dur="5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/>
          <p:nvPr/>
        </p:nvSpPr>
        <p:spPr>
          <a:xfrm>
            <a:off x="395280" y="1557360"/>
            <a:ext cx="338472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3780000" y="494172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321120" y="260280"/>
            <a:ext cx="37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dealno glatka povr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5078160" y="188640"/>
            <a:ext cx="3598920" cy="1726920"/>
            <a:chOff x="5078160" y="188640"/>
            <a:chExt cx="3598920" cy="1726920"/>
          </a:xfrm>
        </p:grpSpPr>
        <p:sp>
          <p:nvSpPr>
            <p:cNvPr id="1576" name=""/>
            <p:cNvSpPr/>
            <p:nvPr/>
          </p:nvSpPr>
          <p:spPr>
            <a:xfrm>
              <a:off x="5294160" y="176040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 flipV="1">
              <a:off x="5437080" y="18864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957440" y="119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078160" y="4777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80" name=""/>
          <p:cNvGraphicFramePr/>
          <p:nvPr/>
        </p:nvGraphicFramePr>
        <p:xfrm>
          <a:off x="324000" y="1527120"/>
          <a:ext cx="842472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27120"/>
                    <a:ext cx="842472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2" name=""/>
          <p:cNvSpPr/>
          <p:nvPr/>
        </p:nvSpPr>
        <p:spPr>
          <a:xfrm rot="1037400">
            <a:off x="1904760" y="3858840"/>
            <a:ext cx="5833800" cy="146160"/>
          </a:xfrm>
          <a:prstGeom prst="rect">
            <a:avLst/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395280" y="1628640"/>
            <a:ext cx="3168720" cy="302436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7596360" y="3429000"/>
            <a:ext cx="0" cy="324000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1629360" y="357192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1" lang="sr-Latn-CS" sz="32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7749360" y="508464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1" lang="sr-Latn-CS" sz="32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176544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766944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V="1">
            <a:off x="433440" y="3093480"/>
            <a:ext cx="1584000" cy="1536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flipH="1" flipV="1">
            <a:off x="7570440" y="4862520"/>
            <a:ext cx="19080" cy="1180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987120" y="2924280"/>
            <a:ext cx="668520" cy="648720"/>
            <a:chOff x="987120" y="2924280"/>
            <a:chExt cx="668520" cy="648720"/>
          </a:xfrm>
        </p:grpSpPr>
        <p:sp>
          <p:nvSpPr>
            <p:cNvPr id="1592" name=""/>
            <p:cNvSpPr/>
            <p:nvPr/>
          </p:nvSpPr>
          <p:spPr>
            <a:xfrm>
              <a:off x="987120" y="292428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189080" y="299700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892560" y="5300640"/>
            <a:ext cx="668520" cy="648720"/>
            <a:chOff x="6892560" y="5300640"/>
            <a:chExt cx="668520" cy="648720"/>
          </a:xfrm>
        </p:grpSpPr>
        <p:sp>
          <p:nvSpPr>
            <p:cNvPr id="1595" name=""/>
            <p:cNvSpPr/>
            <p:nvPr/>
          </p:nvSpPr>
          <p:spPr>
            <a:xfrm>
              <a:off x="6892560" y="530064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094520" y="5373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7" name=""/>
          <p:cNvSpPr/>
          <p:nvPr/>
        </p:nvSpPr>
        <p:spPr>
          <a:xfrm flipH="1">
            <a:off x="4790880" y="3868920"/>
            <a:ext cx="19440" cy="2160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4864320" y="5157720"/>
            <a:ext cx="534240" cy="648720"/>
            <a:chOff x="4864320" y="5157720"/>
            <a:chExt cx="534240" cy="648720"/>
          </a:xfrm>
        </p:grpSpPr>
        <p:sp>
          <p:nvSpPr>
            <p:cNvPr id="1599" name=""/>
            <p:cNvSpPr/>
            <p:nvPr/>
          </p:nvSpPr>
          <p:spPr>
            <a:xfrm>
              <a:off x="4864320" y="5157720"/>
              <a:ext cx="5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G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076720" y="52304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5363280" y="2205000"/>
            <a:ext cx="30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3 – 2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2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3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3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70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2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20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20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2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33" dur="3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1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39257"/>
                </a:solidFill>
                <a:latin typeface="Times New Roman"/>
              </a:rPr>
              <a:t>MATERIJALNA TAČKA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640" y="292392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POD </a:t>
            </a: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MATERIJALNOM TAČKOM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PODRAZUMEVA SE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GEOMETRIJSKA TAČKA KOJOJ JE PRIDODATA MA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971640" y="907920"/>
            <a:ext cx="6985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pl-PL" sz="6600" spc="-1" strike="noStrike">
                <a:solidFill>
                  <a:srgbClr val="ff0000"/>
                </a:solidFill>
                <a:latin typeface="Times New Roman"/>
              </a:rPr>
              <a:t>KAKO SE DELI</a:t>
            </a: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 MEHANIKA </a:t>
            </a:r>
            <a:br>
              <a:rPr sz="6600"/>
            </a:b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KRUTOG TELA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4360" y="404640"/>
            <a:ext cx="7632720" cy="60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KINEMAT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(GEOMETRIJA KRETAN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KLASIČ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NJUTNOVSKE)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KRETANJ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H OBJEKAT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 UZIMAJUĆI U OBZ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JIHOVU MATERIJALNOST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K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I UZROK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JI USLOVLJAVA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 KRETANJA (SI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07T19:44:32Z</dcterms:modified>
  <cp:revision>153</cp:revision>
  <dc:subject/>
  <dc:title>Slide 1</dc:title>
</cp:coreProperties>
</file>