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13.wmf" ContentType="image/x-wmf"/>
  <Override PartName="/ppt/media/image30.wmf" ContentType="image/x-wmf"/>
  <Override PartName="/ppt/media/image28.wmf" ContentType="image/x-wmf"/>
  <Override PartName="/ppt/media/image40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png" ContentType="image/png"/>
  <Override PartName="/ppt/media/image41.wmf" ContentType="image/x-wmf"/>
  <Override PartName="/ppt/media/image42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DEEC-395C-4DF1-9CC8-D2B52B3B7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E148-5BF0-4CBC-AD6F-560A94BA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7EE1-5E11-4ACD-9E6C-610B9BB4B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1591-0A04-42BE-9EC6-B7ED1E7DC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ABB6-B8CA-4D40-BDC1-CFF046365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33F2-44CA-4B51-B23F-B7BBDF5C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D4C4-69F5-4093-BC75-3F7BE9E0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5630-C4F8-4136-ACAD-BB0988CF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B772-C9E1-4E8C-B238-5DAC2A72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D3A6-E86B-4DE4-A713-AC6498EA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06593-3A68-4016-8A1C-7C14D8FD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9C43-18BE-4787-9562-20741765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3906-CF78-4AB8-9E03-01398619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FD81-83D0-4E8D-B303-10AB49A7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98AF-3CE1-4445-960A-E4B738A6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8AE7-EDD4-4DEE-A0CD-B604441A2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17D5-15B1-4A85-AC8F-AA8F67134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F8D2-B26E-46C4-95F9-49E996C2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C9F6-406E-4C32-87BA-D6631845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B09F-157B-46D7-ADBF-E658A92F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D2C3-339C-42AA-8D8E-135AA923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D0B3-0433-4EBA-B290-5E470624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4593-9CE1-40BF-898E-06A80D59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EA35-569C-4F36-AF1F-76322D69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2F6B-06E5-4FAD-8E46-00224E54B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DB65-7EA4-415A-95C1-401D5D6A6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VI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5" name=""/>
          <p:cNvGraphicFramePr/>
          <p:nvPr/>
        </p:nvGraphicFramePr>
        <p:xfrm>
          <a:off x="324000" y="4071960"/>
          <a:ext cx="867564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071960"/>
                    <a:ext cx="867564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"/>
          <p:cNvSpPr/>
          <p:nvPr/>
        </p:nvSpPr>
        <p:spPr>
          <a:xfrm>
            <a:off x="1346400" y="1974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260360" y="3469680"/>
            <a:ext cx="200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dakle sledi</a:t>
            </a:r>
            <a:r>
              <a:rPr b="1" lang="hr-H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52720" y="5290920"/>
            <a:ext cx="872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mer sila u štapovima 4 i 10 je pogrešno pretpostavlj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Štap 2 je zategnut, a štapovi 4 i 10 su pritisnu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179280" y="333360"/>
          <a:ext cx="8713800" cy="272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333360"/>
                    <a:ext cx="8713800" cy="27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1346400" y="1974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11280" y="112680"/>
            <a:ext cx="59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Riterova metoda – još jedan pr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rot="10800000">
            <a:off x="468360" y="2060280"/>
            <a:ext cx="7416720" cy="2448000"/>
          </a:xfrm>
          <a:custGeom>
            <a:avLst/>
            <a:gdLst>
              <a:gd name="textAreaLeft" fmla="*/ 1969920 w 7416720"/>
              <a:gd name="textAreaRight" fmla="*/ 5446800 w 7416720"/>
              <a:gd name="textAreaTop" fmla="*/ 650160 h 2448000"/>
              <a:gd name="textAreaBottom" fmla="*/ 179784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422" y="21600"/>
                </a:lnTo>
                <a:lnTo>
                  <a:pt x="7178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916360" y="2060640"/>
            <a:ext cx="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435640" y="2060640"/>
            <a:ext cx="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916360" y="2060640"/>
            <a:ext cx="251928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364000" y="1989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843280" y="4437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364000" y="4437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34560" y="4508640"/>
            <a:ext cx="792360" cy="431280"/>
            <a:chOff x="34560" y="4508640"/>
            <a:chExt cx="792360" cy="431280"/>
          </a:xfrm>
        </p:grpSpPr>
        <p:sp>
          <p:nvSpPr>
            <p:cNvPr id="562" name=""/>
            <p:cNvSpPr/>
            <p:nvPr/>
          </p:nvSpPr>
          <p:spPr>
            <a:xfrm>
              <a:off x="250920" y="4508640"/>
              <a:ext cx="360360" cy="28692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34560" y="4797360"/>
              <a:ext cx="792360" cy="142560"/>
              <a:chOff x="34560" y="4797360"/>
              <a:chExt cx="792360" cy="14256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20" y="479736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34560" y="47973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250560" y="4797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466560" y="4797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>
                <a:off x="682560" y="4797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9" name=""/>
          <p:cNvSpPr/>
          <p:nvPr/>
        </p:nvSpPr>
        <p:spPr>
          <a:xfrm rot="15975600">
            <a:off x="394200" y="4437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7524360" y="4508640"/>
            <a:ext cx="792360" cy="574200"/>
            <a:chOff x="7524360" y="4508640"/>
            <a:chExt cx="792360" cy="574200"/>
          </a:xfrm>
        </p:grpSpPr>
        <p:sp>
          <p:nvSpPr>
            <p:cNvPr id="571" name=""/>
            <p:cNvSpPr/>
            <p:nvPr/>
          </p:nvSpPr>
          <p:spPr>
            <a:xfrm>
              <a:off x="7740360" y="450864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524720" y="479592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"/>
            <p:cNvGrpSpPr/>
            <p:nvPr/>
          </p:nvGrpSpPr>
          <p:grpSpPr>
            <a:xfrm>
              <a:off x="7524360" y="4940280"/>
              <a:ext cx="792360" cy="142560"/>
              <a:chOff x="7524360" y="4940280"/>
              <a:chExt cx="792360" cy="142560"/>
            </a:xfrm>
          </p:grpSpPr>
          <p:sp>
            <p:nvSpPr>
              <p:cNvPr id="574" name=""/>
              <p:cNvSpPr/>
              <p:nvPr/>
            </p:nvSpPr>
            <p:spPr>
              <a:xfrm>
                <a:off x="7524720" y="494028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7524360" y="494028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7740360" y="49402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7956360" y="49402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8172360" y="49402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9" name=""/>
          <p:cNvSpPr/>
          <p:nvPr/>
        </p:nvSpPr>
        <p:spPr>
          <a:xfrm>
            <a:off x="7812000" y="4437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800" y="3789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17416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333080" y="522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843280" y="1989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434920" y="4545000"/>
            <a:ext cx="16560" cy="1221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662120" y="2070720"/>
            <a:ext cx="1168920" cy="756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95280" y="501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916360" y="486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956720" y="501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435640" y="494172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95280" y="5877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914560" y="5877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435640" y="5877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996720" y="522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517800" y="530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7991640" y="1987560"/>
            <a:ext cx="1152000" cy="2520720"/>
            <a:chOff x="7991640" y="1987560"/>
            <a:chExt cx="1152000" cy="2520720"/>
          </a:xfrm>
        </p:grpSpPr>
        <p:sp>
          <p:nvSpPr>
            <p:cNvPr id="596" name=""/>
            <p:cNvSpPr/>
            <p:nvPr/>
          </p:nvSpPr>
          <p:spPr>
            <a:xfrm rot="16200000">
              <a:off x="8449920" y="3087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136000" y="450828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991640" y="19875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8999640" y="198756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1773360" y="14130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518440" y="4797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7236000" y="476280"/>
          <a:ext cx="1726920" cy="61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6000" y="476280"/>
                    <a:ext cx="172692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7236000" y="1125360"/>
          <a:ext cx="1726920" cy="5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6000" y="1125360"/>
                    <a:ext cx="172692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346400" y="966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0" y="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Određivanje spoljašnjih reakcija v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rot="10800000">
            <a:off x="468360" y="1051920"/>
            <a:ext cx="7416720" cy="2447640"/>
          </a:xfrm>
          <a:custGeom>
            <a:avLst/>
            <a:gdLst>
              <a:gd name="textAreaLeft" fmla="*/ 1969920 w 7416720"/>
              <a:gd name="textAreaRight" fmla="*/ 5446800 w 7416720"/>
              <a:gd name="textAreaTop" fmla="*/ 650160 h 2447640"/>
              <a:gd name="textAreaBottom" fmla="*/ 1797480 h 24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422" y="21600"/>
                </a:lnTo>
                <a:lnTo>
                  <a:pt x="7178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916360" y="1052640"/>
            <a:ext cx="0" cy="24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435640" y="1052640"/>
            <a:ext cx="0" cy="24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1052640"/>
            <a:ext cx="2519280" cy="24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364000" y="981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843280" y="3429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364000" y="3429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34560" y="3500280"/>
            <a:ext cx="792360" cy="431640"/>
            <a:chOff x="34560" y="3500280"/>
            <a:chExt cx="792360" cy="431640"/>
          </a:xfrm>
        </p:grpSpPr>
        <p:sp>
          <p:nvSpPr>
            <p:cNvPr id="618" name=""/>
            <p:cNvSpPr/>
            <p:nvPr/>
          </p:nvSpPr>
          <p:spPr>
            <a:xfrm>
              <a:off x="250920" y="350028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34560" y="3789360"/>
              <a:ext cx="792360" cy="142560"/>
              <a:chOff x="34560" y="3789360"/>
              <a:chExt cx="792360" cy="142560"/>
            </a:xfrm>
          </p:grpSpPr>
          <p:sp>
            <p:nvSpPr>
              <p:cNvPr id="620" name=""/>
              <p:cNvSpPr/>
              <p:nvPr/>
            </p:nvSpPr>
            <p:spPr>
              <a:xfrm>
                <a:off x="34920" y="378936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34560" y="37893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250560" y="3789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466560" y="3789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682560" y="3789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5" name=""/>
          <p:cNvSpPr/>
          <p:nvPr/>
        </p:nvSpPr>
        <p:spPr>
          <a:xfrm rot="15975600">
            <a:off x="394200" y="3429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7524360" y="3500280"/>
            <a:ext cx="792360" cy="574200"/>
            <a:chOff x="7524360" y="3500280"/>
            <a:chExt cx="792360" cy="574200"/>
          </a:xfrm>
        </p:grpSpPr>
        <p:sp>
          <p:nvSpPr>
            <p:cNvPr id="627" name=""/>
            <p:cNvSpPr/>
            <p:nvPr/>
          </p:nvSpPr>
          <p:spPr>
            <a:xfrm>
              <a:off x="7740360" y="350028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524720" y="378756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7524360" y="3931920"/>
              <a:ext cx="792360" cy="142560"/>
              <a:chOff x="7524360" y="3931920"/>
              <a:chExt cx="792360" cy="142560"/>
            </a:xfrm>
          </p:grpSpPr>
          <p:sp>
            <p:nvSpPr>
              <p:cNvPr id="630" name=""/>
              <p:cNvSpPr/>
              <p:nvPr/>
            </p:nvSpPr>
            <p:spPr>
              <a:xfrm>
                <a:off x="7524720" y="393192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7524360" y="393192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7740360" y="393192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7956360" y="393192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8172360" y="393192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"/>
          <p:cNvSpPr/>
          <p:nvPr/>
        </p:nvSpPr>
        <p:spPr>
          <a:xfrm>
            <a:off x="7812000" y="3429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800" y="2781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8174160" y="2925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33308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843280" y="981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434920" y="3537000"/>
            <a:ext cx="16560" cy="1221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662120" y="1062720"/>
            <a:ext cx="1168920" cy="756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95280" y="4005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916360" y="386064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956720" y="4005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35640" y="39337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95280" y="48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914560" y="48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435640" y="48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99672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517800" y="4292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7991640" y="979560"/>
            <a:ext cx="1152000" cy="2520720"/>
            <a:chOff x="7991640" y="979560"/>
            <a:chExt cx="1152000" cy="2520720"/>
          </a:xfrm>
        </p:grpSpPr>
        <p:sp>
          <p:nvSpPr>
            <p:cNvPr id="652" name=""/>
            <p:cNvSpPr/>
            <p:nvPr/>
          </p:nvSpPr>
          <p:spPr>
            <a:xfrm rot="16200000">
              <a:off x="8449920" y="2079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136000" y="350028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991640" y="9795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8999640" y="97956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"/>
          <p:cNvSpPr/>
          <p:nvPr/>
        </p:nvSpPr>
        <p:spPr>
          <a:xfrm>
            <a:off x="1773360" y="404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518440" y="3789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0" y="232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7416720" y="0"/>
          <a:ext cx="1727280" cy="6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6720" y="0"/>
                    <a:ext cx="172728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1" name=""/>
          <p:cNvSpPr/>
          <p:nvPr/>
        </p:nvSpPr>
        <p:spPr>
          <a:xfrm>
            <a:off x="0" y="232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7416720" y="476280"/>
          <a:ext cx="1727280" cy="5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16720" y="476280"/>
                    <a:ext cx="17272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4" name=""/>
          <p:cNvGrpSpPr/>
          <p:nvPr/>
        </p:nvGrpSpPr>
        <p:grpSpPr>
          <a:xfrm>
            <a:off x="7320600" y="1989000"/>
            <a:ext cx="609120" cy="648720"/>
            <a:chOff x="7320600" y="1989000"/>
            <a:chExt cx="609120" cy="648720"/>
          </a:xfrm>
        </p:grpSpPr>
        <p:sp>
          <p:nvSpPr>
            <p:cNvPr id="665" name=""/>
            <p:cNvSpPr/>
            <p:nvPr/>
          </p:nvSpPr>
          <p:spPr>
            <a:xfrm>
              <a:off x="7320600" y="198900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453080" y="206028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"/>
          <p:cNvSpPr/>
          <p:nvPr/>
        </p:nvSpPr>
        <p:spPr>
          <a:xfrm flipV="1">
            <a:off x="7927200" y="1246680"/>
            <a:ext cx="22680" cy="2244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384840" y="3492720"/>
            <a:ext cx="2052360" cy="5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467640" y="2415960"/>
            <a:ext cx="17280" cy="1037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415160" y="2925720"/>
            <a:ext cx="609120" cy="648720"/>
            <a:chOff x="1415160" y="2925720"/>
            <a:chExt cx="609120" cy="648720"/>
          </a:xfrm>
        </p:grpSpPr>
        <p:sp>
          <p:nvSpPr>
            <p:cNvPr id="671" name=""/>
            <p:cNvSpPr/>
            <p:nvPr/>
          </p:nvSpPr>
          <p:spPr>
            <a:xfrm>
              <a:off x="1415160" y="292572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547640" y="299700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262440" y="1917720"/>
            <a:ext cx="586080" cy="648720"/>
            <a:chOff x="262440" y="1917720"/>
            <a:chExt cx="586080" cy="648720"/>
          </a:xfrm>
        </p:grpSpPr>
        <p:sp>
          <p:nvSpPr>
            <p:cNvPr id="674" name=""/>
            <p:cNvSpPr/>
            <p:nvPr/>
          </p:nvSpPr>
          <p:spPr>
            <a:xfrm>
              <a:off x="262440" y="1917720"/>
              <a:ext cx="586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Y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95280" y="198900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76" name=""/>
          <p:cNvGraphicFramePr/>
          <p:nvPr/>
        </p:nvGraphicFramePr>
        <p:xfrm>
          <a:off x="108000" y="4973760"/>
          <a:ext cx="4392720" cy="60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000" y="4973760"/>
                    <a:ext cx="4392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8" name=""/>
          <p:cNvGraphicFramePr/>
          <p:nvPr/>
        </p:nvGraphicFramePr>
        <p:xfrm>
          <a:off x="4824360" y="4941720"/>
          <a:ext cx="4284720" cy="55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24360" y="4941720"/>
                    <a:ext cx="42847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0" name=""/>
          <p:cNvGraphicFramePr/>
          <p:nvPr/>
        </p:nvGraphicFramePr>
        <p:xfrm>
          <a:off x="108000" y="5551560"/>
          <a:ext cx="6985080" cy="614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000" y="5551560"/>
                    <a:ext cx="698508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2" name=""/>
          <p:cNvSpPr/>
          <p:nvPr/>
        </p:nvSpPr>
        <p:spPr>
          <a:xfrm>
            <a:off x="3354480" y="199800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290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4" name=""/>
          <p:cNvGraphicFramePr/>
          <p:nvPr/>
        </p:nvGraphicFramePr>
        <p:xfrm>
          <a:off x="68400" y="6138720"/>
          <a:ext cx="7970760" cy="675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8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400" y="6138720"/>
                    <a:ext cx="7970760" cy="6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8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40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0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8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3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3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3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3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5435640" y="792000"/>
            <a:ext cx="244944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883640" y="316692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8174160" y="2664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7991640" y="717480"/>
            <a:ext cx="1152000" cy="2520720"/>
            <a:chOff x="7991640" y="717480"/>
            <a:chExt cx="1152000" cy="2520720"/>
          </a:xfrm>
        </p:grpSpPr>
        <p:sp>
          <p:nvSpPr>
            <p:cNvPr id="690" name=""/>
            <p:cNvSpPr/>
            <p:nvPr/>
          </p:nvSpPr>
          <p:spPr>
            <a:xfrm rot="16200000">
              <a:off x="8449920" y="1817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36000" y="323820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91640" y="71748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8999640" y="71748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"/>
          <p:cNvSpPr/>
          <p:nvPr/>
        </p:nvSpPr>
        <p:spPr>
          <a:xfrm flipV="1">
            <a:off x="7927200" y="913320"/>
            <a:ext cx="22680" cy="2244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497400" y="446040"/>
            <a:ext cx="3439800" cy="3513240"/>
          </a:xfrm>
          <a:custGeom>
            <a:avLst/>
            <a:gdLst/>
            <a:ahLst/>
            <a:rect l="l" t="t" r="r" b="b"/>
            <a:pathLst>
              <a:path w="2167" h="2213">
                <a:moveTo>
                  <a:pt x="0" y="0"/>
                </a:moveTo>
                <a:cubicBezTo>
                  <a:pt x="19" y="106"/>
                  <a:pt x="24" y="243"/>
                  <a:pt x="147" y="283"/>
                </a:cubicBezTo>
                <a:cubicBezTo>
                  <a:pt x="202" y="341"/>
                  <a:pt x="341" y="371"/>
                  <a:pt x="421" y="384"/>
                </a:cubicBezTo>
                <a:cubicBezTo>
                  <a:pt x="427" y="402"/>
                  <a:pt x="437" y="420"/>
                  <a:pt x="439" y="439"/>
                </a:cubicBezTo>
                <a:cubicBezTo>
                  <a:pt x="442" y="476"/>
                  <a:pt x="438" y="514"/>
                  <a:pt x="448" y="549"/>
                </a:cubicBezTo>
                <a:cubicBezTo>
                  <a:pt x="473" y="640"/>
                  <a:pt x="591" y="669"/>
                  <a:pt x="659" y="713"/>
                </a:cubicBezTo>
                <a:cubicBezTo>
                  <a:pt x="686" y="796"/>
                  <a:pt x="678" y="871"/>
                  <a:pt x="695" y="960"/>
                </a:cubicBezTo>
                <a:cubicBezTo>
                  <a:pt x="699" y="981"/>
                  <a:pt x="739" y="983"/>
                  <a:pt x="750" y="987"/>
                </a:cubicBezTo>
                <a:cubicBezTo>
                  <a:pt x="830" y="1014"/>
                  <a:pt x="905" y="1030"/>
                  <a:pt x="988" y="1042"/>
                </a:cubicBezTo>
                <a:cubicBezTo>
                  <a:pt x="1004" y="1090"/>
                  <a:pt x="982" y="1178"/>
                  <a:pt x="1034" y="1207"/>
                </a:cubicBezTo>
                <a:cubicBezTo>
                  <a:pt x="1048" y="1215"/>
                  <a:pt x="1064" y="1219"/>
                  <a:pt x="1079" y="1225"/>
                </a:cubicBezTo>
                <a:cubicBezTo>
                  <a:pt x="1111" y="1255"/>
                  <a:pt x="1135" y="1255"/>
                  <a:pt x="1180" y="1262"/>
                </a:cubicBezTo>
                <a:cubicBezTo>
                  <a:pt x="1217" y="1277"/>
                  <a:pt x="1251" y="1289"/>
                  <a:pt x="1290" y="1298"/>
                </a:cubicBezTo>
                <a:cubicBezTo>
                  <a:pt x="1331" y="1342"/>
                  <a:pt x="1307" y="1402"/>
                  <a:pt x="1290" y="1454"/>
                </a:cubicBezTo>
                <a:cubicBezTo>
                  <a:pt x="1311" y="1518"/>
                  <a:pt x="1361" y="1519"/>
                  <a:pt x="1418" y="1527"/>
                </a:cubicBezTo>
                <a:cubicBezTo>
                  <a:pt x="1482" y="1548"/>
                  <a:pt x="1553" y="1566"/>
                  <a:pt x="1619" y="1582"/>
                </a:cubicBezTo>
                <a:cubicBezTo>
                  <a:pt x="1632" y="1620"/>
                  <a:pt x="1640" y="1704"/>
                  <a:pt x="1664" y="1728"/>
                </a:cubicBezTo>
                <a:cubicBezTo>
                  <a:pt x="1695" y="1758"/>
                  <a:pt x="1735" y="1764"/>
                  <a:pt x="1774" y="1774"/>
                </a:cubicBezTo>
                <a:cubicBezTo>
                  <a:pt x="1793" y="1779"/>
                  <a:pt x="1829" y="1792"/>
                  <a:pt x="1829" y="1792"/>
                </a:cubicBezTo>
                <a:cubicBezTo>
                  <a:pt x="1853" y="1842"/>
                  <a:pt x="1853" y="1899"/>
                  <a:pt x="1875" y="1947"/>
                </a:cubicBezTo>
                <a:cubicBezTo>
                  <a:pt x="1907" y="2019"/>
                  <a:pt x="1953" y="2034"/>
                  <a:pt x="1994" y="2094"/>
                </a:cubicBezTo>
                <a:cubicBezTo>
                  <a:pt x="2000" y="2112"/>
                  <a:pt x="2006" y="2131"/>
                  <a:pt x="2012" y="2149"/>
                </a:cubicBezTo>
                <a:cubicBezTo>
                  <a:pt x="2016" y="2161"/>
                  <a:pt x="2028" y="2170"/>
                  <a:pt x="2039" y="2176"/>
                </a:cubicBezTo>
                <a:cubicBezTo>
                  <a:pt x="2069" y="2193"/>
                  <a:pt x="2134" y="2213"/>
                  <a:pt x="2167" y="22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364000" y="719280"/>
            <a:ext cx="144720" cy="1425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435640" y="863640"/>
            <a:ext cx="0" cy="158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564000" y="79200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7885080" y="316692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6300360" y="324000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1800" y="142920"/>
            <a:ext cx="7954920" cy="6742080"/>
            <a:chOff x="1800" y="142920"/>
            <a:chExt cx="7954920" cy="6742080"/>
          </a:xfrm>
        </p:grpSpPr>
        <p:grpSp>
          <p:nvGrpSpPr>
            <p:cNvPr id="702" name=""/>
            <p:cNvGrpSpPr/>
            <p:nvPr/>
          </p:nvGrpSpPr>
          <p:grpSpPr>
            <a:xfrm>
              <a:off x="1800" y="142920"/>
              <a:ext cx="7954920" cy="6742080"/>
              <a:chOff x="1800" y="142920"/>
              <a:chExt cx="7954920" cy="6742080"/>
            </a:xfrm>
          </p:grpSpPr>
          <p:sp>
            <p:nvSpPr>
              <p:cNvPr id="703" name=""/>
              <p:cNvSpPr/>
              <p:nvPr/>
            </p:nvSpPr>
            <p:spPr>
              <a:xfrm>
                <a:off x="1346400" y="704160"/>
                <a:ext cx="1095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10800000">
                <a:off x="468360" y="790200"/>
                <a:ext cx="7416720" cy="2448000"/>
              </a:xfrm>
              <a:custGeom>
                <a:avLst/>
                <a:gdLst>
                  <a:gd name="textAreaLeft" fmla="*/ 1969920 w 7416720"/>
                  <a:gd name="textAreaRight" fmla="*/ 5446800 w 7416720"/>
                  <a:gd name="textAreaTop" fmla="*/ 650160 h 2448000"/>
                  <a:gd name="textAreaBottom" fmla="*/ 1797840 h 244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422" y="21600"/>
                    </a:lnTo>
                    <a:lnTo>
                      <a:pt x="7178" y="21600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916360" y="790560"/>
                <a:ext cx="0" cy="2448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435640" y="792360"/>
                <a:ext cx="0" cy="2446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2916360" y="790560"/>
                <a:ext cx="2519280" cy="2448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364000" y="719280"/>
                <a:ext cx="14472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843280" y="316728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364000" y="3167280"/>
                <a:ext cx="14472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rot="15975600">
                <a:off x="394200" y="316728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800" y="2519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cc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843280" y="71928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32760" y="3273480"/>
                <a:ext cx="11880" cy="2805120"/>
              </a:xfrm>
              <a:prstGeom prst="line">
                <a:avLst/>
              </a:prstGeom>
              <a:ln w="76320">
                <a:solidFill>
                  <a:srgbClr val="660066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662120" y="801000"/>
                <a:ext cx="1168920" cy="7560"/>
              </a:xfrm>
              <a:prstGeom prst="line">
                <a:avLst/>
              </a:prstGeom>
              <a:ln w="76320">
                <a:solidFill>
                  <a:srgbClr val="660066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95280" y="3743280"/>
                <a:ext cx="0" cy="100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916360" y="3598920"/>
                <a:ext cx="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956720" y="3743280"/>
                <a:ext cx="0" cy="314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435640" y="3672000"/>
                <a:ext cx="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95280" y="4606920"/>
                <a:ext cx="252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914560" y="4606920"/>
                <a:ext cx="252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435640" y="4606920"/>
                <a:ext cx="252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996720" y="39592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773360" y="14292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518440" y="352764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 flipV="1">
                <a:off x="439200" y="3276000"/>
                <a:ext cx="1195920" cy="6123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1477440" y="4032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589080" y="4032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"/>
          <p:cNvSpPr/>
          <p:nvPr/>
        </p:nvSpPr>
        <p:spPr>
          <a:xfrm>
            <a:off x="6444720" y="2592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852360" y="2592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260000" y="1584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620360" y="2664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925440" y="24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660720" y="151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917440" y="1800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709440" y="1800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436720" y="151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7320600" y="1413000"/>
            <a:ext cx="609120" cy="648720"/>
            <a:chOff x="7320600" y="1413000"/>
            <a:chExt cx="609120" cy="648720"/>
          </a:xfrm>
        </p:grpSpPr>
        <p:sp>
          <p:nvSpPr>
            <p:cNvPr id="739" name=""/>
            <p:cNvSpPr/>
            <p:nvPr/>
          </p:nvSpPr>
          <p:spPr>
            <a:xfrm>
              <a:off x="7320600" y="141300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453080" y="148428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"/>
          <p:cNvSpPr/>
          <p:nvPr/>
        </p:nvSpPr>
        <p:spPr>
          <a:xfrm>
            <a:off x="5437440" y="820440"/>
            <a:ext cx="12240" cy="1721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3558240" y="775800"/>
            <a:ext cx="1881000" cy="16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445360" y="1857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797720" y="32130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4510080" y="260280"/>
            <a:ext cx="523800" cy="648720"/>
            <a:chOff x="4510080" y="260280"/>
            <a:chExt cx="523800" cy="648720"/>
          </a:xfrm>
        </p:grpSpPr>
        <p:sp>
          <p:nvSpPr>
            <p:cNvPr id="746" name=""/>
            <p:cNvSpPr/>
            <p:nvPr/>
          </p:nvSpPr>
          <p:spPr>
            <a:xfrm>
              <a:off x="4510080" y="260280"/>
              <a:ext cx="523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645080" y="33156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4941720" y="1268280"/>
            <a:ext cx="523800" cy="648720"/>
            <a:chOff x="4941720" y="1268280"/>
            <a:chExt cx="523800" cy="648720"/>
          </a:xfrm>
        </p:grpSpPr>
        <p:sp>
          <p:nvSpPr>
            <p:cNvPr id="749" name=""/>
            <p:cNvSpPr/>
            <p:nvPr/>
          </p:nvSpPr>
          <p:spPr>
            <a:xfrm>
              <a:off x="4941720" y="1268280"/>
              <a:ext cx="523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076720" y="133956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6526080" y="3281400"/>
            <a:ext cx="523800" cy="648720"/>
            <a:chOff x="6526080" y="3281400"/>
            <a:chExt cx="523800" cy="648720"/>
          </a:xfrm>
        </p:grpSpPr>
        <p:sp>
          <p:nvSpPr>
            <p:cNvPr id="752" name=""/>
            <p:cNvSpPr/>
            <p:nvPr/>
          </p:nvSpPr>
          <p:spPr>
            <a:xfrm>
              <a:off x="6526080" y="3281400"/>
              <a:ext cx="523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661080" y="335268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5435640" y="1916280"/>
            <a:ext cx="0" cy="23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4788000" y="328464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6" name=""/>
          <p:cNvGraphicFramePr/>
          <p:nvPr/>
        </p:nvGraphicFramePr>
        <p:xfrm>
          <a:off x="395280" y="4390920"/>
          <a:ext cx="8280360" cy="239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390920"/>
                    <a:ext cx="8280360" cy="23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8" name=""/>
          <p:cNvSpPr/>
          <p:nvPr/>
        </p:nvSpPr>
        <p:spPr>
          <a:xfrm flipH="1">
            <a:off x="6266520" y="3235680"/>
            <a:ext cx="1641240" cy="13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415160" y="3284640"/>
            <a:ext cx="609120" cy="648720"/>
            <a:chOff x="1415160" y="3284640"/>
            <a:chExt cx="609120" cy="648720"/>
          </a:xfrm>
        </p:grpSpPr>
        <p:sp>
          <p:nvSpPr>
            <p:cNvPr id="760" name=""/>
            <p:cNvSpPr/>
            <p:nvPr/>
          </p:nvSpPr>
          <p:spPr>
            <a:xfrm>
              <a:off x="1415160" y="3284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547640" y="335592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3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6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2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0" dur="3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3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6" dur="3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80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6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3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1346400" y="1974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08000" y="-27000"/>
            <a:ext cx="66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KULMANOVA MET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prvo se grafički odredjuju spoljašnje reakcije vez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10800000">
            <a:off x="468360" y="2060280"/>
            <a:ext cx="7416720" cy="2448000"/>
          </a:xfrm>
          <a:custGeom>
            <a:avLst/>
            <a:gdLst>
              <a:gd name="textAreaLeft" fmla="*/ 1969920 w 7416720"/>
              <a:gd name="textAreaRight" fmla="*/ 5446800 w 7416720"/>
              <a:gd name="textAreaTop" fmla="*/ 650160 h 2448000"/>
              <a:gd name="textAreaBottom" fmla="*/ 179784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422" y="21600"/>
                </a:lnTo>
                <a:lnTo>
                  <a:pt x="7178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916360" y="2060640"/>
            <a:ext cx="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435640" y="2060640"/>
            <a:ext cx="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916360" y="2060640"/>
            <a:ext cx="251928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364000" y="1989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843280" y="4437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364000" y="4437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34560" y="4508640"/>
            <a:ext cx="792360" cy="431280"/>
            <a:chOff x="34560" y="4508640"/>
            <a:chExt cx="792360" cy="431280"/>
          </a:xfrm>
        </p:grpSpPr>
        <p:sp>
          <p:nvSpPr>
            <p:cNvPr id="772" name=""/>
            <p:cNvSpPr/>
            <p:nvPr/>
          </p:nvSpPr>
          <p:spPr>
            <a:xfrm>
              <a:off x="250920" y="4508640"/>
              <a:ext cx="360360" cy="28692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3" name=""/>
            <p:cNvGrpSpPr/>
            <p:nvPr/>
          </p:nvGrpSpPr>
          <p:grpSpPr>
            <a:xfrm>
              <a:off x="34560" y="4797360"/>
              <a:ext cx="792360" cy="142560"/>
              <a:chOff x="34560" y="4797360"/>
              <a:chExt cx="792360" cy="142560"/>
            </a:xfrm>
          </p:grpSpPr>
          <p:sp>
            <p:nvSpPr>
              <p:cNvPr id="774" name=""/>
              <p:cNvSpPr/>
              <p:nvPr/>
            </p:nvSpPr>
            <p:spPr>
              <a:xfrm>
                <a:off x="34920" y="479736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34560" y="47973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250560" y="4797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>
                <a:off x="466560" y="4797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>
                <a:off x="682560" y="4797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9" name=""/>
          <p:cNvSpPr/>
          <p:nvPr/>
        </p:nvSpPr>
        <p:spPr>
          <a:xfrm rot="15975600">
            <a:off x="394200" y="4437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7524360" y="4508640"/>
            <a:ext cx="792360" cy="574200"/>
            <a:chOff x="7524360" y="4508640"/>
            <a:chExt cx="792360" cy="574200"/>
          </a:xfrm>
        </p:grpSpPr>
        <p:sp>
          <p:nvSpPr>
            <p:cNvPr id="781" name=""/>
            <p:cNvSpPr/>
            <p:nvPr/>
          </p:nvSpPr>
          <p:spPr>
            <a:xfrm>
              <a:off x="7740360" y="450864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524720" y="479592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3" name=""/>
            <p:cNvGrpSpPr/>
            <p:nvPr/>
          </p:nvGrpSpPr>
          <p:grpSpPr>
            <a:xfrm>
              <a:off x="7524360" y="4940280"/>
              <a:ext cx="792360" cy="142560"/>
              <a:chOff x="7524360" y="4940280"/>
              <a:chExt cx="792360" cy="142560"/>
            </a:xfrm>
          </p:grpSpPr>
          <p:sp>
            <p:nvSpPr>
              <p:cNvPr id="784" name=""/>
              <p:cNvSpPr/>
              <p:nvPr/>
            </p:nvSpPr>
            <p:spPr>
              <a:xfrm>
                <a:off x="7524720" y="494028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H="1">
                <a:off x="7524360" y="494028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>
                <a:off x="7740360" y="49402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H="1">
                <a:off x="7956360" y="49402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H="1">
                <a:off x="8172360" y="49402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9" name=""/>
          <p:cNvSpPr/>
          <p:nvPr/>
        </p:nvSpPr>
        <p:spPr>
          <a:xfrm>
            <a:off x="7812000" y="4437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800" y="3789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817416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333080" y="522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843280" y="1989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434920" y="4545000"/>
            <a:ext cx="16560" cy="1221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662120" y="2070720"/>
            <a:ext cx="1168920" cy="756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95280" y="501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916360" y="486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7956720" y="501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435640" y="494172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95280" y="5877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914560" y="5877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435640" y="5877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996720" y="522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517800" y="530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7991640" y="1987560"/>
            <a:ext cx="1152000" cy="2520720"/>
            <a:chOff x="7991640" y="1987560"/>
            <a:chExt cx="1152000" cy="2520720"/>
          </a:xfrm>
        </p:grpSpPr>
        <p:sp>
          <p:nvSpPr>
            <p:cNvPr id="806" name=""/>
            <p:cNvSpPr/>
            <p:nvPr/>
          </p:nvSpPr>
          <p:spPr>
            <a:xfrm rot="16200000">
              <a:off x="8449920" y="3087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136000" y="450828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991640" y="19875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8999640" y="198756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1773360" y="14130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518440" y="4797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3" name=""/>
          <p:cNvGraphicFramePr/>
          <p:nvPr/>
        </p:nvGraphicFramePr>
        <p:xfrm>
          <a:off x="7236000" y="476280"/>
          <a:ext cx="1726920" cy="61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6000" y="476280"/>
                    <a:ext cx="172692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7236000" y="1125360"/>
          <a:ext cx="1726920" cy="5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6000" y="1125360"/>
                    <a:ext cx="172692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5435640" y="549360"/>
            <a:ext cx="2521080" cy="609264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346400" y="46116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rot="10800000">
            <a:off x="394920" y="547200"/>
            <a:ext cx="7489800" cy="2448000"/>
          </a:xfrm>
          <a:custGeom>
            <a:avLst/>
            <a:gdLst>
              <a:gd name="textAreaLeft" fmla="*/ 1989360 w 7489800"/>
              <a:gd name="textAreaRight" fmla="*/ 5500440 w 7489800"/>
              <a:gd name="textAreaTop" fmla="*/ 650160 h 2448000"/>
              <a:gd name="textAreaBottom" fmla="*/ 179784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422" y="21600"/>
                </a:lnTo>
                <a:lnTo>
                  <a:pt x="7178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916360" y="547560"/>
            <a:ext cx="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435640" y="547560"/>
            <a:ext cx="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916360" y="547560"/>
            <a:ext cx="251928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364000" y="47628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843280" y="2924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364000" y="292428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-36720" y="2995560"/>
            <a:ext cx="792360" cy="431640"/>
            <a:chOff x="-36720" y="2995560"/>
            <a:chExt cx="792360" cy="431640"/>
          </a:xfrm>
        </p:grpSpPr>
        <p:sp>
          <p:nvSpPr>
            <p:cNvPr id="828" name=""/>
            <p:cNvSpPr/>
            <p:nvPr/>
          </p:nvSpPr>
          <p:spPr>
            <a:xfrm>
              <a:off x="179640" y="299556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9" name=""/>
            <p:cNvGrpSpPr/>
            <p:nvPr/>
          </p:nvGrpSpPr>
          <p:grpSpPr>
            <a:xfrm>
              <a:off x="-36720" y="3284640"/>
              <a:ext cx="792360" cy="142560"/>
              <a:chOff x="-36720" y="3284640"/>
              <a:chExt cx="792360" cy="142560"/>
            </a:xfrm>
          </p:grpSpPr>
          <p:sp>
            <p:nvSpPr>
              <p:cNvPr id="830" name=""/>
              <p:cNvSpPr/>
              <p:nvPr/>
            </p:nvSpPr>
            <p:spPr>
              <a:xfrm>
                <a:off x="-36360" y="328464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-36720" y="328464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179280" y="328464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395280" y="328464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611280" y="328464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5" name=""/>
          <p:cNvSpPr/>
          <p:nvPr/>
        </p:nvSpPr>
        <p:spPr>
          <a:xfrm rot="15975600">
            <a:off x="322560" y="2924640"/>
            <a:ext cx="144360" cy="1425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7524360" y="2995560"/>
            <a:ext cx="792360" cy="574200"/>
            <a:chOff x="7524360" y="2995560"/>
            <a:chExt cx="792360" cy="574200"/>
          </a:xfrm>
        </p:grpSpPr>
        <p:sp>
          <p:nvSpPr>
            <p:cNvPr id="837" name=""/>
            <p:cNvSpPr/>
            <p:nvPr/>
          </p:nvSpPr>
          <p:spPr>
            <a:xfrm>
              <a:off x="7740360" y="299556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524720" y="328284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9" name=""/>
            <p:cNvGrpSpPr/>
            <p:nvPr/>
          </p:nvGrpSpPr>
          <p:grpSpPr>
            <a:xfrm>
              <a:off x="7524360" y="3427200"/>
              <a:ext cx="792360" cy="142560"/>
              <a:chOff x="7524360" y="3427200"/>
              <a:chExt cx="792360" cy="142560"/>
            </a:xfrm>
          </p:grpSpPr>
          <p:sp>
            <p:nvSpPr>
              <p:cNvPr id="840" name=""/>
              <p:cNvSpPr/>
              <p:nvPr/>
            </p:nvSpPr>
            <p:spPr>
              <a:xfrm>
                <a:off x="7524720" y="342720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>
                <a:off x="7524360" y="342720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7740360" y="342720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>
                <a:off x="7956360" y="342720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8172360" y="342720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5" name=""/>
          <p:cNvSpPr/>
          <p:nvPr/>
        </p:nvSpPr>
        <p:spPr>
          <a:xfrm>
            <a:off x="7883640" y="2924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800" y="227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74160" y="24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1333080" y="37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843280" y="476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432760" y="3030480"/>
            <a:ext cx="11880" cy="2805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662120" y="558000"/>
            <a:ext cx="1168920" cy="756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95280" y="350028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916360" y="33559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7956720" y="3500280"/>
            <a:ext cx="0" cy="314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435640" y="342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95280" y="436392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914560" y="436392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435640" y="436392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996720" y="37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517800" y="3787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7991640" y="474840"/>
            <a:ext cx="1152000" cy="2520720"/>
            <a:chOff x="7991640" y="474840"/>
            <a:chExt cx="1152000" cy="2520720"/>
          </a:xfrm>
        </p:grpSpPr>
        <p:sp>
          <p:nvSpPr>
            <p:cNvPr id="862" name=""/>
            <p:cNvSpPr/>
            <p:nvPr/>
          </p:nvSpPr>
          <p:spPr>
            <a:xfrm rot="16200000">
              <a:off x="8449920" y="1575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8136000" y="299556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991640" y="47484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8999640" y="47484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"/>
          <p:cNvSpPr/>
          <p:nvPr/>
        </p:nvSpPr>
        <p:spPr>
          <a:xfrm>
            <a:off x="6588000" y="549360"/>
            <a:ext cx="0" cy="2808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435640" y="3357720"/>
            <a:ext cx="1152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436000" y="516600"/>
            <a:ext cx="1135440" cy="2857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95280" y="3068640"/>
            <a:ext cx="7561440" cy="3600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flipH="1" flipV="1">
            <a:off x="6784560" y="3841920"/>
            <a:ext cx="1185120" cy="2806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769080" y="3860640"/>
            <a:ext cx="1187640" cy="576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804000" y="3284640"/>
            <a:ext cx="0" cy="3141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7955640" y="4401000"/>
            <a:ext cx="22680" cy="2244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flipH="1" flipV="1">
            <a:off x="6729840" y="6059160"/>
            <a:ext cx="1208880" cy="546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7956720" y="3716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7247880" y="1125360"/>
            <a:ext cx="609120" cy="648720"/>
            <a:chOff x="7247880" y="1125360"/>
            <a:chExt cx="609120" cy="648720"/>
          </a:xfrm>
        </p:grpSpPr>
        <p:sp>
          <p:nvSpPr>
            <p:cNvPr id="877" name=""/>
            <p:cNvSpPr/>
            <p:nvPr/>
          </p:nvSpPr>
          <p:spPr>
            <a:xfrm>
              <a:off x="7247880" y="1125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380360" y="119664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1488240" y="3068640"/>
            <a:ext cx="609120" cy="648720"/>
            <a:chOff x="1488240" y="3068640"/>
            <a:chExt cx="609120" cy="648720"/>
          </a:xfrm>
        </p:grpSpPr>
        <p:sp>
          <p:nvSpPr>
            <p:cNvPr id="880" name=""/>
            <p:cNvSpPr/>
            <p:nvPr/>
          </p:nvSpPr>
          <p:spPr>
            <a:xfrm>
              <a:off x="1488240" y="3068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620720" y="313992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5742000" y="1773360"/>
            <a:ext cx="686880" cy="648720"/>
            <a:chOff x="5742000" y="1773360"/>
            <a:chExt cx="686880" cy="648720"/>
          </a:xfrm>
        </p:grpSpPr>
        <p:sp>
          <p:nvSpPr>
            <p:cNvPr id="883" name=""/>
            <p:cNvSpPr/>
            <p:nvPr/>
          </p:nvSpPr>
          <p:spPr>
            <a:xfrm>
              <a:off x="5742000" y="1773360"/>
              <a:ext cx="686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868720" y="184464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6965640" y="4508640"/>
            <a:ext cx="822240" cy="648720"/>
            <a:chOff x="6965640" y="4508640"/>
            <a:chExt cx="822240" cy="648720"/>
          </a:xfrm>
        </p:grpSpPr>
        <p:sp>
          <p:nvSpPr>
            <p:cNvPr id="886" name=""/>
            <p:cNvSpPr/>
            <p:nvPr/>
          </p:nvSpPr>
          <p:spPr>
            <a:xfrm>
              <a:off x="6965640" y="4508640"/>
              <a:ext cx="82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-R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164000" y="4579920"/>
              <a:ext cx="28764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1702080" y="0"/>
            <a:ext cx="569520" cy="648720"/>
            <a:chOff x="1702080" y="0"/>
            <a:chExt cx="569520" cy="648720"/>
          </a:xfrm>
        </p:grpSpPr>
        <p:sp>
          <p:nvSpPr>
            <p:cNvPr id="889" name=""/>
            <p:cNvSpPr/>
            <p:nvPr/>
          </p:nvSpPr>
          <p:spPr>
            <a:xfrm>
              <a:off x="1702080" y="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835280" y="44280"/>
              <a:ext cx="288720" cy="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5518440" y="3284640"/>
            <a:ext cx="569520" cy="648720"/>
            <a:chOff x="5518440" y="3284640"/>
            <a:chExt cx="569520" cy="648720"/>
          </a:xfrm>
        </p:grpSpPr>
        <p:sp>
          <p:nvSpPr>
            <p:cNvPr id="892" name=""/>
            <p:cNvSpPr/>
            <p:nvPr/>
          </p:nvSpPr>
          <p:spPr>
            <a:xfrm>
              <a:off x="5518440" y="3284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651640" y="3357720"/>
              <a:ext cx="288720" cy="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94" name=""/>
          <p:cNvGraphicFramePr/>
          <p:nvPr/>
        </p:nvGraphicFramePr>
        <p:xfrm>
          <a:off x="179280" y="5877000"/>
          <a:ext cx="4392720" cy="73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5877000"/>
                    <a:ext cx="4392720" cy="7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17919E-006 L -2.77778E-006 -0.34612 E">
                                      <p:cBhvr>
                                        <p:cTn id="529" dur="2000" fill="hold"/>
                                        <p:tgtEl>
                                          <p:spTgt spid="8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89017E-007 L 0.41737 -2.89017E-007 E">
                                      <p:cBhvr>
                                        <p:cTn id="531" dur="2000" fill="hold"/>
                                        <p:tgtEl>
                                          <p:spTgt spid="8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4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5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7" dur="2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8" dur="2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4000"/>
                            </p:stCondLst>
                            <p:childTnLst>
                              <p:par>
                                <p:cTn id="5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84971E-006 L 0.41736 1.84971E-006 E">
                                      <p:cBhvr>
                                        <p:cTn id="541" dur="2000" fill="hold"/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2.42775E-006 L -0.08733 -0.29364 E">
                                      <p:cBhvr>
                                        <p:cTn id="543" dur="2000" fill="hold"/>
                                        <p:tgtEl>
                                          <p:spTgt spid="8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6000"/>
                            </p:stCondLst>
                            <p:childTnLst>
                              <p:par>
                                <p:cTn id="5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8000"/>
                            </p:stCondLst>
                            <p:childTnLst>
                              <p:par>
                                <p:cTn id="5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2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2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2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2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8000"/>
                            </p:stCondLst>
                            <p:childTnLst>
                              <p:par>
                                <p:cTn id="5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2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2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9.82659E-007 L 5.27778E-006 -0.54543 E">
                                      <p:cBhvr>
                                        <p:cTn id="586" dur="2000" fill="hold"/>
                                        <p:tgtEl>
                                          <p:spTgt spid="8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2000"/>
                            </p:stCondLst>
                            <p:childTnLst>
                              <p:par>
                                <p:cTn id="5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0717 L -0.69288 -0.43329 E">
                                      <p:cBhvr>
                                        <p:cTn id="589" dur="20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4000"/>
                            </p:stCondLst>
                            <p:childTnLst>
                              <p:par>
                                <p:cTn id="5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2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5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6000"/>
                            </p:stCondLst>
                            <p:childTnLst>
                              <p:par>
                                <p:cTn id="5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8000"/>
                            </p:stCondLst>
                            <p:childTnLst>
                              <p:par>
                                <p:cTn id="6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5435640" y="1368360"/>
            <a:ext cx="244944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883640" y="3743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8174160" y="3240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7991640" y="1293840"/>
            <a:ext cx="1152000" cy="2520720"/>
            <a:chOff x="7991640" y="1293840"/>
            <a:chExt cx="1152000" cy="2520720"/>
          </a:xfrm>
        </p:grpSpPr>
        <p:sp>
          <p:nvSpPr>
            <p:cNvPr id="900" name=""/>
            <p:cNvSpPr/>
            <p:nvPr/>
          </p:nvSpPr>
          <p:spPr>
            <a:xfrm rot="16200000">
              <a:off x="8449920" y="2394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136000" y="381456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991640" y="129384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8999640" y="129384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4" name=""/>
          <p:cNvSpPr/>
          <p:nvPr/>
        </p:nvSpPr>
        <p:spPr>
          <a:xfrm flipV="1">
            <a:off x="7927200" y="1489680"/>
            <a:ext cx="22680" cy="2244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497400" y="1022400"/>
            <a:ext cx="3439800" cy="3513240"/>
          </a:xfrm>
          <a:custGeom>
            <a:avLst/>
            <a:gdLst/>
            <a:ahLst/>
            <a:rect l="l" t="t" r="r" b="b"/>
            <a:pathLst>
              <a:path w="2167" h="2213">
                <a:moveTo>
                  <a:pt x="0" y="0"/>
                </a:moveTo>
                <a:cubicBezTo>
                  <a:pt x="19" y="106"/>
                  <a:pt x="24" y="243"/>
                  <a:pt x="147" y="283"/>
                </a:cubicBezTo>
                <a:cubicBezTo>
                  <a:pt x="202" y="341"/>
                  <a:pt x="341" y="371"/>
                  <a:pt x="421" y="384"/>
                </a:cubicBezTo>
                <a:cubicBezTo>
                  <a:pt x="427" y="402"/>
                  <a:pt x="437" y="420"/>
                  <a:pt x="439" y="439"/>
                </a:cubicBezTo>
                <a:cubicBezTo>
                  <a:pt x="442" y="476"/>
                  <a:pt x="438" y="514"/>
                  <a:pt x="448" y="549"/>
                </a:cubicBezTo>
                <a:cubicBezTo>
                  <a:pt x="473" y="640"/>
                  <a:pt x="591" y="669"/>
                  <a:pt x="659" y="713"/>
                </a:cubicBezTo>
                <a:cubicBezTo>
                  <a:pt x="686" y="796"/>
                  <a:pt x="678" y="871"/>
                  <a:pt x="695" y="960"/>
                </a:cubicBezTo>
                <a:cubicBezTo>
                  <a:pt x="699" y="981"/>
                  <a:pt x="739" y="983"/>
                  <a:pt x="750" y="987"/>
                </a:cubicBezTo>
                <a:cubicBezTo>
                  <a:pt x="830" y="1014"/>
                  <a:pt x="905" y="1030"/>
                  <a:pt x="988" y="1042"/>
                </a:cubicBezTo>
                <a:cubicBezTo>
                  <a:pt x="1004" y="1090"/>
                  <a:pt x="982" y="1178"/>
                  <a:pt x="1034" y="1207"/>
                </a:cubicBezTo>
                <a:cubicBezTo>
                  <a:pt x="1048" y="1215"/>
                  <a:pt x="1064" y="1219"/>
                  <a:pt x="1079" y="1225"/>
                </a:cubicBezTo>
                <a:cubicBezTo>
                  <a:pt x="1111" y="1255"/>
                  <a:pt x="1135" y="1255"/>
                  <a:pt x="1180" y="1262"/>
                </a:cubicBezTo>
                <a:cubicBezTo>
                  <a:pt x="1217" y="1277"/>
                  <a:pt x="1251" y="1289"/>
                  <a:pt x="1290" y="1298"/>
                </a:cubicBezTo>
                <a:cubicBezTo>
                  <a:pt x="1331" y="1342"/>
                  <a:pt x="1307" y="1402"/>
                  <a:pt x="1290" y="1454"/>
                </a:cubicBezTo>
                <a:cubicBezTo>
                  <a:pt x="1311" y="1518"/>
                  <a:pt x="1361" y="1519"/>
                  <a:pt x="1418" y="1527"/>
                </a:cubicBezTo>
                <a:cubicBezTo>
                  <a:pt x="1482" y="1548"/>
                  <a:pt x="1553" y="1566"/>
                  <a:pt x="1619" y="1582"/>
                </a:cubicBezTo>
                <a:cubicBezTo>
                  <a:pt x="1632" y="1620"/>
                  <a:pt x="1640" y="1704"/>
                  <a:pt x="1664" y="1728"/>
                </a:cubicBezTo>
                <a:cubicBezTo>
                  <a:pt x="1695" y="1758"/>
                  <a:pt x="1735" y="1764"/>
                  <a:pt x="1774" y="1774"/>
                </a:cubicBezTo>
                <a:cubicBezTo>
                  <a:pt x="1793" y="1779"/>
                  <a:pt x="1829" y="1792"/>
                  <a:pt x="1829" y="1792"/>
                </a:cubicBezTo>
                <a:cubicBezTo>
                  <a:pt x="1853" y="1842"/>
                  <a:pt x="1853" y="1899"/>
                  <a:pt x="1875" y="1947"/>
                </a:cubicBezTo>
                <a:cubicBezTo>
                  <a:pt x="1907" y="2019"/>
                  <a:pt x="1953" y="2034"/>
                  <a:pt x="1994" y="2094"/>
                </a:cubicBezTo>
                <a:cubicBezTo>
                  <a:pt x="2000" y="2112"/>
                  <a:pt x="2006" y="2131"/>
                  <a:pt x="2012" y="2149"/>
                </a:cubicBezTo>
                <a:cubicBezTo>
                  <a:pt x="2016" y="2161"/>
                  <a:pt x="2028" y="2170"/>
                  <a:pt x="2039" y="2176"/>
                </a:cubicBezTo>
                <a:cubicBezTo>
                  <a:pt x="2069" y="2193"/>
                  <a:pt x="2134" y="2213"/>
                  <a:pt x="2167" y="22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364000" y="129528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435640" y="1440000"/>
            <a:ext cx="0" cy="158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3564000" y="136836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7885080" y="3743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6300360" y="381636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1800" y="719280"/>
            <a:ext cx="7954920" cy="6742080"/>
            <a:chOff x="1800" y="719280"/>
            <a:chExt cx="7954920" cy="6742080"/>
          </a:xfrm>
        </p:grpSpPr>
        <p:grpSp>
          <p:nvGrpSpPr>
            <p:cNvPr id="912" name=""/>
            <p:cNvGrpSpPr/>
            <p:nvPr/>
          </p:nvGrpSpPr>
          <p:grpSpPr>
            <a:xfrm>
              <a:off x="1800" y="719280"/>
              <a:ext cx="7954920" cy="6742080"/>
              <a:chOff x="1800" y="719280"/>
              <a:chExt cx="7954920" cy="6742080"/>
            </a:xfrm>
          </p:grpSpPr>
          <p:sp>
            <p:nvSpPr>
              <p:cNvPr id="913" name=""/>
              <p:cNvSpPr/>
              <p:nvPr/>
            </p:nvSpPr>
            <p:spPr>
              <a:xfrm>
                <a:off x="1346400" y="1280520"/>
                <a:ext cx="1095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rot="10800000">
                <a:off x="468360" y="1366560"/>
                <a:ext cx="7416720" cy="2448000"/>
              </a:xfrm>
              <a:custGeom>
                <a:avLst/>
                <a:gdLst>
                  <a:gd name="textAreaLeft" fmla="*/ 1969920 w 7416720"/>
                  <a:gd name="textAreaRight" fmla="*/ 5446800 w 7416720"/>
                  <a:gd name="textAreaTop" fmla="*/ 650160 h 2448000"/>
                  <a:gd name="textAreaBottom" fmla="*/ 1797840 h 244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422" y="21600"/>
                    </a:lnTo>
                    <a:lnTo>
                      <a:pt x="7178" y="21600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2916360" y="1366920"/>
                <a:ext cx="0" cy="2448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435640" y="1368720"/>
                <a:ext cx="0" cy="2446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916360" y="1366920"/>
                <a:ext cx="2519280" cy="2448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364000" y="1295640"/>
                <a:ext cx="14472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843280" y="374364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364000" y="3743640"/>
                <a:ext cx="14472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15975600">
                <a:off x="394200" y="374364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1800" y="3096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cc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2843280" y="129564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432760" y="3849840"/>
                <a:ext cx="11880" cy="2805120"/>
              </a:xfrm>
              <a:prstGeom prst="line">
                <a:avLst/>
              </a:prstGeom>
              <a:ln w="76320">
                <a:solidFill>
                  <a:srgbClr val="660066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1662120" y="1377360"/>
                <a:ext cx="1168920" cy="7560"/>
              </a:xfrm>
              <a:prstGeom prst="line">
                <a:avLst/>
              </a:prstGeom>
              <a:ln w="76320">
                <a:solidFill>
                  <a:srgbClr val="660066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95280" y="4319640"/>
                <a:ext cx="0" cy="100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916360" y="4175280"/>
                <a:ext cx="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7956720" y="4319640"/>
                <a:ext cx="0" cy="314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435640" y="4248360"/>
                <a:ext cx="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95280" y="5183280"/>
                <a:ext cx="252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2914560" y="5183280"/>
                <a:ext cx="252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435640" y="5183280"/>
                <a:ext cx="252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996720" y="453564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1773360" y="71928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518440" y="410400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H="1" flipV="1">
                <a:off x="439200" y="3852360"/>
                <a:ext cx="1195920" cy="6123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"/>
            <p:cNvSpPr/>
            <p:nvPr/>
          </p:nvSpPr>
          <p:spPr>
            <a:xfrm>
              <a:off x="1477440" y="4608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589080" y="4608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9" name=""/>
          <p:cNvSpPr/>
          <p:nvPr/>
        </p:nvSpPr>
        <p:spPr>
          <a:xfrm>
            <a:off x="6444720" y="3168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852360" y="3168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260000" y="2160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620360" y="3240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925440" y="81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6660720" y="2087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2917440" y="2376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3709440" y="2376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436720" y="2087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7320600" y="1341360"/>
            <a:ext cx="609120" cy="648720"/>
            <a:chOff x="7320600" y="1341360"/>
            <a:chExt cx="609120" cy="648720"/>
          </a:xfrm>
        </p:grpSpPr>
        <p:sp>
          <p:nvSpPr>
            <p:cNvPr id="949" name=""/>
            <p:cNvSpPr/>
            <p:nvPr/>
          </p:nvSpPr>
          <p:spPr>
            <a:xfrm>
              <a:off x="7320600" y="1341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453080" y="141264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3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3" dur="2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6" dur="2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9" dur="2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2" dur="2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5" dur="2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8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 flipV="1">
            <a:off x="5977080" y="-328680"/>
            <a:ext cx="0" cy="4942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456000" y="2278080"/>
            <a:ext cx="244944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904000" y="4653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5942160" y="414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5947920" y="2399400"/>
            <a:ext cx="23040" cy="2244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517760" y="1932120"/>
            <a:ext cx="3440160" cy="3512880"/>
          </a:xfrm>
          <a:custGeom>
            <a:avLst/>
            <a:gdLst/>
            <a:ahLst/>
            <a:rect l="l" t="t" r="r" b="b"/>
            <a:pathLst>
              <a:path w="2167" h="2213">
                <a:moveTo>
                  <a:pt x="0" y="0"/>
                </a:moveTo>
                <a:cubicBezTo>
                  <a:pt x="19" y="106"/>
                  <a:pt x="24" y="243"/>
                  <a:pt x="147" y="283"/>
                </a:cubicBezTo>
                <a:cubicBezTo>
                  <a:pt x="202" y="341"/>
                  <a:pt x="341" y="371"/>
                  <a:pt x="421" y="384"/>
                </a:cubicBezTo>
                <a:cubicBezTo>
                  <a:pt x="427" y="402"/>
                  <a:pt x="437" y="420"/>
                  <a:pt x="439" y="439"/>
                </a:cubicBezTo>
                <a:cubicBezTo>
                  <a:pt x="442" y="476"/>
                  <a:pt x="438" y="514"/>
                  <a:pt x="448" y="549"/>
                </a:cubicBezTo>
                <a:cubicBezTo>
                  <a:pt x="473" y="640"/>
                  <a:pt x="591" y="669"/>
                  <a:pt x="659" y="713"/>
                </a:cubicBezTo>
                <a:cubicBezTo>
                  <a:pt x="686" y="796"/>
                  <a:pt x="678" y="871"/>
                  <a:pt x="695" y="960"/>
                </a:cubicBezTo>
                <a:cubicBezTo>
                  <a:pt x="699" y="981"/>
                  <a:pt x="739" y="983"/>
                  <a:pt x="750" y="987"/>
                </a:cubicBezTo>
                <a:cubicBezTo>
                  <a:pt x="830" y="1014"/>
                  <a:pt x="905" y="1030"/>
                  <a:pt x="988" y="1042"/>
                </a:cubicBezTo>
                <a:cubicBezTo>
                  <a:pt x="1004" y="1090"/>
                  <a:pt x="982" y="1178"/>
                  <a:pt x="1034" y="1207"/>
                </a:cubicBezTo>
                <a:cubicBezTo>
                  <a:pt x="1048" y="1215"/>
                  <a:pt x="1064" y="1219"/>
                  <a:pt x="1079" y="1225"/>
                </a:cubicBezTo>
                <a:cubicBezTo>
                  <a:pt x="1111" y="1255"/>
                  <a:pt x="1135" y="1255"/>
                  <a:pt x="1180" y="1262"/>
                </a:cubicBezTo>
                <a:cubicBezTo>
                  <a:pt x="1217" y="1277"/>
                  <a:pt x="1251" y="1289"/>
                  <a:pt x="1290" y="1298"/>
                </a:cubicBezTo>
                <a:cubicBezTo>
                  <a:pt x="1331" y="1342"/>
                  <a:pt x="1307" y="1402"/>
                  <a:pt x="1290" y="1454"/>
                </a:cubicBezTo>
                <a:cubicBezTo>
                  <a:pt x="1311" y="1518"/>
                  <a:pt x="1361" y="1519"/>
                  <a:pt x="1418" y="1527"/>
                </a:cubicBezTo>
                <a:cubicBezTo>
                  <a:pt x="1482" y="1548"/>
                  <a:pt x="1553" y="1566"/>
                  <a:pt x="1619" y="1582"/>
                </a:cubicBezTo>
                <a:cubicBezTo>
                  <a:pt x="1632" y="1620"/>
                  <a:pt x="1640" y="1704"/>
                  <a:pt x="1664" y="1728"/>
                </a:cubicBezTo>
                <a:cubicBezTo>
                  <a:pt x="1695" y="1758"/>
                  <a:pt x="1735" y="1764"/>
                  <a:pt x="1774" y="1774"/>
                </a:cubicBezTo>
                <a:cubicBezTo>
                  <a:pt x="1793" y="1779"/>
                  <a:pt x="1829" y="1792"/>
                  <a:pt x="1829" y="1792"/>
                </a:cubicBezTo>
                <a:cubicBezTo>
                  <a:pt x="1853" y="1842"/>
                  <a:pt x="1853" y="1899"/>
                  <a:pt x="1875" y="1947"/>
                </a:cubicBezTo>
                <a:cubicBezTo>
                  <a:pt x="1907" y="2019"/>
                  <a:pt x="1953" y="2034"/>
                  <a:pt x="1994" y="2094"/>
                </a:cubicBezTo>
                <a:cubicBezTo>
                  <a:pt x="2000" y="2112"/>
                  <a:pt x="2006" y="2131"/>
                  <a:pt x="2012" y="2149"/>
                </a:cubicBezTo>
                <a:cubicBezTo>
                  <a:pt x="2016" y="2161"/>
                  <a:pt x="2028" y="2170"/>
                  <a:pt x="2039" y="2176"/>
                </a:cubicBezTo>
                <a:cubicBezTo>
                  <a:pt x="2069" y="2193"/>
                  <a:pt x="2134" y="2213"/>
                  <a:pt x="2167" y="22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384720" y="2205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3456000" y="2349360"/>
            <a:ext cx="0" cy="158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1584000" y="2278080"/>
            <a:ext cx="180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905440" y="4653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4320720" y="472608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4465080" y="4122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945800" y="177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681080" y="3041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457080" y="3041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3456000" y="2205000"/>
            <a:ext cx="5076720" cy="316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1115640" y="0"/>
            <a:ext cx="7201080" cy="689940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942160" y="103320"/>
            <a:ext cx="23749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8174160" y="103320"/>
            <a:ext cx="0" cy="20872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908680" y="2216880"/>
            <a:ext cx="2280240" cy="7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6005880" y="111960"/>
            <a:ext cx="2174760" cy="2081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1226160" y="4712040"/>
            <a:ext cx="2126160" cy="2048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826560" y="4724280"/>
            <a:ext cx="36738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3347640" y="3933720"/>
            <a:ext cx="71640" cy="33829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1258920" y="4724280"/>
            <a:ext cx="0" cy="1990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258920" y="6742080"/>
            <a:ext cx="21607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 flipV="1">
            <a:off x="1211760" y="4695480"/>
            <a:ext cx="2189520" cy="26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3328200" y="4708440"/>
            <a:ext cx="43920" cy="2017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6023880" y="2781360"/>
            <a:ext cx="609120" cy="648720"/>
            <a:chOff x="6023880" y="2781360"/>
            <a:chExt cx="609120" cy="648720"/>
          </a:xfrm>
        </p:grpSpPr>
        <p:sp>
          <p:nvSpPr>
            <p:cNvPr id="980" name=""/>
            <p:cNvSpPr/>
            <p:nvPr/>
          </p:nvSpPr>
          <p:spPr>
            <a:xfrm>
              <a:off x="6023880" y="2781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156360" y="285264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6608160" y="476280"/>
            <a:ext cx="726480" cy="648720"/>
            <a:chOff x="6608160" y="476280"/>
            <a:chExt cx="726480" cy="648720"/>
          </a:xfrm>
        </p:grpSpPr>
        <p:sp>
          <p:nvSpPr>
            <p:cNvPr id="983" name=""/>
            <p:cNvSpPr/>
            <p:nvPr/>
          </p:nvSpPr>
          <p:spPr>
            <a:xfrm>
              <a:off x="6608160" y="476280"/>
              <a:ext cx="72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732720" y="54936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5304600" y="333360"/>
            <a:ext cx="609120" cy="648720"/>
            <a:chOff x="5304600" y="333360"/>
            <a:chExt cx="609120" cy="648720"/>
          </a:xfrm>
        </p:grpSpPr>
        <p:sp>
          <p:nvSpPr>
            <p:cNvPr id="986" name=""/>
            <p:cNvSpPr/>
            <p:nvPr/>
          </p:nvSpPr>
          <p:spPr>
            <a:xfrm>
              <a:off x="5304600" y="333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437080" y="40464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7173720" y="1628640"/>
            <a:ext cx="523800" cy="648720"/>
            <a:chOff x="7173720" y="1628640"/>
            <a:chExt cx="523800" cy="648720"/>
          </a:xfrm>
        </p:grpSpPr>
        <p:sp>
          <p:nvSpPr>
            <p:cNvPr id="989" name=""/>
            <p:cNvSpPr/>
            <p:nvPr/>
          </p:nvSpPr>
          <p:spPr>
            <a:xfrm>
              <a:off x="7173720" y="1628640"/>
              <a:ext cx="523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308720" y="1700280"/>
              <a:ext cx="28764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1351440" y="5229360"/>
            <a:ext cx="964080" cy="648720"/>
            <a:chOff x="1351440" y="5229360"/>
            <a:chExt cx="964080" cy="648720"/>
          </a:xfrm>
        </p:grpSpPr>
        <p:sp>
          <p:nvSpPr>
            <p:cNvPr id="992" name=""/>
            <p:cNvSpPr/>
            <p:nvPr/>
          </p:nvSpPr>
          <p:spPr>
            <a:xfrm>
              <a:off x="1351440" y="5229360"/>
              <a:ext cx="964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- R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690560" y="530208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3429000" y="5661000"/>
            <a:ext cx="523800" cy="648720"/>
            <a:chOff x="3429000" y="5661000"/>
            <a:chExt cx="523800" cy="648720"/>
          </a:xfrm>
        </p:grpSpPr>
        <p:sp>
          <p:nvSpPr>
            <p:cNvPr id="995" name=""/>
            <p:cNvSpPr/>
            <p:nvPr/>
          </p:nvSpPr>
          <p:spPr>
            <a:xfrm>
              <a:off x="3429000" y="5661000"/>
              <a:ext cx="523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564000" y="5732640"/>
              <a:ext cx="28764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7" name=""/>
          <p:cNvGrpSpPr/>
          <p:nvPr/>
        </p:nvGrpSpPr>
        <p:grpSpPr>
          <a:xfrm>
            <a:off x="2060280" y="4076640"/>
            <a:ext cx="523800" cy="648720"/>
            <a:chOff x="2060280" y="4076640"/>
            <a:chExt cx="523800" cy="648720"/>
          </a:xfrm>
        </p:grpSpPr>
        <p:sp>
          <p:nvSpPr>
            <p:cNvPr id="998" name=""/>
            <p:cNvSpPr/>
            <p:nvPr/>
          </p:nvSpPr>
          <p:spPr>
            <a:xfrm>
              <a:off x="2060280" y="4076640"/>
              <a:ext cx="523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195280" y="4148280"/>
              <a:ext cx="28764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179280" y="476280"/>
            <a:ext cx="5113440" cy="1297080"/>
            <a:chOff x="179280" y="476280"/>
            <a:chExt cx="5113440" cy="1297080"/>
          </a:xfrm>
        </p:grpSpPr>
        <p:sp>
          <p:nvSpPr>
            <p:cNvPr id="1001" name=""/>
            <p:cNvSpPr/>
            <p:nvPr/>
          </p:nvSpPr>
          <p:spPr>
            <a:xfrm>
              <a:off x="179280" y="476280"/>
              <a:ext cx="5113440" cy="1297080"/>
            </a:xfrm>
            <a:prstGeom prst="rect">
              <a:avLst/>
            </a:prstGeom>
            <a:solidFill>
              <a:srgbClr val="b392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02" name=""/>
            <p:cNvGraphicFramePr/>
            <p:nvPr/>
          </p:nvGraphicFramePr>
          <p:xfrm>
            <a:off x="395280" y="765000"/>
            <a:ext cx="4681440" cy="657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5280" y="765000"/>
                      <a:ext cx="4681440" cy="65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3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3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3000"/>
                            </p:stCondLst>
                            <p:childTnLst>
                              <p:par>
                                <p:cTn id="6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-5.78035E-008 L -6.66667E-006 -0.34612 E">
                                      <p:cBhvr>
                                        <p:cTn id="652" dur="2000" fill="hold"/>
                                        <p:tgtEl>
                                          <p:spTgt spid="9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0"/>
                            </p:stCondLst>
                            <p:childTnLst>
                              <p:par>
                                <p:cTn id="6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2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7000"/>
                            </p:stCondLst>
                            <p:childTnLst>
                              <p:par>
                                <p:cTn id="6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2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900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2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2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3000"/>
                            </p:stCondLst>
                            <p:childTnLst>
                              <p:par>
                                <p:cTn id="6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1" dur="2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5000"/>
                            </p:stCondLst>
                            <p:childTnLst>
                              <p:par>
                                <p:cTn id="6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7000"/>
                            </p:stCondLst>
                            <p:childTnLst>
                              <p:par>
                                <p:cTn id="6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9000"/>
                            </p:stCondLst>
                            <p:childTnLst>
                              <p:par>
                                <p:cTn id="6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3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6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2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4000"/>
                            </p:stCondLst>
                            <p:childTnLst>
                              <p:par>
                                <p:cTn id="6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2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2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7" dur="2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2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6000"/>
                            </p:stCondLst>
                            <p:childTnLst>
                              <p:par>
                                <p:cTn id="7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2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2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28000"/>
                            </p:stCondLst>
                            <p:childTnLst>
                              <p:par>
                                <p:cTn id="7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4" name=""/>
          <p:cNvGrpSpPr/>
          <p:nvPr/>
        </p:nvGrpSpPr>
        <p:grpSpPr>
          <a:xfrm>
            <a:off x="34560" y="3141720"/>
            <a:ext cx="792360" cy="574200"/>
            <a:chOff x="34560" y="3141720"/>
            <a:chExt cx="792360" cy="574200"/>
          </a:xfrm>
        </p:grpSpPr>
        <p:sp>
          <p:nvSpPr>
            <p:cNvPr id="1005" name=""/>
            <p:cNvSpPr/>
            <p:nvPr/>
          </p:nvSpPr>
          <p:spPr>
            <a:xfrm>
              <a:off x="250560" y="314172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4920" y="342900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"/>
            <p:cNvGrpSpPr/>
            <p:nvPr/>
          </p:nvGrpSpPr>
          <p:grpSpPr>
            <a:xfrm>
              <a:off x="34560" y="3573360"/>
              <a:ext cx="792360" cy="142560"/>
              <a:chOff x="34560" y="3573360"/>
              <a:chExt cx="792360" cy="142560"/>
            </a:xfrm>
          </p:grpSpPr>
          <p:sp>
            <p:nvSpPr>
              <p:cNvPr id="1008" name=""/>
              <p:cNvSpPr/>
              <p:nvPr/>
            </p:nvSpPr>
            <p:spPr>
              <a:xfrm>
                <a:off x="34920" y="357336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H="1">
                <a:off x="34560" y="35733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flipH="1">
                <a:off x="250560" y="3573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flipH="1">
                <a:off x="466560" y="3573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H="1">
                <a:off x="682560" y="3573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3" name=""/>
          <p:cNvSpPr/>
          <p:nvPr/>
        </p:nvSpPr>
        <p:spPr>
          <a:xfrm>
            <a:off x="1174680" y="1428840"/>
            <a:ext cx="3527640" cy="2475000"/>
          </a:xfrm>
          <a:custGeom>
            <a:avLst/>
            <a:gdLst/>
            <a:ahLst/>
            <a:rect l="l" t="t" r="r" b="b"/>
            <a:pathLst>
              <a:path w="2222" h="1559">
                <a:moveTo>
                  <a:pt x="2158" y="1267"/>
                </a:moveTo>
                <a:cubicBezTo>
                  <a:pt x="2187" y="1224"/>
                  <a:pt x="2191" y="1180"/>
                  <a:pt x="2204" y="1130"/>
                </a:cubicBezTo>
                <a:cubicBezTo>
                  <a:pt x="2211" y="1106"/>
                  <a:pt x="2222" y="1057"/>
                  <a:pt x="2222" y="1057"/>
                </a:cubicBezTo>
                <a:cubicBezTo>
                  <a:pt x="2219" y="984"/>
                  <a:pt x="2220" y="910"/>
                  <a:pt x="2213" y="837"/>
                </a:cubicBezTo>
                <a:cubicBezTo>
                  <a:pt x="2206" y="769"/>
                  <a:pt x="2141" y="713"/>
                  <a:pt x="2094" y="673"/>
                </a:cubicBezTo>
                <a:cubicBezTo>
                  <a:pt x="2059" y="643"/>
                  <a:pt x="2042" y="607"/>
                  <a:pt x="2003" y="581"/>
                </a:cubicBezTo>
                <a:cubicBezTo>
                  <a:pt x="1983" y="521"/>
                  <a:pt x="2011" y="581"/>
                  <a:pt x="1966" y="545"/>
                </a:cubicBezTo>
                <a:cubicBezTo>
                  <a:pt x="1933" y="519"/>
                  <a:pt x="1948" y="499"/>
                  <a:pt x="1893" y="481"/>
                </a:cubicBezTo>
                <a:cubicBezTo>
                  <a:pt x="1830" y="437"/>
                  <a:pt x="1808" y="359"/>
                  <a:pt x="1783" y="289"/>
                </a:cubicBezTo>
                <a:cubicBezTo>
                  <a:pt x="1780" y="281"/>
                  <a:pt x="1770" y="277"/>
                  <a:pt x="1765" y="270"/>
                </a:cubicBezTo>
                <a:cubicBezTo>
                  <a:pt x="1758" y="259"/>
                  <a:pt x="1755" y="245"/>
                  <a:pt x="1747" y="234"/>
                </a:cubicBezTo>
                <a:cubicBezTo>
                  <a:pt x="1719" y="199"/>
                  <a:pt x="1670" y="156"/>
                  <a:pt x="1628" y="142"/>
                </a:cubicBezTo>
                <a:cubicBezTo>
                  <a:pt x="1597" y="111"/>
                  <a:pt x="1579" y="99"/>
                  <a:pt x="1537" y="87"/>
                </a:cubicBezTo>
                <a:cubicBezTo>
                  <a:pt x="1477" y="48"/>
                  <a:pt x="1413" y="42"/>
                  <a:pt x="1345" y="23"/>
                </a:cubicBezTo>
                <a:cubicBezTo>
                  <a:pt x="1130" y="28"/>
                  <a:pt x="1036" y="0"/>
                  <a:pt x="878" y="51"/>
                </a:cubicBezTo>
                <a:cubicBezTo>
                  <a:pt x="815" y="93"/>
                  <a:pt x="758" y="147"/>
                  <a:pt x="695" y="188"/>
                </a:cubicBezTo>
                <a:cubicBezTo>
                  <a:pt x="645" y="256"/>
                  <a:pt x="579" y="319"/>
                  <a:pt x="513" y="371"/>
                </a:cubicBezTo>
                <a:cubicBezTo>
                  <a:pt x="485" y="393"/>
                  <a:pt x="485" y="414"/>
                  <a:pt x="449" y="426"/>
                </a:cubicBezTo>
                <a:cubicBezTo>
                  <a:pt x="382" y="491"/>
                  <a:pt x="304" y="543"/>
                  <a:pt x="238" y="609"/>
                </a:cubicBezTo>
                <a:cubicBezTo>
                  <a:pt x="190" y="657"/>
                  <a:pt x="150" y="716"/>
                  <a:pt x="92" y="755"/>
                </a:cubicBezTo>
                <a:cubicBezTo>
                  <a:pt x="80" y="773"/>
                  <a:pt x="67" y="792"/>
                  <a:pt x="55" y="810"/>
                </a:cubicBezTo>
                <a:cubicBezTo>
                  <a:pt x="49" y="819"/>
                  <a:pt x="37" y="837"/>
                  <a:pt x="37" y="837"/>
                </a:cubicBezTo>
                <a:cubicBezTo>
                  <a:pt x="31" y="855"/>
                  <a:pt x="25" y="874"/>
                  <a:pt x="19" y="892"/>
                </a:cubicBezTo>
                <a:cubicBezTo>
                  <a:pt x="16" y="901"/>
                  <a:pt x="10" y="919"/>
                  <a:pt x="10" y="919"/>
                </a:cubicBezTo>
                <a:cubicBezTo>
                  <a:pt x="13" y="981"/>
                  <a:pt x="0" y="1150"/>
                  <a:pt x="65" y="1212"/>
                </a:cubicBezTo>
                <a:cubicBezTo>
                  <a:pt x="81" y="1261"/>
                  <a:pt x="154" y="1352"/>
                  <a:pt x="202" y="1367"/>
                </a:cubicBezTo>
                <a:cubicBezTo>
                  <a:pt x="262" y="1409"/>
                  <a:pt x="210" y="1379"/>
                  <a:pt x="339" y="1395"/>
                </a:cubicBezTo>
                <a:cubicBezTo>
                  <a:pt x="502" y="1415"/>
                  <a:pt x="659" y="1442"/>
                  <a:pt x="823" y="1450"/>
                </a:cubicBezTo>
                <a:cubicBezTo>
                  <a:pt x="841" y="1456"/>
                  <a:pt x="867" y="1452"/>
                  <a:pt x="878" y="1468"/>
                </a:cubicBezTo>
                <a:cubicBezTo>
                  <a:pt x="896" y="1493"/>
                  <a:pt x="913" y="1519"/>
                  <a:pt x="942" y="1532"/>
                </a:cubicBezTo>
                <a:cubicBezTo>
                  <a:pt x="971" y="1545"/>
                  <a:pt x="1003" y="1552"/>
                  <a:pt x="1034" y="1559"/>
                </a:cubicBezTo>
                <a:cubicBezTo>
                  <a:pt x="1162" y="1554"/>
                  <a:pt x="1274" y="1543"/>
                  <a:pt x="1399" y="1532"/>
                </a:cubicBezTo>
                <a:cubicBezTo>
                  <a:pt x="1453" y="1515"/>
                  <a:pt x="1510" y="1515"/>
                  <a:pt x="1564" y="1495"/>
                </a:cubicBezTo>
                <a:cubicBezTo>
                  <a:pt x="1577" y="1490"/>
                  <a:pt x="1588" y="1482"/>
                  <a:pt x="1601" y="1477"/>
                </a:cubicBezTo>
                <a:cubicBezTo>
                  <a:pt x="1619" y="1470"/>
                  <a:pt x="1655" y="1459"/>
                  <a:pt x="1655" y="1459"/>
                </a:cubicBezTo>
                <a:cubicBezTo>
                  <a:pt x="1691" y="1425"/>
                  <a:pt x="1747" y="1425"/>
                  <a:pt x="1793" y="1413"/>
                </a:cubicBezTo>
                <a:cubicBezTo>
                  <a:pt x="1866" y="1393"/>
                  <a:pt x="1940" y="1373"/>
                  <a:pt x="2012" y="1349"/>
                </a:cubicBezTo>
                <a:cubicBezTo>
                  <a:pt x="2063" y="1332"/>
                  <a:pt x="2091" y="1314"/>
                  <a:pt x="2149" y="1303"/>
                </a:cubicBezTo>
                <a:cubicBezTo>
                  <a:pt x="2169" y="1272"/>
                  <a:pt x="2175" y="1284"/>
                  <a:pt x="2158" y="1267"/>
                </a:cubicBezTo>
                <a:close/>
              </a:path>
            </a:pathLst>
          </a:cu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346400" y="60588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292720" y="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ulti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štapo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rot="10800000">
            <a:off x="468360" y="691560"/>
            <a:ext cx="7416720" cy="2447640"/>
          </a:xfrm>
          <a:custGeom>
            <a:avLst/>
            <a:gdLst>
              <a:gd name="textAreaLeft" fmla="*/ 1969920 w 7416720"/>
              <a:gd name="textAreaRight" fmla="*/ 5446800 w 7416720"/>
              <a:gd name="textAreaTop" fmla="*/ 650160 h 2447640"/>
              <a:gd name="textAreaBottom" fmla="*/ 1797480 h 24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422" y="21600"/>
                </a:lnTo>
                <a:lnTo>
                  <a:pt x="7178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916360" y="692280"/>
            <a:ext cx="0" cy="24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435640" y="692280"/>
            <a:ext cx="0" cy="24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916360" y="692280"/>
            <a:ext cx="2519280" cy="24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5364000" y="62064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843280" y="3068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5364000" y="306864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3" name=""/>
          <p:cNvGrpSpPr/>
          <p:nvPr/>
        </p:nvGrpSpPr>
        <p:grpSpPr>
          <a:xfrm>
            <a:off x="7524360" y="3141720"/>
            <a:ext cx="792360" cy="431280"/>
            <a:chOff x="7524360" y="3141720"/>
            <a:chExt cx="792360" cy="431280"/>
          </a:xfrm>
        </p:grpSpPr>
        <p:sp>
          <p:nvSpPr>
            <p:cNvPr id="1024" name=""/>
            <p:cNvSpPr/>
            <p:nvPr/>
          </p:nvSpPr>
          <p:spPr>
            <a:xfrm>
              <a:off x="7740720" y="3141720"/>
              <a:ext cx="360360" cy="28692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7524360" y="3430440"/>
              <a:ext cx="792360" cy="142560"/>
              <a:chOff x="7524360" y="3430440"/>
              <a:chExt cx="792360" cy="142560"/>
            </a:xfrm>
          </p:grpSpPr>
          <p:sp>
            <p:nvSpPr>
              <p:cNvPr id="1026" name=""/>
              <p:cNvSpPr/>
              <p:nvPr/>
            </p:nvSpPr>
            <p:spPr>
              <a:xfrm>
                <a:off x="7524720" y="343044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H="1">
                <a:off x="7524360" y="343044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H="1">
                <a:off x="7740360" y="343044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H="1">
                <a:off x="7956360" y="343044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H="1">
                <a:off x="8172360" y="343044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1" name=""/>
          <p:cNvSpPr/>
          <p:nvPr/>
        </p:nvSpPr>
        <p:spPr>
          <a:xfrm rot="15975600">
            <a:off x="394200" y="3068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7812000" y="306864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1800" y="24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8174160" y="2565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1333080" y="386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843280" y="620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434920" y="3176640"/>
            <a:ext cx="16560" cy="1221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1662120" y="702360"/>
            <a:ext cx="1168920" cy="756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95280" y="3645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916360" y="350028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7956720" y="3645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435640" y="357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95280" y="450864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914560" y="450864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435640" y="450864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996720" y="386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6517800" y="393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7991640" y="619200"/>
            <a:ext cx="1152000" cy="2520720"/>
            <a:chOff x="7991640" y="619200"/>
            <a:chExt cx="1152000" cy="2520720"/>
          </a:xfrm>
        </p:grpSpPr>
        <p:sp>
          <p:nvSpPr>
            <p:cNvPr id="1049" name=""/>
            <p:cNvSpPr/>
            <p:nvPr/>
          </p:nvSpPr>
          <p:spPr>
            <a:xfrm rot="16200000">
              <a:off x="8449920" y="1719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8136000" y="313992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991640" y="6192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8999640" y="61920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1773360" y="442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5518440" y="34290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0" y="196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0" y="196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852360" y="2489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1620360" y="2560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917440" y="1697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324000" y="479736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a)  Kod gornje rešetke štap 3 je nulti štap (neopterećen je uvek bez obzira na intenzitet spoljašnjih sil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925440" y="24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6660720" y="151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436720" y="151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4473000" y="1700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444720" y="3168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1260000" y="155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2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"/>
          <p:cNvSpPr/>
          <p:nvPr/>
        </p:nvSpPr>
        <p:spPr>
          <a:xfrm>
            <a:off x="287280" y="3357720"/>
            <a:ext cx="81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b) čvor čine dva štapa različitih pravaca, pri čemu spoljna sila ne napada čv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1908000" y="1268280"/>
            <a:ext cx="136872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012000" y="1844640"/>
            <a:ext cx="20890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250920" y="1268280"/>
            <a:ext cx="1657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1835280" y="1197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828000" y="69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412360" y="1125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013440" y="1844640"/>
            <a:ext cx="136836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356000" y="1844640"/>
            <a:ext cx="1657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5940360" y="1773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933440" y="1268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6949440" y="198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50920" y="4653000"/>
            <a:ext cx="81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c)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čvor čine dva štapa različitih pravaca, a spoljna sila ima pravac jednog št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7524720" y="4076640"/>
            <a:ext cx="360360" cy="2872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08720" y="4363920"/>
            <a:ext cx="792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7308720" y="4508640"/>
            <a:ext cx="792360" cy="142560"/>
            <a:chOff x="7308720" y="4508640"/>
            <a:chExt cx="792360" cy="142560"/>
          </a:xfrm>
        </p:grpSpPr>
        <p:sp>
          <p:nvSpPr>
            <p:cNvPr id="215" name=""/>
            <p:cNvSpPr/>
            <p:nvPr/>
          </p:nvSpPr>
          <p:spPr>
            <a:xfrm>
              <a:off x="7308720" y="4508640"/>
              <a:ext cx="792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7308720" y="4508640"/>
              <a:ext cx="14472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7524360" y="450864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7740360" y="450864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7956360" y="450864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438840" y="469800"/>
            <a:ext cx="808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Kremonin plan sila-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Prvo određujemo reakcije rešetkastog nosa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Prime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10800000">
            <a:off x="1186920" y="2133000"/>
            <a:ext cx="6480360" cy="1942920"/>
          </a:xfrm>
          <a:custGeom>
            <a:avLst/>
            <a:gdLst>
              <a:gd name="textAreaLeft" fmla="*/ 1424880 w 6480360"/>
              <a:gd name="textAreaRight" fmla="*/ 5055480 w 6480360"/>
              <a:gd name="textAreaTop" fmla="*/ 427320 h 1942920"/>
              <a:gd name="textAreaBottom" fmla="*/ 1515600 h 19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43280" y="2133720"/>
            <a:ext cx="158436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4427280" y="2133720"/>
            <a:ext cx="165708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71640" y="206064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12000" y="2060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71640" y="4076640"/>
            <a:ext cx="360360" cy="2872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16000" y="4005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596360" y="4005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56000" y="400536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7440" y="342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669440" y="35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6120720" y="2143080"/>
            <a:ext cx="1274040" cy="180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87280" y="450864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43280" y="457992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27640" y="457992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84720" y="45813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669080" y="45813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87280" y="5157720"/>
            <a:ext cx="64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1042560" y="4941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626920" y="5013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211280" y="5013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5940000" y="4941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524360" y="4941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28000" y="213372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028000" y="407664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748720" y="2133720"/>
            <a:ext cx="0" cy="19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8532360" y="1989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8532360" y="3933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429440" y="414972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97440" y="1700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42520" y="155736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7094160" y="1557360"/>
            <a:ext cx="758160" cy="581400"/>
            <a:chOff x="7094160" y="1557360"/>
            <a:chExt cx="758160" cy="581400"/>
          </a:xfrm>
        </p:grpSpPr>
        <p:sp>
          <p:nvSpPr>
            <p:cNvPr id="253" name=""/>
            <p:cNvSpPr/>
            <p:nvPr/>
          </p:nvSpPr>
          <p:spPr>
            <a:xfrm>
              <a:off x="7094160" y="1557360"/>
              <a:ext cx="758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4 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96360" y="1628640"/>
              <a:ext cx="215640" cy="0"/>
            </a:xfrm>
            <a:prstGeom prst="line">
              <a:avLst/>
            </a:prstGeom>
            <a:ln w="93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755280" y="4365720"/>
            <a:ext cx="792360" cy="142560"/>
            <a:chOff x="755280" y="4365720"/>
            <a:chExt cx="792360" cy="142560"/>
          </a:xfrm>
        </p:grpSpPr>
        <p:sp>
          <p:nvSpPr>
            <p:cNvPr id="256" name=""/>
            <p:cNvSpPr/>
            <p:nvPr/>
          </p:nvSpPr>
          <p:spPr>
            <a:xfrm>
              <a:off x="755640" y="436572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755280" y="436572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971280" y="436572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1187280" y="436572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1403280" y="436572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764720" y="458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420720" y="458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077800" y="458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60720" y="458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8318520" y="2852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/>
          <p:nvPr/>
        </p:nvSpPr>
        <p:spPr>
          <a:xfrm>
            <a:off x="601200" y="476280"/>
            <a:ext cx="79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Može da postoji potreban broj štapova, a 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rešetka nije kru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1" name=""/>
          <p:cNvGrpSpPr/>
          <p:nvPr/>
        </p:nvGrpSpPr>
        <p:grpSpPr>
          <a:xfrm>
            <a:off x="3926160" y="3141720"/>
            <a:ext cx="4271760" cy="3389400"/>
            <a:chOff x="3926160" y="3141720"/>
            <a:chExt cx="4271760" cy="3389400"/>
          </a:xfrm>
        </p:grpSpPr>
        <p:sp>
          <p:nvSpPr>
            <p:cNvPr id="1082" name=""/>
            <p:cNvSpPr/>
            <p:nvPr/>
          </p:nvSpPr>
          <p:spPr>
            <a:xfrm>
              <a:off x="6229440" y="3862080"/>
              <a:ext cx="0" cy="194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429080" y="3862080"/>
              <a:ext cx="3382920" cy="19429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227640" y="3862080"/>
              <a:ext cx="1584360" cy="194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6156360" y="3862080"/>
              <a:ext cx="1657440" cy="194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740720" y="378900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740720" y="57337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926160" y="55180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013800" y="59497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526880" y="587844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I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4356000" y="3862080"/>
              <a:ext cx="1873440" cy="28692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H="1">
              <a:off x="4356000" y="5805360"/>
              <a:ext cx="1873440" cy="28692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429080" y="4725720"/>
              <a:ext cx="0" cy="158400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142160" y="3141720"/>
              <a:ext cx="61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I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942160" y="3141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526520" y="3141720"/>
              <a:ext cx="61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V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797080" y="436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430160" y="44384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878160" y="5733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813080" y="443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006520" y="3286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806520" y="3286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004720" y="58784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238520" y="4725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446160" y="4582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156360" y="378900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156360" y="57337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08" name=""/>
          <p:cNvGraphicFramePr/>
          <p:nvPr/>
        </p:nvGraphicFramePr>
        <p:xfrm>
          <a:off x="684360" y="1700280"/>
          <a:ext cx="4679640" cy="14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4679640" cy="14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"/>
          <p:cNvSpPr/>
          <p:nvPr/>
        </p:nvSpPr>
        <p:spPr>
          <a:xfrm>
            <a:off x="179280" y="44280"/>
            <a:ext cx="8642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TETRAEDARSKA REŠET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Osnova za formiranje rešetkastog nosača je trougao ABC. Svaki novi čvor je izvan ravni ABC, i vezuje u sebi 3 štap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3708360" y="1773360"/>
            <a:ext cx="5256360" cy="3894480"/>
            <a:chOff x="3708360" y="1773360"/>
            <a:chExt cx="5256360" cy="3894480"/>
          </a:xfrm>
        </p:grpSpPr>
        <p:sp>
          <p:nvSpPr>
            <p:cNvPr id="1112" name=""/>
            <p:cNvSpPr/>
            <p:nvPr/>
          </p:nvSpPr>
          <p:spPr>
            <a:xfrm>
              <a:off x="3780000" y="3070080"/>
              <a:ext cx="1584000" cy="194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>
              <a:off x="3779640" y="2495520"/>
              <a:ext cx="3168360" cy="57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789440" y="5013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8462880" y="50864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364000" y="2494080"/>
              <a:ext cx="3168720" cy="2519280"/>
            </a:xfrm>
            <a:prstGeom prst="triangle">
              <a:avLst>
                <a:gd name="adj" fmla="val 50000"/>
              </a:avLst>
            </a:prstGeom>
            <a:noFill/>
            <a:ln w="7632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 flipV="1">
              <a:off x="3780000" y="3070080"/>
              <a:ext cx="4752720" cy="194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H="1">
              <a:off x="5363640" y="3141720"/>
              <a:ext cx="3529080" cy="187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>
              <a:off x="8532360" y="3141720"/>
              <a:ext cx="360360" cy="187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 flipV="1">
              <a:off x="6877080" y="2493720"/>
              <a:ext cx="201600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877080" y="242244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08360" y="299880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8461440" y="494172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820000" y="307008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292720" y="494172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662880" y="1773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27" name=""/>
          <p:cNvGraphicFramePr/>
          <p:nvPr/>
        </p:nvGraphicFramePr>
        <p:xfrm>
          <a:off x="322200" y="2205000"/>
          <a:ext cx="554508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2205000"/>
                    <a:ext cx="55450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9" name=""/>
          <p:cNvSpPr/>
          <p:nvPr/>
        </p:nvSpPr>
        <p:spPr>
          <a:xfrm>
            <a:off x="250920" y="2924280"/>
            <a:ext cx="8642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3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Relacija izmeđ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“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s” i “k” u pros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(za prostornu rešetk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Tetraedarska rešet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predstavlja krutu ploču u prostoru. Ali prostor je ispunjen štapovima.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Zato postoji poliedarska rešet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179280" y="44280"/>
            <a:ext cx="864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OLIEDARSKA REŠET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0" y="907920"/>
            <a:ext cx="864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2" name=""/>
          <p:cNvGrpSpPr/>
          <p:nvPr/>
        </p:nvGrpSpPr>
        <p:grpSpPr>
          <a:xfrm>
            <a:off x="468360" y="1052640"/>
            <a:ext cx="4176720" cy="2806200"/>
            <a:chOff x="468360" y="1052640"/>
            <a:chExt cx="4176720" cy="2806200"/>
          </a:xfrm>
        </p:grpSpPr>
        <p:sp>
          <p:nvSpPr>
            <p:cNvPr id="1133" name=""/>
            <p:cNvSpPr/>
            <p:nvPr/>
          </p:nvSpPr>
          <p:spPr>
            <a:xfrm>
              <a:off x="2052360" y="1123920"/>
              <a:ext cx="2521080" cy="18712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V="1">
              <a:off x="539640" y="1123560"/>
              <a:ext cx="1512720" cy="79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2052360" y="1123920"/>
              <a:ext cx="244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V="1">
              <a:off x="4572000" y="1123560"/>
              <a:ext cx="0" cy="1944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979640" y="105264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39640" y="1915920"/>
              <a:ext cx="2521080" cy="18712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V="1">
              <a:off x="3060720" y="1123560"/>
              <a:ext cx="1512720" cy="79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V="1">
              <a:off x="539640" y="2995200"/>
              <a:ext cx="1512720" cy="79164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V="1">
              <a:off x="3060720" y="2995200"/>
              <a:ext cx="1512720" cy="79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500360" y="1052640"/>
              <a:ext cx="14472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500360" y="2923920"/>
              <a:ext cx="14472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979640" y="29239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68360" y="184464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68360" y="371628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987640" y="371628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4282920" y="765000"/>
            <a:ext cx="4737240" cy="5759640"/>
            <a:chOff x="4282920" y="765000"/>
            <a:chExt cx="4737240" cy="5759640"/>
          </a:xfrm>
        </p:grpSpPr>
        <p:sp>
          <p:nvSpPr>
            <p:cNvPr id="1149" name=""/>
            <p:cNvSpPr/>
            <p:nvPr/>
          </p:nvSpPr>
          <p:spPr>
            <a:xfrm flipH="1">
              <a:off x="5795640" y="2492280"/>
              <a:ext cx="3095640" cy="0"/>
            </a:xfrm>
            <a:prstGeom prst="line">
              <a:avLst/>
            </a:prstGeom>
            <a:ln w="5724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356000" y="836640"/>
              <a:ext cx="3168720" cy="3024000"/>
            </a:xfrm>
            <a:prstGeom prst="triangle">
              <a:avLst>
                <a:gd name="adj" fmla="val 66532"/>
              </a:avLst>
            </a:prstGeom>
            <a:noFill/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 flipV="1">
              <a:off x="6443640" y="836280"/>
              <a:ext cx="2448000" cy="165564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7524360" y="2492280"/>
              <a:ext cx="1366920" cy="136836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4427640" y="2492280"/>
              <a:ext cx="1366560" cy="1368360"/>
            </a:xfrm>
            <a:prstGeom prst="line">
              <a:avLst/>
            </a:prstGeom>
            <a:ln w="5724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5795640" y="836640"/>
              <a:ext cx="647640" cy="1655640"/>
            </a:xfrm>
            <a:prstGeom prst="line">
              <a:avLst/>
            </a:prstGeom>
            <a:ln w="5724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443640" y="765000"/>
              <a:ext cx="432000" cy="5040360"/>
            </a:xfrm>
            <a:prstGeom prst="line">
              <a:avLst/>
            </a:prstGeom>
            <a:ln cap="rnd" w="57240">
              <a:solidFill>
                <a:srgbClr val="800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796000" y="2494080"/>
              <a:ext cx="1079640" cy="3311280"/>
            </a:xfrm>
            <a:prstGeom prst="line">
              <a:avLst/>
            </a:prstGeom>
            <a:ln w="5724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356000" y="3862440"/>
              <a:ext cx="2519640" cy="194292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6875280" y="3862440"/>
              <a:ext cx="649080" cy="194292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6875640" y="2494080"/>
              <a:ext cx="2016000" cy="331128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372360" y="76500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8820000" y="242100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724360" y="242100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282920" y="378936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451640" y="378936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804000" y="573552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66" name=""/>
            <p:cNvGraphicFramePr/>
            <p:nvPr/>
          </p:nvGraphicFramePr>
          <p:xfrm>
            <a:off x="7704000" y="4437000"/>
            <a:ext cx="1316160" cy="2087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6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704000" y="4437000"/>
                      <a:ext cx="1316160" cy="208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168" name=""/>
          <p:cNvGraphicFramePr/>
          <p:nvPr/>
        </p:nvGraphicFramePr>
        <p:xfrm>
          <a:off x="507960" y="4167360"/>
          <a:ext cx="3013200" cy="205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4167360"/>
                    <a:ext cx="3013200" cy="20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0" name=""/>
          <p:cNvSpPr/>
          <p:nvPr/>
        </p:nvSpPr>
        <p:spPr>
          <a:xfrm>
            <a:off x="2987640" y="1844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"/>
          <p:cNvSpPr/>
          <p:nvPr/>
        </p:nvSpPr>
        <p:spPr>
          <a:xfrm>
            <a:off x="179280" y="47628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OJLEROVA POLIEDARSKA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f + k = s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1547640" y="4508640"/>
            <a:ext cx="6626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vadar (ili kocka) sa dijagonala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12, 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8, 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f + k = s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12+8=18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3" name=""/>
          <p:cNvGraphicFramePr/>
          <p:nvPr/>
        </p:nvGraphicFramePr>
        <p:xfrm>
          <a:off x="250920" y="2133720"/>
          <a:ext cx="3514680" cy="205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133720"/>
                    <a:ext cx="3514680" cy="20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5" name=""/>
          <p:cNvSpPr/>
          <p:nvPr/>
        </p:nvSpPr>
        <p:spPr>
          <a:xfrm flipV="1">
            <a:off x="4211640" y="1413000"/>
            <a:ext cx="396072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 flipV="1">
            <a:off x="6659640" y="1412640"/>
            <a:ext cx="1512720" cy="266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 flipV="1">
            <a:off x="4140360" y="2204640"/>
            <a:ext cx="2519280" cy="18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4140360" y="3284640"/>
            <a:ext cx="4032000" cy="7920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4140360" y="1412640"/>
            <a:ext cx="1511280" cy="26636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5651640" y="1412640"/>
            <a:ext cx="2520720" cy="18716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651640" y="1413000"/>
            <a:ext cx="2520720" cy="187164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4138560" y="1413000"/>
            <a:ext cx="151308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5651280" y="1413000"/>
            <a:ext cx="2447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flipV="1">
            <a:off x="8170920" y="1413000"/>
            <a:ext cx="0" cy="19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578560" y="1341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4138560" y="2205000"/>
            <a:ext cx="2521080" cy="1871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6659640" y="1413000"/>
            <a:ext cx="151272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4138560" y="3284640"/>
            <a:ext cx="1513080" cy="7920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6659640" y="3284640"/>
            <a:ext cx="151272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8099280" y="134136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8099280" y="3213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5578560" y="3213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4067280" y="213372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4067280" y="4005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6586560" y="4005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6588000" y="213372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/>
          <p:nvPr/>
        </p:nvSpPr>
        <p:spPr>
          <a:xfrm>
            <a:off x="6372360" y="2060640"/>
            <a:ext cx="2232000" cy="1655640"/>
          </a:xfrm>
          <a:prstGeom prst="wedgeRoundRectCallout">
            <a:avLst>
              <a:gd name="adj1" fmla="val -111310"/>
              <a:gd name="adj2" fmla="val 86337"/>
              <a:gd name="adj3" fmla="val 16667"/>
            </a:avLst>
          </a:prstGeom>
          <a:solidFill>
            <a:srgbClr val="b1a8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611280" y="692280"/>
            <a:ext cx="56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f + k = s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s=3k-6 – kod krute rešet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2195640" y="4149720"/>
            <a:ext cx="66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od krute poliedarske rešet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0" name=""/>
          <p:cNvGraphicFramePr/>
          <p:nvPr/>
        </p:nvGraphicFramePr>
        <p:xfrm>
          <a:off x="971640" y="2000160"/>
          <a:ext cx="7632720" cy="17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000160"/>
                    <a:ext cx="763272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>
            <a:off x="250920" y="33336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Rešetka načinjena na bazi zatvorene poliedarske površi je kruta onda, ako su strane tog poliedra trouglo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468360" y="4149720"/>
            <a:ext cx="1584360" cy="13669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H="1">
            <a:off x="2124000" y="3357720"/>
            <a:ext cx="1728720" cy="21589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547640" y="2637000"/>
            <a:ext cx="1081440" cy="15127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468360" y="2421000"/>
            <a:ext cx="1511280" cy="17287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1979640" y="2421000"/>
            <a:ext cx="1873080" cy="9367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1476360" y="3357360"/>
            <a:ext cx="216000" cy="21589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flipH="1" flipV="1">
            <a:off x="1692360" y="3357360"/>
            <a:ext cx="792000" cy="19429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flipH="1" flipV="1">
            <a:off x="2555640" y="2420640"/>
            <a:ext cx="73080" cy="165564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1547640" y="5300640"/>
            <a:ext cx="936720" cy="21600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1547640" y="2421000"/>
            <a:ext cx="1008360" cy="21600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468360" y="2421000"/>
            <a:ext cx="3384360" cy="3095640"/>
            <a:chOff x="468360" y="2421000"/>
            <a:chExt cx="3384360" cy="3095640"/>
          </a:xfrm>
        </p:grpSpPr>
        <p:sp>
          <p:nvSpPr>
            <p:cNvPr id="1214" name=""/>
            <p:cNvSpPr/>
            <p:nvPr/>
          </p:nvSpPr>
          <p:spPr>
            <a:xfrm flipH="1">
              <a:off x="468360" y="2637000"/>
              <a:ext cx="1079280" cy="1512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68360" y="4149720"/>
              <a:ext cx="1008000" cy="1366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68360" y="4149720"/>
              <a:ext cx="216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692360" y="3357720"/>
              <a:ext cx="21603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H="1" flipV="1">
              <a:off x="2124000" y="2637000"/>
              <a:ext cx="504720" cy="1512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547640" y="2637000"/>
              <a:ext cx="57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979640" y="2421000"/>
              <a:ext cx="57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1692360" y="2421000"/>
              <a:ext cx="287280" cy="93672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H="1" flipV="1">
              <a:off x="2556000" y="2421000"/>
              <a:ext cx="1296720" cy="936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H="1">
              <a:off x="2628720" y="3357720"/>
              <a:ext cx="1224000" cy="79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H="1">
              <a:off x="468360" y="3357720"/>
              <a:ext cx="1224000" cy="79200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H="1">
              <a:off x="1547640" y="2421000"/>
              <a:ext cx="43200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H="1">
              <a:off x="2124000" y="2421000"/>
              <a:ext cx="43200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476360" y="5516640"/>
              <a:ext cx="57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908000" y="5300640"/>
              <a:ext cx="5763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H="1">
              <a:off x="1476000" y="5300640"/>
              <a:ext cx="431640" cy="21600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2052360" y="5300640"/>
              <a:ext cx="43164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 flipV="1">
              <a:off x="1692000" y="3357360"/>
              <a:ext cx="215640" cy="194292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V="1">
              <a:off x="2484360" y="3357360"/>
              <a:ext cx="1368360" cy="194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V="1">
              <a:off x="2052720" y="4149360"/>
              <a:ext cx="576000" cy="1366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4" name=""/>
          <p:cNvSpPr/>
          <p:nvPr/>
        </p:nvSpPr>
        <p:spPr>
          <a:xfrm>
            <a:off x="1908000" y="234936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2052720" y="2565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1476360" y="2565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3780000" y="3284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2556000" y="4076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2484360" y="234936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1474920" y="5300640"/>
            <a:ext cx="1008000" cy="21600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1835280" y="5229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1979640" y="5445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1403280" y="5445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2411280" y="522936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1619280" y="3284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395280" y="4076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3924360" y="2276640"/>
            <a:ext cx="49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od ove rešetke je potrebno da se dodaju dijag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8" name=""/>
          <p:cNvGraphicFramePr/>
          <p:nvPr/>
        </p:nvGraphicFramePr>
        <p:xfrm>
          <a:off x="3564000" y="4149720"/>
          <a:ext cx="5329080" cy="223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4149720"/>
                    <a:ext cx="5329080" cy="22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20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3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3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3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3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8" dur="3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3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3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3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3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3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3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/>
          <p:nvPr/>
        </p:nvSpPr>
        <p:spPr>
          <a:xfrm>
            <a:off x="250920" y="115920"/>
            <a:ext cx="56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Osnova poliedarske rešetke je n-touga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36360" y="1773360"/>
            <a:ext cx="34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=6   stran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-3=3   dijagon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4282920" y="765000"/>
            <a:ext cx="4465800" cy="2915280"/>
            <a:chOff x="4282920" y="765000"/>
            <a:chExt cx="4465800" cy="2915280"/>
          </a:xfrm>
        </p:grpSpPr>
        <p:sp>
          <p:nvSpPr>
            <p:cNvPr id="1253" name=""/>
            <p:cNvSpPr/>
            <p:nvPr/>
          </p:nvSpPr>
          <p:spPr>
            <a:xfrm>
              <a:off x="5796000" y="3501720"/>
              <a:ext cx="252072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356000" y="1701360"/>
              <a:ext cx="1440000" cy="180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 rot="11391600">
              <a:off x="4851000" y="982080"/>
              <a:ext cx="2305080" cy="2519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H="1">
              <a:off x="5724360" y="2276280"/>
              <a:ext cx="2951280" cy="122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8316360" y="2276280"/>
              <a:ext cx="358920" cy="1296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V="1">
              <a:off x="4356000" y="835920"/>
              <a:ext cx="719280" cy="865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H="1" flipV="1">
              <a:off x="7380360" y="1196280"/>
              <a:ext cx="129528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003640" y="76500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282920" y="1628640"/>
              <a:ext cx="14472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8244000" y="350172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308720" y="112536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8604360" y="220464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724360" y="342864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6" name=""/>
          <p:cNvSpPr/>
          <p:nvPr/>
        </p:nvSpPr>
        <p:spPr>
          <a:xfrm>
            <a:off x="3851280" y="2060640"/>
            <a:ext cx="57636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7" name=""/>
          <p:cNvGrpSpPr/>
          <p:nvPr/>
        </p:nvGrpSpPr>
        <p:grpSpPr>
          <a:xfrm>
            <a:off x="250920" y="3141720"/>
            <a:ext cx="4465440" cy="2915280"/>
            <a:chOff x="250920" y="3141720"/>
            <a:chExt cx="4465440" cy="2915280"/>
          </a:xfrm>
        </p:grpSpPr>
        <p:sp>
          <p:nvSpPr>
            <p:cNvPr id="1268" name=""/>
            <p:cNvSpPr/>
            <p:nvPr/>
          </p:nvSpPr>
          <p:spPr>
            <a:xfrm>
              <a:off x="324000" y="4078440"/>
              <a:ext cx="1439640" cy="1800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 rot="11391600">
              <a:off x="818640" y="3358800"/>
              <a:ext cx="2305080" cy="2519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1692000" y="4653000"/>
              <a:ext cx="2950920" cy="122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V="1">
              <a:off x="324000" y="3213000"/>
              <a:ext cx="718920" cy="86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H="1" flipV="1">
              <a:off x="3348000" y="3573000"/>
              <a:ext cx="129528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971640" y="314172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50920" y="400536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276720" y="350208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572000" y="45817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692360" y="58057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8" name=""/>
          <p:cNvSpPr/>
          <p:nvPr/>
        </p:nvSpPr>
        <p:spPr>
          <a:xfrm>
            <a:off x="5904000" y="400536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=5  stran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-3=2  dijagon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5003640" y="4365720"/>
            <a:ext cx="649440" cy="503280"/>
          </a:xfrm>
          <a:prstGeom prst="leftArrow">
            <a:avLst>
              <a:gd name="adj1" fmla="val 50000"/>
              <a:gd name="adj2" fmla="val 32260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250920" y="558972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Poliedarska rešet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ostavlja slobodan prostor unut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/>
          <p:nvPr/>
        </p:nvSpPr>
        <p:spPr>
          <a:xfrm>
            <a:off x="179280" y="4149720"/>
            <a:ext cx="4392720" cy="122544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50920" y="54936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REŠETKASTI NOSA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250920" y="1198440"/>
            <a:ext cx="8642160" cy="42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Da bi rešetkasta ploča bila nosač u ravni, mora biti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To znač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s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3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6 u pros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=2</a:t>
            </a: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k</a:t>
            </a: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-</a:t>
            </a: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s-r</a:t>
            </a:r>
            <a:r>
              <a:rPr b="1" i="1" lang="sr-Latn-CS" sz="3200" spc="-1" strike="noStrike" baseline="-25000">
                <a:solidFill>
                  <a:srgbClr val="e6e3ac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=0       ra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=3</a:t>
            </a: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k</a:t>
            </a: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-</a:t>
            </a: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s-r</a:t>
            </a:r>
            <a:r>
              <a:rPr b="1" i="1" lang="sr-Latn-CS" sz="3200" spc="-1" strike="noStrike" baseline="-25000">
                <a:solidFill>
                  <a:srgbClr val="e6e3ac"/>
                </a:solidFill>
                <a:latin typeface="Times New Roman"/>
              </a:rPr>
              <a:t>s</a:t>
            </a: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=0      pros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5076720" y="3286080"/>
            <a:ext cx="3527640" cy="2664000"/>
          </a:xfrm>
          <a:prstGeom prst="wedgeRoundRectCallout">
            <a:avLst>
              <a:gd name="adj1" fmla="val -63907"/>
              <a:gd name="adj2" fmla="val 1967"/>
              <a:gd name="adj3" fmla="val 16667"/>
            </a:avLst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Ovo mora biti zadovoljeno bez obzira da li je nosač prost ili slož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"/>
          <p:cNvSpPr/>
          <p:nvPr/>
        </p:nvSpPr>
        <p:spPr>
          <a:xfrm>
            <a:off x="1187280" y="11268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REŠETKASTA PROSTA GRE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 rot="10800000">
            <a:off x="394920" y="1335960"/>
            <a:ext cx="8280360" cy="3024360"/>
          </a:xfrm>
          <a:custGeom>
            <a:avLst/>
            <a:gdLst>
              <a:gd name="textAreaLeft" fmla="*/ 1526400 w 8280360"/>
              <a:gd name="textAreaRight" fmla="*/ 6753960 w 8280360"/>
              <a:gd name="textAreaTop" fmla="*/ 557280 h 3024360"/>
              <a:gd name="textAreaBottom" fmla="*/ 2467080 h 302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583" y="21600"/>
                </a:lnTo>
                <a:lnTo>
                  <a:pt x="4017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1979640" y="1336680"/>
            <a:ext cx="115236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 flipH="1">
            <a:off x="5866920" y="1336680"/>
            <a:ext cx="122580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1908000" y="12636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7020000" y="12636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1" name=""/>
          <p:cNvGrpSpPr/>
          <p:nvPr/>
        </p:nvGrpSpPr>
        <p:grpSpPr>
          <a:xfrm>
            <a:off x="8351640" y="4289400"/>
            <a:ext cx="792360" cy="645840"/>
            <a:chOff x="8351640" y="4289400"/>
            <a:chExt cx="792360" cy="645840"/>
          </a:xfrm>
        </p:grpSpPr>
        <p:sp>
          <p:nvSpPr>
            <p:cNvPr id="1292" name=""/>
            <p:cNvSpPr/>
            <p:nvPr/>
          </p:nvSpPr>
          <p:spPr>
            <a:xfrm>
              <a:off x="8567640" y="4361040"/>
              <a:ext cx="36000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8352000" y="464832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4" name=""/>
            <p:cNvGrpSpPr/>
            <p:nvPr/>
          </p:nvGrpSpPr>
          <p:grpSpPr>
            <a:xfrm>
              <a:off x="8351640" y="4792680"/>
              <a:ext cx="792360" cy="142560"/>
              <a:chOff x="8351640" y="4792680"/>
              <a:chExt cx="792360" cy="142560"/>
            </a:xfrm>
          </p:grpSpPr>
          <p:sp>
            <p:nvSpPr>
              <p:cNvPr id="1295" name=""/>
              <p:cNvSpPr/>
              <p:nvPr/>
            </p:nvSpPr>
            <p:spPr>
              <a:xfrm>
                <a:off x="8352000" y="479268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flipH="1">
                <a:off x="8351640" y="479268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H="1">
                <a:off x="8567640" y="47926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H="1">
                <a:off x="8783640" y="47926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flipH="1">
                <a:off x="8999640" y="47926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"/>
            <p:cNvSpPr/>
            <p:nvPr/>
          </p:nvSpPr>
          <p:spPr>
            <a:xfrm>
              <a:off x="8639280" y="4289400"/>
              <a:ext cx="14400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1" name=""/>
          <p:cNvSpPr/>
          <p:nvPr/>
        </p:nvSpPr>
        <p:spPr>
          <a:xfrm>
            <a:off x="1800" y="37130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8712360" y="3784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3061080" y="450540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5653440" y="45054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1694160" y="6206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6" name=""/>
          <p:cNvGrpSpPr/>
          <p:nvPr/>
        </p:nvGrpSpPr>
        <p:grpSpPr>
          <a:xfrm>
            <a:off x="-360" y="4289400"/>
            <a:ext cx="792360" cy="502920"/>
            <a:chOff x="-360" y="4289400"/>
            <a:chExt cx="792360" cy="502920"/>
          </a:xfrm>
        </p:grpSpPr>
        <p:sp>
          <p:nvSpPr>
            <p:cNvPr id="1307" name=""/>
            <p:cNvSpPr/>
            <p:nvPr/>
          </p:nvSpPr>
          <p:spPr>
            <a:xfrm>
              <a:off x="215640" y="4361040"/>
              <a:ext cx="36000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60000" y="4289400"/>
              <a:ext cx="14400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9" name=""/>
            <p:cNvGrpSpPr/>
            <p:nvPr/>
          </p:nvGrpSpPr>
          <p:grpSpPr>
            <a:xfrm>
              <a:off x="-360" y="4649760"/>
              <a:ext cx="792360" cy="142560"/>
              <a:chOff x="-360" y="4649760"/>
              <a:chExt cx="792360" cy="142560"/>
            </a:xfrm>
          </p:grpSpPr>
          <p:sp>
            <p:nvSpPr>
              <p:cNvPr id="1310" name=""/>
              <p:cNvSpPr/>
              <p:nvPr/>
            </p:nvSpPr>
            <p:spPr>
              <a:xfrm>
                <a:off x="0" y="464976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flipH="1">
                <a:off x="-360" y="46497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H="1">
                <a:off x="215640" y="46497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H="1">
                <a:off x="431640" y="46497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flipH="1">
                <a:off x="647640" y="46497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5" name=""/>
          <p:cNvSpPr/>
          <p:nvPr/>
        </p:nvSpPr>
        <p:spPr>
          <a:xfrm flipH="1">
            <a:off x="3132000" y="1336680"/>
            <a:ext cx="136872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4500720" y="1336680"/>
            <a:ext cx="136656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3059280" y="42894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4427640" y="12636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5796000" y="42894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3997440" y="62064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6734160" y="620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2" name=""/>
          <p:cNvGraphicFramePr/>
          <p:nvPr/>
        </p:nvGraphicFramePr>
        <p:xfrm>
          <a:off x="324000" y="5288040"/>
          <a:ext cx="8064360" cy="145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5288040"/>
                    <a:ext cx="8064360" cy="14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/>
          <p:nvPr/>
        </p:nvSpPr>
        <p:spPr>
          <a:xfrm>
            <a:off x="1979640" y="981000"/>
            <a:ext cx="5113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5867280" y="4005360"/>
            <a:ext cx="2808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 flipH="1">
            <a:off x="394920" y="981000"/>
            <a:ext cx="158436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7093080" y="981000"/>
            <a:ext cx="165564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1979640" y="976320"/>
            <a:ext cx="115236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 flipH="1">
            <a:off x="5866920" y="976320"/>
            <a:ext cx="122580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908000" y="90324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7020000" y="9032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2" name=""/>
          <p:cNvGrpSpPr/>
          <p:nvPr/>
        </p:nvGrpSpPr>
        <p:grpSpPr>
          <a:xfrm>
            <a:off x="8351640" y="3929040"/>
            <a:ext cx="792360" cy="645840"/>
            <a:chOff x="8351640" y="3929040"/>
            <a:chExt cx="792360" cy="645840"/>
          </a:xfrm>
        </p:grpSpPr>
        <p:sp>
          <p:nvSpPr>
            <p:cNvPr id="1333" name=""/>
            <p:cNvSpPr/>
            <p:nvPr/>
          </p:nvSpPr>
          <p:spPr>
            <a:xfrm>
              <a:off x="8567640" y="4000680"/>
              <a:ext cx="36000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8352000" y="428796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5" name=""/>
            <p:cNvGrpSpPr/>
            <p:nvPr/>
          </p:nvGrpSpPr>
          <p:grpSpPr>
            <a:xfrm>
              <a:off x="8351640" y="4432320"/>
              <a:ext cx="792360" cy="142560"/>
              <a:chOff x="8351640" y="4432320"/>
              <a:chExt cx="792360" cy="142560"/>
            </a:xfrm>
          </p:grpSpPr>
          <p:sp>
            <p:nvSpPr>
              <p:cNvPr id="1336" name=""/>
              <p:cNvSpPr/>
              <p:nvPr/>
            </p:nvSpPr>
            <p:spPr>
              <a:xfrm>
                <a:off x="8352000" y="443232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flipH="1">
                <a:off x="8351640" y="443232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H="1">
                <a:off x="8567640" y="443232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H="1">
                <a:off x="8783640" y="443232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flipH="1">
                <a:off x="8999640" y="443232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1" name=""/>
            <p:cNvSpPr/>
            <p:nvPr/>
          </p:nvSpPr>
          <p:spPr>
            <a:xfrm>
              <a:off x="8639280" y="3929040"/>
              <a:ext cx="14400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2" name=""/>
          <p:cNvSpPr/>
          <p:nvPr/>
        </p:nvSpPr>
        <p:spPr>
          <a:xfrm>
            <a:off x="1800" y="3352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8712360" y="34243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5221440" y="3789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1694160" y="2602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6" name=""/>
          <p:cNvGrpSpPr/>
          <p:nvPr/>
        </p:nvGrpSpPr>
        <p:grpSpPr>
          <a:xfrm>
            <a:off x="-360" y="3929040"/>
            <a:ext cx="792360" cy="502920"/>
            <a:chOff x="-360" y="3929040"/>
            <a:chExt cx="792360" cy="502920"/>
          </a:xfrm>
        </p:grpSpPr>
        <p:sp>
          <p:nvSpPr>
            <p:cNvPr id="1347" name=""/>
            <p:cNvSpPr/>
            <p:nvPr/>
          </p:nvSpPr>
          <p:spPr>
            <a:xfrm>
              <a:off x="215640" y="4000680"/>
              <a:ext cx="36000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60000" y="3929040"/>
              <a:ext cx="14400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9" name=""/>
            <p:cNvGrpSpPr/>
            <p:nvPr/>
          </p:nvGrpSpPr>
          <p:grpSpPr>
            <a:xfrm>
              <a:off x="-360" y="4289400"/>
              <a:ext cx="792360" cy="142560"/>
              <a:chOff x="-360" y="4289400"/>
              <a:chExt cx="792360" cy="142560"/>
            </a:xfrm>
          </p:grpSpPr>
          <p:sp>
            <p:nvSpPr>
              <p:cNvPr id="1350" name=""/>
              <p:cNvSpPr/>
              <p:nvPr/>
            </p:nvSpPr>
            <p:spPr>
              <a:xfrm>
                <a:off x="0" y="428940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H="1">
                <a:off x="-360" y="428940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flipH="1">
                <a:off x="215640" y="428940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H="1">
                <a:off x="431640" y="428940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H="1">
                <a:off x="647640" y="428940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5" name=""/>
          <p:cNvSpPr/>
          <p:nvPr/>
        </p:nvSpPr>
        <p:spPr>
          <a:xfrm flipH="1">
            <a:off x="3132000" y="976320"/>
            <a:ext cx="136872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4500720" y="976320"/>
            <a:ext cx="136656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3059280" y="39290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4427640" y="9032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5796000" y="39290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3997440" y="26028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6734160" y="26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2" name=""/>
          <p:cNvGraphicFramePr/>
          <p:nvPr/>
        </p:nvGraphicFramePr>
        <p:xfrm>
          <a:off x="2187720" y="4971960"/>
          <a:ext cx="5200560" cy="13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7720" y="4971960"/>
                    <a:ext cx="5200560" cy="13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4" name=""/>
          <p:cNvSpPr/>
          <p:nvPr/>
        </p:nvSpPr>
        <p:spPr>
          <a:xfrm>
            <a:off x="468360" y="4005360"/>
            <a:ext cx="2590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5" name=""/>
          <p:cNvGrpSpPr/>
          <p:nvPr/>
        </p:nvGrpSpPr>
        <p:grpSpPr>
          <a:xfrm>
            <a:off x="2771640" y="3932280"/>
            <a:ext cx="792360" cy="645840"/>
            <a:chOff x="2771640" y="3932280"/>
            <a:chExt cx="792360" cy="645840"/>
          </a:xfrm>
        </p:grpSpPr>
        <p:sp>
          <p:nvSpPr>
            <p:cNvPr id="1366" name=""/>
            <p:cNvSpPr/>
            <p:nvPr/>
          </p:nvSpPr>
          <p:spPr>
            <a:xfrm>
              <a:off x="2987640" y="400392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771640" y="4291200"/>
              <a:ext cx="792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8" name=""/>
            <p:cNvGrpSpPr/>
            <p:nvPr/>
          </p:nvGrpSpPr>
          <p:grpSpPr>
            <a:xfrm>
              <a:off x="2771640" y="4435560"/>
              <a:ext cx="792360" cy="142560"/>
              <a:chOff x="2771640" y="4435560"/>
              <a:chExt cx="792360" cy="142560"/>
            </a:xfrm>
          </p:grpSpPr>
          <p:sp>
            <p:nvSpPr>
              <p:cNvPr id="1369" name=""/>
              <p:cNvSpPr/>
              <p:nvPr/>
            </p:nvSpPr>
            <p:spPr>
              <a:xfrm>
                <a:off x="2771640" y="4435560"/>
                <a:ext cx="792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H="1">
                <a:off x="2771640" y="4435560"/>
                <a:ext cx="14472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H="1">
                <a:off x="2987280" y="44355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flipH="1">
                <a:off x="3203280" y="44355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H="1">
                <a:off x="3419280" y="44355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4" name=""/>
            <p:cNvSpPr/>
            <p:nvPr/>
          </p:nvSpPr>
          <p:spPr>
            <a:xfrm>
              <a:off x="3059280" y="393228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5" name=""/>
          <p:cNvSpPr/>
          <p:nvPr/>
        </p:nvSpPr>
        <p:spPr>
          <a:xfrm>
            <a:off x="3349800" y="35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7812000" y="3716280"/>
            <a:ext cx="360360" cy="2872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596360" y="4003560"/>
            <a:ext cx="792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596000" y="4148280"/>
            <a:ext cx="792360" cy="142560"/>
            <a:chOff x="7596000" y="4148280"/>
            <a:chExt cx="792360" cy="142560"/>
          </a:xfrm>
        </p:grpSpPr>
        <p:sp>
          <p:nvSpPr>
            <p:cNvPr id="269" name=""/>
            <p:cNvSpPr/>
            <p:nvPr/>
          </p:nvSpPr>
          <p:spPr>
            <a:xfrm>
              <a:off x="7596360" y="414828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7596000" y="414828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7812000" y="414828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8028000" y="414828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8244000" y="414828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748440" y="189000"/>
            <a:ext cx="72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Prvo se određuju reakcije spoljnih vez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zatim sile u štapovima rešet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0800000">
            <a:off x="1474920" y="1772640"/>
            <a:ext cx="6480000" cy="1942920"/>
          </a:xfrm>
          <a:custGeom>
            <a:avLst/>
            <a:gdLst>
              <a:gd name="textAreaLeft" fmla="*/ 1424880 w 6480000"/>
              <a:gd name="textAreaRight" fmla="*/ 5055120 w 6480000"/>
              <a:gd name="textAreaTop" fmla="*/ 427320 h 1942920"/>
              <a:gd name="textAreaBottom" fmla="*/ 1515600 h 19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130560" y="1773360"/>
            <a:ext cx="158436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4714920" y="1773360"/>
            <a:ext cx="165744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59280" y="1700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99280" y="1700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258920" y="3716280"/>
            <a:ext cx="360360" cy="2872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403280" y="3645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883640" y="3645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643280" y="3645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044720" y="3068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956720" y="3139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6408000" y="1782720"/>
            <a:ext cx="1274040" cy="180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474920" y="414828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0560" y="42195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714920" y="42195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372360" y="422100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956720" y="422100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474920" y="4797360"/>
            <a:ext cx="64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1329840" y="4581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914200" y="4653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4498560" y="4653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6227280" y="4581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811640" y="4581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315280" y="177336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315280" y="371628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036000" y="1773360"/>
            <a:ext cx="0" cy="19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8819640" y="162864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8819640" y="3573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716720" y="378936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84720" y="13399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29800" y="11970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021080" y="1197000"/>
            <a:ext cx="7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042920" y="4005360"/>
            <a:ext cx="792360" cy="142560"/>
            <a:chOff x="1042920" y="4005360"/>
            <a:chExt cx="792360" cy="142560"/>
          </a:xfrm>
        </p:grpSpPr>
        <p:sp>
          <p:nvSpPr>
            <p:cNvPr id="308" name=""/>
            <p:cNvSpPr/>
            <p:nvPr/>
          </p:nvSpPr>
          <p:spPr>
            <a:xfrm>
              <a:off x="1042920" y="4005360"/>
              <a:ext cx="792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1042920" y="4005360"/>
              <a:ext cx="14472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1258560" y="400536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1474560" y="400536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1690560" y="400536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05200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70800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36508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4800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8605800" y="249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144000" y="3705120"/>
            <a:ext cx="1274040" cy="1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1431360" y="3696120"/>
            <a:ext cx="15120" cy="112032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7984440" y="3696480"/>
            <a:ext cx="14760" cy="111996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62800" y="306864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38800" y="4292640"/>
            <a:ext cx="58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112600" y="4365720"/>
            <a:ext cx="58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2084400" y="5124600"/>
          <a:ext cx="5767200" cy="16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4400" y="5124600"/>
                    <a:ext cx="5767200" cy="16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3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3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3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90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"/>
          <p:cNvSpPr/>
          <p:nvPr/>
        </p:nvSpPr>
        <p:spPr>
          <a:xfrm>
            <a:off x="395280" y="40464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Određivanje reakcija kod Gerberovog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rim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7" name=""/>
          <p:cNvGrpSpPr/>
          <p:nvPr/>
        </p:nvGrpSpPr>
        <p:grpSpPr>
          <a:xfrm>
            <a:off x="1692360" y="1623960"/>
            <a:ext cx="6107040" cy="1844640"/>
            <a:chOff x="1692360" y="1623960"/>
            <a:chExt cx="6107040" cy="1844640"/>
          </a:xfrm>
        </p:grpSpPr>
        <p:sp>
          <p:nvSpPr>
            <p:cNvPr id="1378" name=""/>
            <p:cNvSpPr/>
            <p:nvPr/>
          </p:nvSpPr>
          <p:spPr>
            <a:xfrm>
              <a:off x="3843360" y="2546280"/>
              <a:ext cx="7776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382840" y="204624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382840" y="2584440"/>
              <a:ext cx="14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1" name="" descr=""/>
            <p:cNvPicPr/>
            <p:nvPr/>
          </p:nvPicPr>
          <p:blipFill>
            <a:blip r:embed="rId1"/>
            <a:stretch/>
          </p:blipFill>
          <p:spPr>
            <a:xfrm>
              <a:off x="2192400" y="2584440"/>
              <a:ext cx="384120" cy="26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2" name=""/>
            <p:cNvSpPr/>
            <p:nvPr/>
          </p:nvSpPr>
          <p:spPr>
            <a:xfrm>
              <a:off x="3919320" y="2584440"/>
              <a:ext cx="145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378400" y="2584440"/>
              <a:ext cx="14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4" name="" descr=""/>
            <p:cNvPicPr/>
            <p:nvPr/>
          </p:nvPicPr>
          <p:blipFill>
            <a:blip r:embed="rId2"/>
            <a:stretch/>
          </p:blipFill>
          <p:spPr>
            <a:xfrm>
              <a:off x="5187960" y="2584440"/>
              <a:ext cx="38412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5" name="" descr=""/>
            <p:cNvPicPr/>
            <p:nvPr/>
          </p:nvPicPr>
          <p:blipFill>
            <a:blip r:embed="rId3"/>
            <a:stretch/>
          </p:blipFill>
          <p:spPr>
            <a:xfrm>
              <a:off x="6608520" y="2584440"/>
              <a:ext cx="38448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6" name=""/>
            <p:cNvSpPr/>
            <p:nvPr/>
          </p:nvSpPr>
          <p:spPr>
            <a:xfrm flipH="1">
              <a:off x="2382480" y="2046240"/>
              <a:ext cx="654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881520" y="2278080"/>
              <a:ext cx="29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881520" y="227808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11156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34160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57200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80384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03388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26392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49432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72436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95476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18624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41664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64668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83892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112920" y="1623960"/>
              <a:ext cx="1498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H=q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498760" y="2508120"/>
              <a:ext cx="53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535200" y="2546280"/>
              <a:ext cx="80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570640" y="2508120"/>
              <a:ext cx="69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993000" y="2469960"/>
              <a:ext cx="80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456160" y="1663560"/>
              <a:ext cx="768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08" name=""/>
            <p:cNvCxnSpPr>
              <a:stCxn id="1393" idx="0"/>
              <a:endCxn id="1407" idx="1"/>
            </p:cNvCxnSpPr>
            <p:nvPr/>
          </p:nvCxnSpPr>
          <p:spPr>
            <a:xfrm flipH="1" flipV="1" rot="5400000">
              <a:off x="5082480" y="1904400"/>
              <a:ext cx="324720" cy="423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09" name=""/>
            <p:cNvSpPr/>
            <p:nvPr/>
          </p:nvSpPr>
          <p:spPr>
            <a:xfrm>
              <a:off x="1692360" y="2046240"/>
              <a:ext cx="53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692360" y="2584440"/>
              <a:ext cx="53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382840" y="2814480"/>
              <a:ext cx="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881520" y="2776320"/>
              <a:ext cx="0" cy="6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378400" y="2814480"/>
              <a:ext cx="0" cy="61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838920" y="2814480"/>
              <a:ext cx="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768320" y="2046240"/>
              <a:ext cx="0" cy="53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382840" y="327636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881520" y="3276360"/>
              <a:ext cx="149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340240" y="327636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692360" y="2008080"/>
              <a:ext cx="84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959200" y="2776320"/>
              <a:ext cx="65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456080" y="2776320"/>
              <a:ext cx="65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914800" y="2776320"/>
              <a:ext cx="65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3" name=""/>
          <p:cNvSpPr/>
          <p:nvPr/>
        </p:nvSpPr>
        <p:spPr>
          <a:xfrm>
            <a:off x="231840" y="350532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I način: Totalna dekompozi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1460520" y="4734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1460520" y="527220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 flipH="1">
            <a:off x="1460160" y="473400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2190600" y="4311720"/>
            <a:ext cx="149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H=q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1576440" y="5195880"/>
            <a:ext cx="53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070680" y="5157720"/>
            <a:ext cx="80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770040" y="47340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770040" y="52722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1460520" y="55022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846000" y="4734000"/>
            <a:ext cx="0" cy="538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1460520" y="59641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770040" y="4695840"/>
            <a:ext cx="84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2036880" y="5464080"/>
            <a:ext cx="65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5148360" y="523404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5224320" y="527220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6683400" y="527220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5186520" y="4965840"/>
            <a:ext cx="29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5186520" y="49658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541656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564660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 flipH="1">
            <a:off x="5877000" y="4465800"/>
            <a:ext cx="1440" cy="80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610884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633888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656892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679932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702936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7259760" y="4503600"/>
            <a:ext cx="0" cy="76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749124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772164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795168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814392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6875640" y="5195880"/>
            <a:ext cx="69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5186520" y="5464080"/>
            <a:ext cx="0" cy="6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6683400" y="5502240"/>
            <a:ext cx="0" cy="61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8143920" y="55022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5186520" y="5964120"/>
            <a:ext cx="1498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6645240" y="59641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5761080" y="5464080"/>
            <a:ext cx="6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7219800" y="5464080"/>
            <a:ext cx="6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2959200" y="55022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654120" y="5272200"/>
            <a:ext cx="76824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1460520" y="531000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2921040" y="5272200"/>
            <a:ext cx="76824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 flipV="1">
            <a:off x="2921040" y="531000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 flipH="1">
            <a:off x="4379400" y="5272200"/>
            <a:ext cx="7686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5186520" y="531036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 flipV="1">
            <a:off x="6684840" y="531000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 flipV="1">
            <a:off x="8143920" y="531180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3189240" y="454356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073320" y="546084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4379760" y="457848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4456080" y="546408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6684840" y="584532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8105760" y="584532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155520" y="461628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731880" y="542304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5992920" y="4311720"/>
            <a:ext cx="7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q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7297560" y="4311720"/>
            <a:ext cx="96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2q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"/>
          <p:cNvSpPr/>
          <p:nvPr/>
        </p:nvSpPr>
        <p:spPr>
          <a:xfrm>
            <a:off x="0" y="0"/>
            <a:ext cx="8497800" cy="59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elo I: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H=0      →     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H=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=0: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0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    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sr-Latn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0:Hxh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=0 →    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-Hh/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=-qℓ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elo II: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=0:-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0                      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=0:-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3qℓ =0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6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32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=0: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2ℓ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+qℓxℓ/2-2qℓxℓ=0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3" name=""/>
          <p:cNvGraphicFramePr/>
          <p:nvPr/>
        </p:nvGraphicFramePr>
        <p:xfrm>
          <a:off x="501480" y="2200320"/>
          <a:ext cx="289080" cy="65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2200320"/>
                    <a:ext cx="28908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5" name=""/>
          <p:cNvGraphicFramePr/>
          <p:nvPr/>
        </p:nvGraphicFramePr>
        <p:xfrm>
          <a:off x="501480" y="4888080"/>
          <a:ext cx="238320" cy="53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1480" y="4888080"/>
                    <a:ext cx="238320" cy="53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II način: Delimična dekompozi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573360" y="1509840"/>
            <a:ext cx="77760" cy="7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2112840" y="100980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2112840" y="154764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3649680" y="154764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5108400" y="154764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H="1">
            <a:off x="2112480" y="100980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3611520" y="1241280"/>
            <a:ext cx="29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3611520" y="1241280"/>
            <a:ext cx="0" cy="2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38419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407196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30200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45338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47642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499428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52243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5454720" y="741240"/>
            <a:ext cx="0" cy="8064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568476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591660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61466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63770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5689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2843280" y="587520"/>
            <a:ext cx="149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H=q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3265560" y="1509840"/>
            <a:ext cx="80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5416560" y="587520"/>
            <a:ext cx="107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3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1422360" y="10098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1422360" y="154764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2112840" y="17780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3611520" y="173988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5108400" y="177804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6568920" y="17780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1498680" y="1009800"/>
            <a:ext cx="0" cy="537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2112840" y="22399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3611520" y="22399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5070600" y="2239920"/>
            <a:ext cx="1498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1422360" y="971640"/>
            <a:ext cx="84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2689200" y="1739880"/>
            <a:ext cx="6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4186080" y="1739880"/>
            <a:ext cx="6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5645160" y="1739880"/>
            <a:ext cx="6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 flipV="1">
            <a:off x="211464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1305720" y="1547640"/>
            <a:ext cx="7686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 flipV="1">
            <a:off x="511020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 flipV="1">
            <a:off x="656892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615960" y="100980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1384200" y="165888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5072040" y="166212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6531120" y="158580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0" y="2928960"/>
            <a:ext cx="914400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=0: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H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0                  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H=q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=0: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3qℓ =0 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32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=0:-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2ℓ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2ℓ+Hℓ/2-3qℓℓ/2=0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3200" spc="-1" strike="noStrike" baseline="30000">
                <a:solidFill>
                  <a:srgbClr val="000000"/>
                </a:solidFill>
                <a:latin typeface="Times New Roman"/>
              </a:rPr>
              <a:t>(G)LEV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=0: Hℓ/2-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=0   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qℓ/2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 flipV="1">
            <a:off x="5110200" y="740880"/>
            <a:ext cx="0" cy="6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5110200" y="932040"/>
            <a:ext cx="344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4457880" y="625320"/>
            <a:ext cx="69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ℓ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8" name=""/>
          <p:cNvGraphicFramePr/>
          <p:nvPr/>
        </p:nvGraphicFramePr>
        <p:xfrm>
          <a:off x="539640" y="3803760"/>
          <a:ext cx="360360" cy="81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803760"/>
                    <a:ext cx="36036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0" name=""/>
          <p:cNvGraphicFramePr/>
          <p:nvPr/>
        </p:nvGraphicFramePr>
        <p:xfrm>
          <a:off x="539640" y="4235400"/>
          <a:ext cx="408240" cy="92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4235400"/>
                    <a:ext cx="40824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2" name=""/>
          <p:cNvSpPr/>
          <p:nvPr/>
        </p:nvSpPr>
        <p:spPr>
          <a:xfrm>
            <a:off x="3279600" y="1103400"/>
            <a:ext cx="675000" cy="1465200"/>
          </a:xfrm>
          <a:custGeom>
            <a:avLst/>
            <a:gdLst/>
            <a:ahLst/>
            <a:rect l="l" t="t" r="r" b="b"/>
            <a:pathLst>
              <a:path w="425" h="923">
                <a:moveTo>
                  <a:pt x="0" y="0"/>
                </a:moveTo>
                <a:cubicBezTo>
                  <a:pt x="3" y="9"/>
                  <a:pt x="4" y="19"/>
                  <a:pt x="9" y="27"/>
                </a:cubicBezTo>
                <a:cubicBezTo>
                  <a:pt x="14" y="35"/>
                  <a:pt x="25" y="37"/>
                  <a:pt x="28" y="46"/>
                </a:cubicBezTo>
                <a:cubicBezTo>
                  <a:pt x="35" y="69"/>
                  <a:pt x="31" y="95"/>
                  <a:pt x="37" y="119"/>
                </a:cubicBezTo>
                <a:cubicBezTo>
                  <a:pt x="47" y="158"/>
                  <a:pt x="79" y="180"/>
                  <a:pt x="110" y="201"/>
                </a:cubicBezTo>
                <a:cubicBezTo>
                  <a:pt x="130" y="232"/>
                  <a:pt x="139" y="244"/>
                  <a:pt x="174" y="256"/>
                </a:cubicBezTo>
                <a:cubicBezTo>
                  <a:pt x="228" y="310"/>
                  <a:pt x="202" y="290"/>
                  <a:pt x="247" y="320"/>
                </a:cubicBezTo>
                <a:cubicBezTo>
                  <a:pt x="253" y="329"/>
                  <a:pt x="257" y="339"/>
                  <a:pt x="265" y="347"/>
                </a:cubicBezTo>
                <a:cubicBezTo>
                  <a:pt x="273" y="355"/>
                  <a:pt x="289" y="356"/>
                  <a:pt x="293" y="366"/>
                </a:cubicBezTo>
                <a:cubicBezTo>
                  <a:pt x="314" y="419"/>
                  <a:pt x="294" y="470"/>
                  <a:pt x="339" y="512"/>
                </a:cubicBezTo>
                <a:cubicBezTo>
                  <a:pt x="351" y="536"/>
                  <a:pt x="363" y="561"/>
                  <a:pt x="375" y="585"/>
                </a:cubicBezTo>
                <a:cubicBezTo>
                  <a:pt x="386" y="607"/>
                  <a:pt x="377" y="634"/>
                  <a:pt x="384" y="658"/>
                </a:cubicBezTo>
                <a:cubicBezTo>
                  <a:pt x="387" y="669"/>
                  <a:pt x="397" y="677"/>
                  <a:pt x="403" y="686"/>
                </a:cubicBezTo>
                <a:cubicBezTo>
                  <a:pt x="425" y="751"/>
                  <a:pt x="403" y="674"/>
                  <a:pt x="403" y="804"/>
                </a:cubicBezTo>
                <a:cubicBezTo>
                  <a:pt x="403" y="844"/>
                  <a:pt x="412" y="883"/>
                  <a:pt x="412" y="92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-36360" y="5656320"/>
            <a:ext cx="9064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nutrašnje reakcije 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i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određujemo iz ravnoteže dela A-G (kao i kod luka sa tri zglob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Podeljeno (kontinualno) opterećenje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avnomerno raspodeljeno opterećenje 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5" name=""/>
          <p:cNvGrpSpPr/>
          <p:nvPr/>
        </p:nvGrpSpPr>
        <p:grpSpPr>
          <a:xfrm>
            <a:off x="1692360" y="1546200"/>
            <a:ext cx="6107040" cy="1844640"/>
            <a:chOff x="1692360" y="1546200"/>
            <a:chExt cx="6107040" cy="1844640"/>
          </a:xfrm>
        </p:grpSpPr>
        <p:sp>
          <p:nvSpPr>
            <p:cNvPr id="1546" name=""/>
            <p:cNvSpPr/>
            <p:nvPr/>
          </p:nvSpPr>
          <p:spPr>
            <a:xfrm>
              <a:off x="3843360" y="2468520"/>
              <a:ext cx="7776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382840" y="196848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382840" y="2506680"/>
              <a:ext cx="14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9" name="" descr=""/>
            <p:cNvPicPr/>
            <p:nvPr/>
          </p:nvPicPr>
          <p:blipFill>
            <a:blip r:embed="rId1"/>
            <a:stretch/>
          </p:blipFill>
          <p:spPr>
            <a:xfrm>
              <a:off x="2192400" y="2506680"/>
              <a:ext cx="384120" cy="26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>
              <a:off x="3919320" y="2506680"/>
              <a:ext cx="145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378400" y="2506680"/>
              <a:ext cx="14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2" name="" descr=""/>
            <p:cNvPicPr/>
            <p:nvPr/>
          </p:nvPicPr>
          <p:blipFill>
            <a:blip r:embed="rId2"/>
            <a:stretch/>
          </p:blipFill>
          <p:spPr>
            <a:xfrm>
              <a:off x="5187960" y="2506680"/>
              <a:ext cx="38412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3" name="" descr=""/>
            <p:cNvPicPr/>
            <p:nvPr/>
          </p:nvPicPr>
          <p:blipFill>
            <a:blip r:embed="rId3"/>
            <a:stretch/>
          </p:blipFill>
          <p:spPr>
            <a:xfrm>
              <a:off x="6608520" y="2506680"/>
              <a:ext cx="38448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4" name=""/>
            <p:cNvSpPr/>
            <p:nvPr/>
          </p:nvSpPr>
          <p:spPr>
            <a:xfrm flipH="1">
              <a:off x="2382480" y="1968480"/>
              <a:ext cx="654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881520" y="2200320"/>
              <a:ext cx="29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881520" y="220032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11156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34160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57200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80384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03388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26392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49432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72436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95476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18624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41664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64668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83892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112920" y="1546200"/>
              <a:ext cx="1498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H=q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498760" y="2430360"/>
              <a:ext cx="53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535200" y="2468520"/>
              <a:ext cx="80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570640" y="2430360"/>
              <a:ext cx="69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993000" y="2392200"/>
              <a:ext cx="80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456160" y="1585800"/>
              <a:ext cx="768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76" name=""/>
            <p:cNvCxnSpPr>
              <a:stCxn id="1561" idx="0"/>
              <a:endCxn id="1575" idx="1"/>
            </p:cNvCxnSpPr>
            <p:nvPr/>
          </p:nvCxnSpPr>
          <p:spPr>
            <a:xfrm flipH="1" flipV="1" rot="5400000">
              <a:off x="5082480" y="1826640"/>
              <a:ext cx="324720" cy="423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77" name=""/>
            <p:cNvSpPr/>
            <p:nvPr/>
          </p:nvSpPr>
          <p:spPr>
            <a:xfrm>
              <a:off x="1692360" y="1968480"/>
              <a:ext cx="53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692360" y="2506680"/>
              <a:ext cx="53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382840" y="2736720"/>
              <a:ext cx="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881520" y="2698560"/>
              <a:ext cx="0" cy="6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378400" y="2736720"/>
              <a:ext cx="0" cy="61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838920" y="2736720"/>
              <a:ext cx="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1768320" y="1968480"/>
              <a:ext cx="0" cy="53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382840" y="319860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881520" y="3198600"/>
              <a:ext cx="149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340240" y="319860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1692360" y="1930320"/>
              <a:ext cx="84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959200" y="2698560"/>
              <a:ext cx="65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456080" y="2698560"/>
              <a:ext cx="65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914800" y="2698560"/>
              <a:ext cx="65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1" name=""/>
          <p:cNvSpPr/>
          <p:nvPr/>
        </p:nvSpPr>
        <p:spPr>
          <a:xfrm>
            <a:off x="39600" y="3429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rougaono opterećen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2" name=""/>
          <p:cNvGrpSpPr/>
          <p:nvPr/>
        </p:nvGrpSpPr>
        <p:grpSpPr>
          <a:xfrm>
            <a:off x="693720" y="4235040"/>
            <a:ext cx="2571840" cy="384480"/>
            <a:chOff x="693720" y="4235040"/>
            <a:chExt cx="2571840" cy="384480"/>
          </a:xfrm>
        </p:grpSpPr>
        <p:sp>
          <p:nvSpPr>
            <p:cNvPr id="1593" name=""/>
            <p:cNvSpPr/>
            <p:nvPr/>
          </p:nvSpPr>
          <p:spPr>
            <a:xfrm>
              <a:off x="731880" y="4619520"/>
              <a:ext cx="253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V="1">
              <a:off x="693720" y="4235040"/>
              <a:ext cx="257184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265560" y="4235400"/>
              <a:ext cx="0" cy="38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073320" y="4273560"/>
              <a:ext cx="0" cy="34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882880" y="4311360"/>
              <a:ext cx="0" cy="30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690640" y="4311360"/>
              <a:ext cx="0" cy="30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498760" y="4351320"/>
              <a:ext cx="0" cy="26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306520" y="4389120"/>
              <a:ext cx="0" cy="23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114640" y="4427280"/>
              <a:ext cx="0" cy="192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1922400" y="4427280"/>
              <a:ext cx="0" cy="192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1730520" y="4465440"/>
              <a:ext cx="0" cy="15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538280" y="4503600"/>
              <a:ext cx="0" cy="11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1346040" y="4503600"/>
              <a:ext cx="0" cy="11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154160" y="4543200"/>
              <a:ext cx="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7" name=""/>
          <p:cNvSpPr/>
          <p:nvPr/>
        </p:nvSpPr>
        <p:spPr>
          <a:xfrm>
            <a:off x="3419640" y="4081320"/>
            <a:ext cx="57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8" name=""/>
          <p:cNvGrpSpPr/>
          <p:nvPr/>
        </p:nvGrpSpPr>
        <p:grpSpPr>
          <a:xfrm>
            <a:off x="4455720" y="3967200"/>
            <a:ext cx="384480" cy="2035080"/>
            <a:chOff x="4455720" y="3967200"/>
            <a:chExt cx="384480" cy="2035080"/>
          </a:xfrm>
        </p:grpSpPr>
        <p:sp>
          <p:nvSpPr>
            <p:cNvPr id="1609" name=""/>
            <p:cNvSpPr/>
            <p:nvPr/>
          </p:nvSpPr>
          <p:spPr>
            <a:xfrm>
              <a:off x="4455720" y="3997080"/>
              <a:ext cx="0" cy="20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456080" y="3967200"/>
              <a:ext cx="384120" cy="20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H="1">
              <a:off x="4455720" y="6002280"/>
              <a:ext cx="384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4455720" y="585000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H="1">
              <a:off x="4455720" y="5699520"/>
              <a:ext cx="308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H="1">
              <a:off x="4455720" y="5547240"/>
              <a:ext cx="308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H="1">
              <a:off x="4455720" y="5395320"/>
              <a:ext cx="26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H="1">
              <a:off x="4455720" y="5243400"/>
              <a:ext cx="230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H="1">
              <a:off x="4455720" y="5091480"/>
              <a:ext cx="192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H="1">
              <a:off x="4455720" y="4939200"/>
              <a:ext cx="192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H="1">
              <a:off x="4455720" y="4787640"/>
              <a:ext cx="154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H="1">
              <a:off x="4455720" y="4635360"/>
              <a:ext cx="115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H="1">
              <a:off x="4455720" y="4483080"/>
              <a:ext cx="115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H="1">
              <a:off x="4455720" y="4331520"/>
              <a:ext cx="76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3" name=""/>
          <p:cNvSpPr/>
          <p:nvPr/>
        </p:nvSpPr>
        <p:spPr>
          <a:xfrm>
            <a:off x="2612880" y="6116760"/>
            <a:ext cx="364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pterećenje vo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4" name=""/>
          <p:cNvGrpSpPr/>
          <p:nvPr/>
        </p:nvGrpSpPr>
        <p:grpSpPr>
          <a:xfrm>
            <a:off x="5684760" y="4695480"/>
            <a:ext cx="2535120" cy="538560"/>
            <a:chOff x="5684760" y="4695480"/>
            <a:chExt cx="2535120" cy="538560"/>
          </a:xfrm>
        </p:grpSpPr>
        <p:sp>
          <p:nvSpPr>
            <p:cNvPr id="1625" name=""/>
            <p:cNvSpPr/>
            <p:nvPr/>
          </p:nvSpPr>
          <p:spPr>
            <a:xfrm>
              <a:off x="5686200" y="5234040"/>
              <a:ext cx="253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V="1">
              <a:off x="5684760" y="4695480"/>
              <a:ext cx="253512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8219880" y="4695840"/>
              <a:ext cx="0" cy="53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8027640" y="4734000"/>
              <a:ext cx="0" cy="50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835760" y="4772160"/>
              <a:ext cx="0" cy="46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H="1">
              <a:off x="7643160" y="4772160"/>
              <a:ext cx="1800" cy="46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 flipH="1">
              <a:off x="7451640" y="4811760"/>
              <a:ext cx="1440" cy="42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H="1">
              <a:off x="7259040" y="4849920"/>
              <a:ext cx="1800" cy="38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>
              <a:off x="7067520" y="4887720"/>
              <a:ext cx="1440" cy="34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H="1">
              <a:off x="6875280" y="4887720"/>
              <a:ext cx="1440" cy="34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H="1">
              <a:off x="6682680" y="4925880"/>
              <a:ext cx="1800" cy="30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H="1">
              <a:off x="6491160" y="4964040"/>
              <a:ext cx="1440" cy="27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298920" y="5002200"/>
              <a:ext cx="0" cy="23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6107040" y="5003640"/>
              <a:ext cx="1440" cy="23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914800" y="5041800"/>
              <a:ext cx="0" cy="19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684760" y="507996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1" name=""/>
          <p:cNvSpPr/>
          <p:nvPr/>
        </p:nvSpPr>
        <p:spPr>
          <a:xfrm>
            <a:off x="4764240" y="4005360"/>
            <a:ext cx="43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rapezasto optereće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5070600" y="4735440"/>
            <a:ext cx="57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8220240" y="4657680"/>
            <a:ext cx="57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"/>
          <p:cNvSpPr/>
          <p:nvPr/>
        </p:nvSpPr>
        <p:spPr>
          <a:xfrm>
            <a:off x="250920" y="260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izvoljno raspodeljeno opterećen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5" name=""/>
          <p:cNvGrpSpPr/>
          <p:nvPr/>
        </p:nvGrpSpPr>
        <p:grpSpPr>
          <a:xfrm>
            <a:off x="77760" y="1509840"/>
            <a:ext cx="3993120" cy="2495520"/>
            <a:chOff x="77760" y="1509840"/>
            <a:chExt cx="3993120" cy="2495520"/>
          </a:xfrm>
        </p:grpSpPr>
        <p:sp>
          <p:nvSpPr>
            <p:cNvPr id="1646" name=""/>
            <p:cNvSpPr/>
            <p:nvPr/>
          </p:nvSpPr>
          <p:spPr>
            <a:xfrm>
              <a:off x="1998720" y="2200320"/>
              <a:ext cx="460080" cy="10382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H="1">
              <a:off x="77760" y="2200320"/>
              <a:ext cx="3993120" cy="7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40" y="1010"/>
                  </a:moveTo>
                  <a:arcTo wR="10800" hR="10800" stAng="-6898600" swAng="6898600"/>
                  <a:lnTo>
                    <a:pt x="10800" y="10800"/>
                  </a:lnTo>
                  <a:close/>
                </a:path>
                <a:path fill="none" w="21600" h="21600">
                  <a:moveTo>
                    <a:pt x="6240" y="1010"/>
                  </a:moveTo>
                  <a:arcTo wR="10800" hR="10800" stAng="-6898600" swAng="68986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7760" y="3238560"/>
              <a:ext cx="284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921040" y="2239920"/>
              <a:ext cx="0" cy="9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690640" y="2239920"/>
              <a:ext cx="0" cy="9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458800" y="2200320"/>
              <a:ext cx="0" cy="103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228760" y="1855800"/>
              <a:ext cx="0" cy="138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998720" y="2200320"/>
              <a:ext cx="0" cy="103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768320" y="2200320"/>
              <a:ext cx="0" cy="10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538280" y="1855800"/>
              <a:ext cx="0" cy="138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307880" y="2239920"/>
              <a:ext cx="0" cy="9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076400" y="2278080"/>
              <a:ext cx="0" cy="9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807840" y="2278080"/>
              <a:ext cx="0" cy="9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77800" y="2354400"/>
              <a:ext cx="0" cy="8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47400" y="2392560"/>
              <a:ext cx="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7760" y="2546640"/>
              <a:ext cx="0" cy="69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7760" y="3276720"/>
              <a:ext cx="0" cy="72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998720" y="331488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458800" y="331488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921040" y="3314880"/>
              <a:ext cx="0" cy="61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7760" y="350676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998720" y="3506760"/>
              <a:ext cx="46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7760" y="3853080"/>
              <a:ext cx="284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038240" y="3006720"/>
              <a:ext cx="38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998720" y="3006720"/>
              <a:ext cx="61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384200" y="3387960"/>
              <a:ext cx="42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2266920" y="1624320"/>
              <a:ext cx="69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d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538280" y="1624320"/>
              <a:ext cx="61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V="1">
              <a:off x="77760" y="1739520"/>
              <a:ext cx="0" cy="69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7760" y="2008440"/>
              <a:ext cx="142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15960" y="1509840"/>
              <a:ext cx="42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77" name=""/>
          <p:cNvGraphicFramePr/>
          <p:nvPr/>
        </p:nvGraphicFramePr>
        <p:xfrm>
          <a:off x="3035160" y="1184400"/>
          <a:ext cx="6108840" cy="451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35160" y="1184400"/>
                    <a:ext cx="610884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9" name=""/>
          <p:cNvGrpSpPr/>
          <p:nvPr/>
        </p:nvGrpSpPr>
        <p:grpSpPr>
          <a:xfrm>
            <a:off x="726840" y="663480"/>
            <a:ext cx="5266080" cy="3444480"/>
            <a:chOff x="726840" y="663480"/>
            <a:chExt cx="5266080" cy="3444480"/>
          </a:xfrm>
        </p:grpSpPr>
        <p:sp>
          <p:nvSpPr>
            <p:cNvPr id="1680" name=""/>
            <p:cNvSpPr/>
            <p:nvPr/>
          </p:nvSpPr>
          <p:spPr>
            <a:xfrm rot="20257200">
              <a:off x="928800" y="1433160"/>
              <a:ext cx="4340160" cy="1920600"/>
            </a:xfrm>
            <a:prstGeom prst="cube">
              <a:avLst>
                <a:gd name="adj" fmla="val 2500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 flipV="1">
              <a:off x="808200" y="1162080"/>
              <a:ext cx="5184720" cy="23032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4724640" y="663480"/>
              <a:ext cx="307800" cy="192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4494240" y="1278000"/>
              <a:ext cx="768600" cy="69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4" name=""/>
          <p:cNvSpPr/>
          <p:nvPr/>
        </p:nvSpPr>
        <p:spPr>
          <a:xfrm flipV="1">
            <a:off x="1076400" y="433080"/>
            <a:ext cx="3571920" cy="142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1076400" y="185436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1384200" y="173988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1652760" y="1623960"/>
            <a:ext cx="11556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1884240" y="1547640"/>
            <a:ext cx="115920" cy="2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2151000" y="143208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2421000" y="131760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2651040" y="123984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2919240" y="112392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3227400" y="100980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3533760" y="89388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3803760" y="77940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4071960" y="663480"/>
            <a:ext cx="115920" cy="2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4303800" y="587520"/>
            <a:ext cx="114120" cy="23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4495680" y="509760"/>
            <a:ext cx="114480" cy="23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4610160" y="433440"/>
            <a:ext cx="114120" cy="23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461880" y="289080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5494320" y="50976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5570640" y="1469880"/>
            <a:ext cx="3573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=p</a:t>
            </a:r>
            <a:r>
              <a:rPr b="1" i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/2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m/m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770040" y="1123920"/>
            <a:ext cx="422280" cy="96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501480" y="1816200"/>
            <a:ext cx="422280" cy="96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 flipH="1">
            <a:off x="693360" y="1508040"/>
            <a:ext cx="230040" cy="654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461880" y="1274760"/>
            <a:ext cx="4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"/>
          <p:cNvSpPr/>
          <p:nvPr/>
        </p:nvSpPr>
        <p:spPr>
          <a:xfrm>
            <a:off x="0" y="2030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Optere</a:t>
            </a: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ćenje zadato po kosoj rav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8" name=""/>
          <p:cNvGrpSpPr/>
          <p:nvPr/>
        </p:nvGrpSpPr>
        <p:grpSpPr>
          <a:xfrm>
            <a:off x="808200" y="819000"/>
            <a:ext cx="7449840" cy="5759280"/>
            <a:chOff x="808200" y="819000"/>
            <a:chExt cx="7449840" cy="5759280"/>
          </a:xfrm>
        </p:grpSpPr>
        <p:sp>
          <p:nvSpPr>
            <p:cNvPr id="1709" name=""/>
            <p:cNvSpPr/>
            <p:nvPr/>
          </p:nvSpPr>
          <p:spPr>
            <a:xfrm flipV="1">
              <a:off x="846000" y="1739520"/>
              <a:ext cx="149868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808200" y="1317600"/>
              <a:ext cx="39600" cy="20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344680" y="1279440"/>
              <a:ext cx="0" cy="20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2" name=""/>
            <p:cNvGrpSpPr/>
            <p:nvPr/>
          </p:nvGrpSpPr>
          <p:grpSpPr>
            <a:xfrm>
              <a:off x="846000" y="1393920"/>
              <a:ext cx="1498680" cy="231480"/>
              <a:chOff x="846000" y="1393920"/>
              <a:chExt cx="1498680" cy="231480"/>
            </a:xfrm>
          </p:grpSpPr>
          <p:sp>
            <p:nvSpPr>
              <p:cNvPr id="1713" name=""/>
              <p:cNvSpPr/>
              <p:nvPr/>
            </p:nvSpPr>
            <p:spPr>
              <a:xfrm>
                <a:off x="846000" y="1393920"/>
                <a:ext cx="1498680" cy="231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84600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173052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188424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203688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219060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234468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100008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115416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30824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46196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161604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5" name=""/>
            <p:cNvSpPr/>
            <p:nvPr/>
          </p:nvSpPr>
          <p:spPr>
            <a:xfrm>
              <a:off x="1460520" y="819000"/>
              <a:ext cx="30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26" name=""/>
            <p:cNvGraphicFramePr/>
            <p:nvPr/>
          </p:nvGraphicFramePr>
          <p:xfrm>
            <a:off x="2536920" y="2008080"/>
            <a:ext cx="345960" cy="346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2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36920" y="2008080"/>
                      <a:ext cx="34596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28" name=""/>
            <p:cNvGraphicFramePr/>
            <p:nvPr/>
          </p:nvGraphicFramePr>
          <p:xfrm>
            <a:off x="4379760" y="2058840"/>
            <a:ext cx="422280" cy="422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2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79760" y="2058840"/>
                      <a:ext cx="422280" cy="42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30" name=""/>
            <p:cNvSpPr/>
            <p:nvPr/>
          </p:nvSpPr>
          <p:spPr>
            <a:xfrm flipV="1">
              <a:off x="3035160" y="1739520"/>
              <a:ext cx="149868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919680" y="196992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071960" y="185400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226040" y="1738440"/>
              <a:ext cx="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379760" y="162396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533840" y="1509840"/>
              <a:ext cx="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613320" y="2238480"/>
              <a:ext cx="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765600" y="208584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 flipV="1">
              <a:off x="3035160" y="1509480"/>
              <a:ext cx="149868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846000" y="2892240"/>
              <a:ext cx="76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076400" y="2427120"/>
              <a:ext cx="42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231920" y="2508120"/>
              <a:ext cx="228240" cy="7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346040" y="1817640"/>
              <a:ext cx="49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846000" y="323856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038240" y="2738520"/>
              <a:ext cx="119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s</a:t>
              </a:r>
              <a:r>
                <a:rPr b="0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 rot="19366800">
              <a:off x="3035520" y="1471320"/>
              <a:ext cx="130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qcos</a:t>
              </a:r>
              <a:r>
                <a:rPr b="0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459160" y="819000"/>
              <a:ext cx="2381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cos</a:t>
              </a:r>
              <a:r>
                <a:rPr b="0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q</a:t>
              </a:r>
              <a:r>
                <a:rPr b="0" i="1" lang="sr-Latn-CS" sz="32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V="1">
              <a:off x="4878360" y="1739520"/>
              <a:ext cx="149868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 flipV="1">
              <a:off x="6721560" y="1739520"/>
              <a:ext cx="149868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995720" y="2392200"/>
              <a:ext cx="19224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149800" y="2278080"/>
              <a:ext cx="19224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5303880" y="2162160"/>
              <a:ext cx="19188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5457960" y="2047680"/>
              <a:ext cx="19188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5608800" y="1932120"/>
              <a:ext cx="19188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5800680" y="1778040"/>
              <a:ext cx="19224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5992920" y="1663560"/>
              <a:ext cx="19188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146640" y="1509840"/>
              <a:ext cx="19224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V="1">
              <a:off x="4687920" y="1509480"/>
              <a:ext cx="1458720" cy="11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992920" y="1969920"/>
              <a:ext cx="42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6492960" y="2662200"/>
              <a:ext cx="19044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7989840" y="1471680"/>
              <a:ext cx="19224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V="1">
              <a:off x="6491160" y="1471320"/>
              <a:ext cx="149868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H="1">
              <a:off x="7835760" y="1701720"/>
              <a:ext cx="23184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>
              <a:off x="7451640" y="1969920"/>
              <a:ext cx="23184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>
              <a:off x="7068960" y="2316240"/>
              <a:ext cx="23184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6684840" y="2624040"/>
              <a:ext cx="23184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 rot="19366800">
              <a:off x="4621680" y="1393200"/>
              <a:ext cx="171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cos</a:t>
              </a:r>
              <a:r>
                <a:rPr b="1" i="1" lang="sr-Latn-CS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 rot="19366800">
              <a:off x="6301080" y="1414080"/>
              <a:ext cx="19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cos</a:t>
              </a:r>
              <a:r>
                <a:rPr b="1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in</a:t>
              </a:r>
              <a:r>
                <a:rPr b="1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8" name=""/>
            <p:cNvGrpSpPr/>
            <p:nvPr/>
          </p:nvGrpSpPr>
          <p:grpSpPr>
            <a:xfrm>
              <a:off x="1037880" y="5406840"/>
              <a:ext cx="5223240" cy="1171440"/>
              <a:chOff x="1037880" y="5406840"/>
              <a:chExt cx="5223240" cy="1171440"/>
            </a:xfrm>
          </p:grpSpPr>
          <p:sp>
            <p:nvSpPr>
              <p:cNvPr id="1769" name=""/>
              <p:cNvSpPr/>
              <p:nvPr/>
            </p:nvSpPr>
            <p:spPr>
              <a:xfrm>
                <a:off x="1268280" y="6021360"/>
                <a:ext cx="2649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130644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1" name=""/>
              <p:cNvGrpSpPr/>
              <p:nvPr/>
            </p:nvGrpSpPr>
            <p:grpSpPr>
              <a:xfrm>
                <a:off x="1037880" y="6021360"/>
                <a:ext cx="268200" cy="423720"/>
                <a:chOff x="1037880" y="6021360"/>
                <a:chExt cx="268200" cy="423720"/>
              </a:xfrm>
            </p:grpSpPr>
            <p:sp>
              <p:nvSpPr>
                <p:cNvPr id="1772" name=""/>
                <p:cNvSpPr/>
                <p:nvPr/>
              </p:nvSpPr>
              <p:spPr>
                <a:xfrm flipH="1">
                  <a:off x="10378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 flipH="1">
                  <a:off x="11145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4" name=""/>
              <p:cNvGrpSpPr/>
              <p:nvPr/>
            </p:nvGrpSpPr>
            <p:grpSpPr>
              <a:xfrm>
                <a:off x="1306080" y="6021360"/>
                <a:ext cx="268200" cy="423720"/>
                <a:chOff x="1306080" y="6021360"/>
                <a:chExt cx="268200" cy="423720"/>
              </a:xfrm>
            </p:grpSpPr>
            <p:sp>
              <p:nvSpPr>
                <p:cNvPr id="1775" name=""/>
                <p:cNvSpPr/>
                <p:nvPr/>
              </p:nvSpPr>
              <p:spPr>
                <a:xfrm flipH="1">
                  <a:off x="13060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 flipH="1">
                  <a:off x="13827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7" name=""/>
              <p:cNvGrpSpPr/>
              <p:nvPr/>
            </p:nvGrpSpPr>
            <p:grpSpPr>
              <a:xfrm>
                <a:off x="1576080" y="6021360"/>
                <a:ext cx="268200" cy="423720"/>
                <a:chOff x="1576080" y="6021360"/>
                <a:chExt cx="268200" cy="423720"/>
              </a:xfrm>
            </p:grpSpPr>
            <p:sp>
              <p:nvSpPr>
                <p:cNvPr id="1778" name=""/>
                <p:cNvSpPr/>
                <p:nvPr/>
              </p:nvSpPr>
              <p:spPr>
                <a:xfrm flipH="1">
                  <a:off x="15760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 flipH="1">
                  <a:off x="16527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0" name=""/>
              <p:cNvGrpSpPr/>
              <p:nvPr/>
            </p:nvGrpSpPr>
            <p:grpSpPr>
              <a:xfrm>
                <a:off x="1844280" y="6021360"/>
                <a:ext cx="268200" cy="423720"/>
                <a:chOff x="1844280" y="6021360"/>
                <a:chExt cx="268200" cy="423720"/>
              </a:xfrm>
            </p:grpSpPr>
            <p:sp>
              <p:nvSpPr>
                <p:cNvPr id="1781" name=""/>
                <p:cNvSpPr/>
                <p:nvPr/>
              </p:nvSpPr>
              <p:spPr>
                <a:xfrm flipH="1">
                  <a:off x="18442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 flipH="1">
                  <a:off x="19209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3" name=""/>
              <p:cNvGrpSpPr/>
              <p:nvPr/>
            </p:nvGrpSpPr>
            <p:grpSpPr>
              <a:xfrm>
                <a:off x="2112480" y="6021360"/>
                <a:ext cx="268200" cy="423720"/>
                <a:chOff x="2112480" y="6021360"/>
                <a:chExt cx="268200" cy="423720"/>
              </a:xfrm>
            </p:grpSpPr>
            <p:sp>
              <p:nvSpPr>
                <p:cNvPr id="1784" name=""/>
                <p:cNvSpPr/>
                <p:nvPr/>
              </p:nvSpPr>
              <p:spPr>
                <a:xfrm flipH="1">
                  <a:off x="21124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 flipH="1">
                  <a:off x="21891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6" name=""/>
              <p:cNvGrpSpPr/>
              <p:nvPr/>
            </p:nvGrpSpPr>
            <p:grpSpPr>
              <a:xfrm>
                <a:off x="2382480" y="6021360"/>
                <a:ext cx="268200" cy="423720"/>
                <a:chOff x="2382480" y="6021360"/>
                <a:chExt cx="268200" cy="423720"/>
              </a:xfrm>
            </p:grpSpPr>
            <p:sp>
              <p:nvSpPr>
                <p:cNvPr id="1787" name=""/>
                <p:cNvSpPr/>
                <p:nvPr/>
              </p:nvSpPr>
              <p:spPr>
                <a:xfrm flipH="1">
                  <a:off x="23824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 flipH="1">
                  <a:off x="24591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9" name=""/>
              <p:cNvGrpSpPr/>
              <p:nvPr/>
            </p:nvGrpSpPr>
            <p:grpSpPr>
              <a:xfrm>
                <a:off x="2650680" y="6021360"/>
                <a:ext cx="268200" cy="423720"/>
                <a:chOff x="2650680" y="6021360"/>
                <a:chExt cx="268200" cy="423720"/>
              </a:xfrm>
            </p:grpSpPr>
            <p:sp>
              <p:nvSpPr>
                <p:cNvPr id="1790" name=""/>
                <p:cNvSpPr/>
                <p:nvPr/>
              </p:nvSpPr>
              <p:spPr>
                <a:xfrm flipH="1">
                  <a:off x="26506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 flipH="1">
                  <a:off x="27273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2" name=""/>
              <p:cNvGrpSpPr/>
              <p:nvPr/>
            </p:nvGrpSpPr>
            <p:grpSpPr>
              <a:xfrm>
                <a:off x="2919240" y="6021360"/>
                <a:ext cx="268200" cy="423720"/>
                <a:chOff x="2919240" y="6021360"/>
                <a:chExt cx="268200" cy="423720"/>
              </a:xfrm>
            </p:grpSpPr>
            <p:sp>
              <p:nvSpPr>
                <p:cNvPr id="1793" name=""/>
                <p:cNvSpPr/>
                <p:nvPr/>
              </p:nvSpPr>
              <p:spPr>
                <a:xfrm flipH="1">
                  <a:off x="291924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 flipH="1">
                  <a:off x="299592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5" name=""/>
              <p:cNvGrpSpPr/>
              <p:nvPr/>
            </p:nvGrpSpPr>
            <p:grpSpPr>
              <a:xfrm>
                <a:off x="3150720" y="6021360"/>
                <a:ext cx="268200" cy="423720"/>
                <a:chOff x="3150720" y="6021360"/>
                <a:chExt cx="268200" cy="423720"/>
              </a:xfrm>
            </p:grpSpPr>
            <p:sp>
              <p:nvSpPr>
                <p:cNvPr id="1796" name=""/>
                <p:cNvSpPr/>
                <p:nvPr/>
              </p:nvSpPr>
              <p:spPr>
                <a:xfrm flipH="1">
                  <a:off x="315072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 flipH="1">
                  <a:off x="322740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8" name=""/>
              <p:cNvGrpSpPr/>
              <p:nvPr/>
            </p:nvGrpSpPr>
            <p:grpSpPr>
              <a:xfrm>
                <a:off x="3419280" y="6021360"/>
                <a:ext cx="268200" cy="423720"/>
                <a:chOff x="3419280" y="6021360"/>
                <a:chExt cx="268200" cy="423720"/>
              </a:xfrm>
            </p:grpSpPr>
            <p:sp>
              <p:nvSpPr>
                <p:cNvPr id="1799" name=""/>
                <p:cNvSpPr/>
                <p:nvPr/>
              </p:nvSpPr>
              <p:spPr>
                <a:xfrm flipH="1">
                  <a:off x="34192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 flipH="1">
                  <a:off x="34959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1" name=""/>
              <p:cNvGrpSpPr/>
              <p:nvPr/>
            </p:nvGrpSpPr>
            <p:grpSpPr>
              <a:xfrm>
                <a:off x="3649320" y="6021360"/>
                <a:ext cx="268200" cy="423720"/>
                <a:chOff x="3649320" y="6021360"/>
                <a:chExt cx="268200" cy="423720"/>
              </a:xfrm>
            </p:grpSpPr>
            <p:sp>
              <p:nvSpPr>
                <p:cNvPr id="1802" name=""/>
                <p:cNvSpPr/>
                <p:nvPr/>
              </p:nvSpPr>
              <p:spPr>
                <a:xfrm flipH="1">
                  <a:off x="364932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 flipH="1">
                  <a:off x="372600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4" name=""/>
              <p:cNvSpPr/>
              <p:nvPr/>
            </p:nvSpPr>
            <p:spPr>
              <a:xfrm>
                <a:off x="157500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184464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11284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238140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265104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291960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318780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341964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368784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391788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1268280" y="5599080"/>
                <a:ext cx="264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1038240" y="6405480"/>
                <a:ext cx="2649600" cy="3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816" name=""/>
              <p:cNvGraphicFramePr/>
              <p:nvPr/>
            </p:nvGraphicFramePr>
            <p:xfrm>
              <a:off x="4148280" y="5406840"/>
              <a:ext cx="2112840" cy="11714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81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148280" y="5406840"/>
                        <a:ext cx="2112840" cy="1171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818" name=""/>
            <p:cNvSpPr/>
            <p:nvPr/>
          </p:nvSpPr>
          <p:spPr>
            <a:xfrm>
              <a:off x="3035160" y="266220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151080" y="258444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3305160" y="2432160"/>
              <a:ext cx="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3459240" y="2354400"/>
              <a:ext cx="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4687920" y="2662200"/>
              <a:ext cx="19188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842000" y="2508120"/>
              <a:ext cx="19188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3497400" y="3544920"/>
              <a:ext cx="0" cy="12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3497400" y="3544920"/>
              <a:ext cx="57456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>
              <a:off x="3457080" y="4236840"/>
              <a:ext cx="65412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419640" y="3579840"/>
              <a:ext cx="42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V="1">
              <a:off x="3191400" y="3850920"/>
              <a:ext cx="612000" cy="30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26179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26179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 rot="16200000">
              <a:off x="2575440" y="3792960"/>
              <a:ext cx="130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qcos</a:t>
              </a:r>
              <a:r>
                <a:rPr b="0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 rot="3193800">
              <a:off x="3271320" y="3575160"/>
              <a:ext cx="171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cos</a:t>
              </a:r>
              <a:r>
                <a:rPr b="1" i="1" lang="sr-Latn-CS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 rot="19366800">
              <a:off x="3165840" y="4271400"/>
              <a:ext cx="19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cos</a:t>
              </a:r>
              <a:r>
                <a:rPr b="1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in</a:t>
              </a:r>
              <a:r>
                <a:rPr b="1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539640" y="0"/>
          <a:ext cx="5199120" cy="23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0"/>
                    <a:ext cx="519912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"/>
          <p:cNvSpPr/>
          <p:nvPr/>
        </p:nvSpPr>
        <p:spPr>
          <a:xfrm>
            <a:off x="7596360" y="2992320"/>
            <a:ext cx="360360" cy="2872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80360" y="3279600"/>
            <a:ext cx="792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7380000" y="3424320"/>
            <a:ext cx="792360" cy="142560"/>
            <a:chOff x="7380000" y="3424320"/>
            <a:chExt cx="792360" cy="142560"/>
          </a:xfrm>
        </p:grpSpPr>
        <p:sp>
          <p:nvSpPr>
            <p:cNvPr id="331" name=""/>
            <p:cNvSpPr/>
            <p:nvPr/>
          </p:nvSpPr>
          <p:spPr>
            <a:xfrm>
              <a:off x="7380360" y="342432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7380000" y="342432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7596000" y="342432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7812000" y="342432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8028000" y="342432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 rot="10800000">
            <a:off x="1258920" y="1048680"/>
            <a:ext cx="6480000" cy="1942920"/>
          </a:xfrm>
          <a:custGeom>
            <a:avLst/>
            <a:gdLst>
              <a:gd name="textAreaLeft" fmla="*/ 1424880 w 6480000"/>
              <a:gd name="textAreaRight" fmla="*/ 5055120 w 6480000"/>
              <a:gd name="textAreaTop" fmla="*/ 427320 h 1942920"/>
              <a:gd name="textAreaBottom" fmla="*/ 1515600 h 19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914560" y="1049400"/>
            <a:ext cx="158436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4498920" y="1049400"/>
            <a:ext cx="165744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843280" y="97632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083280" y="97632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187280" y="292104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67640" y="29210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427640" y="29210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2708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740720" y="24163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6192360" y="1058760"/>
            <a:ext cx="1274040" cy="180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099280" y="104940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099280" y="299232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820000" y="1049400"/>
            <a:ext cx="0" cy="19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8604000" y="90504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8604000" y="28494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500720" y="306540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268720" y="6159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013800" y="4730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805080" y="473040"/>
            <a:ext cx="7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16200000">
            <a:off x="8389800" y="176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 flipV="1">
            <a:off x="1213920" y="1793880"/>
            <a:ext cx="16560" cy="122112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750800" y="2923200"/>
            <a:ext cx="5040" cy="1205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288600" y="299736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270440" y="1484280"/>
            <a:ext cx="58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896600" y="3641760"/>
            <a:ext cx="58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 flipV="1">
            <a:off x="1006920" y="4197600"/>
            <a:ext cx="4512960" cy="15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1680" bIns="-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485440" y="3645000"/>
            <a:ext cx="7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-112680" y="4503600"/>
            <a:ext cx="1154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B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=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023120" y="4212360"/>
            <a:ext cx="26640" cy="124668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026720" y="4245840"/>
            <a:ext cx="4517280" cy="116208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847160" y="449100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346760" y="2957760"/>
            <a:ext cx="4434480" cy="12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560" bIns="-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1222560" y="1814760"/>
            <a:ext cx="4517640" cy="1161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187280" y="1844640"/>
            <a:ext cx="4537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5724360" y="1844640"/>
            <a:ext cx="0" cy="1152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567880" y="198900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0000" y="4816440"/>
            <a:ext cx="702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Kremonina metoda započinje crtanj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oligon</a:t>
            </a: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spolja</a:t>
            </a: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šnjih sila (mora biti zatvoren), obilaženjem rešetke u smeru kazaljke na satu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3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9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5940360" y="23760"/>
          <a:ext cx="1346400" cy="11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23760"/>
                    <a:ext cx="134640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 flipH="1">
            <a:off x="3131640" y="450864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24360" y="587700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7236000" y="4581360"/>
            <a:ext cx="158400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4320000" y="4503960"/>
            <a:ext cx="4512960" cy="15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1680" bIns="-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941440" y="3789360"/>
            <a:ext cx="7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7765560" y="4525920"/>
            <a:ext cx="1035720" cy="13914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4357800" y="5869080"/>
            <a:ext cx="3507480" cy="25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112920" y="4797360"/>
            <a:ext cx="1190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=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4302360" y="4516920"/>
            <a:ext cx="31320" cy="132516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10800000">
            <a:off x="1402920" y="548640"/>
            <a:ext cx="6480360" cy="1942920"/>
          </a:xfrm>
          <a:custGeom>
            <a:avLst/>
            <a:gdLst>
              <a:gd name="textAreaLeft" fmla="*/ 1424880 w 6480360"/>
              <a:gd name="textAreaRight" fmla="*/ 5055480 w 6480360"/>
              <a:gd name="textAreaTop" fmla="*/ 427320 h 1942920"/>
              <a:gd name="textAreaBottom" fmla="*/ 1515600 h 19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059280" y="549360"/>
            <a:ext cx="158400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4643280" y="549360"/>
            <a:ext cx="165744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987640" y="476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47628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332000" y="2421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812000" y="2421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572000" y="2421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73080" y="1844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6335280" y="550440"/>
            <a:ext cx="3019320" cy="720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87640" y="476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09440" y="98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620360" y="1125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013080" y="19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293800" y="141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16544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573080" y="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639520" y="134136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882920" y="2522160"/>
            <a:ext cx="26640" cy="124704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956720" y="278136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484400" y="0"/>
            <a:ext cx="7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4289760" y="4551480"/>
            <a:ext cx="4565160" cy="128376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160240" y="479736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1547640" y="1700280"/>
            <a:ext cx="503280" cy="576360"/>
          </a:xfrm>
          <a:prstGeom prst="line">
            <a:avLst/>
          </a:prstGeom>
          <a:ln w="76320">
            <a:solidFill>
              <a:srgbClr val="00ff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1835280" y="2492280"/>
            <a:ext cx="645840" cy="0"/>
          </a:xfrm>
          <a:prstGeom prst="line">
            <a:avLst/>
          </a:prstGeom>
          <a:ln w="76320">
            <a:solidFill>
              <a:srgbClr val="00ff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701440" y="249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492360" y="2492280"/>
            <a:ext cx="719280" cy="0"/>
          </a:xfrm>
          <a:prstGeom prst="line">
            <a:avLst/>
          </a:prstGeom>
          <a:ln w="76320">
            <a:solidFill>
              <a:srgbClr val="33cc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2340000" y="836640"/>
            <a:ext cx="431640" cy="504720"/>
          </a:xfrm>
          <a:prstGeom prst="line">
            <a:avLst/>
          </a:prstGeom>
          <a:ln w="76320">
            <a:solidFill>
              <a:srgbClr val="ff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7812000" y="4508280"/>
            <a:ext cx="1008000" cy="136836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443640" y="4149720"/>
            <a:ext cx="2160720" cy="27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732720" y="4508640"/>
            <a:ext cx="2087280" cy="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3347640" y="549360"/>
            <a:ext cx="863640" cy="0"/>
          </a:xfrm>
          <a:prstGeom prst="line">
            <a:avLst/>
          </a:prstGeom>
          <a:ln w="76320">
            <a:solidFill>
              <a:srgbClr val="ff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732720" y="4508640"/>
            <a:ext cx="1079280" cy="136836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03640" y="765000"/>
            <a:ext cx="431640" cy="503280"/>
          </a:xfrm>
          <a:prstGeom prst="line">
            <a:avLst/>
          </a:prstGeom>
          <a:ln w="76320">
            <a:solidFill>
              <a:srgbClr val="ff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539640" y="1341360"/>
          <a:ext cx="946440" cy="16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341360"/>
                    <a:ext cx="946440" cy="16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"/>
          <p:cNvGraphicFramePr/>
          <p:nvPr/>
        </p:nvGraphicFramePr>
        <p:xfrm>
          <a:off x="2268360" y="6480"/>
          <a:ext cx="156060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68360" y="6480"/>
                    <a:ext cx="15606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7389720" y="2124000"/>
          <a:ext cx="1214640" cy="116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89720" y="2124000"/>
                    <a:ext cx="121464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3851280" y="2708280"/>
          <a:ext cx="1739880" cy="614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51280" y="2708280"/>
                    <a:ext cx="173988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"/>
          <p:cNvSpPr/>
          <p:nvPr/>
        </p:nvSpPr>
        <p:spPr>
          <a:xfrm>
            <a:off x="5076720" y="549360"/>
            <a:ext cx="71928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659640" y="4508640"/>
            <a:ext cx="2160360" cy="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924360" y="4005360"/>
            <a:ext cx="158436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4788000" y="4149720"/>
            <a:ext cx="223200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1460880" y="1166760"/>
            <a:ext cx="4565160" cy="128376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356000" y="4508640"/>
            <a:ext cx="1152720" cy="136836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5508720" y="4437000"/>
            <a:ext cx="1224000" cy="144000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5651640" y="691920"/>
            <a:ext cx="504720" cy="64908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516720" y="836640"/>
            <a:ext cx="431640" cy="57636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 flipV="1">
            <a:off x="7235640" y="1700280"/>
            <a:ext cx="431640" cy="503280"/>
          </a:xfrm>
          <a:prstGeom prst="line">
            <a:avLst/>
          </a:prstGeom>
          <a:ln w="76320">
            <a:solidFill>
              <a:srgbClr val="ffff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 flipV="1">
            <a:off x="4356000" y="4508280"/>
            <a:ext cx="1152720" cy="13683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284720" y="5877000"/>
            <a:ext cx="12240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020000" y="2492280"/>
            <a:ext cx="72072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5076360" y="2492280"/>
            <a:ext cx="646200" cy="0"/>
          </a:xfrm>
          <a:prstGeom prst="line">
            <a:avLst/>
          </a:prstGeom>
          <a:ln w="76320">
            <a:solidFill>
              <a:srgbClr val="33cc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4284720" y="5877000"/>
            <a:ext cx="1149120" cy="0"/>
          </a:xfrm>
          <a:prstGeom prst="line">
            <a:avLst/>
          </a:prstGeom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284720" y="5877000"/>
            <a:ext cx="3527280" cy="0"/>
          </a:xfrm>
          <a:prstGeom prst="line">
            <a:avLst/>
          </a:prstGeom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6730560" y="4508280"/>
            <a:ext cx="1081080" cy="1369800"/>
          </a:xfrm>
          <a:prstGeom prst="line">
            <a:avLst/>
          </a:prstGeom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4140000" y="1844640"/>
            <a:ext cx="360360" cy="432000"/>
          </a:xfrm>
          <a:prstGeom prst="line">
            <a:avLst/>
          </a:prstGeom>
          <a:ln w="76320">
            <a:solidFill>
              <a:srgbClr val="33cc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5508360" y="4508640"/>
            <a:ext cx="1152360" cy="1368360"/>
          </a:xfrm>
          <a:prstGeom prst="line">
            <a:avLst/>
          </a:prstGeom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4859280" y="1700280"/>
            <a:ext cx="433440" cy="504720"/>
          </a:xfrm>
          <a:prstGeom prst="line">
            <a:avLst/>
          </a:prstGeom>
          <a:ln w="76320">
            <a:solidFill>
              <a:srgbClr val="33cc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34920" y="3254400"/>
          <a:ext cx="3024360" cy="3342960"/>
        </p:xfrm>
        <a:graphic>
          <a:graphicData uri="http://schemas.openxmlformats.org/drawingml/2006/table">
            <a:tbl>
              <a:tblPr/>
              <a:tblGrid>
                <a:gridCol w="649440"/>
                <a:gridCol w="1079280"/>
                <a:gridCol w="129564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št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tis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tez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8" name=""/>
          <p:cNvGraphicFramePr/>
          <p:nvPr/>
        </p:nvGraphicFramePr>
        <p:xfrm>
          <a:off x="755640" y="3665520"/>
          <a:ext cx="863640" cy="461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5640" y="3665520"/>
                    <a:ext cx="86364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"/>
          <p:cNvGraphicFramePr/>
          <p:nvPr/>
        </p:nvGraphicFramePr>
        <p:xfrm>
          <a:off x="755640" y="4532400"/>
          <a:ext cx="936720" cy="480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55640" y="4532400"/>
                    <a:ext cx="93672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"/>
          <p:cNvGraphicFramePr/>
          <p:nvPr/>
        </p:nvGraphicFramePr>
        <p:xfrm>
          <a:off x="2052720" y="4894200"/>
          <a:ext cx="718920" cy="479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052720" y="4894200"/>
                    <a:ext cx="71892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4" name=""/>
          <p:cNvGraphicFramePr/>
          <p:nvPr/>
        </p:nvGraphicFramePr>
        <p:xfrm>
          <a:off x="826920" y="6197760"/>
          <a:ext cx="720720" cy="399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26920" y="6197760"/>
                    <a:ext cx="72072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"/>
          <p:cNvGraphicFramePr/>
          <p:nvPr/>
        </p:nvGraphicFramePr>
        <p:xfrm>
          <a:off x="2050920" y="5734080"/>
          <a:ext cx="719280" cy="479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050920" y="5734080"/>
                    <a:ext cx="71928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8" name=""/>
          <p:cNvGraphicFramePr/>
          <p:nvPr/>
        </p:nvGraphicFramePr>
        <p:xfrm>
          <a:off x="755640" y="5300640"/>
          <a:ext cx="936720" cy="480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55640" y="5300640"/>
                    <a:ext cx="93672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"/>
          <p:cNvGraphicFramePr/>
          <p:nvPr/>
        </p:nvGraphicFramePr>
        <p:xfrm>
          <a:off x="826920" y="4056120"/>
          <a:ext cx="649440" cy="3888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26920" y="4056120"/>
                    <a:ext cx="6494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"/>
          <p:cNvSpPr/>
          <p:nvPr/>
        </p:nvSpPr>
        <p:spPr>
          <a:xfrm>
            <a:off x="7165440" y="5010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173440" y="4941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644360" y="486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941440" y="4724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717440" y="566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525800" y="4145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517800" y="5442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136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139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5ab7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5ab7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3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9000"/>
                            </p:stCondLst>
                            <p:childTnLst>
                              <p:par>
                                <p:cTn id="1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3000"/>
                            </p:stCondLst>
                            <p:childTnLst>
                              <p:par>
                                <p:cTn id="1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3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6000"/>
                            </p:stCondLst>
                            <p:childTnLst>
                              <p:par>
                                <p:cTn id="1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1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3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5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3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3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8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3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3000"/>
                            </p:stCondLst>
                            <p:childTnLst>
                              <p:par>
                                <p:cTn id="2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5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700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9000"/>
                            </p:stCondLst>
                            <p:childTnLst>
                              <p:par>
                                <p:cTn id="2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7" dur="3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20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3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5000"/>
                            </p:stCondLst>
                            <p:childTnLst>
                              <p:par>
                                <p:cTn id="2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5" dur="3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80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600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200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3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5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67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9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710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3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74000"/>
                            </p:stCondLst>
                            <p:childTnLst>
                              <p:par>
                                <p:cTn id="255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257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9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260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6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78000"/>
                            </p:stCondLst>
                            <p:childTnLst>
                              <p:par>
                                <p:cTn id="2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8000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3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83000"/>
                            </p:stCondLst>
                            <p:childTnLst>
                              <p:par>
                                <p:cTn id="2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85000"/>
                            </p:stCondLst>
                            <p:childTnLst>
                              <p:par>
                                <p:cTn id="2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3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8000"/>
                            </p:stCondLst>
                            <p:childTnLst>
                              <p:par>
                                <p:cTn id="2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3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9100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3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94000"/>
                            </p:stCondLst>
                            <p:childTnLst>
                              <p:par>
                                <p:cTn id="2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3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97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99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1000"/>
                            </p:stCondLst>
                            <p:childTnLst>
                              <p:par>
                                <p:cTn id="3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3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4000"/>
                            </p:stCondLst>
                            <p:childTnLst>
                              <p:par>
                                <p:cTn id="3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6000"/>
                            </p:stCondLst>
                            <p:childTnLst>
                              <p:par>
                                <p:cTn id="3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8000"/>
                            </p:stCondLst>
                            <p:childTnLst>
                              <p:par>
                                <p:cTn id="314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5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16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10000"/>
                            </p:stCondLst>
                            <p:childTnLst>
                              <p:par>
                                <p:cTn id="3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3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13000"/>
                            </p:stCondLst>
                            <p:childTnLst>
                              <p:par>
                                <p:cTn id="322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3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24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150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170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3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200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3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3000"/>
                            </p:stCondLst>
                            <p:childTnLst>
                              <p:par>
                                <p:cTn id="3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25000"/>
                            </p:stCondLst>
                            <p:childTnLst>
                              <p:par>
                                <p:cTn id="3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27000"/>
                            </p:stCondLst>
                            <p:childTnLst>
                              <p:par>
                                <p:cTn id="3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9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290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3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32000"/>
                            </p:stCondLst>
                            <p:childTnLst>
                              <p:par>
                                <p:cTn id="3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7" dur="3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35000"/>
                            </p:stCondLst>
                            <p:childTnLst>
                              <p:par>
                                <p:cTn id="3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3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380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3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 flipH="1">
            <a:off x="3620880" y="2494080"/>
            <a:ext cx="2160360" cy="1726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388880" y="2565360"/>
            <a:ext cx="2160360" cy="2664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957600" y="2133360"/>
            <a:ext cx="431640" cy="792360"/>
            <a:chOff x="957600" y="2133360"/>
            <a:chExt cx="431640" cy="792360"/>
          </a:xfrm>
        </p:grpSpPr>
        <p:sp>
          <p:nvSpPr>
            <p:cNvPr id="472" name=""/>
            <p:cNvSpPr/>
            <p:nvPr/>
          </p:nvSpPr>
          <p:spPr>
            <a:xfrm rot="5400000">
              <a:off x="1065240" y="238608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"/>
            <p:cNvGrpSpPr/>
            <p:nvPr/>
          </p:nvGrpSpPr>
          <p:grpSpPr>
            <a:xfrm>
              <a:off x="957600" y="2133360"/>
              <a:ext cx="142560" cy="792360"/>
              <a:chOff x="957600" y="2133360"/>
              <a:chExt cx="142560" cy="792360"/>
            </a:xfrm>
          </p:grpSpPr>
          <p:sp>
            <p:nvSpPr>
              <p:cNvPr id="474" name=""/>
              <p:cNvSpPr/>
              <p:nvPr/>
            </p:nvSpPr>
            <p:spPr>
              <a:xfrm>
                <a:off x="1100160" y="2133720"/>
                <a:ext cx="0" cy="792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 flipV="1">
                <a:off x="957600" y="2133360"/>
                <a:ext cx="14256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 flipV="1">
                <a:off x="957600" y="2349360"/>
                <a:ext cx="142560" cy="14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 flipV="1">
                <a:off x="957600" y="2565360"/>
                <a:ext cx="142560" cy="14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 flipV="1">
                <a:off x="957600" y="2781360"/>
                <a:ext cx="142560" cy="14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9" name=""/>
          <p:cNvSpPr/>
          <p:nvPr/>
        </p:nvSpPr>
        <p:spPr>
          <a:xfrm rot="5400000">
            <a:off x="3153600" y="729360"/>
            <a:ext cx="2735280" cy="6264000"/>
          </a:xfrm>
          <a:prstGeom prst="rtTriangl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3. Metoda preseka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 (RITEROV POSTUPA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Postupak: Prvo se odrede reakcije veza, pa se pos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oga napravi presek kroz tri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štapa rešet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621240" y="2565360"/>
            <a:ext cx="0" cy="165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5781240" y="2565360"/>
            <a:ext cx="1800" cy="79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549600" y="2421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317600" y="2421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812880" y="4868640"/>
            <a:ext cx="645840" cy="792360"/>
            <a:chOff x="812880" y="4868640"/>
            <a:chExt cx="645840" cy="792360"/>
          </a:xfrm>
        </p:grpSpPr>
        <p:sp>
          <p:nvSpPr>
            <p:cNvPr id="486" name=""/>
            <p:cNvSpPr/>
            <p:nvPr/>
          </p:nvSpPr>
          <p:spPr>
            <a:xfrm rot="5400000">
              <a:off x="1063800" y="5121000"/>
              <a:ext cx="36000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100160" y="4869000"/>
              <a:ext cx="0" cy="79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812880" y="4868640"/>
              <a:ext cx="142560" cy="792360"/>
              <a:chOff x="812880" y="4868640"/>
              <a:chExt cx="142560" cy="792360"/>
            </a:xfrm>
          </p:grpSpPr>
          <p:sp>
            <p:nvSpPr>
              <p:cNvPr id="489" name=""/>
              <p:cNvSpPr/>
              <p:nvPr/>
            </p:nvSpPr>
            <p:spPr>
              <a:xfrm>
                <a:off x="955440" y="4869000"/>
                <a:ext cx="0" cy="792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 flipV="1">
                <a:off x="812880" y="4868640"/>
                <a:ext cx="14256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 flipV="1">
                <a:off x="812880" y="5084640"/>
                <a:ext cx="142560" cy="14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 flipV="1">
                <a:off x="812880" y="5300640"/>
                <a:ext cx="142560" cy="14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 flipV="1">
                <a:off x="812880" y="5516640"/>
                <a:ext cx="142560" cy="14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 rot="5400000">
              <a:off x="1315080" y="5156640"/>
              <a:ext cx="14400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7653240" y="2421000"/>
            <a:ext cx="1429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87280" y="486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82680" y="2205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7596360" y="1550880"/>
            <a:ext cx="701280" cy="95256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480120" y="177336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567400" y="1773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368120" y="24940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549600" y="414972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710320" y="3213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567400" y="328464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79760" y="42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1620720" y="5589720"/>
          <a:ext cx="691200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5589720"/>
                    <a:ext cx="691200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"/>
          <p:cNvSpPr/>
          <p:nvPr/>
        </p:nvSpPr>
        <p:spPr>
          <a:xfrm>
            <a:off x="4178160" y="2044800"/>
            <a:ext cx="333360" cy="2554200"/>
          </a:xfrm>
          <a:custGeom>
            <a:avLst/>
            <a:gdLst/>
            <a:ahLst/>
            <a:rect l="l" t="t" r="r" b="b"/>
            <a:pathLst>
              <a:path w="210" h="1609">
                <a:moveTo>
                  <a:pt x="210" y="0"/>
                </a:moveTo>
                <a:cubicBezTo>
                  <a:pt x="182" y="28"/>
                  <a:pt x="93" y="96"/>
                  <a:pt x="55" y="109"/>
                </a:cubicBezTo>
                <a:cubicBezTo>
                  <a:pt x="42" y="122"/>
                  <a:pt x="26" y="138"/>
                  <a:pt x="18" y="155"/>
                </a:cubicBezTo>
                <a:cubicBezTo>
                  <a:pt x="10" y="173"/>
                  <a:pt x="0" y="210"/>
                  <a:pt x="0" y="210"/>
                </a:cubicBezTo>
                <a:cubicBezTo>
                  <a:pt x="9" y="247"/>
                  <a:pt x="18" y="295"/>
                  <a:pt x="37" y="329"/>
                </a:cubicBezTo>
                <a:cubicBezTo>
                  <a:pt x="89" y="426"/>
                  <a:pt x="61" y="349"/>
                  <a:pt x="82" y="411"/>
                </a:cubicBezTo>
                <a:cubicBezTo>
                  <a:pt x="93" y="511"/>
                  <a:pt x="87" y="486"/>
                  <a:pt x="128" y="548"/>
                </a:cubicBezTo>
                <a:cubicBezTo>
                  <a:pt x="145" y="600"/>
                  <a:pt x="111" y="640"/>
                  <a:pt x="73" y="676"/>
                </a:cubicBezTo>
                <a:cubicBezTo>
                  <a:pt x="76" y="700"/>
                  <a:pt x="75" y="725"/>
                  <a:pt x="82" y="749"/>
                </a:cubicBezTo>
                <a:cubicBezTo>
                  <a:pt x="88" y="769"/>
                  <a:pt x="116" y="790"/>
                  <a:pt x="128" y="804"/>
                </a:cubicBezTo>
                <a:cubicBezTo>
                  <a:pt x="146" y="826"/>
                  <a:pt x="147" y="834"/>
                  <a:pt x="156" y="859"/>
                </a:cubicBezTo>
                <a:cubicBezTo>
                  <a:pt x="153" y="886"/>
                  <a:pt x="152" y="914"/>
                  <a:pt x="146" y="941"/>
                </a:cubicBezTo>
                <a:cubicBezTo>
                  <a:pt x="142" y="960"/>
                  <a:pt x="134" y="978"/>
                  <a:pt x="128" y="996"/>
                </a:cubicBezTo>
                <a:cubicBezTo>
                  <a:pt x="125" y="1005"/>
                  <a:pt x="119" y="1024"/>
                  <a:pt x="119" y="1024"/>
                </a:cubicBezTo>
                <a:cubicBezTo>
                  <a:pt x="129" y="1094"/>
                  <a:pt x="122" y="1149"/>
                  <a:pt x="101" y="1216"/>
                </a:cubicBezTo>
                <a:cubicBezTo>
                  <a:pt x="104" y="1240"/>
                  <a:pt x="102" y="1266"/>
                  <a:pt x="110" y="1289"/>
                </a:cubicBezTo>
                <a:cubicBezTo>
                  <a:pt x="117" y="1310"/>
                  <a:pt x="146" y="1344"/>
                  <a:pt x="146" y="1344"/>
                </a:cubicBezTo>
                <a:cubicBezTo>
                  <a:pt x="139" y="1396"/>
                  <a:pt x="123" y="1431"/>
                  <a:pt x="137" y="1481"/>
                </a:cubicBezTo>
                <a:cubicBezTo>
                  <a:pt x="142" y="1500"/>
                  <a:pt x="156" y="1536"/>
                  <a:pt x="156" y="1536"/>
                </a:cubicBezTo>
                <a:cubicBezTo>
                  <a:pt x="145" y="1565"/>
                  <a:pt x="118" y="1609"/>
                  <a:pt x="174" y="1609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326680" y="321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503400" y="2852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703400" y="371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261960" y="3068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630320" y="2565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782680" y="2565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471400" y="458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503040" y="19177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703400" y="1917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253600" y="198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813240" y="34290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4396320" y="2556720"/>
            <a:ext cx="1289520" cy="1049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4266720" y="3330000"/>
            <a:ext cx="1419480" cy="630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4181400" y="2481120"/>
            <a:ext cx="1547640" cy="22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710320" y="2421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20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2000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6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3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90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3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1" dur="3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4" dur="3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0" y="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RITEROV POSTUPAK  - Pr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33ccff"/>
                </a:solidFill>
                <a:latin typeface="Times New Roman"/>
              </a:rPr>
              <a:t>Za rešetkastu konstrukciju kao na slici Riterovim postupkom odrediti intenzitete sila u štapovima   2, 10 i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7020000" y="1773360"/>
          <a:ext cx="1833480" cy="9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20000" y="1773360"/>
                    <a:ext cx="183348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7164360" y="2924280"/>
          <a:ext cx="1546200" cy="82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4360" y="2924280"/>
                    <a:ext cx="154620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9" name="zad 4" descr=""/>
          <p:cNvPicPr/>
          <p:nvPr/>
        </p:nvPicPr>
        <p:blipFill>
          <a:blip r:embed="rId5"/>
          <a:stretch/>
        </p:blipFill>
        <p:spPr>
          <a:xfrm>
            <a:off x="250920" y="1535040"/>
            <a:ext cx="8424720" cy="556596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1011240" y="295992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71280" y="909360"/>
            <a:ext cx="8893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</a:rPr>
              <a:t>Za određivanje intenziteta sila u štapovima 2, 10 i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hr-HR" sz="2800" spc="-1" strike="noStrike">
                <a:solidFill>
                  <a:srgbClr val="ff0000"/>
                </a:solidFill>
                <a:latin typeface="Times New Roman"/>
              </a:rPr>
              <a:t>preseca se rešetka na dva dela, tako što se presek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</a:rPr>
              <a:t>upravo štapovi  2, 10 i 4.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800" spc="-1" strike="noStrike">
                <a:solidFill>
                  <a:srgbClr val="0000cc"/>
                </a:solidFill>
                <a:latin typeface="Times New Roman"/>
              </a:rPr>
              <a:t>Razmatra se ravnoteža ono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cc"/>
                </a:solidFill>
                <a:latin typeface="Times New Roman"/>
              </a:rPr>
              <a:t>dela rešetke na koji dejstvuje  manji broj sila zbo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cc"/>
                </a:solidFill>
                <a:latin typeface="Times New Roman"/>
              </a:rPr>
              <a:t>praktičnosti, u ovom slučaju desnog dela rešet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993300"/>
                </a:solidFill>
                <a:latin typeface="Times New Roman"/>
              </a:rPr>
              <a:t>Uticaj odbačenog (levog) dela rešetke se uzet je 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993300"/>
                </a:solidFill>
                <a:latin typeface="Times New Roman"/>
              </a:rPr>
              <a:t>obzir preko unutrašnjih sila u presečenim štapov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Nepoznate unutrašnje sile u presečenim štapovi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izračunavaju se iz analitičkih uslova ravnoteže ravn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sistema sila koji dejstvuje na onaj deo rešetke koj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se nalazi desno od preseka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1620720" y="5412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97080" y="638100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0" y="216000"/>
            <a:ext cx="9144000" cy="6597720"/>
            <a:chOff x="0" y="216000"/>
            <a:chExt cx="9144000" cy="6597720"/>
          </a:xfrm>
        </p:grpSpPr>
        <p:grpSp>
          <p:nvGrpSpPr>
            <p:cNvPr id="535" name=""/>
            <p:cNvGrpSpPr/>
            <p:nvPr/>
          </p:nvGrpSpPr>
          <p:grpSpPr>
            <a:xfrm>
              <a:off x="0" y="216000"/>
              <a:ext cx="9144000" cy="6597720"/>
              <a:chOff x="0" y="216000"/>
              <a:chExt cx="9144000" cy="6597720"/>
            </a:xfrm>
          </p:grpSpPr>
          <p:pic>
            <p:nvPicPr>
              <p:cNvPr id="53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216000"/>
                <a:ext cx="8964720" cy="541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7" name=""/>
              <p:cNvSpPr/>
              <p:nvPr/>
            </p:nvSpPr>
            <p:spPr>
              <a:xfrm>
                <a:off x="0" y="5329440"/>
                <a:ext cx="9144000" cy="148428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250920" y="5300640"/>
              <a:ext cx="8713800" cy="1405440"/>
              <a:chOff x="250920" y="5300640"/>
              <a:chExt cx="8713800" cy="1405440"/>
            </a:xfrm>
          </p:grpSpPr>
          <p:sp>
            <p:nvSpPr>
              <p:cNvPr id="539" name=""/>
              <p:cNvSpPr/>
              <p:nvPr/>
            </p:nvSpPr>
            <p:spPr>
              <a:xfrm>
                <a:off x="250920" y="5514840"/>
                <a:ext cx="8713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2400" spc="-1" strike="noStrike">
                    <a:solidFill>
                      <a:srgbClr val="993300"/>
                    </a:solidFill>
                    <a:latin typeface="Times New Roman"/>
                    <a:ea typeface="Times New Roman"/>
                  </a:rPr>
                  <a:t>Smerovi sila u štapovima </a:t>
                </a:r>
                <a:r>
                  <a:rPr b="1" lang="sl-SI" sz="2400" spc="-1" strike="noStrike">
                    <a:solidFill>
                      <a:srgbClr val="993300"/>
                    </a:solidFill>
                    <a:latin typeface="Times New Roman"/>
                  </a:rPr>
                  <a:t>                       pretpostavljaju se proizvoljno. Tražene veličine mogu se odrediti iz momentnih jednačina ravnoteže za tzv. Riterove tačke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540" name=""/>
              <p:cNvGraphicFramePr/>
              <p:nvPr/>
            </p:nvGraphicFramePr>
            <p:xfrm>
              <a:off x="3995640" y="5300640"/>
              <a:ext cx="2232000" cy="7048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541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3995640" y="5300640"/>
                        <a:ext cx="2232000" cy="704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542" name=""/>
          <p:cNvSpPr/>
          <p:nvPr/>
        </p:nvSpPr>
        <p:spPr>
          <a:xfrm>
            <a:off x="7685280" y="3786120"/>
            <a:ext cx="686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166080" y="2565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789720" y="3789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3-22T22:15:47Z</dcterms:modified>
  <cp:revision>542</cp:revision>
  <dc:subject/>
  <dc:title>Slide 1</dc:title>
</cp:coreProperties>
</file>