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8A0-DB8A-47CB-87E0-2F6EB3F7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796-8C35-42BD-B742-4183961A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EB2-E794-4132-B8D8-4E2BA2D4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80C-76E6-4398-AF2D-C6DE90FA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AFB3-A613-4388-B3DE-DF3F26A3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03E9-ACDA-4D4E-ACF1-776E810C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85B9-4CC8-4C0A-8470-D0F06DEE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FDBD-F1E4-4789-B727-C787D11A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E4AD-2A43-4866-B39A-3A5FF690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80B4-FD40-4AF1-BBBB-A2FA1B31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D384-715D-445B-A284-834B082C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066-5393-4E7F-95DF-A17DB468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D07D-AB71-4DA5-A4B5-79D07C13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7E2A-C8E8-4EC2-878C-9F0F3D4F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D190-9139-4256-B53F-159AD09C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1DC9-4384-4AB2-8C8D-2BAF5094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7123-FAE5-4837-A2EF-D4BEBC93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CFE-B1A1-475C-B880-870C535D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C97-062E-4A6A-A19A-86E31FAE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FE9-8F75-44A3-8707-D4934142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631-3450-42E4-A601-4FC62131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BA9-1FF5-4D5B-A3FA-FAF08893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2E7-F327-4FC7-B533-86271E96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015-8160-4D8D-BDB4-8F41E723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E7AF-3BA8-4415-AEC0-B209A9EF7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FF56-761C-460F-A7CD-975DB33F7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5280" y="476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Tačka </a:t>
            </a:r>
            <a:r>
              <a:rPr b="1" i="1" lang="sr-Latn-CS" sz="36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 se naziva središte sistema paralelnih sila, i njene koordinate ne zavise od pravca napadnih linija sila, već samo od njihovih algebarskih vrednosti i koordinata njihovih napadnih tačak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66"/>
                </a:solidFill>
                <a:latin typeface="Times New Roman"/>
              </a:rPr>
              <a:t>Središte sistema sila sa paralelnim napadnim linijama je tačka oko koje se obrne rezultanta za ugao za koji se obrnu sve sile u istom smeru, oko njihovih napadnih tačak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753120" y="1954440"/>
            <a:ext cx="2270160" cy="3755520"/>
            <a:chOff x="753120" y="1954440"/>
            <a:chExt cx="2270160" cy="3755520"/>
          </a:xfrm>
        </p:grpSpPr>
        <p:grpSp>
          <p:nvGrpSpPr>
            <p:cNvPr id="294" name=""/>
            <p:cNvGrpSpPr/>
            <p:nvPr/>
          </p:nvGrpSpPr>
          <p:grpSpPr>
            <a:xfrm>
              <a:off x="753120" y="3991680"/>
              <a:ext cx="592560" cy="668880"/>
              <a:chOff x="753120" y="3991680"/>
              <a:chExt cx="592560" cy="668880"/>
            </a:xfrm>
          </p:grpSpPr>
          <p:sp>
            <p:nvSpPr>
              <p:cNvPr id="295" name=""/>
              <p:cNvSpPr/>
              <p:nvPr/>
            </p:nvSpPr>
            <p:spPr>
              <a:xfrm rot="21475200">
                <a:off x="764640" y="40014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963360" y="406944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125360" y="2493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56120" y="3155400"/>
              <a:ext cx="23040" cy="255456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67280" y="3201840"/>
              <a:ext cx="1656000" cy="19130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1415880" y="3925440"/>
            <a:ext cx="584280" cy="36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15880" y="3925440"/>
                      <a:ext cx="5842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 rot="20828400">
              <a:off x="985680" y="198864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00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21440" y="370080"/>
            <a:ext cx="2265840" cy="3755880"/>
            <a:chOff x="6121440" y="370080"/>
            <a:chExt cx="2265840" cy="3755880"/>
          </a:xfrm>
        </p:grpSpPr>
        <p:sp>
          <p:nvSpPr>
            <p:cNvPr id="304" name=""/>
            <p:cNvSpPr/>
            <p:nvPr/>
          </p:nvSpPr>
          <p:spPr>
            <a:xfrm>
              <a:off x="6346440" y="909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121440" y="2062080"/>
              <a:ext cx="549000" cy="675720"/>
              <a:chOff x="6121440" y="2062080"/>
              <a:chExt cx="549000" cy="6757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6121440" y="2062080"/>
                <a:ext cx="452160" cy="581400"/>
                <a:chOff x="6121440" y="2062080"/>
                <a:chExt cx="452160" cy="581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21440" y="206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35640" y="213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33744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182640" y="370080"/>
              <a:ext cx="2204640" cy="3755880"/>
              <a:chOff x="6182640" y="370080"/>
              <a:chExt cx="2204640" cy="3755880"/>
            </a:xfrm>
          </p:grpSpPr>
          <p:sp>
            <p:nvSpPr>
              <p:cNvPr id="311" name=""/>
              <p:cNvSpPr/>
              <p:nvPr/>
            </p:nvSpPr>
            <p:spPr>
              <a:xfrm>
                <a:off x="6720120" y="1571400"/>
                <a:ext cx="23040" cy="255456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31640" y="1617480"/>
                <a:ext cx="1655640" cy="191340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3" name=""/>
              <p:cNvGraphicFramePr/>
              <p:nvPr/>
            </p:nvGraphicFramePr>
            <p:xfrm>
              <a:off x="6780240" y="2341440"/>
              <a:ext cx="583920" cy="36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1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80240" y="234144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"/>
              <p:cNvSpPr/>
              <p:nvPr/>
            </p:nvSpPr>
            <p:spPr>
              <a:xfrm rot="20828400">
                <a:off x="6349680" y="40428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cc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3457800" y="946440"/>
            <a:ext cx="3292920" cy="4944240"/>
            <a:chOff x="3457800" y="946440"/>
            <a:chExt cx="3292920" cy="4944240"/>
          </a:xfrm>
        </p:grpSpPr>
        <p:sp>
          <p:nvSpPr>
            <p:cNvPr id="317" name=""/>
            <p:cNvSpPr/>
            <p:nvPr/>
          </p:nvSpPr>
          <p:spPr>
            <a:xfrm>
              <a:off x="4118400" y="1357560"/>
              <a:ext cx="18360" cy="453312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82640" y="1439640"/>
              <a:ext cx="3268080" cy="375264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579480" y="946440"/>
              <a:ext cx="2204640" cy="3755880"/>
              <a:chOff x="3579480" y="946440"/>
              <a:chExt cx="2204640" cy="3755880"/>
            </a:xfrm>
          </p:grpSpPr>
          <p:sp>
            <p:nvSpPr>
              <p:cNvPr id="320" name=""/>
              <p:cNvSpPr/>
              <p:nvPr/>
            </p:nvSpPr>
            <p:spPr>
              <a:xfrm>
                <a:off x="4116960" y="2147760"/>
                <a:ext cx="23040" cy="2554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28480" y="2193840"/>
                <a:ext cx="1655640" cy="1913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4177080" y="2917800"/>
              <a:ext cx="583920" cy="366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77080" y="291780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4" name=""/>
              <p:cNvSpPr/>
              <p:nvPr/>
            </p:nvSpPr>
            <p:spPr>
              <a:xfrm rot="20828400">
                <a:off x="3746520" y="98064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457800" y="2925720"/>
              <a:ext cx="599400" cy="675720"/>
              <a:chOff x="3457800" y="2925720"/>
              <a:chExt cx="599400" cy="675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457800" y="2925720"/>
                <a:ext cx="452160" cy="581400"/>
                <a:chOff x="3457800" y="2925720"/>
                <a:chExt cx="452160" cy="581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457800" y="2925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2000" y="2996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3673800" y="3141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10688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260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nalitički uslovi ravnoteže za 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snovni uslovi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5280" y="2492280"/>
                <a:ext cx="848988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1) sledi samo jedan algebarski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11280" y="981000"/>
                <a:ext cx="203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14520" y="2806560"/>
                <a:ext cx="7521480" cy="39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200" y="220500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2) 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19640" y="1268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900000" y="1268280"/>
                <a:ext cx="7493040" cy="448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26920" y="1197000"/>
                <a:ext cx="7556760" cy="44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d gornja tri uslova samo su dva nezavisna i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908000" y="1125360"/>
                <a:ext cx="44751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971640" y="184464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924280"/>
            <a:ext cx="871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akle, tri uslova (*), (**) predstavljaju potrebne i dovoljne uslove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e za sistem sila sa paralelnim napadnim linijama. (Pri tome ovi uslovi su zavisni od prav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Ako treba da uslovi ravnoteže budu zadovoljeni nezavisno od pravca koji imaju napadne linije sila, tada se moze pis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11280" y="836640"/>
            <a:ext cx="8208720" cy="3384360"/>
          </a:xfrm>
          <a:prstGeom prst="wedgeRoundRectCallout">
            <a:avLst>
              <a:gd name="adj1" fmla="val -34916"/>
              <a:gd name="adj2" fmla="val 71296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77760" y="1103400"/>
                <a:ext cx="202896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71640" y="2398680"/>
                <a:ext cx="763272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618920" y="4797360"/>
            <a:ext cx="525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I  (ČETIR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STATIČKE 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494080"/>
            <a:ext cx="5292720" cy="2087280"/>
          </a:xfrm>
          <a:prstGeom prst="wedgeRectCallout">
            <a:avLst>
              <a:gd name="adj1" fmla="val 19555"/>
              <a:gd name="adj2" fmla="val 3585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ži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1052640"/>
            <a:ext cx="1871640" cy="2016000"/>
          </a:xfrm>
          <a:prstGeom prst="wedgeRectCallout">
            <a:avLst>
              <a:gd name="adj1" fmla="val -28203"/>
              <a:gd name="adj2" fmla="val 118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elementarn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9280" y="1343160"/>
                <a:ext cx="8607600" cy="25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250920" y="112680"/>
            <a:ext cx="84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NA. TEŽIŠTE TELA. TEŽIŠTE POVR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776040" y="2630520"/>
            <a:ext cx="5186880" cy="4113720"/>
            <a:chOff x="3776040" y="2630520"/>
            <a:chExt cx="5186880" cy="4113720"/>
          </a:xfrm>
        </p:grpSpPr>
        <p:sp>
          <p:nvSpPr>
            <p:cNvPr id="353" name=""/>
            <p:cNvSpPr/>
            <p:nvPr/>
          </p:nvSpPr>
          <p:spPr>
            <a:xfrm>
              <a:off x="4427640" y="3206880"/>
              <a:ext cx="3744720" cy="321300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50000">
                  <a:srgbClr val="b1a887"/>
                </a:gs>
                <a:gs pos="100000">
                  <a:srgbClr val="d7d1b9"/>
                </a:gs>
              </a:gsLst>
              <a:lin ang="5400000"/>
            </a:gra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76040" y="6162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600760" y="451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4720" y="26305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211280" y="507996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7600" y="5079960"/>
              <a:ext cx="316080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719680" y="2637000"/>
              <a:ext cx="7920" cy="2442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16400" y="458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784480" y="4207680"/>
              <a:ext cx="369360" cy="596880"/>
              <a:chOff x="5784480" y="4207680"/>
              <a:chExt cx="369360" cy="596880"/>
            </a:xfrm>
          </p:grpSpPr>
          <p:sp>
            <p:nvSpPr>
              <p:cNvPr id="362" name=""/>
              <p:cNvSpPr/>
              <p:nvPr/>
            </p:nvSpPr>
            <p:spPr>
              <a:xfrm rot="21437400">
                <a:off x="5797800" y="42152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5938560" y="4357440"/>
                <a:ext cx="215280" cy="10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804000" y="3854520"/>
              <a:ext cx="287280" cy="287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932520" y="4031640"/>
              <a:ext cx="9360" cy="806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718600" y="3968640"/>
              <a:ext cx="1292040" cy="1130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014240" y="4274280"/>
              <a:ext cx="689400" cy="593640"/>
              <a:chOff x="7014240" y="4274280"/>
              <a:chExt cx="689400" cy="593640"/>
            </a:xfrm>
          </p:grpSpPr>
          <p:sp>
            <p:nvSpPr>
              <p:cNvPr id="368" name=""/>
              <p:cNvSpPr/>
              <p:nvPr/>
            </p:nvSpPr>
            <p:spPr>
              <a:xfrm rot="62400">
                <a:off x="7019280" y="428004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93680" y="4365720"/>
                <a:ext cx="215640" cy="3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373440" y="3567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63000">
              <a:off x="6732000" y="313488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d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50920" y="260280"/>
            <a:ext cx="8640720" cy="3018600"/>
            <a:chOff x="250920" y="260280"/>
            <a:chExt cx="8640720" cy="3018600"/>
          </a:xfrm>
        </p:grpSpPr>
        <p:sp>
          <p:nvSpPr>
            <p:cNvPr id="373" name=""/>
            <p:cNvSpPr/>
            <p:nvPr/>
          </p:nvSpPr>
          <p:spPr>
            <a:xfrm>
              <a:off x="250920" y="260280"/>
              <a:ext cx="8640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e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jedinični vektor u pravcu i sme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ubrzanja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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ecifična težina materija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dV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deo zapremine te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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gustina, (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=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 . 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) – ubrzanje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m – elementarna ma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5280" y="40320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820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39640" y="3284640"/>
                <a:ext cx="4692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2920320" y="4869000"/>
            <a:ext cx="56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zimajući u obzir elementarne si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kao sistem sila 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836640"/>
            <a:ext cx="7705800" cy="6021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386000" y="1407960"/>
            <a:ext cx="7491600" cy="2640240"/>
          </a:xfrm>
          <a:prstGeom prst="line">
            <a:avLst/>
          </a:prstGeom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036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080" y="3789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5144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055600" y="435924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71920" y="435924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564000" y="191628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6072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26920" y="2057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456920" y="1481040"/>
            <a:ext cx="1433160" cy="500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7640" y="292104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25640" y="1770120"/>
            <a:ext cx="1433520" cy="501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762000" y="76212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562000" y="464976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885560" y="5744520"/>
            <a:ext cx="1000080" cy="34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52120" y="4289040"/>
            <a:ext cx="1433160" cy="501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076560" y="5331960"/>
            <a:ext cx="1303920" cy="452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706360" y="833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209320" y="2962800"/>
            <a:ext cx="760680" cy="265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136760" y="2913840"/>
            <a:ext cx="486720" cy="669600"/>
            <a:chOff x="4136760" y="2913840"/>
            <a:chExt cx="486720" cy="669600"/>
          </a:xfrm>
        </p:grpSpPr>
        <p:sp>
          <p:nvSpPr>
            <p:cNvPr id="233" name=""/>
            <p:cNvSpPr/>
            <p:nvPr/>
          </p:nvSpPr>
          <p:spPr>
            <a:xfrm rot="21437400">
              <a:off x="415152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82920" y="3066120"/>
              <a:ext cx="21528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944880" y="19861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622320" y="2249640"/>
            <a:ext cx="2858760" cy="207900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600720" y="2534040"/>
            <a:ext cx="871200" cy="1829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72000" y="21337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52480" y="2917080"/>
            <a:ext cx="370080" cy="596880"/>
            <a:chOff x="5352480" y="2917080"/>
            <a:chExt cx="370080" cy="596880"/>
          </a:xfrm>
        </p:grpSpPr>
        <p:sp>
          <p:nvSpPr>
            <p:cNvPr id="240" name=""/>
            <p:cNvSpPr/>
            <p:nvPr/>
          </p:nvSpPr>
          <p:spPr>
            <a:xfrm rot="21437400">
              <a:off x="5365800" y="292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06920" y="3066480"/>
              <a:ext cx="215640" cy="10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3564720" y="3988080"/>
            <a:ext cx="1029240" cy="35640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87040" y="3634920"/>
            <a:ext cx="389160" cy="597960"/>
            <a:chOff x="4487040" y="3634920"/>
            <a:chExt cx="389160" cy="597960"/>
          </a:xfrm>
        </p:grpSpPr>
        <p:sp>
          <p:nvSpPr>
            <p:cNvPr id="244" name=""/>
            <p:cNvSpPr/>
            <p:nvPr/>
          </p:nvSpPr>
          <p:spPr>
            <a:xfrm rot="21437400">
              <a:off x="4500360" y="3643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643280" y="3787200"/>
              <a:ext cx="215640" cy="104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89440" y="1603440"/>
            <a:ext cx="548640" cy="675720"/>
            <a:chOff x="4789440" y="1603440"/>
            <a:chExt cx="548640" cy="675720"/>
          </a:xfrm>
        </p:grpSpPr>
        <p:grpSp>
          <p:nvGrpSpPr>
            <p:cNvPr id="247" name=""/>
            <p:cNvGrpSpPr/>
            <p:nvPr/>
          </p:nvGrpSpPr>
          <p:grpSpPr>
            <a:xfrm>
              <a:off x="4789440" y="1603440"/>
              <a:ext cx="452160" cy="581400"/>
              <a:chOff x="4789440" y="1603440"/>
              <a:chExt cx="452160" cy="581400"/>
            </a:xfrm>
          </p:grpSpPr>
          <p:sp>
            <p:nvSpPr>
              <p:cNvPr id="248" name=""/>
              <p:cNvSpPr/>
              <p:nvPr/>
            </p:nvSpPr>
            <p:spPr>
              <a:xfrm>
                <a:off x="4789440" y="160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03640" y="1674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005080" y="181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89800" y="1387440"/>
            <a:ext cx="599400" cy="675720"/>
            <a:chOff x="6589800" y="1387440"/>
            <a:chExt cx="599400" cy="675720"/>
          </a:xfrm>
        </p:grpSpPr>
        <p:grpSp>
          <p:nvGrpSpPr>
            <p:cNvPr id="252" name=""/>
            <p:cNvGrpSpPr/>
            <p:nvPr/>
          </p:nvGrpSpPr>
          <p:grpSpPr>
            <a:xfrm>
              <a:off x="6589800" y="1387440"/>
              <a:ext cx="452160" cy="581400"/>
              <a:chOff x="6589800" y="1387440"/>
              <a:chExt cx="452160" cy="581400"/>
            </a:xfrm>
          </p:grpSpPr>
          <p:sp>
            <p:nvSpPr>
              <p:cNvPr id="253" name=""/>
              <p:cNvSpPr/>
              <p:nvPr/>
            </p:nvSpPr>
            <p:spPr>
              <a:xfrm>
                <a:off x="6589800" y="1387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04000" y="1458360"/>
                <a:ext cx="21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805800" y="1603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50920" y="44280"/>
                <a:ext cx="7697520" cy="24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11280" y="2722680"/>
                <a:ext cx="655344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47680" y="260280"/>
            <a:ext cx="83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ŽIŠTE TE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je središte sistema paralel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ila koje potiču od težine svih elementar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elova t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12000" y="2060640"/>
                <a:ext cx="282420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511200" y="3213000"/>
            <a:ext cx="204480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81000" y="37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11200" y="1844280"/>
            <a:ext cx="5068440" cy="3168720"/>
            <a:chOff x="511200" y="1844280"/>
            <a:chExt cx="5068440" cy="3168720"/>
          </a:xfrm>
        </p:grpSpPr>
        <p:sp>
          <p:nvSpPr>
            <p:cNvPr id="386" name=""/>
            <p:cNvSpPr/>
            <p:nvPr/>
          </p:nvSpPr>
          <p:spPr>
            <a:xfrm flipV="1">
              <a:off x="511200" y="184428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1200" y="501300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07780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600" y="177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56000" y="3789360"/>
            <a:ext cx="2044440" cy="122400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39640" y="321264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321300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0816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5960" y="115920"/>
            <a:ext cx="895572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dužine,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34960" y="1790640"/>
                <a:ext cx="60483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828000" y="3568320"/>
            <a:ext cx="7120440" cy="3602160"/>
            <a:chOff x="828000" y="3568320"/>
            <a:chExt cx="7120440" cy="3602160"/>
          </a:xfrm>
        </p:grpSpPr>
        <p:sp>
          <p:nvSpPr>
            <p:cNvPr id="399" name=""/>
            <p:cNvSpPr/>
            <p:nvPr/>
          </p:nvSpPr>
          <p:spPr>
            <a:xfrm flipV="1">
              <a:off x="2124000" y="3568320"/>
              <a:ext cx="0" cy="1873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24000" y="54417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8000" y="6089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37080" y="5224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258560" y="5441760"/>
              <a:ext cx="86508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21080" y="40003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0800000">
              <a:off x="2058480" y="4287600"/>
              <a:ext cx="5889960" cy="28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729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72998"/>
                </a:path>
              </a:pathLst>
            </a:cu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93956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723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507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29192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075560" y="4367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859560" y="44398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643560" y="44686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427920" y="454068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210480" y="458532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994840" y="468432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78480" y="480024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562480" y="4943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346840" y="508860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6320" y="115920"/>
            <a:ext cx="836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površ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r>
              <a:rPr b="1" i="1" lang="sr-Latn-CS" sz="32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 dG=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dA, 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254640" y="1109520"/>
                <a:ext cx="2889360" cy="574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36000" y="1844640"/>
            <a:ext cx="6559920" cy="4176720"/>
            <a:chOff x="36000" y="1844640"/>
            <a:chExt cx="6559920" cy="4176720"/>
          </a:xfrm>
        </p:grpSpPr>
        <p:grpSp>
          <p:nvGrpSpPr>
            <p:cNvPr id="422" name=""/>
            <p:cNvGrpSpPr/>
            <p:nvPr/>
          </p:nvGrpSpPr>
          <p:grpSpPr>
            <a:xfrm>
              <a:off x="36000" y="1844640"/>
              <a:ext cx="5944320" cy="4176720"/>
              <a:chOff x="36000" y="1844640"/>
              <a:chExt cx="5944320" cy="41767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36000" y="1844640"/>
                <a:ext cx="5279040" cy="4176720"/>
                <a:chOff x="36000" y="1844640"/>
                <a:chExt cx="5279040" cy="41767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6000" y="52228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952880" y="494028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933920" y="184464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196560" y="2060280"/>
                  <a:ext cx="4970880" cy="3961080"/>
                  <a:chOff x="196560" y="2060280"/>
                  <a:chExt cx="4970880" cy="396108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196560" y="2060280"/>
                    <a:ext cx="4970880" cy="3961080"/>
                    <a:chOff x="196560" y="2060280"/>
                    <a:chExt cx="4970880" cy="396108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flipH="1">
                      <a:off x="196560" y="4575240"/>
                      <a:ext cx="207972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276640" y="4575240"/>
                      <a:ext cx="289080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V="1">
                      <a:off x="2276640" y="2060280"/>
                      <a:ext cx="1116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1765080" y="407808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433" name=""/>
              <p:cNvGraphicFramePr/>
              <p:nvPr/>
            </p:nvGraphicFramePr>
            <p:xfrm>
              <a:off x="2003400" y="2492280"/>
              <a:ext cx="397692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3400" y="2492280"/>
                        <a:ext cx="397692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5" name=""/>
            <p:cNvSpPr/>
            <p:nvPr/>
          </p:nvSpPr>
          <p:spPr>
            <a:xfrm>
              <a:off x="4043520" y="2494080"/>
              <a:ext cx="25524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T(x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y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z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7280" y="115920"/>
            <a:ext cx="73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 RAVNI O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79280" y="1125360"/>
                <a:ext cx="889632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68360" y="3213000"/>
                <a:ext cx="4978440" cy="25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metr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788000" y="2997360"/>
            <a:ext cx="4321080" cy="1008000"/>
          </a:xfrm>
          <a:prstGeom prst="wedgeRoundRectCallout">
            <a:avLst>
              <a:gd name="adj1" fmla="val -59333"/>
              <a:gd name="adj2" fmla="val 228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omenti I reda površin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za os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5661000"/>
            <a:ext cx="6912000" cy="1008000"/>
          </a:xfrm>
          <a:prstGeom prst="wedgeRoundRectCallout">
            <a:avLst>
              <a:gd name="adj1" fmla="val -37277"/>
              <a:gd name="adj2" fmla="val -8212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ko telo ima osu simetrije, na njoj se nalazi težište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95280" y="387360"/>
                <a:ext cx="83678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10120" y="43610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000680" y="2776320"/>
            <a:ext cx="5068440" cy="3168720"/>
            <a:chOff x="4000680" y="2776320"/>
            <a:chExt cx="5068440" cy="3168720"/>
          </a:xfrm>
        </p:grpSpPr>
        <p:sp>
          <p:nvSpPr>
            <p:cNvPr id="444" name=""/>
            <p:cNvSpPr/>
            <p:nvPr/>
          </p:nvSpPr>
          <p:spPr>
            <a:xfrm flipV="1">
              <a:off x="4000680" y="277632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680" y="594504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8567280" y="587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6720" y="27050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5268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 rot="10800000">
            <a:off x="3900240" y="3423960"/>
            <a:ext cx="8204760" cy="187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5" y="1"/>
                </a:moveTo>
                <a:arcTo wR="10800" hR="10800" stAng="-5350757" swAng="4586597"/>
                <a:lnTo>
                  <a:pt x="10800" y="10800"/>
                </a:lnTo>
                <a:close/>
              </a:path>
              <a:path fill="none" w="21600" h="21600">
                <a:moveTo>
                  <a:pt x="10955" y="1"/>
                </a:moveTo>
                <a:arcTo wR="10800" hR="10800" stAng="-5350757" swAng="4586597"/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85596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4680" y="36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95960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647960" y="3713040"/>
            <a:ext cx="431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647960" y="363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00068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647960" y="436104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647960" y="472140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647960" y="507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008680" y="544032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43996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74880" y="3495600"/>
            <a:ext cx="18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1196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375240" y="349560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375240" y="363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375240" y="400068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375240" y="43610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375240" y="472140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75240" y="507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35240" y="544032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16724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77040" y="349560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08680" y="46483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00680" y="59450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000680" y="63039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927240" y="6232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735600" y="623268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74504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735600" y="457668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5600" y="45766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6320" y="4287960"/>
                <a:ext cx="709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31920" y="2009880"/>
                <a:ext cx="3232080" cy="48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443280" y="285264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0" y="0"/>
                <a:ext cx="42022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240" y="1090440"/>
                <a:ext cx="5289480" cy="576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5078160" y="2204640"/>
            <a:ext cx="3813480" cy="4394880"/>
            <a:chOff x="5078160" y="2204640"/>
            <a:chExt cx="3813480" cy="4394880"/>
          </a:xfrm>
        </p:grpSpPr>
        <p:sp>
          <p:nvSpPr>
            <p:cNvPr id="486" name=""/>
            <p:cNvSpPr/>
            <p:nvPr/>
          </p:nvSpPr>
          <p:spPr>
            <a:xfrm rot="16200000">
              <a:off x="4856760" y="3228840"/>
              <a:ext cx="3598920" cy="22608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0240" y="49370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533920" y="2204640"/>
              <a:ext cx="20880" cy="3956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506800" y="565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5880" y="227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14080" y="2420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87880" y="59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3" name=""/>
            <p:cNvGraphicFramePr/>
            <p:nvPr/>
          </p:nvGraphicFramePr>
          <p:xfrm>
            <a:off x="7067520" y="5153040"/>
            <a:ext cx="133560" cy="12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67520" y="515304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 rot="18179400">
              <a:off x="5738400" y="3787560"/>
              <a:ext cx="130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 = </a:t>
              </a: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2 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78160" y="6018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59160" y="6016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634080" y="644832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54800" y="6162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554440" y="652140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481360" y="6449760"/>
              <a:ext cx="144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849720" y="644832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705720" y="42894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921720" y="3999960"/>
              <a:ext cx="14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6705720" y="3928680"/>
              <a:ext cx="217440" cy="2232360"/>
              <a:chOff x="6705720" y="3928680"/>
              <a:chExt cx="217440" cy="2232360"/>
            </a:xfrm>
          </p:grpSpPr>
          <p:sp>
            <p:nvSpPr>
              <p:cNvPr id="506" name=""/>
              <p:cNvSpPr/>
              <p:nvPr/>
            </p:nvSpPr>
            <p:spPr>
              <a:xfrm>
                <a:off x="6705720" y="4289400"/>
                <a:ext cx="217440" cy="1871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6200000">
                <a:off x="6634080" y="3999960"/>
                <a:ext cx="360360" cy="217440"/>
              </a:xfrm>
              <a:prstGeom prst="rtTriangle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V="1">
              <a:off x="5526000" y="2344320"/>
              <a:ext cx="2405160" cy="3816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33920" y="6161040"/>
              <a:ext cx="3089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0800" y="60163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d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8587400">
              <a:off x="6448680" y="46872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398840" y="368280"/>
                <a:ext cx="474516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7600" y="115920"/>
            <a:ext cx="74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Grafički postupci kod sistema sil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920" y="907920"/>
            <a:ext cx="8353440" cy="576360"/>
          </a:xfrm>
          <a:prstGeom prst="wedgeRoundRectCallout">
            <a:avLst>
              <a:gd name="adj1" fmla="val -10074"/>
              <a:gd name="adj2" fmla="val 1219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1. Sistem sila sa zajedničkom napadnom tač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3282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71080" y="3704400"/>
            <a:ext cx="3057840" cy="812520"/>
            <a:chOff x="271080" y="3704400"/>
            <a:chExt cx="3057840" cy="812520"/>
          </a:xfrm>
        </p:grpSpPr>
        <p:sp>
          <p:nvSpPr>
            <p:cNvPr id="517" name=""/>
            <p:cNvSpPr/>
            <p:nvPr/>
          </p:nvSpPr>
          <p:spPr>
            <a:xfrm>
              <a:off x="271080" y="37044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011960" y="3901320"/>
              <a:ext cx="1476360" cy="434880"/>
              <a:chOff x="1011960" y="3901320"/>
              <a:chExt cx="1476360" cy="434880"/>
            </a:xfrm>
          </p:grpSpPr>
          <p:sp>
            <p:nvSpPr>
              <p:cNvPr id="519" name=""/>
              <p:cNvSpPr/>
              <p:nvPr/>
            </p:nvSpPr>
            <p:spPr>
              <a:xfrm flipH="1" flipV="1">
                <a:off x="1011960" y="3901320"/>
                <a:ext cx="1380240" cy="3697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9244200">
                <a:off x="2406600" y="42548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46160" y="3211560"/>
            <a:ext cx="548640" cy="675720"/>
            <a:chOff x="1046160" y="3211560"/>
            <a:chExt cx="548640" cy="675720"/>
          </a:xfrm>
        </p:grpSpPr>
        <p:grpSp>
          <p:nvGrpSpPr>
            <p:cNvPr id="522" name=""/>
            <p:cNvGrpSpPr/>
            <p:nvPr/>
          </p:nvGrpSpPr>
          <p:grpSpPr>
            <a:xfrm>
              <a:off x="1046160" y="3211560"/>
              <a:ext cx="452160" cy="581400"/>
              <a:chOff x="1046160" y="3211560"/>
              <a:chExt cx="45216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046160" y="321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60360" y="328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61800" y="342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413080" y="2635200"/>
            <a:ext cx="549000" cy="675720"/>
            <a:chOff x="2413080" y="2635200"/>
            <a:chExt cx="549000" cy="675720"/>
          </a:xfrm>
        </p:grpSpPr>
        <p:grpSp>
          <p:nvGrpSpPr>
            <p:cNvPr id="527" name=""/>
            <p:cNvGrpSpPr/>
            <p:nvPr/>
          </p:nvGrpSpPr>
          <p:grpSpPr>
            <a:xfrm>
              <a:off x="2413080" y="2635200"/>
              <a:ext cx="452160" cy="581400"/>
              <a:chOff x="2413080" y="2635200"/>
              <a:chExt cx="452160" cy="581400"/>
            </a:xfrm>
          </p:grpSpPr>
          <p:sp>
            <p:nvSpPr>
              <p:cNvPr id="528" name=""/>
              <p:cNvSpPr/>
              <p:nvPr/>
            </p:nvSpPr>
            <p:spPr>
              <a:xfrm>
                <a:off x="2413080" y="2635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27280" y="2706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2629080" y="285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141800" y="2995560"/>
            <a:ext cx="548640" cy="675720"/>
            <a:chOff x="4141800" y="2995560"/>
            <a:chExt cx="548640" cy="675720"/>
          </a:xfrm>
        </p:grpSpPr>
        <p:grpSp>
          <p:nvGrpSpPr>
            <p:cNvPr id="532" name=""/>
            <p:cNvGrpSpPr/>
            <p:nvPr/>
          </p:nvGrpSpPr>
          <p:grpSpPr>
            <a:xfrm>
              <a:off x="4141800" y="2995560"/>
              <a:ext cx="452160" cy="581400"/>
              <a:chOff x="4141800" y="2995560"/>
              <a:chExt cx="452160" cy="581400"/>
            </a:xfrm>
          </p:grpSpPr>
          <p:sp>
            <p:nvSpPr>
              <p:cNvPr id="533" name=""/>
              <p:cNvSpPr/>
              <p:nvPr/>
            </p:nvSpPr>
            <p:spPr>
              <a:xfrm>
                <a:off x="4141800" y="29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356000" y="3066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4357440" y="32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160360" y="4363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384720" y="5587920"/>
            <a:ext cx="549000" cy="675720"/>
            <a:chOff x="3384720" y="5587920"/>
            <a:chExt cx="549000" cy="675720"/>
          </a:xfrm>
        </p:grpSpPr>
        <p:grpSp>
          <p:nvGrpSpPr>
            <p:cNvPr id="538" name=""/>
            <p:cNvGrpSpPr/>
            <p:nvPr/>
          </p:nvGrpSpPr>
          <p:grpSpPr>
            <a:xfrm>
              <a:off x="3384720" y="5587920"/>
              <a:ext cx="452160" cy="581400"/>
              <a:chOff x="3384720" y="5587920"/>
              <a:chExt cx="452160" cy="581400"/>
            </a:xfrm>
          </p:grpSpPr>
          <p:sp>
            <p:nvSpPr>
              <p:cNvPr id="539" name=""/>
              <p:cNvSpPr/>
              <p:nvPr/>
            </p:nvSpPr>
            <p:spPr>
              <a:xfrm>
                <a:off x="3384720" y="55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98920" y="565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600720" y="58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017440" y="1892160"/>
            <a:ext cx="1006920" cy="2999520"/>
            <a:chOff x="2017440" y="1892160"/>
            <a:chExt cx="1006920" cy="2999520"/>
          </a:xfrm>
        </p:grpSpPr>
        <p:sp>
          <p:nvSpPr>
            <p:cNvPr id="543" name=""/>
            <p:cNvSpPr/>
            <p:nvPr/>
          </p:nvSpPr>
          <p:spPr>
            <a:xfrm>
              <a:off x="2017440" y="189216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261160" y="2618640"/>
              <a:ext cx="511560" cy="1454760"/>
              <a:chOff x="2261160" y="2618640"/>
              <a:chExt cx="511560" cy="1454760"/>
            </a:xfrm>
          </p:grpSpPr>
          <p:sp>
            <p:nvSpPr>
              <p:cNvPr id="545" name=""/>
              <p:cNvSpPr/>
              <p:nvPr/>
            </p:nvSpPr>
            <p:spPr>
              <a:xfrm flipH="1" flipV="1">
                <a:off x="2261160" y="261864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2637800">
                <a:off x="2689920" y="39909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2490840" y="2480040"/>
            <a:ext cx="2217960" cy="2256840"/>
            <a:chOff x="2490840" y="2480040"/>
            <a:chExt cx="2217960" cy="2256840"/>
          </a:xfrm>
        </p:grpSpPr>
        <p:sp>
          <p:nvSpPr>
            <p:cNvPr id="548" name=""/>
            <p:cNvSpPr/>
            <p:nvPr/>
          </p:nvSpPr>
          <p:spPr>
            <a:xfrm flipH="1">
              <a:off x="2490840" y="248004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3090240" y="3026880"/>
              <a:ext cx="1081080" cy="1087920"/>
              <a:chOff x="3090240" y="3026880"/>
              <a:chExt cx="1081080" cy="10879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3167640" y="302688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6421400">
                <a:off x="3092040" y="40428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2663640" y="4147920"/>
            <a:ext cx="2089080" cy="2376360"/>
            <a:chOff x="2663640" y="4147920"/>
            <a:chExt cx="2089080" cy="2376360"/>
          </a:xfrm>
        </p:grpSpPr>
        <p:sp>
          <p:nvSpPr>
            <p:cNvPr id="553" name=""/>
            <p:cNvSpPr/>
            <p:nvPr/>
          </p:nvSpPr>
          <p:spPr>
            <a:xfrm flipH="1" flipV="1">
              <a:off x="2663640" y="414792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235320" y="4791240"/>
              <a:ext cx="1011240" cy="1157400"/>
              <a:chOff x="3235320" y="4791240"/>
              <a:chExt cx="1011240" cy="1157400"/>
            </a:xfrm>
          </p:grpSpPr>
          <p:sp>
            <p:nvSpPr>
              <p:cNvPr id="555" name=""/>
              <p:cNvSpPr/>
              <p:nvPr/>
            </p:nvSpPr>
            <p:spPr>
              <a:xfrm>
                <a:off x="3305160" y="487332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472200">
                <a:off x="3239280" y="479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5937840" y="180972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899480" y="376380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424920" y="5099400"/>
            <a:ext cx="1476360" cy="435600"/>
            <a:chOff x="6424920" y="5099400"/>
            <a:chExt cx="1476360" cy="435600"/>
          </a:xfrm>
        </p:grpSpPr>
        <p:sp>
          <p:nvSpPr>
            <p:cNvPr id="560" name=""/>
            <p:cNvSpPr/>
            <p:nvPr/>
          </p:nvSpPr>
          <p:spPr>
            <a:xfrm flipH="1" flipV="1">
              <a:off x="6424920" y="509940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9244800">
              <a:off x="7819560" y="5453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388200" y="5203800"/>
            <a:ext cx="549000" cy="675720"/>
            <a:chOff x="6388200" y="5203800"/>
            <a:chExt cx="549000" cy="675720"/>
          </a:xfrm>
        </p:grpSpPr>
        <p:grpSp>
          <p:nvGrpSpPr>
            <p:cNvPr id="563" name=""/>
            <p:cNvGrpSpPr/>
            <p:nvPr/>
          </p:nvGrpSpPr>
          <p:grpSpPr>
            <a:xfrm>
              <a:off x="6388200" y="5203800"/>
              <a:ext cx="452160" cy="581400"/>
              <a:chOff x="6388200" y="5203800"/>
              <a:chExt cx="452160" cy="581400"/>
            </a:xfrm>
          </p:grpSpPr>
          <p:sp>
            <p:nvSpPr>
              <p:cNvPr id="564" name=""/>
              <p:cNvSpPr/>
              <p:nvPr/>
            </p:nvSpPr>
            <p:spPr>
              <a:xfrm>
                <a:off x="6388200" y="5203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02400" y="5274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604200" y="5419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667480" y="4195800"/>
            <a:ext cx="549000" cy="675720"/>
            <a:chOff x="5667480" y="4195800"/>
            <a:chExt cx="549000" cy="675720"/>
          </a:xfrm>
        </p:grpSpPr>
        <p:grpSp>
          <p:nvGrpSpPr>
            <p:cNvPr id="568" name=""/>
            <p:cNvGrpSpPr/>
            <p:nvPr/>
          </p:nvGrpSpPr>
          <p:grpSpPr>
            <a:xfrm>
              <a:off x="5667480" y="4195800"/>
              <a:ext cx="452160" cy="581400"/>
              <a:chOff x="5667480" y="4195800"/>
              <a:chExt cx="452160" cy="581400"/>
            </a:xfrm>
          </p:grpSpPr>
          <p:sp>
            <p:nvSpPr>
              <p:cNvPr id="569" name=""/>
              <p:cNvSpPr/>
              <p:nvPr/>
            </p:nvSpPr>
            <p:spPr>
              <a:xfrm>
                <a:off x="5667480" y="419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81680" y="4266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883480" y="441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956200" y="2540160"/>
            <a:ext cx="548640" cy="675360"/>
            <a:chOff x="5956200" y="2540160"/>
            <a:chExt cx="548640" cy="675360"/>
          </a:xfrm>
        </p:grpSpPr>
        <p:grpSp>
          <p:nvGrpSpPr>
            <p:cNvPr id="573" name=""/>
            <p:cNvGrpSpPr/>
            <p:nvPr/>
          </p:nvGrpSpPr>
          <p:grpSpPr>
            <a:xfrm>
              <a:off x="5956200" y="2540160"/>
              <a:ext cx="452160" cy="581400"/>
              <a:chOff x="5956200" y="2540160"/>
              <a:chExt cx="452160" cy="581400"/>
            </a:xfrm>
          </p:grpSpPr>
          <p:sp>
            <p:nvSpPr>
              <p:cNvPr id="574" name=""/>
              <p:cNvSpPr/>
              <p:nvPr/>
            </p:nvSpPr>
            <p:spPr>
              <a:xfrm>
                <a:off x="595620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170400" y="26110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617184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394760" y="2540160"/>
            <a:ext cx="549000" cy="675360"/>
            <a:chOff x="7394760" y="2540160"/>
            <a:chExt cx="549000" cy="675360"/>
          </a:xfrm>
        </p:grpSpPr>
        <p:grpSp>
          <p:nvGrpSpPr>
            <p:cNvPr id="578" name=""/>
            <p:cNvGrpSpPr/>
            <p:nvPr/>
          </p:nvGrpSpPr>
          <p:grpSpPr>
            <a:xfrm>
              <a:off x="7394760" y="2540160"/>
              <a:ext cx="452160" cy="581400"/>
              <a:chOff x="7394760" y="2540160"/>
              <a:chExt cx="452160" cy="581400"/>
            </a:xfrm>
          </p:grpSpPr>
          <p:sp>
            <p:nvSpPr>
              <p:cNvPr id="579" name=""/>
              <p:cNvSpPr/>
              <p:nvPr/>
            </p:nvSpPr>
            <p:spPr>
              <a:xfrm>
                <a:off x="739476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08960" y="2611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761076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018840" y="3672360"/>
            <a:ext cx="511200" cy="1455480"/>
            <a:chOff x="6018840" y="3672360"/>
            <a:chExt cx="511200" cy="1455480"/>
          </a:xfrm>
        </p:grpSpPr>
        <p:sp>
          <p:nvSpPr>
            <p:cNvPr id="583" name=""/>
            <p:cNvSpPr/>
            <p:nvPr/>
          </p:nvSpPr>
          <p:spPr>
            <a:xfrm flipH="1" flipV="1">
              <a:off x="6018840" y="367236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2638400">
              <a:off x="6446880" y="50450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986800" y="2641680"/>
            <a:ext cx="1081800" cy="1087920"/>
            <a:chOff x="5986800" y="2641680"/>
            <a:chExt cx="1081800" cy="1087920"/>
          </a:xfrm>
        </p:grpSpPr>
        <p:sp>
          <p:nvSpPr>
            <p:cNvPr id="586" name=""/>
            <p:cNvSpPr/>
            <p:nvPr/>
          </p:nvSpPr>
          <p:spPr>
            <a:xfrm flipV="1">
              <a:off x="6064200" y="264168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422000">
              <a:off x="5988960" y="36572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971120" y="4484520"/>
            <a:ext cx="616680" cy="675720"/>
            <a:chOff x="7971120" y="4484520"/>
            <a:chExt cx="616680" cy="675720"/>
          </a:xfrm>
        </p:grpSpPr>
        <p:grpSp>
          <p:nvGrpSpPr>
            <p:cNvPr id="589" name=""/>
            <p:cNvGrpSpPr/>
            <p:nvPr/>
          </p:nvGrpSpPr>
          <p:grpSpPr>
            <a:xfrm>
              <a:off x="7971120" y="4484520"/>
              <a:ext cx="452160" cy="581400"/>
              <a:chOff x="7971120" y="4484520"/>
              <a:chExt cx="452160" cy="581400"/>
            </a:xfrm>
          </p:grpSpPr>
          <p:sp>
            <p:nvSpPr>
              <p:cNvPr id="590" name=""/>
              <p:cNvSpPr/>
              <p:nvPr/>
            </p:nvSpPr>
            <p:spPr>
              <a:xfrm>
                <a:off x="797112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8532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18748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026120" y="2608560"/>
            <a:ext cx="1011600" cy="1158120"/>
            <a:chOff x="7026120" y="2608560"/>
            <a:chExt cx="1011600" cy="1158120"/>
          </a:xfrm>
        </p:grpSpPr>
        <p:sp>
          <p:nvSpPr>
            <p:cNvPr id="594" name=""/>
            <p:cNvSpPr/>
            <p:nvPr/>
          </p:nvSpPr>
          <p:spPr>
            <a:xfrm>
              <a:off x="7096320" y="269100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472200">
              <a:off x="7030440" y="26128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13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16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2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0920" y="260280"/>
            <a:ext cx="8353440" cy="576360"/>
          </a:xfrm>
          <a:prstGeom prst="wedgeRoundRectCallout">
            <a:avLst>
              <a:gd name="adj1" fmla="val -27972"/>
              <a:gd name="adj2" fmla="val 1084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. Sistem sila sa 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184320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982880" y="2635200"/>
            <a:ext cx="452160" cy="581400"/>
            <a:chOff x="1982880" y="2635200"/>
            <a:chExt cx="452160" cy="581400"/>
          </a:xfrm>
        </p:grpSpPr>
        <p:sp>
          <p:nvSpPr>
            <p:cNvPr id="599" name=""/>
            <p:cNvSpPr/>
            <p:nvPr/>
          </p:nvSpPr>
          <p:spPr>
            <a:xfrm>
              <a:off x="1982880" y="2635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97080" y="270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1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 flipH="1">
            <a:off x="198108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5452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217560" y="2563920"/>
            <a:ext cx="587880" cy="581400"/>
            <a:chOff x="6217560" y="2563920"/>
            <a:chExt cx="587880" cy="581400"/>
          </a:xfrm>
        </p:grpSpPr>
        <p:sp>
          <p:nvSpPr>
            <p:cNvPr id="606" name=""/>
            <p:cNvSpPr/>
            <p:nvPr/>
          </p:nvSpPr>
          <p:spPr>
            <a:xfrm>
              <a:off x="6217560" y="256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05200" y="263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981080" y="328284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78520" y="3282840"/>
            <a:ext cx="0" cy="865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654520" y="414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1981080" y="4724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989440" y="1773360"/>
            <a:ext cx="1441440" cy="172692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492360" y="1628640"/>
            <a:ext cx="2232000" cy="1656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5607000" y="3211560"/>
          <a:ext cx="13356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7000" y="32115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"/>
          <p:cNvGrpSpPr/>
          <p:nvPr/>
        </p:nvGrpSpPr>
        <p:grpSpPr>
          <a:xfrm>
            <a:off x="2656080" y="3976560"/>
            <a:ext cx="549000" cy="675720"/>
            <a:chOff x="2656080" y="3976560"/>
            <a:chExt cx="549000" cy="675720"/>
          </a:xfrm>
        </p:grpSpPr>
        <p:grpSp>
          <p:nvGrpSpPr>
            <p:cNvPr id="619" name=""/>
            <p:cNvGrpSpPr/>
            <p:nvPr/>
          </p:nvGrpSpPr>
          <p:grpSpPr>
            <a:xfrm>
              <a:off x="2656080" y="3976560"/>
              <a:ext cx="452160" cy="581400"/>
              <a:chOff x="2656080" y="3976560"/>
              <a:chExt cx="452160" cy="581400"/>
            </a:xfrm>
          </p:grpSpPr>
          <p:sp>
            <p:nvSpPr>
              <p:cNvPr id="620" name=""/>
              <p:cNvSpPr/>
              <p:nvPr/>
            </p:nvSpPr>
            <p:spPr>
              <a:xfrm>
                <a:off x="2656080" y="3976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70280" y="4047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2872080" y="419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151600" y="3570120"/>
            <a:ext cx="549000" cy="675720"/>
            <a:chOff x="5151600" y="3570120"/>
            <a:chExt cx="549000" cy="675720"/>
          </a:xfrm>
        </p:grpSpPr>
        <p:grpSp>
          <p:nvGrpSpPr>
            <p:cNvPr id="624" name=""/>
            <p:cNvGrpSpPr/>
            <p:nvPr/>
          </p:nvGrpSpPr>
          <p:grpSpPr>
            <a:xfrm>
              <a:off x="5151600" y="3570120"/>
              <a:ext cx="452160" cy="581400"/>
              <a:chOff x="5151600" y="3570120"/>
              <a:chExt cx="452160" cy="581400"/>
            </a:xfrm>
          </p:grpSpPr>
          <p:sp>
            <p:nvSpPr>
              <p:cNvPr id="625" name=""/>
              <p:cNvSpPr/>
              <p:nvPr/>
            </p:nvSpPr>
            <p:spPr>
              <a:xfrm>
                <a:off x="5151600" y="3570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65800" y="3641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367600" y="37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05080" y="32846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78640" y="3284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4652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67240" y="25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205080" y="32824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989080" y="3571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068720" y="2997360"/>
            <a:ext cx="115272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24360" y="3284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995480" y="3284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14180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286520" y="4700520"/>
            <a:ext cx="616680" cy="675720"/>
            <a:chOff x="4286520" y="4700520"/>
            <a:chExt cx="616680" cy="675720"/>
          </a:xfrm>
        </p:grpSpPr>
        <p:grpSp>
          <p:nvGrpSpPr>
            <p:cNvPr id="639" name=""/>
            <p:cNvGrpSpPr/>
            <p:nvPr/>
          </p:nvGrpSpPr>
          <p:grpSpPr>
            <a:xfrm>
              <a:off x="4286520" y="4700520"/>
              <a:ext cx="452160" cy="581400"/>
              <a:chOff x="4286520" y="4700520"/>
              <a:chExt cx="452160" cy="581400"/>
            </a:xfrm>
          </p:grpSpPr>
          <p:sp>
            <p:nvSpPr>
              <p:cNvPr id="640" name=""/>
              <p:cNvSpPr/>
              <p:nvPr/>
            </p:nvSpPr>
            <p:spPr>
              <a:xfrm>
                <a:off x="4286520" y="47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00720" y="4771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4502880" y="4916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140360" y="1412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40360" y="21319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068720" y="321300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3213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7" name=""/>
          <p:cNvGrpSpPr/>
          <p:nvPr/>
        </p:nvGrpSpPr>
        <p:grpSpPr>
          <a:xfrm>
            <a:off x="6590880" y="4221000"/>
            <a:ext cx="587880" cy="675720"/>
            <a:chOff x="6590880" y="4221000"/>
            <a:chExt cx="587880" cy="675720"/>
          </a:xfrm>
        </p:grpSpPr>
        <p:grpSp>
          <p:nvGrpSpPr>
            <p:cNvPr id="648" name=""/>
            <p:cNvGrpSpPr/>
            <p:nvPr/>
          </p:nvGrpSpPr>
          <p:grpSpPr>
            <a:xfrm>
              <a:off x="6590880" y="4221000"/>
              <a:ext cx="587880" cy="581400"/>
              <a:chOff x="6590880" y="4221000"/>
              <a:chExt cx="587880" cy="581400"/>
            </a:xfrm>
          </p:grpSpPr>
          <p:sp>
            <p:nvSpPr>
              <p:cNvPr id="649" name=""/>
              <p:cNvSpPr/>
              <p:nvPr/>
            </p:nvSpPr>
            <p:spPr>
              <a:xfrm>
                <a:off x="6590880" y="4221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05440" y="4291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680760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333080" y="4365720"/>
            <a:ext cx="587880" cy="675360"/>
            <a:chOff x="1333080" y="4365720"/>
            <a:chExt cx="587880" cy="675360"/>
          </a:xfrm>
        </p:grpSpPr>
        <p:grpSp>
          <p:nvGrpSpPr>
            <p:cNvPr id="653" name=""/>
            <p:cNvGrpSpPr/>
            <p:nvPr/>
          </p:nvGrpSpPr>
          <p:grpSpPr>
            <a:xfrm>
              <a:off x="1333080" y="4365720"/>
              <a:ext cx="587880" cy="581400"/>
              <a:chOff x="1333080" y="4365720"/>
              <a:chExt cx="587880" cy="581400"/>
            </a:xfrm>
          </p:grpSpPr>
          <p:sp>
            <p:nvSpPr>
              <p:cNvPr id="654" name=""/>
              <p:cNvSpPr/>
              <p:nvPr/>
            </p:nvSpPr>
            <p:spPr>
              <a:xfrm>
                <a:off x="1333080" y="4365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547640" y="4436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549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68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72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74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87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403280" y="260280"/>
            <a:ext cx="4537080" cy="576360"/>
          </a:xfrm>
          <a:prstGeom prst="wedgeRoundRectCallout">
            <a:avLst>
              <a:gd name="adj1" fmla="val -21763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3. Kulmanov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6659280" y="184464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132000" y="1630080"/>
            <a:ext cx="0" cy="288108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3135240" y="2741400"/>
            <a:ext cx="1080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123640" y="17017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67640" y="1630440"/>
            <a:ext cx="136836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3640" y="53744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00360" y="2206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37440" y="22795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88000" y="54165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133800" y="3430440"/>
            <a:ext cx="452160" cy="581400"/>
            <a:chOff x="3133800" y="3430440"/>
            <a:chExt cx="452160" cy="581400"/>
          </a:xfrm>
        </p:grpSpPr>
        <p:sp>
          <p:nvSpPr>
            <p:cNvPr id="668" name=""/>
            <p:cNvSpPr/>
            <p:nvPr/>
          </p:nvSpPr>
          <p:spPr>
            <a:xfrm>
              <a:off x="3133800" y="3430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48000" y="3501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667640" y="1773000"/>
            <a:ext cx="13680" cy="3746520"/>
            <a:chOff x="7667640" y="1773000"/>
            <a:chExt cx="13680" cy="3746520"/>
          </a:xfrm>
        </p:grpSpPr>
        <p:sp>
          <p:nvSpPr>
            <p:cNvPr id="671" name=""/>
            <p:cNvSpPr/>
            <p:nvPr/>
          </p:nvSpPr>
          <p:spPr>
            <a:xfrm flipH="1" flipV="1">
              <a:off x="7667640" y="177300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70160" y="288468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5003640" y="1773360"/>
            <a:ext cx="136872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79280" y="551916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930920" y="1557360"/>
            <a:ext cx="345744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93080" y="2638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172720" y="2422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33080" y="5230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173440" y="1557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7669440" y="3573360"/>
            <a:ext cx="452160" cy="581400"/>
            <a:chOff x="7669440" y="3573360"/>
            <a:chExt cx="452160" cy="581400"/>
          </a:xfrm>
        </p:grpSpPr>
        <p:sp>
          <p:nvSpPr>
            <p:cNvPr id="681" name=""/>
            <p:cNvSpPr/>
            <p:nvPr/>
          </p:nvSpPr>
          <p:spPr>
            <a:xfrm>
              <a:off x="7669440" y="35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83640" y="3644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732720" y="1846440"/>
            <a:ext cx="0" cy="1657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6661080" y="3501720"/>
            <a:ext cx="1008000" cy="649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6699240" y="184608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705000" y="2412720"/>
            <a:ext cx="979200" cy="1145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54040" y="4357800"/>
            <a:ext cx="1042560" cy="123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5508720" y="4295880"/>
            <a:ext cx="574560" cy="71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653080" y="43671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061960" y="42696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81040" y="5550120"/>
            <a:ext cx="569520" cy="752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581720" y="4654440"/>
            <a:ext cx="569520" cy="648720"/>
            <a:chOff x="4581720" y="4654440"/>
            <a:chExt cx="569520" cy="648720"/>
          </a:xfrm>
        </p:grpSpPr>
        <p:sp>
          <p:nvSpPr>
            <p:cNvPr id="693" name=""/>
            <p:cNvSpPr/>
            <p:nvPr/>
          </p:nvSpPr>
          <p:spPr>
            <a:xfrm>
              <a:off x="4581720" y="465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88000" y="4725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886800" y="1558800"/>
            <a:ext cx="569520" cy="648720"/>
            <a:chOff x="6886800" y="1558800"/>
            <a:chExt cx="569520" cy="648720"/>
          </a:xfrm>
        </p:grpSpPr>
        <p:sp>
          <p:nvSpPr>
            <p:cNvPr id="696" name=""/>
            <p:cNvSpPr/>
            <p:nvPr/>
          </p:nvSpPr>
          <p:spPr>
            <a:xfrm>
              <a:off x="6886800" y="1558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93080" y="1630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662800" y="5230800"/>
            <a:ext cx="569520" cy="648720"/>
            <a:chOff x="5662800" y="5230800"/>
            <a:chExt cx="569520" cy="648720"/>
          </a:xfrm>
        </p:grpSpPr>
        <p:sp>
          <p:nvSpPr>
            <p:cNvPr id="699" name=""/>
            <p:cNvSpPr/>
            <p:nvPr/>
          </p:nvSpPr>
          <p:spPr>
            <a:xfrm>
              <a:off x="5662800" y="5230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69080" y="5302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733800" y="2495520"/>
            <a:ext cx="587880" cy="581400"/>
            <a:chOff x="6733800" y="2495520"/>
            <a:chExt cx="587880" cy="581400"/>
          </a:xfrm>
        </p:grpSpPr>
        <p:sp>
          <p:nvSpPr>
            <p:cNvPr id="702" name=""/>
            <p:cNvSpPr/>
            <p:nvPr/>
          </p:nvSpPr>
          <p:spPr>
            <a:xfrm>
              <a:off x="6733800" y="24955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48360" y="25668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012720" y="4295880"/>
            <a:ext cx="825480" cy="581400"/>
            <a:chOff x="6012720" y="4295880"/>
            <a:chExt cx="825480" cy="581400"/>
          </a:xfrm>
        </p:grpSpPr>
        <p:sp>
          <p:nvSpPr>
            <p:cNvPr id="705" name=""/>
            <p:cNvSpPr/>
            <p:nvPr/>
          </p:nvSpPr>
          <p:spPr>
            <a:xfrm>
              <a:off x="6012720" y="429588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43640" y="43671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5800" y="4651200"/>
            <a:ext cx="3670560" cy="648720"/>
            <a:chOff x="325800" y="4651200"/>
            <a:chExt cx="3670560" cy="648720"/>
          </a:xfrm>
        </p:grpSpPr>
        <p:grpSp>
          <p:nvGrpSpPr>
            <p:cNvPr id="708" name=""/>
            <p:cNvGrpSpPr/>
            <p:nvPr/>
          </p:nvGrpSpPr>
          <p:grpSpPr>
            <a:xfrm>
              <a:off x="1054440" y="4651200"/>
              <a:ext cx="2941920" cy="648720"/>
              <a:chOff x="1054440" y="4651200"/>
              <a:chExt cx="2941920" cy="6487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1054440" y="4651200"/>
                <a:ext cx="569520" cy="648720"/>
                <a:chOff x="1054440" y="4651200"/>
                <a:chExt cx="569520" cy="6487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05444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6072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918080" y="4651200"/>
                <a:ext cx="569520" cy="648720"/>
                <a:chOff x="1918080" y="4651200"/>
                <a:chExt cx="569520" cy="6487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91808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12436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783520" y="4651200"/>
                <a:ext cx="569520" cy="648720"/>
                <a:chOff x="2783520" y="4651200"/>
                <a:chExt cx="569520" cy="6487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78352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8980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155160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41524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77800" y="46512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325800" y="4651200"/>
              <a:ext cx="452160" cy="581400"/>
              <a:chOff x="325800" y="4651200"/>
              <a:chExt cx="452160" cy="581400"/>
            </a:xfrm>
          </p:grpSpPr>
          <p:sp>
            <p:nvSpPr>
              <p:cNvPr id="722" name=""/>
              <p:cNvSpPr/>
              <p:nvPr/>
            </p:nvSpPr>
            <p:spPr>
              <a:xfrm>
                <a:off x="32580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0000" y="4722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86160" y="46512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191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5640" y="3284640"/>
            <a:ext cx="2736720" cy="1081080"/>
          </a:xfrm>
          <a:prstGeom prst="wedgeRoundRectCallout">
            <a:avLst>
              <a:gd name="adj1" fmla="val 77203"/>
              <a:gd name="adj2" fmla="val 962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9280" y="1268280"/>
                <a:ext cx="87552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84720" y="3213000"/>
                <a:ext cx="42735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826920" y="27082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dukcijom sistema sila na tačku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dobija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lavni vek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stema si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36360" y="4581360"/>
            <a:ext cx="9300960" cy="2277720"/>
            <a:chOff x="-36360" y="4581360"/>
            <a:chExt cx="9300960" cy="2277720"/>
          </a:xfrm>
        </p:grpSpPr>
        <p:sp>
          <p:nvSpPr>
            <p:cNvPr id="263" name=""/>
            <p:cNvSpPr/>
            <p:nvPr/>
          </p:nvSpPr>
          <p:spPr>
            <a:xfrm>
              <a:off x="0" y="4797360"/>
              <a:ext cx="1042920" cy="1008000"/>
            </a:xfrm>
            <a:prstGeom prst="wedgeRoundRectCallout">
              <a:avLst>
                <a:gd name="adj1" fmla="val 9055"/>
                <a:gd name="adj2" fmla="val 70000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-36360" y="4581360"/>
              <a:ext cx="9300960" cy="2039760"/>
              <a:chOff x="-36360" y="4581360"/>
              <a:chExt cx="9300960" cy="2039760"/>
            </a:xfrm>
          </p:grpSpPr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-36360" y="4581360"/>
                    <a:ext cx="9300960" cy="15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6" name=""/>
              <p:cNvGrpSpPr/>
              <p:nvPr/>
            </p:nvGrpSpPr>
            <p:grpSpPr>
              <a:xfrm>
                <a:off x="4464000" y="5949720"/>
                <a:ext cx="1726560" cy="671400"/>
                <a:chOff x="4464000" y="5949720"/>
                <a:chExt cx="1726560" cy="6714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64000" y="5949720"/>
                  <a:ext cx="1726560" cy="647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8" name=""/>
                    <p:cNvSpPr txBox="1"/>
                    <p:nvPr/>
                  </p:nvSpPr>
                  <p:spPr>
                    <a:xfrm>
                      <a:off x="4606200" y="5949720"/>
                      <a:ext cx="1423800" cy="671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69" name=""/>
              <p:cNvSpPr/>
              <p:nvPr/>
            </p:nvSpPr>
            <p:spPr>
              <a:xfrm rot="16200000">
                <a:off x="4714560" y="5265360"/>
                <a:ext cx="360360" cy="1007640"/>
              </a:xfrm>
              <a:custGeom>
                <a:avLst/>
                <a:gdLst>
                  <a:gd name="textAreaLeft" fmla="*/ 230400 w 360360"/>
                  <a:gd name="textAreaRight" fmla="*/ 360720 w 360360"/>
                  <a:gd name="textAreaTop" fmla="*/ 26280 h 1007640"/>
                  <a:gd name="textAreaBottom" fmla="*/ 981360 h 10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4920" y="5911920"/>
              <a:ext cx="363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Glavni vekto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momenata sistema si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79280" y="112536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ri sile u ravni su u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i ako se linije dejstva sila seku i istoj tački i ako je poligon (trougao) sila zatv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068480" y="3284640"/>
            <a:ext cx="230328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868480" y="3141360"/>
            <a:ext cx="7164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363400" y="3141720"/>
            <a:ext cx="278460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677960" y="384696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858400" y="4127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858400" y="4154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3391920" y="4146120"/>
            <a:ext cx="996840" cy="9968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73200" y="3718080"/>
            <a:ext cx="548640" cy="675360"/>
            <a:chOff x="1573200" y="3718080"/>
            <a:chExt cx="548640" cy="675360"/>
          </a:xfrm>
        </p:grpSpPr>
        <p:grpSp>
          <p:nvGrpSpPr>
            <p:cNvPr id="734" name=""/>
            <p:cNvGrpSpPr/>
            <p:nvPr/>
          </p:nvGrpSpPr>
          <p:grpSpPr>
            <a:xfrm>
              <a:off x="1573200" y="3718080"/>
              <a:ext cx="452160" cy="581400"/>
              <a:chOff x="1573200" y="3718080"/>
              <a:chExt cx="452160" cy="581400"/>
            </a:xfrm>
          </p:grpSpPr>
          <p:sp>
            <p:nvSpPr>
              <p:cNvPr id="735" name=""/>
              <p:cNvSpPr/>
              <p:nvPr/>
            </p:nvSpPr>
            <p:spPr>
              <a:xfrm>
                <a:off x="1573200" y="37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87400" y="3789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78884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870280" y="5375160"/>
            <a:ext cx="549000" cy="675720"/>
            <a:chOff x="2870280" y="5375160"/>
            <a:chExt cx="549000" cy="675720"/>
          </a:xfrm>
        </p:grpSpPr>
        <p:grpSp>
          <p:nvGrpSpPr>
            <p:cNvPr id="739" name=""/>
            <p:cNvGrpSpPr/>
            <p:nvPr/>
          </p:nvGrpSpPr>
          <p:grpSpPr>
            <a:xfrm>
              <a:off x="2870280" y="5375160"/>
              <a:ext cx="452160" cy="581400"/>
              <a:chOff x="2870280" y="5375160"/>
              <a:chExt cx="452160" cy="581400"/>
            </a:xfrm>
          </p:grpSpPr>
          <p:sp>
            <p:nvSpPr>
              <p:cNvPr id="740" name=""/>
              <p:cNvSpPr/>
              <p:nvPr/>
            </p:nvSpPr>
            <p:spPr>
              <a:xfrm>
                <a:off x="2870280" y="5375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084480" y="544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086280" y="559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878280" y="4006800"/>
            <a:ext cx="548640" cy="675720"/>
            <a:chOff x="3878280" y="4006800"/>
            <a:chExt cx="548640" cy="675720"/>
          </a:xfrm>
        </p:grpSpPr>
        <p:grpSp>
          <p:nvGrpSpPr>
            <p:cNvPr id="744" name=""/>
            <p:cNvGrpSpPr/>
            <p:nvPr/>
          </p:nvGrpSpPr>
          <p:grpSpPr>
            <a:xfrm>
              <a:off x="3878280" y="4006800"/>
              <a:ext cx="452160" cy="581400"/>
              <a:chOff x="3878280" y="4006800"/>
              <a:chExt cx="452160" cy="581400"/>
            </a:xfrm>
          </p:grpSpPr>
          <p:sp>
            <p:nvSpPr>
              <p:cNvPr id="745" name=""/>
              <p:cNvSpPr/>
              <p:nvPr/>
            </p:nvSpPr>
            <p:spPr>
              <a:xfrm>
                <a:off x="3878280" y="4006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92480" y="4077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4093920" y="4222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253200" y="3141720"/>
            <a:ext cx="549000" cy="675720"/>
            <a:chOff x="6253200" y="3141720"/>
            <a:chExt cx="549000" cy="675720"/>
          </a:xfrm>
        </p:grpSpPr>
        <p:grpSp>
          <p:nvGrpSpPr>
            <p:cNvPr id="749" name=""/>
            <p:cNvGrpSpPr/>
            <p:nvPr/>
          </p:nvGrpSpPr>
          <p:grpSpPr>
            <a:xfrm>
              <a:off x="6253200" y="3141720"/>
              <a:ext cx="452160" cy="581400"/>
              <a:chOff x="6253200" y="3141720"/>
              <a:chExt cx="452160" cy="581400"/>
            </a:xfrm>
          </p:grpSpPr>
          <p:sp>
            <p:nvSpPr>
              <p:cNvPr id="750" name=""/>
              <p:cNvSpPr/>
              <p:nvPr/>
            </p:nvSpPr>
            <p:spPr>
              <a:xfrm>
                <a:off x="625320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67400" y="321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469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261200" y="4078440"/>
            <a:ext cx="548640" cy="675360"/>
            <a:chOff x="7261200" y="4078440"/>
            <a:chExt cx="548640" cy="675360"/>
          </a:xfrm>
        </p:grpSpPr>
        <p:grpSp>
          <p:nvGrpSpPr>
            <p:cNvPr id="754" name=""/>
            <p:cNvGrpSpPr/>
            <p:nvPr/>
          </p:nvGrpSpPr>
          <p:grpSpPr>
            <a:xfrm>
              <a:off x="7261200" y="4078440"/>
              <a:ext cx="452160" cy="581400"/>
              <a:chOff x="7261200" y="4078440"/>
              <a:chExt cx="452160" cy="581400"/>
            </a:xfrm>
          </p:grpSpPr>
          <p:sp>
            <p:nvSpPr>
              <p:cNvPr id="755" name=""/>
              <p:cNvSpPr/>
              <p:nvPr/>
            </p:nvSpPr>
            <p:spPr>
              <a:xfrm>
                <a:off x="7261200" y="4078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75400" y="4149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747684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253200" y="5159520"/>
            <a:ext cx="549000" cy="675360"/>
            <a:chOff x="6253200" y="5159520"/>
            <a:chExt cx="549000" cy="675360"/>
          </a:xfrm>
        </p:grpSpPr>
        <p:grpSp>
          <p:nvGrpSpPr>
            <p:cNvPr id="759" name=""/>
            <p:cNvGrpSpPr/>
            <p:nvPr/>
          </p:nvGrpSpPr>
          <p:grpSpPr>
            <a:xfrm>
              <a:off x="6253200" y="5159520"/>
              <a:ext cx="452160" cy="581400"/>
              <a:chOff x="6253200" y="5159520"/>
              <a:chExt cx="452160" cy="581400"/>
            </a:xfrm>
          </p:grpSpPr>
          <p:sp>
            <p:nvSpPr>
              <p:cNvPr id="760" name=""/>
              <p:cNvSpPr/>
              <p:nvPr/>
            </p:nvSpPr>
            <p:spPr>
              <a:xfrm>
                <a:off x="6253200" y="5159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67400" y="5230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6469200" y="537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1677960" y="388332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3391200" y="41378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94640" y="41497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41560" y="40784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13920" y="37180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86640" y="4581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435640" y="5862600"/>
                <a:ext cx="3564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684360" y="260280"/>
            <a:ext cx="7416720" cy="576360"/>
          </a:xfrm>
          <a:prstGeom prst="wedgeRoundRectCallout">
            <a:avLst>
              <a:gd name="adj1" fmla="val -23032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 Uslovi ravnoteže tri sil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601 L 0.48299 -0.06751 E">
                                      <p:cBhvr>
                                        <p:cTn id="267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50867E-006 L 0.4724 -0.11537 E">
                                      <p:cBhvr>
                                        <p:cTn id="277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0901 L 0.29757 0.04046 E">
                                      <p:cBhvr>
                                        <p:cTn id="287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755640" y="260280"/>
            <a:ext cx="7416720" cy="576360"/>
          </a:xfrm>
          <a:prstGeom prst="wedgeRoundRectCallout">
            <a:avLst>
              <a:gd name="adj1" fmla="val -23995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tri sile u ravni -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3621240" cy="4608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419640" y="1306440"/>
            <a:ext cx="5435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 flipH="1" flipV="1">
            <a:off x="611280" y="3787920"/>
            <a:ext cx="273672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2360" y="33336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ko je poligon sila zatvoren, a linije dejstva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e ne seku i istoj tački u pitanju je spreg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755640" y="2203200"/>
            <a:ext cx="165564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2268360" y="2058840"/>
            <a:ext cx="316728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406680" y="4232520"/>
            <a:ext cx="1081440" cy="1045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473000" y="2208600"/>
            <a:ext cx="36000" cy="2076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393360" y="32166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421080" y="2058840"/>
            <a:ext cx="548640" cy="675720"/>
            <a:chOff x="3421080" y="2058840"/>
            <a:chExt cx="548640" cy="675720"/>
          </a:xfrm>
        </p:grpSpPr>
        <p:grpSp>
          <p:nvGrpSpPr>
            <p:cNvPr id="782" name=""/>
            <p:cNvGrpSpPr/>
            <p:nvPr/>
          </p:nvGrpSpPr>
          <p:grpSpPr>
            <a:xfrm>
              <a:off x="3421080" y="2058840"/>
              <a:ext cx="452160" cy="581400"/>
              <a:chOff x="3421080" y="2058840"/>
              <a:chExt cx="452160" cy="581400"/>
            </a:xfrm>
          </p:grpSpPr>
          <p:sp>
            <p:nvSpPr>
              <p:cNvPr id="783" name=""/>
              <p:cNvSpPr/>
              <p:nvPr/>
            </p:nvSpPr>
            <p:spPr>
              <a:xfrm>
                <a:off x="342108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3528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363672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844720" y="3859200"/>
            <a:ext cx="548640" cy="675720"/>
            <a:chOff x="2844720" y="3859200"/>
            <a:chExt cx="548640" cy="675720"/>
          </a:xfrm>
        </p:grpSpPr>
        <p:grpSp>
          <p:nvGrpSpPr>
            <p:cNvPr id="787" name=""/>
            <p:cNvGrpSpPr/>
            <p:nvPr/>
          </p:nvGrpSpPr>
          <p:grpSpPr>
            <a:xfrm>
              <a:off x="2844720" y="3859200"/>
              <a:ext cx="452160" cy="581400"/>
              <a:chOff x="2844720" y="3859200"/>
              <a:chExt cx="452160" cy="581400"/>
            </a:xfrm>
          </p:grpSpPr>
          <p:sp>
            <p:nvSpPr>
              <p:cNvPr id="788" name=""/>
              <p:cNvSpPr/>
              <p:nvPr/>
            </p:nvSpPr>
            <p:spPr>
              <a:xfrm>
                <a:off x="2844720" y="3859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58920" y="3930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060360" y="407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973080" y="4651200"/>
            <a:ext cx="548640" cy="675720"/>
            <a:chOff x="973080" y="4651200"/>
            <a:chExt cx="548640" cy="675720"/>
          </a:xfrm>
        </p:grpSpPr>
        <p:grpSp>
          <p:nvGrpSpPr>
            <p:cNvPr id="792" name=""/>
            <p:cNvGrpSpPr/>
            <p:nvPr/>
          </p:nvGrpSpPr>
          <p:grpSpPr>
            <a:xfrm>
              <a:off x="973080" y="4651200"/>
              <a:ext cx="452160" cy="581400"/>
              <a:chOff x="973080" y="4651200"/>
              <a:chExt cx="452160" cy="581400"/>
            </a:xfrm>
          </p:grpSpPr>
          <p:sp>
            <p:nvSpPr>
              <p:cNvPr id="793" name=""/>
              <p:cNvSpPr/>
              <p:nvPr/>
            </p:nvSpPr>
            <p:spPr>
              <a:xfrm>
                <a:off x="97308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18728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118872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7813800" y="2997360"/>
            <a:ext cx="549000" cy="675360"/>
            <a:chOff x="7813800" y="2997360"/>
            <a:chExt cx="549000" cy="675360"/>
          </a:xfrm>
        </p:grpSpPr>
        <p:grpSp>
          <p:nvGrpSpPr>
            <p:cNvPr id="797" name=""/>
            <p:cNvGrpSpPr/>
            <p:nvPr/>
          </p:nvGrpSpPr>
          <p:grpSpPr>
            <a:xfrm>
              <a:off x="7813800" y="2997360"/>
              <a:ext cx="452160" cy="581400"/>
              <a:chOff x="7813800" y="2997360"/>
              <a:chExt cx="452160" cy="581400"/>
            </a:xfrm>
          </p:grpSpPr>
          <p:sp>
            <p:nvSpPr>
              <p:cNvPr id="798" name=""/>
              <p:cNvSpPr/>
              <p:nvPr/>
            </p:nvSpPr>
            <p:spPr>
              <a:xfrm>
                <a:off x="78138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280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802980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021200" y="3330720"/>
            <a:ext cx="1621080" cy="721440"/>
            <a:chOff x="4021200" y="3330720"/>
            <a:chExt cx="1621080" cy="721440"/>
          </a:xfrm>
        </p:grpSpPr>
        <p:grpSp>
          <p:nvGrpSpPr>
            <p:cNvPr id="802" name=""/>
            <p:cNvGrpSpPr/>
            <p:nvPr/>
          </p:nvGrpSpPr>
          <p:grpSpPr>
            <a:xfrm>
              <a:off x="4021200" y="3330720"/>
              <a:ext cx="701280" cy="675360"/>
              <a:chOff x="4021200" y="3330720"/>
              <a:chExt cx="701280" cy="67536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4021200" y="3330720"/>
                <a:ext cx="452160" cy="581400"/>
                <a:chOff x="4021200" y="3330720"/>
                <a:chExt cx="452160" cy="5814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4021200" y="3330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235400" y="3401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4236840" y="3546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603320" y="3403440"/>
              <a:ext cx="1038960" cy="648720"/>
              <a:chOff x="4603320" y="3403440"/>
              <a:chExt cx="1038960" cy="648720"/>
            </a:xfrm>
          </p:grpSpPr>
          <p:sp>
            <p:nvSpPr>
              <p:cNvPr id="808" name=""/>
              <p:cNvSpPr/>
              <p:nvPr/>
            </p:nvSpPr>
            <p:spPr>
              <a:xfrm>
                <a:off x="4603320" y="3403440"/>
                <a:ext cx="103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243040" y="3474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 flipV="1">
            <a:off x="3406680" y="222444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036440" y="4207320"/>
            <a:ext cx="1061640" cy="1033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494520" y="2924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49440" y="3427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06160" y="306864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744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3413520" y="3199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713000" y="235476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646680" y="236088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653520" y="3415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661080" y="3860640"/>
            <a:ext cx="548640" cy="675720"/>
            <a:chOff x="6661080" y="3860640"/>
            <a:chExt cx="548640" cy="675720"/>
          </a:xfrm>
        </p:grpSpPr>
        <p:grpSp>
          <p:nvGrpSpPr>
            <p:cNvPr id="821" name=""/>
            <p:cNvGrpSpPr/>
            <p:nvPr/>
          </p:nvGrpSpPr>
          <p:grpSpPr>
            <a:xfrm>
              <a:off x="6661080" y="3860640"/>
              <a:ext cx="452160" cy="581400"/>
              <a:chOff x="6661080" y="3860640"/>
              <a:chExt cx="452160" cy="581400"/>
            </a:xfrm>
          </p:grpSpPr>
          <p:sp>
            <p:nvSpPr>
              <p:cNvPr id="822" name=""/>
              <p:cNvSpPr/>
              <p:nvPr/>
            </p:nvSpPr>
            <p:spPr>
              <a:xfrm>
                <a:off x="666108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75280" y="393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687672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661080" y="2205000"/>
            <a:ext cx="548640" cy="675720"/>
            <a:chOff x="6661080" y="2205000"/>
            <a:chExt cx="548640" cy="675720"/>
          </a:xfrm>
        </p:grpSpPr>
        <p:grpSp>
          <p:nvGrpSpPr>
            <p:cNvPr id="826" name=""/>
            <p:cNvGrpSpPr/>
            <p:nvPr/>
          </p:nvGrpSpPr>
          <p:grpSpPr>
            <a:xfrm>
              <a:off x="6661080" y="2205000"/>
              <a:ext cx="452160" cy="581400"/>
              <a:chOff x="6661080" y="2205000"/>
              <a:chExt cx="452160" cy="581400"/>
            </a:xfrm>
          </p:grpSpPr>
          <p:sp>
            <p:nvSpPr>
              <p:cNvPr id="827" name=""/>
              <p:cNvSpPr/>
              <p:nvPr/>
            </p:nvSpPr>
            <p:spPr>
              <a:xfrm>
                <a:off x="666108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875280" y="227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687672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/>
          <p:nvPr/>
        </p:nvSpPr>
        <p:spPr>
          <a:xfrm rot="18873000">
            <a:off x="1259640" y="2572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1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2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200"/>
                            </p:stCondLst>
                            <p:childTnLst>
                              <p:par>
                                <p:cTn id="37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6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7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79280" y="620640"/>
            <a:ext cx="8713800" cy="5113440"/>
          </a:xfrm>
          <a:prstGeom prst="wedgeRoundRectCallout">
            <a:avLst>
              <a:gd name="adj1" fmla="val -20925"/>
              <a:gd name="adj2" fmla="val -2650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rafič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stema sila u ravn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ću verižnog polig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1 Odre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đivanje položaja rezultante pomoću verižnog poligona (Kulman 186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a) 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Sistem sila ima rezulta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(poligon sila je otvoren, veri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žni poligon je otvo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364000" y="5589720"/>
            <a:ext cx="3637080" cy="1268280"/>
          </a:xfrm>
          <a:prstGeom prst="wedgeRoundRectCallout">
            <a:avLst>
              <a:gd name="adj1" fmla="val -22717"/>
              <a:gd name="adj2" fmla="val -39111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Razmera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[k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0" y="328680"/>
            <a:ext cx="2879640" cy="252072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077840" y="898200"/>
            <a:ext cx="1158120" cy="1011600"/>
            <a:chOff x="1077840" y="898200"/>
            <a:chExt cx="1158120" cy="1011600"/>
          </a:xfrm>
        </p:grpSpPr>
        <p:sp>
          <p:nvSpPr>
            <p:cNvPr id="835" name=""/>
            <p:cNvSpPr/>
            <p:nvPr/>
          </p:nvSpPr>
          <p:spPr>
            <a:xfrm flipH="1">
              <a:off x="1077840" y="968400"/>
              <a:ext cx="1075680" cy="941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5872200">
              <a:off x="2161440" y="9025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935280" y="1023840"/>
            <a:ext cx="549000" cy="675720"/>
            <a:chOff x="935280" y="1023840"/>
            <a:chExt cx="549000" cy="675720"/>
          </a:xfrm>
        </p:grpSpPr>
        <p:grpSp>
          <p:nvGrpSpPr>
            <p:cNvPr id="838" name=""/>
            <p:cNvGrpSpPr/>
            <p:nvPr/>
          </p:nvGrpSpPr>
          <p:grpSpPr>
            <a:xfrm>
              <a:off x="935280" y="1023840"/>
              <a:ext cx="452160" cy="581400"/>
              <a:chOff x="935280" y="1023840"/>
              <a:chExt cx="452160" cy="581400"/>
            </a:xfrm>
          </p:grpSpPr>
          <p:sp>
            <p:nvSpPr>
              <p:cNvPr id="839" name=""/>
              <p:cNvSpPr/>
              <p:nvPr/>
            </p:nvSpPr>
            <p:spPr>
              <a:xfrm>
                <a:off x="935280" y="1023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149480" y="10947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1151280" y="123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592360" y="1336680"/>
            <a:ext cx="548640" cy="675720"/>
            <a:chOff x="2592360" y="1336680"/>
            <a:chExt cx="548640" cy="675720"/>
          </a:xfrm>
        </p:grpSpPr>
        <p:grpSp>
          <p:nvGrpSpPr>
            <p:cNvPr id="843" name=""/>
            <p:cNvGrpSpPr/>
            <p:nvPr/>
          </p:nvGrpSpPr>
          <p:grpSpPr>
            <a:xfrm>
              <a:off x="2592360" y="1336680"/>
              <a:ext cx="452160" cy="581400"/>
              <a:chOff x="2592360" y="1336680"/>
              <a:chExt cx="452160" cy="581400"/>
            </a:xfrm>
          </p:grpSpPr>
          <p:sp>
            <p:nvSpPr>
              <p:cNvPr id="844" name=""/>
              <p:cNvSpPr/>
              <p:nvPr/>
            </p:nvSpPr>
            <p:spPr>
              <a:xfrm>
                <a:off x="2592360" y="1336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806560" y="1407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2808000" y="15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602160" y="1120680"/>
            <a:ext cx="549000" cy="675720"/>
            <a:chOff x="3602160" y="1120680"/>
            <a:chExt cx="549000" cy="675720"/>
          </a:xfrm>
        </p:grpSpPr>
        <p:grpSp>
          <p:nvGrpSpPr>
            <p:cNvPr id="848" name=""/>
            <p:cNvGrpSpPr/>
            <p:nvPr/>
          </p:nvGrpSpPr>
          <p:grpSpPr>
            <a:xfrm>
              <a:off x="3602160" y="1120680"/>
              <a:ext cx="452160" cy="581400"/>
              <a:chOff x="3602160" y="1120680"/>
              <a:chExt cx="452160" cy="581400"/>
            </a:xfrm>
          </p:grpSpPr>
          <p:sp>
            <p:nvSpPr>
              <p:cNvPr id="849" name=""/>
              <p:cNvSpPr/>
              <p:nvPr/>
            </p:nvSpPr>
            <p:spPr>
              <a:xfrm>
                <a:off x="3602160" y="112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816360" y="1191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3818160" y="133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6829560" y="79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557080" y="-133200"/>
            <a:ext cx="212400" cy="3157200"/>
            <a:chOff x="2557080" y="-133200"/>
            <a:chExt cx="212400" cy="3157200"/>
          </a:xfrm>
        </p:grpSpPr>
        <p:sp>
          <p:nvSpPr>
            <p:cNvPr id="854" name=""/>
            <p:cNvSpPr/>
            <p:nvPr/>
          </p:nvSpPr>
          <p:spPr>
            <a:xfrm flipH="1" flipV="1">
              <a:off x="2557080" y="-133200"/>
              <a:ext cx="212400" cy="31572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2577600" y="731160"/>
              <a:ext cx="140400" cy="1527840"/>
              <a:chOff x="2577600" y="731160"/>
              <a:chExt cx="140400" cy="1527840"/>
            </a:xfrm>
          </p:grpSpPr>
          <p:sp>
            <p:nvSpPr>
              <p:cNvPr id="856" name=""/>
              <p:cNvSpPr/>
              <p:nvPr/>
            </p:nvSpPr>
            <p:spPr>
              <a:xfrm>
                <a:off x="2625120" y="833040"/>
                <a:ext cx="92880" cy="14259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721000">
                <a:off x="2591640" y="74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2363040" y="301680"/>
            <a:ext cx="2186280" cy="2287800"/>
            <a:chOff x="2363040" y="301680"/>
            <a:chExt cx="2186280" cy="2287800"/>
          </a:xfrm>
        </p:grpSpPr>
        <p:sp>
          <p:nvSpPr>
            <p:cNvPr id="859" name=""/>
            <p:cNvSpPr/>
            <p:nvPr/>
          </p:nvSpPr>
          <p:spPr>
            <a:xfrm flipH="1" flipV="1">
              <a:off x="2363040" y="301680"/>
              <a:ext cx="2186280" cy="22878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963880" y="920520"/>
              <a:ext cx="1055520" cy="1114560"/>
              <a:chOff x="2963880" y="920520"/>
              <a:chExt cx="1055520" cy="1114560"/>
            </a:xfrm>
          </p:grpSpPr>
          <p:sp>
            <p:nvSpPr>
              <p:cNvPr id="861" name=""/>
              <p:cNvSpPr/>
              <p:nvPr/>
            </p:nvSpPr>
            <p:spPr>
              <a:xfrm>
                <a:off x="3034440" y="999720"/>
                <a:ext cx="984960" cy="10353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329400">
                <a:off x="2966760" y="923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"/>
          <p:cNvSpPr/>
          <p:nvPr/>
        </p:nvSpPr>
        <p:spPr>
          <a:xfrm>
            <a:off x="6802920" y="18900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84720" y="547560"/>
            <a:ext cx="2232360" cy="1609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007240" y="545400"/>
            <a:ext cx="1075680" cy="941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35000" y="1870200"/>
            <a:ext cx="609120" cy="648720"/>
            <a:chOff x="5535000" y="1870200"/>
            <a:chExt cx="609120" cy="648720"/>
          </a:xfrm>
        </p:grpSpPr>
        <p:sp>
          <p:nvSpPr>
            <p:cNvPr id="867" name=""/>
            <p:cNvSpPr/>
            <p:nvPr/>
          </p:nvSpPr>
          <p:spPr>
            <a:xfrm>
              <a:off x="5535000" y="1870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38760" y="194112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1738080" y="4730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67360" y="1455120"/>
            <a:ext cx="92520" cy="1426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5840" y="2854800"/>
            <a:ext cx="941400" cy="1075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76720" y="1484280"/>
            <a:ext cx="3240360" cy="673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149800" y="2157120"/>
            <a:ext cx="3167280" cy="69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084720" y="2157480"/>
            <a:ext cx="2232360" cy="177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091920" y="53640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5151600" y="260280"/>
            <a:ext cx="549000" cy="675720"/>
            <a:chOff x="5151600" y="260280"/>
            <a:chExt cx="549000" cy="675720"/>
          </a:xfrm>
        </p:grpSpPr>
        <p:grpSp>
          <p:nvGrpSpPr>
            <p:cNvPr id="877" name=""/>
            <p:cNvGrpSpPr/>
            <p:nvPr/>
          </p:nvGrpSpPr>
          <p:grpSpPr>
            <a:xfrm>
              <a:off x="5151600" y="260280"/>
              <a:ext cx="452160" cy="581400"/>
              <a:chOff x="5151600" y="260280"/>
              <a:chExt cx="45216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5151600" y="26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5800" y="331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367600" y="4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502160" y="1771560"/>
            <a:ext cx="548640" cy="675720"/>
            <a:chOff x="4502160" y="1771560"/>
            <a:chExt cx="548640" cy="675720"/>
          </a:xfrm>
        </p:grpSpPr>
        <p:grpSp>
          <p:nvGrpSpPr>
            <p:cNvPr id="882" name=""/>
            <p:cNvGrpSpPr/>
            <p:nvPr/>
          </p:nvGrpSpPr>
          <p:grpSpPr>
            <a:xfrm>
              <a:off x="4502160" y="1771560"/>
              <a:ext cx="452160" cy="581400"/>
              <a:chOff x="4502160" y="1771560"/>
              <a:chExt cx="452160" cy="581400"/>
            </a:xfrm>
          </p:grpSpPr>
          <p:sp>
            <p:nvSpPr>
              <p:cNvPr id="883" name=""/>
              <p:cNvSpPr/>
              <p:nvPr/>
            </p:nvSpPr>
            <p:spPr>
              <a:xfrm>
                <a:off x="4502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716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717800" y="198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078520" y="3284640"/>
            <a:ext cx="549000" cy="675360"/>
            <a:chOff x="5078520" y="3284640"/>
            <a:chExt cx="549000" cy="675360"/>
          </a:xfrm>
        </p:grpSpPr>
        <p:grpSp>
          <p:nvGrpSpPr>
            <p:cNvPr id="887" name=""/>
            <p:cNvGrpSpPr/>
            <p:nvPr/>
          </p:nvGrpSpPr>
          <p:grpSpPr>
            <a:xfrm>
              <a:off x="5078520" y="3284640"/>
              <a:ext cx="452160" cy="581400"/>
              <a:chOff x="5078520" y="3284640"/>
              <a:chExt cx="452160" cy="581400"/>
            </a:xfrm>
          </p:grpSpPr>
          <p:sp>
            <p:nvSpPr>
              <p:cNvPr id="888" name=""/>
              <p:cNvSpPr/>
              <p:nvPr/>
            </p:nvSpPr>
            <p:spPr>
              <a:xfrm>
                <a:off x="507852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29272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529452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6091920" y="53316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17520" y="587700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lan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639520" y="4361040"/>
            <a:ext cx="609120" cy="648720"/>
            <a:chOff x="2639520" y="4361040"/>
            <a:chExt cx="609120" cy="648720"/>
          </a:xfrm>
        </p:grpSpPr>
        <p:sp>
          <p:nvSpPr>
            <p:cNvPr id="894" name=""/>
            <p:cNvSpPr/>
            <p:nvPr/>
          </p:nvSpPr>
          <p:spPr>
            <a:xfrm>
              <a:off x="2639520" y="43610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43280" y="443196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6231240" y="136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4036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133800" y="25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8144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72000" y="184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373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742520" y="244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240040" y="170028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88800" y="5446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33360" y="6732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310440" y="285840"/>
            <a:ext cx="456480" cy="648720"/>
            <a:chOff x="6310440" y="285840"/>
            <a:chExt cx="456480" cy="648720"/>
          </a:xfrm>
        </p:grpSpPr>
        <p:sp>
          <p:nvSpPr>
            <p:cNvPr id="907" name=""/>
            <p:cNvSpPr/>
            <p:nvPr/>
          </p:nvSpPr>
          <p:spPr>
            <a:xfrm>
              <a:off x="6310440" y="2858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43640" y="4302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501720" y="3425760"/>
            <a:ext cx="592200" cy="648720"/>
            <a:chOff x="3501720" y="3425760"/>
            <a:chExt cx="592200" cy="648720"/>
          </a:xfrm>
        </p:grpSpPr>
        <p:sp>
          <p:nvSpPr>
            <p:cNvPr id="910" name=""/>
            <p:cNvSpPr/>
            <p:nvPr/>
          </p:nvSpPr>
          <p:spPr>
            <a:xfrm>
              <a:off x="3501720" y="34257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52640" y="35701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446800" y="1006560"/>
            <a:ext cx="456480" cy="648720"/>
            <a:chOff x="5446800" y="1006560"/>
            <a:chExt cx="456480" cy="648720"/>
          </a:xfrm>
        </p:grpSpPr>
        <p:sp>
          <p:nvSpPr>
            <p:cNvPr id="913" name=""/>
            <p:cNvSpPr/>
            <p:nvPr/>
          </p:nvSpPr>
          <p:spPr>
            <a:xfrm>
              <a:off x="5446800" y="1006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80000" y="11509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545440" y="2658960"/>
            <a:ext cx="456480" cy="648720"/>
            <a:chOff x="5545440" y="2658960"/>
            <a:chExt cx="456480" cy="648720"/>
          </a:xfrm>
        </p:grpSpPr>
        <p:sp>
          <p:nvSpPr>
            <p:cNvPr id="916" name=""/>
            <p:cNvSpPr/>
            <p:nvPr/>
          </p:nvSpPr>
          <p:spPr>
            <a:xfrm>
              <a:off x="5545440" y="26589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78640" y="28036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6770880" y="3235320"/>
            <a:ext cx="456480" cy="648720"/>
            <a:chOff x="6770880" y="3235320"/>
            <a:chExt cx="456480" cy="648720"/>
          </a:xfrm>
        </p:grpSpPr>
        <p:sp>
          <p:nvSpPr>
            <p:cNvPr id="919" name=""/>
            <p:cNvSpPr/>
            <p:nvPr/>
          </p:nvSpPr>
          <p:spPr>
            <a:xfrm>
              <a:off x="6770880" y="32353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04080" y="33800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944720" y="3568680"/>
            <a:ext cx="456480" cy="648720"/>
            <a:chOff x="1944720" y="3568680"/>
            <a:chExt cx="456480" cy="648720"/>
          </a:xfrm>
        </p:grpSpPr>
        <p:sp>
          <p:nvSpPr>
            <p:cNvPr id="922" name=""/>
            <p:cNvSpPr/>
            <p:nvPr/>
          </p:nvSpPr>
          <p:spPr>
            <a:xfrm>
              <a:off x="1944720" y="35686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77920" y="37134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755640" y="1841400"/>
            <a:ext cx="1906560" cy="13939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9640" y="1913040"/>
            <a:ext cx="2519640" cy="504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411280" y="1984320"/>
            <a:ext cx="2016360" cy="433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195640" y="1767960"/>
            <a:ext cx="2195280" cy="180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95280" y="3208320"/>
            <a:ext cx="2232000" cy="177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27280" y="3208320"/>
            <a:ext cx="2232000" cy="160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627280" y="4792680"/>
            <a:ext cx="2232000" cy="1774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95280" y="4937040"/>
            <a:ext cx="2232000" cy="165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-36360" y="2560680"/>
            <a:ext cx="1800000" cy="2089080"/>
          </a:xfrm>
          <a:prstGeom prst="wedgeRoundRectCallout">
            <a:avLst>
              <a:gd name="adj1" fmla="val 67990"/>
              <a:gd name="adj2" fmla="val -37157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erižni poligon (u planu sila, zraci 0, 1, 2, 3 predstavljaju verižni polig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076720" y="4221000"/>
            <a:ext cx="4032360" cy="1268640"/>
            <a:chOff x="5076720" y="4221000"/>
            <a:chExt cx="4032360" cy="1268640"/>
          </a:xfrm>
        </p:grpSpPr>
        <p:sp>
          <p:nvSpPr>
            <p:cNvPr id="934" name=""/>
            <p:cNvSpPr/>
            <p:nvPr/>
          </p:nvSpPr>
          <p:spPr>
            <a:xfrm>
              <a:off x="5076720" y="4221000"/>
              <a:ext cx="4032360" cy="1268640"/>
            </a:xfrm>
            <a:prstGeom prst="wedgeRoundRectCallout">
              <a:avLst>
                <a:gd name="adj1" fmla="val -70356"/>
                <a:gd name="adj2" fmla="val 343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Dokaz (sledeća strana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+ (-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25920" y="4724280"/>
              <a:ext cx="22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8472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8336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8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91908E-006 L -0.37812 0.38798 E">
                                      <p:cBhvr>
                                        <p:cTn id="515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8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24000" y="320760"/>
                <a:ext cx="8496000" cy="621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KAZ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 flipH="1" flipV="1">
            <a:off x="2359080" y="1074600"/>
            <a:ext cx="3832920" cy="3753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9280" y="-27000"/>
            <a:ext cx="8713800" cy="1224000"/>
            <a:chOff x="179280" y="-27000"/>
            <a:chExt cx="8713800" cy="1224000"/>
          </a:xfrm>
        </p:grpSpPr>
        <p:sp>
          <p:nvSpPr>
            <p:cNvPr id="941" name=""/>
            <p:cNvSpPr/>
            <p:nvPr/>
          </p:nvSpPr>
          <p:spPr>
            <a:xfrm>
              <a:off x="179280" y="-27000"/>
              <a:ext cx="8713800" cy="1224000"/>
            </a:xfrm>
            <a:prstGeom prst="wedgeRoundRectCallout">
              <a:avLst>
                <a:gd name="adj1" fmla="val -20925"/>
                <a:gd name="adj2" fmla="val 4818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b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se svodi na spreg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o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95640" y="476280"/>
              <a:ext cx="21564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 flipV="1">
            <a:off x="6372360" y="5229000"/>
            <a:ext cx="93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083400" y="2006640"/>
            <a:ext cx="2242080" cy="2201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43960" y="1344600"/>
            <a:ext cx="96480" cy="4323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385360" y="17784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836720" y="2587680"/>
            <a:ext cx="548640" cy="675720"/>
            <a:chOff x="1836720" y="2587680"/>
            <a:chExt cx="548640" cy="675720"/>
          </a:xfrm>
        </p:grpSpPr>
        <p:grpSp>
          <p:nvGrpSpPr>
            <p:cNvPr id="948" name=""/>
            <p:cNvGrpSpPr/>
            <p:nvPr/>
          </p:nvGrpSpPr>
          <p:grpSpPr>
            <a:xfrm>
              <a:off x="1836720" y="2587680"/>
              <a:ext cx="452160" cy="581400"/>
              <a:chOff x="1836720" y="2587680"/>
              <a:chExt cx="452160" cy="581400"/>
            </a:xfrm>
          </p:grpSpPr>
          <p:sp>
            <p:nvSpPr>
              <p:cNvPr id="949" name=""/>
              <p:cNvSpPr/>
              <p:nvPr/>
            </p:nvSpPr>
            <p:spPr>
              <a:xfrm>
                <a:off x="1836720" y="2587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50920" y="2658600"/>
                <a:ext cx="2156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2052360" y="2803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573800" y="2708280"/>
            <a:ext cx="549000" cy="675720"/>
            <a:chOff x="4573800" y="2708280"/>
            <a:chExt cx="549000" cy="675720"/>
          </a:xfrm>
        </p:grpSpPr>
        <p:grpSp>
          <p:nvGrpSpPr>
            <p:cNvPr id="953" name=""/>
            <p:cNvGrpSpPr/>
            <p:nvPr/>
          </p:nvGrpSpPr>
          <p:grpSpPr>
            <a:xfrm>
              <a:off x="4573800" y="2708280"/>
              <a:ext cx="452160" cy="581400"/>
              <a:chOff x="4573800" y="2708280"/>
              <a:chExt cx="452160" cy="581400"/>
            </a:xfrm>
          </p:grpSpPr>
          <p:sp>
            <p:nvSpPr>
              <p:cNvPr id="954" name=""/>
              <p:cNvSpPr/>
              <p:nvPr/>
            </p:nvSpPr>
            <p:spPr>
              <a:xfrm>
                <a:off x="457380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788000" y="277920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4789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349800" y="1557360"/>
            <a:ext cx="549000" cy="675720"/>
            <a:chOff x="3349800" y="1557360"/>
            <a:chExt cx="549000" cy="675720"/>
          </a:xfrm>
        </p:grpSpPr>
        <p:grpSp>
          <p:nvGrpSpPr>
            <p:cNvPr id="958" name=""/>
            <p:cNvGrpSpPr/>
            <p:nvPr/>
          </p:nvGrpSpPr>
          <p:grpSpPr>
            <a:xfrm>
              <a:off x="3349800" y="1557360"/>
              <a:ext cx="452160" cy="581400"/>
              <a:chOff x="3349800" y="1557360"/>
              <a:chExt cx="452160" cy="581400"/>
            </a:xfrm>
          </p:grpSpPr>
          <p:sp>
            <p:nvSpPr>
              <p:cNvPr id="959" name=""/>
              <p:cNvSpPr/>
              <p:nvPr/>
            </p:nvSpPr>
            <p:spPr>
              <a:xfrm>
                <a:off x="3349800" y="155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64000" y="162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56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V="1">
            <a:off x="3621960" y="2599200"/>
            <a:ext cx="108108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2837160" y="15440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8366000">
            <a:off x="6538320" y="5420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8652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7344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6300360" y="1484280"/>
            <a:ext cx="201780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7308360" y="2492280"/>
            <a:ext cx="100980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446880" y="2421000"/>
            <a:ext cx="549000" cy="675720"/>
            <a:chOff x="6446880" y="2421000"/>
            <a:chExt cx="549000" cy="675720"/>
          </a:xfrm>
        </p:grpSpPr>
        <p:grpSp>
          <p:nvGrpSpPr>
            <p:cNvPr id="970" name=""/>
            <p:cNvGrpSpPr/>
            <p:nvPr/>
          </p:nvGrpSpPr>
          <p:grpSpPr>
            <a:xfrm>
              <a:off x="6446880" y="2421000"/>
              <a:ext cx="452160" cy="581400"/>
              <a:chOff x="6446880" y="2421000"/>
              <a:chExt cx="452160" cy="581400"/>
            </a:xfrm>
          </p:grpSpPr>
          <p:sp>
            <p:nvSpPr>
              <p:cNvPr id="971" name=""/>
              <p:cNvSpPr/>
              <p:nvPr/>
            </p:nvSpPr>
            <p:spPr>
              <a:xfrm>
                <a:off x="6446880" y="24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1080" y="249192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6628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 flipH="1">
            <a:off x="6274800" y="149112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289560" y="2505600"/>
            <a:ext cx="108144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6296400" y="147240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6662880" y="1413000"/>
            <a:ext cx="549000" cy="675360"/>
            <a:chOff x="6662880" y="1413000"/>
            <a:chExt cx="549000" cy="675360"/>
          </a:xfrm>
        </p:grpSpPr>
        <p:grpSp>
          <p:nvGrpSpPr>
            <p:cNvPr id="978" name=""/>
            <p:cNvGrpSpPr/>
            <p:nvPr/>
          </p:nvGrpSpPr>
          <p:grpSpPr>
            <a:xfrm>
              <a:off x="6662880" y="1413000"/>
              <a:ext cx="452160" cy="581400"/>
              <a:chOff x="6662880" y="1413000"/>
              <a:chExt cx="452160" cy="581400"/>
            </a:xfrm>
          </p:grpSpPr>
          <p:sp>
            <p:nvSpPr>
              <p:cNvPr id="979" name=""/>
              <p:cNvSpPr/>
              <p:nvPr/>
            </p:nvSpPr>
            <p:spPr>
              <a:xfrm>
                <a:off x="6662880" y="14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877080" y="14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687888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727600" y="2131920"/>
            <a:ext cx="548640" cy="675720"/>
            <a:chOff x="5727600" y="2131920"/>
            <a:chExt cx="548640" cy="675720"/>
          </a:xfrm>
        </p:grpSpPr>
        <p:grpSp>
          <p:nvGrpSpPr>
            <p:cNvPr id="983" name=""/>
            <p:cNvGrpSpPr/>
            <p:nvPr/>
          </p:nvGrpSpPr>
          <p:grpSpPr>
            <a:xfrm>
              <a:off x="5727600" y="2131920"/>
              <a:ext cx="452160" cy="581400"/>
              <a:chOff x="5727600" y="2131920"/>
              <a:chExt cx="452160" cy="581400"/>
            </a:xfrm>
          </p:grpSpPr>
          <p:sp>
            <p:nvSpPr>
              <p:cNvPr id="984" name=""/>
              <p:cNvSpPr/>
              <p:nvPr/>
            </p:nvSpPr>
            <p:spPr>
              <a:xfrm>
                <a:off x="5727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41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5943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 flipH="1">
            <a:off x="6300360" y="2708280"/>
            <a:ext cx="2017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27960" y="1916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167600" y="30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1232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123640" y="3500280"/>
            <a:ext cx="2017800" cy="865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419280" y="3716280"/>
            <a:ext cx="2376360" cy="5047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508720" y="4149720"/>
            <a:ext cx="2017440" cy="12240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324000" y="2997000"/>
            <a:ext cx="2017440" cy="122364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2339640" y="4220640"/>
            <a:ext cx="4319640" cy="2637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26760" y="2744280"/>
            <a:ext cx="834840" cy="856080"/>
            <a:chOff x="626760" y="2744280"/>
            <a:chExt cx="834840" cy="856080"/>
          </a:xfrm>
        </p:grpSpPr>
        <p:sp>
          <p:nvSpPr>
            <p:cNvPr id="997" name=""/>
            <p:cNvSpPr/>
            <p:nvPr/>
          </p:nvSpPr>
          <p:spPr>
            <a:xfrm rot="1768800">
              <a:off x="748080" y="28479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93320" y="2993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6398640" y="4214160"/>
            <a:ext cx="1452960" cy="1221120"/>
            <a:chOff x="6398640" y="4214160"/>
            <a:chExt cx="1452960" cy="1221120"/>
          </a:xfrm>
        </p:grpSpPr>
        <p:sp>
          <p:nvSpPr>
            <p:cNvPr id="1000" name=""/>
            <p:cNvSpPr/>
            <p:nvPr/>
          </p:nvSpPr>
          <p:spPr>
            <a:xfrm rot="1832400">
              <a:off x="6472800" y="4500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63320" y="4402800"/>
              <a:ext cx="185760" cy="10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46240" y="4803840"/>
              <a:ext cx="186120" cy="10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8240040" y="238284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020000" y="5805360"/>
            <a:ext cx="2124000" cy="1052640"/>
          </a:xfrm>
          <a:prstGeom prst="wedgeRoundRectCallout">
            <a:avLst>
              <a:gd name="adj1" fmla="val -46787"/>
              <a:gd name="adj2" fmla="val -6568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rak sp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7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H="1">
            <a:off x="3413880" y="2391840"/>
            <a:ext cx="1960200" cy="3763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-396720" y="6138720"/>
            <a:ext cx="8964360" cy="719280"/>
            <a:chOff x="-396720" y="6138720"/>
            <a:chExt cx="8964360" cy="719280"/>
          </a:xfrm>
        </p:grpSpPr>
        <p:sp>
          <p:nvSpPr>
            <p:cNvPr id="1007" name=""/>
            <p:cNvSpPr/>
            <p:nvPr/>
          </p:nvSpPr>
          <p:spPr>
            <a:xfrm>
              <a:off x="-396720" y="6138720"/>
              <a:ext cx="8964360" cy="719280"/>
            </a:xfrm>
            <a:prstGeom prst="wedgeRoundRectCallout">
              <a:avLst>
                <a:gd name="adj1" fmla="val 842"/>
                <a:gd name="adj2" fmla="val -8487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rac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u kolinearni: (-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 i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e poništavaj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1008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50920" y="0"/>
            <a:ext cx="5113080" cy="1871640"/>
            <a:chOff x="250920" y="0"/>
            <a:chExt cx="5113080" cy="1871640"/>
          </a:xfrm>
        </p:grpSpPr>
        <p:sp>
          <p:nvSpPr>
            <p:cNvPr id="1011" name=""/>
            <p:cNvSpPr/>
            <p:nvPr/>
          </p:nvSpPr>
          <p:spPr>
            <a:xfrm>
              <a:off x="250920" y="0"/>
              <a:ext cx="5113080" cy="1871640"/>
            </a:xfrm>
            <a:prstGeom prst="wedgeRoundRectCallout">
              <a:avLst>
                <a:gd name="adj1" fmla="val -17430"/>
                <a:gd name="adj2" fmla="val 46777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c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je u ravnoteži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za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8920" y="981000"/>
              <a:ext cx="288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418040" y="1951920"/>
            <a:ext cx="835560" cy="856800"/>
            <a:chOff x="1418040" y="1951920"/>
            <a:chExt cx="835560" cy="856800"/>
          </a:xfrm>
        </p:grpSpPr>
        <p:sp>
          <p:nvSpPr>
            <p:cNvPr id="1014" name=""/>
            <p:cNvSpPr/>
            <p:nvPr/>
          </p:nvSpPr>
          <p:spPr>
            <a:xfrm rot="1777200">
              <a:off x="1539720" y="20556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85680" y="2201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7233840" y="5220720"/>
            <a:ext cx="1452240" cy="1224360"/>
            <a:chOff x="7233840" y="5220720"/>
            <a:chExt cx="1452240" cy="1224360"/>
          </a:xfrm>
        </p:grpSpPr>
        <p:sp>
          <p:nvSpPr>
            <p:cNvPr id="1017" name=""/>
            <p:cNvSpPr/>
            <p:nvPr/>
          </p:nvSpPr>
          <p:spPr>
            <a:xfrm rot="1845600">
              <a:off x="7308000" y="5508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599960" y="5409000"/>
              <a:ext cx="185400" cy="11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281440" y="5812920"/>
              <a:ext cx="185400" cy="11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H="1" flipV="1">
            <a:off x="5545440" y="882000"/>
            <a:ext cx="2703240" cy="152172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037560" y="414000"/>
            <a:ext cx="96660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543640" y="4093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5548320" y="8658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6658920" y="835560"/>
            <a:ext cx="552960" cy="677160"/>
            <a:chOff x="6658920" y="835560"/>
            <a:chExt cx="552960" cy="677160"/>
          </a:xfrm>
        </p:grpSpPr>
        <p:grpSp>
          <p:nvGrpSpPr>
            <p:cNvPr id="1025" name=""/>
            <p:cNvGrpSpPr/>
            <p:nvPr/>
          </p:nvGrpSpPr>
          <p:grpSpPr>
            <a:xfrm>
              <a:off x="6658920" y="835560"/>
              <a:ext cx="456120" cy="584280"/>
              <a:chOff x="6658920" y="835560"/>
              <a:chExt cx="456120" cy="584280"/>
            </a:xfrm>
          </p:grpSpPr>
          <p:sp>
            <p:nvSpPr>
              <p:cNvPr id="1026" name=""/>
              <p:cNvSpPr/>
              <p:nvPr/>
            </p:nvSpPr>
            <p:spPr>
              <a:xfrm rot="21577200">
                <a:off x="666072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73480" y="906480"/>
                <a:ext cx="215640" cy="14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 rot="21577200">
              <a:off x="6877440" y="105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219280" y="1267200"/>
            <a:ext cx="553320" cy="677160"/>
            <a:chOff x="5219280" y="1267200"/>
            <a:chExt cx="553320" cy="677160"/>
          </a:xfrm>
        </p:grpSpPr>
        <p:grpSp>
          <p:nvGrpSpPr>
            <p:cNvPr id="1030" name=""/>
            <p:cNvGrpSpPr/>
            <p:nvPr/>
          </p:nvGrpSpPr>
          <p:grpSpPr>
            <a:xfrm>
              <a:off x="5219280" y="1267200"/>
              <a:ext cx="456120" cy="584280"/>
              <a:chOff x="5219280" y="1267200"/>
              <a:chExt cx="456120" cy="584280"/>
            </a:xfrm>
          </p:grpSpPr>
          <p:sp>
            <p:nvSpPr>
              <p:cNvPr id="1031" name=""/>
              <p:cNvSpPr/>
              <p:nvPr/>
            </p:nvSpPr>
            <p:spPr>
              <a:xfrm rot="21577200">
                <a:off x="522108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5433840" y="1338120"/>
                <a:ext cx="21600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 rot="21577200">
              <a:off x="5438160" y="148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795280" y="43200"/>
            <a:ext cx="552960" cy="677160"/>
            <a:chOff x="5795280" y="43200"/>
            <a:chExt cx="552960" cy="677160"/>
          </a:xfrm>
        </p:grpSpPr>
        <p:grpSp>
          <p:nvGrpSpPr>
            <p:cNvPr id="1035" name=""/>
            <p:cNvGrpSpPr/>
            <p:nvPr/>
          </p:nvGrpSpPr>
          <p:grpSpPr>
            <a:xfrm>
              <a:off x="5795280" y="43200"/>
              <a:ext cx="456120" cy="584280"/>
              <a:chOff x="5795280" y="43200"/>
              <a:chExt cx="456120" cy="584280"/>
            </a:xfrm>
          </p:grpSpPr>
          <p:sp>
            <p:nvSpPr>
              <p:cNvPr id="1036" name=""/>
              <p:cNvSpPr/>
              <p:nvPr/>
            </p:nvSpPr>
            <p:spPr>
              <a:xfrm rot="21577200">
                <a:off x="5797080" y="4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6009840" y="114120"/>
                <a:ext cx="21564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 rot="21577200">
              <a:off x="6013800" y="25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 rot="21577200">
            <a:off x="7094520" y="148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rot="21577200">
            <a:off x="7382160" y="83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rot="21577200">
            <a:off x="6805800" y="191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rot="21577200">
            <a:off x="8171280" y="20235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44480" y="2194920"/>
            <a:ext cx="1130040" cy="3217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253960" y="2470680"/>
            <a:ext cx="3101040" cy="965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109760" y="2982600"/>
            <a:ext cx="96696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009960" y="27511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5461200" y="28296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3715200" y="5029920"/>
            <a:ext cx="2898000" cy="1699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5721480" y="2994840"/>
            <a:ext cx="558360" cy="678600"/>
            <a:chOff x="5721480" y="2994840"/>
            <a:chExt cx="558360" cy="678600"/>
          </a:xfrm>
        </p:grpSpPr>
        <p:grpSp>
          <p:nvGrpSpPr>
            <p:cNvPr id="1050" name=""/>
            <p:cNvGrpSpPr/>
            <p:nvPr/>
          </p:nvGrpSpPr>
          <p:grpSpPr>
            <a:xfrm>
              <a:off x="5721480" y="2994840"/>
              <a:ext cx="460440" cy="587880"/>
              <a:chOff x="5721480" y="2994840"/>
              <a:chExt cx="460440" cy="587880"/>
            </a:xfrm>
          </p:grpSpPr>
          <p:sp>
            <p:nvSpPr>
              <p:cNvPr id="1051" name=""/>
              <p:cNvSpPr/>
              <p:nvPr/>
            </p:nvSpPr>
            <p:spPr>
              <a:xfrm rot="21550200">
                <a:off x="5725440" y="2997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936400" y="3066120"/>
                <a:ext cx="21600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 rot="21550200">
              <a:off x="5943600" y="32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 rot="21550200">
            <a:off x="47181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21550200">
            <a:off x="334980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064040" y="3282120"/>
            <a:ext cx="558000" cy="678600"/>
            <a:chOff x="4064040" y="3282120"/>
            <a:chExt cx="558000" cy="678600"/>
          </a:xfrm>
        </p:grpSpPr>
        <p:grpSp>
          <p:nvGrpSpPr>
            <p:cNvPr id="1057" name=""/>
            <p:cNvGrpSpPr/>
            <p:nvPr/>
          </p:nvGrpSpPr>
          <p:grpSpPr>
            <a:xfrm>
              <a:off x="4064040" y="3282120"/>
              <a:ext cx="460440" cy="587880"/>
              <a:chOff x="4064040" y="3282120"/>
              <a:chExt cx="460440" cy="587880"/>
            </a:xfrm>
          </p:grpSpPr>
          <p:sp>
            <p:nvSpPr>
              <p:cNvPr id="1058" name=""/>
              <p:cNvSpPr/>
              <p:nvPr/>
            </p:nvSpPr>
            <p:spPr>
              <a:xfrm rot="21550200">
                <a:off x="4068000" y="328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4278960" y="3353400"/>
                <a:ext cx="215640" cy="32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 rot="21550200">
              <a:off x="4285800" y="349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273480" y="2274120"/>
            <a:ext cx="558000" cy="678600"/>
            <a:chOff x="3273480" y="2274120"/>
            <a:chExt cx="558000" cy="678600"/>
          </a:xfrm>
        </p:grpSpPr>
        <p:grpSp>
          <p:nvGrpSpPr>
            <p:cNvPr id="1062" name=""/>
            <p:cNvGrpSpPr/>
            <p:nvPr/>
          </p:nvGrpSpPr>
          <p:grpSpPr>
            <a:xfrm>
              <a:off x="3273480" y="2274120"/>
              <a:ext cx="460440" cy="587880"/>
              <a:chOff x="3273480" y="2274120"/>
              <a:chExt cx="460440" cy="587880"/>
            </a:xfrm>
          </p:grpSpPr>
          <p:sp>
            <p:nvSpPr>
              <p:cNvPr id="1063" name=""/>
              <p:cNvSpPr/>
              <p:nvPr/>
            </p:nvSpPr>
            <p:spPr>
              <a:xfrm rot="21550200">
                <a:off x="3277440" y="22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3488400" y="2345400"/>
                <a:ext cx="215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 rot="21550200">
              <a:off x="3495240" y="249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H="1" flipV="1">
            <a:off x="2754720" y="3094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6279480" y="5187240"/>
            <a:ext cx="2702880" cy="15217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108360" y="1728000"/>
            <a:ext cx="2703240" cy="152172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rot="21577200">
            <a:off x="613080" y="213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21577200">
            <a:off x="6518520" y="53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998040" y="403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058080" y="2268360"/>
            <a:ext cx="2191320" cy="13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3635280" y="4941720"/>
            <a:ext cx="2808360" cy="1727280"/>
          </a:xfrm>
          <a:prstGeom prst="rect">
            <a:avLst/>
          </a:prstGeom>
          <a:solidFill>
            <a:srgbClr val="9c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16720" y="4292640"/>
            <a:ext cx="2016000" cy="576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635280" y="4292640"/>
            <a:ext cx="2665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0920" y="-27000"/>
            <a:ext cx="8713800" cy="1297080"/>
          </a:xfrm>
          <a:prstGeom prst="wedgeRoundRectCallout">
            <a:avLst>
              <a:gd name="adj1" fmla="val -21745"/>
              <a:gd name="adj2" fmla="val 704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2 Primena veri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žnog poligona kod sistema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554400" y="1325880"/>
            <a:ext cx="43560" cy="4277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574560" y="141804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82120" y="3737880"/>
            <a:ext cx="255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88960" y="2276280"/>
            <a:ext cx="2111400" cy="143964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8960" y="3716280"/>
            <a:ext cx="2111400" cy="13683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2689920" y="1632600"/>
            <a:ext cx="2880" cy="389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107120" y="148320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120080" y="1484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7120080" y="2492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11972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12008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870444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120080" y="38592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989440" y="227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9440" y="5084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349800" y="227664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41440" y="551664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85800" y="1413000"/>
            <a:ext cx="452160" cy="581400"/>
            <a:chOff x="685800" y="1413000"/>
            <a:chExt cx="452160" cy="581400"/>
          </a:xfrm>
        </p:grpSpPr>
        <p:sp>
          <p:nvSpPr>
            <p:cNvPr id="1095" name=""/>
            <p:cNvSpPr/>
            <p:nvPr/>
          </p:nvSpPr>
          <p:spPr>
            <a:xfrm>
              <a:off x="685800" y="1413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00000" y="1483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616800" y="1771560"/>
            <a:ext cx="452160" cy="581400"/>
            <a:chOff x="6616800" y="1771560"/>
            <a:chExt cx="452160" cy="581400"/>
          </a:xfrm>
        </p:grpSpPr>
        <p:sp>
          <p:nvSpPr>
            <p:cNvPr id="1098" name=""/>
            <p:cNvSpPr/>
            <p:nvPr/>
          </p:nvSpPr>
          <p:spPr>
            <a:xfrm>
              <a:off x="6616800" y="1771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31000" y="1842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rot="21550200">
            <a:off x="8056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rot="21577200">
            <a:off x="7769520" y="155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76880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rot="21550200">
            <a:off x="1551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21577200">
            <a:off x="1406520" y="42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065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34324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2520" y="35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312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68844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633520" y="22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761520" y="119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277440" y="2781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780000" y="3730680"/>
                <a:ext cx="4895640" cy="29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l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stojanje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DE,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:a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: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underbracealignl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eqAr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dukcioni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mom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le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 rot="16200000">
            <a:off x="251640" y="2635920"/>
            <a:ext cx="2808000" cy="2089080"/>
          </a:xfrm>
          <a:prstGeom prst="triangle">
            <a:avLst>
              <a:gd name="adj" fmla="val 48838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rot="21550200">
            <a:off x="2341800" y="22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rot="21550200">
            <a:off x="2341080" y="443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912360" y="1664280"/>
            <a:ext cx="2016000" cy="1655640"/>
          </a:xfrm>
          <a:prstGeom prst="triangle">
            <a:avLst>
              <a:gd name="adj" fmla="val 49366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rot="21550200">
            <a:off x="7094160" y="1557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rot="21550200">
            <a:off x="7094880" y="29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516720" y="1700280"/>
            <a:ext cx="503280" cy="718920"/>
            <a:chOff x="6516720" y="1700280"/>
            <a:chExt cx="503280" cy="718920"/>
          </a:xfrm>
        </p:grpSpPr>
        <p:grpSp>
          <p:nvGrpSpPr>
            <p:cNvPr id="1124" name=""/>
            <p:cNvGrpSpPr/>
            <p:nvPr/>
          </p:nvGrpSpPr>
          <p:grpSpPr>
            <a:xfrm>
              <a:off x="6518160" y="1771560"/>
              <a:ext cx="452160" cy="581400"/>
              <a:chOff x="6518160" y="1771560"/>
              <a:chExt cx="452160" cy="581400"/>
            </a:xfrm>
          </p:grpSpPr>
          <p:sp>
            <p:nvSpPr>
              <p:cNvPr id="1125" name=""/>
              <p:cNvSpPr/>
              <p:nvPr/>
            </p:nvSpPr>
            <p:spPr>
              <a:xfrm>
                <a:off x="6518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732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651672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02000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1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000"/>
                            </p:stCondLst>
                            <p:childTnLst>
                              <p:par>
                                <p:cTn id="78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6633"/>
                                      </p:to>
                                    </p:animClr>
                                    <p:set>
                                      <p:cBhvr>
                                        <p:cTn id="785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8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796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8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2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6000"/>
                            </p:stCondLst>
                            <p:childTnLst>
                              <p:par>
                                <p:cTn id="8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8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9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0" y="5805360"/>
            <a:ext cx="3276720" cy="10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8760" y="61524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333720" y="115920"/>
            <a:ext cx="569520" cy="648720"/>
            <a:chOff x="333720" y="115920"/>
            <a:chExt cx="569520" cy="648720"/>
          </a:xfrm>
        </p:grpSpPr>
        <p:sp>
          <p:nvSpPr>
            <p:cNvPr id="1132" name=""/>
            <p:cNvSpPr/>
            <p:nvPr/>
          </p:nvSpPr>
          <p:spPr>
            <a:xfrm>
              <a:off x="333720" y="115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0000" y="186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752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66663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84480" y="980280"/>
            <a:ext cx="23400" cy="20887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31800" y="1171800"/>
            <a:ext cx="0" cy="119232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105000" y="1231560"/>
            <a:ext cx="9360" cy="172548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68560" y="1603800"/>
            <a:ext cx="360" cy="1191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556160" y="167508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275080" y="1530720"/>
            <a:ext cx="36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386064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1128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54764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19564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0" y="2852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292720" y="26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940360" y="3357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72360" y="981000"/>
            <a:ext cx="237636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21550200">
            <a:off x="75265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443640" y="2205000"/>
            <a:ext cx="23050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21550200">
            <a:off x="6878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443640" y="3357360"/>
            <a:ext cx="2305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rot="21550200">
            <a:off x="6950160" y="37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372360" y="2565360"/>
            <a:ext cx="23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21550200">
            <a:off x="673416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6443640" y="3357720"/>
            <a:ext cx="2305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rot="21550200">
            <a:off x="6661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6443280" y="3357720"/>
            <a:ext cx="230508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rot="21550200">
            <a:off x="704556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6443280" y="3357720"/>
            <a:ext cx="230508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rot="21550200">
            <a:off x="687888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67780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197000" y="620640"/>
            <a:ext cx="569520" cy="648720"/>
            <a:chOff x="1197000" y="620640"/>
            <a:chExt cx="569520" cy="648720"/>
          </a:xfrm>
        </p:grpSpPr>
        <p:sp>
          <p:nvSpPr>
            <p:cNvPr id="1164" name=""/>
            <p:cNvSpPr/>
            <p:nvPr/>
          </p:nvSpPr>
          <p:spPr>
            <a:xfrm>
              <a:off x="1197000" y="620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03280" y="691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5805720" y="2565360"/>
            <a:ext cx="569520" cy="648720"/>
            <a:chOff x="5805720" y="2565360"/>
            <a:chExt cx="569520" cy="648720"/>
          </a:xfrm>
        </p:grpSpPr>
        <p:sp>
          <p:nvSpPr>
            <p:cNvPr id="1167" name=""/>
            <p:cNvSpPr/>
            <p:nvPr/>
          </p:nvSpPr>
          <p:spPr>
            <a:xfrm>
              <a:off x="580572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12000" y="263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886120" y="692280"/>
            <a:ext cx="569520" cy="648720"/>
            <a:chOff x="2886120" y="692280"/>
            <a:chExt cx="569520" cy="648720"/>
          </a:xfrm>
        </p:grpSpPr>
        <p:sp>
          <p:nvSpPr>
            <p:cNvPr id="1170" name=""/>
            <p:cNvSpPr/>
            <p:nvPr/>
          </p:nvSpPr>
          <p:spPr>
            <a:xfrm>
              <a:off x="288612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9240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805720" y="3068640"/>
            <a:ext cx="569520" cy="648720"/>
            <a:chOff x="5805720" y="3068640"/>
            <a:chExt cx="569520" cy="648720"/>
          </a:xfrm>
        </p:grpSpPr>
        <p:sp>
          <p:nvSpPr>
            <p:cNvPr id="1173" name=""/>
            <p:cNvSpPr/>
            <p:nvPr/>
          </p:nvSpPr>
          <p:spPr>
            <a:xfrm>
              <a:off x="5805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2000" y="31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221360" y="1125360"/>
            <a:ext cx="569520" cy="648720"/>
            <a:chOff x="4221360" y="1125360"/>
            <a:chExt cx="569520" cy="648720"/>
          </a:xfrm>
        </p:grpSpPr>
        <p:sp>
          <p:nvSpPr>
            <p:cNvPr id="1176" name=""/>
            <p:cNvSpPr/>
            <p:nvPr/>
          </p:nvSpPr>
          <p:spPr>
            <a:xfrm>
              <a:off x="422136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427640" y="119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013360" y="907920"/>
            <a:ext cx="569520" cy="648720"/>
            <a:chOff x="5013360" y="907920"/>
            <a:chExt cx="569520" cy="648720"/>
          </a:xfrm>
        </p:grpSpPr>
        <p:sp>
          <p:nvSpPr>
            <p:cNvPr id="1179" name=""/>
            <p:cNvSpPr/>
            <p:nvPr/>
          </p:nvSpPr>
          <p:spPr>
            <a:xfrm>
              <a:off x="5013360" y="907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19640" y="979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"/>
          <p:cNvSpPr/>
          <p:nvPr/>
        </p:nvSpPr>
        <p:spPr>
          <a:xfrm flipH="1" flipV="1">
            <a:off x="6404760" y="100548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877000" y="692280"/>
            <a:ext cx="569520" cy="648720"/>
            <a:chOff x="5877000" y="692280"/>
            <a:chExt cx="569520" cy="648720"/>
          </a:xfrm>
        </p:grpSpPr>
        <p:sp>
          <p:nvSpPr>
            <p:cNvPr id="1183" name=""/>
            <p:cNvSpPr/>
            <p:nvPr/>
          </p:nvSpPr>
          <p:spPr>
            <a:xfrm>
              <a:off x="58770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8328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6427800" y="1028160"/>
            <a:ext cx="0" cy="119160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382080" y="1341360"/>
            <a:ext cx="569520" cy="648720"/>
            <a:chOff x="6382080" y="1341360"/>
            <a:chExt cx="569520" cy="648720"/>
          </a:xfrm>
        </p:grpSpPr>
        <p:sp>
          <p:nvSpPr>
            <p:cNvPr id="1187" name=""/>
            <p:cNvSpPr/>
            <p:nvPr/>
          </p:nvSpPr>
          <p:spPr>
            <a:xfrm>
              <a:off x="6382080" y="134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88360" y="141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406920" y="2192760"/>
            <a:ext cx="3240" cy="21499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1989360" y="404640"/>
            <a:ext cx="569520" cy="648720"/>
            <a:chOff x="1989360" y="404640"/>
            <a:chExt cx="569520" cy="648720"/>
          </a:xfrm>
        </p:grpSpPr>
        <p:sp>
          <p:nvSpPr>
            <p:cNvPr id="1191" name=""/>
            <p:cNvSpPr/>
            <p:nvPr/>
          </p:nvSpPr>
          <p:spPr>
            <a:xfrm>
              <a:off x="1989360" y="40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95640" y="47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5940360" y="429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940360" y="335772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995640" y="5950080"/>
            <a:ext cx="914400" cy="609480"/>
            <a:chOff x="3995640" y="5950080"/>
            <a:chExt cx="914400" cy="609480"/>
          </a:xfrm>
        </p:grpSpPr>
        <p:sp>
          <p:nvSpPr>
            <p:cNvPr id="1196" name=""/>
            <p:cNvSpPr/>
            <p:nvPr/>
          </p:nvSpPr>
          <p:spPr>
            <a:xfrm>
              <a:off x="3995640" y="5950080"/>
              <a:ext cx="914400" cy="609480"/>
            </a:xfrm>
            <a:prstGeom prst="wedgeRoundRectCallout">
              <a:avLst>
                <a:gd name="adj1" fmla="val 160939"/>
                <a:gd name="adj2" fmla="val -401564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84720" y="6021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8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70036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6413760" y="2571840"/>
            <a:ext cx="19080" cy="175356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6382080" y="2852640"/>
            <a:ext cx="569520" cy="648720"/>
            <a:chOff x="6382080" y="2852640"/>
            <a:chExt cx="569520" cy="648720"/>
          </a:xfrm>
        </p:grpSpPr>
        <p:sp>
          <p:nvSpPr>
            <p:cNvPr id="1204" name=""/>
            <p:cNvSpPr/>
            <p:nvPr/>
          </p:nvSpPr>
          <p:spPr>
            <a:xfrm>
              <a:off x="6382080" y="285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88360" y="2923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6427800" y="2612520"/>
            <a:ext cx="0" cy="119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27800" y="376416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5805720" y="4292640"/>
            <a:ext cx="569520" cy="648720"/>
            <a:chOff x="5805720" y="4292640"/>
            <a:chExt cx="569520" cy="648720"/>
          </a:xfrm>
        </p:grpSpPr>
        <p:sp>
          <p:nvSpPr>
            <p:cNvPr id="1209" name=""/>
            <p:cNvSpPr/>
            <p:nvPr/>
          </p:nvSpPr>
          <p:spPr>
            <a:xfrm>
              <a:off x="5805720" y="429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1200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6427800" y="4915080"/>
            <a:ext cx="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805720" y="5084640"/>
            <a:ext cx="569520" cy="648720"/>
            <a:chOff x="5805720" y="5084640"/>
            <a:chExt cx="569520" cy="648720"/>
          </a:xfrm>
        </p:grpSpPr>
        <p:sp>
          <p:nvSpPr>
            <p:cNvPr id="1213" name=""/>
            <p:cNvSpPr/>
            <p:nvPr/>
          </p:nvSpPr>
          <p:spPr>
            <a:xfrm>
              <a:off x="5805720" y="50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12000" y="51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3573720" y="981000"/>
            <a:ext cx="569520" cy="648720"/>
            <a:chOff x="3573720" y="981000"/>
            <a:chExt cx="569520" cy="648720"/>
          </a:xfrm>
        </p:grpSpPr>
        <p:sp>
          <p:nvSpPr>
            <p:cNvPr id="1216" name=""/>
            <p:cNvSpPr/>
            <p:nvPr/>
          </p:nvSpPr>
          <p:spPr>
            <a:xfrm>
              <a:off x="3573720" y="98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80000" y="10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13200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5128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1280" y="3860640"/>
            <a:ext cx="936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547640" y="4797360"/>
            <a:ext cx="648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195640" y="4724280"/>
            <a:ext cx="93636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32000" y="4724280"/>
            <a:ext cx="71928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3851280" y="4869000"/>
            <a:ext cx="720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4572000" y="4365720"/>
            <a:ext cx="720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292720" y="3645000"/>
            <a:ext cx="5745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rot="21550200">
            <a:off x="757440" y="419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rot="21550200">
            <a:off x="1621080" y="49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21550200">
            <a:off x="2486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21550200">
            <a:off x="32054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21550200">
            <a:off x="40690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1550200">
            <a:off x="4789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21550200">
            <a:off x="5389560" y="390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00360" y="3860640"/>
            <a:ext cx="0" cy="1081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270160" y="414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748720" y="3716280"/>
            <a:ext cx="0" cy="27370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443640" y="6237360"/>
            <a:ext cx="0" cy="2872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443640" y="6453360"/>
            <a:ext cx="2305080" cy="0"/>
          </a:xfrm>
          <a:prstGeom prst="line">
            <a:avLst/>
          </a:prstGeom>
          <a:ln w="3816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179280" y="5837400"/>
                <a:ext cx="2808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000"/>
                            </p:stCondLst>
                            <p:childTnLst>
                              <p:par>
                                <p:cTn id="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20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2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6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2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6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8000"/>
                            </p:stCondLst>
                            <p:childTnLst>
                              <p:par>
                                <p:cTn id="10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03640" y="4292640"/>
            <a:ext cx="5940360" cy="2305080"/>
          </a:xfrm>
          <a:prstGeom prst="wedgeRoundRectCallout">
            <a:avLst>
              <a:gd name="adj1" fmla="val -16620"/>
              <a:gd name="adj2" fmla="val 51101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vektor polož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ilo koje tačke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napadnoj liniji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229360"/>
            <a:ext cx="4284720" cy="1628640"/>
          </a:xfrm>
          <a:prstGeom prst="wedgeRoundRectCallout">
            <a:avLst>
              <a:gd name="adj1" fmla="val -18060"/>
              <a:gd name="adj2" fmla="val 27680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Varinjon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istem sila sa paralelnim napadnim linijama uvek ima rezultantu, kad god je prva stati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čka invarijanta sistema različita od nule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oložaj napadne linije rezultan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Varinjonova teore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03640" y="235080"/>
                <a:ext cx="31687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187280" y="476280"/>
            <a:ext cx="201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19280" y="2492280"/>
                <a:ext cx="1473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55640" y="4292640"/>
                <a:ext cx="6607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68360" y="5373720"/>
                <a:ext cx="3348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19280" y="2637000"/>
            <a:ext cx="6265800" cy="1584000"/>
          </a:xfrm>
          <a:prstGeom prst="wedgeRoundRectCallout">
            <a:avLst>
              <a:gd name="adj1" fmla="val -28972"/>
              <a:gd name="adj2" fmla="val 136875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835280" y="952560"/>
                <a:ext cx="578952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258920" y="5157720"/>
            <a:ext cx="2700360" cy="1368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Iz ove jednač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sl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dva zaključ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96840" y="-27000"/>
                <a:ext cx="7823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900000" y="1486080"/>
                <a:ext cx="6840720" cy="53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24922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 je sred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šte sistema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z izraza (1) dalje sledi (skalarnim množenjem jediničnim vektorima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i, j, k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, respektivn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4920" y="1773360"/>
                <a:ext cx="8893080" cy="49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39680" y="260280"/>
                <a:ext cx="882504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84360" y="2924280"/>
            <a:ext cx="55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majući u vidu da iz izraza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sled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00000" y="4437000"/>
                <a:ext cx="700416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Kombinujući predhodni izraz sa izrazom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dobija se 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jednačina napadne linije rezultante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00000" y="3182760"/>
                <a:ext cx="7632720" cy="197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07T06:12:53Z</dcterms:modified>
  <cp:revision>467</cp:revision>
  <dc:subject/>
  <dc:title>Slide 1</dc:title>
</cp:coreProperties>
</file>