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32.png" ContentType="image/png"/>
  <Override PartName="/ppt/media/image15.wmf" ContentType="image/x-wmf"/>
  <Override PartName="/ppt/media/image34.png" ContentType="image/png"/>
  <Override PartName="/ppt/media/image11.wmf" ContentType="image/x-wmf"/>
  <Override PartName="/ppt/media/image36.png" ContentType="image/png"/>
  <Override PartName="/ppt/media/image7.wmf" ContentType="image/x-wmf"/>
  <Override PartName="/ppt/media/image12.wmf" ContentType="image/x-wmf"/>
  <Override PartName="/ppt/media/image37.png" ContentType="image/png"/>
  <Override PartName="/ppt/media/image10.wmf" ContentType="image/x-wmf"/>
  <Override PartName="/ppt/media/image5.wmf" ContentType="image/x-wmf"/>
  <Override PartName="/ppt/media/image35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735B-C477-4067-8378-030A97B7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0A52-BBAD-466B-AD4B-A8B20178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D1F-44C0-4D8D-9302-0A80E340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2B3-5EA4-4E6B-BEF0-CC2F1F2D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31CD-CC69-48F3-AC85-C6D695FE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B615-CE00-41F0-8967-A83B813A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2C3E-307B-4C3E-977E-0F9D9B70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C3F6-EF54-4652-BB55-A3E54E2D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5D09-EA24-4874-9671-948DDC95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4CC9-19BB-436C-A12C-32CE1E27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ED46-5015-44DD-AE94-9743BEF8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933-0569-494D-8D95-CF567C8C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A773-2299-4239-834A-87FBB746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EBBA-F852-427E-92C2-B91B5C46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A475-1D24-45C1-A328-AD2CAEE0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3DAA-4A45-4497-9838-81EB887F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18AB-396F-44F9-800D-8C11BBD5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5BA0-2460-44A0-B4CA-B9EE32CD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46FF-506A-43A3-A919-29970D6F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B845-04D2-4EB5-B744-F3AA1B2E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B98-3235-4AAF-897C-394B88D4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6DF4-E205-4321-89F5-DBAD0F27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CB44-5107-4BBB-BD47-ADE5CFBD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9DF3-E5B0-42D9-92A8-A118EE12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DDE8-9D29-4AB4-ACA7-4AF73C06F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888F-09F7-4140-85E8-C48BA366C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191120" y="1589040"/>
            <a:ext cx="4800600" cy="4583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90440" y="3471840"/>
            <a:ext cx="4192560" cy="22813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933840"/>
            <a:ext cx="9144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228600" y="0"/>
            <a:ext cx="887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VIRTUELNI  RAD  SILA  U  SISTEMU  MATEIJALNIH T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ČAKA  I  NA  KRUTOM   TE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343080" y="99072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Rad sile na virtuelnom pomeranju  njene napadne tač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Straight Arrow Connector 6"/>
          <p:cNvCxnSpPr/>
          <p:nvPr/>
        </p:nvCxnSpPr>
        <p:spPr>
          <a:xfrm flipV="1">
            <a:off x="952200" y="1942920"/>
            <a:ext cx="114372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57480" y="1600200"/>
            <a:ext cx="501480" cy="617400"/>
          </a:xfrm>
          <a:prstGeom prst="rect">
            <a:avLst/>
          </a:prstGeom>
          <a:ln w="0">
            <a:noFill/>
          </a:ln>
        </p:spPr>
      </p:pic>
      <p:cxnSp>
        <p:nvCxnSpPr>
          <p:cNvPr id="216" name="Straight Arrow Connector 9"/>
          <p:cNvCxnSpPr/>
          <p:nvPr/>
        </p:nvCxnSpPr>
        <p:spPr>
          <a:xfrm flipV="1">
            <a:off x="952200" y="2666160"/>
            <a:ext cx="12200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523880" y="2171880"/>
            <a:ext cx="648000" cy="61416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11"/>
          <p:cNvCxnSpPr/>
          <p:nvPr/>
        </p:nvCxnSpPr>
        <p:spPr>
          <a:xfrm flipV="1">
            <a:off x="2133360" y="1638000"/>
            <a:ext cx="114372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584440" y="1333440"/>
            <a:ext cx="501840" cy="617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772080" y="1828800"/>
            <a:ext cx="3309840" cy="5716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4"/>
          <p:cNvSpPr/>
          <p:nvPr/>
        </p:nvSpPr>
        <p:spPr>
          <a:xfrm>
            <a:off x="343080" y="3124080"/>
            <a:ext cx="88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i rad sile jednak je proizvodu sile i virtuelnog pomeranja u pravcu s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343080" y="420048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Rad sila na sistemu materijalnih tačak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16"/>
          <p:cNvSpPr/>
          <p:nvPr/>
        </p:nvSpPr>
        <p:spPr>
          <a:xfrm>
            <a:off x="1371600" y="518148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2400480" y="5981760"/>
            <a:ext cx="1141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3505320" y="521964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876240" y="499104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20"/>
          <p:cNvSpPr/>
          <p:nvPr/>
        </p:nvSpPr>
        <p:spPr>
          <a:xfrm>
            <a:off x="2247840" y="605808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21"/>
          <p:cNvSpPr/>
          <p:nvPr/>
        </p:nvSpPr>
        <p:spPr>
          <a:xfrm>
            <a:off x="3695760" y="499104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traight Connector 23"/>
          <p:cNvSpPr/>
          <p:nvPr/>
        </p:nvSpPr>
        <p:spPr>
          <a:xfrm>
            <a:off x="1467720" y="5278320"/>
            <a:ext cx="9493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traight Connector 25"/>
          <p:cNvSpPr/>
          <p:nvPr/>
        </p:nvSpPr>
        <p:spPr>
          <a:xfrm>
            <a:off x="1486080" y="5238720"/>
            <a:ext cx="20192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traight Connector 27"/>
          <p:cNvSpPr/>
          <p:nvPr/>
        </p:nvSpPr>
        <p:spPr>
          <a:xfrm flipV="1">
            <a:off x="2514600" y="527652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Straight Arrow Connector 29"/>
          <p:cNvCxnSpPr>
            <a:stCxn id="225" idx="7"/>
          </p:cNvCxnSpPr>
          <p:nvPr/>
        </p:nvCxnSpPr>
        <p:spPr>
          <a:xfrm flipV="1">
            <a:off x="3601080" y="4686120"/>
            <a:ext cx="3229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3" name="Straight Arrow Connector 31"/>
          <p:cNvCxnSpPr>
            <a:stCxn id="225" idx="4"/>
          </p:cNvCxnSpPr>
          <p:nvPr/>
        </p:nvCxnSpPr>
        <p:spPr>
          <a:xfrm>
            <a:off x="3562200" y="5333760"/>
            <a:ext cx="2484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3962520" y="4533840"/>
            <a:ext cx="342720" cy="490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3301920" y="5415120"/>
            <a:ext cx="368280" cy="4903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4448160" y="4724280"/>
            <a:ext cx="4695840" cy="914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4457880" y="5745240"/>
            <a:ext cx="303984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3"/>
          <p:cNvSpPr/>
          <p:nvPr/>
        </p:nvSpPr>
        <p:spPr>
          <a:xfrm>
            <a:off x="304920" y="190440"/>
            <a:ext cx="84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c)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Rad sila na krutom tel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Straight Arrow Connector 5"/>
          <p:cNvCxnSpPr/>
          <p:nvPr/>
        </p:nvCxnSpPr>
        <p:spPr>
          <a:xfrm flipH="1">
            <a:off x="608760" y="2590920"/>
            <a:ext cx="8391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Straight Arrow Connector 7"/>
          <p:cNvCxnSpPr/>
          <p:nvPr/>
        </p:nvCxnSpPr>
        <p:spPr>
          <a:xfrm flipV="1">
            <a:off x="1447560" y="2552400"/>
            <a:ext cx="15627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Straight Arrow Connector 9"/>
          <p:cNvCxnSpPr/>
          <p:nvPr/>
        </p:nvCxnSpPr>
        <p:spPr>
          <a:xfrm flipH="1" flipV="1">
            <a:off x="1409400" y="913680"/>
            <a:ext cx="388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2" name="TextBox 10"/>
          <p:cNvSpPr/>
          <p:nvPr/>
        </p:nvSpPr>
        <p:spPr>
          <a:xfrm>
            <a:off x="419040" y="27813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2781360" y="1981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1028880" y="6476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13"/>
          <p:cNvSpPr/>
          <p:nvPr/>
        </p:nvSpPr>
        <p:spPr>
          <a:xfrm>
            <a:off x="990720" y="800280"/>
            <a:ext cx="1752480" cy="2361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14"/>
          <p:cNvSpPr/>
          <p:nvPr/>
        </p:nvSpPr>
        <p:spPr>
          <a:xfrm>
            <a:off x="1828800" y="2286000"/>
            <a:ext cx="1522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15"/>
          <p:cNvSpPr/>
          <p:nvPr/>
        </p:nvSpPr>
        <p:spPr>
          <a:xfrm>
            <a:off x="1562040" y="2819520"/>
            <a:ext cx="15264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16"/>
          <p:cNvSpPr/>
          <p:nvPr/>
        </p:nvSpPr>
        <p:spPr>
          <a:xfrm>
            <a:off x="2362320" y="1676520"/>
            <a:ext cx="1522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17"/>
          <p:cNvSpPr/>
          <p:nvPr/>
        </p:nvSpPr>
        <p:spPr>
          <a:xfrm>
            <a:off x="1714680" y="1257480"/>
            <a:ext cx="1522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Straight Arrow Connector 19"/>
          <p:cNvCxnSpPr>
            <a:endCxn id="246" idx="3"/>
          </p:cNvCxnSpPr>
          <p:nvPr/>
        </p:nvCxnSpPr>
        <p:spPr>
          <a:xfrm flipV="1">
            <a:off x="1447920" y="2382480"/>
            <a:ext cx="40392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419040" cy="628560"/>
          </a:xfrm>
          <a:prstGeom prst="rect">
            <a:avLst/>
          </a:prstGeom>
          <a:ln w="0">
            <a:noFill/>
          </a:ln>
        </p:spPr>
      </p:pic>
      <p:cxnSp>
        <p:nvCxnSpPr>
          <p:cNvPr id="252" name="Straight Arrow Connector 22"/>
          <p:cNvCxnSpPr>
            <a:stCxn id="246" idx="4"/>
            <a:endCxn id="247" idx="0"/>
          </p:cNvCxnSpPr>
          <p:nvPr/>
        </p:nvCxnSpPr>
        <p:spPr>
          <a:xfrm flipH="1">
            <a:off x="1638000" y="2400480"/>
            <a:ext cx="26712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817640" y="2343240"/>
            <a:ext cx="430200" cy="552240"/>
          </a:xfrm>
          <a:prstGeom prst="rect">
            <a:avLst/>
          </a:prstGeom>
          <a:ln w="0">
            <a:noFill/>
          </a:ln>
        </p:spPr>
      </p:pic>
      <p:cxnSp>
        <p:nvCxnSpPr>
          <p:cNvPr id="254" name="Straight Arrow Connector 24"/>
          <p:cNvCxnSpPr>
            <a:endCxn id="248" idx="3"/>
          </p:cNvCxnSpPr>
          <p:nvPr/>
        </p:nvCxnSpPr>
        <p:spPr>
          <a:xfrm flipV="1">
            <a:off x="1942200" y="1773000"/>
            <a:ext cx="4417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5" name="Straight Arrow Connector 27"/>
          <p:cNvCxnSpPr/>
          <p:nvPr/>
        </p:nvCxnSpPr>
        <p:spPr>
          <a:xfrm>
            <a:off x="1600200" y="2933280"/>
            <a:ext cx="53424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6" name="TextBox 29"/>
          <p:cNvSpPr/>
          <p:nvPr/>
        </p:nvSpPr>
        <p:spPr>
          <a:xfrm>
            <a:off x="1143000" y="259092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614600" y="2998800"/>
            <a:ext cx="399960" cy="6145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1"/>
          <p:cNvSpPr/>
          <p:nvPr/>
        </p:nvSpPr>
        <p:spPr>
          <a:xfrm>
            <a:off x="2247840" y="110484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32"/>
          <p:cNvSpPr/>
          <p:nvPr/>
        </p:nvSpPr>
        <p:spPr>
          <a:xfrm>
            <a:off x="1676520" y="609480"/>
            <a:ext cx="57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1738440" y="1676520"/>
            <a:ext cx="460080" cy="552240"/>
          </a:xfrm>
          <a:prstGeom prst="rect">
            <a:avLst/>
          </a:prstGeom>
          <a:ln w="0">
            <a:noFill/>
          </a:ln>
        </p:spPr>
      </p:pic>
      <p:cxnSp>
        <p:nvCxnSpPr>
          <p:cNvPr id="261" name="Straight Arrow Connector 34"/>
          <p:cNvCxnSpPr/>
          <p:nvPr/>
        </p:nvCxnSpPr>
        <p:spPr>
          <a:xfrm>
            <a:off x="2476440" y="1752120"/>
            <a:ext cx="53424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2728800" y="1366920"/>
            <a:ext cx="430200" cy="614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2163600" y="647640"/>
            <a:ext cx="492120" cy="614520"/>
          </a:xfrm>
          <a:prstGeom prst="rect">
            <a:avLst/>
          </a:prstGeom>
          <a:ln w="0">
            <a:noFill/>
          </a:ln>
        </p:spPr>
      </p:pic>
      <p:cxnSp>
        <p:nvCxnSpPr>
          <p:cNvPr id="264" name="Straight Arrow Connector 37"/>
          <p:cNvCxnSpPr/>
          <p:nvPr/>
        </p:nvCxnSpPr>
        <p:spPr>
          <a:xfrm flipV="1">
            <a:off x="1866600" y="1256760"/>
            <a:ext cx="76284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Straight Arrow Connector 39"/>
          <p:cNvCxnSpPr>
            <a:endCxn id="249" idx="5"/>
          </p:cNvCxnSpPr>
          <p:nvPr/>
        </p:nvCxnSpPr>
        <p:spPr>
          <a:xfrm flipH="1" flipV="1">
            <a:off x="1844280" y="1353240"/>
            <a:ext cx="99360" cy="97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1414440" y="1371600"/>
            <a:ext cx="522360" cy="5526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43"/>
          <p:cNvSpPr/>
          <p:nvPr/>
        </p:nvSpPr>
        <p:spPr>
          <a:xfrm>
            <a:off x="198108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8"/>
          <a:stretch/>
        </p:blipFill>
        <p:spPr>
          <a:xfrm>
            <a:off x="3505320" y="838080"/>
            <a:ext cx="2582640" cy="4572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9"/>
          <a:stretch/>
        </p:blipFill>
        <p:spPr>
          <a:xfrm>
            <a:off x="3409920" y="1295280"/>
            <a:ext cx="2697120" cy="457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0"/>
          <a:stretch/>
        </p:blipFill>
        <p:spPr>
          <a:xfrm>
            <a:off x="3322800" y="1866960"/>
            <a:ext cx="2833560" cy="457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1"/>
          <a:stretch/>
        </p:blipFill>
        <p:spPr>
          <a:xfrm>
            <a:off x="3022560" y="2689200"/>
            <a:ext cx="3541680" cy="549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2"/>
          <a:stretch/>
        </p:blipFill>
        <p:spPr>
          <a:xfrm>
            <a:off x="517680" y="3581280"/>
            <a:ext cx="5578200" cy="938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3"/>
          <a:stretch/>
        </p:blipFill>
        <p:spPr>
          <a:xfrm>
            <a:off x="495360" y="4572000"/>
            <a:ext cx="2881080" cy="4572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0"/>
          <p:cNvSpPr/>
          <p:nvPr/>
        </p:nvSpPr>
        <p:spPr>
          <a:xfrm>
            <a:off x="457200" y="5334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 RAVAN,  ako A→S ima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4"/>
          <a:stretch/>
        </p:blipFill>
        <p:spPr>
          <a:xfrm>
            <a:off x="571680" y="5986440"/>
            <a:ext cx="4400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3"/>
          <p:cNvSpPr/>
          <p:nvPr/>
        </p:nvSpPr>
        <p:spPr>
          <a:xfrm>
            <a:off x="1028880" y="304920"/>
            <a:ext cx="68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PRINCIP VIRTUELNIH RADO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4"/>
          <p:cNvSpPr/>
          <p:nvPr/>
        </p:nvSpPr>
        <p:spPr>
          <a:xfrm>
            <a:off x="1371600" y="156204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5"/>
          <p:cNvSpPr/>
          <p:nvPr/>
        </p:nvSpPr>
        <p:spPr>
          <a:xfrm>
            <a:off x="2400480" y="2362320"/>
            <a:ext cx="1141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3505320" y="16002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7"/>
          <p:cNvSpPr/>
          <p:nvPr/>
        </p:nvSpPr>
        <p:spPr>
          <a:xfrm>
            <a:off x="876240" y="137160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8"/>
          <p:cNvSpPr/>
          <p:nvPr/>
        </p:nvSpPr>
        <p:spPr>
          <a:xfrm>
            <a:off x="2247840" y="243828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9"/>
          <p:cNvSpPr/>
          <p:nvPr/>
        </p:nvSpPr>
        <p:spPr>
          <a:xfrm>
            <a:off x="3695760" y="137160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traight Connector 10"/>
          <p:cNvSpPr/>
          <p:nvPr/>
        </p:nvSpPr>
        <p:spPr>
          <a:xfrm>
            <a:off x="1467720" y="1658880"/>
            <a:ext cx="9493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traight Connector 11"/>
          <p:cNvSpPr/>
          <p:nvPr/>
        </p:nvSpPr>
        <p:spPr>
          <a:xfrm>
            <a:off x="1486080" y="1619280"/>
            <a:ext cx="20192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traight Connector 12"/>
          <p:cNvSpPr/>
          <p:nvPr/>
        </p:nvSpPr>
        <p:spPr>
          <a:xfrm flipV="1">
            <a:off x="2514600" y="1657440"/>
            <a:ext cx="9907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Straight Arrow Connector 13"/>
          <p:cNvCxnSpPr>
            <a:stCxn id="279" idx="7"/>
          </p:cNvCxnSpPr>
          <p:nvPr/>
        </p:nvCxnSpPr>
        <p:spPr>
          <a:xfrm flipV="1">
            <a:off x="3601080" y="1066320"/>
            <a:ext cx="3229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7" name="Straight Arrow Connector 14"/>
          <p:cNvCxnSpPr>
            <a:stCxn id="279" idx="4"/>
          </p:cNvCxnSpPr>
          <p:nvPr/>
        </p:nvCxnSpPr>
        <p:spPr>
          <a:xfrm>
            <a:off x="3562200" y="1714320"/>
            <a:ext cx="2484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342720" cy="4906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301920" y="1795320"/>
            <a:ext cx="368280" cy="490680"/>
          </a:xfrm>
          <a:prstGeom prst="rect">
            <a:avLst/>
          </a:prstGeom>
          <a:ln w="0">
            <a:noFill/>
          </a:ln>
        </p:spPr>
      </p:pic>
      <p:sp>
        <p:nvSpPr>
          <p:cNvPr id="290" name="TextBox 17"/>
          <p:cNvSpPr/>
          <p:nvPr/>
        </p:nvSpPr>
        <p:spPr>
          <a:xfrm>
            <a:off x="4267080" y="95256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matramo sistem materijalnih tačaka koji je u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ravnotež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t.j. sile koje deluju na svaku pojedinu tačku u sistemu zadovoljavaju uslove ravnotež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723960" y="3695760"/>
            <a:ext cx="3135240" cy="6094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690480" y="4457880"/>
            <a:ext cx="3310200" cy="609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733320" y="5257800"/>
            <a:ext cx="3571920" cy="6094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922320" y="5832360"/>
            <a:ext cx="3021120" cy="987480"/>
          </a:xfrm>
          <a:prstGeom prst="rect">
            <a:avLst/>
          </a:prstGeom>
          <a:ln w="0">
            <a:noFill/>
          </a:ln>
        </p:spPr>
      </p:pic>
      <p:cxnSp>
        <p:nvCxnSpPr>
          <p:cNvPr id="295" name="Straight Arrow Connector 20"/>
          <p:cNvCxnSpPr/>
          <p:nvPr/>
        </p:nvCxnSpPr>
        <p:spPr>
          <a:xfrm flipV="1">
            <a:off x="1409400" y="1409040"/>
            <a:ext cx="7246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1538280" y="1014480"/>
            <a:ext cx="417600" cy="441360"/>
          </a:xfrm>
          <a:prstGeom prst="rect">
            <a:avLst/>
          </a:prstGeom>
          <a:ln w="0">
            <a:noFill/>
          </a:ln>
        </p:spPr>
      </p:pic>
      <p:cxnSp>
        <p:nvCxnSpPr>
          <p:cNvPr id="297" name="Straight Arrow Connector 23"/>
          <p:cNvCxnSpPr>
            <a:stCxn id="279" idx="5"/>
          </p:cNvCxnSpPr>
          <p:nvPr/>
        </p:nvCxnSpPr>
        <p:spPr>
          <a:xfrm>
            <a:off x="3602160" y="1697040"/>
            <a:ext cx="513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8" name="" descr=""/>
          <p:cNvPicPr/>
          <p:nvPr/>
        </p:nvPicPr>
        <p:blipFill>
          <a:blip r:embed="rId8"/>
          <a:stretch/>
        </p:blipFill>
        <p:spPr>
          <a:xfrm>
            <a:off x="3608280" y="2492280"/>
            <a:ext cx="443160" cy="441360"/>
          </a:xfrm>
          <a:prstGeom prst="rect">
            <a:avLst/>
          </a:prstGeom>
          <a:ln w="0">
            <a:noFill/>
          </a:ln>
        </p:spPr>
      </p:pic>
      <p:sp>
        <p:nvSpPr>
          <p:cNvPr id="299" name="Arc 29"/>
          <p:cNvSpPr/>
          <p:nvPr/>
        </p:nvSpPr>
        <p:spPr>
          <a:xfrm flipH="1">
            <a:off x="1104120" y="1562040"/>
            <a:ext cx="118116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rc 30"/>
          <p:cNvSpPr/>
          <p:nvPr/>
        </p:nvSpPr>
        <p:spPr>
          <a:xfrm>
            <a:off x="2552760" y="1486080"/>
            <a:ext cx="110484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3892680" cy="987480"/>
          </a:xfrm>
          <a:prstGeom prst="rect">
            <a:avLst/>
          </a:prstGeom>
          <a:ln w="0">
            <a:noFill/>
          </a:ln>
        </p:spPr>
      </p:pic>
      <p:sp>
        <p:nvSpPr>
          <p:cNvPr id="302" name="TextBox 4"/>
          <p:cNvSpPr/>
          <p:nvPr/>
        </p:nvSpPr>
        <p:spPr>
          <a:xfrm>
            <a:off x="4191120" y="223920"/>
            <a:ext cx="51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 VIRTUELNIH RAD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228600" y="1066680"/>
            <a:ext cx="8724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PRINCIP VIRTUELNIH RADOVA (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DALAMBEROV PRINCIP):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Ako se sitem materijalnih tačaka nalazi pod mehaničkim uticajem nekog ravnotežnog sistema aktivnih sila i reakcija veza, tada je zbir radova tih aktivnih sila i reakcija veza na virtuelnim pomeranjima njihovih napadnih tačaka jednak nu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228600" y="3875040"/>
            <a:ext cx="872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ISTEM SA IDEALNIM VEZAMA: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Ako je sitem sa idealnim vezama, zbir radova reakcija veza na virtuelnim pomeranjima takvog sistema jednak je nu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57200" y="5489640"/>
            <a:ext cx="21207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4"/>
          <p:cNvSpPr/>
          <p:nvPr/>
        </p:nvSpPr>
        <p:spPr>
          <a:xfrm>
            <a:off x="228600" y="38160"/>
            <a:ext cx="872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O KRUTO TELO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dstavlja sitem materijalnih tačaka sa idealnim vezama, jer unutrašnje sile (reakcije unutrašnjih veza) između materijalnih tačaka u sastavu krutog tela ne vrše rad na virtuelnim pomeranjima krutog tela. Isto važi i za spšoljašnje reakcije v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5"/>
          <p:cNvSpPr/>
          <p:nvPr/>
        </p:nvSpPr>
        <p:spPr>
          <a:xfrm>
            <a:off x="228600" y="2173320"/>
            <a:ext cx="87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PŠTA JEDNAČINA STATI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19040" y="2781360"/>
            <a:ext cx="2092320" cy="987480"/>
          </a:xfrm>
          <a:prstGeom prst="rect">
            <a:avLst/>
          </a:prstGeom>
          <a:ln w="0">
            <a:noFill/>
          </a:ln>
        </p:spPr>
      </p:pic>
      <p:sp>
        <p:nvSpPr>
          <p:cNvPr id="309" name="TextBox 7"/>
          <p:cNvSpPr/>
          <p:nvPr/>
        </p:nvSpPr>
        <p:spPr>
          <a:xfrm>
            <a:off x="380880" y="3887640"/>
            <a:ext cx="872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se sistem materijalnih tačaka, čije su veze idealne, nalazi pod uticajem nekog ravnotežnog sistema sila, tada je zbir radova aktivnih sila na virtuelnim pomeranjima tačaka tog sistema jednak nuli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838080" y="1871640"/>
            <a:ext cx="7543800" cy="4896000"/>
          </a:xfrm>
          <a:prstGeom prst="rect">
            <a:avLst/>
          </a:prstGeom>
          <a:ln w="0">
            <a:noFill/>
          </a:ln>
        </p:spPr>
      </p:pic>
      <p:sp>
        <p:nvSpPr>
          <p:cNvPr id="312" name="TextBox 7"/>
          <p:cNvSpPr/>
          <p:nvPr/>
        </p:nvSpPr>
        <p:spPr>
          <a:xfrm>
            <a:off x="190440" y="39600"/>
            <a:ext cx="895356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 ZADATAK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30 %, SEPTEMBAR 2006.g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menom principa virtuelnih radova odrediti, za nosač i opterecenje prikazane na slici pod d), reakcije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moment 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190440" y="39600"/>
            <a:ext cx="8953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87200" y="2552760"/>
            <a:ext cx="4880160" cy="23241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991040" y="2400480"/>
            <a:ext cx="3152880" cy="30319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66560" y="2324160"/>
            <a:ext cx="4158000" cy="22096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381560" cy="292104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470160"/>
            <a:ext cx="91440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2T21:30:07Z</dcterms:modified>
  <cp:revision>773</cp:revision>
  <dc:subject/>
  <dc:title>Slide 1</dc:title>
</cp:coreProperties>
</file>