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E8F-5D81-4BF9-BA6A-15CBE403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849-D6B9-4B8F-94DB-31E7F806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91C-DA4D-4701-8EE4-A633928C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29D-D45C-404A-A684-5A634693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02F0-D300-4194-B9A4-389BC414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25DB-31C9-4D01-BEF4-FF9C3AF7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EC10-A86E-4C9B-A796-1FFBC7AD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9D9B-B3F3-455D-B194-094E37D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66E9-E03C-44E4-85DB-8E7CA444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73CB-60B2-49C7-8C67-7255906F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BF2B-C6D2-46DC-B05F-50AF2933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DAC-1C14-4E0A-81F1-1B8F0EFE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B2D5-829F-4787-B0B5-3CF451B5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08D9-EC15-4C92-A91E-30548F87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C9E8-5C82-4835-B04D-6F738841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C74B-72B0-44B7-8A83-D95324FA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7DAA-5C11-41CE-B613-9386F8B5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BF6-E622-456A-AAD9-8DCF4707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50D-DF39-4B66-BF37-BB74027E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8A6-42B0-4FE7-A3A5-47B54891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F88-7075-4C66-98AB-8128B059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C16-A457-46D9-B9EB-7D9CD619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0A8-A11D-4163-9A39-27B112D0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A13-E926-4B28-A084-6715CF6B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3047-AE75-47F5-B03E-E361B11AA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F7CE-3463-415B-B891-75D1135D4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nosača su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663480"/>
          <a:ext cx="914400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3480"/>
                    <a:ext cx="914400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0" y="2584440"/>
          <a:ext cx="4572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84440"/>
                    <a:ext cx="4572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0" y="461952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gornjim izrazima iskoristili smo sle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će ve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440" y="5195880"/>
          <a:ext cx="4570560" cy="16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5195880"/>
                    <a:ext cx="457056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0" y="0"/>
          <a:ext cx="70293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293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0" y="339084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SAČ KAO POLIGONALNA LIN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85960" y="4965480"/>
            <a:ext cx="728640" cy="107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14600" y="4965840"/>
            <a:ext cx="161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27400" y="4965840"/>
            <a:ext cx="922320" cy="76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9720" y="4773600"/>
            <a:ext cx="1266840" cy="9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38400">
            <a:off x="499680" y="6004080"/>
            <a:ext cx="654120" cy="19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800" y="5848200"/>
            <a:ext cx="57636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146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446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750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065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369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669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973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74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14600" y="4657680"/>
            <a:ext cx="16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409640" y="4731480"/>
            <a:ext cx="1400400" cy="1523520"/>
            <a:chOff x="4409640" y="4731480"/>
            <a:chExt cx="1400400" cy="1523520"/>
          </a:xfrm>
        </p:grpSpPr>
        <p:sp>
          <p:nvSpPr>
            <p:cNvPr id="508" name=""/>
            <p:cNvSpPr/>
            <p:nvPr/>
          </p:nvSpPr>
          <p:spPr>
            <a:xfrm flipV="1">
              <a:off x="4746600" y="4929840"/>
              <a:ext cx="613440" cy="46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478400" y="5392440"/>
              <a:ext cx="267840" cy="5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46600" y="5392440"/>
              <a:ext cx="32328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378800">
              <a:off x="5204880" y="482904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9378800">
              <a:off x="4531320" y="56822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9378800">
              <a:off x="4934160" y="52970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114640" y="50799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576080" y="5079960"/>
            <a:ext cx="5382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14640" y="507996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28800" y="5022720"/>
            <a:ext cx="4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38280" y="5214960"/>
            <a:ext cx="3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90600" y="5195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7029360" y="4389480"/>
          <a:ext cx="1255680" cy="24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9360" y="4389480"/>
                    <a:ext cx="1255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0" y="779400"/>
          <a:ext cx="65689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79400"/>
                    <a:ext cx="65689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0" y="20304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Jednačine (1) i (2) posta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0" y="3371760"/>
          <a:ext cx="7183440" cy="28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71760"/>
                    <a:ext cx="718344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jednačina (1), (2) i (3) sle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0" y="433440"/>
          <a:ext cx="914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3440"/>
                    <a:ext cx="914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0" y="2968560"/>
            <a:ext cx="883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gornje dve jednačine, imamo šest skalarnih uslova ravnoteže elementa linijskog nos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0" y="3951360"/>
          <a:ext cx="41497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51360"/>
                    <a:ext cx="41497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ILE U PRESEKU LINIJSKOG PROSTORNOG 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2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smatramo deo nosača koji je pod uticajem aktivnih i reaktivnih sila u ravnoteži. U tački P uočimo poprečni presek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3720" y="3274920"/>
            <a:ext cx="4521240" cy="3881160"/>
            <a:chOff x="423720" y="3274920"/>
            <a:chExt cx="4521240" cy="3881160"/>
          </a:xfrm>
        </p:grpSpPr>
        <p:sp>
          <p:nvSpPr>
            <p:cNvPr id="215" name=""/>
            <p:cNvSpPr/>
            <p:nvPr/>
          </p:nvSpPr>
          <p:spPr>
            <a:xfrm flipH="1">
              <a:off x="1306440" y="4083120"/>
              <a:ext cx="3458160" cy="307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0" y="919"/>
                  </a:moveTo>
                  <a:arcTo wR="10800" hR="10800" stAng="-6828609" swAng="7334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0" y="919"/>
                  </a:moveTo>
                  <a:arcTo wR="10800" hR="10800" stAng="-6828609" swAng="733479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4200" y="4465800"/>
              <a:ext cx="192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84200" y="4235400"/>
              <a:ext cx="230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384200" y="5309640"/>
              <a:ext cx="1922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93360" y="5617800"/>
              <a:ext cx="614520" cy="230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692360" y="446544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538280" y="411912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38280" y="45435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38280" y="484992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52760" y="442764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6480" y="427500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560" y="41194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52760" y="4695840"/>
              <a:ext cx="1936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06480" y="4543560"/>
              <a:ext cx="1922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60560" y="442764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0600" y="3505320"/>
              <a:ext cx="500040" cy="138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39640" y="5848200"/>
              <a:ext cx="730080" cy="614160"/>
              <a:chOff x="539640" y="5848200"/>
              <a:chExt cx="730080" cy="61416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731520" y="5848200"/>
                <a:ext cx="538200" cy="4600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39640" y="6270480"/>
                <a:ext cx="230400" cy="191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346040" y="56181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689280" y="3929040"/>
              <a:ext cx="728640" cy="268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01880" y="4200840"/>
              <a:ext cx="817920" cy="491040"/>
              <a:chOff x="3701880" y="4200840"/>
              <a:chExt cx="817920" cy="491040"/>
            </a:xfrm>
          </p:grpSpPr>
          <p:sp>
            <p:nvSpPr>
              <p:cNvPr id="237" name=""/>
              <p:cNvSpPr/>
              <p:nvPr/>
            </p:nvSpPr>
            <p:spPr>
              <a:xfrm>
                <a:off x="3701880" y="4200840"/>
                <a:ext cx="609840" cy="3596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63480" y="4536360"/>
                <a:ext cx="256320" cy="155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23720" y="4888080"/>
              <a:ext cx="80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"/>
            <p:cNvGraphicFramePr/>
            <p:nvPr/>
          </p:nvGraphicFramePr>
          <p:xfrm>
            <a:off x="480960" y="4888080"/>
            <a:ext cx="479520" cy="63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960" y="4888080"/>
                      <a:ext cx="4795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85960" y="6319800"/>
            <a:ext cx="538200" cy="53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85960" y="6319800"/>
                      <a:ext cx="538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882880" y="4465800"/>
            <a:ext cx="488880" cy="65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82880" y="4465800"/>
                      <a:ext cx="4888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6" name=""/>
            <p:cNvGrpSpPr/>
            <p:nvPr/>
          </p:nvGrpSpPr>
          <p:grpSpPr>
            <a:xfrm>
              <a:off x="2370240" y="4162320"/>
              <a:ext cx="1164240" cy="118080"/>
              <a:chOff x="2370240" y="4162320"/>
              <a:chExt cx="1164240" cy="118080"/>
            </a:xfrm>
          </p:grpSpPr>
          <p:sp>
            <p:nvSpPr>
              <p:cNvPr id="247" name=""/>
              <p:cNvSpPr/>
              <p:nvPr/>
            </p:nvSpPr>
            <p:spPr>
              <a:xfrm>
                <a:off x="2370240" y="4162320"/>
                <a:ext cx="870840" cy="828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70520" y="4242240"/>
                <a:ext cx="363960" cy="381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1346040" y="3774600"/>
              <a:ext cx="1036800" cy="3841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2840" y="4159080"/>
              <a:ext cx="1036800" cy="384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224720" y="4021920"/>
              <a:ext cx="1164240" cy="118080"/>
              <a:chOff x="1224720" y="4021920"/>
              <a:chExt cx="1164240" cy="11808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1518120" y="4057200"/>
                <a:ext cx="870840" cy="82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224720" y="4021920"/>
                <a:ext cx="363960" cy="38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54" name=""/>
            <p:cNvGraphicFramePr/>
            <p:nvPr/>
          </p:nvGraphicFramePr>
          <p:xfrm>
            <a:off x="1360440" y="3274920"/>
            <a:ext cx="403200" cy="57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60440" y="3274920"/>
                      <a:ext cx="4032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"/>
            <p:cNvGraphicFramePr/>
            <p:nvPr/>
          </p:nvGraphicFramePr>
          <p:xfrm>
            <a:off x="3376440" y="4311720"/>
            <a:ext cx="700200" cy="53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76440" y="4311720"/>
                      <a:ext cx="700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442800" y="3813120"/>
            <a:ext cx="847800" cy="65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2800" y="3813120"/>
                      <a:ext cx="8478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 flipV="1">
              <a:off x="2459160" y="3928680"/>
              <a:ext cx="6919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2697120" y="3352680"/>
            <a:ext cx="392040" cy="551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97120" y="3352680"/>
                      <a:ext cx="392040" cy="5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3765600" y="4235400"/>
              <a:ext cx="806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572000" y="4005360"/>
            <a:ext cx="37296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0" y="4005360"/>
                      <a:ext cx="372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2152800" y="415908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02040" y="4657680"/>
            <a:ext cx="4032360" cy="1228680"/>
            <a:chOff x="4802040" y="4657680"/>
            <a:chExt cx="4032360" cy="1228680"/>
          </a:xfrm>
        </p:grpSpPr>
        <p:sp>
          <p:nvSpPr>
            <p:cNvPr id="268" name=""/>
            <p:cNvSpPr/>
            <p:nvPr/>
          </p:nvSpPr>
          <p:spPr>
            <a:xfrm flipH="1" flipV="1">
              <a:off x="5148000" y="4888080"/>
              <a:ext cx="15372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917600" y="5541840"/>
              <a:ext cx="38412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02080" y="5271840"/>
              <a:ext cx="7290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02080" y="5541840"/>
              <a:ext cx="80676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8440" y="53499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2520" y="53881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6600" y="542592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94320" y="5464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5838840" y="4811760"/>
            <a:ext cx="311040" cy="434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38840" y="4811760"/>
                      <a:ext cx="31104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6108840" y="5425920"/>
            <a:ext cx="282600" cy="460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08840" y="5425920"/>
                      <a:ext cx="2826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5224320" y="4735440"/>
            <a:ext cx="270000" cy="416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24320" y="4735440"/>
                      <a:ext cx="2700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"/>
            <p:cNvGraphicFramePr/>
            <p:nvPr/>
          </p:nvGraphicFramePr>
          <p:xfrm>
            <a:off x="4802040" y="5272200"/>
            <a:ext cx="284400" cy="396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02040" y="5272200"/>
                      <a:ext cx="28440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6607080" y="4657680"/>
              <a:ext cx="222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sculatorna rav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916600" y="5157360"/>
              <a:ext cx="806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32280" y="3236760"/>
            <a:ext cx="4311720" cy="584280"/>
            <a:chOff x="4832280" y="3236760"/>
            <a:chExt cx="4311720" cy="584280"/>
          </a:xfrm>
        </p:grpSpPr>
        <p:graphicFrame>
          <p:nvGraphicFramePr>
            <p:cNvPr id="287" name=""/>
            <p:cNvGraphicFramePr/>
            <p:nvPr/>
          </p:nvGraphicFramePr>
          <p:xfrm>
            <a:off x="4832280" y="3313080"/>
            <a:ext cx="1257480" cy="507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832280" y="3313080"/>
                      <a:ext cx="12574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6031080" y="3236760"/>
              <a:ext cx="31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irodni trijed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kcijom svih sila desno od P dobijamo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 redukcijom levo od 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956720" y="357120"/>
          <a:ext cx="5173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357120"/>
                    <a:ext cx="517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61880" y="1201680"/>
          <a:ext cx="7304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201680"/>
                    <a:ext cx="730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473800" y="1123920"/>
          <a:ext cx="4032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3800" y="1123920"/>
                    <a:ext cx="40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222960" y="1149480"/>
          <a:ext cx="76824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2960" y="1149480"/>
                    <a:ext cx="768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39640" y="181620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nosača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93720" y="2546280"/>
          <a:ext cx="4070520" cy="13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720" y="2546280"/>
                    <a:ext cx="4070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77800" y="3889440"/>
            <a:ext cx="83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mogu se prikazati 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7800" y="4503600"/>
          <a:ext cx="5735520" cy="13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800" y="4503600"/>
                    <a:ext cx="5735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95280" y="404640"/>
            <a:ext cx="8497800" cy="1216080"/>
            <a:chOff x="395280" y="404640"/>
            <a:chExt cx="8497800" cy="1216080"/>
          </a:xfrm>
        </p:grpSpPr>
        <p:sp>
          <p:nvSpPr>
            <p:cNvPr id="306" name=""/>
            <p:cNvSpPr/>
            <p:nvPr/>
          </p:nvSpPr>
          <p:spPr>
            <a:xfrm>
              <a:off x="395280" y="404640"/>
              <a:ext cx="84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Razložimo      i       na pravce prirodnog trijedr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2411280" y="433440"/>
            <a:ext cx="374760" cy="49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43344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3130560" y="500040"/>
            <a:ext cx="558720" cy="4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0560" y="500040"/>
                      <a:ext cx="5587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39640" y="971640"/>
            <a:ext cx="1094040" cy="64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640" y="971640"/>
                      <a:ext cx="109404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0" y="1673280"/>
          <a:ext cx="914400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73280"/>
                    <a:ext cx="91440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29289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06480" y="2928960"/>
            <a:ext cx="2016360" cy="649440"/>
            <a:chOff x="1806480" y="2928960"/>
            <a:chExt cx="2016360" cy="649440"/>
          </a:xfrm>
        </p:grpSpPr>
        <p:graphicFrame>
          <p:nvGraphicFramePr>
            <p:cNvPr id="317" name=""/>
            <p:cNvGraphicFramePr/>
            <p:nvPr/>
          </p:nvGraphicFramePr>
          <p:xfrm>
            <a:off x="1806480" y="3006720"/>
            <a:ext cx="374760" cy="49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06480" y="300672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2728800" y="2928960"/>
            <a:ext cx="109404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28800" y="2928960"/>
                      <a:ext cx="109404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1" name=""/>
          <p:cNvGraphicFramePr/>
          <p:nvPr/>
        </p:nvGraphicFramePr>
        <p:xfrm>
          <a:off x="270000" y="3889440"/>
          <a:ext cx="4686120" cy="210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00" y="3889440"/>
                    <a:ext cx="46861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009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652760" y="1027080"/>
          <a:ext cx="7286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027080"/>
                    <a:ext cx="728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787480" y="936720"/>
          <a:ext cx="109404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7480" y="936720"/>
                    <a:ext cx="10940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70000" y="1969920"/>
          <a:ext cx="5743440" cy="32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1969920"/>
                    <a:ext cx="57434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N-normalna sila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tangente u posmatranoj tački ose nosača, odnosno zbir algebarskih vrednos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Transverzalna sil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pravcu glavne 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nosno bi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glavne normale odnosno binormale u posmatranoj tački ose nosača, ili zbir algebarskih vrednso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sr-Latn-C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t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Torzioni moment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zbir momenata svih sila desno od preseka oko orijentisanog pravca tangente u posmatranoj tački ose nosača, odnosno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en-U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n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menat savijanja oko glavne normale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nosno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momenat savijanja oko binorma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 posmatranoj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 ose nos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edstavlj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momenata svih sila desno od preseka oko orijentisanog pravca glavne normale odnosno binormale u toj tački ose nosača, ili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mesto glavne normale i binormale mogu se koristiti bilo koja dva pravca u ravni poprečnog preseka. Jedino se tangenta nosača ne m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1840" y="1969920"/>
            <a:ext cx="60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vencija o pozitivnom sme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116000" y="3198960"/>
            <a:ext cx="2456640" cy="2264760"/>
            <a:chOff x="1116000" y="3198960"/>
            <a:chExt cx="2456640" cy="2264760"/>
          </a:xfrm>
        </p:grpSpPr>
        <p:sp>
          <p:nvSpPr>
            <p:cNvPr id="335" name=""/>
            <p:cNvSpPr/>
            <p:nvPr/>
          </p:nvSpPr>
          <p:spPr>
            <a:xfrm flipH="1">
              <a:off x="1116000" y="33912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68280" y="31989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3760" y="3160800"/>
            <a:ext cx="2456640" cy="2264760"/>
            <a:chOff x="3803760" y="3160800"/>
            <a:chExt cx="2456640" cy="2264760"/>
          </a:xfrm>
        </p:grpSpPr>
        <p:sp>
          <p:nvSpPr>
            <p:cNvPr id="338" name=""/>
            <p:cNvSpPr/>
            <p:nvPr/>
          </p:nvSpPr>
          <p:spPr>
            <a:xfrm flipH="1">
              <a:off x="3803760" y="335304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56040" y="316080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77040" y="3236760"/>
            <a:ext cx="2456640" cy="2264760"/>
            <a:chOff x="6377040" y="3236760"/>
            <a:chExt cx="2456640" cy="2264760"/>
          </a:xfrm>
        </p:grpSpPr>
        <p:sp>
          <p:nvSpPr>
            <p:cNvPr id="341" name=""/>
            <p:cNvSpPr/>
            <p:nvPr/>
          </p:nvSpPr>
          <p:spPr>
            <a:xfrm flipH="1">
              <a:off x="6377040" y="34290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29320" y="32367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16000" y="4927680"/>
            <a:ext cx="2456640" cy="2264760"/>
            <a:chOff x="1116000" y="4927680"/>
            <a:chExt cx="2456640" cy="2264760"/>
          </a:xfrm>
        </p:grpSpPr>
        <p:sp>
          <p:nvSpPr>
            <p:cNvPr id="344" name=""/>
            <p:cNvSpPr/>
            <p:nvPr/>
          </p:nvSpPr>
          <p:spPr>
            <a:xfrm flipH="1">
              <a:off x="1116000" y="511992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8280" y="492768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57480" y="4965840"/>
            <a:ext cx="2456640" cy="2264760"/>
            <a:chOff x="3957480" y="4965840"/>
            <a:chExt cx="2456640" cy="2264760"/>
          </a:xfrm>
        </p:grpSpPr>
        <p:sp>
          <p:nvSpPr>
            <p:cNvPr id="347" name=""/>
            <p:cNvSpPr/>
            <p:nvPr/>
          </p:nvSpPr>
          <p:spPr>
            <a:xfrm flipH="1">
              <a:off x="39574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97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338880" y="4965840"/>
            <a:ext cx="2456640" cy="2264760"/>
            <a:chOff x="6338880" y="4965840"/>
            <a:chExt cx="2456640" cy="2264760"/>
          </a:xfrm>
        </p:grpSpPr>
        <p:sp>
          <p:nvSpPr>
            <p:cNvPr id="350" name=""/>
            <p:cNvSpPr/>
            <p:nvPr/>
          </p:nvSpPr>
          <p:spPr>
            <a:xfrm flipH="1">
              <a:off x="63388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911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H="1">
            <a:off x="885960" y="3620520"/>
            <a:ext cx="691920" cy="345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14600" y="3236760"/>
            <a:ext cx="691920" cy="34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00" y="32367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60520" y="285264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99320" y="1892160"/>
            <a:ext cx="2456640" cy="2264760"/>
            <a:chOff x="6799320" y="1892160"/>
            <a:chExt cx="2456640" cy="2264760"/>
          </a:xfrm>
        </p:grpSpPr>
        <p:sp>
          <p:nvSpPr>
            <p:cNvPr id="357" name=""/>
            <p:cNvSpPr/>
            <p:nvPr/>
          </p:nvSpPr>
          <p:spPr>
            <a:xfrm flipH="1">
              <a:off x="6799320" y="20844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51600" y="18921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7259760" y="1854000"/>
            <a:ext cx="6919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9760" y="2238480"/>
            <a:ext cx="34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6684480" y="2122560"/>
            <a:ext cx="6145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989840" y="1739880"/>
          <a:ext cx="24624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1739880"/>
                    <a:ext cx="246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643880" y="2354400"/>
          <a:ext cx="2476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43880" y="2354400"/>
                    <a:ext cx="2476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384960" y="1854360"/>
          <a:ext cx="2635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4960" y="1854360"/>
                    <a:ext cx="263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264200" y="3429000"/>
            <a:ext cx="46188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071600" y="3466800"/>
            <a:ext cx="46188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33840" y="335268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97360" y="3274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914880" y="3659040"/>
            <a:ext cx="880920" cy="462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16600" y="3083040"/>
            <a:ext cx="884160" cy="536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91240" y="34671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78440" y="26607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99120" y="4715640"/>
            <a:ext cx="761760" cy="574560"/>
            <a:chOff x="1599120" y="4715640"/>
            <a:chExt cx="761760" cy="574560"/>
          </a:xfrm>
        </p:grpSpPr>
        <p:sp>
          <p:nvSpPr>
            <p:cNvPr id="377" name=""/>
            <p:cNvSpPr/>
            <p:nvPr/>
          </p:nvSpPr>
          <p:spPr>
            <a:xfrm flipV="1">
              <a:off x="1599120" y="4859280"/>
              <a:ext cx="561600" cy="430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20760" y="4715640"/>
              <a:ext cx="240120" cy="179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46000" y="5310360"/>
            <a:ext cx="730080" cy="614160"/>
            <a:chOff x="846000" y="5310360"/>
            <a:chExt cx="730080" cy="614160"/>
          </a:xfrm>
        </p:grpSpPr>
        <p:sp>
          <p:nvSpPr>
            <p:cNvPr id="380" name=""/>
            <p:cNvSpPr/>
            <p:nvPr/>
          </p:nvSpPr>
          <p:spPr>
            <a:xfrm flipH="1">
              <a:off x="1037880" y="5310360"/>
              <a:ext cx="538200" cy="460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46000" y="5732640"/>
              <a:ext cx="230400" cy="191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230480" y="43117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7760" y="50418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72000" y="5425920"/>
            <a:ext cx="614160" cy="730080"/>
            <a:chOff x="4572000" y="5425920"/>
            <a:chExt cx="614160" cy="730080"/>
          </a:xfrm>
        </p:grpSpPr>
        <p:sp>
          <p:nvSpPr>
            <p:cNvPr id="385" name=""/>
            <p:cNvSpPr/>
            <p:nvPr/>
          </p:nvSpPr>
          <p:spPr>
            <a:xfrm>
              <a:off x="4572000" y="5425920"/>
              <a:ext cx="460080" cy="538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94280" y="5925600"/>
              <a:ext cx="191880" cy="2304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803760" y="4695480"/>
            <a:ext cx="614160" cy="730080"/>
            <a:chOff x="3803760" y="4695480"/>
            <a:chExt cx="614160" cy="730080"/>
          </a:xfrm>
        </p:grpSpPr>
        <p:sp>
          <p:nvSpPr>
            <p:cNvPr id="388" name=""/>
            <p:cNvSpPr/>
            <p:nvPr/>
          </p:nvSpPr>
          <p:spPr>
            <a:xfrm flipH="1" flipV="1">
              <a:off x="3957840" y="4887720"/>
              <a:ext cx="460080" cy="537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803760" y="4695480"/>
              <a:ext cx="191880" cy="2300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491240" y="523404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70680" y="45036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867720" y="5393160"/>
            <a:ext cx="860760" cy="411120"/>
            <a:chOff x="6867720" y="5393160"/>
            <a:chExt cx="860760" cy="411120"/>
          </a:xfrm>
        </p:grpSpPr>
        <p:sp>
          <p:nvSpPr>
            <p:cNvPr id="393" name=""/>
            <p:cNvSpPr/>
            <p:nvPr/>
          </p:nvSpPr>
          <p:spPr>
            <a:xfrm flipH="1" flipV="1">
              <a:off x="7087320" y="5504760"/>
              <a:ext cx="641160" cy="29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6867720" y="5393160"/>
              <a:ext cx="269640" cy="1303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829840" y="4898520"/>
            <a:ext cx="864000" cy="403920"/>
            <a:chOff x="5829840" y="4898520"/>
            <a:chExt cx="864000" cy="403920"/>
          </a:xfrm>
        </p:grpSpPr>
        <p:sp>
          <p:nvSpPr>
            <p:cNvPr id="396" name=""/>
            <p:cNvSpPr/>
            <p:nvPr/>
          </p:nvSpPr>
          <p:spPr>
            <a:xfrm>
              <a:off x="5829840" y="4898520"/>
              <a:ext cx="643680" cy="294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23120" y="5174280"/>
              <a:ext cx="270720" cy="128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148360" y="5425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1560" y="450360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116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Uslovi ravnoteže elementa prostorn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3720" y="4888080"/>
            <a:ext cx="8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535200" y="1857240"/>
            <a:ext cx="5144040" cy="4584600"/>
            <a:chOff x="3535200" y="1857240"/>
            <a:chExt cx="5144040" cy="4584600"/>
          </a:xfrm>
        </p:grpSpPr>
        <p:graphicFrame>
          <p:nvGraphicFramePr>
            <p:cNvPr id="403" name=""/>
            <p:cNvGraphicFramePr/>
            <p:nvPr/>
          </p:nvGraphicFramePr>
          <p:xfrm>
            <a:off x="5646600" y="1857240"/>
            <a:ext cx="2419560" cy="42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1857240"/>
                      <a:ext cx="241956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4263840" y="2928600"/>
            <a:ext cx="85428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840" y="2928600"/>
                      <a:ext cx="8542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3535200" y="3720960"/>
            <a:ext cx="981000" cy="58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35200" y="3720960"/>
                      <a:ext cx="981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 flipH="1" rot="1111200">
              <a:off x="4822920" y="290088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109760" y="4119480"/>
              <a:ext cx="730080" cy="614160"/>
              <a:chOff x="4109760" y="4119480"/>
              <a:chExt cx="730080" cy="614160"/>
            </a:xfrm>
          </p:grpSpPr>
          <p:sp>
            <p:nvSpPr>
              <p:cNvPr id="411" name=""/>
              <p:cNvSpPr/>
              <p:nvPr/>
            </p:nvSpPr>
            <p:spPr>
              <a:xfrm flipH="1">
                <a:off x="4302000" y="4119480"/>
                <a:ext cx="537840" cy="460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109760" y="4541760"/>
                <a:ext cx="230040" cy="191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H="1" flipV="1">
              <a:off x="4379400" y="3504600"/>
              <a:ext cx="461880" cy="57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645600" y="2276280"/>
              <a:ext cx="730080" cy="614160"/>
              <a:chOff x="6645600" y="2276280"/>
              <a:chExt cx="730080" cy="61416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6645600" y="2430360"/>
                <a:ext cx="537840" cy="4600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145640" y="2276280"/>
                <a:ext cx="230040" cy="1918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644520" y="2889000"/>
              <a:ext cx="576360" cy="46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8400" y="2544480"/>
              <a:ext cx="53820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646600" y="3083040"/>
              <a:ext cx="614160" cy="730080"/>
              <a:chOff x="5646600" y="3083040"/>
              <a:chExt cx="614160" cy="730080"/>
            </a:xfrm>
          </p:grpSpPr>
          <p:sp>
            <p:nvSpPr>
              <p:cNvPr id="420" name=""/>
              <p:cNvSpPr/>
              <p:nvPr/>
            </p:nvSpPr>
            <p:spPr>
              <a:xfrm>
                <a:off x="5646600" y="3083040"/>
                <a:ext cx="460080" cy="537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8880" y="3583080"/>
                <a:ext cx="191880" cy="230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956120" y="4197240"/>
              <a:ext cx="65232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3000" y="3044520"/>
              <a:ext cx="80640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532480" y="3504600"/>
              <a:ext cx="15732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5" name=""/>
            <p:cNvGraphicFramePr/>
            <p:nvPr/>
          </p:nvGraphicFramePr>
          <p:xfrm>
            <a:off x="6761160" y="2784240"/>
            <a:ext cx="1805040" cy="358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61160" y="2784240"/>
                      <a:ext cx="18050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"/>
            <p:cNvGraphicFramePr/>
            <p:nvPr/>
          </p:nvGraphicFramePr>
          <p:xfrm>
            <a:off x="5300640" y="2352600"/>
            <a:ext cx="823680" cy="422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00640" y="2352600"/>
                      <a:ext cx="8236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5916600" y="3020760"/>
            <a:ext cx="80640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16600" y="3020760"/>
                      <a:ext cx="806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5378400" y="3159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092600">
              <a:off x="5762880" y="3734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17960" y="3735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61120" y="239220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920" y="2338560"/>
            <a:ext cx="3801600" cy="3590640"/>
            <a:chOff x="385920" y="2338560"/>
            <a:chExt cx="3801600" cy="3590640"/>
          </a:xfrm>
        </p:grpSpPr>
        <p:sp>
          <p:nvSpPr>
            <p:cNvPr id="436" name=""/>
            <p:cNvSpPr/>
            <p:nvPr/>
          </p:nvSpPr>
          <p:spPr>
            <a:xfrm flipH="1">
              <a:off x="729360" y="285804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200" y="3241440"/>
              <a:ext cx="191880" cy="84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08200" y="3011400"/>
              <a:ext cx="23004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07840" y="4085280"/>
              <a:ext cx="1918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154160" y="326052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961920" y="289548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61920" y="3319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0" y="32032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0480" y="30510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84200" y="289548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115280" y="3319200"/>
              <a:ext cx="1996920" cy="222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2" y="20"/>
                  </a:moveTo>
                  <a:arcTo wR="10800" hR="10800" stAng="-5192272" swAng="5192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2" y="20"/>
                  </a:moveTo>
                  <a:arcTo wR="10800" hR="10800" stAng="-5192272" swAng="519227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6400" y="34336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4600" y="31654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4200" y="351144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0560" y="32796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30480" y="3989160"/>
              <a:ext cx="46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76440" y="347184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920" y="23587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233856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"/>
            <p:cNvCxnSpPr>
              <a:stCxn id="447" idx="0"/>
              <a:endCxn id="453" idx="2"/>
            </p:cNvCxnSpPr>
            <p:nvPr/>
          </p:nvCxnSpPr>
          <p:spPr>
            <a:xfrm flipH="1" flipV="1">
              <a:off x="634680" y="2877120"/>
              <a:ext cx="442080" cy="556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456" name=""/>
            <p:cNvCxnSpPr>
              <a:stCxn id="448" idx="0"/>
              <a:endCxn id="454" idx="2"/>
            </p:cNvCxnSpPr>
            <p:nvPr/>
          </p:nvCxnSpPr>
          <p:spPr>
            <a:xfrm flipH="1" flipV="1">
              <a:off x="1326960" y="2856600"/>
              <a:ext cx="18000" cy="308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grpSp>
          <p:nvGrpSpPr>
            <p:cNvPr id="457" name=""/>
            <p:cNvGrpSpPr/>
            <p:nvPr/>
          </p:nvGrpSpPr>
          <p:grpSpPr>
            <a:xfrm>
              <a:off x="961920" y="3606480"/>
              <a:ext cx="191880" cy="75600"/>
              <a:chOff x="961920" y="3606480"/>
              <a:chExt cx="191880" cy="75600"/>
            </a:xfrm>
          </p:grpSpPr>
          <p:sp>
            <p:nvSpPr>
              <p:cNvPr id="458" name=""/>
              <p:cNvSpPr/>
              <p:nvPr/>
            </p:nvSpPr>
            <p:spPr>
              <a:xfrm>
                <a:off x="961920" y="36234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61920" y="36064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116000" y="3452760"/>
              <a:ext cx="191880" cy="75240"/>
              <a:chOff x="1116000" y="3452760"/>
              <a:chExt cx="191880" cy="75240"/>
            </a:xfrm>
          </p:grpSpPr>
          <p:sp>
            <p:nvSpPr>
              <p:cNvPr id="461" name=""/>
              <p:cNvSpPr/>
              <p:nvPr/>
            </p:nvSpPr>
            <p:spPr>
              <a:xfrm>
                <a:off x="1116000" y="3469680"/>
                <a:ext cx="1918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6000" y="3452760"/>
                <a:ext cx="11556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268280" y="3298680"/>
              <a:ext cx="191880" cy="75600"/>
              <a:chOff x="1268280" y="3298680"/>
              <a:chExt cx="191880" cy="75600"/>
            </a:xfrm>
          </p:grpSpPr>
          <p:sp>
            <p:nvSpPr>
              <p:cNvPr id="464" name=""/>
              <p:cNvSpPr/>
              <p:nvPr/>
            </p:nvSpPr>
            <p:spPr>
              <a:xfrm>
                <a:off x="1268280" y="33156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68280" y="32986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384200" y="3182760"/>
              <a:ext cx="191880" cy="75600"/>
              <a:chOff x="1384200" y="3182760"/>
              <a:chExt cx="191880" cy="75600"/>
            </a:xfrm>
          </p:grpSpPr>
          <p:sp>
            <p:nvSpPr>
              <p:cNvPr id="467" name=""/>
              <p:cNvSpPr/>
              <p:nvPr/>
            </p:nvSpPr>
            <p:spPr>
              <a:xfrm>
                <a:off x="1384200" y="319968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84200" y="318276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69" name=""/>
            <p:cNvGraphicFramePr/>
            <p:nvPr/>
          </p:nvGraphicFramePr>
          <p:xfrm>
            <a:off x="1576440" y="2952720"/>
            <a:ext cx="357120" cy="383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76440" y="2952720"/>
                      <a:ext cx="3571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966960" y="2646360"/>
            <a:ext cx="287280" cy="459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66960" y="2646360"/>
                      <a:ext cx="28728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3" name=""/>
          <p:cNvSpPr/>
          <p:nvPr/>
        </p:nvSpPr>
        <p:spPr>
          <a:xfrm>
            <a:off x="0" y="17953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osač je u ravnotež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6222960" y="4608360"/>
          <a:ext cx="2921040" cy="70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2960" y="4608360"/>
                    <a:ext cx="2921040" cy="7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0" y="461952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nosač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5157720"/>
          <a:ext cx="2421000" cy="148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5157720"/>
                    <a:ext cx="24210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0" y="0"/>
          <a:ext cx="7107120" cy="1155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0"/>
                    <a:ext cx="71071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4T23:25:26Z</dcterms:modified>
  <cp:revision>557</cp:revision>
  <dc:subject/>
  <dc:title>Slide 1</dc:title>
</cp:coreProperties>
</file>