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png" ContentType="image/png"/>
  <Override PartName="/ppt/media/image41.wmf" ContentType="image/x-wmf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D97-29D2-4EF9-852D-A08E4BBB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0EA-E9D2-40C9-BFD0-EF1DBEE6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EF0-E9D9-4052-AE24-E417B4B9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091-97C8-44A8-A89A-044F294A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15F7-4293-47CF-9DF0-8274D247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C7E3-01D2-4A89-B376-E46DA977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F0F5-0277-4917-89D5-2C05FCF7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A957-0FE7-4B90-985D-336BF9A2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507D-D979-4046-8F34-9D57413C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FEE4-903A-443B-9937-A9B6FF8C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ACC1-76AE-45F7-ADB7-6D82CB0B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AEB-B8A6-4C94-A79E-114AA930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72A3-8FE7-4FCE-8412-75DDCD02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83D3-A46C-4F59-9AD8-1D06B5E9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87FC-68D1-4F93-8F9A-0BB1A8B4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8F49-796A-498C-9495-3AA71A3C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D99E-BD0D-4E5F-B4F2-AC9FAB3B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1004-8AFB-4D16-A0B0-F8E1473C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DB3-03FD-4531-AB93-0816FC0F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E9F-CC23-49B7-AF91-0269FC81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1AC-7BEF-40C4-96C9-9C94847F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FF1-265F-4163-A55F-EBE481CF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313D-B605-4E04-8D67-0B23ABD5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583-EB9B-4DD2-BC3B-2F2569FA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1358-41DA-4952-905F-B7049B04D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BAE8-22C8-4190-AC93-146BEFE56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24000" y="4071960"/>
          <a:ext cx="867564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71960"/>
                    <a:ext cx="86756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60360" y="346968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dakle sledi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2720" y="5290920"/>
            <a:ext cx="872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r sila u štapovima 4 i 10 je pogrešno pretpostavlj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Štap 2 je zategnut, a štapovi 4 i 10 su pritisnu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9280" y="333360"/>
          <a:ext cx="8713800" cy="272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33360"/>
                    <a:ext cx="8713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1280" y="112680"/>
            <a:ext cx="59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a metoda – još jedan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56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57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57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59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346400" y="966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spoljašnjih reakcija v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10800000">
            <a:off x="468360" y="105192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1636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43564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105264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98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64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4560" y="3500280"/>
            <a:ext cx="792360" cy="431640"/>
            <a:chOff x="34560" y="3500280"/>
            <a:chExt cx="792360" cy="431640"/>
          </a:xfrm>
        </p:grpSpPr>
        <p:sp>
          <p:nvSpPr>
            <p:cNvPr id="618" name=""/>
            <p:cNvSpPr/>
            <p:nvPr/>
          </p:nvSpPr>
          <p:spPr>
            <a:xfrm>
              <a:off x="25092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34560" y="3789360"/>
              <a:ext cx="792360" cy="142560"/>
              <a:chOff x="34560" y="3789360"/>
              <a:chExt cx="792360" cy="142560"/>
            </a:xfrm>
          </p:grpSpPr>
          <p:sp>
            <p:nvSpPr>
              <p:cNvPr id="620" name=""/>
              <p:cNvSpPr/>
              <p:nvPr/>
            </p:nvSpPr>
            <p:spPr>
              <a:xfrm>
                <a:off x="34920" y="3789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4560" y="3789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50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466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82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"/>
          <p:cNvSpPr/>
          <p:nvPr/>
        </p:nvSpPr>
        <p:spPr>
          <a:xfrm rot="15975600">
            <a:off x="39420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524360" y="3500280"/>
            <a:ext cx="792360" cy="574200"/>
            <a:chOff x="7524360" y="3500280"/>
            <a:chExt cx="792360" cy="574200"/>
          </a:xfrm>
        </p:grpSpPr>
        <p:sp>
          <p:nvSpPr>
            <p:cNvPr id="627" name=""/>
            <p:cNvSpPr/>
            <p:nvPr/>
          </p:nvSpPr>
          <p:spPr>
            <a:xfrm>
              <a:off x="774036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24720" y="37875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7524360" y="3931920"/>
              <a:ext cx="792360" cy="142560"/>
              <a:chOff x="7524360" y="3931920"/>
              <a:chExt cx="792360" cy="142560"/>
            </a:xfrm>
          </p:grpSpPr>
          <p:sp>
            <p:nvSpPr>
              <p:cNvPr id="630" name=""/>
              <p:cNvSpPr/>
              <p:nvPr/>
            </p:nvSpPr>
            <p:spPr>
              <a:xfrm>
                <a:off x="7524720" y="39319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7524360" y="39319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740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956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8172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7812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800" y="278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174160" y="292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33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43280" y="98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434920" y="3537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662120" y="1062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1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95672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35640" y="39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528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91456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3564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967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17800" y="429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7991640" y="979560"/>
            <a:ext cx="1152000" cy="2520720"/>
            <a:chOff x="7991640" y="979560"/>
            <a:chExt cx="1152000" cy="2520720"/>
          </a:xfrm>
        </p:grpSpPr>
        <p:sp>
          <p:nvSpPr>
            <p:cNvPr id="652" name=""/>
            <p:cNvSpPr/>
            <p:nvPr/>
          </p:nvSpPr>
          <p:spPr>
            <a:xfrm rot="16200000">
              <a:off x="8449920" y="207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36000" y="3500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91640" y="979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999640" y="979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1773360" y="40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1844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7416720" y="0"/>
          <a:ext cx="172728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6720" y="0"/>
                    <a:ext cx="1727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7416720" y="476280"/>
          <a:ext cx="172728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16720" y="476280"/>
                    <a:ext cx="17272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"/>
          <p:cNvGrpSpPr/>
          <p:nvPr/>
        </p:nvGrpSpPr>
        <p:grpSpPr>
          <a:xfrm>
            <a:off x="7320600" y="1989000"/>
            <a:ext cx="609120" cy="648720"/>
            <a:chOff x="7320600" y="1989000"/>
            <a:chExt cx="609120" cy="648720"/>
          </a:xfrm>
        </p:grpSpPr>
        <p:sp>
          <p:nvSpPr>
            <p:cNvPr id="665" name=""/>
            <p:cNvSpPr/>
            <p:nvPr/>
          </p:nvSpPr>
          <p:spPr>
            <a:xfrm>
              <a:off x="7320600" y="1989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53080" y="2060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 flipV="1">
            <a:off x="7927200" y="1246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84840" y="3492720"/>
            <a:ext cx="2052360" cy="5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467640" y="2415960"/>
            <a:ext cx="17280" cy="1037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415160" y="2925720"/>
            <a:ext cx="609120" cy="648720"/>
            <a:chOff x="1415160" y="2925720"/>
            <a:chExt cx="609120" cy="648720"/>
          </a:xfrm>
        </p:grpSpPr>
        <p:sp>
          <p:nvSpPr>
            <p:cNvPr id="671" name=""/>
            <p:cNvSpPr/>
            <p:nvPr/>
          </p:nvSpPr>
          <p:spPr>
            <a:xfrm>
              <a:off x="1415160" y="2925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47640" y="2997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262440" y="1917720"/>
            <a:ext cx="586080" cy="648720"/>
            <a:chOff x="262440" y="1917720"/>
            <a:chExt cx="586080" cy="648720"/>
          </a:xfrm>
        </p:grpSpPr>
        <p:sp>
          <p:nvSpPr>
            <p:cNvPr id="674" name=""/>
            <p:cNvSpPr/>
            <p:nvPr/>
          </p:nvSpPr>
          <p:spPr>
            <a:xfrm>
              <a:off x="262440" y="191772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5280" y="1989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6" name=""/>
          <p:cNvGraphicFramePr/>
          <p:nvPr/>
        </p:nvGraphicFramePr>
        <p:xfrm>
          <a:off x="108000" y="4973760"/>
          <a:ext cx="439272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4973760"/>
                    <a:ext cx="4392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4824360" y="4941720"/>
          <a:ext cx="428472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4360" y="4941720"/>
                    <a:ext cx="42847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108000" y="5551560"/>
          <a:ext cx="6985080" cy="61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5551560"/>
                    <a:ext cx="69850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3354480" y="199800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290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68400" y="6138720"/>
          <a:ext cx="7970760" cy="67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00" y="6138720"/>
                    <a:ext cx="797076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3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3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3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3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435640" y="79200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8364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174160" y="2664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991640" y="717480"/>
            <a:ext cx="1152000" cy="2520720"/>
            <a:chOff x="7991640" y="717480"/>
            <a:chExt cx="1152000" cy="2520720"/>
          </a:xfrm>
        </p:grpSpPr>
        <p:sp>
          <p:nvSpPr>
            <p:cNvPr id="690" name=""/>
            <p:cNvSpPr/>
            <p:nvPr/>
          </p:nvSpPr>
          <p:spPr>
            <a:xfrm rot="16200000">
              <a:off x="8449920" y="1817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36000" y="323820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91640" y="7174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8999640" y="71748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 flipV="1">
            <a:off x="7927200" y="91332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97400" y="44604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64000" y="719280"/>
            <a:ext cx="14472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435640" y="86364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564000" y="79200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88508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300360" y="32400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800" y="142920"/>
            <a:ext cx="7954920" cy="6742080"/>
            <a:chOff x="1800" y="142920"/>
            <a:chExt cx="7954920" cy="6742080"/>
          </a:xfrm>
        </p:grpSpPr>
        <p:grpSp>
          <p:nvGrpSpPr>
            <p:cNvPr id="702" name=""/>
            <p:cNvGrpSpPr/>
            <p:nvPr/>
          </p:nvGrpSpPr>
          <p:grpSpPr>
            <a:xfrm>
              <a:off x="1800" y="142920"/>
              <a:ext cx="7954920" cy="6742080"/>
              <a:chOff x="1800" y="142920"/>
              <a:chExt cx="7954920" cy="6742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346400" y="70416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0800000">
                <a:off x="468360" y="79020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916360" y="79056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35640" y="79236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16360" y="79056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364000" y="719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84328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364000" y="3167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5975600">
                <a:off x="39420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00" y="251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843280" y="719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32760" y="327348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62120" y="80100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5280" y="374328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16360" y="359892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956720" y="374328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367200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528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1456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3564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96720" y="39592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773360" y="1429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18440" y="3527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>
                <a:off x="439200" y="327600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147744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8908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644472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5236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60000" y="1584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620360" y="2664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917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09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320600" y="1413000"/>
            <a:ext cx="609120" cy="648720"/>
            <a:chOff x="7320600" y="1413000"/>
            <a:chExt cx="609120" cy="648720"/>
          </a:xfrm>
        </p:grpSpPr>
        <p:sp>
          <p:nvSpPr>
            <p:cNvPr id="739" name=""/>
            <p:cNvSpPr/>
            <p:nvPr/>
          </p:nvSpPr>
          <p:spPr>
            <a:xfrm>
              <a:off x="7320600" y="1413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53080" y="1484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437440" y="820440"/>
            <a:ext cx="12240" cy="1721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3558240" y="775800"/>
            <a:ext cx="1881000" cy="1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5360" y="185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797720" y="32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510080" y="260280"/>
            <a:ext cx="523800" cy="648720"/>
            <a:chOff x="4510080" y="260280"/>
            <a:chExt cx="523800" cy="648720"/>
          </a:xfrm>
        </p:grpSpPr>
        <p:sp>
          <p:nvSpPr>
            <p:cNvPr id="746" name=""/>
            <p:cNvSpPr/>
            <p:nvPr/>
          </p:nvSpPr>
          <p:spPr>
            <a:xfrm>
              <a:off x="4510080" y="260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45080" y="331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941720" y="1268280"/>
            <a:ext cx="523800" cy="648720"/>
            <a:chOff x="4941720" y="1268280"/>
            <a:chExt cx="523800" cy="648720"/>
          </a:xfrm>
        </p:grpSpPr>
        <p:sp>
          <p:nvSpPr>
            <p:cNvPr id="749" name=""/>
            <p:cNvSpPr/>
            <p:nvPr/>
          </p:nvSpPr>
          <p:spPr>
            <a:xfrm>
              <a:off x="4941720" y="1268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76720" y="1339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526080" y="3281400"/>
            <a:ext cx="523800" cy="648720"/>
            <a:chOff x="6526080" y="3281400"/>
            <a:chExt cx="523800" cy="648720"/>
          </a:xfrm>
        </p:grpSpPr>
        <p:sp>
          <p:nvSpPr>
            <p:cNvPr id="752" name=""/>
            <p:cNvSpPr/>
            <p:nvPr/>
          </p:nvSpPr>
          <p:spPr>
            <a:xfrm>
              <a:off x="6526080" y="32814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61080" y="33526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5435640" y="191628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788000" y="3284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395280" y="4390920"/>
          <a:ext cx="8280360" cy="23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390920"/>
                    <a:ext cx="828036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 flipH="1">
            <a:off x="6266520" y="3235680"/>
            <a:ext cx="1641240" cy="13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415160" y="3284640"/>
            <a:ext cx="609120" cy="648720"/>
            <a:chOff x="1415160" y="3284640"/>
            <a:chExt cx="609120" cy="648720"/>
          </a:xfrm>
        </p:grpSpPr>
        <p:sp>
          <p:nvSpPr>
            <p:cNvPr id="760" name=""/>
            <p:cNvSpPr/>
            <p:nvPr/>
          </p:nvSpPr>
          <p:spPr>
            <a:xfrm>
              <a:off x="141516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547640" y="3355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3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3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3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3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8000" y="-2700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grafički odredjuju spoljašnje reakcije ve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77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77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78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78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80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5435640" y="549360"/>
            <a:ext cx="2521080" cy="6092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346400" y="4611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10800000">
            <a:off x="394920" y="547200"/>
            <a:ext cx="7489800" cy="2448000"/>
          </a:xfrm>
          <a:custGeom>
            <a:avLst/>
            <a:gdLst>
              <a:gd name="textAreaLeft" fmla="*/ 1989360 w 7489800"/>
              <a:gd name="textAreaRight" fmla="*/ 5500440 w 748980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91636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43564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16360" y="54756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6400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84328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364000" y="2924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-36720" y="2995560"/>
            <a:ext cx="792360" cy="431640"/>
            <a:chOff x="-36720" y="2995560"/>
            <a:chExt cx="792360" cy="431640"/>
          </a:xfrm>
        </p:grpSpPr>
        <p:sp>
          <p:nvSpPr>
            <p:cNvPr id="828" name=""/>
            <p:cNvSpPr/>
            <p:nvPr/>
          </p:nvSpPr>
          <p:spPr>
            <a:xfrm>
              <a:off x="17964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-36720" y="3284640"/>
              <a:ext cx="792360" cy="142560"/>
              <a:chOff x="-36720" y="3284640"/>
              <a:chExt cx="792360" cy="142560"/>
            </a:xfrm>
          </p:grpSpPr>
          <p:sp>
            <p:nvSpPr>
              <p:cNvPr id="830" name=""/>
              <p:cNvSpPr/>
              <p:nvPr/>
            </p:nvSpPr>
            <p:spPr>
              <a:xfrm>
                <a:off x="-36360" y="32846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-36720" y="32846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179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395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611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"/>
          <p:cNvSpPr/>
          <p:nvPr/>
        </p:nvSpPr>
        <p:spPr>
          <a:xfrm rot="15975600">
            <a:off x="322560" y="2924640"/>
            <a:ext cx="14436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524360" y="2995560"/>
            <a:ext cx="792360" cy="574200"/>
            <a:chOff x="7524360" y="2995560"/>
            <a:chExt cx="792360" cy="574200"/>
          </a:xfrm>
        </p:grpSpPr>
        <p:sp>
          <p:nvSpPr>
            <p:cNvPr id="837" name=""/>
            <p:cNvSpPr/>
            <p:nvPr/>
          </p:nvSpPr>
          <p:spPr>
            <a:xfrm>
              <a:off x="774036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524720" y="328284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7524360" y="3427200"/>
              <a:ext cx="792360" cy="142560"/>
              <a:chOff x="7524360" y="3427200"/>
              <a:chExt cx="792360" cy="142560"/>
            </a:xfrm>
          </p:grpSpPr>
          <p:sp>
            <p:nvSpPr>
              <p:cNvPr id="840" name=""/>
              <p:cNvSpPr/>
              <p:nvPr/>
            </p:nvSpPr>
            <p:spPr>
              <a:xfrm>
                <a:off x="7524720" y="34272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524360" y="34272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740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956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172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5" name=""/>
          <p:cNvSpPr/>
          <p:nvPr/>
        </p:nvSpPr>
        <p:spPr>
          <a:xfrm>
            <a:off x="788364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0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7416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33308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84328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432760" y="3030480"/>
            <a:ext cx="11880" cy="280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662120" y="55800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9528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916360" y="33559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956720" y="3500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435640" y="342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9528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91456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43564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99672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517800" y="378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991640" y="474840"/>
            <a:ext cx="1152000" cy="2520720"/>
            <a:chOff x="7991640" y="474840"/>
            <a:chExt cx="1152000" cy="2520720"/>
          </a:xfrm>
        </p:grpSpPr>
        <p:sp>
          <p:nvSpPr>
            <p:cNvPr id="862" name=""/>
            <p:cNvSpPr/>
            <p:nvPr/>
          </p:nvSpPr>
          <p:spPr>
            <a:xfrm rot="16200000">
              <a:off x="8449920" y="157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136000" y="2995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991640" y="474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8999640" y="474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6588000" y="54936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435640" y="33577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436000" y="516600"/>
            <a:ext cx="1135440" cy="285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5280" y="3068640"/>
            <a:ext cx="7561440" cy="360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6784560" y="3841920"/>
            <a:ext cx="1185120" cy="280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769080" y="3860640"/>
            <a:ext cx="118764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284640"/>
            <a:ext cx="0" cy="3141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7955640" y="440100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6729840" y="6059160"/>
            <a:ext cx="1208880" cy="546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95672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247880" y="1125360"/>
            <a:ext cx="609120" cy="648720"/>
            <a:chOff x="7247880" y="1125360"/>
            <a:chExt cx="609120" cy="648720"/>
          </a:xfrm>
        </p:grpSpPr>
        <p:sp>
          <p:nvSpPr>
            <p:cNvPr id="877" name=""/>
            <p:cNvSpPr/>
            <p:nvPr/>
          </p:nvSpPr>
          <p:spPr>
            <a:xfrm>
              <a:off x="7247880" y="1125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80360" y="1196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488240" y="3068640"/>
            <a:ext cx="609120" cy="648720"/>
            <a:chOff x="1488240" y="3068640"/>
            <a:chExt cx="609120" cy="648720"/>
          </a:xfrm>
        </p:grpSpPr>
        <p:sp>
          <p:nvSpPr>
            <p:cNvPr id="880" name=""/>
            <p:cNvSpPr/>
            <p:nvPr/>
          </p:nvSpPr>
          <p:spPr>
            <a:xfrm>
              <a:off x="1488240" y="306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20720" y="3139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742000" y="1773360"/>
            <a:ext cx="686880" cy="648720"/>
            <a:chOff x="5742000" y="1773360"/>
            <a:chExt cx="686880" cy="648720"/>
          </a:xfrm>
        </p:grpSpPr>
        <p:sp>
          <p:nvSpPr>
            <p:cNvPr id="883" name=""/>
            <p:cNvSpPr/>
            <p:nvPr/>
          </p:nvSpPr>
          <p:spPr>
            <a:xfrm>
              <a:off x="5742000" y="1773360"/>
              <a:ext cx="686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68720" y="184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6965640" y="4508640"/>
            <a:ext cx="822240" cy="648720"/>
            <a:chOff x="6965640" y="4508640"/>
            <a:chExt cx="822240" cy="648720"/>
          </a:xfrm>
        </p:grpSpPr>
        <p:sp>
          <p:nvSpPr>
            <p:cNvPr id="886" name=""/>
            <p:cNvSpPr/>
            <p:nvPr/>
          </p:nvSpPr>
          <p:spPr>
            <a:xfrm>
              <a:off x="6965640" y="4508640"/>
              <a:ext cx="82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64000" y="457992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702080" y="0"/>
            <a:ext cx="569520" cy="648720"/>
            <a:chOff x="1702080" y="0"/>
            <a:chExt cx="569520" cy="648720"/>
          </a:xfrm>
        </p:grpSpPr>
        <p:sp>
          <p:nvSpPr>
            <p:cNvPr id="889" name=""/>
            <p:cNvSpPr/>
            <p:nvPr/>
          </p:nvSpPr>
          <p:spPr>
            <a:xfrm>
              <a:off x="1702080" y="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35280" y="4428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5518440" y="3284640"/>
            <a:ext cx="569520" cy="648720"/>
            <a:chOff x="5518440" y="3284640"/>
            <a:chExt cx="569520" cy="648720"/>
          </a:xfrm>
        </p:grpSpPr>
        <p:sp>
          <p:nvSpPr>
            <p:cNvPr id="892" name=""/>
            <p:cNvSpPr/>
            <p:nvPr/>
          </p:nvSpPr>
          <p:spPr>
            <a:xfrm>
              <a:off x="5518440" y="32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51640" y="335772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4" name=""/>
          <p:cNvGraphicFramePr/>
          <p:nvPr/>
        </p:nvGraphicFramePr>
        <p:xfrm>
          <a:off x="179280" y="5877000"/>
          <a:ext cx="4392720" cy="7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877000"/>
                    <a:ext cx="439272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17919E-006 L -2.77778E-006 -0.34612 E">
                                      <p:cBhvr>
                                        <p:cTn id="529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89017E-007 L 0.41737 -2.89017E-007 E">
                                      <p:cBhvr>
                                        <p:cTn id="531" dur="20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5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8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4971E-006 L 0.41736 1.84971E-006 E">
                                      <p:cBhvr>
                                        <p:cTn id="541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2.42775E-006 L -0.08733 -0.29364 E">
                                      <p:cBhvr>
                                        <p:cTn id="543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9.82659E-007 L 5.27778E-006 -0.54543 E">
                                      <p:cBhvr>
                                        <p:cTn id="58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717 L -0.69288 -0.43329 E">
                                      <p:cBhvr>
                                        <p:cTn id="589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435640" y="136836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88364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174160" y="3240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7991640" y="1293840"/>
            <a:ext cx="1152000" cy="2520720"/>
            <a:chOff x="7991640" y="1293840"/>
            <a:chExt cx="1152000" cy="2520720"/>
          </a:xfrm>
        </p:grpSpPr>
        <p:sp>
          <p:nvSpPr>
            <p:cNvPr id="900" name=""/>
            <p:cNvSpPr/>
            <p:nvPr/>
          </p:nvSpPr>
          <p:spPr>
            <a:xfrm rot="16200000">
              <a:off x="8449920" y="2394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136000" y="3814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991640" y="1293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8999640" y="1293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 flipV="1">
            <a:off x="7927200" y="1489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497400" y="102240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364000" y="1295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435640" y="144000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564000" y="136836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88508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6300360" y="3816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1800" y="719280"/>
            <a:ext cx="7954920" cy="6742080"/>
            <a:chOff x="1800" y="719280"/>
            <a:chExt cx="7954920" cy="6742080"/>
          </a:xfrm>
        </p:grpSpPr>
        <p:grpSp>
          <p:nvGrpSpPr>
            <p:cNvPr id="912" name=""/>
            <p:cNvGrpSpPr/>
            <p:nvPr/>
          </p:nvGrpSpPr>
          <p:grpSpPr>
            <a:xfrm>
              <a:off x="1800" y="719280"/>
              <a:ext cx="7954920" cy="6742080"/>
              <a:chOff x="1800" y="719280"/>
              <a:chExt cx="7954920" cy="6742080"/>
            </a:xfrm>
          </p:grpSpPr>
          <p:sp>
            <p:nvSpPr>
              <p:cNvPr id="913" name=""/>
              <p:cNvSpPr/>
              <p:nvPr/>
            </p:nvSpPr>
            <p:spPr>
              <a:xfrm>
                <a:off x="1346400" y="128052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0800000">
                <a:off x="468360" y="136656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916360" y="136692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435640" y="136872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16360" y="136692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364000" y="1295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84328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364000" y="3743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5975600">
                <a:off x="39420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800" y="3096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843280" y="1295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432760" y="384984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62120" y="137736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95280" y="431964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916360" y="417528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956720" y="431964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35640" y="424836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9528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91456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43564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996720" y="45356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73360" y="719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518440" y="4104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>
                <a:off x="439200" y="385236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147744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8908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5236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60000" y="2160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20360" y="3240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925440" y="81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660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917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709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36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7320600" y="1341360"/>
            <a:ext cx="609120" cy="648720"/>
            <a:chOff x="7320600" y="1341360"/>
            <a:chExt cx="609120" cy="648720"/>
          </a:xfrm>
        </p:grpSpPr>
        <p:sp>
          <p:nvSpPr>
            <p:cNvPr id="949" name=""/>
            <p:cNvSpPr/>
            <p:nvPr/>
          </p:nvSpPr>
          <p:spPr>
            <a:xfrm>
              <a:off x="732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53080" y="141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3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 flipV="1">
            <a:off x="5977080" y="-328680"/>
            <a:ext cx="0" cy="4942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456000" y="227808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0400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94216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5947920" y="2399400"/>
            <a:ext cx="23040" cy="2244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517760" y="1932120"/>
            <a:ext cx="3440160" cy="351288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384720" y="220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456000" y="234936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584000" y="227808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0544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320720" y="472608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465080" y="4122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45800" y="17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681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457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3456000" y="2205000"/>
            <a:ext cx="5076720" cy="31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15640" y="0"/>
            <a:ext cx="7201080" cy="68994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942160" y="103320"/>
            <a:ext cx="237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8174160" y="103320"/>
            <a:ext cx="0" cy="2087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908680" y="2216880"/>
            <a:ext cx="2280240" cy="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005880" y="111960"/>
            <a:ext cx="2174760" cy="2081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1226160" y="4712040"/>
            <a:ext cx="2126160" cy="2048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826560" y="4724280"/>
            <a:ext cx="36738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347640" y="3933720"/>
            <a:ext cx="71640" cy="3382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1258920" y="4724280"/>
            <a:ext cx="0" cy="1990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258920" y="6742080"/>
            <a:ext cx="21607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 flipV="1">
            <a:off x="1211760" y="4695480"/>
            <a:ext cx="2189520" cy="26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3328200" y="4708440"/>
            <a:ext cx="43920" cy="201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6023880" y="2781360"/>
            <a:ext cx="609120" cy="648720"/>
            <a:chOff x="6023880" y="2781360"/>
            <a:chExt cx="609120" cy="648720"/>
          </a:xfrm>
        </p:grpSpPr>
        <p:sp>
          <p:nvSpPr>
            <p:cNvPr id="980" name=""/>
            <p:cNvSpPr/>
            <p:nvPr/>
          </p:nvSpPr>
          <p:spPr>
            <a:xfrm>
              <a:off x="602388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156360" y="285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6608160" y="476280"/>
            <a:ext cx="726480" cy="648720"/>
            <a:chOff x="6608160" y="476280"/>
            <a:chExt cx="726480" cy="648720"/>
          </a:xfrm>
        </p:grpSpPr>
        <p:sp>
          <p:nvSpPr>
            <p:cNvPr id="983" name=""/>
            <p:cNvSpPr/>
            <p:nvPr/>
          </p:nvSpPr>
          <p:spPr>
            <a:xfrm>
              <a:off x="6608160" y="4762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32720" y="5493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5304600" y="333360"/>
            <a:ext cx="609120" cy="648720"/>
            <a:chOff x="5304600" y="333360"/>
            <a:chExt cx="609120" cy="648720"/>
          </a:xfrm>
        </p:grpSpPr>
        <p:sp>
          <p:nvSpPr>
            <p:cNvPr id="986" name=""/>
            <p:cNvSpPr/>
            <p:nvPr/>
          </p:nvSpPr>
          <p:spPr>
            <a:xfrm>
              <a:off x="5304600" y="33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37080" y="40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173720" y="1628640"/>
            <a:ext cx="523800" cy="648720"/>
            <a:chOff x="7173720" y="1628640"/>
            <a:chExt cx="523800" cy="648720"/>
          </a:xfrm>
        </p:grpSpPr>
        <p:sp>
          <p:nvSpPr>
            <p:cNvPr id="989" name=""/>
            <p:cNvSpPr/>
            <p:nvPr/>
          </p:nvSpPr>
          <p:spPr>
            <a:xfrm>
              <a:off x="7173720" y="1628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08720" y="1700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1351440" y="5229360"/>
            <a:ext cx="964080" cy="648720"/>
            <a:chOff x="1351440" y="5229360"/>
            <a:chExt cx="964080" cy="648720"/>
          </a:xfrm>
        </p:grpSpPr>
        <p:sp>
          <p:nvSpPr>
            <p:cNvPr id="992" name=""/>
            <p:cNvSpPr/>
            <p:nvPr/>
          </p:nvSpPr>
          <p:spPr>
            <a:xfrm>
              <a:off x="1351440" y="5229360"/>
              <a:ext cx="96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 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90560" y="53020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429000" y="5661000"/>
            <a:ext cx="523800" cy="648720"/>
            <a:chOff x="3429000" y="5661000"/>
            <a:chExt cx="523800" cy="648720"/>
          </a:xfrm>
        </p:grpSpPr>
        <p:sp>
          <p:nvSpPr>
            <p:cNvPr id="995" name=""/>
            <p:cNvSpPr/>
            <p:nvPr/>
          </p:nvSpPr>
          <p:spPr>
            <a:xfrm>
              <a:off x="3429000" y="56610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64000" y="573264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2060280" y="4076640"/>
            <a:ext cx="523800" cy="648720"/>
            <a:chOff x="2060280" y="4076640"/>
            <a:chExt cx="523800" cy="648720"/>
          </a:xfrm>
        </p:grpSpPr>
        <p:sp>
          <p:nvSpPr>
            <p:cNvPr id="998" name=""/>
            <p:cNvSpPr/>
            <p:nvPr/>
          </p:nvSpPr>
          <p:spPr>
            <a:xfrm>
              <a:off x="2060280" y="4076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95280" y="4148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79280" y="476280"/>
            <a:ext cx="5113440" cy="1297080"/>
            <a:chOff x="179280" y="476280"/>
            <a:chExt cx="5113440" cy="1297080"/>
          </a:xfrm>
        </p:grpSpPr>
        <p:sp>
          <p:nvSpPr>
            <p:cNvPr id="1001" name=""/>
            <p:cNvSpPr/>
            <p:nvPr/>
          </p:nvSpPr>
          <p:spPr>
            <a:xfrm>
              <a:off x="179280" y="476280"/>
              <a:ext cx="5113440" cy="1297080"/>
            </a:xfrm>
            <a:prstGeom prst="rect">
              <a:avLst/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2" name=""/>
            <p:cNvGraphicFramePr/>
            <p:nvPr/>
          </p:nvGraphicFramePr>
          <p:xfrm>
            <a:off x="395280" y="765000"/>
            <a:ext cx="468144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765000"/>
                      <a:ext cx="468144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3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5.78035E-008 L -6.66667E-006 -0.34612 E">
                                      <p:cBhvr>
                                        <p:cTn id="652" dur="2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0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3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7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6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8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34560" y="3141720"/>
            <a:ext cx="792360" cy="574200"/>
            <a:chOff x="34560" y="3141720"/>
            <a:chExt cx="792360" cy="574200"/>
          </a:xfrm>
        </p:grpSpPr>
        <p:sp>
          <p:nvSpPr>
            <p:cNvPr id="1005" name=""/>
            <p:cNvSpPr/>
            <p:nvPr/>
          </p:nvSpPr>
          <p:spPr>
            <a:xfrm>
              <a:off x="250560" y="31417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920" y="342900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4560" y="3573360"/>
              <a:ext cx="792360" cy="142560"/>
              <a:chOff x="34560" y="3573360"/>
              <a:chExt cx="792360" cy="142560"/>
            </a:xfrm>
          </p:grpSpPr>
          <p:sp>
            <p:nvSpPr>
              <p:cNvPr id="1008" name=""/>
              <p:cNvSpPr/>
              <p:nvPr/>
            </p:nvSpPr>
            <p:spPr>
              <a:xfrm>
                <a:off x="34920" y="3573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34560" y="3573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250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466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682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"/>
          <p:cNvSpPr/>
          <p:nvPr/>
        </p:nvSpPr>
        <p:spPr>
          <a:xfrm>
            <a:off x="1174680" y="1428840"/>
            <a:ext cx="3527640" cy="2475000"/>
          </a:xfrm>
          <a:custGeom>
            <a:avLst/>
            <a:gdLst/>
            <a:ahLst/>
            <a:rect l="l" t="t" r="r" b="b"/>
            <a:pathLst>
              <a:path w="2222" h="1559">
                <a:moveTo>
                  <a:pt x="2158" y="1267"/>
                </a:moveTo>
                <a:cubicBezTo>
                  <a:pt x="2187" y="1224"/>
                  <a:pt x="2191" y="1180"/>
                  <a:pt x="2204" y="1130"/>
                </a:cubicBezTo>
                <a:cubicBezTo>
                  <a:pt x="2211" y="1106"/>
                  <a:pt x="2222" y="1057"/>
                  <a:pt x="2222" y="1057"/>
                </a:cubicBezTo>
                <a:cubicBezTo>
                  <a:pt x="2219" y="984"/>
                  <a:pt x="2220" y="910"/>
                  <a:pt x="2213" y="837"/>
                </a:cubicBezTo>
                <a:cubicBezTo>
                  <a:pt x="2206" y="769"/>
                  <a:pt x="2141" y="713"/>
                  <a:pt x="2094" y="673"/>
                </a:cubicBezTo>
                <a:cubicBezTo>
                  <a:pt x="2059" y="643"/>
                  <a:pt x="2042" y="607"/>
                  <a:pt x="2003" y="581"/>
                </a:cubicBezTo>
                <a:cubicBezTo>
                  <a:pt x="1983" y="521"/>
                  <a:pt x="2011" y="581"/>
                  <a:pt x="1966" y="545"/>
                </a:cubicBezTo>
                <a:cubicBezTo>
                  <a:pt x="1933" y="519"/>
                  <a:pt x="1948" y="499"/>
                  <a:pt x="1893" y="481"/>
                </a:cubicBezTo>
                <a:cubicBezTo>
                  <a:pt x="1830" y="437"/>
                  <a:pt x="1808" y="359"/>
                  <a:pt x="1783" y="289"/>
                </a:cubicBezTo>
                <a:cubicBezTo>
                  <a:pt x="1780" y="281"/>
                  <a:pt x="1770" y="277"/>
                  <a:pt x="1765" y="270"/>
                </a:cubicBezTo>
                <a:cubicBezTo>
                  <a:pt x="1758" y="259"/>
                  <a:pt x="1755" y="245"/>
                  <a:pt x="1747" y="234"/>
                </a:cubicBezTo>
                <a:cubicBezTo>
                  <a:pt x="1719" y="199"/>
                  <a:pt x="1670" y="156"/>
                  <a:pt x="1628" y="142"/>
                </a:cubicBezTo>
                <a:cubicBezTo>
                  <a:pt x="1597" y="111"/>
                  <a:pt x="1579" y="99"/>
                  <a:pt x="1537" y="87"/>
                </a:cubicBezTo>
                <a:cubicBezTo>
                  <a:pt x="1477" y="48"/>
                  <a:pt x="1413" y="42"/>
                  <a:pt x="1345" y="23"/>
                </a:cubicBezTo>
                <a:cubicBezTo>
                  <a:pt x="1130" y="28"/>
                  <a:pt x="1036" y="0"/>
                  <a:pt x="878" y="51"/>
                </a:cubicBezTo>
                <a:cubicBezTo>
                  <a:pt x="815" y="93"/>
                  <a:pt x="758" y="147"/>
                  <a:pt x="695" y="188"/>
                </a:cubicBezTo>
                <a:cubicBezTo>
                  <a:pt x="645" y="256"/>
                  <a:pt x="579" y="319"/>
                  <a:pt x="513" y="371"/>
                </a:cubicBezTo>
                <a:cubicBezTo>
                  <a:pt x="485" y="393"/>
                  <a:pt x="485" y="414"/>
                  <a:pt x="449" y="426"/>
                </a:cubicBezTo>
                <a:cubicBezTo>
                  <a:pt x="382" y="491"/>
                  <a:pt x="304" y="543"/>
                  <a:pt x="238" y="609"/>
                </a:cubicBezTo>
                <a:cubicBezTo>
                  <a:pt x="190" y="657"/>
                  <a:pt x="150" y="716"/>
                  <a:pt x="92" y="755"/>
                </a:cubicBezTo>
                <a:cubicBezTo>
                  <a:pt x="80" y="773"/>
                  <a:pt x="67" y="792"/>
                  <a:pt x="55" y="810"/>
                </a:cubicBezTo>
                <a:cubicBezTo>
                  <a:pt x="49" y="819"/>
                  <a:pt x="37" y="837"/>
                  <a:pt x="37" y="837"/>
                </a:cubicBezTo>
                <a:cubicBezTo>
                  <a:pt x="31" y="855"/>
                  <a:pt x="25" y="874"/>
                  <a:pt x="19" y="892"/>
                </a:cubicBezTo>
                <a:cubicBezTo>
                  <a:pt x="16" y="901"/>
                  <a:pt x="10" y="919"/>
                  <a:pt x="10" y="919"/>
                </a:cubicBezTo>
                <a:cubicBezTo>
                  <a:pt x="13" y="981"/>
                  <a:pt x="0" y="1150"/>
                  <a:pt x="65" y="1212"/>
                </a:cubicBezTo>
                <a:cubicBezTo>
                  <a:pt x="81" y="1261"/>
                  <a:pt x="154" y="1352"/>
                  <a:pt x="202" y="1367"/>
                </a:cubicBezTo>
                <a:cubicBezTo>
                  <a:pt x="262" y="1409"/>
                  <a:pt x="210" y="1379"/>
                  <a:pt x="339" y="1395"/>
                </a:cubicBezTo>
                <a:cubicBezTo>
                  <a:pt x="502" y="1415"/>
                  <a:pt x="659" y="1442"/>
                  <a:pt x="823" y="1450"/>
                </a:cubicBezTo>
                <a:cubicBezTo>
                  <a:pt x="841" y="1456"/>
                  <a:pt x="867" y="1452"/>
                  <a:pt x="878" y="1468"/>
                </a:cubicBezTo>
                <a:cubicBezTo>
                  <a:pt x="896" y="1493"/>
                  <a:pt x="913" y="1519"/>
                  <a:pt x="942" y="1532"/>
                </a:cubicBezTo>
                <a:cubicBezTo>
                  <a:pt x="971" y="1545"/>
                  <a:pt x="1003" y="1552"/>
                  <a:pt x="1034" y="1559"/>
                </a:cubicBezTo>
                <a:cubicBezTo>
                  <a:pt x="1162" y="1554"/>
                  <a:pt x="1274" y="1543"/>
                  <a:pt x="1399" y="1532"/>
                </a:cubicBezTo>
                <a:cubicBezTo>
                  <a:pt x="1453" y="1515"/>
                  <a:pt x="1510" y="1515"/>
                  <a:pt x="1564" y="1495"/>
                </a:cubicBezTo>
                <a:cubicBezTo>
                  <a:pt x="1577" y="1490"/>
                  <a:pt x="1588" y="1482"/>
                  <a:pt x="1601" y="1477"/>
                </a:cubicBezTo>
                <a:cubicBezTo>
                  <a:pt x="1619" y="1470"/>
                  <a:pt x="1655" y="1459"/>
                  <a:pt x="1655" y="1459"/>
                </a:cubicBezTo>
                <a:cubicBezTo>
                  <a:pt x="1691" y="1425"/>
                  <a:pt x="1747" y="1425"/>
                  <a:pt x="1793" y="1413"/>
                </a:cubicBezTo>
                <a:cubicBezTo>
                  <a:pt x="1866" y="1393"/>
                  <a:pt x="1940" y="1373"/>
                  <a:pt x="2012" y="1349"/>
                </a:cubicBezTo>
                <a:cubicBezTo>
                  <a:pt x="2063" y="1332"/>
                  <a:pt x="2091" y="1314"/>
                  <a:pt x="2149" y="1303"/>
                </a:cubicBezTo>
                <a:cubicBezTo>
                  <a:pt x="2169" y="1272"/>
                  <a:pt x="2175" y="1284"/>
                  <a:pt x="2158" y="1267"/>
                </a:cubicBezTo>
                <a:close/>
              </a:path>
            </a:pathLst>
          </a:cu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346400" y="6058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92720" y="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ult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0800000">
            <a:off x="468360" y="69156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91636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43564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916360" y="69228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364000" y="62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84328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7524360" y="3141720"/>
            <a:ext cx="792360" cy="431280"/>
            <a:chOff x="7524360" y="3141720"/>
            <a:chExt cx="792360" cy="431280"/>
          </a:xfrm>
        </p:grpSpPr>
        <p:sp>
          <p:nvSpPr>
            <p:cNvPr id="1024" name=""/>
            <p:cNvSpPr/>
            <p:nvPr/>
          </p:nvSpPr>
          <p:spPr>
            <a:xfrm>
              <a:off x="7740720" y="314172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7524360" y="3430440"/>
              <a:ext cx="792360" cy="142560"/>
              <a:chOff x="7524360" y="3430440"/>
              <a:chExt cx="792360" cy="142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7524720" y="34304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7524360" y="34304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7740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7956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8172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1" name=""/>
          <p:cNvSpPr/>
          <p:nvPr/>
        </p:nvSpPr>
        <p:spPr>
          <a:xfrm rot="15975600">
            <a:off x="39420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812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8174160" y="256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33308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843280" y="62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434920" y="317664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662120" y="70236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9528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1636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95672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3564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528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91456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43564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99672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517800" y="393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7991640" y="619200"/>
            <a:ext cx="1152000" cy="2520720"/>
            <a:chOff x="7991640" y="619200"/>
            <a:chExt cx="1152000" cy="2520720"/>
          </a:xfrm>
        </p:grpSpPr>
        <p:sp>
          <p:nvSpPr>
            <p:cNvPr id="1049" name=""/>
            <p:cNvSpPr/>
            <p:nvPr/>
          </p:nvSpPr>
          <p:spPr>
            <a:xfrm rot="16200000">
              <a:off x="8449920" y="171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136000" y="313992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991640" y="6192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8999640" y="61920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773360" y="4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518440" y="3429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852360" y="248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620360" y="256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17440" y="1697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24000" y="479736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)  Kod gornje rešetke štap 3 je nulti štap (neopterećen je uvek bez obzira na intenzitet spoljašnjih si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47300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60000" y="15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287280" y="3357720"/>
            <a:ext cx="81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) čvor čine dva štapa različitih pravaca, pri čemu spoljna sila ne napada č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908000" y="1268280"/>
            <a:ext cx="1368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12000" y="1844640"/>
            <a:ext cx="2089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50920" y="1268280"/>
            <a:ext cx="165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835280" y="119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28000" y="6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412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013440" y="1844640"/>
            <a:ext cx="136836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356000" y="1844640"/>
            <a:ext cx="1657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940360" y="1773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933440" y="126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94944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0920" y="4653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c)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vor čine dva štapa različitih pravaca, a spoljna sila ima pravac jednog št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2472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43639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308720" y="4508640"/>
            <a:ext cx="792360" cy="142560"/>
            <a:chOff x="7308720" y="4508640"/>
            <a:chExt cx="792360" cy="142560"/>
          </a:xfrm>
        </p:grpSpPr>
        <p:sp>
          <p:nvSpPr>
            <p:cNvPr id="215" name=""/>
            <p:cNvSpPr/>
            <p:nvPr/>
          </p:nvSpPr>
          <p:spPr>
            <a:xfrm>
              <a:off x="7308720" y="450864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08720" y="450864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524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740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956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8840" y="469800"/>
            <a:ext cx="808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Kremonin plan sila-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određujemo reakcije rešetkastog nos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im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1186920" y="213300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213372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427280" y="2133720"/>
            <a:ext cx="165708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71640" y="206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206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963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4005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744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9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6120720" y="214308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4508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6908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7280" y="515772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0425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2692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21128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94000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5243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21337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28000" y="40766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748720" y="21337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532360" y="1989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532360" y="3933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9440" y="4149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744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2520" y="15573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094160" y="1557360"/>
            <a:ext cx="758160" cy="581400"/>
            <a:chOff x="7094160" y="1557360"/>
            <a:chExt cx="758160" cy="581400"/>
          </a:xfrm>
        </p:grpSpPr>
        <p:sp>
          <p:nvSpPr>
            <p:cNvPr id="253" name=""/>
            <p:cNvSpPr/>
            <p:nvPr/>
          </p:nvSpPr>
          <p:spPr>
            <a:xfrm>
              <a:off x="7094160" y="1557360"/>
              <a:ext cx="75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96360" y="1628640"/>
              <a:ext cx="21564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55280" y="4365720"/>
            <a:ext cx="792360" cy="142560"/>
            <a:chOff x="755280" y="4365720"/>
            <a:chExt cx="792360" cy="142560"/>
          </a:xfrm>
        </p:grpSpPr>
        <p:sp>
          <p:nvSpPr>
            <p:cNvPr id="256" name=""/>
            <p:cNvSpPr/>
            <p:nvPr/>
          </p:nvSpPr>
          <p:spPr>
            <a:xfrm>
              <a:off x="755640" y="43657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5280" y="43657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971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187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403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764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78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6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831852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601200" y="476280"/>
            <a:ext cx="79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Može da postoji potreban broj štapova, a 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šetka nije kr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926160" y="3141720"/>
            <a:ext cx="4271760" cy="3389400"/>
            <a:chOff x="3926160" y="3141720"/>
            <a:chExt cx="4271760" cy="3389400"/>
          </a:xfrm>
        </p:grpSpPr>
        <p:sp>
          <p:nvSpPr>
            <p:cNvPr id="1082" name=""/>
            <p:cNvSpPr/>
            <p:nvPr/>
          </p:nvSpPr>
          <p:spPr>
            <a:xfrm>
              <a:off x="6229440" y="3862080"/>
              <a:ext cx="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429080" y="3862080"/>
              <a:ext cx="3382920" cy="1942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227640" y="3862080"/>
              <a:ext cx="1584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156360" y="3862080"/>
              <a:ext cx="165744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74072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4072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926160" y="5518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13800" y="5949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26880" y="58784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4356000" y="386208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356000" y="580536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29080" y="4725720"/>
              <a:ext cx="0" cy="1584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4216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42160" y="31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2652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97080" y="43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30160" y="443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78160" y="573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813080" y="443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8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004720" y="587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238520" y="472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446160" y="4582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15636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5636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08" name=""/>
          <p:cNvGraphicFramePr/>
          <p:nvPr/>
        </p:nvGraphicFramePr>
        <p:xfrm>
          <a:off x="684360" y="1700280"/>
          <a:ext cx="467964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467964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79280" y="44280"/>
            <a:ext cx="864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ETRA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snova za formiranje rešetkastog nosača je trougao ABC. Svaki novi čvor je izvan ravni ABC, i vezuje u sebi 3 šta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3708360" y="1773360"/>
            <a:ext cx="5256360" cy="3894480"/>
            <a:chOff x="3708360" y="1773360"/>
            <a:chExt cx="5256360" cy="3894480"/>
          </a:xfrm>
        </p:grpSpPr>
        <p:sp>
          <p:nvSpPr>
            <p:cNvPr id="1112" name=""/>
            <p:cNvSpPr/>
            <p:nvPr/>
          </p:nvSpPr>
          <p:spPr>
            <a:xfrm>
              <a:off x="3780000" y="3070080"/>
              <a:ext cx="158400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3779640" y="2495520"/>
              <a:ext cx="316836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89440" y="501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462880" y="5086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64000" y="2494080"/>
              <a:ext cx="3168720" cy="251928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3780000" y="3070080"/>
              <a:ext cx="475272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5363640" y="3141720"/>
              <a:ext cx="352908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8532360" y="3141720"/>
              <a:ext cx="36036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 flipV="1">
              <a:off x="6877080" y="2493720"/>
              <a:ext cx="20160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877080" y="24224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8360" y="29988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46144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820000" y="307008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9272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62880" y="17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27" name=""/>
          <p:cNvGraphicFramePr/>
          <p:nvPr/>
        </p:nvGraphicFramePr>
        <p:xfrm>
          <a:off x="322200" y="2205000"/>
          <a:ext cx="55450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55450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250920" y="2924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lacija izmeđ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” i “k”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za prostornu rešet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tra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edstavlja krutu ploču u prostoru. Ali prostor je ispunjen štapovima.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to postoji poliedarska reše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79280" y="4428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907920"/>
            <a:ext cx="864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468360" y="1052640"/>
            <a:ext cx="4176720" cy="2806200"/>
            <a:chOff x="468360" y="1052640"/>
            <a:chExt cx="4176720" cy="2806200"/>
          </a:xfrm>
        </p:grpSpPr>
        <p:sp>
          <p:nvSpPr>
            <p:cNvPr id="1133" name=""/>
            <p:cNvSpPr/>
            <p:nvPr/>
          </p:nvSpPr>
          <p:spPr>
            <a:xfrm>
              <a:off x="2052360" y="1123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53964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052360" y="1123920"/>
              <a:ext cx="244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4572000" y="1123560"/>
              <a:ext cx="0" cy="19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79640" y="1052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39640" y="1915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306072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53964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306072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00360" y="1052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00360" y="292392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79640" y="29239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8360" y="184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836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98764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4282920" y="765000"/>
            <a:ext cx="4737240" cy="5759640"/>
            <a:chOff x="4282920" y="765000"/>
            <a:chExt cx="4737240" cy="5759640"/>
          </a:xfrm>
        </p:grpSpPr>
        <p:sp>
          <p:nvSpPr>
            <p:cNvPr id="1149" name=""/>
            <p:cNvSpPr/>
            <p:nvPr/>
          </p:nvSpPr>
          <p:spPr>
            <a:xfrm flipH="1">
              <a:off x="5795640" y="2492280"/>
              <a:ext cx="3095640" cy="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56000" y="836640"/>
              <a:ext cx="3168720" cy="3024000"/>
            </a:xfrm>
            <a:prstGeom prst="triangle">
              <a:avLst>
                <a:gd name="adj" fmla="val 66532"/>
              </a:avLst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flipV="1">
              <a:off x="6443640" y="836280"/>
              <a:ext cx="2448000" cy="165564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7524360" y="2492280"/>
              <a:ext cx="1366920" cy="136836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4427640" y="2492280"/>
              <a:ext cx="1366560" cy="136836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795640" y="836640"/>
              <a:ext cx="647640" cy="165564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443640" y="765000"/>
              <a:ext cx="432000" cy="5040360"/>
            </a:xfrm>
            <a:prstGeom prst="line">
              <a:avLst/>
            </a:prstGeom>
            <a:ln cap="rnd" w="5724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796000" y="2494080"/>
              <a:ext cx="1079640" cy="331128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356000" y="3862440"/>
              <a:ext cx="251964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6875280" y="3862440"/>
              <a:ext cx="64908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875640" y="2494080"/>
              <a:ext cx="2016000" cy="331128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72360" y="7650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82000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72436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8292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5164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804000" y="57355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6" name=""/>
            <p:cNvGraphicFramePr/>
            <p:nvPr/>
          </p:nvGraphicFramePr>
          <p:xfrm>
            <a:off x="7704000" y="4437000"/>
            <a:ext cx="1316160" cy="208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4437000"/>
                      <a:ext cx="131616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68" name=""/>
          <p:cNvGraphicFramePr/>
          <p:nvPr/>
        </p:nvGraphicFramePr>
        <p:xfrm>
          <a:off x="507960" y="4167360"/>
          <a:ext cx="3013200" cy="20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4167360"/>
                    <a:ext cx="301320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0" name=""/>
          <p:cNvSpPr/>
          <p:nvPr/>
        </p:nvSpPr>
        <p:spPr>
          <a:xfrm>
            <a:off x="2987640" y="184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17928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JLEROVA POLIEDARSK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547640" y="4508640"/>
            <a:ext cx="662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vadar (ili kocka) sa dijagonal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2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8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2+8=18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250920" y="2133720"/>
          <a:ext cx="3514680" cy="20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351468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5" name=""/>
          <p:cNvSpPr/>
          <p:nvPr/>
        </p:nvSpPr>
        <p:spPr>
          <a:xfrm flipV="1">
            <a:off x="4211640" y="1413000"/>
            <a:ext cx="3960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659640" y="1412640"/>
            <a:ext cx="1512720" cy="26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4140360" y="2204640"/>
            <a:ext cx="251928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140360" y="3284640"/>
            <a:ext cx="403200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140360" y="1412640"/>
            <a:ext cx="1511280" cy="2663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5651640" y="1412640"/>
            <a:ext cx="2520720" cy="1871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651640" y="1413000"/>
            <a:ext cx="2520720" cy="18716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138560" y="141300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5651280" y="1413000"/>
            <a:ext cx="244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8170920" y="141300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578560" y="1341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138560" y="2205000"/>
            <a:ext cx="2521080" cy="1871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6659640" y="141300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138560" y="328464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6659640" y="328464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8099280" y="1341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8099280" y="3213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57856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067280" y="2133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06728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5865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588000" y="213372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372360" y="2060640"/>
            <a:ext cx="2232000" cy="1655640"/>
          </a:xfrm>
          <a:prstGeom prst="wedgeRoundRectCallout">
            <a:avLst>
              <a:gd name="adj1" fmla="val -111310"/>
              <a:gd name="adj2" fmla="val 86337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11280" y="69228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s=3k-6 – kod krut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195640" y="414972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krute poliedarsk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"/>
          <p:cNvGraphicFramePr/>
          <p:nvPr/>
        </p:nvGraphicFramePr>
        <p:xfrm>
          <a:off x="971640" y="2000160"/>
          <a:ext cx="763272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00160"/>
                    <a:ext cx="76327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25092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šetka načinjena na bazi zatvorene poliedarske površi je kruta onda, ako su strane tog poliedra trougl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68360" y="4149720"/>
            <a:ext cx="1584360" cy="1366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2124000" y="3357720"/>
            <a:ext cx="172872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547640" y="2637000"/>
            <a:ext cx="1081440" cy="1512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68360" y="2421000"/>
            <a:ext cx="1511280" cy="1728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979640" y="2421000"/>
            <a:ext cx="1873080" cy="936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1476360" y="3357360"/>
            <a:ext cx="21600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1692360" y="3357360"/>
            <a:ext cx="792000" cy="1942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2555640" y="2420640"/>
            <a:ext cx="73080" cy="165564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1547640" y="5300640"/>
            <a:ext cx="93672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1547640" y="2421000"/>
            <a:ext cx="100836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68360" y="2421000"/>
            <a:ext cx="3384360" cy="3095640"/>
            <a:chOff x="468360" y="2421000"/>
            <a:chExt cx="3384360" cy="3095640"/>
          </a:xfrm>
        </p:grpSpPr>
        <p:sp>
          <p:nvSpPr>
            <p:cNvPr id="1214" name=""/>
            <p:cNvSpPr/>
            <p:nvPr/>
          </p:nvSpPr>
          <p:spPr>
            <a:xfrm flipH="1">
              <a:off x="468360" y="2637000"/>
              <a:ext cx="107928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68360" y="4149720"/>
              <a:ext cx="1008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8360" y="4149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692360" y="3357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 flipV="1">
              <a:off x="2124000" y="2637000"/>
              <a:ext cx="50472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547640" y="2637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979640" y="2421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1692360" y="2421000"/>
              <a:ext cx="287280" cy="9367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 flipV="1">
              <a:off x="2556000" y="2421000"/>
              <a:ext cx="1296720" cy="93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262872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46836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54764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12400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476360" y="5516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08000" y="5300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147600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205236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flipV="1">
              <a:off x="1692000" y="3357360"/>
              <a:ext cx="215640" cy="1942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2484360" y="3357360"/>
              <a:ext cx="1368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2052720" y="4149360"/>
              <a:ext cx="576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190800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05272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47636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78000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55600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48436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474920" y="5300640"/>
            <a:ext cx="100800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835280" y="5229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97964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40328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411280" y="522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61928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9528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924360" y="227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ove rešetke je potrebno da se dodaju dija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3564000" y="4149720"/>
          <a:ext cx="532908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149720"/>
                    <a:ext cx="532908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3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3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3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3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3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3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3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3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3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3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3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250920" y="11592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nova poliedarske rešetke je n-toug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6360" y="177336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6 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3 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4282920" y="765000"/>
            <a:ext cx="4465800" cy="2915280"/>
            <a:chOff x="4282920" y="765000"/>
            <a:chExt cx="4465800" cy="2915280"/>
          </a:xfrm>
        </p:grpSpPr>
        <p:sp>
          <p:nvSpPr>
            <p:cNvPr id="1253" name=""/>
            <p:cNvSpPr/>
            <p:nvPr/>
          </p:nvSpPr>
          <p:spPr>
            <a:xfrm>
              <a:off x="5796000" y="3501720"/>
              <a:ext cx="252072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56000" y="1701360"/>
              <a:ext cx="1440000" cy="180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1391600">
              <a:off x="4851000" y="98208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5724360" y="2276280"/>
              <a:ext cx="295128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8316360" y="2276280"/>
              <a:ext cx="358920" cy="129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4356000" y="835920"/>
              <a:ext cx="719280" cy="86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 flipV="1">
              <a:off x="7380360" y="119628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03640" y="765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82920" y="1628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244000" y="350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08720" y="1125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604360" y="22046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24360" y="342864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3851280" y="206064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50920" y="3141720"/>
            <a:ext cx="4465440" cy="2915280"/>
            <a:chOff x="250920" y="3141720"/>
            <a:chExt cx="4465440" cy="2915280"/>
          </a:xfrm>
        </p:grpSpPr>
        <p:sp>
          <p:nvSpPr>
            <p:cNvPr id="1268" name=""/>
            <p:cNvSpPr/>
            <p:nvPr/>
          </p:nvSpPr>
          <p:spPr>
            <a:xfrm>
              <a:off x="324000" y="4078440"/>
              <a:ext cx="1439640" cy="1800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1391600">
              <a:off x="818640" y="335880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1692000" y="4653000"/>
              <a:ext cx="295092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324000" y="3213000"/>
              <a:ext cx="718920" cy="86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 flipV="1">
              <a:off x="3348000" y="357300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971640" y="31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50920" y="400536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76720" y="35020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572000" y="4581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92360" y="5805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5904000" y="4005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5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2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003640" y="436572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50920" y="5589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Poli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tavlja slobodan prostor unu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79280" y="4149720"/>
            <a:ext cx="4392720" cy="12254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50920" y="549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0920" y="1198440"/>
            <a:ext cx="864216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 bi rešetkasta ploča bila nosač u ravni, mora biti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 znač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2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 ra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pro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076720" y="3286080"/>
            <a:ext cx="3527640" cy="2664000"/>
          </a:xfrm>
          <a:prstGeom prst="wedgeRoundRectCallout">
            <a:avLst>
              <a:gd name="adj1" fmla="val -63907"/>
              <a:gd name="adj2" fmla="val 1967"/>
              <a:gd name="adj3" fmla="val 16667"/>
            </a:avLst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Ovo mora biti zadovoljeno bez obzira da li je nosač prost ili slož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1187280" y="112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A PROSTA G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rot="10800000">
            <a:off x="394920" y="1335960"/>
            <a:ext cx="8280360" cy="3024360"/>
          </a:xfrm>
          <a:custGeom>
            <a:avLst/>
            <a:gdLst>
              <a:gd name="textAreaLeft" fmla="*/ 1526400 w 8280360"/>
              <a:gd name="textAreaRight" fmla="*/ 6753960 w 8280360"/>
              <a:gd name="textAreaTop" fmla="*/ 557280 h 3024360"/>
              <a:gd name="textAreaBottom" fmla="*/ 246708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83" y="21600"/>
                </a:lnTo>
                <a:lnTo>
                  <a:pt x="4017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979640" y="133668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5866920" y="133668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908000" y="12636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02000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8351640" y="4289400"/>
            <a:ext cx="792360" cy="645840"/>
            <a:chOff x="8351640" y="4289400"/>
            <a:chExt cx="792360" cy="645840"/>
          </a:xfrm>
        </p:grpSpPr>
        <p:sp>
          <p:nvSpPr>
            <p:cNvPr id="1292" name=""/>
            <p:cNvSpPr/>
            <p:nvPr/>
          </p:nvSpPr>
          <p:spPr>
            <a:xfrm>
              <a:off x="8567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52000" y="4648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8351640" y="4792680"/>
              <a:ext cx="792360" cy="142560"/>
              <a:chOff x="8351640" y="4792680"/>
              <a:chExt cx="792360" cy="142560"/>
            </a:xfrm>
          </p:grpSpPr>
          <p:sp>
            <p:nvSpPr>
              <p:cNvPr id="1295" name=""/>
              <p:cNvSpPr/>
              <p:nvPr/>
            </p:nvSpPr>
            <p:spPr>
              <a:xfrm>
                <a:off x="8352000" y="47926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8351640" y="47926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8567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8783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8999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>
              <a:off x="863928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1800" y="3713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8712360" y="3784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061080" y="450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653440" y="4505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694160" y="620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-360" y="4289400"/>
            <a:ext cx="792360" cy="502920"/>
            <a:chOff x="-360" y="4289400"/>
            <a:chExt cx="792360" cy="502920"/>
          </a:xfrm>
        </p:grpSpPr>
        <p:sp>
          <p:nvSpPr>
            <p:cNvPr id="1307" name=""/>
            <p:cNvSpPr/>
            <p:nvPr/>
          </p:nvSpPr>
          <p:spPr>
            <a:xfrm>
              <a:off x="215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6000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-360" y="4649760"/>
              <a:ext cx="792360" cy="142560"/>
              <a:chOff x="-360" y="4649760"/>
              <a:chExt cx="792360" cy="142560"/>
            </a:xfrm>
          </p:grpSpPr>
          <p:sp>
            <p:nvSpPr>
              <p:cNvPr id="1310" name=""/>
              <p:cNvSpPr/>
              <p:nvPr/>
            </p:nvSpPr>
            <p:spPr>
              <a:xfrm>
                <a:off x="0" y="46497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-360" y="46497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15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431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647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5" name=""/>
          <p:cNvSpPr/>
          <p:nvPr/>
        </p:nvSpPr>
        <p:spPr>
          <a:xfrm flipH="1">
            <a:off x="3132000" y="133668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500720" y="133668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05928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42764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79600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997440" y="620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734160" y="62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2" name=""/>
          <p:cNvGraphicFramePr/>
          <p:nvPr/>
        </p:nvGraphicFramePr>
        <p:xfrm>
          <a:off x="324000" y="5288040"/>
          <a:ext cx="8064360" cy="14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288040"/>
                    <a:ext cx="80643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979640" y="981000"/>
            <a:ext cx="511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867280" y="4005360"/>
            <a:ext cx="280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394920" y="981000"/>
            <a:ext cx="1584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093080" y="981000"/>
            <a:ext cx="165564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79640" y="97632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866920" y="97632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908000" y="9032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02000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8351640" y="3929040"/>
            <a:ext cx="792360" cy="645840"/>
            <a:chOff x="8351640" y="3929040"/>
            <a:chExt cx="792360" cy="645840"/>
          </a:xfrm>
        </p:grpSpPr>
        <p:sp>
          <p:nvSpPr>
            <p:cNvPr id="1333" name=""/>
            <p:cNvSpPr/>
            <p:nvPr/>
          </p:nvSpPr>
          <p:spPr>
            <a:xfrm>
              <a:off x="8567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352000" y="42879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8351640" y="4432320"/>
              <a:ext cx="792360" cy="142560"/>
              <a:chOff x="8351640" y="4432320"/>
              <a:chExt cx="792360" cy="142560"/>
            </a:xfrm>
          </p:grpSpPr>
          <p:sp>
            <p:nvSpPr>
              <p:cNvPr id="1336" name=""/>
              <p:cNvSpPr/>
              <p:nvPr/>
            </p:nvSpPr>
            <p:spPr>
              <a:xfrm>
                <a:off x="8352000" y="44323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8351640" y="44323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8567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8783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8999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863928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"/>
          <p:cNvSpPr/>
          <p:nvPr/>
        </p:nvSpPr>
        <p:spPr>
          <a:xfrm>
            <a:off x="1800" y="335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8712360" y="3424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221440" y="378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694160" y="26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-360" y="3929040"/>
            <a:ext cx="792360" cy="502920"/>
            <a:chOff x="-360" y="3929040"/>
            <a:chExt cx="792360" cy="502920"/>
          </a:xfrm>
        </p:grpSpPr>
        <p:sp>
          <p:nvSpPr>
            <p:cNvPr id="1347" name=""/>
            <p:cNvSpPr/>
            <p:nvPr/>
          </p:nvSpPr>
          <p:spPr>
            <a:xfrm>
              <a:off x="215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6000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-360" y="4289400"/>
              <a:ext cx="792360" cy="142560"/>
              <a:chOff x="-360" y="4289400"/>
              <a:chExt cx="792360" cy="142560"/>
            </a:xfrm>
          </p:grpSpPr>
          <p:sp>
            <p:nvSpPr>
              <p:cNvPr id="1350" name=""/>
              <p:cNvSpPr/>
              <p:nvPr/>
            </p:nvSpPr>
            <p:spPr>
              <a:xfrm>
                <a:off x="0" y="42894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-360" y="42894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15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431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647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"/>
          <p:cNvSpPr/>
          <p:nvPr/>
        </p:nvSpPr>
        <p:spPr>
          <a:xfrm flipH="1">
            <a:off x="3132000" y="97632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500720" y="97632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05928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42764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79600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997440" y="2602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734160" y="26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2187720" y="4971960"/>
          <a:ext cx="520056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4971960"/>
                    <a:ext cx="52005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4" name=""/>
          <p:cNvSpPr/>
          <p:nvPr/>
        </p:nvSpPr>
        <p:spPr>
          <a:xfrm>
            <a:off x="468360" y="400536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2771640" y="3932280"/>
            <a:ext cx="792360" cy="645840"/>
            <a:chOff x="2771640" y="3932280"/>
            <a:chExt cx="792360" cy="645840"/>
          </a:xfrm>
        </p:grpSpPr>
        <p:sp>
          <p:nvSpPr>
            <p:cNvPr id="1366" name=""/>
            <p:cNvSpPr/>
            <p:nvPr/>
          </p:nvSpPr>
          <p:spPr>
            <a:xfrm>
              <a:off x="2987640" y="40039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771640" y="429120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2771640" y="4435560"/>
              <a:ext cx="792360" cy="142560"/>
              <a:chOff x="2771640" y="4435560"/>
              <a:chExt cx="792360" cy="142560"/>
            </a:xfrm>
          </p:grpSpPr>
          <p:sp>
            <p:nvSpPr>
              <p:cNvPr id="1369" name=""/>
              <p:cNvSpPr/>
              <p:nvPr/>
            </p:nvSpPr>
            <p:spPr>
              <a:xfrm>
                <a:off x="2771640" y="4435560"/>
                <a:ext cx="792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2771640" y="4435560"/>
                <a:ext cx="14472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2987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3203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419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3059280" y="39322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3349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81200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96360" y="400356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596000" y="4148280"/>
            <a:ext cx="792360" cy="142560"/>
            <a:chOff x="7596000" y="4148280"/>
            <a:chExt cx="792360" cy="142560"/>
          </a:xfrm>
        </p:grpSpPr>
        <p:sp>
          <p:nvSpPr>
            <p:cNvPr id="269" name=""/>
            <p:cNvSpPr/>
            <p:nvPr/>
          </p:nvSpPr>
          <p:spPr>
            <a:xfrm>
              <a:off x="7596360" y="414828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596000" y="414828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812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8028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244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48440" y="189000"/>
            <a:ext cx="72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određuju reakcije spoljnih vez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zatim sile u štapovim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800000">
            <a:off x="1474920" y="177264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77336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714920" y="1773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9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8364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3645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44720" y="306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56720" y="313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408000" y="178272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74920" y="4148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056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492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672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74920" y="479736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3298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91420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9856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22728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8116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15280" y="1773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15280" y="3716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36000" y="1773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819640" y="1628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819640" y="357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16720" y="3789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84720" y="133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9800" y="1197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1080" y="1197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042920" y="4005360"/>
            <a:ext cx="792360" cy="142560"/>
            <a:chOff x="1042920" y="4005360"/>
            <a:chExt cx="792360" cy="142560"/>
          </a:xfrm>
        </p:grpSpPr>
        <p:sp>
          <p:nvSpPr>
            <p:cNvPr id="308" name=""/>
            <p:cNvSpPr/>
            <p:nvPr/>
          </p:nvSpPr>
          <p:spPr>
            <a:xfrm>
              <a:off x="1042920" y="400536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042920" y="400536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258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474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690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052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0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65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8605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144000" y="3705120"/>
            <a:ext cx="127404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431360" y="3696120"/>
            <a:ext cx="15120" cy="11203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984440" y="3696480"/>
            <a:ext cx="14760" cy="1119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2800" y="306864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800" y="429264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12600" y="436572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084400" y="5124600"/>
          <a:ext cx="5767200" cy="16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4400" y="5124600"/>
                    <a:ext cx="576720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Određivanje reakcija kod Gerberov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1378" name="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1" name="" descr="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4" name="" descr="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112920" y="162396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498760" y="250812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535200" y="254628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570640" y="25081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93000" y="246996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456160" y="166356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8" name=""/>
            <p:cNvCxnSpPr>
              <a:stCxn id="1393" idx="0"/>
              <a:endCxn id="1407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9" name="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92360" y="200808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959200" y="277632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45608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91480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231840" y="35053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 način: Total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190600" y="43117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576440" y="5195880"/>
            <a:ext cx="5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070680" y="515772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70040" y="46958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036880" y="5464080"/>
            <a:ext cx="6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875640" y="519588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76108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21980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189240" y="454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073320" y="54608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379760" y="45784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456080" y="54640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68484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810576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55520" y="46162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31880" y="54230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992920" y="431172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7297560" y="4311720"/>
            <a:ext cx="9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0"/>
            <a:ext cx="8497800" cy="59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=0      →    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3" name=""/>
          <p:cNvGraphicFramePr/>
          <p:nvPr/>
        </p:nvGraphicFramePr>
        <p:xfrm>
          <a:off x="501480" y="220032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220032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5" name=""/>
          <p:cNvGraphicFramePr/>
          <p:nvPr/>
        </p:nvGraphicFramePr>
        <p:xfrm>
          <a:off x="501480" y="4888080"/>
          <a:ext cx="238320" cy="53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888080"/>
                    <a:ext cx="2383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843280" y="5875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265560" y="150984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416560" y="587520"/>
            <a:ext cx="10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422360" y="9716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68920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18608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64516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15960" y="1009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384200" y="16588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072040" y="1662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531120" y="1585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0" y="2928960"/>
            <a:ext cx="91440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457880" y="62532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8" name="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0" name="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2" name=""/>
          <p:cNvSpPr/>
          <p:nvPr/>
        </p:nvSpPr>
        <p:spPr>
          <a:xfrm>
            <a:off x="3279600" y="1103400"/>
            <a:ext cx="675000" cy="1465200"/>
          </a:xfrm>
          <a:custGeom>
            <a:avLst/>
            <a:gdLst/>
            <a:ahLst/>
            <a:rect l="l" t="t" r="r" b="b"/>
            <a:pathLst>
              <a:path w="425" h="923">
                <a:moveTo>
                  <a:pt x="0" y="0"/>
                </a:moveTo>
                <a:cubicBezTo>
                  <a:pt x="3" y="9"/>
                  <a:pt x="4" y="19"/>
                  <a:pt x="9" y="27"/>
                </a:cubicBezTo>
                <a:cubicBezTo>
                  <a:pt x="14" y="35"/>
                  <a:pt x="25" y="37"/>
                  <a:pt x="28" y="46"/>
                </a:cubicBezTo>
                <a:cubicBezTo>
                  <a:pt x="35" y="69"/>
                  <a:pt x="31" y="95"/>
                  <a:pt x="37" y="119"/>
                </a:cubicBezTo>
                <a:cubicBezTo>
                  <a:pt x="47" y="158"/>
                  <a:pt x="79" y="180"/>
                  <a:pt x="110" y="201"/>
                </a:cubicBezTo>
                <a:cubicBezTo>
                  <a:pt x="130" y="232"/>
                  <a:pt x="139" y="244"/>
                  <a:pt x="174" y="256"/>
                </a:cubicBezTo>
                <a:cubicBezTo>
                  <a:pt x="228" y="310"/>
                  <a:pt x="202" y="290"/>
                  <a:pt x="247" y="320"/>
                </a:cubicBezTo>
                <a:cubicBezTo>
                  <a:pt x="253" y="329"/>
                  <a:pt x="257" y="339"/>
                  <a:pt x="265" y="347"/>
                </a:cubicBezTo>
                <a:cubicBezTo>
                  <a:pt x="273" y="355"/>
                  <a:pt x="289" y="356"/>
                  <a:pt x="293" y="366"/>
                </a:cubicBezTo>
                <a:cubicBezTo>
                  <a:pt x="314" y="419"/>
                  <a:pt x="294" y="470"/>
                  <a:pt x="339" y="512"/>
                </a:cubicBezTo>
                <a:cubicBezTo>
                  <a:pt x="351" y="536"/>
                  <a:pt x="363" y="561"/>
                  <a:pt x="375" y="585"/>
                </a:cubicBezTo>
                <a:cubicBezTo>
                  <a:pt x="386" y="607"/>
                  <a:pt x="377" y="634"/>
                  <a:pt x="384" y="658"/>
                </a:cubicBezTo>
                <a:cubicBezTo>
                  <a:pt x="387" y="669"/>
                  <a:pt x="397" y="677"/>
                  <a:pt x="403" y="686"/>
                </a:cubicBezTo>
                <a:cubicBezTo>
                  <a:pt x="425" y="751"/>
                  <a:pt x="403" y="674"/>
                  <a:pt x="403" y="804"/>
                </a:cubicBezTo>
                <a:cubicBezTo>
                  <a:pt x="403" y="844"/>
                  <a:pt x="412" y="883"/>
                  <a:pt x="412" y="9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-36360" y="5656320"/>
            <a:ext cx="9064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odeljeno (kontinualno) opterećenje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avnomerno raspodeljeno opterećenje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1692360" y="1546200"/>
            <a:ext cx="6107040" cy="1844640"/>
            <a:chOff x="1692360" y="1546200"/>
            <a:chExt cx="6107040" cy="1844640"/>
          </a:xfrm>
        </p:grpSpPr>
        <p:sp>
          <p:nvSpPr>
            <p:cNvPr id="1546" name=""/>
            <p:cNvSpPr/>
            <p:nvPr/>
          </p:nvSpPr>
          <p:spPr>
            <a:xfrm>
              <a:off x="3843360" y="246852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82840" y="19684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8284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9" name="" descr=""/>
            <p:cNvPicPr/>
            <p:nvPr/>
          </p:nvPicPr>
          <p:blipFill>
            <a:blip r:embed="rId1"/>
            <a:stretch/>
          </p:blipFill>
          <p:spPr>
            <a:xfrm>
              <a:off x="2192400" y="25066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>
              <a:off x="3919320" y="250668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37840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2" name="" descr=""/>
            <p:cNvPicPr/>
            <p:nvPr/>
          </p:nvPicPr>
          <p:blipFill>
            <a:blip r:embed="rId2"/>
            <a:stretch/>
          </p:blipFill>
          <p:spPr>
            <a:xfrm>
              <a:off x="5187960" y="250668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3"/>
            <a:stretch/>
          </p:blipFill>
          <p:spPr>
            <a:xfrm>
              <a:off x="6608520" y="250668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"/>
            <p:cNvSpPr/>
            <p:nvPr/>
          </p:nvSpPr>
          <p:spPr>
            <a:xfrm flipH="1">
              <a:off x="2382480" y="196848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881520" y="220032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881520" y="22003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115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3416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5720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8038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0338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63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4943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243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9547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1862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166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6466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838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112920" y="154620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498760" y="243036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35200" y="246852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570640" y="243036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3000" y="239220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56160" y="158580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6" name=""/>
            <p:cNvCxnSpPr>
              <a:stCxn id="1561" idx="0"/>
              <a:endCxn id="1575" idx="1"/>
            </p:cNvCxnSpPr>
            <p:nvPr/>
          </p:nvCxnSpPr>
          <p:spPr>
            <a:xfrm flipH="1" flipV="1" rot="5400000">
              <a:off x="5082480" y="182664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77" name=""/>
            <p:cNvSpPr/>
            <p:nvPr/>
          </p:nvSpPr>
          <p:spPr>
            <a:xfrm>
              <a:off x="1692360" y="19684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692360" y="25066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38284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881520" y="269856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78400" y="273672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3892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768320" y="196848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828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81520" y="319860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3402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692360" y="193032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59200" y="269856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45608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91480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39600" y="342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ougao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693720" y="4235040"/>
            <a:ext cx="2571840" cy="384480"/>
            <a:chOff x="693720" y="4235040"/>
            <a:chExt cx="2571840" cy="384480"/>
          </a:xfrm>
        </p:grpSpPr>
        <p:sp>
          <p:nvSpPr>
            <p:cNvPr id="1593" name=""/>
            <p:cNvSpPr/>
            <p:nvPr/>
          </p:nvSpPr>
          <p:spPr>
            <a:xfrm>
              <a:off x="731880" y="461952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693720" y="4235040"/>
              <a:ext cx="25718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265560" y="4235400"/>
              <a:ext cx="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073320" y="4273560"/>
              <a:ext cx="0" cy="34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88288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69064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498760" y="4351320"/>
              <a:ext cx="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06520" y="4389120"/>
              <a:ext cx="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11464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92240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730520" y="4465440"/>
              <a:ext cx="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53828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34604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154160" y="45432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419640" y="408132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4455720" y="3967200"/>
            <a:ext cx="384480" cy="2035080"/>
            <a:chOff x="4455720" y="3967200"/>
            <a:chExt cx="384480" cy="2035080"/>
          </a:xfrm>
        </p:grpSpPr>
        <p:sp>
          <p:nvSpPr>
            <p:cNvPr id="1609" name=""/>
            <p:cNvSpPr/>
            <p:nvPr/>
          </p:nvSpPr>
          <p:spPr>
            <a:xfrm>
              <a:off x="4455720" y="3997080"/>
              <a:ext cx="0" cy="20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56080" y="3967200"/>
              <a:ext cx="38412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4455720" y="6002280"/>
              <a:ext cx="38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4455720" y="58500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4455720" y="569952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4455720" y="554724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4455720" y="5395320"/>
              <a:ext cx="26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455720" y="5243400"/>
              <a:ext cx="230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4455720" y="509148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4455720" y="493920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4455720" y="4787640"/>
              <a:ext cx="15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4455720" y="463536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4455720" y="448308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4455720" y="4331520"/>
              <a:ext cx="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2612880" y="6116760"/>
            <a:ext cx="36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pterećenje vo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5684760" y="4695480"/>
            <a:ext cx="2535120" cy="538560"/>
            <a:chOff x="5684760" y="4695480"/>
            <a:chExt cx="2535120" cy="538560"/>
          </a:xfrm>
        </p:grpSpPr>
        <p:sp>
          <p:nvSpPr>
            <p:cNvPr id="1625" name=""/>
            <p:cNvSpPr/>
            <p:nvPr/>
          </p:nvSpPr>
          <p:spPr>
            <a:xfrm>
              <a:off x="5686200" y="523404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5684760" y="4695480"/>
              <a:ext cx="253512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219880" y="4695840"/>
              <a:ext cx="0" cy="53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027640" y="473400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835760" y="4772160"/>
              <a:ext cx="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7643160" y="4772160"/>
              <a:ext cx="180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7451640" y="4811760"/>
              <a:ext cx="1440" cy="42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7259040" y="4849920"/>
              <a:ext cx="180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706752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687528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6682680" y="4925880"/>
              <a:ext cx="180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6491160" y="4964040"/>
              <a:ext cx="144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98920" y="500220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07040" y="5003640"/>
              <a:ext cx="144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914800" y="504180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684760" y="507996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764240" y="4005360"/>
            <a:ext cx="43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apezasto optereć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070600" y="473544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220240" y="465768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izvoljno raspodelje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77760" y="1509840"/>
            <a:ext cx="3993120" cy="2495520"/>
            <a:chOff x="77760" y="1509840"/>
            <a:chExt cx="3993120" cy="2495520"/>
          </a:xfrm>
        </p:grpSpPr>
        <p:sp>
          <p:nvSpPr>
            <p:cNvPr id="1646" name=""/>
            <p:cNvSpPr/>
            <p:nvPr/>
          </p:nvSpPr>
          <p:spPr>
            <a:xfrm>
              <a:off x="1998720" y="2200320"/>
              <a:ext cx="460080" cy="1038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77760" y="2200320"/>
              <a:ext cx="399312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40" y="1010"/>
                  </a:moveTo>
                  <a:arcTo wR="10800" hR="10800" stAng="-6898600" swAng="6898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6240" y="1010"/>
                  </a:moveTo>
                  <a:arcTo wR="10800" hR="10800" stAng="-6898600" swAng="68986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7760" y="323856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210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6906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45880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228760" y="1855800"/>
              <a:ext cx="0" cy="13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9872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68320" y="2200320"/>
              <a:ext cx="0" cy="10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38280" y="1855800"/>
              <a:ext cx="0" cy="138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30788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07640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0784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77800" y="2354400"/>
              <a:ext cx="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7400" y="2392560"/>
              <a:ext cx="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7760" y="254664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7760" y="3276720"/>
              <a:ext cx="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9872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45880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921040" y="3314880"/>
              <a:ext cx="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7760" y="35067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98720" y="350676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7760" y="385308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038240" y="300672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98720" y="30067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384200" y="338796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266920" y="16243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538280" y="16243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77760" y="1739520"/>
              <a:ext cx="0" cy="69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7760" y="2008440"/>
              <a:ext cx="142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5960" y="150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7" name=""/>
          <p:cNvGraphicFramePr/>
          <p:nvPr/>
        </p:nvGraphicFramePr>
        <p:xfrm>
          <a:off x="3035160" y="1184400"/>
          <a:ext cx="6108840" cy="451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5160" y="1184400"/>
                    <a:ext cx="610884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726840" y="663480"/>
            <a:ext cx="5266080" cy="3444480"/>
            <a:chOff x="726840" y="663480"/>
            <a:chExt cx="5266080" cy="3444480"/>
          </a:xfrm>
        </p:grpSpPr>
        <p:sp>
          <p:nvSpPr>
            <p:cNvPr id="1680" name=""/>
            <p:cNvSpPr/>
            <p:nvPr/>
          </p:nvSpPr>
          <p:spPr>
            <a:xfrm rot="20257200">
              <a:off x="928800" y="1433160"/>
              <a:ext cx="4340160" cy="192060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808200" y="1162080"/>
              <a:ext cx="5184720" cy="23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724640" y="663480"/>
              <a:ext cx="307800" cy="19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94240" y="1278000"/>
              <a:ext cx="76860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"/>
          <p:cNvSpPr/>
          <p:nvPr/>
        </p:nvSpPr>
        <p:spPr>
          <a:xfrm flipV="1">
            <a:off x="1076400" y="433080"/>
            <a:ext cx="3571920" cy="14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076400" y="185436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384200" y="1739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652760" y="1623960"/>
            <a:ext cx="11556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884240" y="154764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151000" y="14320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2421000" y="13176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651040" y="123984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919240" y="112392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227400" y="10098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533760" y="893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803760" y="7794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4071960" y="66348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303800" y="58752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495680" y="509760"/>
            <a:ext cx="114480" cy="23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610160" y="43344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61880" y="2890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494320" y="5097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570640" y="1469880"/>
            <a:ext cx="35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/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m/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70040" y="112392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01480" y="181620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693360" y="1508040"/>
            <a:ext cx="230040" cy="65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61880" y="1274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pte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ćenje zadato po kos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808200" y="819000"/>
            <a:ext cx="7449840" cy="5759280"/>
            <a:chOff x="808200" y="819000"/>
            <a:chExt cx="7449840" cy="5759280"/>
          </a:xfrm>
        </p:grpSpPr>
        <p:sp>
          <p:nvSpPr>
            <p:cNvPr id="1709" name=""/>
            <p:cNvSpPr/>
            <p:nvPr/>
          </p:nvSpPr>
          <p:spPr>
            <a:xfrm flipV="1">
              <a:off x="84600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08200" y="1317600"/>
              <a:ext cx="3960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344680" y="127944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846000" y="1393920"/>
              <a:ext cx="1498680" cy="231480"/>
              <a:chOff x="846000" y="1393920"/>
              <a:chExt cx="1498680" cy="231480"/>
            </a:xfrm>
          </p:grpSpPr>
          <p:sp>
            <p:nvSpPr>
              <p:cNvPr id="1713" name=""/>
              <p:cNvSpPr/>
              <p:nvPr/>
            </p:nvSpPr>
            <p:spPr>
              <a:xfrm>
                <a:off x="846000" y="1393920"/>
                <a:ext cx="1498680" cy="231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460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73052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884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0368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1906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3446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0000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1541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08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4619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6160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5" name=""/>
            <p:cNvSpPr/>
            <p:nvPr/>
          </p:nvSpPr>
          <p:spPr>
            <a:xfrm>
              <a:off x="1460520" y="819000"/>
              <a:ext cx="30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6" name=""/>
            <p:cNvGraphicFramePr/>
            <p:nvPr/>
          </p:nvGraphicFramePr>
          <p:xfrm>
            <a:off x="2536920" y="2008080"/>
            <a:ext cx="34596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6920" y="2008080"/>
                      <a:ext cx="3459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8" name=""/>
            <p:cNvGraphicFramePr/>
            <p:nvPr/>
          </p:nvGraphicFramePr>
          <p:xfrm>
            <a:off x="4379760" y="2058840"/>
            <a:ext cx="422280" cy="422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79760" y="2058840"/>
                      <a:ext cx="4222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0" name=""/>
            <p:cNvSpPr/>
            <p:nvPr/>
          </p:nvSpPr>
          <p:spPr>
            <a:xfrm flipV="1">
              <a:off x="30351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919680" y="196992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071960" y="18540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26040" y="17384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379760" y="162396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533840" y="15098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13320" y="223848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765600" y="20858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3035160" y="150948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46000" y="2892240"/>
              <a:ext cx="7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76400" y="24271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231920" y="2508120"/>
              <a:ext cx="22824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346040" y="181764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6000" y="32385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38240" y="2738520"/>
              <a:ext cx="11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rot="19366800">
              <a:off x="3035520" y="147132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459160" y="819000"/>
              <a:ext cx="238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q</a:t>
              </a:r>
              <a:r>
                <a:rPr b="0" i="1" lang="sr-Latn-C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48783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67215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995720" y="2392200"/>
              <a:ext cx="1922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149800" y="227808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303880" y="216216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457960" y="204768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608800" y="193212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00680" y="17780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992920" y="166356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146640" y="15098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4687920" y="1509480"/>
              <a:ext cx="14587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992920" y="19699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492960" y="2662200"/>
              <a:ext cx="190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989840" y="1471680"/>
              <a:ext cx="19224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6491160" y="147132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7835760" y="17017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7451640" y="19699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7068960" y="2316240"/>
              <a:ext cx="2318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6684840" y="262404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19366800">
              <a:off x="4621680" y="139320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19366800">
              <a:off x="6301080" y="141408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8" name=""/>
            <p:cNvGrpSpPr/>
            <p:nvPr/>
          </p:nvGrpSpPr>
          <p:grpSpPr>
            <a:xfrm>
              <a:off x="1037880" y="5406840"/>
              <a:ext cx="5223240" cy="1171440"/>
              <a:chOff x="1037880" y="5406840"/>
              <a:chExt cx="5223240" cy="1171440"/>
            </a:xfrm>
          </p:grpSpPr>
          <p:sp>
            <p:nvSpPr>
              <p:cNvPr id="1769" name=""/>
              <p:cNvSpPr/>
              <p:nvPr/>
            </p:nvSpPr>
            <p:spPr>
              <a:xfrm>
                <a:off x="1268280" y="6021360"/>
                <a:ext cx="264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3064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1037880" y="6021360"/>
                <a:ext cx="268200" cy="423720"/>
                <a:chOff x="1037880" y="6021360"/>
                <a:chExt cx="268200" cy="423720"/>
              </a:xfrm>
            </p:grpSpPr>
            <p:sp>
              <p:nvSpPr>
                <p:cNvPr id="1772" name=""/>
                <p:cNvSpPr/>
                <p:nvPr/>
              </p:nvSpPr>
              <p:spPr>
                <a:xfrm flipH="1">
                  <a:off x="10378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>
                  <a:off x="11145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4" name=""/>
              <p:cNvGrpSpPr/>
              <p:nvPr/>
            </p:nvGrpSpPr>
            <p:grpSpPr>
              <a:xfrm>
                <a:off x="1306080" y="6021360"/>
                <a:ext cx="268200" cy="423720"/>
                <a:chOff x="1306080" y="6021360"/>
                <a:chExt cx="268200" cy="423720"/>
              </a:xfrm>
            </p:grpSpPr>
            <p:sp>
              <p:nvSpPr>
                <p:cNvPr id="1775" name=""/>
                <p:cNvSpPr/>
                <p:nvPr/>
              </p:nvSpPr>
              <p:spPr>
                <a:xfrm flipH="1">
                  <a:off x="130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H="1">
                  <a:off x="138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1576080" y="6021360"/>
                <a:ext cx="268200" cy="423720"/>
                <a:chOff x="1576080" y="6021360"/>
                <a:chExt cx="268200" cy="423720"/>
              </a:xfrm>
            </p:grpSpPr>
            <p:sp>
              <p:nvSpPr>
                <p:cNvPr id="1778" name=""/>
                <p:cNvSpPr/>
                <p:nvPr/>
              </p:nvSpPr>
              <p:spPr>
                <a:xfrm flipH="1">
                  <a:off x="157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>
                  <a:off x="165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844280" y="6021360"/>
                <a:ext cx="268200" cy="423720"/>
                <a:chOff x="1844280" y="6021360"/>
                <a:chExt cx="268200" cy="423720"/>
              </a:xfrm>
            </p:grpSpPr>
            <p:sp>
              <p:nvSpPr>
                <p:cNvPr id="1781" name=""/>
                <p:cNvSpPr/>
                <p:nvPr/>
              </p:nvSpPr>
              <p:spPr>
                <a:xfrm flipH="1">
                  <a:off x="1844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flipH="1">
                  <a:off x="1920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2112480" y="6021360"/>
                <a:ext cx="268200" cy="423720"/>
                <a:chOff x="2112480" y="6021360"/>
                <a:chExt cx="268200" cy="423720"/>
              </a:xfrm>
            </p:grpSpPr>
            <p:sp>
              <p:nvSpPr>
                <p:cNvPr id="1784" name=""/>
                <p:cNvSpPr/>
                <p:nvPr/>
              </p:nvSpPr>
              <p:spPr>
                <a:xfrm flipH="1">
                  <a:off x="211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H="1">
                  <a:off x="218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2382480" y="6021360"/>
                <a:ext cx="268200" cy="423720"/>
                <a:chOff x="2382480" y="6021360"/>
                <a:chExt cx="268200" cy="423720"/>
              </a:xfrm>
            </p:grpSpPr>
            <p:sp>
              <p:nvSpPr>
                <p:cNvPr id="1787" name=""/>
                <p:cNvSpPr/>
                <p:nvPr/>
              </p:nvSpPr>
              <p:spPr>
                <a:xfrm flipH="1">
                  <a:off x="238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245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2650680" y="6021360"/>
                <a:ext cx="268200" cy="423720"/>
                <a:chOff x="2650680" y="6021360"/>
                <a:chExt cx="268200" cy="423720"/>
              </a:xfrm>
            </p:grpSpPr>
            <p:sp>
              <p:nvSpPr>
                <p:cNvPr id="1790" name=""/>
                <p:cNvSpPr/>
                <p:nvPr/>
              </p:nvSpPr>
              <p:spPr>
                <a:xfrm flipH="1">
                  <a:off x="26506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H="1">
                  <a:off x="27273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2919240" y="6021360"/>
                <a:ext cx="268200" cy="423720"/>
                <a:chOff x="2919240" y="6021360"/>
                <a:chExt cx="268200" cy="423720"/>
              </a:xfrm>
            </p:grpSpPr>
            <p:sp>
              <p:nvSpPr>
                <p:cNvPr id="1793" name=""/>
                <p:cNvSpPr/>
                <p:nvPr/>
              </p:nvSpPr>
              <p:spPr>
                <a:xfrm flipH="1">
                  <a:off x="291924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H="1">
                  <a:off x="299592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3150720" y="6021360"/>
                <a:ext cx="268200" cy="423720"/>
                <a:chOff x="3150720" y="6021360"/>
                <a:chExt cx="268200" cy="423720"/>
              </a:xfrm>
            </p:grpSpPr>
            <p:sp>
              <p:nvSpPr>
                <p:cNvPr id="1796" name=""/>
                <p:cNvSpPr/>
                <p:nvPr/>
              </p:nvSpPr>
              <p:spPr>
                <a:xfrm flipH="1">
                  <a:off x="31507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H="1">
                  <a:off x="32274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3419280" y="6021360"/>
                <a:ext cx="268200" cy="423720"/>
                <a:chOff x="3419280" y="6021360"/>
                <a:chExt cx="268200" cy="423720"/>
              </a:xfrm>
            </p:grpSpPr>
            <p:sp>
              <p:nvSpPr>
                <p:cNvPr id="1799" name=""/>
                <p:cNvSpPr/>
                <p:nvPr/>
              </p:nvSpPr>
              <p:spPr>
                <a:xfrm flipH="1">
                  <a:off x="3419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>
                  <a:off x="3495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3649320" y="6021360"/>
                <a:ext cx="268200" cy="423720"/>
                <a:chOff x="3649320" y="6021360"/>
                <a:chExt cx="268200" cy="423720"/>
              </a:xfrm>
            </p:grpSpPr>
            <p:sp>
              <p:nvSpPr>
                <p:cNvPr id="1802" name=""/>
                <p:cNvSpPr/>
                <p:nvPr/>
              </p:nvSpPr>
              <p:spPr>
                <a:xfrm flipH="1">
                  <a:off x="36493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H="1">
                  <a:off x="37260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4" name=""/>
              <p:cNvSpPr/>
              <p:nvPr/>
            </p:nvSpPr>
            <p:spPr>
              <a:xfrm>
                <a:off x="15750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844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112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3814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6510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9196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1878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419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687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91788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268280" y="5599080"/>
                <a:ext cx="26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038240" y="6405480"/>
                <a:ext cx="2649600" cy="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816" name=""/>
              <p:cNvGraphicFramePr/>
              <p:nvPr/>
            </p:nvGraphicFramePr>
            <p:xfrm>
              <a:off x="4148280" y="5406840"/>
              <a:ext cx="2112840" cy="11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1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48280" y="5406840"/>
                        <a:ext cx="2112840" cy="11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818" name=""/>
            <p:cNvSpPr/>
            <p:nvPr/>
          </p:nvSpPr>
          <p:spPr>
            <a:xfrm>
              <a:off x="3035160" y="26622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51080" y="25844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305160" y="24321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59240" y="235440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687920" y="266220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42000" y="250812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497400" y="354492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497400" y="3544920"/>
              <a:ext cx="57456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3457080" y="4236840"/>
              <a:ext cx="6541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419640" y="357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3191400" y="3850920"/>
              <a:ext cx="612000" cy="30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261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26179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16200000">
              <a:off x="2575440" y="379296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3193800">
              <a:off x="3271320" y="357516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rot="19366800">
              <a:off x="3165840" y="427140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539640" y="0"/>
          <a:ext cx="519912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0"/>
                    <a:ext cx="519912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7596360" y="299232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80360" y="327960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380000" y="3424320"/>
            <a:ext cx="792360" cy="142560"/>
            <a:chOff x="7380000" y="3424320"/>
            <a:chExt cx="792360" cy="142560"/>
          </a:xfrm>
        </p:grpSpPr>
        <p:sp>
          <p:nvSpPr>
            <p:cNvPr id="331" name=""/>
            <p:cNvSpPr/>
            <p:nvPr/>
          </p:nvSpPr>
          <p:spPr>
            <a:xfrm>
              <a:off x="7380360" y="3424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380000" y="34243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596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812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028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 rot="10800000">
            <a:off x="1258920" y="104868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14560" y="104940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498920" y="104940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4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8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29210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6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40720" y="2416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6192360" y="105876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99280" y="10494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99280" y="29923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820000" y="104940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04000" y="9050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04000" y="28494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00720" y="306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68720" y="6159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13800" y="4730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05080" y="47304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8389800" y="17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213920" y="1793880"/>
            <a:ext cx="16560" cy="1221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750800" y="2923200"/>
            <a:ext cx="5040" cy="1205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88600" y="29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70440" y="148428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96600" y="364176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1006920" y="419760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85440" y="3645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112680" y="4503600"/>
            <a:ext cx="1154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=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23120" y="4212360"/>
            <a:ext cx="26640" cy="12466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026720" y="4245840"/>
            <a:ext cx="4517280" cy="1162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47160" y="4491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346760" y="2957760"/>
            <a:ext cx="4434480" cy="12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222560" y="1814760"/>
            <a:ext cx="4517640" cy="1161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184464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724360" y="1844640"/>
            <a:ext cx="0" cy="115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67880" y="1989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4816440"/>
            <a:ext cx="70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Kremonina metoda započinje crtan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oligon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spolja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šnjih sila (mora biti zatvoren), obilaženjem rešetke u smeru kazaljke na satu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940360" y="23760"/>
          <a:ext cx="13464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3760"/>
                    <a:ext cx="13464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 flipH="1">
            <a:off x="3131640" y="450864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587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236000" y="4581360"/>
            <a:ext cx="158400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320000" y="450396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41440" y="378936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765560" y="4525920"/>
            <a:ext cx="1035720" cy="13914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357800" y="5869080"/>
            <a:ext cx="3507480" cy="25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12920" y="4797360"/>
            <a:ext cx="119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=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302360" y="4516920"/>
            <a:ext cx="31320" cy="1325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1402920" y="54864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59280" y="549360"/>
            <a:ext cx="158400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643280" y="549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3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12000" y="242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308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335280" y="550440"/>
            <a:ext cx="3019320" cy="72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9440" y="98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20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3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380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544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308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39520" y="1341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882920" y="2522160"/>
            <a:ext cx="26640" cy="124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956720" y="278136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4400" y="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289760" y="455148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60240" y="47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47640" y="1700280"/>
            <a:ext cx="503280" cy="576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835280" y="2492280"/>
            <a:ext cx="64584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01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2360" y="2492280"/>
            <a:ext cx="71928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340000" y="836640"/>
            <a:ext cx="431640" cy="50472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812000" y="4508280"/>
            <a:ext cx="100800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43640" y="4149720"/>
            <a:ext cx="2160720" cy="27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732720" y="4508640"/>
            <a:ext cx="2087280" cy="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347640" y="549360"/>
            <a:ext cx="863640" cy="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32720" y="4508640"/>
            <a:ext cx="107928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03640" y="765000"/>
            <a:ext cx="431640" cy="50328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39640" y="1341360"/>
          <a:ext cx="946440" cy="16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341360"/>
                    <a:ext cx="94644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2268360" y="6480"/>
          <a:ext cx="15606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6480"/>
                    <a:ext cx="1560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7389720" y="2124000"/>
          <a:ext cx="121464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9720" y="2124000"/>
                    <a:ext cx="12146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3851280" y="2708280"/>
          <a:ext cx="1739880" cy="6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2708280"/>
                    <a:ext cx="17398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5076720" y="549360"/>
            <a:ext cx="71928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59640" y="4508640"/>
            <a:ext cx="21603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4005360"/>
            <a:ext cx="1584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788000" y="4149720"/>
            <a:ext cx="223200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460880" y="116676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56000" y="4508640"/>
            <a:ext cx="1152720" cy="136836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508720" y="4437000"/>
            <a:ext cx="1224000" cy="144000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5651640" y="691920"/>
            <a:ext cx="504720" cy="64908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6720" y="836640"/>
            <a:ext cx="431640" cy="576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7235640" y="1700280"/>
            <a:ext cx="431640" cy="503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4356000" y="4508280"/>
            <a:ext cx="1152720" cy="1368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84720" y="5877000"/>
            <a:ext cx="122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20000" y="2492280"/>
            <a:ext cx="720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076360" y="2492280"/>
            <a:ext cx="64620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284720" y="5877000"/>
            <a:ext cx="114912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877000"/>
            <a:ext cx="352728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6730560" y="4508280"/>
            <a:ext cx="1081080" cy="136980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4140000" y="1844640"/>
            <a:ext cx="360360" cy="43200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508360" y="4508640"/>
            <a:ext cx="1152360" cy="136836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859280" y="1700280"/>
            <a:ext cx="433440" cy="50472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4920" y="3254400"/>
          <a:ext cx="3024360" cy="3342960"/>
        </p:xfrm>
        <a:graphic>
          <a:graphicData uri="http://schemas.openxmlformats.org/drawingml/2006/table">
            <a:tbl>
              <a:tblPr/>
              <a:tblGrid>
                <a:gridCol w="649440"/>
                <a:gridCol w="1079280"/>
                <a:gridCol w="129564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t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tis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tez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755640" y="3665520"/>
          <a:ext cx="86364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5640" y="3665520"/>
                    <a:ext cx="8636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755640" y="4532400"/>
          <a:ext cx="93672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453240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052720" y="4894200"/>
          <a:ext cx="718920" cy="47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2720" y="4894200"/>
                    <a:ext cx="7189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826920" y="6197760"/>
          <a:ext cx="720720" cy="39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6197760"/>
                    <a:ext cx="7207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050920" y="5734080"/>
          <a:ext cx="71928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0920" y="5734080"/>
                    <a:ext cx="7192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755640" y="5300640"/>
          <a:ext cx="93672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640" y="530064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826920" y="4056120"/>
          <a:ext cx="649440" cy="388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26920" y="4056120"/>
                    <a:ext cx="6494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7165440" y="5010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17344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436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41440" y="4724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17440" y="566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25800" y="414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1780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3000"/>
                            </p:stCondLst>
                            <p:childTnLst>
                              <p:par>
                                <p:cTn id="2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90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2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3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0"/>
                            </p:stCondLst>
                            <p:childTnLst>
                              <p:par>
                                <p:cTn id="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7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9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4000"/>
                            </p:stCondLst>
                            <p:childTnLst>
                              <p:par>
                                <p:cTn id="25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6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80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3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30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5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3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8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3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1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4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7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9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1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4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6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8000"/>
                            </p:stCondLst>
                            <p:childTnLst>
                              <p:par>
                                <p:cTn id="31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3000"/>
                            </p:stCondLst>
                            <p:childTnLst>
                              <p:par>
                                <p:cTn id="3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7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30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5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700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9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2000"/>
                            </p:stCondLst>
                            <p:childTnLst>
                              <p:par>
                                <p:cTn id="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35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38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 flipH="1">
            <a:off x="3620880" y="2494080"/>
            <a:ext cx="2160360" cy="172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388880" y="2565360"/>
            <a:ext cx="2160360" cy="266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957600" y="2133360"/>
            <a:ext cx="431640" cy="792360"/>
            <a:chOff x="957600" y="2133360"/>
            <a:chExt cx="431640" cy="792360"/>
          </a:xfrm>
        </p:grpSpPr>
        <p:sp>
          <p:nvSpPr>
            <p:cNvPr id="472" name=""/>
            <p:cNvSpPr/>
            <p:nvPr/>
          </p:nvSpPr>
          <p:spPr>
            <a:xfrm rot="5400000">
              <a:off x="1065240" y="23860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957600" y="2133360"/>
              <a:ext cx="142560" cy="792360"/>
              <a:chOff x="957600" y="2133360"/>
              <a:chExt cx="142560" cy="792360"/>
            </a:xfrm>
          </p:grpSpPr>
          <p:sp>
            <p:nvSpPr>
              <p:cNvPr id="474" name=""/>
              <p:cNvSpPr/>
              <p:nvPr/>
            </p:nvSpPr>
            <p:spPr>
              <a:xfrm>
                <a:off x="1100160" y="213372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957600" y="213336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957600" y="2349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957600" y="2565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957600" y="2781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"/>
          <p:cNvSpPr/>
          <p:nvPr/>
        </p:nvSpPr>
        <p:spPr>
          <a:xfrm rot="5400000">
            <a:off x="3153600" y="729360"/>
            <a:ext cx="2735280" cy="6264000"/>
          </a:xfrm>
          <a:prstGeom prst="rtTriangl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. Metoda preseka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(RITEROV POSTUP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ostupak: Prvo se odrede reakcije veza, pa se po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oga napravi presek kroz tr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21240" y="2565360"/>
            <a:ext cx="0" cy="165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781240" y="2565360"/>
            <a:ext cx="180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49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17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12880" y="4868640"/>
            <a:ext cx="645840" cy="792360"/>
            <a:chOff x="812880" y="4868640"/>
            <a:chExt cx="645840" cy="792360"/>
          </a:xfrm>
        </p:grpSpPr>
        <p:sp>
          <p:nvSpPr>
            <p:cNvPr id="486" name=""/>
            <p:cNvSpPr/>
            <p:nvPr/>
          </p:nvSpPr>
          <p:spPr>
            <a:xfrm rot="5400000">
              <a:off x="1063800" y="512100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0160" y="486900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2880" y="4868640"/>
              <a:ext cx="142560" cy="792360"/>
              <a:chOff x="812880" y="4868640"/>
              <a:chExt cx="142560" cy="792360"/>
            </a:xfrm>
          </p:grpSpPr>
          <p:sp>
            <p:nvSpPr>
              <p:cNvPr id="489" name=""/>
              <p:cNvSpPr/>
              <p:nvPr/>
            </p:nvSpPr>
            <p:spPr>
              <a:xfrm>
                <a:off x="955440" y="486900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812880" y="486864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812880" y="5084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812880" y="5300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812880" y="5516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 rot="5400000">
              <a:off x="1315080" y="51566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653240" y="2421000"/>
            <a:ext cx="1429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728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268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596360" y="1550880"/>
            <a:ext cx="701280" cy="952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80120" y="1773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6740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68120" y="24940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49600" y="4149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1032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67400" y="3284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797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620720" y="5589720"/>
          <a:ext cx="691200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5589720"/>
                    <a:ext cx="69120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4178160" y="2044800"/>
            <a:ext cx="333360" cy="2554200"/>
          </a:xfrm>
          <a:custGeom>
            <a:avLst/>
            <a:gdLst/>
            <a:ahLst/>
            <a:rect l="l" t="t" r="r" b="b"/>
            <a:pathLst>
              <a:path w="210" h="1609">
                <a:moveTo>
                  <a:pt x="210" y="0"/>
                </a:moveTo>
                <a:cubicBezTo>
                  <a:pt x="182" y="28"/>
                  <a:pt x="93" y="96"/>
                  <a:pt x="55" y="109"/>
                </a:cubicBezTo>
                <a:cubicBezTo>
                  <a:pt x="42" y="122"/>
                  <a:pt x="26" y="138"/>
                  <a:pt x="18" y="155"/>
                </a:cubicBezTo>
                <a:cubicBezTo>
                  <a:pt x="10" y="173"/>
                  <a:pt x="0" y="210"/>
                  <a:pt x="0" y="210"/>
                </a:cubicBezTo>
                <a:cubicBezTo>
                  <a:pt x="9" y="247"/>
                  <a:pt x="18" y="295"/>
                  <a:pt x="37" y="329"/>
                </a:cubicBezTo>
                <a:cubicBezTo>
                  <a:pt x="89" y="426"/>
                  <a:pt x="61" y="349"/>
                  <a:pt x="82" y="411"/>
                </a:cubicBezTo>
                <a:cubicBezTo>
                  <a:pt x="93" y="511"/>
                  <a:pt x="87" y="486"/>
                  <a:pt x="128" y="548"/>
                </a:cubicBezTo>
                <a:cubicBezTo>
                  <a:pt x="145" y="600"/>
                  <a:pt x="111" y="640"/>
                  <a:pt x="73" y="676"/>
                </a:cubicBezTo>
                <a:cubicBezTo>
                  <a:pt x="76" y="700"/>
                  <a:pt x="75" y="725"/>
                  <a:pt x="82" y="749"/>
                </a:cubicBezTo>
                <a:cubicBezTo>
                  <a:pt x="88" y="769"/>
                  <a:pt x="116" y="790"/>
                  <a:pt x="128" y="804"/>
                </a:cubicBezTo>
                <a:cubicBezTo>
                  <a:pt x="146" y="826"/>
                  <a:pt x="147" y="834"/>
                  <a:pt x="156" y="859"/>
                </a:cubicBezTo>
                <a:cubicBezTo>
                  <a:pt x="153" y="886"/>
                  <a:pt x="152" y="914"/>
                  <a:pt x="146" y="941"/>
                </a:cubicBezTo>
                <a:cubicBezTo>
                  <a:pt x="142" y="960"/>
                  <a:pt x="134" y="978"/>
                  <a:pt x="128" y="996"/>
                </a:cubicBezTo>
                <a:cubicBezTo>
                  <a:pt x="125" y="1005"/>
                  <a:pt x="119" y="1024"/>
                  <a:pt x="119" y="1024"/>
                </a:cubicBezTo>
                <a:cubicBezTo>
                  <a:pt x="129" y="1094"/>
                  <a:pt x="122" y="1149"/>
                  <a:pt x="101" y="1216"/>
                </a:cubicBezTo>
                <a:cubicBezTo>
                  <a:pt x="104" y="1240"/>
                  <a:pt x="102" y="1266"/>
                  <a:pt x="110" y="1289"/>
                </a:cubicBezTo>
                <a:cubicBezTo>
                  <a:pt x="117" y="1310"/>
                  <a:pt x="146" y="1344"/>
                  <a:pt x="146" y="1344"/>
                </a:cubicBezTo>
                <a:cubicBezTo>
                  <a:pt x="139" y="1396"/>
                  <a:pt x="123" y="1431"/>
                  <a:pt x="137" y="1481"/>
                </a:cubicBezTo>
                <a:cubicBezTo>
                  <a:pt x="142" y="1500"/>
                  <a:pt x="156" y="1536"/>
                  <a:pt x="156" y="1536"/>
                </a:cubicBezTo>
                <a:cubicBezTo>
                  <a:pt x="145" y="1565"/>
                  <a:pt x="118" y="1609"/>
                  <a:pt x="174" y="160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26680" y="32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50340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03400" y="37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6196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3032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8268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714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03040" y="191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03400" y="191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536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13240" y="3429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396320" y="2556720"/>
            <a:ext cx="1289520" cy="104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266720" y="3330000"/>
            <a:ext cx="1419480" cy="63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181400" y="2481120"/>
            <a:ext cx="1547640" cy="22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1032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3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3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 POSTUPAK  -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33ccff"/>
                </a:solidFill>
                <a:latin typeface="Times New Roman"/>
              </a:rPr>
              <a:t>Za rešetkastu konstrukciju kao na slici Riterovim postupkom odrediti intenzitete sila u štapovima   2, 10 i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7020000" y="1773360"/>
          <a:ext cx="183348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83348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7164360" y="2924280"/>
          <a:ext cx="154620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2924280"/>
                    <a:ext cx="15462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zad 4" descr=""/>
          <p:cNvPicPr/>
          <p:nvPr/>
        </p:nvPicPr>
        <p:blipFill>
          <a:blip r:embed="rId5"/>
          <a:stretch/>
        </p:blipFill>
        <p:spPr>
          <a:xfrm>
            <a:off x="250920" y="1535040"/>
            <a:ext cx="8424720" cy="55659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011240" y="29599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1280" y="909360"/>
            <a:ext cx="889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Za određivanje intenziteta sila u štapovima 2, 10 i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preseca se rešetka na dva dela, tako što se prese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upravo štapovi  2, 10 i 4.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Razmatra se ravnoteža on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dela rešetke na koji dejstvuje  manji broj sila zb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praktičnosti, u ovom slučaju desnog dela rešet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Uticaj odbačenog (levog) dela rešetke se uzet je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obzir preko unutrašnjih sila u presečenim štapov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Nepoznate unutrašnje sile u presečenim štapov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zračunavaju se iz analitičkih uslova ravnoteže ravn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istema sila koji dejstvuje na onaj deo rešetke ko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e nalazi desno od preseka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620720" y="54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7080" y="6381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216000"/>
            <a:ext cx="9144000" cy="6597720"/>
            <a:chOff x="0" y="216000"/>
            <a:chExt cx="9144000" cy="6597720"/>
          </a:xfrm>
        </p:grpSpPr>
        <p:grpSp>
          <p:nvGrpSpPr>
            <p:cNvPr id="535" name=""/>
            <p:cNvGrpSpPr/>
            <p:nvPr/>
          </p:nvGrpSpPr>
          <p:grpSpPr>
            <a:xfrm>
              <a:off x="0" y="216000"/>
              <a:ext cx="9144000" cy="6597720"/>
              <a:chOff x="0" y="216000"/>
              <a:chExt cx="9144000" cy="6597720"/>
            </a:xfrm>
          </p:grpSpPr>
          <p:pic>
            <p:nvPicPr>
              <p:cNvPr id="5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16000"/>
                <a:ext cx="8964720" cy="541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0" y="5329440"/>
                <a:ext cx="9144000" cy="14842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250920" y="5300640"/>
              <a:ext cx="8713800" cy="1405440"/>
              <a:chOff x="250920" y="5300640"/>
              <a:chExt cx="8713800" cy="1405440"/>
            </a:xfrm>
          </p:grpSpPr>
          <p:sp>
            <p:nvSpPr>
              <p:cNvPr id="539" name=""/>
              <p:cNvSpPr/>
              <p:nvPr/>
            </p:nvSpPr>
            <p:spPr>
              <a:xfrm>
                <a:off x="250920" y="5514840"/>
                <a:ext cx="8713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  <a:ea typeface="Times New Roman"/>
                  </a:rPr>
                  <a:t>Smerovi sila u štapovima </a:t>
                </a: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</a:rPr>
                  <a:t>                       pretpostavljaju se proizvoljno. Tražene veličine mogu se odrediti iz momentnih jednačina ravnoteže za tzv. Riterove tačke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40" name=""/>
              <p:cNvGraphicFramePr/>
              <p:nvPr/>
            </p:nvGraphicFramePr>
            <p:xfrm>
              <a:off x="3995640" y="5300640"/>
              <a:ext cx="2232000" cy="704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4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995640" y="5300640"/>
                        <a:ext cx="2232000" cy="70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42" name=""/>
          <p:cNvSpPr/>
          <p:nvPr/>
        </p:nvSpPr>
        <p:spPr>
          <a:xfrm>
            <a:off x="7685280" y="3786120"/>
            <a:ext cx="68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6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8972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2T22:15:47Z</dcterms:modified>
  <cp:revision>542</cp:revision>
  <dc:subject/>
  <dc:title>Slide 1</dc:title>
</cp:coreProperties>
</file>