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715-7735-4A4E-AE85-3E7A0609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78F-0004-4188-9D0E-88F5C687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9AB0-E295-45C4-80DD-9B440D84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47D-A188-4327-856B-E8C93874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FDC2-6A7D-4D7C-9751-EF330A26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86CB-A17C-4554-958B-764B31C4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B4EB-F4DB-4B47-BB7F-4B0CF036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CA7C-5BBA-4EA1-8245-B8897396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6DCC-89CF-4DA3-BF5C-6DE9553E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8AB2-8016-4570-9A7F-474584AB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246C-139C-44A2-8849-B564B53D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F3E9-9F8D-4788-8C25-41CC459D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A1D8-244A-4814-9CA1-4FCA3AF1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2247-1D58-4478-B40C-1B4E3111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D4FD-0F4A-4086-A1D0-2C9EB034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D8FC-076B-44E6-8116-0E3A674C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B010-83C3-4A0A-A697-A412C8F6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63B-E5F1-41B2-AAA6-A631FB9D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B27-C4D5-4EA7-8DE0-6D6807A0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5C13-7B54-48A7-9F4E-D148E401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66F-EBDE-4965-97BF-DA7923CD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0EB-D335-4FB2-AA0E-21B7910B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7DDF-B974-484E-9AD0-E4855DD8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640-05CE-444C-9D12-D28CFDFB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C168-921D-4710-BA47-3FF0761F7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3433-F679-44E5-8F01-6C5970EB6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prof. dr Dragoslav Šumarac</a:t>
            </a:r>
            <a:br>
              <a:rPr sz="44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Građevinski fakultet, </a:t>
            </a:r>
            <a:br>
              <a:rPr sz="40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Beograd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55640" y="549360"/>
            <a:ext cx="7777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INAM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(INERCIJALNE EFEKTE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A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16000" y="1125360"/>
            <a:ext cx="75596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T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MIROV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ATERIJALNIH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SU IZLOŽENA DEJST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LA (DRUGIH TE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68360" y="1557360"/>
            <a:ext cx="8353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ZVOJ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STAT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POČINJE 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RHIMED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287-212 p.n.e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DINAM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GALILEJE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564-1642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642-1721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4000" y="1341360"/>
            <a:ext cx="835344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OSNOVU MEHANIKE Č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KSIOMI MEHAN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ISAK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 (NEWT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Philosphie Naturalis Principia Matemat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xiomata Sive Leges Mo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5280" y="260280"/>
            <a:ext cx="835344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gzistenciju sile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 i defini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š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 silu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280" y="26028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omena količine kretanja materijalne tačke (tela) proporcionalna je sili koja dejstvuje na tu materijalnu tačku (telo) i vrši su u pravcu i smeru delovanja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(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je poznat kao II Njutnov zakon)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5280" y="33336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Kr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će: Akciji uvek odgovara jednaka po intenzitetu i pravcu a suprotna po smeru reakcij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74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Zakon nezavisnosti dejstv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dopuna uz A2)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i istovremenom dejstvu dve sile na telo, ono opisuje dijagonalu paralelograma za isto vreme, za koje opiše njegove stranice, pri dejstvu svake sile poseb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vektorsku prirodu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50920" y="1197000"/>
            <a:ext cx="8353440" cy="2775240"/>
            <a:chOff x="250920" y="1197000"/>
            <a:chExt cx="8353440" cy="2775240"/>
          </a:xfrm>
        </p:grpSpPr>
        <p:sp>
          <p:nvSpPr>
            <p:cNvPr id="249" name=""/>
            <p:cNvSpPr/>
            <p:nvPr/>
          </p:nvSpPr>
          <p:spPr>
            <a:xfrm>
              <a:off x="250920" y="1197000"/>
              <a:ext cx="835344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800" spc="-1" strike="noStrike">
                  <a:solidFill>
                    <a:srgbClr val="ff0000"/>
                  </a:solidFill>
                  <a:latin typeface="Times New Roman"/>
                </a:rPr>
                <a:t>A1: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stanje mirovanja      stanju jednolikog pravolinijskog kretanj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435640" y="2997360"/>
              <a:ext cx="433440" cy="144360"/>
              <a:chOff x="5435640" y="2997360"/>
              <a:chExt cx="433440" cy="144360"/>
            </a:xfrm>
          </p:grpSpPr>
          <p:sp>
            <p:nvSpPr>
              <p:cNvPr id="251" name=""/>
              <p:cNvSpPr/>
              <p:nvPr/>
            </p:nvSpPr>
            <p:spPr>
              <a:xfrm>
                <a:off x="5435640" y="299736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35640" y="307044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35640" y="314172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059280" y="1844640"/>
                <a:ext cx="309528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826920" y="4076640"/>
                <a:ext cx="7309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1341360"/>
            <a:ext cx="860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DR NATALIJA NAERLOVIĆ-VELJKOVIĆ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MEHANIKA I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NAUČNA KNJIGA, 19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GRUPA AUTOR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ZBIRKA ZADATAK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ISPITA IZ MEHANIK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4581360"/>
            <a:ext cx="813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KOM SEMESTRA STUDENTI 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BAVEZNI DA  POLAŽ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KOLOKV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PREDROK,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ISP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0120" y="907920"/>
            <a:ext cx="545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b39257"/>
                </a:solidFill>
                <a:uFillTx/>
                <a:latin typeface="Times New Roman"/>
              </a:rPr>
              <a:t>UVODNE NAPOM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421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 preda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95640" y="1484280"/>
            <a:ext cx="2449440" cy="1295280"/>
          </a:xfrm>
          <a:prstGeom prst="rect">
            <a:avLst/>
          </a:prstGeom>
          <a:solidFill>
            <a:srgbClr val="808080"/>
          </a:solidFill>
          <a:ln w="15840">
            <a:solidFill>
              <a:srgbClr val="b1a8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781360"/>
            <a:ext cx="4103640" cy="1152360"/>
          </a:xfrm>
          <a:prstGeom prst="rect">
            <a:avLst/>
          </a:prstGeom>
          <a:solidFill>
            <a:srgbClr val="b39257"/>
          </a:solidFill>
          <a:ln w="158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4036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2872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4920" y="1773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274920" y="2781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348000" y="1773360"/>
                <a:ext cx="6494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924280"/>
                <a:ext cx="10810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6012000" y="2708280"/>
            <a:ext cx="2160000" cy="2736360"/>
            <a:chOff x="6012000" y="2708280"/>
            <a:chExt cx="2160000" cy="2736360"/>
          </a:xfrm>
        </p:grpSpPr>
        <p:sp>
          <p:nvSpPr>
            <p:cNvPr id="267" name=""/>
            <p:cNvSpPr/>
            <p:nvPr/>
          </p:nvSpPr>
          <p:spPr>
            <a:xfrm>
              <a:off x="7963200" y="2708280"/>
              <a:ext cx="208800" cy="266148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12000" y="5148000"/>
              <a:ext cx="2158560" cy="29664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H="1" rot="18147000">
            <a:off x="6068520" y="4028400"/>
            <a:ext cx="2378520" cy="141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4149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659640" y="5157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20000" y="3141720"/>
            <a:ext cx="93672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956720" y="3141720"/>
            <a:ext cx="971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724360" y="386064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292720" y="5516640"/>
                <a:ext cx="1247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877080" y="2133720"/>
                <a:ext cx="8510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8101080" y="2133720"/>
                <a:ext cx="13618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76720" y="33336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413080" y="1628640"/>
                <a:ext cx="649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765440" y="3355920"/>
                <a:ext cx="7380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57080" y="1484280"/>
                <a:ext cx="85104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V="1">
            <a:off x="684360" y="1484280"/>
            <a:ext cx="143964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4360" y="3357720"/>
            <a:ext cx="28080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84360" y="1484280"/>
            <a:ext cx="424800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492360" y="1484280"/>
            <a:ext cx="1440000" cy="1873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4000" y="1484280"/>
            <a:ext cx="280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932360" y="2133720"/>
            <a:ext cx="3960720" cy="2447640"/>
            <a:chOff x="4932360" y="2133720"/>
            <a:chExt cx="3960720" cy="2447640"/>
          </a:xfrm>
        </p:grpSpPr>
        <p:sp>
          <p:nvSpPr>
            <p:cNvPr id="288" name=""/>
            <p:cNvSpPr/>
            <p:nvPr/>
          </p:nvSpPr>
          <p:spPr>
            <a:xfrm>
              <a:off x="5219640" y="2709720"/>
              <a:ext cx="33843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932360" y="2854080"/>
                  <a:ext cx="3960720" cy="127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 flipH="1">
              <a:off x="5363640" y="4581360"/>
              <a:ext cx="309564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50560" y="2133720"/>
              <a:ext cx="229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laganje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49840" y="3933720"/>
              <a:ext cx="268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razlaganje si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39640" y="465300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68360" y="5589720"/>
                <a:ext cx="85248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003640" y="5084640"/>
                <a:ext cx="9223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26920" y="4869000"/>
                <a:ext cx="129564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2102760" y="5438880"/>
            <a:ext cx="29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mponent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66200" y="1052640"/>
            <a:ext cx="7735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mehanici se koriste sledeć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osnovne jedinice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za merenj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ih fizičkih veličin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užina     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metar /m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vreme      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sekund /s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masa        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kilogram /kg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42520" y="549360"/>
            <a:ext cx="8308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aksiomima mehanik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sila 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definiše kao vektorska veliči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oja je uzrok kretanju tel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jedinica za silu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- sistemu je izvedena 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naziva s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/N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700360" y="5013360"/>
                <a:ext cx="338436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12360" y="981000"/>
            <a:ext cx="8003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Izvedene množine i delov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koji se najčešće kori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u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95280" y="3789360"/>
                <a:ext cx="835344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μ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26520" y="620640"/>
            <a:ext cx="834156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Teži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1 kg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mase na Zemljinoj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površini iznosi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9,80665 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zimajući za ubrzan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Zemljine teže veliči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000099"/>
                </a:solidFill>
                <a:latin typeface="Times New Roman"/>
              </a:rPr>
              <a:t>g= 9,80665 /s</a:t>
            </a:r>
            <a:r>
              <a:rPr b="1" lang="sr-Latn-CS" sz="6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765800" y="1268280"/>
            <a:ext cx="4694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la može biti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linij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površ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1640" y="47628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 si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0800" y="1628640"/>
            <a:ext cx="75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Koncentrisana sila predstavlja mehan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uticaj između dva mehanička objekta ko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maju dodir samo u jednoj tač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78200" y="558972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tač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39640" y="3429000"/>
            <a:ext cx="345600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27280" y="4653000"/>
            <a:ext cx="1152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56000" y="4581360"/>
            <a:ext cx="79200" cy="7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555640" y="3860640"/>
            <a:ext cx="93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9900"/>
                </a:solidFill>
                <a:latin typeface="Arial"/>
              </a:rPr>
              <a:t>linij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Ako je dodir dva tela ostvaren po lin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koristi se termin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linij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grpSp>
          <p:nvGrpSpPr>
            <p:cNvPr id="317" name=""/>
            <p:cNvGrpSpPr/>
            <p:nvPr/>
          </p:nvGrpSpPr>
          <p:grpSpPr>
            <a:xfrm>
              <a:off x="324000" y="4437000"/>
              <a:ext cx="4824360" cy="2016000"/>
              <a:chOff x="324000" y="4437000"/>
              <a:chExt cx="4824360" cy="2016000"/>
            </a:xfrm>
          </p:grpSpPr>
          <p:sp>
            <p:nvSpPr>
              <p:cNvPr id="318" name=""/>
              <p:cNvSpPr/>
              <p:nvPr/>
            </p:nvSpPr>
            <p:spPr>
              <a:xfrm>
                <a:off x="324000" y="596916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4000" y="6453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00560" y="4437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32400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387144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3871440" y="492048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400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7144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48360" y="443700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851040" y="4653000"/>
              <a:ext cx="3507840" cy="647640"/>
              <a:chOff x="851040" y="4653000"/>
              <a:chExt cx="3507840" cy="647640"/>
            </a:xfrm>
          </p:grpSpPr>
          <p:sp>
            <p:nvSpPr>
              <p:cNvPr id="328" name=""/>
              <p:cNvSpPr/>
              <p:nvPr/>
            </p:nvSpPr>
            <p:spPr>
              <a:xfrm>
                <a:off x="898560" y="5300640"/>
                <a:ext cx="345600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8164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10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67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946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0232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518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4804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2628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548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834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4120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39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678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096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250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51040" y="4653000"/>
                <a:ext cx="3497400" cy="88920"/>
              </a:xfrm>
              <a:custGeom>
                <a:avLst/>
                <a:gdLst/>
                <a:ahLst/>
                <a:rect l="l" t="t" r="r" b="b"/>
                <a:pathLst>
                  <a:path w="2203" h="83">
                    <a:moveTo>
                      <a:pt x="0" y="83"/>
                    </a:moveTo>
                    <a:cubicBezTo>
                      <a:pt x="68" y="60"/>
                      <a:pt x="58" y="60"/>
                      <a:pt x="128" y="83"/>
                    </a:cubicBezTo>
                    <a:cubicBezTo>
                      <a:pt x="173" y="78"/>
                      <a:pt x="231" y="77"/>
                      <a:pt x="274" y="55"/>
                    </a:cubicBezTo>
                    <a:cubicBezTo>
                      <a:pt x="342" y="21"/>
                      <a:pt x="261" y="50"/>
                      <a:pt x="329" y="28"/>
                    </a:cubicBezTo>
                    <a:cubicBezTo>
                      <a:pt x="416" y="39"/>
                      <a:pt x="498" y="33"/>
                      <a:pt x="585" y="19"/>
                    </a:cubicBezTo>
                    <a:cubicBezTo>
                      <a:pt x="655" y="29"/>
                      <a:pt x="717" y="27"/>
                      <a:pt x="786" y="10"/>
                    </a:cubicBezTo>
                    <a:cubicBezTo>
                      <a:pt x="862" y="28"/>
                      <a:pt x="861" y="27"/>
                      <a:pt x="960" y="19"/>
                    </a:cubicBezTo>
                    <a:cubicBezTo>
                      <a:pt x="1045" y="28"/>
                      <a:pt x="1067" y="37"/>
                      <a:pt x="1152" y="28"/>
                    </a:cubicBezTo>
                    <a:cubicBezTo>
                      <a:pt x="1225" y="10"/>
                      <a:pt x="1301" y="26"/>
                      <a:pt x="1371" y="0"/>
                    </a:cubicBezTo>
                    <a:cubicBezTo>
                      <a:pt x="1506" y="36"/>
                      <a:pt x="1489" y="21"/>
                      <a:pt x="1719" y="28"/>
                    </a:cubicBezTo>
                    <a:cubicBezTo>
                      <a:pt x="1803" y="49"/>
                      <a:pt x="1702" y="28"/>
                      <a:pt x="1856" y="28"/>
                    </a:cubicBezTo>
                    <a:cubicBezTo>
                      <a:pt x="1903" y="28"/>
                      <a:pt x="1940" y="51"/>
                      <a:pt x="1984" y="55"/>
                    </a:cubicBezTo>
                    <a:cubicBezTo>
                      <a:pt x="2099" y="64"/>
                      <a:pt x="2124" y="64"/>
                      <a:pt x="2203" y="64"/>
                    </a:cubicBezTo>
                  </a:path>
                </a:pathLst>
              </a:custGeom>
              <a:noFill/>
              <a:ln w="414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26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3924360" y="2205000"/>
            <a:ext cx="4824360" cy="2015640"/>
            <a:chOff x="3924360" y="2205000"/>
            <a:chExt cx="4824360" cy="2015640"/>
          </a:xfrm>
        </p:grpSpPr>
        <p:sp>
          <p:nvSpPr>
            <p:cNvPr id="347" name=""/>
            <p:cNvSpPr/>
            <p:nvPr/>
          </p:nvSpPr>
          <p:spPr>
            <a:xfrm>
              <a:off x="3924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24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00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924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471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471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24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71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48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211640" y="2421000"/>
            <a:ext cx="3745080" cy="647640"/>
            <a:chOff x="4211640" y="2421000"/>
            <a:chExt cx="3745080" cy="647640"/>
          </a:xfrm>
        </p:grpSpPr>
        <p:sp>
          <p:nvSpPr>
            <p:cNvPr id="357" name=""/>
            <p:cNvSpPr/>
            <p:nvPr/>
          </p:nvSpPr>
          <p:spPr>
            <a:xfrm>
              <a:off x="4211640" y="2421000"/>
              <a:ext cx="431640" cy="6476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27640" y="2421000"/>
              <a:ext cx="3529080" cy="6476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7740720" y="2421000"/>
            <a:ext cx="431640" cy="647640"/>
          </a:xfrm>
          <a:prstGeom prst="ellipse">
            <a:avLst/>
          </a:prstGeom>
          <a:solidFill>
            <a:srgbClr val="e6e3a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površins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Ako je dodir dva tela ostvaren po površ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koristi se termin</a:t>
            </a:r>
            <a:r>
              <a:rPr b="1" lang="sr-Latn-C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površin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sp>
          <p:nvSpPr>
            <p:cNvPr id="362" name=""/>
            <p:cNvSpPr/>
            <p:nvPr/>
          </p:nvSpPr>
          <p:spPr>
            <a:xfrm>
              <a:off x="324000" y="5969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4000" y="6453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560" y="4437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2400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87144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871440" y="4920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00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7144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48360" y="4437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148360" y="2421000"/>
            <a:ext cx="2519280" cy="1079280"/>
            <a:chOff x="5148360" y="2421000"/>
            <a:chExt cx="2519280" cy="1079280"/>
          </a:xfrm>
        </p:grpSpPr>
        <p:sp>
          <p:nvSpPr>
            <p:cNvPr id="372" name=""/>
            <p:cNvSpPr/>
            <p:nvPr/>
          </p:nvSpPr>
          <p:spPr>
            <a:xfrm>
              <a:off x="5148360" y="32410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48360" y="35002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15080" y="242100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14836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00092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000920" y="267984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4836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0092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67640" y="242100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258920" y="4221000"/>
            <a:ext cx="2809800" cy="1440000"/>
            <a:chOff x="1258920" y="4221000"/>
            <a:chExt cx="2809800" cy="1440000"/>
          </a:xfrm>
        </p:grpSpPr>
        <p:sp>
          <p:nvSpPr>
            <p:cNvPr id="382" name=""/>
            <p:cNvSpPr/>
            <p:nvPr/>
          </p:nvSpPr>
          <p:spPr>
            <a:xfrm>
              <a:off x="1298520" y="5661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81600" y="50868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183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29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79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8920" y="5013360"/>
              <a:ext cx="2160720" cy="7128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263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125892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87600" y="522936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70680" y="46548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0708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82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1700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47640" y="4581360"/>
              <a:ext cx="216072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5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74880" y="4869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57960" y="429444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9436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69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0428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5280" y="4221000"/>
              <a:ext cx="216036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02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33200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83528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83528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34000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91636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41964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34000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91636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49236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40360" y="2205000"/>
            <a:ext cx="4824360" cy="2015640"/>
            <a:chOff x="4140360" y="2205000"/>
            <a:chExt cx="4824360" cy="2015640"/>
          </a:xfrm>
        </p:grpSpPr>
        <p:sp>
          <p:nvSpPr>
            <p:cNvPr id="414" name=""/>
            <p:cNvSpPr/>
            <p:nvPr/>
          </p:nvSpPr>
          <p:spPr>
            <a:xfrm>
              <a:off x="4140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0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6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140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687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87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40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87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964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EHANIK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JE NAUKA KOJA SE BAVI PROUČAVANJE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KRETANJA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POJAM KRETANJA UKLJUČUJE I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MIROV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IME JOJ JE DA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ARISTOTEL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(384-322p.n.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3280" y="476280"/>
            <a:ext cx="31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39257"/>
                </a:solidFill>
                <a:latin typeface="Times New Roman"/>
              </a:rPr>
              <a:t>UVO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39640" y="404640"/>
            <a:ext cx="81378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Ako je sila raspodeljena na celu oblast tela, delujući na svaki elementarni deo mase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radi se 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preminski podeljenoj si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(npr. težina te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</a:t>
            </a:r>
            <a:r>
              <a:rPr b="1" i="1" lang="sr-Latn-CS" sz="3200" spc="-1" strike="noStrike">
                <a:solidFill>
                  <a:srgbClr val="333333"/>
                </a:solidFill>
                <a:latin typeface="Times New Roman"/>
              </a:rPr>
              <a:t>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0920" y="3357720"/>
            <a:ext cx="2519640" cy="9363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458136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284720" y="4365360"/>
            <a:ext cx="165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95280" y="765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Analitički način predstavljanja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042560" y="3644640"/>
            <a:ext cx="2303640" cy="2087640"/>
            <a:chOff x="1042560" y="3644640"/>
            <a:chExt cx="2303640" cy="2087640"/>
          </a:xfrm>
        </p:grpSpPr>
        <p:sp>
          <p:nvSpPr>
            <p:cNvPr id="429" name=""/>
            <p:cNvSpPr/>
            <p:nvPr/>
          </p:nvSpPr>
          <p:spPr>
            <a:xfrm flipH="1">
              <a:off x="1042560" y="4970160"/>
              <a:ext cx="96372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06640" y="4970160"/>
              <a:ext cx="1339560" cy="592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2006640" y="3644640"/>
              <a:ext cx="5040" cy="13251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 flipH="1">
            <a:off x="1618920" y="4965840"/>
            <a:ext cx="390600" cy="3348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09880" y="4965840"/>
            <a:ext cx="544320" cy="26352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009880" y="4508640"/>
            <a:ext cx="3240" cy="4572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236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21080" y="342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32000" y="4869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260360" y="479736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2482920" y="450864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78200" y="407664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1549080" y="458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8760" y="1989000"/>
            <a:ext cx="427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xyz –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referentni des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koordinatni si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476600" y="342900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403880" y="414828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403880" y="494028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187880" y="3429000"/>
                <a:ext cx="129528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5626440" y="4003560"/>
            <a:ext cx="304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odgovaraju</a:t>
            </a: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ć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jedinič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085800" y="1341360"/>
            <a:ext cx="2737440" cy="2524680"/>
            <a:chOff x="6085800" y="1341360"/>
            <a:chExt cx="2737440" cy="2524680"/>
          </a:xfrm>
        </p:grpSpPr>
        <p:pic>
          <p:nvPicPr>
            <p:cNvPr id="449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6516720" y="1628640"/>
              <a:ext cx="194472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6085800" y="278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61080" y="32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82160" y="134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1980720" y="2347920"/>
            <a:ext cx="5279040" cy="4176720"/>
            <a:chOff x="1980720" y="2347920"/>
            <a:chExt cx="5279040" cy="4176720"/>
          </a:xfrm>
        </p:grpSpPr>
        <p:sp>
          <p:nvSpPr>
            <p:cNvPr id="454" name=""/>
            <p:cNvSpPr/>
            <p:nvPr/>
          </p:nvSpPr>
          <p:spPr>
            <a:xfrm>
              <a:off x="1980720" y="5726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7600" y="54435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78640" y="2347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141280" y="2563560"/>
              <a:ext cx="4970880" cy="3961080"/>
              <a:chOff x="2141280" y="2563560"/>
              <a:chExt cx="4970880" cy="39610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2141280" y="2563560"/>
                <a:ext cx="4970880" cy="3961080"/>
                <a:chOff x="2141280" y="2563560"/>
                <a:chExt cx="4970880" cy="3961080"/>
              </a:xfrm>
            </p:grpSpPr>
            <p:sp>
              <p:nvSpPr>
                <p:cNvPr id="459" name=""/>
                <p:cNvSpPr/>
                <p:nvPr/>
              </p:nvSpPr>
              <p:spPr>
                <a:xfrm flipH="1">
                  <a:off x="2141280" y="507852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221360" y="507852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4221360" y="256356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3709800" y="4581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195640" y="189000"/>
                <a:ext cx="21063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4284720" y="260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Vektorska jednačin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599080" y="4435560"/>
            <a:ext cx="0" cy="20876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598720" y="5948280"/>
            <a:ext cx="865080" cy="576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40160" y="5659560"/>
            <a:ext cx="2158920" cy="865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32160" y="5083200"/>
            <a:ext cx="1366920" cy="1441440"/>
          </a:xfrm>
          <a:prstGeom prst="line">
            <a:avLst/>
          </a:prstGeom>
          <a:ln w="442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32160" y="2995560"/>
            <a:ext cx="1366920" cy="14414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232160" y="2995200"/>
            <a:ext cx="0" cy="208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3366720" y="5083200"/>
            <a:ext cx="865080" cy="576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32160" y="5083200"/>
            <a:ext cx="2232000" cy="8650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741920" y="4221000"/>
            <a:ext cx="452160" cy="581400"/>
            <a:chOff x="4741920" y="4221000"/>
            <a:chExt cx="452160" cy="581400"/>
          </a:xfrm>
        </p:grpSpPr>
        <p:sp>
          <p:nvSpPr>
            <p:cNvPr id="474" name=""/>
            <p:cNvSpPr/>
            <p:nvPr/>
          </p:nvSpPr>
          <p:spPr>
            <a:xfrm>
              <a:off x="4741920" y="422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56120" y="429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934880" y="5491080"/>
            <a:ext cx="777960" cy="774720"/>
            <a:chOff x="4934880" y="5491080"/>
            <a:chExt cx="777960" cy="774720"/>
          </a:xfrm>
        </p:grpSpPr>
        <p:sp>
          <p:nvSpPr>
            <p:cNvPr id="477" name=""/>
            <p:cNvSpPr/>
            <p:nvPr/>
          </p:nvSpPr>
          <p:spPr>
            <a:xfrm rot="1493400">
              <a:off x="5029920" y="5587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44200" y="5646240"/>
              <a:ext cx="195840" cy="9108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flipV="1">
            <a:off x="4232160" y="4435200"/>
            <a:ext cx="1366920" cy="647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984400" y="4815360"/>
            <a:ext cx="880560" cy="861120"/>
            <a:chOff x="2984400" y="4815360"/>
            <a:chExt cx="880560" cy="861120"/>
          </a:xfrm>
        </p:grpSpPr>
        <p:sp>
          <p:nvSpPr>
            <p:cNvPr id="481" name=""/>
            <p:cNvSpPr/>
            <p:nvPr/>
          </p:nvSpPr>
          <p:spPr>
            <a:xfrm rot="19458600">
              <a:off x="3091320" y="495504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434760" y="4842720"/>
              <a:ext cx="175320" cy="1260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822280" y="5133960"/>
            <a:ext cx="840600" cy="749520"/>
            <a:chOff x="5822280" y="5133960"/>
            <a:chExt cx="840600" cy="749520"/>
          </a:xfrm>
        </p:grpSpPr>
        <p:sp>
          <p:nvSpPr>
            <p:cNvPr id="484" name=""/>
            <p:cNvSpPr/>
            <p:nvPr/>
          </p:nvSpPr>
          <p:spPr>
            <a:xfrm rot="1060800">
              <a:off x="5895000" y="521784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57320" y="5355000"/>
              <a:ext cx="205560" cy="655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445200" y="3284640"/>
            <a:ext cx="735480" cy="581400"/>
            <a:chOff x="3445200" y="3284640"/>
            <a:chExt cx="735480" cy="581400"/>
          </a:xfrm>
        </p:grpSpPr>
        <p:sp>
          <p:nvSpPr>
            <p:cNvPr id="487" name=""/>
            <p:cNvSpPr/>
            <p:nvPr/>
          </p:nvSpPr>
          <p:spPr>
            <a:xfrm>
              <a:off x="3445200" y="328464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49560" y="335592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33600" y="843120"/>
            <a:ext cx="452160" cy="581400"/>
            <a:chOff x="633600" y="843120"/>
            <a:chExt cx="452160" cy="581400"/>
          </a:xfrm>
        </p:grpSpPr>
        <p:sp>
          <p:nvSpPr>
            <p:cNvPr id="490" name=""/>
            <p:cNvSpPr/>
            <p:nvPr/>
          </p:nvSpPr>
          <p:spPr>
            <a:xfrm>
              <a:off x="633600" y="843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7800" y="914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458360" y="843120"/>
            <a:ext cx="587880" cy="581400"/>
            <a:chOff x="1458360" y="843120"/>
            <a:chExt cx="587880" cy="581400"/>
          </a:xfrm>
        </p:grpSpPr>
        <p:sp>
          <p:nvSpPr>
            <p:cNvPr id="493" name=""/>
            <p:cNvSpPr/>
            <p:nvPr/>
          </p:nvSpPr>
          <p:spPr>
            <a:xfrm>
              <a:off x="1458360" y="8431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2920" y="91440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360880" y="843120"/>
            <a:ext cx="735480" cy="581400"/>
            <a:chOff x="2360880" y="843120"/>
            <a:chExt cx="735480" cy="581400"/>
          </a:xfrm>
        </p:grpSpPr>
        <p:sp>
          <p:nvSpPr>
            <p:cNvPr id="496" name=""/>
            <p:cNvSpPr/>
            <p:nvPr/>
          </p:nvSpPr>
          <p:spPr>
            <a:xfrm>
              <a:off x="2360880" y="84312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65240" y="91440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0656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9638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2760" y="4428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vo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6400" y="1413000"/>
            <a:ext cx="31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99cc00"/>
                </a:solidFill>
                <a:uFillTx/>
                <a:latin typeface="Times New Roman"/>
              </a:rPr>
              <a:t>drugo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Times New Roman"/>
              </a:rPr>
              <a:t>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40720" y="2205000"/>
            <a:ext cx="587880" cy="581400"/>
            <a:chOff x="540720" y="2205000"/>
            <a:chExt cx="587880" cy="581400"/>
          </a:xfrm>
        </p:grpSpPr>
        <p:sp>
          <p:nvSpPr>
            <p:cNvPr id="503" name=""/>
            <p:cNvSpPr/>
            <p:nvPr/>
          </p:nvSpPr>
          <p:spPr>
            <a:xfrm>
              <a:off x="540720" y="2205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5280" y="227664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08288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06856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476360" y="2205000"/>
            <a:ext cx="719280" cy="581400"/>
            <a:chOff x="1476360" y="2205000"/>
            <a:chExt cx="719280" cy="581400"/>
          </a:xfrm>
        </p:grpSpPr>
        <p:sp>
          <p:nvSpPr>
            <p:cNvPr id="508" name=""/>
            <p:cNvSpPr/>
            <p:nvPr/>
          </p:nvSpPr>
          <p:spPr>
            <a:xfrm>
              <a:off x="1476360" y="220500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79640" y="2276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412360" y="2205000"/>
            <a:ext cx="719640" cy="581400"/>
            <a:chOff x="2412360" y="2205000"/>
            <a:chExt cx="719640" cy="581400"/>
          </a:xfrm>
        </p:grpSpPr>
        <p:sp>
          <p:nvSpPr>
            <p:cNvPr id="511" name=""/>
            <p:cNvSpPr/>
            <p:nvPr/>
          </p:nvSpPr>
          <p:spPr>
            <a:xfrm>
              <a:off x="2412360" y="220500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6360" y="227628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717800" y="1197000"/>
            <a:ext cx="3580920" cy="581400"/>
            <a:chOff x="4717800" y="1197000"/>
            <a:chExt cx="3580920" cy="581400"/>
          </a:xfrm>
        </p:grpSpPr>
        <p:grpSp>
          <p:nvGrpSpPr>
            <p:cNvPr id="514" name=""/>
            <p:cNvGrpSpPr/>
            <p:nvPr/>
          </p:nvGrpSpPr>
          <p:grpSpPr>
            <a:xfrm>
              <a:off x="4717800" y="1197000"/>
              <a:ext cx="452160" cy="581400"/>
              <a:chOff x="4717800" y="1197000"/>
              <a:chExt cx="452160" cy="581400"/>
            </a:xfrm>
          </p:grpSpPr>
          <p:sp>
            <p:nvSpPr>
              <p:cNvPr id="515" name=""/>
              <p:cNvSpPr/>
              <p:nvPr/>
            </p:nvSpPr>
            <p:spPr>
              <a:xfrm>
                <a:off x="4717800" y="119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32000" y="126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149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57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565600" y="1197000"/>
              <a:ext cx="719280" cy="581400"/>
              <a:chOff x="5565600" y="1197000"/>
              <a:chExt cx="719280" cy="581400"/>
            </a:xfrm>
          </p:grpSpPr>
          <p:sp>
            <p:nvSpPr>
              <p:cNvPr id="520" name=""/>
              <p:cNvSpPr/>
              <p:nvPr/>
            </p:nvSpPr>
            <p:spPr>
              <a:xfrm>
                <a:off x="5565600" y="119700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6888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501600" y="1197000"/>
              <a:ext cx="719640" cy="581400"/>
              <a:chOff x="6501600" y="1197000"/>
              <a:chExt cx="71964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6501600" y="119700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05600" y="1268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7563240" y="1197000"/>
              <a:ext cx="735480" cy="581400"/>
              <a:chOff x="7563240" y="1197000"/>
              <a:chExt cx="735480" cy="581400"/>
            </a:xfrm>
          </p:grpSpPr>
          <p:sp>
            <p:nvSpPr>
              <p:cNvPr id="526" name=""/>
              <p:cNvSpPr/>
              <p:nvPr/>
            </p:nvSpPr>
            <p:spPr>
              <a:xfrm>
                <a:off x="7563240" y="1197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06760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716616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156360" y="3645000"/>
            <a:ext cx="2608560" cy="652680"/>
            <a:chOff x="6156360" y="3645000"/>
            <a:chExt cx="2608560" cy="652680"/>
          </a:xfrm>
        </p:grpSpPr>
        <p:grpSp>
          <p:nvGrpSpPr>
            <p:cNvPr id="530" name=""/>
            <p:cNvGrpSpPr/>
            <p:nvPr/>
          </p:nvGrpSpPr>
          <p:grpSpPr>
            <a:xfrm>
              <a:off x="6157800" y="3716280"/>
              <a:ext cx="452160" cy="581400"/>
              <a:chOff x="6157800" y="3716280"/>
              <a:chExt cx="452160" cy="581400"/>
            </a:xfrm>
          </p:grpSpPr>
          <p:sp>
            <p:nvSpPr>
              <p:cNvPr id="531" name=""/>
              <p:cNvSpPr/>
              <p:nvPr/>
            </p:nvSpPr>
            <p:spPr>
              <a:xfrm>
                <a:off x="6157800" y="371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72000" y="3787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6589440" y="3716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20000" y="3716280"/>
              <a:ext cx="174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; Z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5636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5964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932360" y="1844640"/>
            <a:ext cx="44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Koordinate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(projekcije na koordinatne ose)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vektor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95640" y="836640"/>
                <a:ext cx="39592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659640" y="5300640"/>
                <a:ext cx="16714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732720" y="3933720"/>
                <a:ext cx="17049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732720" y="2565360"/>
                <a:ext cx="16380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2843280" y="18900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nzitet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il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437080" y="189000"/>
            <a:ext cx="452160" cy="581400"/>
            <a:chOff x="5437080" y="189000"/>
            <a:chExt cx="452160" cy="581400"/>
          </a:xfrm>
        </p:grpSpPr>
        <p:sp>
          <p:nvSpPr>
            <p:cNvPr id="544" name=""/>
            <p:cNvSpPr/>
            <p:nvPr/>
          </p:nvSpPr>
          <p:spPr>
            <a:xfrm>
              <a:off x="543708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51280" y="259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4284720" y="1916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osinusi pravaca s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8245440" y="1916280"/>
            <a:ext cx="452160" cy="581400"/>
            <a:chOff x="8245440" y="1916280"/>
            <a:chExt cx="452160" cy="581400"/>
          </a:xfrm>
        </p:grpSpPr>
        <p:sp>
          <p:nvSpPr>
            <p:cNvPr id="548" name=""/>
            <p:cNvSpPr/>
            <p:nvPr/>
          </p:nvSpPr>
          <p:spPr>
            <a:xfrm>
              <a:off x="824544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59640" y="19872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24000" y="1628640"/>
            <a:ext cx="5259240" cy="5019480"/>
            <a:chOff x="324000" y="1628640"/>
            <a:chExt cx="5259240" cy="5019480"/>
          </a:xfrm>
        </p:grpSpPr>
        <p:pic>
          <p:nvPicPr>
            <p:cNvPr id="551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324000" y="1628640"/>
              <a:ext cx="4992480" cy="50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9636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21080" y="4652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0980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900000" y="5157360"/>
              <a:ext cx="719280" cy="581400"/>
              <a:chOff x="900000" y="5157360"/>
              <a:chExt cx="719280" cy="581400"/>
            </a:xfrm>
          </p:grpSpPr>
          <p:sp>
            <p:nvSpPr>
              <p:cNvPr id="556" name=""/>
              <p:cNvSpPr/>
              <p:nvPr/>
            </p:nvSpPr>
            <p:spPr>
              <a:xfrm>
                <a:off x="900000" y="515736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03280" y="522900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3925440" y="4652640"/>
              <a:ext cx="719640" cy="581400"/>
              <a:chOff x="3925440" y="4652640"/>
              <a:chExt cx="719640" cy="581400"/>
            </a:xfrm>
          </p:grpSpPr>
          <p:sp>
            <p:nvSpPr>
              <p:cNvPr id="559" name=""/>
              <p:cNvSpPr/>
              <p:nvPr/>
            </p:nvSpPr>
            <p:spPr>
              <a:xfrm>
                <a:off x="3925440" y="465264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429440" y="472392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1475280" y="2781000"/>
              <a:ext cx="735480" cy="581400"/>
              <a:chOff x="1475280" y="2781000"/>
              <a:chExt cx="735480" cy="581400"/>
            </a:xfrm>
          </p:grpSpPr>
          <p:sp>
            <p:nvSpPr>
              <p:cNvPr id="562" name=""/>
              <p:cNvSpPr/>
              <p:nvPr/>
            </p:nvSpPr>
            <p:spPr>
              <a:xfrm>
                <a:off x="1475280" y="2781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79640" y="2852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771640" y="3139920"/>
              <a:ext cx="576000" cy="581400"/>
              <a:chOff x="2771640" y="3139920"/>
              <a:chExt cx="576000" cy="581400"/>
            </a:xfrm>
          </p:grpSpPr>
          <p:sp>
            <p:nvSpPr>
              <p:cNvPr id="565" name=""/>
              <p:cNvSpPr/>
              <p:nvPr/>
            </p:nvSpPr>
            <p:spPr>
              <a:xfrm>
                <a:off x="2771640" y="313992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018240" y="3221640"/>
                <a:ext cx="271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636360" y="1989000"/>
            <a:ext cx="5279040" cy="4248000"/>
            <a:chOff x="3636360" y="1989000"/>
            <a:chExt cx="5279040" cy="4248000"/>
          </a:xfrm>
        </p:grpSpPr>
        <p:sp>
          <p:nvSpPr>
            <p:cNvPr id="568" name=""/>
            <p:cNvSpPr/>
            <p:nvPr/>
          </p:nvSpPr>
          <p:spPr>
            <a:xfrm>
              <a:off x="3636360" y="551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553240" y="5155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08720" y="1989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796920" y="2275920"/>
              <a:ext cx="4970880" cy="3961080"/>
              <a:chOff x="3796920" y="2275920"/>
              <a:chExt cx="4970880" cy="3961080"/>
            </a:xfrm>
          </p:grpSpPr>
          <p:sp>
            <p:nvSpPr>
              <p:cNvPr id="572" name=""/>
              <p:cNvSpPr/>
              <p:nvPr/>
            </p:nvSpPr>
            <p:spPr>
              <a:xfrm flipH="1">
                <a:off x="3796920" y="4790880"/>
                <a:ext cx="2079720" cy="1446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77000" y="4790880"/>
                <a:ext cx="2890800" cy="11253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5877000" y="2275920"/>
                <a:ext cx="11160" cy="2514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5003640" y="38606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6999840" y="5165280"/>
            <a:ext cx="587880" cy="1425960"/>
            <a:chOff x="6999840" y="5165280"/>
            <a:chExt cx="587880" cy="1425960"/>
          </a:xfrm>
        </p:grpSpPr>
        <p:sp>
          <p:nvSpPr>
            <p:cNvPr id="577" name=""/>
            <p:cNvSpPr/>
            <p:nvPr/>
          </p:nvSpPr>
          <p:spPr>
            <a:xfrm>
              <a:off x="7061400" y="5262840"/>
              <a:ext cx="526320" cy="1328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647600">
              <a:off x="7011720" y="5177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811920" y="3649680"/>
            <a:ext cx="1422360" cy="597960"/>
            <a:chOff x="6811920" y="3649680"/>
            <a:chExt cx="1422360" cy="597960"/>
          </a:xfrm>
        </p:grpSpPr>
        <p:sp>
          <p:nvSpPr>
            <p:cNvPr id="580" name=""/>
            <p:cNvSpPr/>
            <p:nvPr/>
          </p:nvSpPr>
          <p:spPr>
            <a:xfrm flipV="1">
              <a:off x="6909480" y="3649680"/>
              <a:ext cx="1324800" cy="5360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7821800">
              <a:off x="6823800" y="41655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358880" y="3138480"/>
            <a:ext cx="1011600" cy="1158120"/>
            <a:chOff x="4358880" y="3138480"/>
            <a:chExt cx="1011600" cy="1158120"/>
          </a:xfrm>
        </p:grpSpPr>
        <p:sp>
          <p:nvSpPr>
            <p:cNvPr id="583" name=""/>
            <p:cNvSpPr/>
            <p:nvPr/>
          </p:nvSpPr>
          <p:spPr>
            <a:xfrm flipH="1" flipV="1">
              <a:off x="4358880" y="313848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1272200">
              <a:off x="5295960" y="42220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166160" y="3213000"/>
            <a:ext cx="549000" cy="675720"/>
            <a:chOff x="7166160" y="321300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7166160" y="3213000"/>
              <a:ext cx="452160" cy="581400"/>
              <a:chOff x="7166160" y="321300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716616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8036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7382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645080" y="2997360"/>
            <a:ext cx="549000" cy="675360"/>
            <a:chOff x="4645080" y="2997360"/>
            <a:chExt cx="549000" cy="675360"/>
          </a:xfrm>
        </p:grpSpPr>
        <p:grpSp>
          <p:nvGrpSpPr>
            <p:cNvPr id="591" name=""/>
            <p:cNvGrpSpPr/>
            <p:nvPr/>
          </p:nvGrpSpPr>
          <p:grpSpPr>
            <a:xfrm>
              <a:off x="4645080" y="2997360"/>
              <a:ext cx="452160" cy="581400"/>
              <a:chOff x="4645080" y="299736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464508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85928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486108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526520" y="5877000"/>
            <a:ext cx="549000" cy="675720"/>
            <a:chOff x="7526520" y="5877000"/>
            <a:chExt cx="54900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7526520" y="5877000"/>
              <a:ext cx="452160" cy="581400"/>
              <a:chOff x="7526520" y="587700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7526520" y="58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740720" y="594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7742520" y="609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6237000" y="3932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464160" y="4940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5000" y="4005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4718880" y="5241960"/>
            <a:ext cx="866520" cy="1268280"/>
            <a:chOff x="4718880" y="5241960"/>
            <a:chExt cx="866520" cy="1268280"/>
          </a:xfrm>
        </p:grpSpPr>
        <p:sp>
          <p:nvSpPr>
            <p:cNvPr id="604" name=""/>
            <p:cNvSpPr/>
            <p:nvPr/>
          </p:nvSpPr>
          <p:spPr>
            <a:xfrm flipH="1">
              <a:off x="4718880" y="5321880"/>
              <a:ext cx="794160" cy="11883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968000">
              <a:off x="5511240" y="52459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589360" y="4941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078520" y="5950080"/>
            <a:ext cx="565920" cy="675360"/>
            <a:chOff x="5078520" y="5950080"/>
            <a:chExt cx="565920" cy="675360"/>
          </a:xfrm>
        </p:grpSpPr>
        <p:grpSp>
          <p:nvGrpSpPr>
            <p:cNvPr id="608" name=""/>
            <p:cNvGrpSpPr/>
            <p:nvPr/>
          </p:nvGrpSpPr>
          <p:grpSpPr>
            <a:xfrm>
              <a:off x="5078520" y="5950080"/>
              <a:ext cx="452160" cy="581400"/>
              <a:chOff x="5078520" y="5950080"/>
              <a:chExt cx="45216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5078520" y="5950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92720" y="6021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5294520" y="616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149800" y="692280"/>
            <a:ext cx="3229920" cy="675360"/>
            <a:chOff x="5149800" y="692280"/>
            <a:chExt cx="3229920" cy="675360"/>
          </a:xfrm>
        </p:grpSpPr>
        <p:grpSp>
          <p:nvGrpSpPr>
            <p:cNvPr id="613" name=""/>
            <p:cNvGrpSpPr/>
            <p:nvPr/>
          </p:nvGrpSpPr>
          <p:grpSpPr>
            <a:xfrm>
              <a:off x="5797440" y="692280"/>
              <a:ext cx="548640" cy="675360"/>
              <a:chOff x="5797440" y="692280"/>
              <a:chExt cx="548640" cy="6753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5797440" y="692280"/>
                <a:ext cx="452160" cy="581400"/>
                <a:chOff x="5797440" y="692280"/>
                <a:chExt cx="452160" cy="5814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797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01164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601308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149800" y="692280"/>
              <a:ext cx="548640" cy="675360"/>
              <a:chOff x="5149800" y="692280"/>
              <a:chExt cx="548640" cy="67536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5149800" y="692280"/>
                <a:ext cx="452160" cy="581400"/>
                <a:chOff x="5149800" y="692280"/>
                <a:chExt cx="452160" cy="58140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149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400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5365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445440" y="692280"/>
              <a:ext cx="549000" cy="675360"/>
              <a:chOff x="6445440" y="692280"/>
              <a:chExt cx="549000" cy="67536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6445440" y="692280"/>
                <a:ext cx="452160" cy="581400"/>
                <a:chOff x="6445440" y="692280"/>
                <a:chExt cx="452160" cy="5814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6445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5964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6661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7813800" y="692280"/>
              <a:ext cx="565920" cy="675360"/>
              <a:chOff x="7813800" y="692280"/>
              <a:chExt cx="565920" cy="67536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7813800" y="692280"/>
                <a:ext cx="452160" cy="581400"/>
                <a:chOff x="7813800" y="692280"/>
                <a:chExt cx="452160" cy="5814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7813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02800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"/>
              <p:cNvSpPr/>
              <p:nvPr/>
            </p:nvSpPr>
            <p:spPr>
              <a:xfrm>
                <a:off x="8029800" y="907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7020360" y="69228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71000" y="189000"/>
            <a:ext cx="84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istem sila koji dejstvuje na neko telo ob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n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značava na sledeći nači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42640" y="1341360"/>
            <a:ext cx="72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jihove odgovarajuće napadne tačke s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63960" y="1989000"/>
            <a:ext cx="30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... 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39640" y="3429000"/>
            <a:ext cx="3110400" cy="720000"/>
            <a:chOff x="539640" y="3429000"/>
            <a:chExt cx="3110400" cy="720000"/>
          </a:xfrm>
        </p:grpSpPr>
        <p:grpSp>
          <p:nvGrpSpPr>
            <p:cNvPr id="638" name=""/>
            <p:cNvGrpSpPr/>
            <p:nvPr/>
          </p:nvGrpSpPr>
          <p:grpSpPr>
            <a:xfrm>
              <a:off x="549360" y="3500280"/>
              <a:ext cx="569520" cy="648720"/>
              <a:chOff x="549360" y="3500280"/>
              <a:chExt cx="569520" cy="648720"/>
            </a:xfrm>
          </p:grpSpPr>
          <p:sp>
            <p:nvSpPr>
              <p:cNvPr id="639" name=""/>
              <p:cNvSpPr/>
              <p:nvPr/>
            </p:nvSpPr>
            <p:spPr>
              <a:xfrm>
                <a:off x="549360" y="3500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5640" y="357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972720" y="3500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34600" y="3500280"/>
              <a:ext cx="2215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64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4292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Stepen slobode kretanj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e nekog mehaničkog objekta se proučava upoređujući njegov položaj sa položajem objekta koji se može nazvati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smatra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m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atematički, posmatrač je predstavljen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ordinatnim sistemom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 kretanje predstavl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menu položaj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prostoru i vremenu jednog tela u odnosu na dru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96360" y="333360"/>
            <a:ext cx="875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stepeni slobode kretanja nekog mehaničk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jekt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broj međusobno nezavisnih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ji jednoznačno određuju položaj t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g objek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75320" y="2492280"/>
            <a:ext cx="51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1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875880" y="2276640"/>
            <a:ext cx="5279040" cy="4176720"/>
            <a:chOff x="875880" y="2276640"/>
            <a:chExt cx="5279040" cy="4176720"/>
          </a:xfrm>
        </p:grpSpPr>
        <p:sp>
          <p:nvSpPr>
            <p:cNvPr id="650" name=""/>
            <p:cNvSpPr/>
            <p:nvPr/>
          </p:nvSpPr>
          <p:spPr>
            <a:xfrm>
              <a:off x="875880" y="565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92760" y="5372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7380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1036440" y="2492280"/>
              <a:ext cx="4970880" cy="3961080"/>
              <a:chOff x="1036440" y="2492280"/>
              <a:chExt cx="4970880" cy="396108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1036440" y="2492280"/>
                <a:ext cx="4970880" cy="3961080"/>
                <a:chOff x="1036440" y="2492280"/>
                <a:chExt cx="4970880" cy="3961080"/>
              </a:xfrm>
            </p:grpSpPr>
            <p:sp>
              <p:nvSpPr>
                <p:cNvPr id="655" name=""/>
                <p:cNvSpPr/>
                <p:nvPr/>
              </p:nvSpPr>
              <p:spPr>
                <a:xfrm flipH="1">
                  <a:off x="1036440" y="500724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16520" y="500724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3116520" y="249228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604960" y="451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"/>
          <p:cNvSpPr/>
          <p:nvPr/>
        </p:nvSpPr>
        <p:spPr>
          <a:xfrm>
            <a:off x="4643280" y="357336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x,y,z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3132000" y="4005360"/>
            <a:ext cx="1509840" cy="1008000"/>
            <a:chOff x="3132000" y="4005360"/>
            <a:chExt cx="1509840" cy="1008000"/>
          </a:xfrm>
        </p:grpSpPr>
        <p:sp>
          <p:nvSpPr>
            <p:cNvPr id="661" name=""/>
            <p:cNvSpPr/>
            <p:nvPr/>
          </p:nvSpPr>
          <p:spPr>
            <a:xfrm flipV="1">
              <a:off x="3132000" y="4076640"/>
              <a:ext cx="1440000" cy="936720"/>
            </a:xfrm>
            <a:prstGeom prst="line">
              <a:avLst/>
            </a:prstGeom>
            <a:ln w="414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00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6144480" y="4243320"/>
            <a:ext cx="117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15000" y="260280"/>
            <a:ext cx="783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2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na površi čija je jedna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09080" y="765000"/>
            <a:ext cx="5943600" cy="4176720"/>
            <a:chOff x="109080" y="765000"/>
            <a:chExt cx="5943600" cy="4176720"/>
          </a:xfrm>
        </p:grpSpPr>
        <p:grpSp>
          <p:nvGrpSpPr>
            <p:cNvPr id="666" name=""/>
            <p:cNvGrpSpPr/>
            <p:nvPr/>
          </p:nvGrpSpPr>
          <p:grpSpPr>
            <a:xfrm>
              <a:off x="109080" y="765000"/>
              <a:ext cx="5943600" cy="4176720"/>
              <a:chOff x="109080" y="765000"/>
              <a:chExt cx="5943600" cy="417672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109080" y="765000"/>
                <a:ext cx="5278320" cy="4176720"/>
                <a:chOff x="109080" y="765000"/>
                <a:chExt cx="5278320" cy="417672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109080" y="414324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025240" y="386064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006280" y="76500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1" name=""/>
                <p:cNvGrpSpPr/>
                <p:nvPr/>
              </p:nvGrpSpPr>
              <p:grpSpPr>
                <a:xfrm>
                  <a:off x="269640" y="980640"/>
                  <a:ext cx="4969800" cy="3961080"/>
                  <a:chOff x="269640" y="980640"/>
                  <a:chExt cx="4969800" cy="3961080"/>
                </a:xfrm>
              </p:grpSpPr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269640" y="980640"/>
                    <a:ext cx="4969800" cy="3961080"/>
                    <a:chOff x="269640" y="980640"/>
                    <a:chExt cx="4969800" cy="396108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flipH="1">
                      <a:off x="269640" y="3495600"/>
                      <a:ext cx="207936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2349000" y="3495600"/>
                      <a:ext cx="289044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V="1">
                      <a:off x="2349000" y="980640"/>
                      <a:ext cx="1080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6" name=""/>
                  <p:cNvSpPr/>
                  <p:nvPr/>
                </p:nvSpPr>
                <p:spPr>
                  <a:xfrm>
                    <a:off x="1837080" y="299844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677" name=""/>
              <p:cNvGraphicFramePr/>
              <p:nvPr/>
            </p:nvGraphicFramePr>
            <p:xfrm>
              <a:off x="2076120" y="1412640"/>
              <a:ext cx="397656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76120" y="1412640"/>
                        <a:ext cx="397656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79" name=""/>
            <p:cNvSpPr/>
            <p:nvPr/>
          </p:nvSpPr>
          <p:spPr>
            <a:xfrm>
              <a:off x="4071240" y="1414440"/>
              <a:ext cx="175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P(x,y,z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6084720" y="836640"/>
                <a:ext cx="26989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y</m:t>
                    </m:r>
                    <m:r>
                      <m:t xml:space="preserve">=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076720" y="4292640"/>
                <a:ext cx="330516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1836720" y="479736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Iz jednačine povr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46480" y="2781360"/>
            <a:ext cx="409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=3   (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6680" y="5445000"/>
            <a:ext cx="8328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1    (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: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3-1,     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"/>
          <p:cNvGraphicFramePr/>
          <p:nvPr/>
        </p:nvGraphicFramePr>
        <p:xfrm>
          <a:off x="2411280" y="1773360"/>
          <a:ext cx="2754360" cy="18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73360"/>
                    <a:ext cx="2754360" cy="18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>
            <a:off x="242640" y="189000"/>
            <a:ext cx="74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09080" y="765000"/>
            <a:ext cx="5279040" cy="4176720"/>
            <a:chOff x="109080" y="765000"/>
            <a:chExt cx="5279040" cy="4176720"/>
          </a:xfrm>
        </p:grpSpPr>
        <p:sp>
          <p:nvSpPr>
            <p:cNvPr id="689" name=""/>
            <p:cNvSpPr/>
            <p:nvPr/>
          </p:nvSpPr>
          <p:spPr>
            <a:xfrm>
              <a:off x="109080" y="4143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25960" y="3860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07000" y="765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269640" y="980640"/>
              <a:ext cx="4970880" cy="3961080"/>
              <a:chOff x="269640" y="980640"/>
              <a:chExt cx="4970880" cy="396108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269640" y="980640"/>
                <a:ext cx="4970880" cy="3961080"/>
                <a:chOff x="269640" y="980640"/>
                <a:chExt cx="4970880" cy="3961080"/>
              </a:xfrm>
            </p:grpSpPr>
            <p:sp>
              <p:nvSpPr>
                <p:cNvPr id="694" name=""/>
                <p:cNvSpPr/>
                <p:nvPr/>
              </p:nvSpPr>
              <p:spPr>
                <a:xfrm flipH="1">
                  <a:off x="269640" y="349560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349720" y="349560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2349720" y="98064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1838160" y="2998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5249520" y="76500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046840" y="2781360"/>
            <a:ext cx="4152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   (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62280" y="3898800"/>
            <a:ext cx="27770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-3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49520" y="1341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49520" y="191628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8944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53080" y="234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91780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3333600" y="2205000"/>
          <a:ext cx="158760" cy="1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33600" y="22050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3276720" y="3059280"/>
          <a:ext cx="158760" cy="15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3059280"/>
                    <a:ext cx="158760" cy="15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4197240" y="2770200"/>
          <a:ext cx="158760" cy="15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7240" y="27702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612720" y="4508640"/>
                <a:ext cx="5399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480960" y="5950080"/>
                <a:ext cx="53150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547560" y="5226120"/>
                <a:ext cx="5319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42280" y="189000"/>
            <a:ext cx="818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že se izabrati 6 nezavisnih parametara i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ledeći na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440" y="1917720"/>
            <a:ext cx="4684320" cy="3671280"/>
            <a:chOff x="1440" y="1917720"/>
            <a:chExt cx="4684320" cy="3671280"/>
          </a:xfrm>
        </p:grpSpPr>
        <p:sp>
          <p:nvSpPr>
            <p:cNvPr id="717" name=""/>
            <p:cNvSpPr/>
            <p:nvPr/>
          </p:nvSpPr>
          <p:spPr>
            <a:xfrm>
              <a:off x="1440" y="48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23600" y="46389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69680" y="19177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142200" y="2107440"/>
              <a:ext cx="4369320" cy="3481560"/>
              <a:chOff x="142200" y="2107440"/>
              <a:chExt cx="4369320" cy="348156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42200" y="2107440"/>
                <a:ext cx="4369320" cy="3481560"/>
                <a:chOff x="142200" y="2107440"/>
                <a:chExt cx="4369320" cy="3481560"/>
              </a:xfrm>
            </p:grpSpPr>
            <p:sp>
              <p:nvSpPr>
                <p:cNvPr id="722" name=""/>
                <p:cNvSpPr/>
                <p:nvPr/>
              </p:nvSpPr>
              <p:spPr>
                <a:xfrm flipH="1">
                  <a:off x="142200" y="431784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970280" y="431784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1970280" y="210744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"/>
              <p:cNvSpPr/>
              <p:nvPr/>
            </p:nvSpPr>
            <p:spPr>
              <a:xfrm>
                <a:off x="1522080" y="38808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"/>
          <p:cNvSpPr/>
          <p:nvPr/>
        </p:nvSpPr>
        <p:spPr>
          <a:xfrm>
            <a:off x="3017520" y="1557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670160" y="60339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835280" y="2205000"/>
            <a:ext cx="2089080" cy="1552680"/>
            <a:chOff x="1835280" y="2205000"/>
            <a:chExt cx="2089080" cy="1552680"/>
          </a:xfrm>
        </p:grpSpPr>
        <p:graphicFrame>
          <p:nvGraphicFramePr>
            <p:cNvPr id="729" name=""/>
            <p:cNvGraphicFramePr/>
            <p:nvPr/>
          </p:nvGraphicFramePr>
          <p:xfrm>
            <a:off x="1835280" y="2205000"/>
            <a:ext cx="2089080" cy="15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2205000"/>
                      <a:ext cx="2089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1" name=""/>
            <p:cNvGrpSpPr/>
            <p:nvPr/>
          </p:nvGrpSpPr>
          <p:grpSpPr>
            <a:xfrm>
              <a:off x="2773800" y="2925720"/>
              <a:ext cx="502920" cy="585720"/>
              <a:chOff x="2773800" y="2925720"/>
              <a:chExt cx="502920" cy="585720"/>
            </a:xfrm>
          </p:grpSpPr>
          <p:sp>
            <p:nvSpPr>
              <p:cNvPr id="732" name=""/>
              <p:cNvSpPr/>
              <p:nvPr/>
            </p:nvSpPr>
            <p:spPr>
              <a:xfrm>
                <a:off x="2773800" y="292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33" name=""/>
              <p:cNvGraphicFramePr/>
              <p:nvPr/>
            </p:nvGraphicFramePr>
            <p:xfrm>
              <a:off x="3117960" y="3357360"/>
              <a:ext cx="158760" cy="154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117960" y="3357360"/>
                        <a:ext cx="158760" cy="15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735" name=""/>
          <p:cNvGraphicFramePr/>
          <p:nvPr/>
        </p:nvGraphicFramePr>
        <p:xfrm>
          <a:off x="5140440" y="2131920"/>
          <a:ext cx="1584360" cy="210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0440" y="2131920"/>
                    <a:ext cx="158436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7" name=""/>
          <p:cNvGrpSpPr/>
          <p:nvPr/>
        </p:nvGrpSpPr>
        <p:grpSpPr>
          <a:xfrm>
            <a:off x="4563720" y="1242720"/>
            <a:ext cx="4368960" cy="3481200"/>
            <a:chOff x="4563720" y="1242720"/>
            <a:chExt cx="4368960" cy="3481200"/>
          </a:xfrm>
        </p:grpSpPr>
        <p:grpSp>
          <p:nvGrpSpPr>
            <p:cNvPr id="738" name=""/>
            <p:cNvGrpSpPr/>
            <p:nvPr/>
          </p:nvGrpSpPr>
          <p:grpSpPr>
            <a:xfrm>
              <a:off x="4563720" y="1242720"/>
              <a:ext cx="4368960" cy="3481200"/>
              <a:chOff x="4563720" y="1242720"/>
              <a:chExt cx="4368960" cy="3481200"/>
            </a:xfrm>
          </p:grpSpPr>
          <p:sp>
            <p:nvSpPr>
              <p:cNvPr id="739" name=""/>
              <p:cNvSpPr/>
              <p:nvPr/>
            </p:nvSpPr>
            <p:spPr>
              <a:xfrm flipH="1">
                <a:off x="4563720" y="3453120"/>
                <a:ext cx="1827720" cy="1270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391800" y="3453120"/>
                <a:ext cx="2540880" cy="9889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391800" y="1242720"/>
                <a:ext cx="9720" cy="22100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5942520" y="3016080"/>
              <a:ext cx="1839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934240" y="2924280"/>
            <a:ext cx="502920" cy="585720"/>
            <a:chOff x="5934240" y="2924280"/>
            <a:chExt cx="502920" cy="585720"/>
          </a:xfrm>
        </p:grpSpPr>
        <p:sp>
          <p:nvSpPr>
            <p:cNvPr id="744" name=""/>
            <p:cNvSpPr/>
            <p:nvPr/>
          </p:nvSpPr>
          <p:spPr>
            <a:xfrm>
              <a:off x="5934240" y="29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5" name=""/>
            <p:cNvGraphicFramePr/>
            <p:nvPr/>
          </p:nvGraphicFramePr>
          <p:xfrm>
            <a:off x="6278400" y="3355920"/>
            <a:ext cx="158760" cy="154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78400" y="3355920"/>
                      <a:ext cx="158760" cy="15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47" name=""/>
          <p:cNvGraphicFramePr/>
          <p:nvPr/>
        </p:nvGraphicFramePr>
        <p:xfrm>
          <a:off x="4853160" y="4005360"/>
          <a:ext cx="792000" cy="49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3160" y="4005360"/>
                    <a:ext cx="7920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"/>
          <p:cNvGraphicFramePr/>
          <p:nvPr/>
        </p:nvGraphicFramePr>
        <p:xfrm>
          <a:off x="7794720" y="3645000"/>
          <a:ext cx="514080" cy="79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94720" y="3645000"/>
                    <a:ext cx="514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076800" y="1638360"/>
          <a:ext cx="79236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76800" y="1638360"/>
                    <a:ext cx="7923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8094960" y="3355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0600" y="422100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655320" y="1268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9880" y="5445000"/>
            <a:ext cx="8113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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03640" y="3429000"/>
            <a:ext cx="3168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206064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Pod</a:t>
            </a: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 NEPREKIDNOM SREDINOM</a:t>
            </a:r>
            <a:br>
              <a:rPr sz="4000"/>
            </a:b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se podrazumeva takva sredina, kod koje svakoj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geometrijskoj tački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odgovara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materijalna tačka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sa pripadajućom masom, i pri tome je broj tačaka neogranič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59000" y="189000"/>
            <a:ext cx="821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4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Š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tap je kruto telo kod koga je jedna dimenz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uporedivo veća od druge dve, pa se svr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nijske 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00120" y="3645000"/>
            <a:ext cx="8004240" cy="2165760"/>
            <a:chOff x="600120" y="3645000"/>
            <a:chExt cx="8004240" cy="2165760"/>
          </a:xfrm>
        </p:grpSpPr>
        <p:sp>
          <p:nvSpPr>
            <p:cNvPr id="760" name=""/>
            <p:cNvSpPr/>
            <p:nvPr/>
          </p:nvSpPr>
          <p:spPr>
            <a:xfrm>
              <a:off x="673200" y="3716280"/>
              <a:ext cx="6337080" cy="144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320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0884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3200" y="4508640"/>
              <a:ext cx="63356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600120" y="436572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865920" y="443700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82640" y="39337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0840" y="3645000"/>
              <a:ext cx="576360" cy="142920"/>
            </a:xfrm>
            <a:prstGeom prst="rect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585200" y="3933720"/>
              <a:ext cx="10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x </a:t>
              </a: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0156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2905200" y="5373720"/>
              <a:ext cx="504720" cy="360360"/>
              <a:chOff x="2905200" y="5373720"/>
              <a:chExt cx="504720" cy="360360"/>
            </a:xfrm>
          </p:grpSpPr>
          <p:grpSp>
            <p:nvGrpSpPr>
              <p:cNvPr id="771" name=""/>
              <p:cNvGrpSpPr/>
              <p:nvPr/>
            </p:nvGrpSpPr>
            <p:grpSpPr>
              <a:xfrm>
                <a:off x="2905200" y="5373720"/>
                <a:ext cx="288720" cy="360360"/>
                <a:chOff x="2905200" y="5373720"/>
                <a:chExt cx="288720" cy="36036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905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>
                  <a:off x="2905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3121200" y="5373720"/>
                <a:ext cx="288720" cy="360360"/>
                <a:chOff x="3121200" y="5373720"/>
                <a:chExt cx="288720" cy="36036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3121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>
                  <a:off x="3121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"/>
            <p:cNvSpPr/>
            <p:nvPr/>
          </p:nvSpPr>
          <p:spPr>
            <a:xfrm>
              <a:off x="3482640" y="522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0484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5208480" y="5373720"/>
              <a:ext cx="504720" cy="360360"/>
              <a:chOff x="5208480" y="5373720"/>
              <a:chExt cx="504720" cy="360360"/>
            </a:xfrm>
          </p:grpSpPr>
          <p:grpSp>
            <p:nvGrpSpPr>
              <p:cNvPr id="780" name=""/>
              <p:cNvGrpSpPr/>
              <p:nvPr/>
            </p:nvGrpSpPr>
            <p:grpSpPr>
              <a:xfrm>
                <a:off x="5208480" y="5373720"/>
                <a:ext cx="288720" cy="360360"/>
                <a:chOff x="5208480" y="5373720"/>
                <a:chExt cx="288720" cy="36036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208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5208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5424480" y="5373720"/>
                <a:ext cx="288720" cy="360360"/>
                <a:chOff x="5424480" y="5373720"/>
                <a:chExt cx="288720" cy="36036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424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>
                  <a:off x="5424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6" name=""/>
            <p:cNvSpPr/>
            <p:nvPr/>
          </p:nvSpPr>
          <p:spPr>
            <a:xfrm>
              <a:off x="5786280" y="5229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1836720" y="333360"/>
            <a:ext cx="4684320" cy="3671280"/>
            <a:chOff x="1836720" y="333360"/>
            <a:chExt cx="4684320" cy="3671280"/>
          </a:xfrm>
        </p:grpSpPr>
        <p:sp>
          <p:nvSpPr>
            <p:cNvPr id="788" name=""/>
            <p:cNvSpPr/>
            <p:nvPr/>
          </p:nvSpPr>
          <p:spPr>
            <a:xfrm>
              <a:off x="1836720" y="330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58880" y="3054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1977480" y="523080"/>
              <a:ext cx="4369320" cy="3481560"/>
              <a:chOff x="1977480" y="523080"/>
              <a:chExt cx="4369320" cy="348156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1977480" y="523080"/>
                <a:ext cx="4369320" cy="3481560"/>
                <a:chOff x="1977480" y="523080"/>
                <a:chExt cx="4369320" cy="3481560"/>
              </a:xfrm>
            </p:grpSpPr>
            <p:sp>
              <p:nvSpPr>
                <p:cNvPr id="793" name=""/>
                <p:cNvSpPr/>
                <p:nvPr/>
              </p:nvSpPr>
              <p:spPr>
                <a:xfrm flipH="1">
                  <a:off x="1977480" y="2733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805560" y="273348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V="1">
                  <a:off x="3805560" y="523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6" name=""/>
              <p:cNvSpPr/>
              <p:nvPr/>
            </p:nvSpPr>
            <p:spPr>
              <a:xfrm>
                <a:off x="3357360" y="2296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"/>
          <p:cNvGrpSpPr/>
          <p:nvPr/>
        </p:nvGrpSpPr>
        <p:grpSpPr>
          <a:xfrm>
            <a:off x="1906560" y="1182960"/>
            <a:ext cx="1267920" cy="1842840"/>
            <a:chOff x="1906560" y="1182960"/>
            <a:chExt cx="1267920" cy="1842840"/>
          </a:xfrm>
        </p:grpSpPr>
        <p:sp>
          <p:nvSpPr>
            <p:cNvPr id="798" name=""/>
            <p:cNvSpPr/>
            <p:nvPr/>
          </p:nvSpPr>
          <p:spPr>
            <a:xfrm flipV="1">
              <a:off x="1979280" y="134136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6560" y="285264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619800">
              <a:off x="2987280" y="1197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140508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5744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4295880" y="765000"/>
          <a:ext cx="2292120" cy="20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5880" y="765000"/>
                    <a:ext cx="229212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4213440" y="1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589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13440" y="76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356000" y="907920"/>
            <a:ext cx="2087640" cy="18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17800" y="126828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117080" y="13413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76080" y="4329000"/>
            <a:ext cx="765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a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 u prostoru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5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i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, potpuno slobo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 ima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459000" y="189000"/>
            <a:ext cx="855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Times New Roman"/>
              </a:rPr>
              <a:t>5</a:t>
            </a: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ruta plo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a sledećoj slici je prikazana ploča proizvolj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lika koja leži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Oy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 ima slobo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 u t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4360" y="2204640"/>
            <a:ext cx="3527280" cy="3384360"/>
            <a:chOff x="684360" y="2204640"/>
            <a:chExt cx="3527280" cy="3384360"/>
          </a:xfrm>
        </p:grpSpPr>
        <p:sp>
          <p:nvSpPr>
            <p:cNvPr id="814" name=""/>
            <p:cNvSpPr/>
            <p:nvPr/>
          </p:nvSpPr>
          <p:spPr>
            <a:xfrm>
              <a:off x="684360" y="537336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900000" y="220464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16" name=""/>
          <p:cNvGraphicFramePr/>
          <p:nvPr/>
        </p:nvGraphicFramePr>
        <p:xfrm>
          <a:off x="1116000" y="3033720"/>
          <a:ext cx="2784600" cy="18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33720"/>
                    <a:ext cx="27846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8" name=""/>
          <p:cNvGrpSpPr/>
          <p:nvPr/>
        </p:nvGrpSpPr>
        <p:grpSpPr>
          <a:xfrm>
            <a:off x="1870200" y="3372120"/>
            <a:ext cx="1361520" cy="1039680"/>
            <a:chOff x="1870200" y="3372120"/>
            <a:chExt cx="1361520" cy="1039680"/>
          </a:xfrm>
        </p:grpSpPr>
        <p:sp>
          <p:nvSpPr>
            <p:cNvPr id="819" name=""/>
            <p:cNvSpPr/>
            <p:nvPr/>
          </p:nvSpPr>
          <p:spPr>
            <a:xfrm flipH="1" flipV="1">
              <a:off x="1996200" y="3465000"/>
              <a:ext cx="1204920" cy="89460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614000">
              <a:off x="3097440" y="427644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7234400">
              <a:off x="1893240" y="338076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320508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478160" y="2962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6508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96720" y="220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70720" y="558972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9080" y="609300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1784520" y="5734080"/>
                <a:ext cx="8427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2628000" y="595008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411280" y="2355840"/>
                <a:ext cx="64818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7165080" y="328464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148360" y="4292640"/>
            <a:ext cx="345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-1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486160" y="335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333440" y="4365720"/>
            <a:ext cx="6120000" cy="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549440" y="1196640"/>
            <a:ext cx="0" cy="33843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23852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046160" y="119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981080" y="1759320"/>
            <a:ext cx="1267920" cy="1842840"/>
            <a:chOff x="1981080" y="1759320"/>
            <a:chExt cx="1267920" cy="1842840"/>
          </a:xfrm>
        </p:grpSpPr>
        <p:sp>
          <p:nvSpPr>
            <p:cNvPr id="839" name=""/>
            <p:cNvSpPr/>
            <p:nvPr/>
          </p:nvSpPr>
          <p:spPr>
            <a:xfrm flipV="1">
              <a:off x="2053800" y="191772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81080" y="3429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619800">
              <a:off x="3061800" y="177336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1693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0688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4284720" y="1557360"/>
          <a:ext cx="22921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57360"/>
                    <a:ext cx="22921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"/>
          <p:cNvSpPr/>
          <p:nvPr/>
        </p:nvSpPr>
        <p:spPr>
          <a:xfrm>
            <a:off x="4143600" y="105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51852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01524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357800" y="1700280"/>
            <a:ext cx="2087280" cy="180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592320" y="220500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51960" y="162864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17160" y="260280"/>
            <a:ext cx="65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172800" y="3070080"/>
            <a:ext cx="4684320" cy="3671280"/>
            <a:chOff x="172800" y="3070080"/>
            <a:chExt cx="4684320" cy="3671280"/>
          </a:xfrm>
        </p:grpSpPr>
        <p:sp>
          <p:nvSpPr>
            <p:cNvPr id="855" name=""/>
            <p:cNvSpPr/>
            <p:nvPr/>
          </p:nvSpPr>
          <p:spPr>
            <a:xfrm>
              <a:off x="172800" y="604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94960" y="5791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41040" y="3070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13560" y="3259800"/>
              <a:ext cx="4369320" cy="3481560"/>
              <a:chOff x="313560" y="3259800"/>
              <a:chExt cx="4369320" cy="348156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313560" y="3259800"/>
                <a:ext cx="4369320" cy="3481560"/>
                <a:chOff x="313560" y="3259800"/>
                <a:chExt cx="4369320" cy="3481560"/>
              </a:xfrm>
            </p:grpSpPr>
            <p:sp>
              <p:nvSpPr>
                <p:cNvPr id="860" name=""/>
                <p:cNvSpPr/>
                <p:nvPr/>
              </p:nvSpPr>
              <p:spPr>
                <a:xfrm flipH="1">
                  <a:off x="313560" y="54702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141640" y="547020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V="1">
                  <a:off x="2141640" y="32598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>
                <a:off x="1693440" y="50331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4" name=""/>
          <p:cNvGrpSpPr/>
          <p:nvPr/>
        </p:nvGrpSpPr>
        <p:grpSpPr>
          <a:xfrm>
            <a:off x="2627280" y="907920"/>
            <a:ext cx="5643720" cy="3819240"/>
            <a:chOff x="2627280" y="907920"/>
            <a:chExt cx="5643720" cy="3819240"/>
          </a:xfrm>
        </p:grpSpPr>
        <p:graphicFrame>
          <p:nvGraphicFramePr>
            <p:cNvPr id="865" name=""/>
            <p:cNvGraphicFramePr/>
            <p:nvPr/>
          </p:nvGraphicFramePr>
          <p:xfrm>
            <a:off x="4572000" y="3068280"/>
            <a:ext cx="3699000" cy="165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3068280"/>
                      <a:ext cx="3699000" cy="165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7" name=""/>
            <p:cNvGraphicFramePr/>
            <p:nvPr/>
          </p:nvGraphicFramePr>
          <p:xfrm>
            <a:off x="2627280" y="907920"/>
            <a:ext cx="21034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27280" y="907920"/>
                      <a:ext cx="21034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9" name=""/>
            <p:cNvGraphicFramePr/>
            <p:nvPr/>
          </p:nvGraphicFramePr>
          <p:xfrm>
            <a:off x="4500720" y="3139920"/>
            <a:ext cx="20448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00720" y="3139920"/>
                      <a:ext cx="20448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1" name=""/>
            <p:cNvSpPr/>
            <p:nvPr/>
          </p:nvSpPr>
          <p:spPr>
            <a:xfrm>
              <a:off x="4141800" y="328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3636720" y="836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452720" y="371628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07520" y="15606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94920" y="220500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205320" y="83664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275880" y="148428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49320" y="2133720"/>
            <a:ext cx="186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957440" y="2781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434200" y="5300640"/>
            <a:ext cx="33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317520" y="260280"/>
            <a:ext cx="59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403280" y="2781360"/>
            <a:ext cx="4707000" cy="2879640"/>
            <a:chOff x="1403280" y="2781360"/>
            <a:chExt cx="4707000" cy="2879640"/>
          </a:xfrm>
        </p:grpSpPr>
        <p:graphicFrame>
          <p:nvGraphicFramePr>
            <p:cNvPr id="884" name=""/>
            <p:cNvGraphicFramePr/>
            <p:nvPr/>
          </p:nvGraphicFramePr>
          <p:xfrm>
            <a:off x="2411280" y="2781360"/>
            <a:ext cx="3699000" cy="122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2781360"/>
                      <a:ext cx="3699000" cy="122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6" name=""/>
            <p:cNvGraphicFramePr/>
            <p:nvPr/>
          </p:nvGraphicFramePr>
          <p:xfrm>
            <a:off x="1403280" y="2781360"/>
            <a:ext cx="1654200" cy="28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03280" y="2781360"/>
                      <a:ext cx="1654200" cy="28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8" name=""/>
            <p:cNvGraphicFramePr/>
            <p:nvPr/>
          </p:nvGraphicFramePr>
          <p:xfrm>
            <a:off x="2340000" y="2924280"/>
            <a:ext cx="20484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40000" y="2924280"/>
                      <a:ext cx="20484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0" name=""/>
          <p:cNvSpPr/>
          <p:nvPr/>
        </p:nvSpPr>
        <p:spPr>
          <a:xfrm>
            <a:off x="2125440" y="22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412720" y="465300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004720" y="321300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20240" y="9810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635640" y="98100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781680" y="177336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707880" y="263700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97080" y="3573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434560" y="530064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6 – 2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41080" y="4581000"/>
            <a:ext cx="3598920" cy="1726920"/>
            <a:chOff x="541080" y="4581000"/>
            <a:chExt cx="3598920" cy="1726920"/>
          </a:xfrm>
        </p:grpSpPr>
        <p:sp>
          <p:nvSpPr>
            <p:cNvPr id="900" name=""/>
            <p:cNvSpPr/>
            <p:nvPr/>
          </p:nvSpPr>
          <p:spPr>
            <a:xfrm>
              <a:off x="757080" y="6152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900000" y="4581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20360" y="558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1080" y="48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17880" y="260280"/>
            <a:ext cx="65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Linijski nosač –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1680" y="6095880"/>
            <a:ext cx="641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3 = 0,    telo miru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73080" y="2552760"/>
            <a:ext cx="8170920" cy="126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1116000" y="981000"/>
            <a:ext cx="6480" cy="172728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8533800" y="184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85800" y="10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0" name=""/>
          <p:cNvGraphicFramePr/>
          <p:nvPr/>
        </p:nvGraphicFramePr>
        <p:xfrm>
          <a:off x="1116000" y="2421000"/>
          <a:ext cx="691200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21000"/>
                    <a:ext cx="691200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584000" cy="113184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4"/>
          <a:stretch/>
        </p:blipFill>
        <p:spPr>
          <a:xfrm>
            <a:off x="7164360" y="242100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469800" y="19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44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624920" y="1238040"/>
            <a:ext cx="1834920" cy="1286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5081760" y="1268280"/>
            <a:ext cx="511560" cy="648720"/>
            <a:chOff x="5081760" y="1268280"/>
            <a:chExt cx="511560" cy="648720"/>
          </a:xfrm>
        </p:grpSpPr>
        <p:sp>
          <p:nvSpPr>
            <p:cNvPr id="918" name=""/>
            <p:cNvSpPr/>
            <p:nvPr/>
          </p:nvSpPr>
          <p:spPr>
            <a:xfrm>
              <a:off x="5081760" y="12682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94160" y="1341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1469520" y="3789360"/>
            <a:ext cx="59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3 moguća tri kretanj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395360" y="4437000"/>
            <a:ext cx="710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  onemogućeno kretanje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u oba koordinatna pravca, i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pravcu ose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y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468360" y="2565360"/>
            <a:ext cx="8353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445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Ako se aksiomi mehanike primene na tela koja miruju, onda su t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. Pri tome se umesto drugog aksioma mehanike uvodi drugi aksiom statike i dodaju još dva aksioma statike A5 i A6, pri čemu ni redosled nije sasvim zadrz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395280" y="260280"/>
            <a:ext cx="83534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0"/>
            <a:ext cx="633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1125360"/>
            <a:ext cx="0" cy="25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170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2349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37180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11280" y="4437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1800" y="1413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5600" y="2133720"/>
            <a:ext cx="38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FLU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MEHANIKA FL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8680" y="5013360"/>
            <a:ext cx="485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DEFORMABILNO (ČVRS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(SOLID BO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OTPORNOST MATER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5084640"/>
            <a:ext cx="351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KR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1440" y="333216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2764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lobodno kruto telo ostaje u stanju mirovanja, ako na njega dejstvuju duž iste napadne linije dve sile jednakog intenziteta a suprotnih smerov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94920" y="3357720"/>
            <a:ext cx="360036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826560" y="5157720"/>
            <a:ext cx="10083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1763640" y="508464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508464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"/>
          <p:cNvSpPr/>
          <p:nvPr/>
        </p:nvSpPr>
        <p:spPr>
          <a:xfrm flipV="1">
            <a:off x="2195640" y="40053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2124000" y="47973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79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6" name=""/>
          <p:cNvGrpSpPr/>
          <p:nvPr/>
        </p:nvGrpSpPr>
        <p:grpSpPr>
          <a:xfrm>
            <a:off x="469800" y="5300640"/>
            <a:ext cx="548640" cy="675720"/>
            <a:chOff x="469800" y="5300640"/>
            <a:chExt cx="548640" cy="675720"/>
          </a:xfrm>
        </p:grpSpPr>
        <p:grpSp>
          <p:nvGrpSpPr>
            <p:cNvPr id="937" name=""/>
            <p:cNvGrpSpPr/>
            <p:nvPr/>
          </p:nvGrpSpPr>
          <p:grpSpPr>
            <a:xfrm>
              <a:off x="469800" y="5300640"/>
              <a:ext cx="452160" cy="581400"/>
              <a:chOff x="469800" y="5300640"/>
              <a:chExt cx="452160" cy="581400"/>
            </a:xfrm>
          </p:grpSpPr>
          <p:sp>
            <p:nvSpPr>
              <p:cNvPr id="938" name=""/>
              <p:cNvSpPr/>
              <p:nvPr/>
            </p:nvSpPr>
            <p:spPr>
              <a:xfrm>
                <a:off x="469800" y="530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4000" y="537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>
              <a:off x="685440" y="551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2702160" y="3429000"/>
            <a:ext cx="549000" cy="675720"/>
            <a:chOff x="2702160" y="3429000"/>
            <a:chExt cx="549000" cy="675720"/>
          </a:xfrm>
        </p:grpSpPr>
        <p:grpSp>
          <p:nvGrpSpPr>
            <p:cNvPr id="942" name=""/>
            <p:cNvGrpSpPr/>
            <p:nvPr/>
          </p:nvGrpSpPr>
          <p:grpSpPr>
            <a:xfrm>
              <a:off x="2702160" y="3429000"/>
              <a:ext cx="452160" cy="581400"/>
              <a:chOff x="2702160" y="3429000"/>
              <a:chExt cx="452160" cy="581400"/>
            </a:xfrm>
          </p:grpSpPr>
          <p:sp>
            <p:nvSpPr>
              <p:cNvPr id="943" name=""/>
              <p:cNvSpPr/>
              <p:nvPr/>
            </p:nvSpPr>
            <p:spPr>
              <a:xfrm>
                <a:off x="2702160" y="342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916360" y="3499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2918160" y="36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268280" y="4581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844640" y="4149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4717800" y="4869000"/>
            <a:ext cx="1556640" cy="675360"/>
            <a:chOff x="4717800" y="4869000"/>
            <a:chExt cx="1556640" cy="675360"/>
          </a:xfrm>
        </p:grpSpPr>
        <p:grpSp>
          <p:nvGrpSpPr>
            <p:cNvPr id="949" name=""/>
            <p:cNvGrpSpPr/>
            <p:nvPr/>
          </p:nvGrpSpPr>
          <p:grpSpPr>
            <a:xfrm>
              <a:off x="4717800" y="4869000"/>
              <a:ext cx="548640" cy="675360"/>
              <a:chOff x="4717800" y="4869000"/>
              <a:chExt cx="548640" cy="675360"/>
            </a:xfrm>
          </p:grpSpPr>
          <p:grpSp>
            <p:nvGrpSpPr>
              <p:cNvPr id="950" name=""/>
              <p:cNvGrpSpPr/>
              <p:nvPr/>
            </p:nvGrpSpPr>
            <p:grpSpPr>
              <a:xfrm>
                <a:off x="4717800" y="4869000"/>
                <a:ext cx="452160" cy="581400"/>
                <a:chOff x="4717800" y="4869000"/>
                <a:chExt cx="452160" cy="58140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4717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32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3" name=""/>
              <p:cNvSpPr/>
              <p:nvPr/>
            </p:nvSpPr>
            <p:spPr>
              <a:xfrm>
                <a:off x="4933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5725800" y="4869000"/>
              <a:ext cx="548640" cy="675360"/>
              <a:chOff x="5725800" y="4869000"/>
              <a:chExt cx="548640" cy="675360"/>
            </a:xfrm>
          </p:grpSpPr>
          <p:grpSp>
            <p:nvGrpSpPr>
              <p:cNvPr id="955" name=""/>
              <p:cNvGrpSpPr/>
              <p:nvPr/>
            </p:nvGrpSpPr>
            <p:grpSpPr>
              <a:xfrm>
                <a:off x="5725800" y="4869000"/>
                <a:ext cx="452160" cy="581400"/>
                <a:chOff x="5725800" y="4869000"/>
                <a:chExt cx="452160" cy="58140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5725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940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>
                <a:off x="5941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5222160" y="4869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2983320" y="580536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snovni uravnoteženi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nekog sistema sila na kruto telo neće se promeniti, ako se ovom sistemu doda ili oduzme uravnoteženi sistem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052360" y="5877000"/>
            <a:ext cx="1556640" cy="675720"/>
            <a:chOff x="2052360" y="5877000"/>
            <a:chExt cx="1556640" cy="675720"/>
          </a:xfrm>
        </p:grpSpPr>
        <p:grpSp>
          <p:nvGrpSpPr>
            <p:cNvPr id="963" name=""/>
            <p:cNvGrpSpPr/>
            <p:nvPr/>
          </p:nvGrpSpPr>
          <p:grpSpPr>
            <a:xfrm>
              <a:off x="2052360" y="5877000"/>
              <a:ext cx="548640" cy="675720"/>
              <a:chOff x="2052360" y="5877000"/>
              <a:chExt cx="548640" cy="67572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2052360" y="5877000"/>
                <a:ext cx="452160" cy="581400"/>
                <a:chOff x="2052360" y="5877000"/>
                <a:chExt cx="452160" cy="58140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2052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266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"/>
              <p:cNvSpPr/>
              <p:nvPr/>
            </p:nvSpPr>
            <p:spPr>
              <a:xfrm>
                <a:off x="2268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3060360" y="5877000"/>
              <a:ext cx="548640" cy="675720"/>
              <a:chOff x="3060360" y="5877000"/>
              <a:chExt cx="548640" cy="67572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3060360" y="5877000"/>
                <a:ext cx="452160" cy="581400"/>
                <a:chOff x="3060360" y="5877000"/>
                <a:chExt cx="452160" cy="5814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3060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3274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2" name=""/>
              <p:cNvSpPr/>
              <p:nvPr/>
            </p:nvSpPr>
            <p:spPr>
              <a:xfrm>
                <a:off x="3276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2556720" y="5877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571640" y="2924280"/>
            <a:ext cx="3600720" cy="3024000"/>
            <a:chOff x="4571640" y="2924280"/>
            <a:chExt cx="3600720" cy="3024000"/>
          </a:xfrm>
        </p:grpSpPr>
        <p:sp>
          <p:nvSpPr>
            <p:cNvPr id="975" name=""/>
            <p:cNvSpPr/>
            <p:nvPr/>
          </p:nvSpPr>
          <p:spPr>
            <a:xfrm>
              <a:off x="5119560" y="371772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571640" y="2924280"/>
              <a:ext cx="360036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5003280" y="472428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8" name=""/>
            <p:cNvGraphicFramePr/>
            <p:nvPr/>
          </p:nvGraphicFramePr>
          <p:xfrm>
            <a:off x="5940360" y="465120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403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0" name=""/>
            <p:cNvSpPr/>
            <p:nvPr/>
          </p:nvSpPr>
          <p:spPr>
            <a:xfrm flipV="1">
              <a:off x="6372360" y="3571920"/>
              <a:ext cx="1008000" cy="861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1" name=""/>
            <p:cNvGraphicFramePr/>
            <p:nvPr/>
          </p:nvGraphicFramePr>
          <p:xfrm>
            <a:off x="6300720" y="436392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00720" y="43639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83" name=""/>
            <p:cNvGrpSpPr/>
            <p:nvPr/>
          </p:nvGrpSpPr>
          <p:grpSpPr>
            <a:xfrm>
              <a:off x="4646520" y="4867200"/>
              <a:ext cx="548640" cy="675720"/>
              <a:chOff x="4646520" y="4867200"/>
              <a:chExt cx="548640" cy="675720"/>
            </a:xfrm>
          </p:grpSpPr>
          <p:grpSp>
            <p:nvGrpSpPr>
              <p:cNvPr id="984" name=""/>
              <p:cNvGrpSpPr/>
              <p:nvPr/>
            </p:nvGrpSpPr>
            <p:grpSpPr>
              <a:xfrm>
                <a:off x="4646520" y="4867200"/>
                <a:ext cx="452160" cy="581400"/>
                <a:chOff x="4646520" y="4867200"/>
                <a:chExt cx="452160" cy="5814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646520" y="48672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860720" y="49381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7" name=""/>
              <p:cNvSpPr/>
              <p:nvPr/>
            </p:nvSpPr>
            <p:spPr>
              <a:xfrm>
                <a:off x="4862160" y="508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6878880" y="2995560"/>
              <a:ext cx="549000" cy="675720"/>
              <a:chOff x="6878880" y="2995560"/>
              <a:chExt cx="549000" cy="675720"/>
            </a:xfrm>
          </p:grpSpPr>
          <p:grpSp>
            <p:nvGrpSpPr>
              <p:cNvPr id="989" name=""/>
              <p:cNvGrpSpPr/>
              <p:nvPr/>
            </p:nvGrpSpPr>
            <p:grpSpPr>
              <a:xfrm>
                <a:off x="6878880" y="2995560"/>
                <a:ext cx="452160" cy="581400"/>
                <a:chOff x="6878880" y="2995560"/>
                <a:chExt cx="452160" cy="5814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878880" y="29955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093080" y="30664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2" name=""/>
              <p:cNvSpPr/>
              <p:nvPr/>
            </p:nvSpPr>
            <p:spPr>
              <a:xfrm>
                <a:off x="7094880" y="3211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5445000" y="41479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21360" y="371628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020000" y="501012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6" name=""/>
            <p:cNvGraphicFramePr/>
            <p:nvPr/>
          </p:nvGraphicFramePr>
          <p:xfrm>
            <a:off x="6948360" y="4940280"/>
            <a:ext cx="13356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48360" y="49402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8" name=""/>
            <p:cNvGrpSpPr/>
            <p:nvPr/>
          </p:nvGrpSpPr>
          <p:grpSpPr>
            <a:xfrm>
              <a:off x="7597800" y="4795920"/>
              <a:ext cx="452160" cy="581400"/>
              <a:chOff x="7597800" y="4795920"/>
              <a:chExt cx="452160" cy="581400"/>
            </a:xfrm>
          </p:grpSpPr>
          <p:sp>
            <p:nvSpPr>
              <p:cNvPr id="999" name=""/>
              <p:cNvSpPr/>
              <p:nvPr/>
            </p:nvSpPr>
            <p:spPr>
              <a:xfrm>
                <a:off x="7597800" y="4795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12000" y="486684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6517800" y="4651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468360" y="3429000"/>
            <a:ext cx="3052800" cy="1885680"/>
            <a:chOff x="468360" y="3429000"/>
            <a:chExt cx="3052800" cy="1885680"/>
          </a:xfrm>
        </p:grpSpPr>
        <p:sp>
          <p:nvSpPr>
            <p:cNvPr id="1003" name=""/>
            <p:cNvSpPr/>
            <p:nvPr/>
          </p:nvSpPr>
          <p:spPr>
            <a:xfrm>
              <a:off x="468360" y="3429000"/>
              <a:ext cx="2362320" cy="18856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68800" y="472104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5" name=""/>
            <p:cNvGraphicFramePr/>
            <p:nvPr/>
          </p:nvGraphicFramePr>
          <p:xfrm>
            <a:off x="2297160" y="4651200"/>
            <a:ext cx="13356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971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07" name=""/>
            <p:cNvGrpSpPr/>
            <p:nvPr/>
          </p:nvGrpSpPr>
          <p:grpSpPr>
            <a:xfrm>
              <a:off x="2946600" y="4506840"/>
              <a:ext cx="452160" cy="581400"/>
              <a:chOff x="2946600" y="4506840"/>
              <a:chExt cx="452160" cy="581400"/>
            </a:xfrm>
          </p:grpSpPr>
          <p:sp>
            <p:nvSpPr>
              <p:cNvPr id="1008" name=""/>
              <p:cNvSpPr/>
              <p:nvPr/>
            </p:nvSpPr>
            <p:spPr>
              <a:xfrm>
                <a:off x="2946600" y="4506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160800" y="45777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1866600" y="43624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3851280" y="4076640"/>
            <a:ext cx="433440" cy="144360"/>
            <a:chOff x="3851280" y="4076640"/>
            <a:chExt cx="433440" cy="144360"/>
          </a:xfrm>
        </p:grpSpPr>
        <p:sp>
          <p:nvSpPr>
            <p:cNvPr id="1012" name=""/>
            <p:cNvSpPr/>
            <p:nvPr/>
          </p:nvSpPr>
          <p:spPr>
            <a:xfrm>
              <a:off x="3851280" y="4076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51280" y="4149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851280" y="42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Aksiom A3 uvodi silu kao klizeći vek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9815600">
            <a:off x="826560" y="1052280"/>
            <a:ext cx="312444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79000" y="90792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11780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539640" y="285264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1476360" y="27813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2" name=""/>
          <p:cNvGrpSpPr/>
          <p:nvPr/>
        </p:nvGrpSpPr>
        <p:grpSpPr>
          <a:xfrm>
            <a:off x="469800" y="2852640"/>
            <a:ext cx="452160" cy="581400"/>
            <a:chOff x="469800" y="2852640"/>
            <a:chExt cx="452160" cy="581400"/>
          </a:xfrm>
        </p:grpSpPr>
        <p:sp>
          <p:nvSpPr>
            <p:cNvPr id="1023" name=""/>
            <p:cNvSpPr/>
            <p:nvPr/>
          </p:nvSpPr>
          <p:spPr>
            <a:xfrm>
              <a:off x="46980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8400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1620360" y="27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3348000" y="2708280"/>
            <a:ext cx="433440" cy="144360"/>
            <a:chOff x="3348000" y="2708280"/>
            <a:chExt cx="433440" cy="144360"/>
          </a:xfrm>
        </p:grpSpPr>
        <p:sp>
          <p:nvSpPr>
            <p:cNvPr id="1027" name=""/>
            <p:cNvSpPr/>
            <p:nvPr/>
          </p:nvSpPr>
          <p:spPr>
            <a:xfrm>
              <a:off x="3348000" y="2708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48000" y="2781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48000" y="2852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661080" y="1557360"/>
            <a:ext cx="2275560" cy="675720"/>
            <a:chOff x="6661080" y="1557360"/>
            <a:chExt cx="2275560" cy="675720"/>
          </a:xfrm>
        </p:grpSpPr>
        <p:grpSp>
          <p:nvGrpSpPr>
            <p:cNvPr id="1031" name=""/>
            <p:cNvGrpSpPr/>
            <p:nvPr/>
          </p:nvGrpSpPr>
          <p:grpSpPr>
            <a:xfrm>
              <a:off x="7380000" y="1557360"/>
              <a:ext cx="1556640" cy="675720"/>
              <a:chOff x="7380000" y="1557360"/>
              <a:chExt cx="1556640" cy="67572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7380000" y="1557360"/>
                <a:ext cx="548640" cy="675720"/>
                <a:chOff x="7380000" y="1557360"/>
                <a:chExt cx="548640" cy="675720"/>
              </a:xfrm>
            </p:grpSpPr>
            <p:grpSp>
              <p:nvGrpSpPr>
                <p:cNvPr id="1033" name=""/>
                <p:cNvGrpSpPr/>
                <p:nvPr/>
              </p:nvGrpSpPr>
              <p:grpSpPr>
                <a:xfrm>
                  <a:off x="7380000" y="1557360"/>
                  <a:ext cx="452160" cy="581400"/>
                  <a:chOff x="7380000" y="1557360"/>
                  <a:chExt cx="452160" cy="5814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7380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7594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"/>
                <p:cNvSpPr/>
                <p:nvPr/>
              </p:nvSpPr>
              <p:spPr>
                <a:xfrm>
                  <a:off x="7595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8388000" y="1557360"/>
                <a:ext cx="548640" cy="675720"/>
                <a:chOff x="8388000" y="1557360"/>
                <a:chExt cx="548640" cy="675720"/>
              </a:xfrm>
            </p:grpSpPr>
            <p:grpSp>
              <p:nvGrpSpPr>
                <p:cNvPr id="1038" name=""/>
                <p:cNvGrpSpPr/>
                <p:nvPr/>
              </p:nvGrpSpPr>
              <p:grpSpPr>
                <a:xfrm>
                  <a:off x="8388000" y="1557360"/>
                  <a:ext cx="452160" cy="581400"/>
                  <a:chOff x="8388000" y="1557360"/>
                  <a:chExt cx="452160" cy="58140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8388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8602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1" name=""/>
                <p:cNvSpPr/>
                <p:nvPr/>
              </p:nvSpPr>
              <p:spPr>
                <a:xfrm>
                  <a:off x="8603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2" name=""/>
              <p:cNvSpPr/>
              <p:nvPr/>
            </p:nvSpPr>
            <p:spPr>
              <a:xfrm>
                <a:off x="7884360" y="1557360"/>
                <a:ext cx="65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661080" y="1557360"/>
              <a:ext cx="785880" cy="581400"/>
              <a:chOff x="6661080" y="1557360"/>
              <a:chExt cx="785880" cy="581400"/>
            </a:xfrm>
          </p:grpSpPr>
          <p:sp>
            <p:nvSpPr>
              <p:cNvPr id="1044" name=""/>
              <p:cNvSpPr/>
              <p:nvPr/>
            </p:nvSpPr>
            <p:spPr>
              <a:xfrm>
                <a:off x="6661080" y="1557360"/>
                <a:ext cx="785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875280" y="162828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"/>
          <p:cNvSpPr/>
          <p:nvPr/>
        </p:nvSpPr>
        <p:spPr>
          <a:xfrm rot="19815600">
            <a:off x="2843280" y="2781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295360" y="2637000"/>
            <a:ext cx="360072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13380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556000" y="458136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0" name=""/>
          <p:cNvGraphicFramePr/>
          <p:nvPr/>
        </p:nvGraphicFramePr>
        <p:xfrm>
          <a:off x="3492360" y="451008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510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2" name=""/>
          <p:cNvGrpSpPr/>
          <p:nvPr/>
        </p:nvGrpSpPr>
        <p:grpSpPr>
          <a:xfrm>
            <a:off x="2486160" y="4581360"/>
            <a:ext cx="452160" cy="581400"/>
            <a:chOff x="2486160" y="4581360"/>
            <a:chExt cx="452160" cy="581400"/>
          </a:xfrm>
        </p:grpSpPr>
        <p:sp>
          <p:nvSpPr>
            <p:cNvPr id="1053" name=""/>
            <p:cNvSpPr/>
            <p:nvPr/>
          </p:nvSpPr>
          <p:spPr>
            <a:xfrm>
              <a:off x="2486160" y="458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00360" y="4652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3636720" y="45100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211640" y="2349360"/>
            <a:ext cx="2134440" cy="1828080"/>
            <a:chOff x="4211640" y="2349360"/>
            <a:chExt cx="2134440" cy="1828080"/>
          </a:xfrm>
        </p:grpSpPr>
        <p:grpSp>
          <p:nvGrpSpPr>
            <p:cNvPr id="1057" name=""/>
            <p:cNvGrpSpPr/>
            <p:nvPr/>
          </p:nvGrpSpPr>
          <p:grpSpPr>
            <a:xfrm>
              <a:off x="4211640" y="2349360"/>
              <a:ext cx="2016720" cy="1730520"/>
              <a:chOff x="4211640" y="2349360"/>
              <a:chExt cx="2016720" cy="173052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5149440" y="2349360"/>
                <a:ext cx="1078920" cy="922320"/>
                <a:chOff x="5149440" y="2349360"/>
                <a:chExt cx="1078920" cy="922320"/>
              </a:xfrm>
            </p:grpSpPr>
            <p:sp>
              <p:nvSpPr>
                <p:cNvPr id="1059" name=""/>
                <p:cNvSpPr/>
                <p:nvPr/>
              </p:nvSpPr>
              <p:spPr>
                <a:xfrm flipV="1">
                  <a:off x="5220720" y="2349360"/>
                  <a:ext cx="1007640" cy="8618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0" name=""/>
                <p:cNvGraphicFramePr/>
                <p:nvPr/>
              </p:nvGraphicFramePr>
              <p:xfrm>
                <a:off x="5149440" y="3141360"/>
                <a:ext cx="133200" cy="1303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061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149440" y="3141360"/>
                          <a:ext cx="13320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62" name=""/>
              <p:cNvGrpSpPr/>
              <p:nvPr/>
            </p:nvGrpSpPr>
            <p:grpSpPr>
              <a:xfrm>
                <a:off x="4211640" y="3141720"/>
                <a:ext cx="1069200" cy="938160"/>
                <a:chOff x="4211640" y="3141720"/>
                <a:chExt cx="1069200" cy="938160"/>
              </a:xfrm>
            </p:grpSpPr>
            <p:sp>
              <p:nvSpPr>
                <p:cNvPr id="1063" name=""/>
                <p:cNvSpPr/>
                <p:nvPr/>
              </p:nvSpPr>
              <p:spPr>
                <a:xfrm flipH="1">
                  <a:off x="4211640" y="3214800"/>
                  <a:ext cx="1008000" cy="86508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4" name=""/>
                <p:cNvGraphicFramePr/>
                <p:nvPr/>
              </p:nvGraphicFramePr>
              <p:xfrm>
                <a:off x="5148000" y="3141720"/>
                <a:ext cx="132840" cy="1303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065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148000" y="3141720"/>
                          <a:ext cx="13284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066" name=""/>
            <p:cNvGrpSpPr/>
            <p:nvPr/>
          </p:nvGrpSpPr>
          <p:grpSpPr>
            <a:xfrm>
              <a:off x="4789440" y="3502080"/>
              <a:ext cx="549000" cy="675360"/>
              <a:chOff x="4789440" y="3502080"/>
              <a:chExt cx="549000" cy="675360"/>
            </a:xfrm>
          </p:grpSpPr>
          <p:grpSp>
            <p:nvGrpSpPr>
              <p:cNvPr id="1067" name=""/>
              <p:cNvGrpSpPr/>
              <p:nvPr/>
            </p:nvGrpSpPr>
            <p:grpSpPr>
              <a:xfrm>
                <a:off x="4789440" y="3502080"/>
                <a:ext cx="452160" cy="581400"/>
                <a:chOff x="4789440" y="3502080"/>
                <a:chExt cx="452160" cy="58140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4789440" y="350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003640" y="357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0" name=""/>
              <p:cNvSpPr/>
              <p:nvPr/>
            </p:nvSpPr>
            <p:spPr>
              <a:xfrm>
                <a:off x="5005440" y="3717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5797440" y="2636640"/>
              <a:ext cx="548640" cy="675720"/>
              <a:chOff x="5797440" y="2636640"/>
              <a:chExt cx="548640" cy="675720"/>
            </a:xfrm>
          </p:grpSpPr>
          <p:grpSp>
            <p:nvGrpSpPr>
              <p:cNvPr id="1072" name=""/>
              <p:cNvGrpSpPr/>
              <p:nvPr/>
            </p:nvGrpSpPr>
            <p:grpSpPr>
              <a:xfrm>
                <a:off x="5797440" y="2636640"/>
                <a:ext cx="452160" cy="581400"/>
                <a:chOff x="5797440" y="2636640"/>
                <a:chExt cx="452160" cy="58140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5797440" y="2636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011640" y="270756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5" name=""/>
              <p:cNvSpPr/>
              <p:nvPr/>
            </p:nvSpPr>
            <p:spPr>
              <a:xfrm>
                <a:off x="6013080" y="28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>
              <a:off x="4718160" y="2709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7" name=""/>
            <p:cNvGraphicFramePr/>
            <p:nvPr/>
          </p:nvGraphicFramePr>
          <p:xfrm>
            <a:off x="5148000" y="3141720"/>
            <a:ext cx="133560" cy="129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48000" y="314172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9" name=""/>
          <p:cNvSpPr/>
          <p:nvPr/>
        </p:nvSpPr>
        <p:spPr>
          <a:xfrm>
            <a:off x="2702160" y="98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3132000" y="1413000"/>
          <a:ext cx="13356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2000" y="14130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2" name=""/>
          <p:cNvGrpSpPr/>
          <p:nvPr/>
        </p:nvGrpSpPr>
        <p:grpSpPr>
          <a:xfrm>
            <a:off x="5940360" y="3905280"/>
            <a:ext cx="433440" cy="144360"/>
            <a:chOff x="5940360" y="3905280"/>
            <a:chExt cx="433440" cy="144360"/>
          </a:xfrm>
        </p:grpSpPr>
        <p:sp>
          <p:nvSpPr>
            <p:cNvPr id="1083" name=""/>
            <p:cNvSpPr/>
            <p:nvPr/>
          </p:nvSpPr>
          <p:spPr>
            <a:xfrm>
              <a:off x="5940360" y="3905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940360" y="3978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40360" y="4049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"/>
          <p:cNvSpPr/>
          <p:nvPr/>
        </p:nvSpPr>
        <p:spPr>
          <a:xfrm rot="19815600">
            <a:off x="5435640" y="3978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4887720" y="383364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726160" y="513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6084720" y="5707080"/>
          <a:ext cx="133560" cy="1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84720" y="5707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1" name=""/>
          <p:cNvGrpSpPr/>
          <p:nvPr/>
        </p:nvGrpSpPr>
        <p:grpSpPr>
          <a:xfrm>
            <a:off x="6803640" y="4338720"/>
            <a:ext cx="1070280" cy="938160"/>
            <a:chOff x="6803640" y="4338720"/>
            <a:chExt cx="1070280" cy="938160"/>
          </a:xfrm>
        </p:grpSpPr>
        <p:sp>
          <p:nvSpPr>
            <p:cNvPr id="1092" name=""/>
            <p:cNvSpPr/>
            <p:nvPr/>
          </p:nvSpPr>
          <p:spPr>
            <a:xfrm flipH="1">
              <a:off x="6803640" y="441180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3" name=""/>
            <p:cNvGraphicFramePr/>
            <p:nvPr/>
          </p:nvGraphicFramePr>
          <p:xfrm>
            <a:off x="7740720" y="4338720"/>
            <a:ext cx="133200" cy="130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9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740720" y="4338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95" name=""/>
          <p:cNvGrpSpPr/>
          <p:nvPr/>
        </p:nvGrpSpPr>
        <p:grpSpPr>
          <a:xfrm>
            <a:off x="7597800" y="4581360"/>
            <a:ext cx="1293840" cy="675720"/>
            <a:chOff x="7597800" y="4581360"/>
            <a:chExt cx="1293840" cy="675720"/>
          </a:xfrm>
        </p:grpSpPr>
        <p:sp>
          <p:nvSpPr>
            <p:cNvPr id="1096" name=""/>
            <p:cNvSpPr/>
            <p:nvPr/>
          </p:nvSpPr>
          <p:spPr>
            <a:xfrm>
              <a:off x="8102520" y="4606560"/>
              <a:ext cx="7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=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675640" y="4679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7597800" y="4581360"/>
              <a:ext cx="548640" cy="675720"/>
              <a:chOff x="7597800" y="4581360"/>
              <a:chExt cx="548640" cy="675720"/>
            </a:xfrm>
          </p:grpSpPr>
          <p:grpSp>
            <p:nvGrpSpPr>
              <p:cNvPr id="1099" name=""/>
              <p:cNvGrpSpPr/>
              <p:nvPr/>
            </p:nvGrpSpPr>
            <p:grpSpPr>
              <a:xfrm>
                <a:off x="7597800" y="4581360"/>
                <a:ext cx="452160" cy="581400"/>
                <a:chOff x="7597800" y="4581360"/>
                <a:chExt cx="452160" cy="58140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7597800" y="458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812000" y="4652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>
                <a:off x="7813440" y="479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3" name=""/>
          <p:cNvSpPr/>
          <p:nvPr/>
        </p:nvSpPr>
        <p:spPr>
          <a:xfrm>
            <a:off x="7310520" y="3906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4" name=""/>
          <p:cNvGraphicFramePr/>
          <p:nvPr/>
        </p:nvGraphicFramePr>
        <p:xfrm>
          <a:off x="7740720" y="4338720"/>
          <a:ext cx="133200" cy="12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338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54756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sistema od dve sile koje deluju u istoj tački krutog tela u različitim pravcima jednak je uticaju jedne sile koja deluje u istoj tački, a određena je dijagonalom paralelograma konstruisanog nad pravcima datih sila (rezultanta tog sistema sil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3708360" y="2997360"/>
            <a:ext cx="433440" cy="144360"/>
            <a:chOff x="3708360" y="2997360"/>
            <a:chExt cx="433440" cy="144360"/>
          </a:xfrm>
        </p:grpSpPr>
        <p:sp>
          <p:nvSpPr>
            <p:cNvPr id="1108" name=""/>
            <p:cNvSpPr/>
            <p:nvPr/>
          </p:nvSpPr>
          <p:spPr>
            <a:xfrm>
              <a:off x="3708360" y="2997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708360" y="30704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08360" y="3141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395280" y="11253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1187280" y="33192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1647720" y="9795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1576440" y="177156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6" name=""/>
          <p:cNvGrpSpPr/>
          <p:nvPr/>
        </p:nvGrpSpPr>
        <p:grpSpPr>
          <a:xfrm>
            <a:off x="2772000" y="2278080"/>
            <a:ext cx="549000" cy="675720"/>
            <a:chOff x="2772000" y="2278080"/>
            <a:chExt cx="549000" cy="675720"/>
          </a:xfrm>
        </p:grpSpPr>
        <p:grpSp>
          <p:nvGrpSpPr>
            <p:cNvPr id="1117" name=""/>
            <p:cNvGrpSpPr/>
            <p:nvPr/>
          </p:nvGrpSpPr>
          <p:grpSpPr>
            <a:xfrm>
              <a:off x="2772000" y="2278080"/>
              <a:ext cx="452160" cy="581400"/>
              <a:chOff x="2772000" y="2278080"/>
              <a:chExt cx="452160" cy="581400"/>
            </a:xfrm>
          </p:grpSpPr>
          <p:sp>
            <p:nvSpPr>
              <p:cNvPr id="1118" name=""/>
              <p:cNvSpPr/>
              <p:nvPr/>
            </p:nvSpPr>
            <p:spPr>
              <a:xfrm>
                <a:off x="2772000" y="227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986200" y="2349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2988000" y="24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154240" y="403200"/>
            <a:ext cx="548640" cy="675720"/>
            <a:chOff x="2154240" y="403200"/>
            <a:chExt cx="548640" cy="675720"/>
          </a:xfrm>
        </p:grpSpPr>
        <p:grpSp>
          <p:nvGrpSpPr>
            <p:cNvPr id="1122" name=""/>
            <p:cNvGrpSpPr/>
            <p:nvPr/>
          </p:nvGrpSpPr>
          <p:grpSpPr>
            <a:xfrm>
              <a:off x="2154240" y="403200"/>
              <a:ext cx="452160" cy="581400"/>
              <a:chOff x="2154240" y="403200"/>
              <a:chExt cx="452160" cy="581400"/>
            </a:xfrm>
          </p:grpSpPr>
          <p:sp>
            <p:nvSpPr>
              <p:cNvPr id="1123" name=""/>
              <p:cNvSpPr/>
              <p:nvPr/>
            </p:nvSpPr>
            <p:spPr>
              <a:xfrm>
                <a:off x="2154240" y="403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68440" y="474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2369880" y="61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7679520" y="2852640"/>
            <a:ext cx="609120" cy="648720"/>
            <a:chOff x="7679520" y="2852640"/>
            <a:chExt cx="609120" cy="648720"/>
          </a:xfrm>
        </p:grpSpPr>
        <p:sp>
          <p:nvSpPr>
            <p:cNvPr id="1127" name=""/>
            <p:cNvSpPr/>
            <p:nvPr/>
          </p:nvSpPr>
          <p:spPr>
            <a:xfrm>
              <a:off x="767952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8328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126000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826560" y="1701360"/>
            <a:ext cx="385956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19280" y="184644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284640"/>
            <a:ext cx="236196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5219640" y="249084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5680080" y="313812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5" name=""/>
          <p:cNvGraphicFramePr/>
          <p:nvPr/>
        </p:nvGraphicFramePr>
        <p:xfrm>
          <a:off x="5608800" y="39304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8800" y="39304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7" name=""/>
          <p:cNvGrpSpPr/>
          <p:nvPr/>
        </p:nvGrpSpPr>
        <p:grpSpPr>
          <a:xfrm>
            <a:off x="6086520" y="4221000"/>
            <a:ext cx="549000" cy="675720"/>
            <a:chOff x="6086520" y="4221000"/>
            <a:chExt cx="549000" cy="675720"/>
          </a:xfrm>
        </p:grpSpPr>
        <p:grpSp>
          <p:nvGrpSpPr>
            <p:cNvPr id="1138" name=""/>
            <p:cNvGrpSpPr/>
            <p:nvPr/>
          </p:nvGrpSpPr>
          <p:grpSpPr>
            <a:xfrm>
              <a:off x="6086520" y="4221000"/>
              <a:ext cx="452160" cy="581400"/>
              <a:chOff x="6086520" y="4221000"/>
              <a:chExt cx="452160" cy="581400"/>
            </a:xfrm>
          </p:grpSpPr>
          <p:sp>
            <p:nvSpPr>
              <p:cNvPr id="1139" name=""/>
              <p:cNvSpPr/>
              <p:nvPr/>
            </p:nvSpPr>
            <p:spPr>
              <a:xfrm>
                <a:off x="6086520" y="42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300720" y="4291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630252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186600" y="2562120"/>
            <a:ext cx="549000" cy="675720"/>
            <a:chOff x="6186600" y="2562120"/>
            <a:chExt cx="549000" cy="675720"/>
          </a:xfrm>
        </p:grpSpPr>
        <p:grpSp>
          <p:nvGrpSpPr>
            <p:cNvPr id="1143" name=""/>
            <p:cNvGrpSpPr/>
            <p:nvPr/>
          </p:nvGrpSpPr>
          <p:grpSpPr>
            <a:xfrm>
              <a:off x="6186600" y="2562120"/>
              <a:ext cx="452160" cy="581400"/>
              <a:chOff x="6186600" y="2562120"/>
              <a:chExt cx="452160" cy="581400"/>
            </a:xfrm>
          </p:grpSpPr>
          <p:sp>
            <p:nvSpPr>
              <p:cNvPr id="1144" name=""/>
              <p:cNvSpPr/>
              <p:nvPr/>
            </p:nvSpPr>
            <p:spPr>
              <a:xfrm>
                <a:off x="6186600" y="2562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400800" y="2633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6402600" y="277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5292360" y="3427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 flipV="1">
            <a:off x="4859280" y="386028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651640" y="400536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 flipV="1">
            <a:off x="5508720" y="292392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6372000" y="3284640"/>
            <a:ext cx="22604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651640" y="3499920"/>
            <a:ext cx="2736720" cy="5050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6168240" y="765000"/>
            <a:ext cx="2408040" cy="675720"/>
            <a:chOff x="6168240" y="765000"/>
            <a:chExt cx="2408040" cy="675720"/>
          </a:xfrm>
        </p:grpSpPr>
        <p:grpSp>
          <p:nvGrpSpPr>
            <p:cNvPr id="1154" name=""/>
            <p:cNvGrpSpPr/>
            <p:nvPr/>
          </p:nvGrpSpPr>
          <p:grpSpPr>
            <a:xfrm>
              <a:off x="7019640" y="765000"/>
              <a:ext cx="1556640" cy="675720"/>
              <a:chOff x="7019640" y="765000"/>
              <a:chExt cx="1556640" cy="675720"/>
            </a:xfrm>
          </p:grpSpPr>
          <p:grpSp>
            <p:nvGrpSpPr>
              <p:cNvPr id="1155" name=""/>
              <p:cNvGrpSpPr/>
              <p:nvPr/>
            </p:nvGrpSpPr>
            <p:grpSpPr>
              <a:xfrm>
                <a:off x="7019640" y="765000"/>
                <a:ext cx="548640" cy="675720"/>
                <a:chOff x="7019640" y="765000"/>
                <a:chExt cx="548640" cy="675720"/>
              </a:xfrm>
            </p:grpSpPr>
            <p:grpSp>
              <p:nvGrpSpPr>
                <p:cNvPr id="1156" name=""/>
                <p:cNvGrpSpPr/>
                <p:nvPr/>
              </p:nvGrpSpPr>
              <p:grpSpPr>
                <a:xfrm>
                  <a:off x="7019640" y="765000"/>
                  <a:ext cx="452160" cy="581400"/>
                  <a:chOff x="7019640" y="765000"/>
                  <a:chExt cx="452160" cy="58140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7019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233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9" name=""/>
                <p:cNvSpPr/>
                <p:nvPr/>
              </p:nvSpPr>
              <p:spPr>
                <a:xfrm>
                  <a:off x="7235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8027640" y="765000"/>
                <a:ext cx="548640" cy="675720"/>
                <a:chOff x="8027640" y="765000"/>
                <a:chExt cx="548640" cy="675720"/>
              </a:xfrm>
            </p:grpSpPr>
            <p:grpSp>
              <p:nvGrpSpPr>
                <p:cNvPr id="1161" name=""/>
                <p:cNvGrpSpPr/>
                <p:nvPr/>
              </p:nvGrpSpPr>
              <p:grpSpPr>
                <a:xfrm>
                  <a:off x="8027640" y="765000"/>
                  <a:ext cx="452160" cy="581400"/>
                  <a:chOff x="8027640" y="765000"/>
                  <a:chExt cx="452160" cy="58140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8027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8241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"/>
                <p:cNvSpPr/>
                <p:nvPr/>
              </p:nvSpPr>
              <p:spPr>
                <a:xfrm>
                  <a:off x="8243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7524360" y="765000"/>
                <a:ext cx="51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168240" y="765000"/>
              <a:ext cx="942840" cy="648720"/>
              <a:chOff x="6168240" y="765000"/>
              <a:chExt cx="942840" cy="648720"/>
            </a:xfrm>
          </p:grpSpPr>
          <p:sp>
            <p:nvSpPr>
              <p:cNvPr id="1167" name=""/>
              <p:cNvSpPr/>
              <p:nvPr/>
            </p:nvSpPr>
            <p:spPr>
              <a:xfrm>
                <a:off x="6168240" y="765000"/>
                <a:ext cx="942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372000" y="8359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2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50920" y="90792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5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 duž iste napadne linij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250920" y="126828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6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vezano (neslobodno) telo može se posmatrati kao slobodno, ako se veze uklone i njihov mehanički uticaj na telo zameni silama, tj. reakcijama veza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460800" y="-7920"/>
            <a:ext cx="8312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Veze ili prin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e ili prinude su tela koja posmatran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graničavaju ili oduzimaju slobodu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68360" y="2276640"/>
            <a:ext cx="8353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Podsećanje na A5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zajamni mehanički uticaji dvaju tela ispoljavaju se silama koje su jednakog pravca i intenziteta, a deluju u suprotnim smerov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sil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.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618560" y="5373720"/>
            <a:ext cx="566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0000"/>
                </a:solidFill>
                <a:uFillTx/>
                <a:latin typeface="Times New Roman"/>
              </a:rPr>
              <a:t>Šta je reakcija veze?</a:t>
            </a: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Određivanje reakcija veza predstavlja jedan od osnovnih zadataka statike.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akcija veze ima isti pravac, a suprotan smer od onog u kome veza ne dopušta pomeranje datom tel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539640" y="1052640"/>
            <a:ext cx="77454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Times New Roman"/>
              </a:rPr>
              <a:t>Ukle</a:t>
            </a: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šte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prostorni veza oduzima telu svih 6 stepeni slobode kretanja. Reakcija veze je sila 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nezavisne koordinate, i moment uklešt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ravanski, onda se može reći da veza oduzima telu sva 3 stepena slobode kretanja tela u rav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ŠTA JE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KRUT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TEL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KRUTO TEL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JE MODEL MATERIJALNE SREDINE KOJI NEPREKIDNO ISPUNJAVA ZAPREMINU TELA, A KOJA IMA OSOBINU DA SU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RASTOJANJ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IZMEĐU BILO KOG PARA MATERIJALNIH TAČAKA TE SREDIN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NEPROMENLJ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"/>
          <p:cNvGrpSpPr/>
          <p:nvPr/>
        </p:nvGrpSpPr>
        <p:grpSpPr>
          <a:xfrm>
            <a:off x="180720" y="2924280"/>
            <a:ext cx="4684320" cy="3671280"/>
            <a:chOff x="180720" y="2924280"/>
            <a:chExt cx="4684320" cy="3671280"/>
          </a:xfrm>
        </p:grpSpPr>
        <p:sp>
          <p:nvSpPr>
            <p:cNvPr id="1177" name=""/>
            <p:cNvSpPr/>
            <p:nvPr/>
          </p:nvSpPr>
          <p:spPr>
            <a:xfrm>
              <a:off x="180720" y="5893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502880" y="56455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48960" y="2924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321480" y="3114000"/>
              <a:ext cx="4369320" cy="3481560"/>
              <a:chOff x="321480" y="3114000"/>
              <a:chExt cx="4369320" cy="3481560"/>
            </a:xfrm>
          </p:grpSpPr>
          <p:grpSp>
            <p:nvGrpSpPr>
              <p:cNvPr id="1181" name=""/>
              <p:cNvGrpSpPr/>
              <p:nvPr/>
            </p:nvGrpSpPr>
            <p:grpSpPr>
              <a:xfrm>
                <a:off x="321480" y="3114000"/>
                <a:ext cx="4369320" cy="3481560"/>
                <a:chOff x="321480" y="3114000"/>
                <a:chExt cx="4369320" cy="3481560"/>
              </a:xfrm>
            </p:grpSpPr>
            <p:sp>
              <p:nvSpPr>
                <p:cNvPr id="1182" name=""/>
                <p:cNvSpPr/>
                <p:nvPr/>
              </p:nvSpPr>
              <p:spPr>
                <a:xfrm flipH="1">
                  <a:off x="321480" y="53244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149560" y="532440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V="1">
                  <a:off x="2149560" y="31140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5" name=""/>
              <p:cNvSpPr/>
              <p:nvPr/>
            </p:nvSpPr>
            <p:spPr>
              <a:xfrm>
                <a:off x="1701360" y="4887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6" name=""/>
          <p:cNvSpPr/>
          <p:nvPr/>
        </p:nvSpPr>
        <p:spPr>
          <a:xfrm>
            <a:off x="4464000" y="3168720"/>
            <a:ext cx="216000" cy="22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8856720" y="345600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191160" y="0"/>
            <a:ext cx="3224520" cy="648720"/>
            <a:chOff x="191160" y="0"/>
            <a:chExt cx="3224520" cy="648720"/>
          </a:xfrm>
        </p:grpSpPr>
        <p:grpSp>
          <p:nvGrpSpPr>
            <p:cNvPr id="1189" name=""/>
            <p:cNvGrpSpPr/>
            <p:nvPr/>
          </p:nvGrpSpPr>
          <p:grpSpPr>
            <a:xfrm>
              <a:off x="191160" y="0"/>
              <a:ext cx="609120" cy="648720"/>
              <a:chOff x="191160" y="0"/>
              <a:chExt cx="609120" cy="648720"/>
            </a:xfrm>
          </p:grpSpPr>
          <p:sp>
            <p:nvSpPr>
              <p:cNvPr id="1190" name=""/>
              <p:cNvSpPr/>
              <p:nvPr/>
            </p:nvSpPr>
            <p:spPr>
              <a:xfrm>
                <a:off x="191160" y="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4920" y="71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612360" y="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81440" y="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2700360" y="0"/>
            <a:ext cx="5619600" cy="5327640"/>
            <a:chOff x="2700360" y="0"/>
            <a:chExt cx="5619600" cy="5327640"/>
          </a:xfrm>
        </p:grpSpPr>
        <p:grpSp>
          <p:nvGrpSpPr>
            <p:cNvPr id="1195" name=""/>
            <p:cNvGrpSpPr/>
            <p:nvPr/>
          </p:nvGrpSpPr>
          <p:grpSpPr>
            <a:xfrm>
              <a:off x="4501800" y="0"/>
              <a:ext cx="3818160" cy="5327640"/>
              <a:chOff x="4501800" y="0"/>
              <a:chExt cx="3818160" cy="5327640"/>
            </a:xfrm>
          </p:grpSpPr>
          <p:sp>
            <p:nvSpPr>
              <p:cNvPr id="1196" name=""/>
              <p:cNvSpPr/>
              <p:nvPr/>
            </p:nvSpPr>
            <p:spPr>
              <a:xfrm flipV="1">
                <a:off x="5385240" y="1709640"/>
                <a:ext cx="2056680" cy="18223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7" name=""/>
              <p:cNvGrpSpPr/>
              <p:nvPr/>
            </p:nvGrpSpPr>
            <p:grpSpPr>
              <a:xfrm>
                <a:off x="4501800" y="0"/>
                <a:ext cx="3818160" cy="5327640"/>
                <a:chOff x="4501800" y="0"/>
                <a:chExt cx="3818160" cy="532764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7454880" y="1727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H="1">
                  <a:off x="7454520" y="1152720"/>
                  <a:ext cx="865080" cy="576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0" name=""/>
                <p:cNvGrpSpPr/>
                <p:nvPr/>
              </p:nvGrpSpPr>
              <p:grpSpPr>
                <a:xfrm>
                  <a:off x="4501800" y="0"/>
                  <a:ext cx="3818160" cy="5256360"/>
                  <a:chOff x="4501800" y="0"/>
                  <a:chExt cx="3818160" cy="5256360"/>
                </a:xfrm>
              </p:grpSpPr>
              <p:grpSp>
                <p:nvGrpSpPr>
                  <p:cNvPr id="1201" name=""/>
                  <p:cNvGrpSpPr/>
                  <p:nvPr/>
                </p:nvGrpSpPr>
                <p:grpSpPr>
                  <a:xfrm>
                    <a:off x="4502160" y="0"/>
                    <a:ext cx="3817440" cy="5256360"/>
                    <a:chOff x="4502160" y="0"/>
                    <a:chExt cx="3817440" cy="5256360"/>
                  </a:xfrm>
                </p:grpSpPr>
                <p:sp>
                  <p:nvSpPr>
                    <p:cNvPr id="1202" name=""/>
                    <p:cNvSpPr/>
                    <p:nvPr/>
                  </p:nvSpPr>
                  <p:spPr>
                    <a:xfrm flipH="1">
                      <a:off x="7454520" y="468000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>
                      <a:off x="4502160" y="50328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>
                      <a:off x="5367240" y="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5" name=""/>
                  <p:cNvGrpSpPr/>
                  <p:nvPr/>
                </p:nvGrpSpPr>
                <p:grpSpPr>
                  <a:xfrm>
                    <a:off x="4501800" y="0"/>
                    <a:ext cx="3818160" cy="5256360"/>
                    <a:chOff x="4501800" y="0"/>
                    <a:chExt cx="3818160" cy="5256360"/>
                  </a:xfrm>
                </p:grpSpPr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8318520" y="107964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4502160" y="57636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 flipH="1">
                      <a:off x="4501800" y="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5365800" y="0"/>
                      <a:ext cx="2952720" cy="11527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10" name=""/>
                    <p:cNvGrpSpPr/>
                    <p:nvPr/>
                  </p:nvGrpSpPr>
                  <p:grpSpPr>
                    <a:xfrm>
                      <a:off x="4503600" y="3527640"/>
                      <a:ext cx="2953080" cy="1728720"/>
                      <a:chOff x="4503600" y="3527640"/>
                      <a:chExt cx="2953080" cy="1728720"/>
                    </a:xfrm>
                  </p:grpSpPr>
                  <p:sp>
                    <p:nvSpPr>
                      <p:cNvPr id="1211" name=""/>
                      <p:cNvSpPr/>
                      <p:nvPr/>
                    </p:nvSpPr>
                    <p:spPr>
                      <a:xfrm>
                        <a:off x="4503600" y="4103640"/>
                        <a:ext cx="2953080" cy="115272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2" name=""/>
                      <p:cNvSpPr/>
                      <p:nvPr/>
                    </p:nvSpPr>
                    <p:spPr>
                      <a:xfrm flipH="1">
                        <a:off x="4503600" y="3527640"/>
                        <a:ext cx="865440" cy="576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5367240" y="352764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14" name=""/>
              <p:cNvGrpSpPr/>
              <p:nvPr/>
            </p:nvGrpSpPr>
            <p:grpSpPr>
              <a:xfrm>
                <a:off x="6312960" y="1584360"/>
                <a:ext cx="609120" cy="648720"/>
                <a:chOff x="6312960" y="1584360"/>
                <a:chExt cx="609120" cy="64872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6312960" y="158436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516720" y="1655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7" name=""/>
            <p:cNvGrpSpPr/>
            <p:nvPr/>
          </p:nvGrpSpPr>
          <p:grpSpPr>
            <a:xfrm>
              <a:off x="2700360" y="1368360"/>
              <a:ext cx="2665440" cy="3313080"/>
              <a:chOff x="2700360" y="1368360"/>
              <a:chExt cx="2665440" cy="33130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3180960" y="2133720"/>
                <a:ext cx="698760" cy="648720"/>
                <a:chOff x="3180960" y="2133720"/>
                <a:chExt cx="698760" cy="64872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3180960" y="2133720"/>
                  <a:ext cx="6987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384360" y="2204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2700360" y="1368360"/>
                <a:ext cx="2665440" cy="3313080"/>
                <a:chOff x="2700360" y="1368360"/>
                <a:chExt cx="2665440" cy="331308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4429440" y="316872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3" name=""/>
                <p:cNvGrpSpPr/>
                <p:nvPr/>
              </p:nvGrpSpPr>
              <p:grpSpPr>
                <a:xfrm>
                  <a:off x="3637080" y="1728720"/>
                  <a:ext cx="1728720" cy="2952720"/>
                  <a:chOff x="3637080" y="1728720"/>
                  <a:chExt cx="1728720" cy="295272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5364000" y="172872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flipH="1">
                    <a:off x="3637080" y="35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637080" y="288108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flipH="1">
                    <a:off x="3637080" y="17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2700360" y="1368360"/>
                  <a:ext cx="1728720" cy="2952720"/>
                  <a:chOff x="2700360" y="1368360"/>
                  <a:chExt cx="1728720" cy="295272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4427280" y="136836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H="1">
                    <a:off x="2700360" y="31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700360" y="252072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H="1">
                    <a:off x="2700360" y="13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3" name=""/>
                <p:cNvSpPr/>
                <p:nvPr/>
              </p:nvSpPr>
              <p:spPr>
                <a:xfrm>
                  <a:off x="4429440" y="136836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700360" y="432108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700360" y="252072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2750760" y="2554920"/>
                <a:ext cx="2608920" cy="964800"/>
                <a:chOff x="2750760" y="2554920"/>
                <a:chExt cx="2608920" cy="96480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2750760" y="2559240"/>
                  <a:ext cx="2608920" cy="9604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H="1" flipV="1">
                  <a:off x="3069360" y="2680200"/>
                  <a:ext cx="34092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096360" y="2692440"/>
                  <a:ext cx="241200" cy="209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H="1" flipV="1">
                  <a:off x="2761560" y="2554920"/>
                  <a:ext cx="34128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787480" y="2566800"/>
                  <a:ext cx="241560" cy="21024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42" name=""/>
          <p:cNvGrpSpPr/>
          <p:nvPr/>
        </p:nvGrpSpPr>
        <p:grpSpPr>
          <a:xfrm>
            <a:off x="263520" y="765000"/>
            <a:ext cx="3875040" cy="648720"/>
            <a:chOff x="263520" y="765000"/>
            <a:chExt cx="3875040" cy="648720"/>
          </a:xfrm>
        </p:grpSpPr>
        <p:grpSp>
          <p:nvGrpSpPr>
            <p:cNvPr id="1243" name=""/>
            <p:cNvGrpSpPr/>
            <p:nvPr/>
          </p:nvGrpSpPr>
          <p:grpSpPr>
            <a:xfrm>
              <a:off x="263520" y="765000"/>
              <a:ext cx="698760" cy="648720"/>
              <a:chOff x="263520" y="765000"/>
              <a:chExt cx="698760" cy="648720"/>
            </a:xfrm>
          </p:grpSpPr>
          <p:sp>
            <p:nvSpPr>
              <p:cNvPr id="1244" name=""/>
              <p:cNvSpPr/>
              <p:nvPr/>
            </p:nvSpPr>
            <p:spPr>
              <a:xfrm>
                <a:off x="263520" y="765000"/>
                <a:ext cx="698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66920" y="836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6" name=""/>
            <p:cNvSpPr/>
            <p:nvPr/>
          </p:nvSpPr>
          <p:spPr>
            <a:xfrm>
              <a:off x="684000" y="76500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176120" y="765000"/>
              <a:ext cx="2962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{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x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y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z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"/>
          <p:cNvSpPr/>
          <p:nvPr/>
        </p:nvSpPr>
        <p:spPr>
          <a:xfrm>
            <a:off x="5650200" y="5516640"/>
            <a:ext cx="338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storni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149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70160" y="90360"/>
            <a:ext cx="27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252360" y="2997360"/>
            <a:ext cx="4684320" cy="3671280"/>
            <a:chOff x="252360" y="2997360"/>
            <a:chExt cx="4684320" cy="3671280"/>
          </a:xfrm>
        </p:grpSpPr>
        <p:sp>
          <p:nvSpPr>
            <p:cNvPr id="1252" name=""/>
            <p:cNvSpPr/>
            <p:nvPr/>
          </p:nvSpPr>
          <p:spPr>
            <a:xfrm>
              <a:off x="252360" y="596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74520" y="5718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920600" y="2997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393120" y="3187080"/>
              <a:ext cx="4369320" cy="3481560"/>
              <a:chOff x="393120" y="3187080"/>
              <a:chExt cx="4369320" cy="3481560"/>
            </a:xfrm>
          </p:grpSpPr>
          <p:grpSp>
            <p:nvGrpSpPr>
              <p:cNvPr id="1256" name=""/>
              <p:cNvGrpSpPr/>
              <p:nvPr/>
            </p:nvGrpSpPr>
            <p:grpSpPr>
              <a:xfrm>
                <a:off x="393120" y="3187080"/>
                <a:ext cx="4369320" cy="3481560"/>
                <a:chOff x="393120" y="3187080"/>
                <a:chExt cx="4369320" cy="3481560"/>
              </a:xfrm>
            </p:grpSpPr>
            <p:sp>
              <p:nvSpPr>
                <p:cNvPr id="1257" name=""/>
                <p:cNvSpPr/>
                <p:nvPr/>
              </p:nvSpPr>
              <p:spPr>
                <a:xfrm flipH="1">
                  <a:off x="393120" y="5397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221200" y="539748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2221200" y="3187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"/>
              <p:cNvSpPr/>
              <p:nvPr/>
            </p:nvSpPr>
            <p:spPr>
              <a:xfrm>
                <a:off x="1773000" y="4960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1" name=""/>
          <p:cNvGrpSpPr/>
          <p:nvPr/>
        </p:nvGrpSpPr>
        <p:grpSpPr>
          <a:xfrm>
            <a:off x="1979640" y="3284640"/>
            <a:ext cx="3349440" cy="2843280"/>
            <a:chOff x="1979640" y="3284640"/>
            <a:chExt cx="3349440" cy="2843280"/>
          </a:xfrm>
        </p:grpSpPr>
        <p:graphicFrame>
          <p:nvGraphicFramePr>
            <p:cNvPr id="1262" name=""/>
            <p:cNvGraphicFramePr/>
            <p:nvPr/>
          </p:nvGraphicFramePr>
          <p:xfrm>
            <a:off x="1979640" y="3284640"/>
            <a:ext cx="3349440" cy="222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9640" y="3284640"/>
                      <a:ext cx="334944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4" name=""/>
            <p:cNvGrpSpPr/>
            <p:nvPr/>
          </p:nvGrpSpPr>
          <p:grpSpPr>
            <a:xfrm>
              <a:off x="3205080" y="4076640"/>
              <a:ext cx="1224000" cy="1152720"/>
              <a:chOff x="3205080" y="4076640"/>
              <a:chExt cx="1224000" cy="1152720"/>
            </a:xfrm>
          </p:grpSpPr>
          <p:sp>
            <p:nvSpPr>
              <p:cNvPr id="1265" name=""/>
              <p:cNvSpPr/>
              <p:nvPr/>
            </p:nvSpPr>
            <p:spPr>
              <a:xfrm flipV="1">
                <a:off x="3205080" y="4076640"/>
                <a:ext cx="287280" cy="1152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3205080" y="4508640"/>
                <a:ext cx="1224000" cy="720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 flipV="1">
                <a:off x="3492360" y="4076640"/>
                <a:ext cx="936720" cy="43200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2701800" y="47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57800" y="3932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062160" y="3645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1" name=""/>
            <p:cNvGraphicFramePr/>
            <p:nvPr/>
          </p:nvGraphicFramePr>
          <p:xfrm>
            <a:off x="2700360" y="5156280"/>
            <a:ext cx="115236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0360" y="5156280"/>
                      <a:ext cx="115236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"/>
            <p:cNvGraphicFramePr/>
            <p:nvPr/>
          </p:nvGraphicFramePr>
          <p:xfrm>
            <a:off x="3421080" y="4003560"/>
            <a:ext cx="142920" cy="13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1080" y="400356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5" name=""/>
            <p:cNvGraphicFramePr/>
            <p:nvPr/>
          </p:nvGraphicFramePr>
          <p:xfrm>
            <a:off x="4356000" y="4437000"/>
            <a:ext cx="142920" cy="139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56000" y="443700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7" name=""/>
          <p:cNvGrpSpPr/>
          <p:nvPr/>
        </p:nvGrpSpPr>
        <p:grpSpPr>
          <a:xfrm>
            <a:off x="3419640" y="476280"/>
            <a:ext cx="5530320" cy="2168640"/>
            <a:chOff x="3419640" y="476280"/>
            <a:chExt cx="5530320" cy="2168640"/>
          </a:xfrm>
        </p:grpSpPr>
        <mc:AlternateContent>
          <mc:Choice xmlns:a14="http://schemas.microsoft.com/office/drawing/2010/main" Requires="a14">
            <p:sp>
              <p:nvSpPr>
                <p:cNvPr id="1278" name=""/>
                <p:cNvSpPr txBox="1"/>
                <p:nvPr/>
              </p:nvSpPr>
              <p:spPr>
                <a:xfrm>
                  <a:off x="3551040" y="476280"/>
                  <a:ext cx="5398920" cy="7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9" name=""/>
                <p:cNvSpPr txBox="1"/>
                <p:nvPr/>
              </p:nvSpPr>
              <p:spPr>
                <a:xfrm>
                  <a:off x="3419640" y="1917720"/>
                  <a:ext cx="531468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0" name=""/>
                <p:cNvSpPr txBox="1"/>
                <p:nvPr/>
              </p:nvSpPr>
              <p:spPr>
                <a:xfrm>
                  <a:off x="3486240" y="1194120"/>
                  <a:ext cx="5319360" cy="72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1" name=""/>
          <p:cNvGrpSpPr/>
          <p:nvPr/>
        </p:nvGrpSpPr>
        <p:grpSpPr>
          <a:xfrm>
            <a:off x="497880" y="836640"/>
            <a:ext cx="2453400" cy="1799640"/>
            <a:chOff x="497880" y="836640"/>
            <a:chExt cx="2453400" cy="1799640"/>
          </a:xfrm>
        </p:grpSpPr>
        <p:sp>
          <p:nvSpPr>
            <p:cNvPr id="1282" name=""/>
            <p:cNvSpPr/>
            <p:nvPr/>
          </p:nvSpPr>
          <p:spPr>
            <a:xfrm>
              <a:off x="497880" y="83664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7880" y="141300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7880" y="198756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540000" y="256536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5508720" y="2781360"/>
                <a:ext cx="187164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>
            <a:off x="7741440" y="321300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003640" y="5445000"/>
            <a:ext cx="3924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465480" y="90360"/>
            <a:ext cx="38016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oduzima telu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tepena slob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veze je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zavis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ordinate, tj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izvoljan pra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2950920" y="2276640"/>
            <a:ext cx="4684320" cy="3671280"/>
            <a:chOff x="2950920" y="2276640"/>
            <a:chExt cx="4684320" cy="3671280"/>
          </a:xfrm>
        </p:grpSpPr>
        <p:sp>
          <p:nvSpPr>
            <p:cNvPr id="1291" name=""/>
            <p:cNvSpPr/>
            <p:nvPr/>
          </p:nvSpPr>
          <p:spPr>
            <a:xfrm>
              <a:off x="2950920" y="524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73080" y="49978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61916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3091680" y="2466360"/>
              <a:ext cx="4369320" cy="3481560"/>
              <a:chOff x="3091680" y="2466360"/>
              <a:chExt cx="4369320" cy="3481560"/>
            </a:xfrm>
          </p:grpSpPr>
          <p:grpSp>
            <p:nvGrpSpPr>
              <p:cNvPr id="1295" name=""/>
              <p:cNvGrpSpPr/>
              <p:nvPr/>
            </p:nvGrpSpPr>
            <p:grpSpPr>
              <a:xfrm>
                <a:off x="3091680" y="2466360"/>
                <a:ext cx="4369320" cy="3481560"/>
                <a:chOff x="3091680" y="2466360"/>
                <a:chExt cx="4369320" cy="3481560"/>
              </a:xfrm>
            </p:grpSpPr>
            <p:sp>
              <p:nvSpPr>
                <p:cNvPr id="1296" name=""/>
                <p:cNvSpPr/>
                <p:nvPr/>
              </p:nvSpPr>
              <p:spPr>
                <a:xfrm flipH="1">
                  <a:off x="3091680" y="467676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919760" y="467676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V="1">
                  <a:off x="4919760" y="246636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9" name=""/>
              <p:cNvSpPr/>
              <p:nvPr/>
            </p:nvSpPr>
            <p:spPr>
              <a:xfrm>
                <a:off x="4471560" y="42397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300" name=""/>
          <p:cNvGraphicFramePr/>
          <p:nvPr/>
        </p:nvGraphicFramePr>
        <p:xfrm>
          <a:off x="4678200" y="2563920"/>
          <a:ext cx="334980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8200" y="2563920"/>
                    <a:ext cx="33498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2" name=""/>
          <p:cNvSpPr/>
          <p:nvPr/>
        </p:nvSpPr>
        <p:spPr>
          <a:xfrm>
            <a:off x="5400720" y="4003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3" name=""/>
          <p:cNvGraphicFramePr/>
          <p:nvPr/>
        </p:nvGraphicFramePr>
        <p:xfrm>
          <a:off x="5398920" y="4435560"/>
          <a:ext cx="1152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8920" y="4435560"/>
                    <a:ext cx="1152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5" name=""/>
          <p:cNvSpPr/>
          <p:nvPr/>
        </p:nvSpPr>
        <p:spPr>
          <a:xfrm flipV="1">
            <a:off x="5885280" y="2690640"/>
            <a:ext cx="2056680" cy="182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6671520" y="2781360"/>
            <a:ext cx="609120" cy="648720"/>
            <a:chOff x="6671520" y="2781360"/>
            <a:chExt cx="609120" cy="648720"/>
          </a:xfrm>
        </p:grpSpPr>
        <p:sp>
          <p:nvSpPr>
            <p:cNvPr id="1307" name=""/>
            <p:cNvSpPr/>
            <p:nvPr/>
          </p:nvSpPr>
          <p:spPr>
            <a:xfrm>
              <a:off x="667152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75280" y="2852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"/>
          <p:cNvSpPr/>
          <p:nvPr/>
        </p:nvSpPr>
        <p:spPr>
          <a:xfrm flipV="1">
            <a:off x="5867280" y="980640"/>
            <a:ext cx="0" cy="352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5001840" y="4508640"/>
            <a:ext cx="865080" cy="57600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867280" y="4508640"/>
            <a:ext cx="2952720" cy="1152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4516200" y="4869000"/>
            <a:ext cx="668520" cy="648720"/>
            <a:chOff x="4516200" y="4869000"/>
            <a:chExt cx="668520" cy="648720"/>
          </a:xfrm>
        </p:grpSpPr>
        <p:sp>
          <p:nvSpPr>
            <p:cNvPr id="1313" name=""/>
            <p:cNvSpPr/>
            <p:nvPr/>
          </p:nvSpPr>
          <p:spPr>
            <a:xfrm>
              <a:off x="4516200" y="486900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718160" y="4941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8116200" y="4797360"/>
            <a:ext cx="645480" cy="648720"/>
            <a:chOff x="8116200" y="4797360"/>
            <a:chExt cx="645480" cy="648720"/>
          </a:xfrm>
        </p:grpSpPr>
        <p:sp>
          <p:nvSpPr>
            <p:cNvPr id="1316" name=""/>
            <p:cNvSpPr/>
            <p:nvPr/>
          </p:nvSpPr>
          <p:spPr>
            <a:xfrm>
              <a:off x="8116200" y="479736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318520" y="487008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5882400" y="1197000"/>
            <a:ext cx="645480" cy="648720"/>
            <a:chOff x="5882400" y="1197000"/>
            <a:chExt cx="645480" cy="648720"/>
          </a:xfrm>
        </p:grpSpPr>
        <p:sp>
          <p:nvSpPr>
            <p:cNvPr id="1319" name=""/>
            <p:cNvSpPr/>
            <p:nvPr/>
          </p:nvSpPr>
          <p:spPr>
            <a:xfrm>
              <a:off x="5882400" y="119700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084720" y="1269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5001840" y="981000"/>
            <a:ext cx="3818160" cy="5327640"/>
            <a:chOff x="5001840" y="981000"/>
            <a:chExt cx="3818160" cy="5327640"/>
          </a:xfrm>
        </p:grpSpPr>
        <p:sp>
          <p:nvSpPr>
            <p:cNvPr id="1322" name=""/>
            <p:cNvSpPr/>
            <p:nvPr/>
          </p:nvSpPr>
          <p:spPr>
            <a:xfrm>
              <a:off x="7954920" y="2708280"/>
              <a:ext cx="0" cy="360036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7954560" y="2133720"/>
              <a:ext cx="865080" cy="57600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5001840" y="981000"/>
              <a:ext cx="3818160" cy="5256360"/>
              <a:chOff x="5001840" y="981000"/>
              <a:chExt cx="3818160" cy="5256360"/>
            </a:xfrm>
          </p:grpSpPr>
          <p:grpSp>
            <p:nvGrpSpPr>
              <p:cNvPr id="1325" name=""/>
              <p:cNvGrpSpPr/>
              <p:nvPr/>
            </p:nvGrpSpPr>
            <p:grpSpPr>
              <a:xfrm>
                <a:off x="5002200" y="981000"/>
                <a:ext cx="3817440" cy="5256360"/>
                <a:chOff x="5002200" y="981000"/>
                <a:chExt cx="3817440" cy="5256360"/>
              </a:xfrm>
            </p:grpSpPr>
            <p:sp>
              <p:nvSpPr>
                <p:cNvPr id="1326" name=""/>
                <p:cNvSpPr/>
                <p:nvPr/>
              </p:nvSpPr>
              <p:spPr>
                <a:xfrm flipH="1">
                  <a:off x="7954560" y="566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5002200" y="1484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867280" y="98100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5001840" y="981000"/>
                <a:ext cx="3818160" cy="5256360"/>
                <a:chOff x="5001840" y="981000"/>
                <a:chExt cx="3818160" cy="52563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8818560" y="206064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02200" y="155736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5001840" y="98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865840" y="981000"/>
                  <a:ext cx="2952720" cy="115272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4" name=""/>
                <p:cNvGrpSpPr/>
                <p:nvPr/>
              </p:nvGrpSpPr>
              <p:grpSpPr>
                <a:xfrm>
                  <a:off x="5003640" y="4508640"/>
                  <a:ext cx="2953080" cy="1728720"/>
                  <a:chOff x="5003640" y="4508640"/>
                  <a:chExt cx="2953080" cy="172872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>
                    <a:off x="5003640" y="5084640"/>
                    <a:ext cx="2953080" cy="11527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flipH="1">
                    <a:off x="5003640" y="4508640"/>
                    <a:ext cx="865440" cy="576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7" name=""/>
                <p:cNvSpPr/>
                <p:nvPr/>
              </p:nvSpPr>
              <p:spPr>
                <a:xfrm>
                  <a:off x="5867280" y="450864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8" name=""/>
          <p:cNvGrpSpPr/>
          <p:nvPr/>
        </p:nvGrpSpPr>
        <p:grpSpPr>
          <a:xfrm>
            <a:off x="623160" y="6021360"/>
            <a:ext cx="3224520" cy="648720"/>
            <a:chOff x="623160" y="6021360"/>
            <a:chExt cx="3224520" cy="648720"/>
          </a:xfrm>
        </p:grpSpPr>
        <p:grpSp>
          <p:nvGrpSpPr>
            <p:cNvPr id="1339" name=""/>
            <p:cNvGrpSpPr/>
            <p:nvPr/>
          </p:nvGrpSpPr>
          <p:grpSpPr>
            <a:xfrm>
              <a:off x="623160" y="6021360"/>
              <a:ext cx="609120" cy="648720"/>
              <a:chOff x="623160" y="6021360"/>
              <a:chExt cx="609120" cy="648720"/>
            </a:xfrm>
          </p:grpSpPr>
          <p:sp>
            <p:nvSpPr>
              <p:cNvPr id="1340" name=""/>
              <p:cNvSpPr/>
              <p:nvPr/>
            </p:nvSpPr>
            <p:spPr>
              <a:xfrm>
                <a:off x="623160" y="60213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26920" y="609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1044360" y="602136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13440" y="602136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2" dur="3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3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132000" y="3500280"/>
            <a:ext cx="64800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2195280" y="3500280"/>
            <a:ext cx="936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3131640" y="350028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132000" y="1413000"/>
            <a:ext cx="0" cy="48956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469800" y="2637000"/>
            <a:ext cx="4684320" cy="3671280"/>
            <a:chOff x="469800" y="2637000"/>
            <a:chExt cx="4684320" cy="3671280"/>
          </a:xfrm>
        </p:grpSpPr>
        <p:sp>
          <p:nvSpPr>
            <p:cNvPr id="1349" name=""/>
            <p:cNvSpPr/>
            <p:nvPr/>
          </p:nvSpPr>
          <p:spPr>
            <a:xfrm>
              <a:off x="469800" y="560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791960" y="5358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38040" y="2637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610560" y="2826720"/>
              <a:ext cx="4369320" cy="3481560"/>
              <a:chOff x="610560" y="2826720"/>
              <a:chExt cx="4369320" cy="348156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610560" y="2826720"/>
                <a:ext cx="4369320" cy="3481560"/>
                <a:chOff x="610560" y="2826720"/>
                <a:chExt cx="4369320" cy="3481560"/>
              </a:xfrm>
            </p:grpSpPr>
            <p:sp>
              <p:nvSpPr>
                <p:cNvPr id="1354" name=""/>
                <p:cNvSpPr/>
                <p:nvPr/>
              </p:nvSpPr>
              <p:spPr>
                <a:xfrm flipH="1">
                  <a:off x="610560" y="5037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438640" y="503712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V="1">
                  <a:off x="2438640" y="2826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1990440" y="460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28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Cilindrično ležište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859280" y="620640"/>
            <a:ext cx="411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Ova veza između tela i nepokretne podloge oduzima priključnoj tački tela mogućnost kretanja u bilo kom pravcu koji je normalan na osu cilindra (tj. u ravni normalnoj na z os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2555640" y="3357720"/>
            <a:ext cx="1152720" cy="647640"/>
            <a:chOff x="2555640" y="3357720"/>
            <a:chExt cx="1152720" cy="647640"/>
          </a:xfrm>
        </p:grpSpPr>
        <p:grpSp>
          <p:nvGrpSpPr>
            <p:cNvPr id="1361" name=""/>
            <p:cNvGrpSpPr/>
            <p:nvPr/>
          </p:nvGrpSpPr>
          <p:grpSpPr>
            <a:xfrm>
              <a:off x="2555640" y="3357720"/>
              <a:ext cx="215640" cy="647640"/>
              <a:chOff x="2555640" y="3357720"/>
              <a:chExt cx="215640" cy="64764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2556000" y="3357720"/>
                <a:ext cx="215280" cy="647280"/>
                <a:chOff x="2556000" y="3357720"/>
                <a:chExt cx="215280" cy="64728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2556000" y="335772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556000" y="400500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V="1">
                  <a:off x="277128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 flipH="1">
                <a:off x="2555640" y="3357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2555640" y="3573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2555640" y="3789720"/>
                <a:ext cx="21564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3492360" y="3357720"/>
              <a:ext cx="216000" cy="647640"/>
              <a:chOff x="3492360" y="3357720"/>
              <a:chExt cx="216000" cy="64764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3492720" y="3357720"/>
                <a:ext cx="215640" cy="647280"/>
                <a:chOff x="3492720" y="3357720"/>
                <a:chExt cx="215640" cy="647280"/>
              </a:xfrm>
            </p:grpSpPr>
            <p:sp>
              <p:nvSpPr>
                <p:cNvPr id="1371" name=""/>
                <p:cNvSpPr/>
                <p:nvPr/>
              </p:nvSpPr>
              <p:spPr>
                <a:xfrm flipH="1">
                  <a:off x="3492720" y="335772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>
                  <a:off x="3492720" y="400500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V="1">
                  <a:off x="349272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"/>
              <p:cNvSpPr/>
              <p:nvPr/>
            </p:nvSpPr>
            <p:spPr>
              <a:xfrm>
                <a:off x="3492360" y="3357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492360" y="3573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492360" y="3789720"/>
                <a:ext cx="21600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7" name=""/>
          <p:cNvGrpSpPr/>
          <p:nvPr/>
        </p:nvGrpSpPr>
        <p:grpSpPr>
          <a:xfrm>
            <a:off x="2195280" y="3500280"/>
            <a:ext cx="2521080" cy="649440"/>
            <a:chOff x="2195280" y="3500280"/>
            <a:chExt cx="2521080" cy="649440"/>
          </a:xfrm>
        </p:grpSpPr>
        <p:sp>
          <p:nvSpPr>
            <p:cNvPr id="1378" name=""/>
            <p:cNvSpPr/>
            <p:nvPr/>
          </p:nvSpPr>
          <p:spPr>
            <a:xfrm flipH="1">
              <a:off x="2195280" y="3500280"/>
              <a:ext cx="93492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132000" y="3500280"/>
              <a:ext cx="158436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2843280" y="5300640"/>
            <a:ext cx="577800" cy="432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3779640" y="4148280"/>
            <a:ext cx="936360" cy="64908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H="1" flipV="1">
            <a:off x="2195280" y="414972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491840" y="3357720"/>
            <a:ext cx="3598200" cy="1080360"/>
            <a:chOff x="1491840" y="3357720"/>
            <a:chExt cx="3598200" cy="1080360"/>
          </a:xfrm>
        </p:grpSpPr>
        <p:grpSp>
          <p:nvGrpSpPr>
            <p:cNvPr id="1384" name=""/>
            <p:cNvGrpSpPr/>
            <p:nvPr/>
          </p:nvGrpSpPr>
          <p:grpSpPr>
            <a:xfrm>
              <a:off x="1491840" y="3789360"/>
              <a:ext cx="668520" cy="648720"/>
              <a:chOff x="1491840" y="3789360"/>
              <a:chExt cx="668520" cy="648720"/>
            </a:xfrm>
          </p:grpSpPr>
          <p:sp>
            <p:nvSpPr>
              <p:cNvPr id="1385" name=""/>
              <p:cNvSpPr/>
              <p:nvPr/>
            </p:nvSpPr>
            <p:spPr>
              <a:xfrm>
                <a:off x="1491840" y="3789360"/>
                <a:ext cx="668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693800" y="386208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4444560" y="3357720"/>
              <a:ext cx="645480" cy="648720"/>
              <a:chOff x="4444560" y="3357720"/>
              <a:chExt cx="645480" cy="648720"/>
            </a:xfrm>
          </p:grpSpPr>
          <p:sp>
            <p:nvSpPr>
              <p:cNvPr id="1388" name=""/>
              <p:cNvSpPr/>
              <p:nvPr/>
            </p:nvSpPr>
            <p:spPr>
              <a:xfrm>
                <a:off x="4444560" y="3357720"/>
                <a:ext cx="645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Y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646880" y="343044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0" name=""/>
          <p:cNvGrpSpPr/>
          <p:nvPr/>
        </p:nvGrpSpPr>
        <p:grpSpPr>
          <a:xfrm>
            <a:off x="3791880" y="4508640"/>
            <a:ext cx="609120" cy="648720"/>
            <a:chOff x="3791880" y="4508640"/>
            <a:chExt cx="609120" cy="648720"/>
          </a:xfrm>
        </p:grpSpPr>
        <p:sp>
          <p:nvSpPr>
            <p:cNvPr id="1391" name=""/>
            <p:cNvSpPr/>
            <p:nvPr/>
          </p:nvSpPr>
          <p:spPr>
            <a:xfrm>
              <a:off x="3791880" y="450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995640" y="45795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349416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3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4882680" y="0"/>
            <a:ext cx="426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imer oslob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đanja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sluč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cilindričnog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fernog lež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370044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/>
          <p:cNvPicPr/>
          <p:nvPr/>
        </p:nvPicPr>
        <p:blipFill>
          <a:blip r:embed="rId2"/>
          <a:stretch/>
        </p:blipFill>
        <p:spPr>
          <a:xfrm>
            <a:off x="2771640" y="3002040"/>
            <a:ext cx="637236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7" name=""/>
          <p:cNvGrpSpPr/>
          <p:nvPr/>
        </p:nvGrpSpPr>
        <p:grpSpPr>
          <a:xfrm>
            <a:off x="3419640" y="2492280"/>
            <a:ext cx="1512720" cy="3168720"/>
            <a:chOff x="3419640" y="2492280"/>
            <a:chExt cx="1512720" cy="3168720"/>
          </a:xfrm>
        </p:grpSpPr>
        <p:sp>
          <p:nvSpPr>
            <p:cNvPr id="1398" name=""/>
            <p:cNvSpPr/>
            <p:nvPr/>
          </p:nvSpPr>
          <p:spPr>
            <a:xfrm>
              <a:off x="4932360" y="2492280"/>
              <a:ext cx="0" cy="100800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19640" y="350028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419640" y="3500280"/>
              <a:ext cx="0" cy="1008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19640" y="450864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32360" y="4508640"/>
              <a:ext cx="0" cy="1152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/>
          <p:nvPr/>
        </p:nvSpPr>
        <p:spPr>
          <a:xfrm rot="227400">
            <a:off x="3492360" y="3644640"/>
            <a:ext cx="3533760" cy="860400"/>
          </a:xfrm>
          <a:prstGeom prst="rect">
            <a:avLst/>
          </a:prstGeom>
          <a:solidFill>
            <a:srgbClr val="64512e"/>
          </a:solidFill>
          <a:ln w="93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3204720" y="2430360"/>
            <a:ext cx="1727640" cy="3194280"/>
            <a:chOff x="3204720" y="2430360"/>
            <a:chExt cx="1727640" cy="3194280"/>
          </a:xfrm>
        </p:grpSpPr>
        <p:grpSp>
          <p:nvGrpSpPr>
            <p:cNvPr id="1405" name=""/>
            <p:cNvGrpSpPr/>
            <p:nvPr/>
          </p:nvGrpSpPr>
          <p:grpSpPr>
            <a:xfrm>
              <a:off x="3420720" y="2521080"/>
              <a:ext cx="1511280" cy="2996640"/>
              <a:chOff x="3420720" y="2521080"/>
              <a:chExt cx="1511280" cy="2996640"/>
            </a:xfrm>
          </p:grpSpPr>
          <p:sp>
            <p:nvSpPr>
              <p:cNvPr id="1406" name=""/>
              <p:cNvSpPr/>
              <p:nvPr/>
            </p:nvSpPr>
            <p:spPr>
              <a:xfrm>
                <a:off x="3420720" y="351972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420720" y="451908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420720" y="3519720"/>
                <a:ext cx="0" cy="99900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932000" y="2521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32000" y="4519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 flipH="1">
              <a:off x="3420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3636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3852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406836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4284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4500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4716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4716360" y="307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4716360" y="2852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4716360" y="26366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716360" y="243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420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3636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852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4068360" y="451944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4284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4500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4716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204720" y="350028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3204720" y="3716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3204720" y="3932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3204720" y="4148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3204720" y="4363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3204720" y="4579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320472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4716360" y="477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4716360" y="4986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4716360" y="5202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4716360" y="541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1440" y="3212640"/>
            <a:ext cx="3814920" cy="3384360"/>
            <a:chOff x="1440" y="3212640"/>
            <a:chExt cx="3814920" cy="3384360"/>
          </a:xfrm>
        </p:grpSpPr>
        <p:grpSp>
          <p:nvGrpSpPr>
            <p:cNvPr id="1442" name=""/>
            <p:cNvGrpSpPr/>
            <p:nvPr/>
          </p:nvGrpSpPr>
          <p:grpSpPr>
            <a:xfrm>
              <a:off x="289080" y="3212640"/>
              <a:ext cx="3527280" cy="3384360"/>
              <a:chOff x="289080" y="3212640"/>
              <a:chExt cx="3527280" cy="3384360"/>
            </a:xfrm>
          </p:grpSpPr>
          <p:sp>
            <p:nvSpPr>
              <p:cNvPr id="1443" name=""/>
              <p:cNvSpPr/>
              <p:nvPr/>
            </p:nvSpPr>
            <p:spPr>
              <a:xfrm>
                <a:off x="289080" y="6381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504720" y="3212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5" name=""/>
            <p:cNvSpPr/>
            <p:nvPr/>
          </p:nvSpPr>
          <p:spPr>
            <a:xfrm>
              <a:off x="31698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440" y="3213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7" name=""/>
          <p:cNvSpPr/>
          <p:nvPr/>
        </p:nvSpPr>
        <p:spPr>
          <a:xfrm>
            <a:off x="5003640" y="270828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4930560" y="4503960"/>
            <a:ext cx="12600" cy="203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515760" y="2126520"/>
            <a:ext cx="15120" cy="1438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828440" y="4397760"/>
            <a:ext cx="1634400" cy="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791440" y="206208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023440" y="508644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918800" y="371808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4" name=""/>
          <p:cNvGraphicFramePr/>
          <p:nvPr/>
        </p:nvGraphicFramePr>
        <p:xfrm>
          <a:off x="3780000" y="2997360"/>
          <a:ext cx="92052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997360"/>
                    <a:ext cx="92052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6" name=""/>
          <p:cNvSpPr/>
          <p:nvPr/>
        </p:nvSpPr>
        <p:spPr>
          <a:xfrm>
            <a:off x="3510720" y="4869000"/>
            <a:ext cx="79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1458" name=""/>
          <p:cNvSpPr/>
          <p:nvPr/>
        </p:nvSpPr>
        <p:spPr>
          <a:xfrm>
            <a:off x="3995640" y="62064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2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4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2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45080" y="4941360"/>
            <a:ext cx="3598920" cy="1726920"/>
            <a:chOff x="5545080" y="4941360"/>
            <a:chExt cx="3598920" cy="1726920"/>
          </a:xfrm>
        </p:grpSpPr>
        <p:sp>
          <p:nvSpPr>
            <p:cNvPr id="1461" name=""/>
            <p:cNvSpPr/>
            <p:nvPr/>
          </p:nvSpPr>
          <p:spPr>
            <a:xfrm>
              <a:off x="5761080" y="6513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5904000" y="4941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24360" y="594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545080" y="5230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317160" y="2390760"/>
            <a:ext cx="5222520" cy="4476600"/>
            <a:chOff x="317160" y="2390760"/>
            <a:chExt cx="5222520" cy="4476600"/>
          </a:xfrm>
        </p:grpSpPr>
        <p:grpSp>
          <p:nvGrpSpPr>
            <p:cNvPr id="1466" name=""/>
            <p:cNvGrpSpPr/>
            <p:nvPr/>
          </p:nvGrpSpPr>
          <p:grpSpPr>
            <a:xfrm>
              <a:off x="1908360" y="2822400"/>
              <a:ext cx="1512720" cy="3168720"/>
              <a:chOff x="1908360" y="2822400"/>
              <a:chExt cx="1512720" cy="3168720"/>
            </a:xfrm>
          </p:grpSpPr>
          <p:sp>
            <p:nvSpPr>
              <p:cNvPr id="1467" name=""/>
              <p:cNvSpPr/>
              <p:nvPr/>
            </p:nvSpPr>
            <p:spPr>
              <a:xfrm>
                <a:off x="3421080" y="2822400"/>
                <a:ext cx="0" cy="100800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1908360" y="383040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908360" y="3830400"/>
                <a:ext cx="0" cy="1008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908360" y="483876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421080" y="4838760"/>
                <a:ext cx="0" cy="1152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2" name=""/>
            <p:cNvSpPr/>
            <p:nvPr/>
          </p:nvSpPr>
          <p:spPr>
            <a:xfrm rot="227400">
              <a:off x="1981080" y="3974760"/>
              <a:ext cx="3533760" cy="860400"/>
            </a:xfrm>
            <a:prstGeom prst="rect">
              <a:avLst/>
            </a:prstGeom>
            <a:solidFill>
              <a:srgbClr val="64512e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65440" y="3038400"/>
              <a:ext cx="649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8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3419280" y="4834080"/>
              <a:ext cx="12600" cy="203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3401640" y="2463120"/>
              <a:ext cx="32760" cy="1361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17160" y="47278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648520" y="23907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512160" y="54165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7520" y="4048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80" name=""/>
            <p:cNvGraphicFramePr/>
            <p:nvPr/>
          </p:nvGraphicFramePr>
          <p:xfrm>
            <a:off x="2268720" y="3327480"/>
            <a:ext cx="920520" cy="208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8720" y="3327480"/>
                      <a:ext cx="920520" cy="208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2" name=""/>
            <p:cNvSpPr/>
            <p:nvPr/>
          </p:nvSpPr>
          <p:spPr>
            <a:xfrm>
              <a:off x="2071080" y="505440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4638240" y="260280"/>
            <a:ext cx="4254840" cy="2742120"/>
            <a:chOff x="4638240" y="260280"/>
            <a:chExt cx="4254840" cy="2742120"/>
          </a:xfrm>
        </p:grpSpPr>
        <p:sp>
          <p:nvSpPr>
            <p:cNvPr id="1484" name=""/>
            <p:cNvSpPr/>
            <p:nvPr/>
          </p:nvSpPr>
          <p:spPr>
            <a:xfrm flipV="1">
              <a:off x="6152040" y="615960"/>
              <a:ext cx="7560" cy="1159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494040" y="260280"/>
              <a:ext cx="233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=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2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 –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375880" y="33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084720" y="1628640"/>
              <a:ext cx="28083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38240" y="16624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28600" y="10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90" name=""/>
            <p:cNvGraphicFramePr/>
            <p:nvPr/>
          </p:nvGraphicFramePr>
          <p:xfrm>
            <a:off x="5724360" y="981000"/>
            <a:ext cx="687600" cy="155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981000"/>
                      <a:ext cx="687600" cy="15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2" name=""/>
            <p:cNvSpPr/>
            <p:nvPr/>
          </p:nvSpPr>
          <p:spPr>
            <a:xfrm>
              <a:off x="5022000" y="191628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8652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659280" y="2421000"/>
              <a:ext cx="203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Upro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šće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5" name=""/>
          <p:cNvSpPr/>
          <p:nvPr/>
        </p:nvSpPr>
        <p:spPr>
          <a:xfrm flipV="1">
            <a:off x="4284720" y="2852280"/>
            <a:ext cx="2087640" cy="792360"/>
          </a:xfrm>
          <a:prstGeom prst="line">
            <a:avLst/>
          </a:prstGeom>
          <a:ln w="572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165440" y="328464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5292720" y="299736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219640" y="450864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5148360" y="3787560"/>
            <a:ext cx="2520720" cy="6476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5148360" y="3571560"/>
            <a:ext cx="3240000" cy="86364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2195640" y="1968480"/>
            <a:ext cx="1584360" cy="1081080"/>
            <a:chOff x="2195640" y="1968480"/>
            <a:chExt cx="1584360" cy="1081080"/>
          </a:xfrm>
        </p:grpSpPr>
        <p:sp>
          <p:nvSpPr>
            <p:cNvPr id="1502" name=""/>
            <p:cNvSpPr/>
            <p:nvPr/>
          </p:nvSpPr>
          <p:spPr>
            <a:xfrm>
              <a:off x="2197440" y="1968480"/>
              <a:ext cx="158256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78000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9564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95640" y="3048120"/>
              <a:ext cx="158292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>
            <a:off x="317520" y="260280"/>
            <a:ext cx="59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7" name=""/>
          <p:cNvGraphicFramePr/>
          <p:nvPr/>
        </p:nvGraphicFramePr>
        <p:xfrm>
          <a:off x="2124000" y="2852640"/>
          <a:ext cx="532764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85264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9" name="" descr=""/>
          <p:cNvPicPr/>
          <p:nvPr/>
        </p:nvPicPr>
        <p:blipFill>
          <a:blip r:embed="rId3"/>
          <a:stretch/>
        </p:blipFill>
        <p:spPr>
          <a:xfrm>
            <a:off x="1330200" y="2852640"/>
            <a:ext cx="1584360" cy="1131840"/>
          </a:xfrm>
          <a:prstGeom prst="rect">
            <a:avLst/>
          </a:prstGeom>
          <a:ln w="0">
            <a:noFill/>
          </a:ln>
        </p:spPr>
      </p:pic>
      <p:grpSp>
        <p:nvGrpSpPr>
          <p:cNvPr id="1510" name=""/>
          <p:cNvGrpSpPr/>
          <p:nvPr/>
        </p:nvGrpSpPr>
        <p:grpSpPr>
          <a:xfrm>
            <a:off x="252360" y="3933360"/>
            <a:ext cx="3598920" cy="1726920"/>
            <a:chOff x="252360" y="3933360"/>
            <a:chExt cx="3598920" cy="1726920"/>
          </a:xfrm>
        </p:grpSpPr>
        <p:sp>
          <p:nvSpPr>
            <p:cNvPr id="1511" name=""/>
            <p:cNvSpPr/>
            <p:nvPr/>
          </p:nvSpPr>
          <p:spPr>
            <a:xfrm>
              <a:off x="468360" y="5505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611280" y="3933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131640" y="4941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52360" y="4222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5" name=""/>
          <p:cNvSpPr/>
          <p:nvPr/>
        </p:nvSpPr>
        <p:spPr>
          <a:xfrm flipV="1">
            <a:off x="2189880" y="191160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188800" y="3029400"/>
            <a:ext cx="1634400" cy="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331640" y="2565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43000" y="260280"/>
            <a:ext cx="609120" cy="648720"/>
            <a:chOff x="6543000" y="260280"/>
            <a:chExt cx="609120" cy="648720"/>
          </a:xfrm>
        </p:grpSpPr>
        <p:sp>
          <p:nvSpPr>
            <p:cNvPr id="1519" name=""/>
            <p:cNvSpPr/>
            <p:nvPr/>
          </p:nvSpPr>
          <p:spPr>
            <a:xfrm>
              <a:off x="6543000" y="260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746760" y="3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6964200" y="26028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7423560" y="260280"/>
            <a:ext cx="169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i="1" lang="sr-Latn-CS" sz="3200" spc="-1" strike="noStrike">
                <a:solidFill>
                  <a:srgbClr val="009900"/>
                </a:solidFill>
                <a:latin typeface="Times New Roman"/>
              </a:rPr>
              <a:t>; 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207160" y="1938600"/>
            <a:ext cx="1573560" cy="113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3358440" y="3284640"/>
            <a:ext cx="609120" cy="648720"/>
            <a:chOff x="3358440" y="3284640"/>
            <a:chExt cx="609120" cy="648720"/>
          </a:xfrm>
        </p:grpSpPr>
        <p:sp>
          <p:nvSpPr>
            <p:cNvPr id="1525" name=""/>
            <p:cNvSpPr/>
            <p:nvPr/>
          </p:nvSpPr>
          <p:spPr>
            <a:xfrm>
              <a:off x="335844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562200" y="33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1413360" y="1700280"/>
            <a:ext cx="586080" cy="648720"/>
            <a:chOff x="1413360" y="1700280"/>
            <a:chExt cx="586080" cy="648720"/>
          </a:xfrm>
        </p:grpSpPr>
        <p:sp>
          <p:nvSpPr>
            <p:cNvPr id="1528" name=""/>
            <p:cNvSpPr/>
            <p:nvPr/>
          </p:nvSpPr>
          <p:spPr>
            <a:xfrm>
              <a:off x="1413360" y="170028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19280" y="17730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790440" y="1484280"/>
            <a:ext cx="609120" cy="648720"/>
            <a:chOff x="3790440" y="1484280"/>
            <a:chExt cx="609120" cy="648720"/>
          </a:xfrm>
        </p:grpSpPr>
        <p:sp>
          <p:nvSpPr>
            <p:cNvPr id="1531" name=""/>
            <p:cNvSpPr/>
            <p:nvPr/>
          </p:nvSpPr>
          <p:spPr>
            <a:xfrm>
              <a:off x="3790440" y="1484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994200" y="15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3" name="" descr=""/>
          <p:cNvPicPr/>
          <p:nvPr/>
        </p:nvPicPr>
        <p:blipFill>
          <a:blip r:embed="rId4"/>
          <a:stretch/>
        </p:blipFill>
        <p:spPr>
          <a:xfrm>
            <a:off x="4284720" y="4363920"/>
            <a:ext cx="1584360" cy="113184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/>
          <p:nvPr/>
        </p:nvSpPr>
        <p:spPr>
          <a:xfrm>
            <a:off x="5219640" y="4508640"/>
            <a:ext cx="252108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7166520" y="3851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213440" y="400356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522960" y="5791320"/>
            <a:ext cx="558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guća je rotacija oko ose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949440" y="481968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04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2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 flipH="1">
            <a:off x="1042920" y="1628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0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1779480" cy="284040"/>
          </a:xfrm>
          <a:prstGeom prst="rect">
            <a:avLst/>
          </a:prstGeom>
          <a:ln w="0">
            <a:noFill/>
          </a:ln>
        </p:spPr>
      </p:pic>
      <p:sp>
        <p:nvSpPr>
          <p:cNvPr id="1541" name=""/>
          <p:cNvSpPr/>
          <p:nvPr/>
        </p:nvSpPr>
        <p:spPr>
          <a:xfrm>
            <a:off x="1042920" y="3068640"/>
            <a:ext cx="7272360" cy="1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3997440" y="333000"/>
            <a:ext cx="4174920" cy="1933920"/>
            <a:chOff x="3997440" y="333000"/>
            <a:chExt cx="4174920" cy="1933920"/>
          </a:xfrm>
        </p:grpSpPr>
        <p:sp>
          <p:nvSpPr>
            <p:cNvPr id="1543" name=""/>
            <p:cNvSpPr/>
            <p:nvPr/>
          </p:nvSpPr>
          <p:spPr>
            <a:xfrm flipV="1">
              <a:off x="4932360" y="333000"/>
              <a:ext cx="3240000" cy="863640"/>
            </a:xfrm>
            <a:prstGeom prst="line">
              <a:avLst/>
            </a:prstGeom>
            <a:ln w="381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3997440" y="612720"/>
              <a:ext cx="4174920" cy="1654200"/>
              <a:chOff x="3997440" y="612720"/>
              <a:chExt cx="4174920" cy="1654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5003640" y="1270080"/>
                <a:ext cx="316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003640" y="1270080"/>
                <a:ext cx="252108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950520" y="61272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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997440" y="765000"/>
                <a:ext cx="717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4000" spc="-1" strike="noStrike">
                    <a:solidFill>
                      <a:srgbClr val="000099"/>
                    </a:solidFill>
                    <a:latin typeface="Times New Roman"/>
                  </a:rPr>
                  <a:t>Az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68720" y="1054080"/>
                <a:ext cx="1655640" cy="12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0" name=""/>
            <p:cNvSpPr/>
            <p:nvPr/>
          </p:nvSpPr>
          <p:spPr>
            <a:xfrm flipV="1">
              <a:off x="4932360" y="547560"/>
              <a:ext cx="2520720" cy="647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321120" y="260280"/>
            <a:ext cx="33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1978200" y="2925720"/>
          <a:ext cx="5327640" cy="3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8200" y="292572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4" name=""/>
          <p:cNvGrpSpPr/>
          <p:nvPr/>
        </p:nvGrpSpPr>
        <p:grpSpPr>
          <a:xfrm>
            <a:off x="180720" y="4797000"/>
            <a:ext cx="3598920" cy="1726920"/>
            <a:chOff x="180720" y="4797000"/>
            <a:chExt cx="3598920" cy="1726920"/>
          </a:xfrm>
        </p:grpSpPr>
        <p:sp>
          <p:nvSpPr>
            <p:cNvPr id="1555" name=""/>
            <p:cNvSpPr/>
            <p:nvPr/>
          </p:nvSpPr>
          <p:spPr>
            <a:xfrm>
              <a:off x="396720" y="6368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539640" y="4797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0600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80720" y="5086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"/>
          <p:cNvSpPr/>
          <p:nvPr/>
        </p:nvSpPr>
        <p:spPr>
          <a:xfrm flipV="1">
            <a:off x="2043720" y="198432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477800" y="2349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1267200" y="1773360"/>
            <a:ext cx="586080" cy="648720"/>
            <a:chOff x="1267200" y="1773360"/>
            <a:chExt cx="586080" cy="648720"/>
          </a:xfrm>
        </p:grpSpPr>
        <p:sp>
          <p:nvSpPr>
            <p:cNvPr id="1562" name=""/>
            <p:cNvSpPr/>
            <p:nvPr/>
          </p:nvSpPr>
          <p:spPr>
            <a:xfrm>
              <a:off x="1267200" y="177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473120" y="184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4" name=""/>
          <p:cNvSpPr/>
          <p:nvPr/>
        </p:nvSpPr>
        <p:spPr>
          <a:xfrm>
            <a:off x="3106800" y="3933720"/>
            <a:ext cx="6043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Moguće je obrtanje oko ose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xy, 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 pomeranje du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ose, a nije moguće pomeranje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ravcu normal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ovrš oslanj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5"/>
          <a:stretch/>
        </p:blipFill>
        <p:spPr>
          <a:xfrm>
            <a:off x="1114560" y="2925720"/>
            <a:ext cx="1562040" cy="1282680"/>
          </a:xfrm>
          <a:prstGeom prst="rect">
            <a:avLst/>
          </a:prstGeom>
          <a:ln w="0">
            <a:noFill/>
          </a:ln>
        </p:spPr>
      </p:pic>
      <p:pic>
        <p:nvPicPr>
          <p:cNvPr id="1566" name="" descr=""/>
          <p:cNvPicPr/>
          <p:nvPr/>
        </p:nvPicPr>
        <p:blipFill>
          <a:blip r:embed="rId6"/>
          <a:stretch/>
        </p:blipFill>
        <p:spPr>
          <a:xfrm rot="1492200">
            <a:off x="899640" y="285264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1567" name=""/>
          <p:cNvSpPr/>
          <p:nvPr/>
        </p:nvSpPr>
        <p:spPr>
          <a:xfrm flipV="1">
            <a:off x="1976040" y="2090520"/>
            <a:ext cx="505440" cy="931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2351880" y="2060640"/>
            <a:ext cx="609120" cy="648720"/>
            <a:chOff x="2351880" y="2060640"/>
            <a:chExt cx="609120" cy="648720"/>
          </a:xfrm>
        </p:grpSpPr>
        <p:sp>
          <p:nvSpPr>
            <p:cNvPr id="1569" name=""/>
            <p:cNvSpPr/>
            <p:nvPr/>
          </p:nvSpPr>
          <p:spPr>
            <a:xfrm>
              <a:off x="2351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555640" y="21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1333080" y="494172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2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2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2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6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2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395280" y="1557360"/>
            <a:ext cx="338472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780000" y="494172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21120" y="260280"/>
            <a:ext cx="37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dealno glatka povr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5078160" y="188640"/>
            <a:ext cx="3598920" cy="1726920"/>
            <a:chOff x="5078160" y="188640"/>
            <a:chExt cx="3598920" cy="1726920"/>
          </a:xfrm>
        </p:grpSpPr>
        <p:sp>
          <p:nvSpPr>
            <p:cNvPr id="1576" name=""/>
            <p:cNvSpPr/>
            <p:nvPr/>
          </p:nvSpPr>
          <p:spPr>
            <a:xfrm>
              <a:off x="5294160" y="176040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5437080" y="1886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957440" y="119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078160" y="477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0" name=""/>
          <p:cNvGraphicFramePr/>
          <p:nvPr/>
        </p:nvGraphicFramePr>
        <p:xfrm>
          <a:off x="324000" y="1527120"/>
          <a:ext cx="842472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27120"/>
                    <a:ext cx="84247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2" name=""/>
          <p:cNvSpPr/>
          <p:nvPr/>
        </p:nvSpPr>
        <p:spPr>
          <a:xfrm rot="1037400">
            <a:off x="1904760" y="3858840"/>
            <a:ext cx="5833800" cy="146160"/>
          </a:xfrm>
          <a:prstGeom prst="rect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395280" y="1628640"/>
            <a:ext cx="3168720" cy="302436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596360" y="3429000"/>
            <a:ext cx="0" cy="324000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629360" y="35719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7749360" y="50846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76544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66944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433440" y="3093480"/>
            <a:ext cx="1584000" cy="1536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H="1" flipV="1">
            <a:off x="7570440" y="4862520"/>
            <a:ext cx="19080" cy="1180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987120" y="2924280"/>
            <a:ext cx="668520" cy="648720"/>
            <a:chOff x="987120" y="2924280"/>
            <a:chExt cx="668520" cy="648720"/>
          </a:xfrm>
        </p:grpSpPr>
        <p:sp>
          <p:nvSpPr>
            <p:cNvPr id="1592" name=""/>
            <p:cNvSpPr/>
            <p:nvPr/>
          </p:nvSpPr>
          <p:spPr>
            <a:xfrm>
              <a:off x="987120" y="292428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189080" y="29970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892560" y="5300640"/>
            <a:ext cx="668520" cy="648720"/>
            <a:chOff x="6892560" y="5300640"/>
            <a:chExt cx="668520" cy="648720"/>
          </a:xfrm>
        </p:grpSpPr>
        <p:sp>
          <p:nvSpPr>
            <p:cNvPr id="1595" name=""/>
            <p:cNvSpPr/>
            <p:nvPr/>
          </p:nvSpPr>
          <p:spPr>
            <a:xfrm>
              <a:off x="6892560" y="530064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094520" y="5373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7" name=""/>
          <p:cNvSpPr/>
          <p:nvPr/>
        </p:nvSpPr>
        <p:spPr>
          <a:xfrm flipH="1">
            <a:off x="4790880" y="3868920"/>
            <a:ext cx="19440" cy="2160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4864320" y="5157720"/>
            <a:ext cx="534240" cy="648720"/>
            <a:chOff x="4864320" y="5157720"/>
            <a:chExt cx="534240" cy="648720"/>
          </a:xfrm>
        </p:grpSpPr>
        <p:sp>
          <p:nvSpPr>
            <p:cNvPr id="1599" name=""/>
            <p:cNvSpPr/>
            <p:nvPr/>
          </p:nvSpPr>
          <p:spPr>
            <a:xfrm>
              <a:off x="4864320" y="515772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G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076720" y="52304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5363280" y="220500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2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3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3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20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2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2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3" dur="3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39257"/>
                </a:solidFill>
                <a:latin typeface="Times New Roman"/>
              </a:rPr>
              <a:t>MATERIJALNA TAČK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292392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POD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ATERIJALNOM TAČKO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PODRAZUMEVA S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GEOMETRIJSKA TAČKA KOJOJ JE PRIDODATA MA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71640" y="907920"/>
            <a:ext cx="6985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pl-PL" sz="6600" spc="-1" strike="noStrike">
                <a:solidFill>
                  <a:srgbClr val="ff0000"/>
                </a:solidFill>
                <a:latin typeface="Times New Roman"/>
              </a:rPr>
              <a:t>KAKO SE DELI</a:t>
            </a: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MEHANIKA </a:t>
            </a:r>
            <a:br>
              <a:rPr sz="6600"/>
            </a:b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KRUTOG TELA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4360" y="404640"/>
            <a:ext cx="76327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INEM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KRETA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 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07T19:44:32Z</dcterms:modified>
  <cp:revision>153</cp:revision>
  <dc:subject/>
  <dc:title>Slide 1</dc:title>
</cp:coreProperties>
</file>