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E23-94B0-42B4-AD20-DA132F7C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EC8-FE4F-44E6-9FF1-69E55097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F062-D4E5-4FB6-9645-834F8553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2A0-3DD1-467D-8623-E5A2FB42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FBF-0060-4A66-B0CA-49ACDF92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BEC1-537B-44A4-A359-2D8D54B2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AF71-4FA5-4571-B342-E61CF0A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C703-D8F1-4F59-A34E-B48681A3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26F6-AAE8-41A3-AFE6-3EC20A9A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981A-6ABE-4D46-8EDE-6D92DBB6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D290-96DD-4B18-82DC-DF90E83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554-00D6-41D8-9497-F0E21C0D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241C-D59F-4595-950D-6B78F2C7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36FA-D1E0-4AF2-84FA-A2C33E4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A162-0AE9-4930-8D97-FB7083FB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6F85-6064-4891-8A5A-479D9525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CDDF-3814-462D-A771-73A7B19C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086-C600-422D-84AD-97562F7A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4ED-2D3C-4F74-ACDF-58EDFA6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BCC-3EA4-4419-AD3A-5FF0BD63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C47-F17E-4421-9C3C-2878F973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2ED-E1D0-4EC8-A4CD-48E74E8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52A-2AA1-4B7F-8F65-9EA178D9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CCF-7ABC-4FF8-8D74-CB60D7B1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6B45-2F7B-4281-BF33-D3513481D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A605-C5A2-4202-B134-FBDA7601B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564000" y="5300640"/>
            <a:ext cx="3527280" cy="6206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120" y="2203560"/>
            <a:ext cx="3386160" cy="3889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359160" y="2234160"/>
            <a:ext cx="679320" cy="1380600"/>
            <a:chOff x="3359160" y="2234160"/>
            <a:chExt cx="679320" cy="1380600"/>
          </a:xfrm>
        </p:grpSpPr>
        <p:sp>
          <p:nvSpPr>
            <p:cNvPr id="459" name=""/>
            <p:cNvSpPr/>
            <p:nvPr/>
          </p:nvSpPr>
          <p:spPr>
            <a:xfrm flipV="1">
              <a:off x="3428640" y="2234160"/>
              <a:ext cx="609840" cy="1292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259200">
              <a:off x="3366720" y="3537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042920" y="2494080"/>
            <a:ext cx="548640" cy="675360"/>
            <a:chOff x="1042920" y="2494080"/>
            <a:chExt cx="548640" cy="675360"/>
          </a:xfrm>
        </p:grpSpPr>
        <p:grpSp>
          <p:nvGrpSpPr>
            <p:cNvPr id="462" name=""/>
            <p:cNvGrpSpPr/>
            <p:nvPr/>
          </p:nvGrpSpPr>
          <p:grpSpPr>
            <a:xfrm>
              <a:off x="1042920" y="2494080"/>
              <a:ext cx="452160" cy="581400"/>
              <a:chOff x="1042920" y="2494080"/>
              <a:chExt cx="452160" cy="581400"/>
            </a:xfrm>
          </p:grpSpPr>
          <p:sp>
            <p:nvSpPr>
              <p:cNvPr id="463" name=""/>
              <p:cNvSpPr/>
              <p:nvPr/>
            </p:nvSpPr>
            <p:spPr>
              <a:xfrm>
                <a:off x="1042920" y="249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57120" y="25650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25856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539800" y="1802520"/>
            <a:ext cx="219240" cy="1521360"/>
            <a:chOff x="2539800" y="1802520"/>
            <a:chExt cx="219240" cy="1521360"/>
          </a:xfrm>
        </p:grpSpPr>
        <p:sp>
          <p:nvSpPr>
            <p:cNvPr id="467" name=""/>
            <p:cNvSpPr/>
            <p:nvPr/>
          </p:nvSpPr>
          <p:spPr>
            <a:xfrm flipH="1" flipV="1">
              <a:off x="2539800" y="1802520"/>
              <a:ext cx="168840" cy="14194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3336800">
              <a:off x="2674800" y="32392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50360" y="2989800"/>
            <a:ext cx="1488240" cy="390960"/>
            <a:chOff x="450360" y="2989800"/>
            <a:chExt cx="1488240" cy="390960"/>
          </a:xfrm>
        </p:grpSpPr>
        <p:sp>
          <p:nvSpPr>
            <p:cNvPr id="470" name=""/>
            <p:cNvSpPr/>
            <p:nvPr/>
          </p:nvSpPr>
          <p:spPr>
            <a:xfrm flipH="1" flipV="1">
              <a:off x="450360" y="2989800"/>
              <a:ext cx="1391040" cy="3272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9138000">
              <a:off x="1856520" y="32990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1680" y="3574800"/>
            <a:ext cx="1013400" cy="1147680"/>
            <a:chOff x="31680" y="3574800"/>
            <a:chExt cx="1013400" cy="1147680"/>
          </a:xfrm>
        </p:grpSpPr>
        <p:sp>
          <p:nvSpPr>
            <p:cNvPr id="473" name=""/>
            <p:cNvSpPr/>
            <p:nvPr/>
          </p:nvSpPr>
          <p:spPr>
            <a:xfrm flipH="1">
              <a:off x="31680" y="364608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5412000">
              <a:off x="975240" y="3575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574360" y="3561480"/>
            <a:ext cx="486720" cy="669600"/>
            <a:chOff x="2574360" y="3561480"/>
            <a:chExt cx="486720" cy="669600"/>
          </a:xfrm>
        </p:grpSpPr>
        <p:sp>
          <p:nvSpPr>
            <p:cNvPr id="476" name=""/>
            <p:cNvSpPr/>
            <p:nvPr/>
          </p:nvSpPr>
          <p:spPr>
            <a:xfrm rot="21437400">
              <a:off x="2589120" y="357192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720880" y="371376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rot="9138000">
            <a:off x="3240000" y="46371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22240" y="2708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83040" y="4579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9138000">
            <a:off x="1344600" y="521496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3920" y="4797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332360" y="4690800"/>
            <a:ext cx="1893600" cy="517680"/>
          </a:xfrm>
          <a:prstGeom prst="line">
            <a:avLst/>
          </a:prstGeom>
          <a:ln w="38160">
            <a:solidFill>
              <a:srgbClr val="660066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366200" y="3351600"/>
            <a:ext cx="522000" cy="188352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82800" y="3334680"/>
            <a:ext cx="1411200" cy="1328760"/>
          </a:xfrm>
          <a:prstGeom prst="line">
            <a:avLst/>
          </a:prstGeom>
          <a:ln w="38160">
            <a:solidFill>
              <a:srgbClr val="660066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22480" y="3646440"/>
            <a:ext cx="565200" cy="864720"/>
            <a:chOff x="1122480" y="3646440"/>
            <a:chExt cx="565200" cy="864720"/>
          </a:xfrm>
        </p:grpSpPr>
        <p:grpSp>
          <p:nvGrpSpPr>
            <p:cNvPr id="487" name=""/>
            <p:cNvGrpSpPr/>
            <p:nvPr/>
          </p:nvGrpSpPr>
          <p:grpSpPr>
            <a:xfrm>
              <a:off x="1122480" y="3862440"/>
              <a:ext cx="456480" cy="648720"/>
              <a:chOff x="1122480" y="3862440"/>
              <a:chExt cx="456480" cy="648720"/>
            </a:xfrm>
          </p:grpSpPr>
          <p:sp>
            <p:nvSpPr>
              <p:cNvPr id="488" name=""/>
              <p:cNvSpPr/>
              <p:nvPr/>
            </p:nvSpPr>
            <p:spPr>
              <a:xfrm>
                <a:off x="1122480" y="3862440"/>
                <a:ext cx="456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0066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660066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262160" y="4010040"/>
                <a:ext cx="216000" cy="0"/>
              </a:xfrm>
              <a:prstGeom prst="line">
                <a:avLst/>
              </a:prstGeom>
              <a:ln w="25560">
                <a:solidFill>
                  <a:srgbClr val="66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1404720" y="3646440"/>
              <a:ext cx="28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Times New Roman"/>
                </a:rPr>
                <a:t>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181600" y="4861440"/>
            <a:ext cx="411840" cy="599040"/>
            <a:chOff x="2181600" y="4861440"/>
            <a:chExt cx="411840" cy="599040"/>
          </a:xfrm>
        </p:grpSpPr>
        <p:sp>
          <p:nvSpPr>
            <p:cNvPr id="492" name=""/>
            <p:cNvSpPr/>
            <p:nvPr/>
          </p:nvSpPr>
          <p:spPr>
            <a:xfrm rot="21437400">
              <a:off x="2194920" y="487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338200" y="501192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1280" y="476280"/>
            <a:ext cx="85327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Redukcijom sistema sila na t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dobija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i="1" lang="sr-Latn-CS" sz="3200" spc="-1" strike="noStrike" baseline="-25000">
                <a:solidFill>
                  <a:srgbClr val="33cc33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 -  ne promenj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1052640"/>
            <a:ext cx="3999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3743280" y="2205000"/>
                <a:ext cx="5400720" cy="37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03120" y="574560"/>
            <a:ext cx="8589960" cy="6075720"/>
            <a:chOff x="303120" y="574560"/>
            <a:chExt cx="8589960" cy="6075720"/>
          </a:xfrm>
        </p:grpSpPr>
        <p:sp>
          <p:nvSpPr>
            <p:cNvPr id="498" name=""/>
            <p:cNvSpPr/>
            <p:nvPr/>
          </p:nvSpPr>
          <p:spPr>
            <a:xfrm>
              <a:off x="303120" y="639720"/>
              <a:ext cx="8589960" cy="60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1.                              - ako tačke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 </a:t>
              </a: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pripadaju pravoj paralelnoj vektor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2.                                            -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mena glavnog vektora momenata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između neke dve redukcione tačke prikazana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vektorom koji stoji normalno na pravac glavnog vektora sila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osledica:</a:t>
              </a:r>
              <a:r>
                <a:rPr b="1" lang="sr-Latn-CS" sz="3200" spc="-1" strike="noStrike">
                  <a:solidFill>
                    <a:srgbClr val="33cc33"/>
                  </a:solidFill>
                  <a:latin typeface="Times New Roman"/>
                </a:rPr>
                <a:t> Ako glavni vektor momenata ima komponentu paralelnu sa glavnim vektorom sila, onda je ona stalna, tj. nezavisna od položaja redukcione tačk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1260360" y="574560"/>
                  <a:ext cx="2303640" cy="70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5724360" y="1150560"/>
                  <a:ext cx="2368800" cy="63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↑</m:t>
                          </m:r>
                          <m:r>
                            <m:t xml:space="preserve">↑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1116000" y="2025360"/>
                  <a:ext cx="365292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  <m:r>
                        <m:t xml:space="preserve">×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 flipV="1">
            <a:off x="1116000" y="105228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116000" y="1555560"/>
            <a:ext cx="0" cy="2447640"/>
          </a:xfrm>
          <a:prstGeom prst="line">
            <a:avLst/>
          </a:prstGeom>
          <a:ln w="76320">
            <a:solidFill>
              <a:srgbClr val="cc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71640" y="40035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116000" y="2421000"/>
            <a:ext cx="2303640" cy="1582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116000" y="2421000"/>
            <a:ext cx="0" cy="15825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115640" y="2421000"/>
            <a:ext cx="2303640" cy="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19640" y="2421000"/>
            <a:ext cx="0" cy="1582560"/>
          </a:xfrm>
          <a:prstGeom prst="line">
            <a:avLst/>
          </a:prstGeom>
          <a:ln w="3816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16000" y="4003560"/>
            <a:ext cx="230364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4000" y="2852640"/>
                <a:ext cx="760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843280" y="1628640"/>
                <a:ext cx="102708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124000" y="4003560"/>
                <a:ext cx="10652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4861080" y="2057400"/>
                <a:ext cx="3465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716360" y="3065400"/>
                <a:ext cx="4037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95280" y="1555920"/>
                <a:ext cx="609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01480" y="189000"/>
            <a:ext cx="57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01480" y="177336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I  STATIČKA INVARIJA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19280" y="907920"/>
                <a:ext cx="585144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17440" y="2349360"/>
                <a:ext cx="867564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2050920" y="4076640"/>
            <a:ext cx="4969080" cy="943200"/>
            <a:chOff x="2050920" y="4076640"/>
            <a:chExt cx="4969080" cy="943200"/>
          </a:xfrm>
        </p:grpSpPr>
        <p:sp>
          <p:nvSpPr>
            <p:cNvPr id="521" name=""/>
            <p:cNvSpPr/>
            <p:nvPr/>
          </p:nvSpPr>
          <p:spPr>
            <a:xfrm>
              <a:off x="5724360" y="4148280"/>
              <a:ext cx="1295640" cy="863280"/>
            </a:xfrm>
            <a:prstGeom prst="wedgeRoundRectCallout">
              <a:avLst>
                <a:gd name="adj1" fmla="val -49754"/>
                <a:gd name="adj2" fmla="val 83273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08360" y="4292640"/>
              <a:ext cx="934920" cy="718920"/>
            </a:xfrm>
            <a:prstGeom prst="wedgeRoundRectCallout">
              <a:avLst>
                <a:gd name="adj1" fmla="val -60527"/>
                <a:gd name="adj2" fmla="val 98342"/>
                <a:gd name="adj3" fmla="val 16667"/>
              </a:avLst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050920" y="4076640"/>
                  <a:ext cx="4950000" cy="94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4" name=""/>
          <p:cNvSpPr/>
          <p:nvPr/>
        </p:nvSpPr>
        <p:spPr>
          <a:xfrm>
            <a:off x="1258920" y="5300640"/>
            <a:ext cx="303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INVARIJ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76360" y="5303880"/>
            <a:ext cx="341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MENJA SE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REDUKCIO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TA</a:t>
            </a:r>
            <a:r>
              <a:rPr b="1" lang="sr-Latn-CS" sz="3200" spc="-1" strike="noStrike">
                <a:solidFill>
                  <a:srgbClr val="cc0099"/>
                </a:solidFill>
                <a:latin typeface="Times New Roman"/>
              </a:rPr>
              <a:t>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32280" y="476280"/>
            <a:ext cx="82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660066"/>
                </a:solidFill>
                <a:uFillTx/>
                <a:latin typeface="Times New Roman"/>
              </a:rPr>
              <a:t>CENTRALNA OSA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7840" y="2811600"/>
            <a:ext cx="878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raže se sve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na krutom telu za koje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95280" y="1755720"/>
                <a:ext cx="79009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333600" y="3760920"/>
                <a:ext cx="23180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"/>
          <p:cNvGrpSpPr/>
          <p:nvPr/>
        </p:nvGrpSpPr>
        <p:grpSpPr>
          <a:xfrm>
            <a:off x="179640" y="4797360"/>
            <a:ext cx="8623800" cy="1690920"/>
            <a:chOff x="179640" y="4797360"/>
            <a:chExt cx="8623800" cy="1690920"/>
          </a:xfrm>
        </p:grpSpPr>
        <p:sp>
          <p:nvSpPr>
            <p:cNvPr id="531" name=""/>
            <p:cNvSpPr/>
            <p:nvPr/>
          </p:nvSpPr>
          <p:spPr>
            <a:xfrm>
              <a:off x="179640" y="4797360"/>
              <a:ext cx="8623800" cy="16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To su tačke na pravoj paralelnoj sa vektorom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a koja sadrži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.Ta prava se zove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central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osa sistema sila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317080" y="48704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24000" y="0"/>
            <a:ext cx="835344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prava u prostoru sa kojom su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lavni vektor sila i glavni momenata istovremeno kolinear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Il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Centralna os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je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 skup redukcionih t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čaka u prostoru u kojima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glavni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ektor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momenata ima najmanju veličin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181080" y="44280"/>
            <a:ext cx="9144000" cy="1396800"/>
            <a:chOff x="181080" y="44280"/>
            <a:chExt cx="9144000" cy="1396800"/>
          </a:xfrm>
        </p:grpSpPr>
        <p:sp>
          <p:nvSpPr>
            <p:cNvPr id="535" name=""/>
            <p:cNvSpPr/>
            <p:nvPr/>
          </p:nvSpPr>
          <p:spPr>
            <a:xfrm>
              <a:off x="181080" y="44280"/>
              <a:ext cx="9144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Par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40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koji potpuno određuje torzor (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Vladimir Script"/>
                </a:rPr>
                <a:t>M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=0)  naziva s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DINAMA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97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05080" y="16020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60720" y="73512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0" y="1413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entralne ose sistema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96000" y="2276640"/>
            <a:ext cx="3672000" cy="865080"/>
          </a:xfrm>
          <a:prstGeom prst="wedgeRoundRectCallout">
            <a:avLst>
              <a:gd name="adj1" fmla="val -59208"/>
              <a:gd name="adj2" fmla="val 31652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Uslovna jednačina za nalaženje </a:t>
            </a: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centralne 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9640" y="5877000"/>
            <a:ext cx="7920000" cy="981000"/>
          </a:xfrm>
          <a:prstGeom prst="wedgeRoundRectCallout">
            <a:avLst>
              <a:gd name="adj1" fmla="val 36148"/>
              <a:gd name="adj2" fmla="val -65208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Jednačina centralne os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u koordinatnom (skalarnom) obliku su 3 jednačine, ali su 2 linearno nezavis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79280" y="2205000"/>
                <a:ext cx="7848720" cy="38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189000"/>
            <a:ext cx="889308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HAMILTONOV CENTAR (</a:t>
            </a:r>
            <a:r>
              <a:rPr b="1" i="1" lang="sr-Latn-CS" sz="4000" spc="-1" strike="noStrike">
                <a:solidFill>
                  <a:srgbClr val="660066"/>
                </a:solidFill>
                <a:latin typeface="Times New Roman"/>
              </a:rPr>
              <a:t>H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(R. Hamilton, 1805-186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Hamiltonov centa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je podnožje norm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puštene iz tačke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a centralnu 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73120" y="2997360"/>
            <a:ext cx="3927600" cy="33829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58160" y="3357720"/>
            <a:ext cx="226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841400" y="4161960"/>
            <a:ext cx="665640" cy="693720"/>
            <a:chOff x="1841400" y="4161960"/>
            <a:chExt cx="665640" cy="693720"/>
          </a:xfrm>
        </p:grpSpPr>
        <p:sp>
          <p:nvSpPr>
            <p:cNvPr id="547" name=""/>
            <p:cNvSpPr/>
            <p:nvPr/>
          </p:nvSpPr>
          <p:spPr>
            <a:xfrm rot="19249200">
              <a:off x="1981440" y="4217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082600" y="4283640"/>
              <a:ext cx="167400" cy="136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20828400">
            <a:off x="3636360" y="4005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26840" y="3820680"/>
            <a:ext cx="1789920" cy="152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48520" y="4408920"/>
            <a:ext cx="813240" cy="841320"/>
            <a:chOff x="2648520" y="4408920"/>
            <a:chExt cx="813240" cy="841320"/>
          </a:xfrm>
        </p:grpSpPr>
        <p:sp>
          <p:nvSpPr>
            <p:cNvPr id="552" name=""/>
            <p:cNvSpPr/>
            <p:nvPr/>
          </p:nvSpPr>
          <p:spPr>
            <a:xfrm rot="20031000">
              <a:off x="2761200" y="450504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840040" y="4655520"/>
              <a:ext cx="194040" cy="95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568760" y="47293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184400" y="26398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79280" y="5299200"/>
            <a:ext cx="151632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95600" y="5299200"/>
            <a:ext cx="316044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1687680" y="285552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7816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080" y="6024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330480" y="4652640"/>
            <a:ext cx="1371960" cy="64512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404640"/>
            <a:ext cx="2952720" cy="5759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663200" y="4244760"/>
            <a:ext cx="1950480" cy="106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815400" y="3567960"/>
            <a:ext cx="876600" cy="170892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44880" y="4276080"/>
            <a:ext cx="903960" cy="36684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828400">
            <a:off x="3349800" y="357300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2036160" y="1182240"/>
            <a:ext cx="876600" cy="1709280"/>
          </a:xfrm>
          <a:prstGeom prst="line">
            <a:avLst/>
          </a:prstGeom>
          <a:ln w="76320">
            <a:solidFill>
              <a:srgbClr val="66006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146760" y="3836520"/>
            <a:ext cx="946440" cy="944640"/>
            <a:chOff x="3146760" y="3836520"/>
            <a:chExt cx="946440" cy="944640"/>
          </a:xfrm>
        </p:grpSpPr>
        <p:sp>
          <p:nvSpPr>
            <p:cNvPr id="569" name=""/>
            <p:cNvSpPr/>
            <p:nvPr/>
          </p:nvSpPr>
          <p:spPr>
            <a:xfrm rot="13725600">
              <a:off x="3524040" y="44852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386400">
              <a:off x="3259800" y="395028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62800" y="3141720"/>
            <a:ext cx="609120" cy="648720"/>
            <a:chOff x="262800" y="3141720"/>
            <a:chExt cx="609120" cy="648720"/>
          </a:xfrm>
        </p:grpSpPr>
        <p:sp>
          <p:nvSpPr>
            <p:cNvPr id="572" name=""/>
            <p:cNvSpPr/>
            <p:nvPr/>
          </p:nvSpPr>
          <p:spPr>
            <a:xfrm>
              <a:off x="26280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48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280600" y="1341360"/>
            <a:ext cx="609120" cy="648720"/>
            <a:chOff x="2280600" y="1341360"/>
            <a:chExt cx="609120" cy="648720"/>
          </a:xfrm>
        </p:grpSpPr>
        <p:sp>
          <p:nvSpPr>
            <p:cNvPr id="575" name=""/>
            <p:cNvSpPr/>
            <p:nvPr/>
          </p:nvSpPr>
          <p:spPr>
            <a:xfrm>
              <a:off x="2280600" y="134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11280" y="141264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213480" y="5013360"/>
            <a:ext cx="1011240" cy="648720"/>
            <a:chOff x="213480" y="5013360"/>
            <a:chExt cx="1011240" cy="648720"/>
          </a:xfrm>
        </p:grpSpPr>
        <p:sp>
          <p:nvSpPr>
            <p:cNvPr id="578" name=""/>
            <p:cNvSpPr/>
            <p:nvPr/>
          </p:nvSpPr>
          <p:spPr>
            <a:xfrm>
              <a:off x="213480" y="501336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2200" y="508464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929680" y="2492280"/>
            <a:ext cx="711000" cy="648720"/>
            <a:chOff x="2929680" y="2492280"/>
            <a:chExt cx="711000" cy="648720"/>
          </a:xfrm>
        </p:grpSpPr>
        <p:sp>
          <p:nvSpPr>
            <p:cNvPr id="581" name=""/>
            <p:cNvSpPr/>
            <p:nvPr/>
          </p:nvSpPr>
          <p:spPr>
            <a:xfrm>
              <a:off x="2929680" y="2492280"/>
              <a:ext cx="71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3399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ff3399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58920" y="2563560"/>
              <a:ext cx="36000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 flipV="1">
            <a:off x="1211400" y="2865240"/>
            <a:ext cx="1668240" cy="1408320"/>
          </a:xfrm>
          <a:prstGeom prst="line">
            <a:avLst/>
          </a:prstGeom>
          <a:ln w="284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753120" y="3875040"/>
            <a:ext cx="895680" cy="893520"/>
            <a:chOff x="753120" y="3875040"/>
            <a:chExt cx="895680" cy="893520"/>
          </a:xfrm>
        </p:grpSpPr>
        <p:sp>
          <p:nvSpPr>
            <p:cNvPr id="585" name=""/>
            <p:cNvSpPr/>
            <p:nvPr/>
          </p:nvSpPr>
          <p:spPr>
            <a:xfrm rot="14136600">
              <a:off x="1080000" y="448848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9798000">
              <a:off x="840960" y="3963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 flipH="1" flipV="1">
            <a:off x="2868480" y="2825280"/>
            <a:ext cx="508320" cy="1016280"/>
          </a:xfrm>
          <a:prstGeom prst="line">
            <a:avLst/>
          </a:prstGeom>
          <a:ln w="7632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05080" y="314172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4145760" y="6210360"/>
            <a:ext cx="5002560" cy="649440"/>
            <a:chOff x="4145760" y="6210360"/>
            <a:chExt cx="5002560" cy="649440"/>
          </a:xfrm>
        </p:grpSpPr>
        <p:sp>
          <p:nvSpPr>
            <p:cNvPr id="590" name=""/>
            <p:cNvSpPr/>
            <p:nvPr/>
          </p:nvSpPr>
          <p:spPr>
            <a:xfrm>
              <a:off x="4390920" y="6210360"/>
              <a:ext cx="4753080" cy="647640"/>
            </a:xfrm>
            <a:prstGeom prst="wedgeRoundRectCallout">
              <a:avLst>
                <a:gd name="adj1" fmla="val -51203"/>
                <a:gd name="adj2" fmla="val -122305"/>
                <a:gd name="adj3" fmla="val 16667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5760" y="6278400"/>
              <a:ext cx="50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sistema sila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5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435640" y="1341360"/>
            <a:ext cx="1728720" cy="865440"/>
          </a:xfrm>
          <a:prstGeom prst="wedgeRoundRectCallout">
            <a:avLst>
              <a:gd name="adj1" fmla="val 32736"/>
              <a:gd name="adj2" fmla="val -81560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320840" y="1268280"/>
                <a:ext cx="73548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6588000" y="692280"/>
            <a:ext cx="648000" cy="431640"/>
          </a:xfrm>
          <a:prstGeom prst="wedgeRoundRectCallout">
            <a:avLst>
              <a:gd name="adj1" fmla="val -34805"/>
              <a:gd name="adj2" fmla="val 52939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cc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25520" y="2295360"/>
                <a:ext cx="472284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5508720" y="2708280"/>
                <a:ext cx="338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68360" y="3933720"/>
                <a:ext cx="38224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788000" y="4005360"/>
                <a:ext cx="39988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z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556000" y="5373720"/>
                <a:ext cx="38941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0" name=""/>
          <p:cNvGrpSpPr/>
          <p:nvPr/>
        </p:nvGrpSpPr>
        <p:grpSpPr>
          <a:xfrm>
            <a:off x="0" y="0"/>
            <a:ext cx="8820000" cy="1396800"/>
            <a:chOff x="0" y="0"/>
            <a:chExt cx="8820000" cy="1396800"/>
          </a:xfrm>
        </p:grpSpPr>
        <p:sp>
          <p:nvSpPr>
            <p:cNvPr id="601" name=""/>
            <p:cNvSpPr/>
            <p:nvPr/>
          </p:nvSpPr>
          <p:spPr>
            <a:xfrm>
              <a:off x="0" y="0"/>
              <a:ext cx="88200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Ako j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=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40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 u jednačini za centralnu osu sistema sila, važi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9236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56000" y="18900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826920" y="98100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Jednačina c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ntraln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 os</a:t>
            </a:r>
            <a:r>
              <a:rPr b="1" lang="sr-Latn-CS" sz="4400" spc="-1" strike="noStrike" u="sng">
                <a:solidFill>
                  <a:srgbClr val="ff0000"/>
                </a:solidFill>
                <a:uFillTx/>
                <a:latin typeface="Times New Roman"/>
              </a:rPr>
              <a:t>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2276640"/>
                <a:ext cx="914400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492360" y="4869000"/>
            <a:ext cx="1943280" cy="936360"/>
          </a:xfrm>
          <a:prstGeom prst="wedgeRectCallout">
            <a:avLst>
              <a:gd name="adj1" fmla="val -44689"/>
              <a:gd name="adj2" fmla="val 7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05560" y="14018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787880" y="695160"/>
            <a:ext cx="10796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00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OMENT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ILE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ZA O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148600" y="983880"/>
            <a:ext cx="576360" cy="1150920"/>
          </a:xfrm>
          <a:prstGeom prst="line">
            <a:avLst/>
          </a:prstGeom>
          <a:ln w="7632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077320" y="206388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06388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8510760" y="1127160"/>
            <a:ext cx="452160" cy="581400"/>
            <a:chOff x="8510760" y="1127160"/>
            <a:chExt cx="452160" cy="581400"/>
          </a:xfrm>
        </p:grpSpPr>
        <p:sp>
          <p:nvSpPr>
            <p:cNvPr id="220" name=""/>
            <p:cNvSpPr/>
            <p:nvPr/>
          </p:nvSpPr>
          <p:spPr>
            <a:xfrm>
              <a:off x="8510760" y="11271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24960" y="1198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8150040" y="1774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82040" y="177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03880" y="479520"/>
            <a:ext cx="180036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42120" y="1944000"/>
            <a:ext cx="860400" cy="1569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140600" y="18478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0600" y="18478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265520" y="1948320"/>
            <a:ext cx="550080" cy="82476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798320" y="2179800"/>
            <a:ext cx="327600" cy="617040"/>
          </a:xfrm>
          <a:prstGeom prst="line">
            <a:avLst/>
          </a:prstGeom>
          <a:ln w="572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294680" y="2639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716960" y="27115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16960" y="27115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7017480" y="2150280"/>
            <a:ext cx="635400" cy="696960"/>
            <a:chOff x="7017480" y="2150280"/>
            <a:chExt cx="635400" cy="696960"/>
          </a:xfrm>
        </p:grpSpPr>
        <p:sp>
          <p:nvSpPr>
            <p:cNvPr id="234" name=""/>
            <p:cNvSpPr/>
            <p:nvPr/>
          </p:nvSpPr>
          <p:spPr>
            <a:xfrm rot="19670400">
              <a:off x="7142400" y="2207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2560" y="2283840"/>
              <a:ext cx="182880" cy="115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20640" y="2213640"/>
            <a:ext cx="672840" cy="775080"/>
            <a:chOff x="7820640" y="2213640"/>
            <a:chExt cx="672840" cy="775080"/>
          </a:xfrm>
        </p:grpSpPr>
        <p:sp>
          <p:nvSpPr>
            <p:cNvPr id="237" name=""/>
            <p:cNvSpPr/>
            <p:nvPr/>
          </p:nvSpPr>
          <p:spPr>
            <a:xfrm rot="1374000">
              <a:off x="7928640" y="2276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1760" y="2401200"/>
              <a:ext cx="199080" cy="8424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522920" y="1459080"/>
            <a:ext cx="441360" cy="634320"/>
            <a:chOff x="7522920" y="1459080"/>
            <a:chExt cx="441360" cy="634320"/>
          </a:xfrm>
        </p:grpSpPr>
        <p:sp>
          <p:nvSpPr>
            <p:cNvPr id="240" name=""/>
            <p:cNvSpPr/>
            <p:nvPr/>
          </p:nvSpPr>
          <p:spPr>
            <a:xfrm rot="645000">
              <a:off x="7574040" y="1485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45760" y="1629360"/>
              <a:ext cx="212400" cy="403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 flipV="1">
            <a:off x="6475680" y="864360"/>
            <a:ext cx="306000" cy="46008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904360" y="470520"/>
            <a:ext cx="367200" cy="593640"/>
            <a:chOff x="5904360" y="470520"/>
            <a:chExt cx="367200" cy="593640"/>
          </a:xfrm>
        </p:grpSpPr>
        <p:sp>
          <p:nvSpPr>
            <p:cNvPr id="244" name=""/>
            <p:cNvSpPr/>
            <p:nvPr/>
          </p:nvSpPr>
          <p:spPr>
            <a:xfrm rot="21471000">
              <a:off x="5914800" y="476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055560" y="615240"/>
              <a:ext cx="216000" cy="8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585480" y="308520"/>
            <a:ext cx="1349640" cy="1234080"/>
            <a:chOff x="6585480" y="308520"/>
            <a:chExt cx="1349640" cy="1234080"/>
          </a:xfrm>
        </p:grpSpPr>
        <p:grpSp>
          <p:nvGrpSpPr>
            <p:cNvPr id="247" name=""/>
            <p:cNvGrpSpPr/>
            <p:nvPr/>
          </p:nvGrpSpPr>
          <p:grpSpPr>
            <a:xfrm>
              <a:off x="6585480" y="308520"/>
              <a:ext cx="1349640" cy="1234080"/>
              <a:chOff x="6585480" y="308520"/>
              <a:chExt cx="1349640" cy="1234080"/>
            </a:xfrm>
          </p:grpSpPr>
          <p:sp>
            <p:nvSpPr>
              <p:cNvPr id="248" name=""/>
              <p:cNvSpPr/>
              <p:nvPr/>
            </p:nvSpPr>
            <p:spPr>
              <a:xfrm rot="19411800">
                <a:off x="6660720" y="60084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787440" y="929160"/>
                <a:ext cx="173520" cy="1281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686280" y="1032120"/>
              <a:ext cx="28440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640" y="829080"/>
              <a:ext cx="284760" cy="416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90792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o 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osa      s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sila     sa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tačko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(x,y,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01840" y="1409760"/>
            <a:ext cx="361800" cy="581400"/>
            <a:chOff x="1401840" y="1409760"/>
            <a:chExt cx="361800" cy="581400"/>
          </a:xfrm>
        </p:grpSpPr>
        <p:sp>
          <p:nvSpPr>
            <p:cNvPr id="254" name=""/>
            <p:cNvSpPr/>
            <p:nvPr/>
          </p:nvSpPr>
          <p:spPr>
            <a:xfrm>
              <a:off x="1401840" y="1409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47640" y="1555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37840" y="1373040"/>
            <a:ext cx="1222200" cy="693360"/>
            <a:chOff x="2337840" y="1373040"/>
            <a:chExt cx="1222200" cy="693360"/>
          </a:xfrm>
        </p:grpSpPr>
        <p:grpSp>
          <p:nvGrpSpPr>
            <p:cNvPr id="257" name=""/>
            <p:cNvGrpSpPr/>
            <p:nvPr/>
          </p:nvGrpSpPr>
          <p:grpSpPr>
            <a:xfrm>
              <a:off x="2337840" y="1373040"/>
              <a:ext cx="1222200" cy="693360"/>
              <a:chOff x="2337840" y="1373040"/>
              <a:chExt cx="1222200" cy="693360"/>
            </a:xfrm>
          </p:grpSpPr>
          <p:sp>
            <p:nvSpPr>
              <p:cNvPr id="258" name=""/>
              <p:cNvSpPr/>
              <p:nvPr/>
            </p:nvSpPr>
            <p:spPr>
              <a:xfrm rot="21471000">
                <a:off x="2349360" y="1395000"/>
                <a:ext cx="11988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0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 =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84000" y="1554120"/>
                <a:ext cx="215640" cy="7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1452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4880" y="1484280"/>
              <a:ext cx="0" cy="504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09680" y="1844640"/>
            <a:ext cx="452160" cy="581400"/>
            <a:chOff x="1309680" y="1844640"/>
            <a:chExt cx="452160" cy="581400"/>
          </a:xfrm>
        </p:grpSpPr>
        <p:sp>
          <p:nvSpPr>
            <p:cNvPr id="263" name=""/>
            <p:cNvSpPr/>
            <p:nvPr/>
          </p:nvSpPr>
          <p:spPr>
            <a:xfrm>
              <a:off x="1309680" y="184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23880" y="191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95280" y="4221000"/>
                <a:ext cx="756144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4211640" y="5805360"/>
            <a:ext cx="4811760" cy="911520"/>
            <a:chOff x="4211640" y="5805360"/>
            <a:chExt cx="4811760" cy="911520"/>
          </a:xfrm>
        </p:grpSpPr>
        <p:sp>
          <p:nvSpPr>
            <p:cNvPr id="267" name=""/>
            <p:cNvSpPr/>
            <p:nvPr/>
          </p:nvSpPr>
          <p:spPr>
            <a:xfrm>
              <a:off x="4788000" y="5877000"/>
              <a:ext cx="4176720" cy="79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4211640" y="5805360"/>
                  <a:ext cx="481176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9" name=""/>
          <p:cNvGrpSpPr/>
          <p:nvPr/>
        </p:nvGrpSpPr>
        <p:grpSpPr>
          <a:xfrm>
            <a:off x="2771640" y="5950080"/>
            <a:ext cx="1008000" cy="718920"/>
            <a:chOff x="2771640" y="5950080"/>
            <a:chExt cx="1008000" cy="718920"/>
          </a:xfrm>
        </p:grpSpPr>
        <p:sp>
          <p:nvSpPr>
            <p:cNvPr id="270" name=""/>
            <p:cNvSpPr/>
            <p:nvPr/>
          </p:nvSpPr>
          <p:spPr>
            <a:xfrm>
              <a:off x="2771640" y="5950080"/>
              <a:ext cx="1008000" cy="718920"/>
            </a:xfrm>
            <a:prstGeom prst="flowChartPreparation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4400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24000" y="2924280"/>
            <a:ext cx="6553080" cy="1392120"/>
            <a:chOff x="324000" y="2924280"/>
            <a:chExt cx="6553080" cy="1392120"/>
          </a:xfrm>
        </p:grpSpPr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324000" y="2924280"/>
                  <a:ext cx="6553080" cy="13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rPr>
                              <m:lit/>
                              <m:nor/>
                            </m:rPr>
                            <m:t xml:space="preserve">ebarsk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rednost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rojekcij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ektora</m:t>
                          </m:r>
                          <m:r>
                            <m:t xml:space="preserve"> 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su</m:t>
                          </m:r>
                          <m:r>
                            <m:t xml:space="preserve"> 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s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"/>
            <p:cNvSpPr/>
            <p:nvPr/>
          </p:nvSpPr>
          <p:spPr>
            <a:xfrm>
              <a:off x="90036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900000" y="18900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Times New Roman"/>
              </a:rPr>
              <a:t>Egzistencija rezul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916360" y="1125360"/>
                <a:ext cx="35845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468360" y="2163600"/>
                <a:ext cx="8064360" cy="16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82692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o važ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95280" y="4051440"/>
            <a:ext cx="8496360" cy="2111040"/>
            <a:chOff x="395280" y="4051440"/>
            <a:chExt cx="8496360" cy="2111040"/>
          </a:xfrm>
        </p:grpSpPr>
        <p:sp>
          <p:nvSpPr>
            <p:cNvPr id="611" name=""/>
            <p:cNvSpPr/>
            <p:nvPr/>
          </p:nvSpPr>
          <p:spPr>
            <a:xfrm>
              <a:off x="395280" y="4051440"/>
              <a:ext cx="8496360" cy="21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Centralna osa je tada prava paralelna s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, i za sve tačke koje pripadaju centralnoj osi </a:t>
              </a:r>
              <a:r>
                <a:rPr b="1" lang="sr-Latn-CS" sz="3200" spc="-1" strike="noStrike">
                  <a:solidFill>
                    <a:srgbClr val="008000"/>
                  </a:solidFill>
                  <a:latin typeface="Times New Roman"/>
                </a:rPr>
                <a:t>glavni vektor momenata jednak je nuli. To je po definiciji napadna linija rezultant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67640" y="4122720"/>
              <a:ext cx="360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12000" y="37180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768800">
            <a:off x="6678720" y="3801960"/>
            <a:ext cx="1725480" cy="2752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7020000" y="3141360"/>
            <a:ext cx="1944720" cy="3716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179280" y="-27000"/>
                <a:ext cx="871380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108000" y="1628640"/>
            <a:ext cx="2808360" cy="2880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rot="1768800">
            <a:off x="774720" y="1712880"/>
            <a:ext cx="1725480" cy="2752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019160" y="2268000"/>
            <a:ext cx="554040" cy="107820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20960" y="2207880"/>
            <a:ext cx="900000" cy="1105200"/>
            <a:chOff x="120960" y="2207880"/>
            <a:chExt cx="900000" cy="1105200"/>
          </a:xfrm>
        </p:grpSpPr>
        <p:sp>
          <p:nvSpPr>
            <p:cNvPr id="621" name=""/>
            <p:cNvSpPr/>
            <p:nvPr/>
          </p:nvSpPr>
          <p:spPr>
            <a:xfrm>
              <a:off x="120960" y="2207880"/>
              <a:ext cx="900000" cy="11052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227520" y="2355840"/>
              <a:ext cx="139320" cy="1054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3280" y="23677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122400" y="2227320"/>
              <a:ext cx="139320" cy="105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7800" y="2238120"/>
              <a:ext cx="57600" cy="1461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85720" y="2644920"/>
            <a:ext cx="978480" cy="979920"/>
            <a:chOff x="585720" y="2644920"/>
            <a:chExt cx="978480" cy="979920"/>
          </a:xfrm>
        </p:grpSpPr>
        <p:sp>
          <p:nvSpPr>
            <p:cNvPr id="627" name=""/>
            <p:cNvSpPr/>
            <p:nvPr/>
          </p:nvSpPr>
          <p:spPr>
            <a:xfrm rot="711000">
              <a:off x="969480" y="288972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7972400">
              <a:off x="714960" y="277632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059280" y="2708280"/>
            <a:ext cx="2808000" cy="2879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rot="1768800">
            <a:off x="3726000" y="2792520"/>
            <a:ext cx="1725480" cy="2752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970440" y="3348000"/>
            <a:ext cx="554040" cy="10778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3537000" y="3795840"/>
            <a:ext cx="978480" cy="979920"/>
            <a:chOff x="3537000" y="3795840"/>
            <a:chExt cx="978480" cy="979920"/>
          </a:xfrm>
        </p:grpSpPr>
        <p:sp>
          <p:nvSpPr>
            <p:cNvPr id="633" name=""/>
            <p:cNvSpPr/>
            <p:nvPr/>
          </p:nvSpPr>
          <p:spPr>
            <a:xfrm rot="711000">
              <a:off x="3920760" y="40406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7972400">
              <a:off x="3666240" y="39272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V="1">
            <a:off x="4835520" y="320364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95880" y="44481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924360" y="4292280"/>
            <a:ext cx="934920" cy="144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35800" y="3987360"/>
            <a:ext cx="791640" cy="788760"/>
            <a:chOff x="3835800" y="3987360"/>
            <a:chExt cx="791640" cy="788760"/>
          </a:xfrm>
        </p:grpSpPr>
        <p:sp>
          <p:nvSpPr>
            <p:cNvPr id="639" name=""/>
            <p:cNvSpPr/>
            <p:nvPr/>
          </p:nvSpPr>
          <p:spPr>
            <a:xfrm rot="3975600">
              <a:off x="4327560" y="41630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1236400">
              <a:off x="3871440" y="40233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 flipV="1">
            <a:off x="3276360" y="3645000"/>
            <a:ext cx="718920" cy="79200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489720" y="4805640"/>
            <a:ext cx="978480" cy="979920"/>
            <a:chOff x="6489720" y="4805640"/>
            <a:chExt cx="978480" cy="979920"/>
          </a:xfrm>
        </p:grpSpPr>
        <p:sp>
          <p:nvSpPr>
            <p:cNvPr id="643" name=""/>
            <p:cNvSpPr/>
            <p:nvPr/>
          </p:nvSpPr>
          <p:spPr>
            <a:xfrm rot="711000">
              <a:off x="6873480" y="50504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7972400">
              <a:off x="6618960" y="493704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V="1">
            <a:off x="7858080" y="4212720"/>
            <a:ext cx="554040" cy="1078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877080" y="5302080"/>
            <a:ext cx="934920" cy="14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6788880" y="4996800"/>
            <a:ext cx="791640" cy="789120"/>
            <a:chOff x="6788880" y="4996800"/>
            <a:chExt cx="791640" cy="789120"/>
          </a:xfrm>
        </p:grpSpPr>
        <p:sp>
          <p:nvSpPr>
            <p:cNvPr id="648" name=""/>
            <p:cNvSpPr/>
            <p:nvPr/>
          </p:nvSpPr>
          <p:spPr>
            <a:xfrm rot="3975600">
              <a:off x="7280280" y="517284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1236400">
              <a:off x="6824520" y="503280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 flipH="1" flipV="1">
            <a:off x="6229080" y="4654080"/>
            <a:ext cx="718920" cy="79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588000" y="4868640"/>
            <a:ext cx="648000" cy="115236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6923160" y="4357800"/>
            <a:ext cx="55404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4200" y="1700280"/>
            <a:ext cx="1011240" cy="648720"/>
            <a:chOff x="34200" y="1700280"/>
            <a:chExt cx="1011240" cy="648720"/>
          </a:xfrm>
        </p:grpSpPr>
        <p:sp>
          <p:nvSpPr>
            <p:cNvPr id="654" name=""/>
            <p:cNvSpPr/>
            <p:nvPr/>
          </p:nvSpPr>
          <p:spPr>
            <a:xfrm>
              <a:off x="34200" y="170028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42920" y="17715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559880" y="2060640"/>
            <a:ext cx="609120" cy="648720"/>
            <a:chOff x="1559880" y="2060640"/>
            <a:chExt cx="609120" cy="648720"/>
          </a:xfrm>
        </p:grpSpPr>
        <p:sp>
          <p:nvSpPr>
            <p:cNvPr id="657" name=""/>
            <p:cNvSpPr/>
            <p:nvPr/>
          </p:nvSpPr>
          <p:spPr>
            <a:xfrm>
              <a:off x="1559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2131920"/>
              <a:ext cx="3603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051080" y="4335120"/>
            <a:ext cx="655560" cy="709560"/>
            <a:chOff x="4051080" y="4335120"/>
            <a:chExt cx="655560" cy="709560"/>
          </a:xfrm>
        </p:grpSpPr>
        <p:sp>
          <p:nvSpPr>
            <p:cNvPr id="660" name=""/>
            <p:cNvSpPr/>
            <p:nvPr/>
          </p:nvSpPr>
          <p:spPr>
            <a:xfrm rot="21220200">
              <a:off x="4084920" y="436536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203360" y="451908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789080" y="4076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8720" y="321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108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3791880" y="3141720"/>
            <a:ext cx="609120" cy="648720"/>
            <a:chOff x="3791880" y="3141720"/>
            <a:chExt cx="609120" cy="648720"/>
          </a:xfrm>
        </p:grpSpPr>
        <p:sp>
          <p:nvSpPr>
            <p:cNvPr id="666" name=""/>
            <p:cNvSpPr/>
            <p:nvPr/>
          </p:nvSpPr>
          <p:spPr>
            <a:xfrm>
              <a:off x="3791880" y="3141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22560" y="321300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376240" y="2852640"/>
            <a:ext cx="609120" cy="648720"/>
            <a:chOff x="5376240" y="2852640"/>
            <a:chExt cx="609120" cy="648720"/>
          </a:xfrm>
        </p:grpSpPr>
        <p:sp>
          <p:nvSpPr>
            <p:cNvPr id="669" name=""/>
            <p:cNvSpPr/>
            <p:nvPr/>
          </p:nvSpPr>
          <p:spPr>
            <a:xfrm>
              <a:off x="537624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06920" y="292392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2639160" y="5157720"/>
            <a:ext cx="744480" cy="648720"/>
            <a:chOff x="2639160" y="5157720"/>
            <a:chExt cx="744480" cy="648720"/>
          </a:xfrm>
        </p:grpSpPr>
        <p:sp>
          <p:nvSpPr>
            <p:cNvPr id="672" name=""/>
            <p:cNvSpPr/>
            <p:nvPr/>
          </p:nvSpPr>
          <p:spPr>
            <a:xfrm>
              <a:off x="2639160" y="515772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14560" y="522936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932160" y="5270040"/>
            <a:ext cx="655560" cy="709560"/>
            <a:chOff x="6932160" y="5270040"/>
            <a:chExt cx="655560" cy="709560"/>
          </a:xfrm>
        </p:grpSpPr>
        <p:sp>
          <p:nvSpPr>
            <p:cNvPr id="675" name=""/>
            <p:cNvSpPr/>
            <p:nvPr/>
          </p:nvSpPr>
          <p:spPr>
            <a:xfrm rot="21220200">
              <a:off x="6966000" y="5300280"/>
              <a:ext cx="587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084440" y="5454000"/>
              <a:ext cx="214560" cy="23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7104960" y="3860640"/>
            <a:ext cx="609120" cy="648720"/>
            <a:chOff x="7104960" y="3860640"/>
            <a:chExt cx="609120" cy="648720"/>
          </a:xfrm>
        </p:grpSpPr>
        <p:sp>
          <p:nvSpPr>
            <p:cNvPr id="678" name=""/>
            <p:cNvSpPr/>
            <p:nvPr/>
          </p:nvSpPr>
          <p:spPr>
            <a:xfrm>
              <a:off x="7104960" y="38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235640" y="3931920"/>
              <a:ext cx="360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7813080" y="5084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423120" y="5157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8400240" y="3933720"/>
            <a:ext cx="609120" cy="648720"/>
            <a:chOff x="8400240" y="3933720"/>
            <a:chExt cx="609120" cy="648720"/>
          </a:xfrm>
        </p:grpSpPr>
        <p:sp>
          <p:nvSpPr>
            <p:cNvPr id="683" name=""/>
            <p:cNvSpPr/>
            <p:nvPr/>
          </p:nvSpPr>
          <p:spPr>
            <a:xfrm>
              <a:off x="8400240" y="393372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530920" y="4005000"/>
              <a:ext cx="360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5591880" y="6021360"/>
            <a:ext cx="744480" cy="648720"/>
            <a:chOff x="5591880" y="6021360"/>
            <a:chExt cx="744480" cy="648720"/>
          </a:xfrm>
        </p:grpSpPr>
        <p:sp>
          <p:nvSpPr>
            <p:cNvPr id="686" name=""/>
            <p:cNvSpPr/>
            <p:nvPr/>
          </p:nvSpPr>
          <p:spPr>
            <a:xfrm>
              <a:off x="5591880" y="6021360"/>
              <a:ext cx="744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8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008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67280" y="6093000"/>
              <a:ext cx="36036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"/>
          <p:cNvSpPr/>
          <p:nvPr/>
        </p:nvSpPr>
        <p:spPr>
          <a:xfrm rot="1075200">
            <a:off x="2268000" y="4365360"/>
            <a:ext cx="503280" cy="431640"/>
          </a:xfrm>
          <a:prstGeom prst="rightArrow">
            <a:avLst>
              <a:gd name="adj1" fmla="val 50000"/>
              <a:gd name="adj2" fmla="val 29149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rot="1075200">
            <a:off x="5435640" y="530028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ff33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985120" y="2851200"/>
            <a:ext cx="1011240" cy="648720"/>
            <a:chOff x="2985120" y="2851200"/>
            <a:chExt cx="1011240" cy="648720"/>
          </a:xfrm>
        </p:grpSpPr>
        <p:sp>
          <p:nvSpPr>
            <p:cNvPr id="691" name=""/>
            <p:cNvSpPr/>
            <p:nvPr/>
          </p:nvSpPr>
          <p:spPr>
            <a:xfrm>
              <a:off x="2985120" y="2851200"/>
              <a:ext cx="1011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93840" y="2922480"/>
              <a:ext cx="360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3048120" y="3382920"/>
            <a:ext cx="952560" cy="1059840"/>
            <a:chOff x="3048120" y="3382920"/>
            <a:chExt cx="952560" cy="1059840"/>
          </a:xfrm>
        </p:grpSpPr>
        <p:sp>
          <p:nvSpPr>
            <p:cNvPr id="694" name=""/>
            <p:cNvSpPr/>
            <p:nvPr/>
          </p:nvSpPr>
          <p:spPr>
            <a:xfrm>
              <a:off x="3048120" y="3382920"/>
              <a:ext cx="952560" cy="10598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3161160" y="3525120"/>
              <a:ext cx="144000" cy="98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67280" y="353664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3049560" y="3401640"/>
              <a:ext cx="144360" cy="990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55680" y="3412080"/>
              <a:ext cx="64800" cy="1432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 flipV="1">
            <a:off x="6348600" y="5457960"/>
            <a:ext cx="554040" cy="107784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00720" y="2133720"/>
            <a:ext cx="2519280" cy="934920"/>
          </a:xfrm>
          <a:prstGeom prst="wedgeRoundRectCallout">
            <a:avLst>
              <a:gd name="adj1" fmla="val 51259"/>
              <a:gd name="adj2" fmla="val 71902"/>
              <a:gd name="adj3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entralna osa sistema s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059280" y="1125360"/>
            <a:ext cx="4608360" cy="1366920"/>
            <a:chOff x="3059280" y="1125360"/>
            <a:chExt cx="4608360" cy="1366920"/>
          </a:xfrm>
        </p:grpSpPr>
        <p:sp>
          <p:nvSpPr>
            <p:cNvPr id="702" name=""/>
            <p:cNvSpPr/>
            <p:nvPr/>
          </p:nvSpPr>
          <p:spPr>
            <a:xfrm>
              <a:off x="4356000" y="1989000"/>
              <a:ext cx="936720" cy="5032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72000" y="1125360"/>
              <a:ext cx="3095640" cy="863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059280" y="1197000"/>
                  <a:ext cx="453708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⊥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 </m:t>
                          </m:r>
                          <m:sSub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705" name=""/>
            <p:cNvSpPr/>
            <p:nvPr/>
          </p:nvSpPr>
          <p:spPr>
            <a:xfrm>
              <a:off x="4348080" y="198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rav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28440" y="5611680"/>
            <a:ext cx="5892840" cy="1292040"/>
            <a:chOff x="28440" y="5611680"/>
            <a:chExt cx="5892840" cy="1292040"/>
          </a:xfrm>
        </p:grpSpPr>
        <p:sp>
          <p:nvSpPr>
            <p:cNvPr id="707" name=""/>
            <p:cNvSpPr/>
            <p:nvPr/>
          </p:nvSpPr>
          <p:spPr>
            <a:xfrm>
              <a:off x="28440" y="5611680"/>
              <a:ext cx="589284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je sa one strane odakle se obrtanje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prema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sr-Latn-C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1" lang="sr-Latn-CS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 vrši najkraćim putem u smeru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suprotnom obrtanju kazaljke na satu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03640" y="5661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42920" y="60213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5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38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00"/>
                            </p:stCondLst>
                            <p:childTnLst>
                              <p:par>
                                <p:cTn id="3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1085760"/>
            <a:ext cx="903600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akle, projekcija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i="1" lang="sr-Latn-CS" sz="40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ne zavisi od izbora redukcione tač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Definicij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Moment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z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se nalazi kao projekcija na osu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redukcionog momenta sile </a:t>
            </a:r>
            <a:r>
              <a:rPr b="1" i="1" lang="sr-Latn-CS" sz="40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 dobijenog redukcijim sile na bilo koju tačku 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92720" y="3606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252576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43640" y="238284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80000" y="3102120"/>
            <a:ext cx="212760" cy="144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49840" y="260280"/>
            <a:ext cx="3059640" cy="1068840"/>
            <a:chOff x="249840" y="260280"/>
            <a:chExt cx="3059640" cy="1068840"/>
          </a:xfrm>
        </p:grpSpPr>
        <p:sp>
          <p:nvSpPr>
            <p:cNvPr id="281" name=""/>
            <p:cNvSpPr/>
            <p:nvPr/>
          </p:nvSpPr>
          <p:spPr>
            <a:xfrm>
              <a:off x="249840" y="260280"/>
              <a:ext cx="305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9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892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22560" y="83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5928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30160" y="227664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398960" y="486576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" y="5370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25800" y="371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1800" y="162864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36320" y="4287960"/>
            <a:ext cx="1515960" cy="1514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2640" y="4287960"/>
            <a:ext cx="3160800" cy="61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944720" y="1844280"/>
            <a:ext cx="7920" cy="24433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06520" y="3925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49440" y="378936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74240" y="2392560"/>
            <a:ext cx="1745640" cy="1902960"/>
            <a:chOff x="1974240" y="2392560"/>
            <a:chExt cx="1745640" cy="1902960"/>
          </a:xfrm>
        </p:grpSpPr>
        <p:grpSp>
          <p:nvGrpSpPr>
            <p:cNvPr id="297" name=""/>
            <p:cNvGrpSpPr/>
            <p:nvPr/>
          </p:nvGrpSpPr>
          <p:grpSpPr>
            <a:xfrm>
              <a:off x="2522160" y="2559600"/>
              <a:ext cx="664560" cy="722160"/>
              <a:chOff x="2522160" y="2559600"/>
              <a:chExt cx="664560" cy="722160"/>
            </a:xfrm>
          </p:grpSpPr>
          <p:sp>
            <p:nvSpPr>
              <p:cNvPr id="298" name=""/>
              <p:cNvSpPr/>
              <p:nvPr/>
            </p:nvSpPr>
            <p:spPr>
              <a:xfrm rot="20005200">
                <a:off x="2628000" y="262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745720" y="2633400"/>
                <a:ext cx="192960" cy="964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295360" y="3239640"/>
              <a:ext cx="563400" cy="671400"/>
              <a:chOff x="2295360" y="3239640"/>
              <a:chExt cx="563400" cy="671400"/>
            </a:xfrm>
          </p:grpSpPr>
          <p:sp>
            <p:nvSpPr>
              <p:cNvPr id="301" name=""/>
              <p:cNvSpPr/>
              <p:nvPr/>
            </p:nvSpPr>
            <p:spPr>
              <a:xfrm rot="20005200">
                <a:off x="2407320" y="3284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525400" y="3361680"/>
                <a:ext cx="192960" cy="9684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 flipH="1" flipV="1">
              <a:off x="2352600" y="2684880"/>
              <a:ext cx="858600" cy="90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20828400">
              <a:off x="3231000" y="3013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0828400">
              <a:off x="2914920" y="2426760"/>
              <a:ext cx="485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600" spc="-1" strike="noStrike">
                  <a:solidFill>
                    <a:srgbClr val="ffff66"/>
                  </a:solidFill>
                  <a:latin typeface="Times New Roman"/>
                </a:rPr>
                <a:t>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974240" y="3592800"/>
              <a:ext cx="1216800" cy="7027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1944720" y="3429000"/>
            <a:ext cx="345600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15160" y="3068640"/>
            <a:ext cx="456480" cy="648720"/>
            <a:chOff x="4115160" y="3068640"/>
            <a:chExt cx="456480" cy="648720"/>
          </a:xfrm>
        </p:grpSpPr>
        <p:sp>
          <p:nvSpPr>
            <p:cNvPr id="309" name=""/>
            <p:cNvSpPr/>
            <p:nvPr/>
          </p:nvSpPr>
          <p:spPr>
            <a:xfrm>
              <a:off x="4115160" y="30686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4480" y="3219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4186800" y="3558240"/>
            <a:ext cx="702360" cy="166320"/>
          </a:xfrm>
          <a:prstGeom prst="line">
            <a:avLst/>
          </a:prstGeom>
          <a:ln w="57240">
            <a:solidFill>
              <a:srgbClr val="ff66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924360" y="333360"/>
                <a:ext cx="5000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132000" y="981000"/>
                <a:ext cx="59724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14200" y="5950080"/>
                <a:ext cx="8929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26920" y="1778040"/>
                <a:ext cx="7490160" cy="33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360" y="260280"/>
            <a:ext cx="3996000" cy="266400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836640"/>
            <a:ext cx="3888000" cy="1079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3068640"/>
            <a:ext cx="3888000" cy="3600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780280" y="3789360"/>
            <a:ext cx="632160" cy="581400"/>
            <a:chOff x="2780280" y="3789360"/>
            <a:chExt cx="632160" cy="581400"/>
          </a:xfrm>
        </p:grpSpPr>
        <p:sp>
          <p:nvSpPr>
            <p:cNvPr id="320" name=""/>
            <p:cNvSpPr/>
            <p:nvPr/>
          </p:nvSpPr>
          <p:spPr>
            <a:xfrm>
              <a:off x="2780280" y="3789360"/>
              <a:ext cx="63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9440" y="3860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4800" y="-3960"/>
            <a:ext cx="577080" cy="672120"/>
            <a:chOff x="3574800" y="-3960"/>
            <a:chExt cx="577080" cy="672120"/>
          </a:xfrm>
        </p:grpSpPr>
        <p:sp>
          <p:nvSpPr>
            <p:cNvPr id="323" name=""/>
            <p:cNvSpPr/>
            <p:nvPr/>
          </p:nvSpPr>
          <p:spPr>
            <a:xfrm rot="20776800">
              <a:off x="3637080" y="41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799800" y="7020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48520" y="1261080"/>
            <a:ext cx="368640" cy="596880"/>
            <a:chOff x="1748520" y="1261080"/>
            <a:chExt cx="368640" cy="596880"/>
          </a:xfrm>
        </p:grpSpPr>
        <p:sp>
          <p:nvSpPr>
            <p:cNvPr id="326" name=""/>
            <p:cNvSpPr/>
            <p:nvPr/>
          </p:nvSpPr>
          <p:spPr>
            <a:xfrm rot="21437400">
              <a:off x="1761840" y="126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901520" y="140940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142160" y="765000"/>
            <a:ext cx="360000" cy="581400"/>
            <a:chOff x="4142160" y="765000"/>
            <a:chExt cx="360000" cy="581400"/>
          </a:xfrm>
        </p:grpSpPr>
        <p:sp>
          <p:nvSpPr>
            <p:cNvPr id="329" name=""/>
            <p:cNvSpPr/>
            <p:nvPr/>
          </p:nvSpPr>
          <p:spPr>
            <a:xfrm>
              <a:off x="4142160" y="765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520" y="836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620360" y="76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849320" y="3429000"/>
            <a:ext cx="635040" cy="648720"/>
            <a:chOff x="1849320" y="3429000"/>
            <a:chExt cx="635040" cy="648720"/>
          </a:xfrm>
        </p:grpSpPr>
        <p:sp>
          <p:nvSpPr>
            <p:cNvPr id="333" name=""/>
            <p:cNvSpPr/>
            <p:nvPr/>
          </p:nvSpPr>
          <p:spPr>
            <a:xfrm>
              <a:off x="1849320" y="3429000"/>
              <a:ext cx="635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50920" y="3500280"/>
              <a:ext cx="2156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16000" y="189000"/>
            <a:ext cx="0" cy="115236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116000" y="537228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16000" y="1341360"/>
            <a:ext cx="3527280" cy="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459160" y="186840"/>
            <a:ext cx="1284120" cy="1166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189000"/>
            <a:ext cx="0" cy="3384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84360" y="3573360"/>
            <a:ext cx="1224000" cy="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708360" y="3573000"/>
            <a:ext cx="0" cy="1798920"/>
          </a:xfrm>
          <a:prstGeom prst="line">
            <a:avLst/>
          </a:prstGeom>
          <a:ln w="381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47640" y="3573360"/>
            <a:ext cx="2160720" cy="3168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1115640" y="5373360"/>
            <a:ext cx="934920" cy="647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110680" y="4912560"/>
            <a:ext cx="843120" cy="840240"/>
            <a:chOff x="2110680" y="4912560"/>
            <a:chExt cx="843120" cy="840240"/>
          </a:xfrm>
        </p:grpSpPr>
        <p:sp>
          <p:nvSpPr>
            <p:cNvPr id="346" name=""/>
            <p:cNvSpPr/>
            <p:nvPr/>
          </p:nvSpPr>
          <p:spPr>
            <a:xfrm rot="19907400">
              <a:off x="2307240" y="5185440"/>
              <a:ext cx="6120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5568200">
              <a:off x="2172240" y="4970520"/>
              <a:ext cx="720000" cy="72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2474640" y="3530160"/>
            <a:ext cx="1238760" cy="1867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557000" y="5516280"/>
            <a:ext cx="1000080" cy="1000800"/>
            <a:chOff x="1557000" y="5516280"/>
            <a:chExt cx="1000080" cy="1000800"/>
          </a:xfrm>
        </p:grpSpPr>
        <p:sp>
          <p:nvSpPr>
            <p:cNvPr id="350" name=""/>
            <p:cNvSpPr/>
            <p:nvPr/>
          </p:nvSpPr>
          <p:spPr>
            <a:xfrm rot="1032600">
              <a:off x="1971360" y="5765760"/>
              <a:ext cx="60480" cy="71280"/>
            </a:xfrm>
            <a:prstGeom prst="ellipse">
              <a:avLst/>
            </a:prstGeom>
            <a:solidFill>
              <a:srgbClr val="ff0066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293400">
              <a:off x="1697040" y="5657760"/>
              <a:ext cx="72000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 flipV="1">
            <a:off x="2470680" y="5362560"/>
            <a:ext cx="1253160" cy="147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485800" y="3525840"/>
            <a:ext cx="3960" cy="1866960"/>
          </a:xfrm>
          <a:prstGeom prst="line">
            <a:avLst/>
          </a:prstGeom>
          <a:ln w="7632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1272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8080" y="1052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30760" y="1351800"/>
            <a:ext cx="1413360" cy="9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102320" y="5380920"/>
            <a:ext cx="1413360" cy="9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360" y="4941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60280"/>
            <a:ext cx="647640" cy="108108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61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380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2036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60000" y="558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184200" y="5442120"/>
            <a:ext cx="517680" cy="648720"/>
            <a:chOff x="3184200" y="5442120"/>
            <a:chExt cx="517680" cy="648720"/>
          </a:xfrm>
        </p:grpSpPr>
        <p:sp>
          <p:nvSpPr>
            <p:cNvPr id="365" name=""/>
            <p:cNvSpPr/>
            <p:nvPr/>
          </p:nvSpPr>
          <p:spPr>
            <a:xfrm>
              <a:off x="3184200" y="5442120"/>
              <a:ext cx="5176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4080" y="5513040"/>
              <a:ext cx="21600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41080" y="530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117800" y="333360"/>
            <a:ext cx="359640" cy="581400"/>
            <a:chOff x="1117800" y="333360"/>
            <a:chExt cx="359640" cy="581400"/>
          </a:xfrm>
        </p:grpSpPr>
        <p:sp>
          <p:nvSpPr>
            <p:cNvPr id="369" name=""/>
            <p:cNvSpPr/>
            <p:nvPr/>
          </p:nvSpPr>
          <p:spPr>
            <a:xfrm>
              <a:off x="111780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61800" y="4795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080" y="189000"/>
            <a:ext cx="497880" cy="581400"/>
            <a:chOff x="1080" y="189000"/>
            <a:chExt cx="497880" cy="581400"/>
          </a:xfrm>
        </p:grpSpPr>
        <p:sp>
          <p:nvSpPr>
            <p:cNvPr id="372" name=""/>
            <p:cNvSpPr/>
            <p:nvPr/>
          </p:nvSpPr>
          <p:spPr>
            <a:xfrm>
              <a:off x="1080" y="18900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6160" y="3348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142160" y="4797360"/>
            <a:ext cx="360000" cy="581400"/>
            <a:chOff x="4142160" y="4797360"/>
            <a:chExt cx="360000" cy="581400"/>
          </a:xfrm>
        </p:grpSpPr>
        <p:sp>
          <p:nvSpPr>
            <p:cNvPr id="375" name=""/>
            <p:cNvSpPr/>
            <p:nvPr/>
          </p:nvSpPr>
          <p:spPr>
            <a:xfrm>
              <a:off x="4142160" y="4797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6520" y="4868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51200" y="2133720"/>
            <a:ext cx="1458000" cy="648720"/>
            <a:chOff x="1051200" y="2133720"/>
            <a:chExt cx="1458000" cy="648720"/>
          </a:xfrm>
        </p:grpSpPr>
        <p:sp>
          <p:nvSpPr>
            <p:cNvPr id="378" name=""/>
            <p:cNvSpPr/>
            <p:nvPr/>
          </p:nvSpPr>
          <p:spPr>
            <a:xfrm>
              <a:off x="1051200" y="2133720"/>
              <a:ext cx="1458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P = 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332000" y="2205000"/>
              <a:ext cx="4316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824360" y="-27000"/>
                <a:ext cx="4356000" cy="17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tonormiran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jed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ijentacije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l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859280" y="2340000"/>
                <a:ext cx="2089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4788000" y="2924280"/>
            <a:ext cx="4176720" cy="2376360"/>
            <a:chOff x="4788000" y="2924280"/>
            <a:chExt cx="4176720" cy="2376360"/>
          </a:xfrm>
        </p:grpSpPr>
        <p:sp>
          <p:nvSpPr>
            <p:cNvPr id="383" name=""/>
            <p:cNvSpPr/>
            <p:nvPr/>
          </p:nvSpPr>
          <p:spPr>
            <a:xfrm>
              <a:off x="5275800" y="292428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4788000" y="3014640"/>
                  <a:ext cx="4176720" cy="22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×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s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a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5186520"/>
                <a:ext cx="414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3851280" y="580536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oment sile za osu jednak je nu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ko je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ila paralelna osi ili je se</a:t>
            </a:r>
            <a:r>
              <a:rPr b="1" lang="sr-Latn-CS" sz="2800" spc="-1" strike="noStrike">
                <a:solidFill>
                  <a:srgbClr val="660066"/>
                </a:solidFill>
                <a:latin typeface="Times New Roman"/>
              </a:rPr>
              <a:t>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861080" y="1700280"/>
                <a:ext cx="40320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116000" y="1341360"/>
            <a:ext cx="0" cy="4032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5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516480" y="2706840"/>
            <a:ext cx="3744720" cy="36129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74960" y="2901240"/>
            <a:ext cx="973080" cy="1183320"/>
            <a:chOff x="6474960" y="2901240"/>
            <a:chExt cx="973080" cy="1183320"/>
          </a:xfrm>
        </p:grpSpPr>
        <p:sp>
          <p:nvSpPr>
            <p:cNvPr id="391" name=""/>
            <p:cNvSpPr/>
            <p:nvPr/>
          </p:nvSpPr>
          <p:spPr>
            <a:xfrm flipV="1">
              <a:off x="6547320" y="2901240"/>
              <a:ext cx="900720" cy="11095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6088400">
              <a:off x="6475680" y="401364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7405920" y="2851200"/>
            <a:ext cx="549000" cy="675720"/>
            <a:chOff x="7405920" y="2851200"/>
            <a:chExt cx="549000" cy="675720"/>
          </a:xfrm>
        </p:grpSpPr>
        <p:grpSp>
          <p:nvGrpSpPr>
            <p:cNvPr id="394" name=""/>
            <p:cNvGrpSpPr/>
            <p:nvPr/>
          </p:nvGrpSpPr>
          <p:grpSpPr>
            <a:xfrm>
              <a:off x="7405920" y="2851200"/>
              <a:ext cx="452160" cy="581400"/>
              <a:chOff x="7405920" y="2851200"/>
              <a:chExt cx="452160" cy="581400"/>
            </a:xfrm>
          </p:grpSpPr>
          <p:sp>
            <p:nvSpPr>
              <p:cNvPr id="395" name=""/>
              <p:cNvSpPr/>
              <p:nvPr/>
            </p:nvSpPr>
            <p:spPr>
              <a:xfrm>
                <a:off x="7405920" y="28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20120" y="2922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762192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173560" y="2058840"/>
            <a:ext cx="548640" cy="675720"/>
            <a:chOff x="5173560" y="2058840"/>
            <a:chExt cx="548640" cy="675720"/>
          </a:xfrm>
        </p:grpSpPr>
        <p:grpSp>
          <p:nvGrpSpPr>
            <p:cNvPr id="399" name=""/>
            <p:cNvGrpSpPr/>
            <p:nvPr/>
          </p:nvGrpSpPr>
          <p:grpSpPr>
            <a:xfrm>
              <a:off x="5173560" y="2058840"/>
              <a:ext cx="452160" cy="581400"/>
              <a:chOff x="5173560" y="2058840"/>
              <a:chExt cx="452160" cy="581400"/>
            </a:xfrm>
          </p:grpSpPr>
          <p:sp>
            <p:nvSpPr>
              <p:cNvPr id="400" name=""/>
              <p:cNvSpPr/>
              <p:nvPr/>
            </p:nvSpPr>
            <p:spPr>
              <a:xfrm>
                <a:off x="5173560" y="2058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387760" y="21297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538920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797560" y="5803920"/>
            <a:ext cx="616680" cy="675720"/>
            <a:chOff x="2797560" y="5803920"/>
            <a:chExt cx="616680" cy="675720"/>
          </a:xfrm>
        </p:grpSpPr>
        <p:grpSp>
          <p:nvGrpSpPr>
            <p:cNvPr id="404" name=""/>
            <p:cNvGrpSpPr/>
            <p:nvPr/>
          </p:nvGrpSpPr>
          <p:grpSpPr>
            <a:xfrm>
              <a:off x="2797560" y="5803920"/>
              <a:ext cx="452160" cy="581400"/>
              <a:chOff x="2797560" y="5803920"/>
              <a:chExt cx="452160" cy="58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2797560" y="580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1760" y="587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3013920" y="6019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973480" y="34988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868840" y="2922480"/>
            <a:ext cx="565920" cy="675720"/>
            <a:chOff x="2868840" y="2922480"/>
            <a:chExt cx="565920" cy="675720"/>
          </a:xfrm>
        </p:grpSpPr>
        <p:grpSp>
          <p:nvGrpSpPr>
            <p:cNvPr id="410" name=""/>
            <p:cNvGrpSpPr/>
            <p:nvPr/>
          </p:nvGrpSpPr>
          <p:grpSpPr>
            <a:xfrm>
              <a:off x="2868840" y="2922480"/>
              <a:ext cx="452160" cy="581400"/>
              <a:chOff x="2868840" y="2922480"/>
              <a:chExt cx="452160" cy="581400"/>
            </a:xfrm>
          </p:grpSpPr>
          <p:sp>
            <p:nvSpPr>
              <p:cNvPr id="411" name=""/>
              <p:cNvSpPr/>
              <p:nvPr/>
            </p:nvSpPr>
            <p:spPr>
              <a:xfrm>
                <a:off x="2868840" y="2922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83040" y="2993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3084840" y="3138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073120" y="2076480"/>
            <a:ext cx="219600" cy="1520640"/>
            <a:chOff x="5073120" y="2076480"/>
            <a:chExt cx="219600" cy="1520640"/>
          </a:xfrm>
        </p:grpSpPr>
        <p:sp>
          <p:nvSpPr>
            <p:cNvPr id="415" name=""/>
            <p:cNvSpPr/>
            <p:nvPr/>
          </p:nvSpPr>
          <p:spPr>
            <a:xfrm flipH="1" flipV="1">
              <a:off x="5073120" y="2076480"/>
              <a:ext cx="169200" cy="1419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3336800">
              <a:off x="5208480" y="351288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612160" y="3492000"/>
            <a:ext cx="1488600" cy="391680"/>
            <a:chOff x="2612160" y="3492000"/>
            <a:chExt cx="1488600" cy="391680"/>
          </a:xfrm>
        </p:grpSpPr>
        <p:sp>
          <p:nvSpPr>
            <p:cNvPr id="418" name=""/>
            <p:cNvSpPr/>
            <p:nvPr/>
          </p:nvSpPr>
          <p:spPr>
            <a:xfrm flipH="1" flipV="1">
              <a:off x="2612160" y="3492000"/>
              <a:ext cx="1391400" cy="3276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138000">
              <a:off x="4018680" y="38016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376440" y="5448240"/>
            <a:ext cx="1013400" cy="1147680"/>
            <a:chOff x="3376440" y="5448240"/>
            <a:chExt cx="1013400" cy="1147680"/>
          </a:xfrm>
        </p:grpSpPr>
        <p:sp>
          <p:nvSpPr>
            <p:cNvPr id="421" name=""/>
            <p:cNvSpPr/>
            <p:nvPr/>
          </p:nvSpPr>
          <p:spPr>
            <a:xfrm flipH="1">
              <a:off x="3376440" y="5519520"/>
              <a:ext cx="940320" cy="1076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12000">
              <a:off x="4320000" y="5448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736520" y="4064760"/>
            <a:ext cx="486720" cy="669600"/>
            <a:chOff x="4736520" y="4064760"/>
            <a:chExt cx="486720" cy="669600"/>
          </a:xfrm>
        </p:grpSpPr>
        <p:sp>
          <p:nvSpPr>
            <p:cNvPr id="424" name=""/>
            <p:cNvSpPr/>
            <p:nvPr/>
          </p:nvSpPr>
          <p:spPr>
            <a:xfrm rot="21437400">
              <a:off x="4751280" y="407520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883040" y="4217040"/>
              <a:ext cx="215640" cy="1008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4060080" y="3829680"/>
            <a:ext cx="1402920" cy="1338840"/>
          </a:xfrm>
          <a:prstGeom prst="line">
            <a:avLst/>
          </a:prstGeom>
          <a:ln w="3816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3994920" y="4830480"/>
            <a:ext cx="139140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9138000">
            <a:off x="5402160" y="5140440"/>
            <a:ext cx="69840" cy="6984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60840" y="5152680"/>
            <a:ext cx="1391040" cy="3276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589560" y="4219560"/>
            <a:ext cx="549000" cy="675720"/>
            <a:chOff x="3589560" y="4219560"/>
            <a:chExt cx="549000" cy="675720"/>
          </a:xfrm>
        </p:grpSpPr>
        <p:grpSp>
          <p:nvGrpSpPr>
            <p:cNvPr id="431" name=""/>
            <p:cNvGrpSpPr/>
            <p:nvPr/>
          </p:nvGrpSpPr>
          <p:grpSpPr>
            <a:xfrm>
              <a:off x="3589560" y="4219560"/>
              <a:ext cx="452160" cy="581400"/>
              <a:chOff x="3589560" y="4219560"/>
              <a:chExt cx="452160" cy="581400"/>
            </a:xfrm>
          </p:grpSpPr>
          <p:sp>
            <p:nvSpPr>
              <p:cNvPr id="432" name=""/>
              <p:cNvSpPr/>
              <p:nvPr/>
            </p:nvSpPr>
            <p:spPr>
              <a:xfrm>
                <a:off x="3589560" y="4219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03760" y="4290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05560" y="443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333840" y="4722840"/>
            <a:ext cx="704880" cy="648720"/>
            <a:chOff x="6333840" y="4722840"/>
            <a:chExt cx="704880" cy="648720"/>
          </a:xfrm>
        </p:grpSpPr>
        <p:sp>
          <p:nvSpPr>
            <p:cNvPr id="436" name=""/>
            <p:cNvSpPr/>
            <p:nvPr/>
          </p:nvSpPr>
          <p:spPr>
            <a:xfrm>
              <a:off x="6333840" y="4722840"/>
              <a:ext cx="704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3400" y="47941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324400" y="2995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84400" y="32115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248000" y="5372280"/>
            <a:ext cx="5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45200" y="5083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0" y="219240"/>
            <a:ext cx="9036000" cy="1623600"/>
            <a:chOff x="0" y="219240"/>
            <a:chExt cx="9036000" cy="1623600"/>
          </a:xfrm>
        </p:grpSpPr>
        <p:sp>
          <p:nvSpPr>
            <p:cNvPr id="443" name=""/>
            <p:cNvSpPr/>
            <p:nvPr/>
          </p:nvSpPr>
          <p:spPr>
            <a:xfrm>
              <a:off x="0" y="219240"/>
              <a:ext cx="9036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II)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PROIZVOLJAN SIS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.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 SILA U PROSTOR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to je kruto telo izloženo silama       sa napadnim tačkama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P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, 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=1,2,...,</a:t>
              </a: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965920" y="695520"/>
              <a:ext cx="549000" cy="675720"/>
              <a:chOff x="5965920" y="695520"/>
              <a:chExt cx="549000" cy="67572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965920" y="695520"/>
                <a:ext cx="452160" cy="581400"/>
                <a:chOff x="5965920" y="695520"/>
                <a:chExt cx="452160" cy="5814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5965920" y="6955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180120" y="7664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"/>
              <p:cNvSpPr/>
              <p:nvPr/>
            </p:nvSpPr>
            <p:spPr>
              <a:xfrm>
                <a:off x="6181920" y="91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7280" y="18900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33"/>
                </a:solidFill>
                <a:latin typeface="Times New Roman"/>
              </a:rPr>
              <a:t>Primenjujući teoremu o redukciji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N p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a svaku silu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u tačku </a:t>
            </a: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ćemo do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sil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a rezulta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lavni vektor momenata sistema sila za tačku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 (redukcioni moment sistem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870200" y="1711440"/>
                <a:ext cx="486252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0" y="4338720"/>
                <a:ext cx="9144000" cy="21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79280" y="1916280"/>
                <a:ext cx="338472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Sup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3" name=""/>
          <p:cNvGrpSpPr/>
          <p:nvPr/>
        </p:nvGrpSpPr>
        <p:grpSpPr>
          <a:xfrm>
            <a:off x="3492360" y="1557360"/>
            <a:ext cx="5400720" cy="3743280"/>
            <a:chOff x="3492360" y="1557360"/>
            <a:chExt cx="5400720" cy="3743280"/>
          </a:xfrm>
        </p:grpSpPr>
        <p:sp>
          <p:nvSpPr>
            <p:cNvPr id="454" name=""/>
            <p:cNvSpPr/>
            <p:nvPr/>
          </p:nvSpPr>
          <p:spPr>
            <a:xfrm>
              <a:off x="3492360" y="1557360"/>
              <a:ext cx="5400720" cy="3743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92360" y="1773360"/>
              <a:ext cx="53294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TORZOR SISTEMA SIL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(STATIČKI EKVIVAL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0066"/>
                  </a:solidFill>
                  <a:latin typeface="Times New Roman"/>
                </a:rPr>
                <a:t>SISTEMA SILA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1T18:38:03Z</dcterms:modified>
  <cp:revision>307</cp:revision>
  <dc:subject/>
  <dc:title>Slide 1</dc:title>
</cp:coreProperties>
</file>