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270-6B73-4ED1-BBBB-370AF9A9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193-510F-44D2-A06E-94FDA2AC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CE1-B1CC-4BB5-8331-AB4DCCB3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7CF-B99B-4716-8BA9-D7A1D974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6939-B00C-4408-BE57-4357E76C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F70D-55B0-495A-BE75-8F42D0C0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5882-7D1B-4AFB-8D29-F8964DF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F9A5-FDA9-4460-8A74-7F3C5223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8FC2-2D22-4AD0-AE19-715EC763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7BAE-C9FF-4EE0-9466-228F638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4D7C-3EE5-4E55-9EF2-E29F93C5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38F-D143-4EEC-B597-628CB053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C1FB-558D-41DD-8BA2-C3DC788D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26A8-BF03-47E1-8449-77F96B8F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7024-D472-4480-9738-8BCE1410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A6E4-F573-4284-8400-6DAFE59E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DF1A-ADA7-4EEB-9335-DFDF3764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E25-8470-467E-9BB4-9A57780C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4A5-A768-451E-BDC8-3EDFBBF5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98F-70AA-47D2-A171-8D10C6B9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0BB-39C0-40DF-ABAE-9A31B2B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9CF-AE8B-41B1-9BC4-837D97A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2F1-B708-4514-9A89-8131068F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DDB-9C37-46F3-AAD2-2E396E4D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E3D-7EE1-4F10-834F-76286CC50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EA90-F468-4B35-B120-78FD18B95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189000"/>
                <a:ext cx="584964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4000" y="3429000"/>
                <a:ext cx="591948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32120" y="0"/>
            <a:ext cx="45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reć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traedarske k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1052640"/>
            <a:ext cx="8893080" cy="5792400"/>
            <a:chOff x="250920" y="1052640"/>
            <a:chExt cx="8893080" cy="5792400"/>
          </a:xfrm>
        </p:grpSpPr>
        <p:sp>
          <p:nvSpPr>
            <p:cNvPr id="550" name=""/>
            <p:cNvSpPr/>
            <p:nvPr/>
          </p:nvSpPr>
          <p:spPr>
            <a:xfrm>
              <a:off x="250920" y="1052640"/>
              <a:ext cx="8893080" cy="57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eka je sistem sila zamenjen krstom sila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 je moguće zameniti trima komponentama u ravni sile,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a koja ne sadrži  pravu određenu tačkama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 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R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č je o tri komponente čije linije dejstva obrazuju trougao A-B-C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sa napadnom tačkom u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, onda je moguće razložiti u tri nekomplanarna pravca: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,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,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. Tako se krst sila sada svodi na šest sila čiji se pravci poklapaju sa ivicama tetraedra: ABC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Algebarske vrednosti ovih sila u odnosu na orijentisane pravce ivica tetraedra nazivaju se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tetraedarske koordinat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8360" y="2133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4360" y="30686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72360" y="1125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25560" y="3220200"/>
            <a:ext cx="1268280" cy="39672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102560" y="2084760"/>
            <a:ext cx="3612600" cy="391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48320" y="4079160"/>
            <a:ext cx="1223640" cy="133776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96840" y="1514160"/>
            <a:ext cx="2369520" cy="2416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4560120" y="58320"/>
            <a:ext cx="63360" cy="6517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913800" y="993600"/>
            <a:ext cx="360000" cy="581400"/>
            <a:chOff x="6913800" y="993600"/>
            <a:chExt cx="360000" cy="581400"/>
          </a:xfrm>
        </p:grpSpPr>
        <p:sp>
          <p:nvSpPr>
            <p:cNvPr id="561" name=""/>
            <p:cNvSpPr/>
            <p:nvPr/>
          </p:nvSpPr>
          <p:spPr>
            <a:xfrm>
              <a:off x="6913800" y="9936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58160" y="10648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665440" y="2031120"/>
            <a:ext cx="1954080" cy="19180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802040" y="6080040"/>
            <a:ext cx="406440" cy="581400"/>
            <a:chOff x="4802040" y="6080040"/>
            <a:chExt cx="406440" cy="581400"/>
          </a:xfrm>
        </p:grpSpPr>
        <p:sp>
          <p:nvSpPr>
            <p:cNvPr id="565" name=""/>
            <p:cNvSpPr/>
            <p:nvPr/>
          </p:nvSpPr>
          <p:spPr>
            <a:xfrm>
              <a:off x="4802040" y="6080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46760" y="6226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39600" y="1589040"/>
            <a:ext cx="497880" cy="581400"/>
            <a:chOff x="2739600" y="1589040"/>
            <a:chExt cx="497880" cy="581400"/>
          </a:xfrm>
        </p:grpSpPr>
        <p:sp>
          <p:nvSpPr>
            <p:cNvPr id="568" name=""/>
            <p:cNvSpPr/>
            <p:nvPr/>
          </p:nvSpPr>
          <p:spPr>
            <a:xfrm>
              <a:off x="2739600" y="1589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4680" y="1735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5840" y="5046840"/>
            <a:ext cx="565200" cy="686160"/>
            <a:chOff x="4875840" y="5046840"/>
            <a:chExt cx="565200" cy="686160"/>
          </a:xfrm>
        </p:grpSpPr>
        <p:sp>
          <p:nvSpPr>
            <p:cNvPr id="571" name=""/>
            <p:cNvSpPr/>
            <p:nvPr/>
          </p:nvSpPr>
          <p:spPr>
            <a:xfrm rot="21340200">
              <a:off x="4899240" y="506556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017680" y="5119560"/>
              <a:ext cx="359280" cy="27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18865800">
            <a:off x="4036680" y="50065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034800" y="254520"/>
            <a:ext cx="1527840" cy="1443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57360" y="230040"/>
            <a:ext cx="635040" cy="648720"/>
            <a:chOff x="2457360" y="230040"/>
            <a:chExt cx="635040" cy="648720"/>
          </a:xfrm>
        </p:grpSpPr>
        <p:sp>
          <p:nvSpPr>
            <p:cNvPr id="576" name=""/>
            <p:cNvSpPr/>
            <p:nvPr/>
          </p:nvSpPr>
          <p:spPr>
            <a:xfrm>
              <a:off x="2457360" y="2300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86240" y="3013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4649040" y="4101480"/>
            <a:ext cx="1223280" cy="133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436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8436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5636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258920" y="2997360"/>
            <a:ext cx="7129440" cy="2160360"/>
          </a:xfrm>
          <a:prstGeom prst="line">
            <a:avLst/>
          </a:prstGeom>
          <a:ln w="3816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24720" y="2276640"/>
            <a:ext cx="71640" cy="1008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27280" y="2276640"/>
            <a:ext cx="1297080" cy="431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305040" y="3220200"/>
            <a:ext cx="1268280" cy="39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22296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89760" y="4165560"/>
            <a:ext cx="780120" cy="6019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149720"/>
            <a:ext cx="503280" cy="216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987280" y="4365720"/>
            <a:ext cx="792360" cy="647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16400" y="4768560"/>
            <a:ext cx="518760" cy="23976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52840" y="2565360"/>
            <a:ext cx="543600" cy="648720"/>
            <a:chOff x="6252840" y="2565360"/>
            <a:chExt cx="543600" cy="648720"/>
          </a:xfrm>
        </p:grpSpPr>
        <p:sp>
          <p:nvSpPr>
            <p:cNvPr id="592" name=""/>
            <p:cNvSpPr/>
            <p:nvPr/>
          </p:nvSpPr>
          <p:spPr>
            <a:xfrm>
              <a:off x="625284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820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53320" y="3716280"/>
            <a:ext cx="635040" cy="648720"/>
            <a:chOff x="2353320" y="3716280"/>
            <a:chExt cx="635040" cy="648720"/>
          </a:xfrm>
        </p:grpSpPr>
        <p:sp>
          <p:nvSpPr>
            <p:cNvPr id="595" name=""/>
            <p:cNvSpPr/>
            <p:nvPr/>
          </p:nvSpPr>
          <p:spPr>
            <a:xfrm>
              <a:off x="2353320" y="371628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82920" y="378756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46720" y="5013360"/>
            <a:ext cx="726480" cy="648720"/>
            <a:chOff x="2646720" y="5013360"/>
            <a:chExt cx="726480" cy="648720"/>
          </a:xfrm>
        </p:grpSpPr>
        <p:sp>
          <p:nvSpPr>
            <p:cNvPr id="598" name=""/>
            <p:cNvSpPr/>
            <p:nvPr/>
          </p:nvSpPr>
          <p:spPr>
            <a:xfrm>
              <a:off x="2646720" y="501336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70200" y="5084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909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8980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652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204680" y="3429000"/>
            <a:ext cx="1668600" cy="654480"/>
            <a:chOff x="7204680" y="3429000"/>
            <a:chExt cx="1668600" cy="654480"/>
          </a:xfrm>
        </p:grpSpPr>
        <p:grpSp>
          <p:nvGrpSpPr>
            <p:cNvPr id="604" name=""/>
            <p:cNvGrpSpPr/>
            <p:nvPr/>
          </p:nvGrpSpPr>
          <p:grpSpPr>
            <a:xfrm>
              <a:off x="7204680" y="3429000"/>
              <a:ext cx="635040" cy="648720"/>
              <a:chOff x="7204680" y="3429000"/>
              <a:chExt cx="635040" cy="648720"/>
            </a:xfrm>
          </p:grpSpPr>
          <p:sp>
            <p:nvSpPr>
              <p:cNvPr id="605" name=""/>
              <p:cNvSpPr/>
              <p:nvPr/>
            </p:nvSpPr>
            <p:spPr>
              <a:xfrm>
                <a:off x="7204680" y="3429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3392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146800" y="3429000"/>
              <a:ext cx="726480" cy="648720"/>
              <a:chOff x="8146800" y="3429000"/>
              <a:chExt cx="726480" cy="648720"/>
            </a:xfrm>
          </p:grpSpPr>
          <p:sp>
            <p:nvSpPr>
              <p:cNvPr id="608" name=""/>
              <p:cNvSpPr/>
              <p:nvPr/>
            </p:nvSpPr>
            <p:spPr>
              <a:xfrm>
                <a:off x="8146800" y="3429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7028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768800" y="3502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530840" y="1844640"/>
            <a:ext cx="517680" cy="648720"/>
            <a:chOff x="7530840" y="1844640"/>
            <a:chExt cx="517680" cy="648720"/>
          </a:xfrm>
        </p:grpSpPr>
        <p:sp>
          <p:nvSpPr>
            <p:cNvPr id="612" name=""/>
            <p:cNvSpPr/>
            <p:nvPr/>
          </p:nvSpPr>
          <p:spPr>
            <a:xfrm>
              <a:off x="7530840" y="184464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7640" y="1915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248400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651560" y="105048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4520" y="244440"/>
            <a:ext cx="195840" cy="55584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676600" y="1612800"/>
            <a:ext cx="1967400" cy="16992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243960" y="4437000"/>
            <a:ext cx="1668600" cy="654480"/>
            <a:chOff x="3243960" y="4437000"/>
            <a:chExt cx="1668600" cy="654480"/>
          </a:xfrm>
        </p:grpSpPr>
        <p:grpSp>
          <p:nvGrpSpPr>
            <p:cNvPr id="621" name=""/>
            <p:cNvGrpSpPr/>
            <p:nvPr/>
          </p:nvGrpSpPr>
          <p:grpSpPr>
            <a:xfrm>
              <a:off x="3243960" y="4437000"/>
              <a:ext cx="635040" cy="648720"/>
              <a:chOff x="3243960" y="4437000"/>
              <a:chExt cx="635040" cy="648720"/>
            </a:xfrm>
          </p:grpSpPr>
          <p:sp>
            <p:nvSpPr>
              <p:cNvPr id="622" name=""/>
              <p:cNvSpPr/>
              <p:nvPr/>
            </p:nvSpPr>
            <p:spPr>
              <a:xfrm>
                <a:off x="3243960" y="4437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7320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186080" y="4437000"/>
              <a:ext cx="726480" cy="648720"/>
              <a:chOff x="4186080" y="4437000"/>
              <a:chExt cx="726480" cy="648720"/>
            </a:xfrm>
          </p:grpSpPr>
          <p:sp>
            <p:nvSpPr>
              <p:cNvPr id="625" name=""/>
              <p:cNvSpPr/>
              <p:nvPr/>
            </p:nvSpPr>
            <p:spPr>
              <a:xfrm>
                <a:off x="4186080" y="4437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0956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808080" y="4510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 flipV="1">
            <a:off x="3215160" y="772920"/>
            <a:ext cx="1877040" cy="27504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2880" y="1252080"/>
            <a:ext cx="195840" cy="55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91720" y="761040"/>
            <a:ext cx="547920" cy="85068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240000" y="794160"/>
            <a:ext cx="1334880" cy="963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068640" y="282960"/>
            <a:ext cx="1334880" cy="96336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8094200">
            <a:off x="3988080" y="7664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8094200">
            <a:off x="4056480" y="4422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58080" y="1268280"/>
            <a:ext cx="569520" cy="648720"/>
            <a:chOff x="5158080" y="1268280"/>
            <a:chExt cx="569520" cy="648720"/>
          </a:xfrm>
        </p:grpSpPr>
        <p:sp>
          <p:nvSpPr>
            <p:cNvPr id="636" name=""/>
            <p:cNvSpPr/>
            <p:nvPr/>
          </p:nvSpPr>
          <p:spPr>
            <a:xfrm>
              <a:off x="515808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91280" y="133956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216760" y="3068640"/>
            <a:ext cx="569520" cy="648720"/>
            <a:chOff x="5216760" y="3068640"/>
            <a:chExt cx="569520" cy="648720"/>
          </a:xfrm>
        </p:grpSpPr>
        <p:sp>
          <p:nvSpPr>
            <p:cNvPr id="639" name=""/>
            <p:cNvSpPr/>
            <p:nvPr/>
          </p:nvSpPr>
          <p:spPr>
            <a:xfrm>
              <a:off x="521676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996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213360" y="2349360"/>
            <a:ext cx="569520" cy="648720"/>
            <a:chOff x="3213360" y="2349360"/>
            <a:chExt cx="569520" cy="648720"/>
          </a:xfrm>
        </p:grpSpPr>
        <p:sp>
          <p:nvSpPr>
            <p:cNvPr id="642" name=""/>
            <p:cNvSpPr/>
            <p:nvPr/>
          </p:nvSpPr>
          <p:spPr>
            <a:xfrm>
              <a:off x="321336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4656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 rot="18865800">
            <a:off x="3962160" y="146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81440" y="5516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0920" y="2852640"/>
                <a:ext cx="30589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76400" y="1890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966ff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95280" y="5805360"/>
                <a:ext cx="41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ETRA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OOR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826 L 0.17673 -0.25827 E">
                                      <p:cBhvr>
                                        <p:cTn id="45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79 0.03307 L -0.41632 0.16948 E">
                                      <p:cBhvr>
                                        <p:cTn id="48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601 L 0.17726 -0.18242 E">
                                      <p:cBhvr>
                                        <p:cTn id="52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0116E-006 L 0.17327 -0.16786 E">
                                      <p:cBhvr>
                                        <p:cTn id="52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0.01826 L 0.24357 0.14404 E">
                                      <p:cBhvr>
                                        <p:cTn id="528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0.04185 L 0.15503 0.10474 E">
                                      <p:cBhvr>
                                        <p:cTn id="53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3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46 0.01111 L 0.18628 0.02153 E">
                                      <p:cBhvr>
                                        <p:cTn id="607" dur="3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4583 L 0.06198 0.20324 E">
                                      <p:cBhvr>
                                        <p:cTn id="60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4491 L -0.10486 0.1919 E">
                                      <p:cBhvr>
                                        <p:cTn id="611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etvrt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557360"/>
            <a:ext cx="5040360" cy="5111640"/>
          </a:xfrm>
          <a:custGeom>
            <a:avLst/>
            <a:gdLst/>
            <a:ahLst/>
            <a:rect l="l" t="t" r="r" b="b"/>
            <a:pathLst>
              <a:path w="2321" h="2020">
                <a:moveTo>
                  <a:pt x="1874" y="311"/>
                </a:moveTo>
                <a:cubicBezTo>
                  <a:pt x="1854" y="250"/>
                  <a:pt x="1847" y="180"/>
                  <a:pt x="1792" y="137"/>
                </a:cubicBezTo>
                <a:cubicBezTo>
                  <a:pt x="1760" y="112"/>
                  <a:pt x="1713" y="123"/>
                  <a:pt x="1673" y="119"/>
                </a:cubicBezTo>
                <a:cubicBezTo>
                  <a:pt x="1542" y="105"/>
                  <a:pt x="1412" y="84"/>
                  <a:pt x="1280" y="73"/>
                </a:cubicBezTo>
                <a:cubicBezTo>
                  <a:pt x="1174" y="39"/>
                  <a:pt x="1062" y="12"/>
                  <a:pt x="951" y="0"/>
                </a:cubicBezTo>
                <a:cubicBezTo>
                  <a:pt x="871" y="6"/>
                  <a:pt x="791" y="8"/>
                  <a:pt x="713" y="27"/>
                </a:cubicBezTo>
                <a:cubicBezTo>
                  <a:pt x="674" y="56"/>
                  <a:pt x="635" y="67"/>
                  <a:pt x="594" y="91"/>
                </a:cubicBezTo>
                <a:cubicBezTo>
                  <a:pt x="543" y="120"/>
                  <a:pt x="505" y="160"/>
                  <a:pt x="457" y="192"/>
                </a:cubicBezTo>
                <a:cubicBezTo>
                  <a:pt x="412" y="259"/>
                  <a:pt x="340" y="302"/>
                  <a:pt x="292" y="366"/>
                </a:cubicBezTo>
                <a:cubicBezTo>
                  <a:pt x="269" y="397"/>
                  <a:pt x="255" y="431"/>
                  <a:pt x="228" y="457"/>
                </a:cubicBezTo>
                <a:cubicBezTo>
                  <a:pt x="202" y="510"/>
                  <a:pt x="158" y="551"/>
                  <a:pt x="128" y="603"/>
                </a:cubicBezTo>
                <a:cubicBezTo>
                  <a:pt x="71" y="703"/>
                  <a:pt x="28" y="802"/>
                  <a:pt x="0" y="914"/>
                </a:cubicBezTo>
                <a:cubicBezTo>
                  <a:pt x="4" y="977"/>
                  <a:pt x="5" y="1058"/>
                  <a:pt x="18" y="1124"/>
                </a:cubicBezTo>
                <a:cubicBezTo>
                  <a:pt x="28" y="1175"/>
                  <a:pt x="57" y="1218"/>
                  <a:pt x="64" y="1271"/>
                </a:cubicBezTo>
                <a:cubicBezTo>
                  <a:pt x="84" y="1424"/>
                  <a:pt x="69" y="1612"/>
                  <a:pt x="228" y="1691"/>
                </a:cubicBezTo>
                <a:cubicBezTo>
                  <a:pt x="284" y="1783"/>
                  <a:pt x="221" y="1701"/>
                  <a:pt x="302" y="1755"/>
                </a:cubicBezTo>
                <a:cubicBezTo>
                  <a:pt x="354" y="1790"/>
                  <a:pt x="322" y="1790"/>
                  <a:pt x="366" y="1828"/>
                </a:cubicBezTo>
                <a:cubicBezTo>
                  <a:pt x="509" y="1954"/>
                  <a:pt x="740" y="1916"/>
                  <a:pt x="905" y="1920"/>
                </a:cubicBezTo>
                <a:cubicBezTo>
                  <a:pt x="923" y="1926"/>
                  <a:pt x="942" y="1932"/>
                  <a:pt x="960" y="1938"/>
                </a:cubicBezTo>
                <a:cubicBezTo>
                  <a:pt x="969" y="1941"/>
                  <a:pt x="987" y="1947"/>
                  <a:pt x="987" y="1947"/>
                </a:cubicBezTo>
                <a:cubicBezTo>
                  <a:pt x="1047" y="2007"/>
                  <a:pt x="1201" y="2013"/>
                  <a:pt x="1280" y="2020"/>
                </a:cubicBezTo>
                <a:cubicBezTo>
                  <a:pt x="1365" y="2017"/>
                  <a:pt x="1451" y="2016"/>
                  <a:pt x="1536" y="2011"/>
                </a:cubicBezTo>
                <a:cubicBezTo>
                  <a:pt x="1587" y="2008"/>
                  <a:pt x="1627" y="1953"/>
                  <a:pt x="1673" y="1938"/>
                </a:cubicBezTo>
                <a:cubicBezTo>
                  <a:pt x="1760" y="1875"/>
                  <a:pt x="1878" y="1882"/>
                  <a:pt x="1966" y="1819"/>
                </a:cubicBezTo>
                <a:cubicBezTo>
                  <a:pt x="1976" y="1812"/>
                  <a:pt x="1983" y="1800"/>
                  <a:pt x="1993" y="1792"/>
                </a:cubicBezTo>
                <a:cubicBezTo>
                  <a:pt x="2022" y="1768"/>
                  <a:pt x="2017" y="1783"/>
                  <a:pt x="2039" y="1755"/>
                </a:cubicBezTo>
                <a:cubicBezTo>
                  <a:pt x="2079" y="1706"/>
                  <a:pt x="2087" y="1641"/>
                  <a:pt x="2103" y="1582"/>
                </a:cubicBezTo>
                <a:cubicBezTo>
                  <a:pt x="2118" y="1526"/>
                  <a:pt x="2142" y="1473"/>
                  <a:pt x="2158" y="1417"/>
                </a:cubicBezTo>
                <a:cubicBezTo>
                  <a:pt x="2176" y="1352"/>
                  <a:pt x="2193" y="1290"/>
                  <a:pt x="2231" y="1234"/>
                </a:cubicBezTo>
                <a:cubicBezTo>
                  <a:pt x="2252" y="1170"/>
                  <a:pt x="2292" y="1116"/>
                  <a:pt x="2313" y="1051"/>
                </a:cubicBezTo>
                <a:cubicBezTo>
                  <a:pt x="2308" y="948"/>
                  <a:pt x="2321" y="798"/>
                  <a:pt x="2258" y="704"/>
                </a:cubicBezTo>
                <a:cubicBezTo>
                  <a:pt x="2236" y="637"/>
                  <a:pt x="2254" y="662"/>
                  <a:pt x="2212" y="622"/>
                </a:cubicBezTo>
                <a:cubicBezTo>
                  <a:pt x="2200" y="572"/>
                  <a:pt x="2172" y="504"/>
                  <a:pt x="2130" y="475"/>
                </a:cubicBezTo>
                <a:cubicBezTo>
                  <a:pt x="2127" y="466"/>
                  <a:pt x="2128" y="455"/>
                  <a:pt x="2121" y="448"/>
                </a:cubicBezTo>
                <a:cubicBezTo>
                  <a:pt x="2092" y="419"/>
                  <a:pt x="1985" y="342"/>
                  <a:pt x="1947" y="320"/>
                </a:cubicBezTo>
                <a:cubicBezTo>
                  <a:pt x="1923" y="306"/>
                  <a:pt x="1900" y="311"/>
                  <a:pt x="1874" y="3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98560" y="2420640"/>
            <a:ext cx="3455640" cy="3886920"/>
            <a:chOff x="898560" y="2420640"/>
            <a:chExt cx="3455640" cy="3886920"/>
          </a:xfrm>
        </p:grpSpPr>
        <p:sp>
          <p:nvSpPr>
            <p:cNvPr id="652" name=""/>
            <p:cNvSpPr/>
            <p:nvPr/>
          </p:nvSpPr>
          <p:spPr>
            <a:xfrm flipV="1">
              <a:off x="898560" y="3457080"/>
              <a:ext cx="3455640" cy="18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908880" y="3457080"/>
              <a:ext cx="44460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8560" y="5269320"/>
              <a:ext cx="30106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2124360" y="2420640"/>
              <a:ext cx="1784520" cy="38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98560" y="2421000"/>
              <a:ext cx="122616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4720" y="2421000"/>
              <a:ext cx="22294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57" idx="0"/>
              <a:endCxn id="655" idx="0"/>
            </p:cNvCxnSpPr>
            <p:nvPr/>
          </p:nvCxnSpPr>
          <p:spPr>
            <a:xfrm flipH="1">
              <a:off x="3908520" y="3456720"/>
              <a:ext cx="445320" cy="28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 flipH="1" flipV="1">
            <a:off x="2122560" y="2420640"/>
            <a:ext cx="107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2421000"/>
            <a:ext cx="863640" cy="20160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16000" y="3429000"/>
            <a:ext cx="360360" cy="581400"/>
            <a:chOff x="1116000" y="3429000"/>
            <a:chExt cx="360360" cy="581400"/>
          </a:xfrm>
        </p:grpSpPr>
        <p:sp>
          <p:nvSpPr>
            <p:cNvPr id="662" name=""/>
            <p:cNvSpPr/>
            <p:nvPr/>
          </p:nvSpPr>
          <p:spPr>
            <a:xfrm>
              <a:off x="1116000" y="3429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0360" y="3500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 flipV="1">
            <a:off x="2122200" y="2420640"/>
            <a:ext cx="1871640" cy="86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492360" y="2563920"/>
            <a:ext cx="406440" cy="581400"/>
            <a:chOff x="3492360" y="2563920"/>
            <a:chExt cx="406440" cy="581400"/>
          </a:xfrm>
        </p:grpSpPr>
        <p:sp>
          <p:nvSpPr>
            <p:cNvPr id="666" name=""/>
            <p:cNvSpPr/>
            <p:nvPr/>
          </p:nvSpPr>
          <p:spPr>
            <a:xfrm>
              <a:off x="3492360" y="25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7080" y="2709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55280" y="4579920"/>
            <a:ext cx="497880" cy="581400"/>
            <a:chOff x="2555280" y="4579920"/>
            <a:chExt cx="497880" cy="581400"/>
          </a:xfrm>
        </p:grpSpPr>
        <p:sp>
          <p:nvSpPr>
            <p:cNvPr id="669" name=""/>
            <p:cNvSpPr/>
            <p:nvPr/>
          </p:nvSpPr>
          <p:spPr>
            <a:xfrm>
              <a:off x="2555280" y="457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0360" y="472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839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03840" y="1743480"/>
            <a:ext cx="2640960" cy="70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34080" y="1197000"/>
            <a:ext cx="569520" cy="648720"/>
            <a:chOff x="3934080" y="1197000"/>
            <a:chExt cx="569520" cy="648720"/>
          </a:xfrm>
        </p:grpSpPr>
        <p:sp>
          <p:nvSpPr>
            <p:cNvPr id="674" name=""/>
            <p:cNvSpPr/>
            <p:nvPr/>
          </p:nvSpPr>
          <p:spPr>
            <a:xfrm>
              <a:off x="393408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67280" y="12682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rot="20828400">
            <a:off x="3997080" y="230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828400">
            <a:off x="541440" y="4105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0828400">
            <a:off x="3565440" y="5113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20828400">
            <a:off x="1779480" y="1267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08000" y="484200"/>
                <a:ext cx="712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39708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97440" y="573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5780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628720" y="3524760"/>
            <a:ext cx="379080" cy="888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74920" y="3051000"/>
            <a:ext cx="367920" cy="8481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95800" y="2561400"/>
            <a:ext cx="1174680" cy="52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9160" y="5589720"/>
            <a:ext cx="609120" cy="648720"/>
            <a:chOff x="839160" y="5589720"/>
            <a:chExt cx="609120" cy="648720"/>
          </a:xfrm>
        </p:grpSpPr>
        <p:sp>
          <p:nvSpPr>
            <p:cNvPr id="688" name=""/>
            <p:cNvSpPr/>
            <p:nvPr/>
          </p:nvSpPr>
          <p:spPr>
            <a:xfrm>
              <a:off x="839160" y="5589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840" y="5661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55160" y="5373720"/>
            <a:ext cx="609120" cy="648720"/>
            <a:chOff x="2855160" y="5373720"/>
            <a:chExt cx="609120" cy="648720"/>
          </a:xfrm>
        </p:grpSpPr>
        <p:sp>
          <p:nvSpPr>
            <p:cNvPr id="691" name=""/>
            <p:cNvSpPr/>
            <p:nvPr/>
          </p:nvSpPr>
          <p:spPr>
            <a:xfrm>
              <a:off x="2855160" y="537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5840" y="544500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368240" y="3860640"/>
            <a:ext cx="609120" cy="648720"/>
            <a:chOff x="4368240" y="3860640"/>
            <a:chExt cx="609120" cy="648720"/>
          </a:xfrm>
        </p:grpSpPr>
        <p:sp>
          <p:nvSpPr>
            <p:cNvPr id="694" name=""/>
            <p:cNvSpPr/>
            <p:nvPr/>
          </p:nvSpPr>
          <p:spPr>
            <a:xfrm>
              <a:off x="436824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98920" y="393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148360" y="1557360"/>
            <a:ext cx="3995640" cy="5050440"/>
            <a:chOff x="5148360" y="1557360"/>
            <a:chExt cx="3995640" cy="5050440"/>
          </a:xfrm>
        </p:grpSpPr>
        <p:sp>
          <p:nvSpPr>
            <p:cNvPr id="697" name=""/>
            <p:cNvSpPr/>
            <p:nvPr/>
          </p:nvSpPr>
          <p:spPr>
            <a:xfrm>
              <a:off x="5148360" y="1557360"/>
              <a:ext cx="3995640" cy="50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Neka je dat sistem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a napad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(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=1,...,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). Spajajući napadne tačke sila sa usvojenim nekolinear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dobija se 3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pravaca, na koje se razlaže svaka od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na komponente. Dakle u svakoj od tri tačke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eći će se po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komponenata datih sila koje se slažu 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,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C.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59640" y="162864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88360" y="422100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764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7236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4872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6682 L -0.10659 0.32901 E">
                                      <p:cBhvr>
                                        <p:cTn id="674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07907 L 0.09219 0.26774 E">
                                      <p:cBhvr>
                                        <p:cTn id="67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84 L 0.21319 0.13017 E">
                                      <p:cBhvr>
                                        <p:cTn id="680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55640" y="6137280"/>
            <a:ext cx="5040360" cy="720720"/>
          </a:xfrm>
          <a:prstGeom prst="wedgeRoundRectCallout">
            <a:avLst>
              <a:gd name="adj1" fmla="val 59449"/>
              <a:gd name="adj2" fmla="val -4407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3789360"/>
            <a:ext cx="5040360" cy="720720"/>
          </a:xfrm>
          <a:prstGeom prst="wedgeRoundRectCallout">
            <a:avLst>
              <a:gd name="adj1" fmla="val 56615"/>
              <a:gd name="adj2" fmla="val -16300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2924280"/>
            <a:ext cx="5040000" cy="720720"/>
          </a:xfrm>
          <a:prstGeom prst="wedgeRoundRectCallout">
            <a:avLst>
              <a:gd name="adj1" fmla="val 56143"/>
              <a:gd name="adj2" fmla="val -31055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413000"/>
            <a:ext cx="4753080" cy="720720"/>
          </a:xfrm>
          <a:prstGeom prst="wedgeRoundRectCallout">
            <a:avLst>
              <a:gd name="adj1" fmla="val 63194"/>
              <a:gd name="adj2" fmla="val -50662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56360" y="5950080"/>
            <a:ext cx="2987640" cy="1079280"/>
          </a:xfrm>
          <a:prstGeom prst="wedgeRoundRectCallout">
            <a:avLst>
              <a:gd name="adj1" fmla="val -38893"/>
              <a:gd name="adj2" fmla="val 1206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istem sila je u 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vnot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66"/>
                </a:solidFill>
                <a:uFillTx/>
                <a:latin typeface="Times New Roman"/>
              </a:rPr>
              <a:t>Rezime o redukciji proizvoljnog sistema sila u prostoru: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2852640"/>
            <a:ext cx="3348000" cy="792360"/>
          </a:xfrm>
          <a:prstGeom prst="wedgeRoundRectCallout">
            <a:avLst>
              <a:gd name="adj1" fmla="val -40421"/>
              <a:gd name="adj2" fmla="val -1902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zul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12000" y="3789360"/>
            <a:ext cx="3132000" cy="863640"/>
          </a:xfrm>
          <a:prstGeom prst="wedgeRoundRectCallout">
            <a:avLst>
              <a:gd name="adj1" fmla="val -51370"/>
              <a:gd name="adj2" fmla="val -20222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5229360"/>
            <a:ext cx="7596360" cy="792000"/>
          </a:xfrm>
          <a:prstGeom prst="wedgeRoundRectCallout">
            <a:avLst>
              <a:gd name="adj1" fmla="val 342"/>
              <a:gd name="adj2" fmla="val -32967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ni vektor momenata je nezavistan od položaja redukcio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21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2349360"/>
            <a:ext cx="7489800" cy="503280"/>
          </a:xfrm>
          <a:prstGeom prst="wedgeRoundRectCallout">
            <a:avLst>
              <a:gd name="adj1" fmla="val 14412"/>
              <a:gd name="adj2" fmla="val -9037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neograničeno mnogo načina za slučaj 1.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24360" y="765000"/>
            <a:ext cx="3419640" cy="1584360"/>
          </a:xfrm>
          <a:prstGeom prst="wedgeRoundRectCallout">
            <a:avLst>
              <a:gd name="adj1" fmla="val -43129"/>
              <a:gd name="adj2" fmla="val -2043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sile (krst s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6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6920" y="4581360"/>
            <a:ext cx="5040360" cy="720720"/>
          </a:xfrm>
          <a:prstGeom prst="wedgeRoundRectCallout">
            <a:avLst>
              <a:gd name="adj1" fmla="val 57495"/>
              <a:gd name="adj2" fmla="val 46476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9280" y="476280"/>
                <a:ext cx="5446800" cy="637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3708360" y="479736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403280" y="105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R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noteža sistema si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u pros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95280" y="2954160"/>
                <a:ext cx="8353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852720" y="40784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66"/>
                </a:solidFill>
                <a:latin typeface="Times New Roman"/>
              </a:rPr>
              <a:t>statički ekv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87280" y="1773360"/>
            <a:ext cx="6121440" cy="5084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d7d1b9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797440" y="4410000"/>
            <a:ext cx="548640" cy="675720"/>
            <a:chOff x="5797440" y="4410000"/>
            <a:chExt cx="548640" cy="675720"/>
          </a:xfrm>
        </p:grpSpPr>
        <p:grpSp>
          <p:nvGrpSpPr>
            <p:cNvPr id="723" name=""/>
            <p:cNvGrpSpPr/>
            <p:nvPr/>
          </p:nvGrpSpPr>
          <p:grpSpPr>
            <a:xfrm>
              <a:off x="5797440" y="4410000"/>
              <a:ext cx="452160" cy="581400"/>
              <a:chOff x="5797440" y="4410000"/>
              <a:chExt cx="452160" cy="581400"/>
            </a:xfrm>
          </p:grpSpPr>
          <p:sp>
            <p:nvSpPr>
              <p:cNvPr id="724" name=""/>
              <p:cNvSpPr/>
              <p:nvPr/>
            </p:nvSpPr>
            <p:spPr>
              <a:xfrm>
                <a:off x="5797440" y="4410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1640" y="4480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6013080" y="462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97440" y="2249640"/>
            <a:ext cx="549000" cy="675360"/>
            <a:chOff x="3997440" y="2249640"/>
            <a:chExt cx="549000" cy="675360"/>
          </a:xfrm>
        </p:grpSpPr>
        <p:grpSp>
          <p:nvGrpSpPr>
            <p:cNvPr id="728" name=""/>
            <p:cNvGrpSpPr/>
            <p:nvPr/>
          </p:nvGrpSpPr>
          <p:grpSpPr>
            <a:xfrm>
              <a:off x="3997440" y="2249640"/>
              <a:ext cx="452160" cy="581400"/>
              <a:chOff x="3997440" y="2249640"/>
              <a:chExt cx="452160" cy="581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997440" y="224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11640" y="2320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21344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089520" y="4697280"/>
            <a:ext cx="616680" cy="675720"/>
            <a:chOff x="3089520" y="4697280"/>
            <a:chExt cx="616680" cy="675720"/>
          </a:xfrm>
        </p:grpSpPr>
        <p:grpSp>
          <p:nvGrpSpPr>
            <p:cNvPr id="733" name=""/>
            <p:cNvGrpSpPr/>
            <p:nvPr/>
          </p:nvGrpSpPr>
          <p:grpSpPr>
            <a:xfrm>
              <a:off x="3089520" y="4697280"/>
              <a:ext cx="452160" cy="581400"/>
              <a:chOff x="3089520" y="4697280"/>
              <a:chExt cx="452160" cy="581400"/>
            </a:xfrm>
          </p:grpSpPr>
          <p:sp>
            <p:nvSpPr>
              <p:cNvPr id="734" name=""/>
              <p:cNvSpPr/>
              <p:nvPr/>
            </p:nvSpPr>
            <p:spPr>
              <a:xfrm>
                <a:off x="3089520" y="469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03720" y="4768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05880" y="491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455360" y="3610440"/>
            <a:ext cx="2053800" cy="783720"/>
            <a:chOff x="4455360" y="3610440"/>
            <a:chExt cx="2053800" cy="783720"/>
          </a:xfrm>
        </p:grpSpPr>
        <p:sp>
          <p:nvSpPr>
            <p:cNvPr id="738" name=""/>
            <p:cNvSpPr/>
            <p:nvPr/>
          </p:nvSpPr>
          <p:spPr>
            <a:xfrm flipH="1">
              <a:off x="4455360" y="364500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120000" y="36896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6017040" y="368316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335280" y="361800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234480" y="361044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611680" y="2997360"/>
            <a:ext cx="971640" cy="648720"/>
            <a:chOff x="5611680" y="2997360"/>
            <a:chExt cx="971640" cy="648720"/>
          </a:xfrm>
        </p:grpSpPr>
        <p:sp>
          <p:nvSpPr>
            <p:cNvPr id="744" name=""/>
            <p:cNvSpPr/>
            <p:nvPr/>
          </p:nvSpPr>
          <p:spPr>
            <a:xfrm>
              <a:off x="5611680" y="299736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22920" y="3068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862720" y="2882520"/>
            <a:ext cx="1590120" cy="1513800"/>
            <a:chOff x="2862720" y="2882520"/>
            <a:chExt cx="1590120" cy="1513800"/>
          </a:xfrm>
        </p:grpSpPr>
        <p:sp>
          <p:nvSpPr>
            <p:cNvPr id="747" name=""/>
            <p:cNvSpPr/>
            <p:nvPr/>
          </p:nvSpPr>
          <p:spPr>
            <a:xfrm>
              <a:off x="2905200" y="2908080"/>
              <a:ext cx="1547640" cy="1488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020760" y="3045240"/>
              <a:ext cx="24228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3063240"/>
              <a:ext cx="91800" cy="234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862720" y="2882520"/>
              <a:ext cx="24192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160" y="2898000"/>
              <a:ext cx="92880" cy="235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08560" y="4314600"/>
            <a:ext cx="553680" cy="2135160"/>
            <a:chOff x="4408560" y="4314600"/>
            <a:chExt cx="553680" cy="2135160"/>
          </a:xfrm>
        </p:grpSpPr>
        <p:sp>
          <p:nvSpPr>
            <p:cNvPr id="753" name=""/>
            <p:cNvSpPr/>
            <p:nvPr/>
          </p:nvSpPr>
          <p:spPr>
            <a:xfrm flipH="1" flipV="1">
              <a:off x="4408560" y="4314600"/>
              <a:ext cx="489960" cy="2090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4200" y="6031800"/>
              <a:ext cx="16200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866840" y="5953680"/>
              <a:ext cx="50400" cy="246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8840" y="6253920"/>
              <a:ext cx="16128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12200" y="6178320"/>
              <a:ext cx="50040" cy="248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2960" y="2249640"/>
            <a:ext cx="971640" cy="648720"/>
            <a:chOff x="2442960" y="2249640"/>
            <a:chExt cx="971640" cy="648720"/>
          </a:xfrm>
        </p:grpSpPr>
        <p:sp>
          <p:nvSpPr>
            <p:cNvPr id="759" name=""/>
            <p:cNvSpPr/>
            <p:nvPr/>
          </p:nvSpPr>
          <p:spPr>
            <a:xfrm>
              <a:off x="2442960" y="224964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54200" y="2320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967280" y="5705640"/>
            <a:ext cx="1023480" cy="648720"/>
            <a:chOff x="4967280" y="5705640"/>
            <a:chExt cx="1023480" cy="648720"/>
          </a:xfrm>
        </p:grpSpPr>
        <p:sp>
          <p:nvSpPr>
            <p:cNvPr id="762" name=""/>
            <p:cNvSpPr/>
            <p:nvPr/>
          </p:nvSpPr>
          <p:spPr>
            <a:xfrm>
              <a:off x="4967280" y="5705640"/>
              <a:ext cx="1023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75280" y="5776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8880" y="2929680"/>
            <a:ext cx="219240" cy="1521360"/>
            <a:chOff x="4268880" y="2929680"/>
            <a:chExt cx="219240" cy="1521360"/>
          </a:xfrm>
        </p:grpSpPr>
        <p:sp>
          <p:nvSpPr>
            <p:cNvPr id="765" name=""/>
            <p:cNvSpPr/>
            <p:nvPr/>
          </p:nvSpPr>
          <p:spPr>
            <a:xfrm flipH="1" flipV="1">
              <a:off x="4268880" y="292968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336800">
              <a:off x="4403880" y="43664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489840" y="4340160"/>
            <a:ext cx="1014120" cy="1147680"/>
            <a:chOff x="3489840" y="4340160"/>
            <a:chExt cx="1014120" cy="1147680"/>
          </a:xfrm>
        </p:grpSpPr>
        <p:sp>
          <p:nvSpPr>
            <p:cNvPr id="768" name=""/>
            <p:cNvSpPr/>
            <p:nvPr/>
          </p:nvSpPr>
          <p:spPr>
            <a:xfrm flipH="1">
              <a:off x="3489840" y="4411440"/>
              <a:ext cx="94068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12000">
              <a:off x="4433760" y="4340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16120" y="435420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332000" y="44280"/>
                <a:ext cx="6875280" cy="17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572000" y="507960"/>
                <a:ext cx="417672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44640" y="3068640"/>
                <a:ext cx="477972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4" name=""/>
          <p:cNvGrpSpPr/>
          <p:nvPr/>
        </p:nvGrpSpPr>
        <p:grpSpPr>
          <a:xfrm>
            <a:off x="144360" y="0"/>
            <a:ext cx="4643640" cy="3506760"/>
            <a:chOff x="144360" y="0"/>
            <a:chExt cx="4643640" cy="3506760"/>
          </a:xfrm>
        </p:grpSpPr>
        <p:sp>
          <p:nvSpPr>
            <p:cNvPr id="775" name=""/>
            <p:cNvSpPr/>
            <p:nvPr/>
          </p:nvSpPr>
          <p:spPr>
            <a:xfrm>
              <a:off x="144360" y="0"/>
              <a:ext cx="46436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Projektovanjem (skalarnim množenjem respektivno sa jediničnim vektorima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Times New Roman"/>
                </a:rPr>
                <a:t>i, j, k</a:t>
              </a: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) vektorskih jednačina ravnoteže dobijaju se </a:t>
              </a:r>
              <a:r>
                <a:rPr b="1" lang="sr-Latn-CS" sz="2800" spc="-1" strike="noStrike">
                  <a:solidFill>
                    <a:srgbClr val="66ff33"/>
                  </a:solidFill>
                  <a:latin typeface="Times New Roman"/>
                </a:rPr>
                <a:t>skalarni (analitički) uslovi ravnoteže prostornog sistema sil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400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128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0360" y="907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081080" y="836640"/>
            <a:ext cx="327492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2000" y="393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6720" y="227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1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87240" y="284796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3560" y="2847960"/>
            <a:ext cx="316044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195640" y="40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5744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29640" y="955800"/>
            <a:ext cx="799560" cy="835200"/>
            <a:chOff x="2429640" y="955800"/>
            <a:chExt cx="799560" cy="835200"/>
          </a:xfrm>
        </p:grpSpPr>
        <p:sp>
          <p:nvSpPr>
            <p:cNvPr id="788" name=""/>
            <p:cNvSpPr/>
            <p:nvPr/>
          </p:nvSpPr>
          <p:spPr>
            <a:xfrm rot="20005200">
              <a:off x="2544480" y="1048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647800" y="1086120"/>
              <a:ext cx="193320" cy="9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512440" y="1739880"/>
            <a:ext cx="698400" cy="784440"/>
            <a:chOff x="2512440" y="1739880"/>
            <a:chExt cx="698400" cy="784440"/>
          </a:xfrm>
        </p:grpSpPr>
        <p:sp>
          <p:nvSpPr>
            <p:cNvPr id="791" name=""/>
            <p:cNvSpPr/>
            <p:nvPr/>
          </p:nvSpPr>
          <p:spPr>
            <a:xfrm rot="20005200">
              <a:off x="2633400" y="1807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37440" y="1920960"/>
              <a:ext cx="193320" cy="964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2346120" y="1460520"/>
            <a:ext cx="1076040" cy="6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412200">
            <a:off x="3532320" y="198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20828400">
            <a:off x="3127320" y="98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85920" y="2152800"/>
            <a:ext cx="1216800" cy="702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924360" y="244440"/>
                <a:ext cx="4994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8000" y="4797360"/>
                <a:ext cx="889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cijalni slučajev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a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(ravan sistem s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02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23160" y="1693080"/>
            <a:ext cx="140364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247040" y="301284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904680" y="2265840"/>
            <a:ext cx="217080" cy="12092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93560" y="1695960"/>
            <a:ext cx="158400" cy="180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57440" y="1484280"/>
            <a:ext cx="548640" cy="675720"/>
            <a:chOff x="2557440" y="1484280"/>
            <a:chExt cx="548640" cy="675720"/>
          </a:xfrm>
        </p:grpSpPr>
        <p:grpSp>
          <p:nvGrpSpPr>
            <p:cNvPr id="812" name=""/>
            <p:cNvGrpSpPr/>
            <p:nvPr/>
          </p:nvGrpSpPr>
          <p:grpSpPr>
            <a:xfrm>
              <a:off x="2557440" y="1484280"/>
              <a:ext cx="452160" cy="581400"/>
              <a:chOff x="2557440" y="1484280"/>
              <a:chExt cx="45216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55744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71640" y="1555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77308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01800" y="1339920"/>
            <a:ext cx="549000" cy="675720"/>
            <a:chOff x="901800" y="1339920"/>
            <a:chExt cx="549000" cy="675720"/>
          </a:xfrm>
        </p:grpSpPr>
        <p:grpSp>
          <p:nvGrpSpPr>
            <p:cNvPr id="817" name=""/>
            <p:cNvGrpSpPr/>
            <p:nvPr/>
          </p:nvGrpSpPr>
          <p:grpSpPr>
            <a:xfrm>
              <a:off x="901800" y="1339920"/>
              <a:ext cx="452160" cy="581400"/>
              <a:chOff x="901800" y="1339920"/>
              <a:chExt cx="452160" cy="581400"/>
            </a:xfrm>
          </p:grpSpPr>
          <p:sp>
            <p:nvSpPr>
              <p:cNvPr id="818" name=""/>
              <p:cNvSpPr/>
              <p:nvPr/>
            </p:nvSpPr>
            <p:spPr>
              <a:xfrm>
                <a:off x="901800" y="1339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00" y="1410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1117800" y="1555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01800" y="3213000"/>
            <a:ext cx="616680" cy="675720"/>
            <a:chOff x="901800" y="3213000"/>
            <a:chExt cx="616680" cy="675720"/>
          </a:xfrm>
        </p:grpSpPr>
        <p:grpSp>
          <p:nvGrpSpPr>
            <p:cNvPr id="822" name=""/>
            <p:cNvGrpSpPr/>
            <p:nvPr/>
          </p:nvGrpSpPr>
          <p:grpSpPr>
            <a:xfrm>
              <a:off x="901800" y="3213000"/>
              <a:ext cx="452160" cy="581400"/>
              <a:chOff x="901800" y="3213000"/>
              <a:chExt cx="452160" cy="581400"/>
            </a:xfrm>
          </p:grpSpPr>
          <p:sp>
            <p:nvSpPr>
              <p:cNvPr id="823" name=""/>
              <p:cNvSpPr/>
              <p:nvPr/>
            </p:nvSpPr>
            <p:spPr>
              <a:xfrm>
                <a:off x="90180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1600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11816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909800" y="2637000"/>
            <a:ext cx="565920" cy="675360"/>
            <a:chOff x="1909800" y="2637000"/>
            <a:chExt cx="565920" cy="675360"/>
          </a:xfrm>
        </p:grpSpPr>
        <p:grpSp>
          <p:nvGrpSpPr>
            <p:cNvPr id="827" name=""/>
            <p:cNvGrpSpPr/>
            <p:nvPr/>
          </p:nvGrpSpPr>
          <p:grpSpPr>
            <a:xfrm>
              <a:off x="1909800" y="2637000"/>
              <a:ext cx="452160" cy="581400"/>
              <a:chOff x="1909800" y="2637000"/>
              <a:chExt cx="452160" cy="581400"/>
            </a:xfrm>
          </p:grpSpPr>
          <p:sp>
            <p:nvSpPr>
              <p:cNvPr id="828" name=""/>
              <p:cNvSpPr/>
              <p:nvPr/>
            </p:nvSpPr>
            <p:spPr>
              <a:xfrm>
                <a:off x="190980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2400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125800" y="285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476360" y="620640"/>
                <a:ext cx="253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4427640" y="836640"/>
            <a:ext cx="4538520" cy="3713040"/>
            <a:chOff x="4427640" y="836640"/>
            <a:chExt cx="4538520" cy="3713040"/>
          </a:xfrm>
        </p:grpSpPr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427640" y="836640"/>
                  <a:ext cx="2106360" cy="37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z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4" name=""/>
            <p:cNvSpPr/>
            <p:nvPr/>
          </p:nvSpPr>
          <p:spPr>
            <a:xfrm>
              <a:off x="6516720" y="1052640"/>
              <a:ext cx="244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Analitičk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vno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(ostali 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su identički zadovoljeni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79280" y="4248000"/>
            <a:ext cx="8964720" cy="2610720"/>
            <a:chOff x="179280" y="4248000"/>
            <a:chExt cx="8964720" cy="2610720"/>
          </a:xfrm>
        </p:grpSpPr>
        <p:sp>
          <p:nvSpPr>
            <p:cNvPr id="836" name=""/>
            <p:cNvSpPr/>
            <p:nvPr/>
          </p:nvSpPr>
          <p:spPr>
            <a:xfrm>
              <a:off x="179280" y="4292640"/>
              <a:ext cx="2232000" cy="2376360"/>
            </a:xfrm>
            <a:prstGeom prst="wedgeRectCallout">
              <a:avLst>
                <a:gd name="adj1" fmla="val 61097"/>
                <a:gd name="adj2" fmla="val 101"/>
              </a:avLst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27280" y="5484960"/>
              <a:ext cx="651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Ovi su uslovi identički zadovoljeni jer su linije dejstva sila ili paralelne osama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x</a:t>
              </a:r>
              <a:r>
                <a:rPr b="1" lang="en-US" sz="2800" spc="-1" strike="noStrike">
                  <a:solidFill>
                    <a:srgbClr val="b39257"/>
                  </a:solidFill>
                  <a:latin typeface="Times New Roman"/>
                </a:rPr>
                <a:t> i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y</a:t>
              </a: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 ili ih sek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395280" y="4248000"/>
                  <a:ext cx="17366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"/>
          <p:cNvGrpSpPr/>
          <p:nvPr/>
        </p:nvGrpSpPr>
        <p:grpSpPr>
          <a:xfrm>
            <a:off x="3995640" y="3716280"/>
            <a:ext cx="5148360" cy="1728720"/>
            <a:chOff x="3995640" y="3716280"/>
            <a:chExt cx="5148360" cy="1728720"/>
          </a:xfrm>
        </p:grpSpPr>
        <p:sp>
          <p:nvSpPr>
            <p:cNvPr id="840" name=""/>
            <p:cNvSpPr/>
            <p:nvPr/>
          </p:nvSpPr>
          <p:spPr>
            <a:xfrm>
              <a:off x="4572000" y="4508640"/>
              <a:ext cx="4572000" cy="936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4716360" y="4545000"/>
                  <a:ext cx="42483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42" name=""/>
            <p:cNvSpPr/>
            <p:nvPr/>
          </p:nvSpPr>
          <p:spPr>
            <a:xfrm>
              <a:off x="3995640" y="3716280"/>
              <a:ext cx="432000" cy="129708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204840 h 1297080"/>
                <a:gd name="textAreaBottom" fmla="*/ 1050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6830" stAng="-5400000" swAng="-5400000"/>
                  <a:lnTo>
                    <a:pt x="0" y="14072"/>
                  </a:lnTo>
                  <a:arcTo wR="21600" hR="6830" stAng="10800000" swAng="-1722415"/>
                  <a:lnTo>
                    <a:pt x="10800" y="20685"/>
                  </a:lnTo>
                  <a:lnTo>
                    <a:pt x="21600" y="17280"/>
                  </a:lnTo>
                  <a:lnTo>
                    <a:pt x="10800" y="12045"/>
                  </a:lnTo>
                  <a:lnTo>
                    <a:pt x="10800" y="12744"/>
                  </a:lnTo>
                  <a:arcTo wR="21600" hR="6830" stAng="9077585" swAng="1051368"/>
                  <a:lnTo>
                    <a:pt x="3286" y="10451"/>
                  </a:lnTo>
                  <a:arcTo wR="21600" hR="6830" stAng="-10128954" swAng="4728954"/>
                  <a:close/>
                </a:path>
                <a:path fill="darkenLess" w="21600" h="21600">
                  <a:moveTo>
                    <a:pt x="21600" y="0"/>
                  </a:moveTo>
                  <a:arcTo wR="21600" hR="6830" stAng="-5400000" swAng="-5400000"/>
                  <a:lnTo>
                    <a:pt x="0" y="6830"/>
                  </a:lnTo>
                  <a:arcTo wR="21600" hR="6830" stAng="10800000" swAng="-671046"/>
                  <a:lnTo>
                    <a:pt x="3286" y="10451"/>
                  </a:lnTo>
                  <a:arcTo wR="21600" hR="6830" stAng="-10128954" swAng="4728954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ARINJONOVA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44480" y="1076400"/>
                <a:ext cx="8339040" cy="57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SLO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G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P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IJ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9640" y="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b) Ako su sve sile u prostoru paralelne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499080" y="2595600"/>
                <a:ext cx="2459160" cy="42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5292720" y="620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Times New Roman"/>
              </a:rPr>
              <a:t>(ostali uslovi su identički zadovoljen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116000" y="4292640"/>
                <a:ext cx="42130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36000" y="45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60720" y="28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76720" y="7635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471240" y="342252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7560" y="342252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1979640" y="97956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0508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051360" y="23979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67120" y="210744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30760" y="2971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1000" y="2686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484720" y="38091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641960" y="4025880"/>
            <a:ext cx="1058760" cy="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71000" y="2902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888120" y="3593520"/>
            <a:ext cx="13806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979360" y="318996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9160" y="1751400"/>
            <a:ext cx="805680" cy="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34280" y="2184480"/>
            <a:ext cx="965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220840" y="841320"/>
                <a:ext cx="2638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5580000" y="4581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80000" y="5805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c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i paralelne 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78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1105560" y="1524960"/>
            <a:ext cx="12960" cy="1864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08200" y="620640"/>
                <a:ext cx="20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6156360" y="2997360"/>
                <a:ext cx="274968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4932360" y="836640"/>
            <a:ext cx="40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(ostali uslovi su identički zadovolj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79280" y="5013360"/>
            <a:ext cx="4861080" cy="1511280"/>
            <a:chOff x="179280" y="5013360"/>
            <a:chExt cx="4861080" cy="1511280"/>
          </a:xfrm>
        </p:grpSpPr>
        <p:sp>
          <p:nvSpPr>
            <p:cNvPr id="888" name=""/>
            <p:cNvSpPr/>
            <p:nvPr/>
          </p:nvSpPr>
          <p:spPr>
            <a:xfrm>
              <a:off x="179280" y="5013360"/>
              <a:ext cx="4861080" cy="15112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357120" y="5157720"/>
                  <a:ext cx="443088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"/>
          <p:cNvSpPr/>
          <p:nvPr/>
        </p:nvSpPr>
        <p:spPr>
          <a:xfrm flipH="1" flipV="1">
            <a:off x="1320840" y="1740600"/>
            <a:ext cx="12600" cy="1865160"/>
          </a:xfrm>
          <a:prstGeom prst="line">
            <a:avLst/>
          </a:prstGeom>
          <a:ln w="442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027960" y="2274480"/>
            <a:ext cx="3600" cy="12945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808640" y="1646640"/>
            <a:ext cx="10080" cy="19454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43840" y="2627280"/>
            <a:ext cx="14040" cy="902160"/>
          </a:xfrm>
          <a:prstGeom prst="line">
            <a:avLst/>
          </a:prstGeom>
          <a:ln w="4428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2184480" y="1524600"/>
            <a:ext cx="12600" cy="1865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92720" y="544500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867280" y="4365720"/>
            <a:ext cx="2881440" cy="2303280"/>
          </a:xfrm>
          <a:prstGeom prst="wedgeRoundRectCallout">
            <a:avLst>
              <a:gd name="adj1" fmla="val -13912"/>
              <a:gd name="adj2" fmla="val 26152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Ovo je šesti uslov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0200" y="112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lternativni oblici uslova ravno</a:t>
            </a: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26920" y="765000"/>
                <a:ext cx="4203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68360" y="155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drugi vektorski uslov zadovoljen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403280" y="2205000"/>
                <a:ext cx="705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11280" y="299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važi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Iz (1) i (2) ima 6 uslova ravnoteže, ali 5 nezavis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591000" y="2924280"/>
                <a:ext cx="2565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1501920" y="3716280"/>
                <a:ext cx="5878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3880" y="4332240"/>
                <a:ext cx="8193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11280" y="5805360"/>
            <a:ext cx="403236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284640"/>
            <a:ext cx="1871640" cy="57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32720" y="5300640"/>
            <a:ext cx="18716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211640" y="333360"/>
                <a:ext cx="3565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-247680" y="-235080"/>
            <a:ext cx="4029840" cy="3872520"/>
            <a:chOff x="-247680" y="-235080"/>
            <a:chExt cx="4029840" cy="3872520"/>
          </a:xfrm>
        </p:grpSpPr>
        <p:grpSp>
          <p:nvGrpSpPr>
            <p:cNvPr id="911" name=""/>
            <p:cNvGrpSpPr/>
            <p:nvPr/>
          </p:nvGrpSpPr>
          <p:grpSpPr>
            <a:xfrm>
              <a:off x="3202560" y="-8640"/>
              <a:ext cx="480600" cy="665640"/>
              <a:chOff x="3202560" y="-8640"/>
              <a:chExt cx="480600" cy="665640"/>
            </a:xfrm>
          </p:grpSpPr>
          <p:sp>
            <p:nvSpPr>
              <p:cNvPr id="912" name=""/>
              <p:cNvSpPr/>
              <p:nvPr/>
            </p:nvSpPr>
            <p:spPr>
              <a:xfrm rot="21471000">
                <a:off x="3214440" y="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347640" y="142920"/>
                <a:ext cx="21600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-247680" y="-235080"/>
              <a:ext cx="4029840" cy="3872520"/>
              <a:chOff x="-247680" y="-235080"/>
              <a:chExt cx="4029840" cy="3872520"/>
            </a:xfrm>
          </p:grpSpPr>
          <p:sp>
            <p:nvSpPr>
              <p:cNvPr id="915" name=""/>
              <p:cNvSpPr/>
              <p:nvPr/>
            </p:nvSpPr>
            <p:spPr>
              <a:xfrm rot="2758800">
                <a:off x="773640" y="-116280"/>
                <a:ext cx="1872000" cy="363528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680" y="2349360"/>
                <a:ext cx="4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5196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9960" y="170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352320" y="1413000"/>
                <a:ext cx="360000" cy="581400"/>
                <a:chOff x="3352320" y="1413000"/>
                <a:chExt cx="360000" cy="5814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352320" y="141300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496680" y="1484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 flipH="1">
                <a:off x="326520" y="333360"/>
                <a:ext cx="280764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3" name=""/>
              <p:cNvGraphicFramePr/>
              <p:nvPr/>
            </p:nvGraphicFramePr>
            <p:xfrm>
              <a:off x="1190160" y="2205000"/>
              <a:ext cx="133200" cy="130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90160" y="220500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5" name=""/>
              <p:cNvGraphicFramePr/>
              <p:nvPr/>
            </p:nvGraphicFramePr>
            <p:xfrm>
              <a:off x="1910880" y="1484280"/>
              <a:ext cx="133200" cy="130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0880" y="148428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7" name=""/>
              <p:cNvSpPr/>
              <p:nvPr/>
            </p:nvSpPr>
            <p:spPr>
              <a:xfrm flipV="1">
                <a:off x="2594520" y="243000"/>
                <a:ext cx="610920" cy="63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26520" y="1916280"/>
                <a:ext cx="345564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9" name=""/>
              <p:cNvGraphicFramePr/>
              <p:nvPr/>
            </p:nvGraphicFramePr>
            <p:xfrm>
              <a:off x="1045800" y="2421000"/>
              <a:ext cx="288720" cy="40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45800" y="2421000"/>
                        <a:ext cx="28872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931" name=""/>
          <p:cNvGrpSpPr/>
          <p:nvPr/>
        </p:nvGrpSpPr>
        <p:grpSpPr>
          <a:xfrm>
            <a:off x="252000" y="2752200"/>
            <a:ext cx="3751560" cy="4107600"/>
            <a:chOff x="252000" y="2752200"/>
            <a:chExt cx="3751560" cy="4107600"/>
          </a:xfrm>
        </p:grpSpPr>
        <p:sp>
          <p:nvSpPr>
            <p:cNvPr id="932" name=""/>
            <p:cNvSpPr/>
            <p:nvPr/>
          </p:nvSpPr>
          <p:spPr>
            <a:xfrm>
              <a:off x="252000" y="6278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41400" y="4626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32360" y="30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7240" y="5195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195640" y="2752200"/>
              <a:ext cx="7920" cy="2443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21080" y="4770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7240" y="4214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3560" y="4214880"/>
              <a:ext cx="1797120" cy="6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378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641400" y="3645000"/>
              <a:ext cx="362160" cy="581400"/>
              <a:chOff x="3641400" y="3645000"/>
              <a:chExt cx="362160" cy="581400"/>
            </a:xfrm>
          </p:grpSpPr>
          <p:sp>
            <p:nvSpPr>
              <p:cNvPr id="942" name=""/>
              <p:cNvSpPr/>
              <p:nvPr/>
            </p:nvSpPr>
            <p:spPr>
              <a:xfrm>
                <a:off x="3641400" y="3645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11600" y="3789360"/>
                <a:ext cx="21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52000" y="5297400"/>
              <a:ext cx="384840" cy="581400"/>
              <a:chOff x="252000" y="5297400"/>
              <a:chExt cx="384840" cy="581400"/>
            </a:xfrm>
          </p:grpSpPr>
          <p:sp>
            <p:nvSpPr>
              <p:cNvPr id="945" name=""/>
              <p:cNvSpPr/>
              <p:nvPr/>
            </p:nvSpPr>
            <p:spPr>
              <a:xfrm>
                <a:off x="252000" y="529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8560" y="5445000"/>
                <a:ext cx="216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2200320" y="5222880"/>
              <a:ext cx="179712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427640" y="1989000"/>
                <a:ext cx="40654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627280" y="5950080"/>
                <a:ext cx="3565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6227640" y="115920"/>
            <a:ext cx="2592360" cy="719280"/>
          </a:xfrm>
          <a:prstGeom prst="wedgeRoundRectCallout">
            <a:avLst>
              <a:gd name="adj1" fmla="val -61694"/>
              <a:gd name="adj2" fmla="val 78037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ff"/>
                </a:solidFill>
                <a:latin typeface="Times New Roman"/>
              </a:rPr>
              <a:t>zavisnost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796000" y="2781360"/>
            <a:ext cx="3348000" cy="1942920"/>
          </a:xfrm>
          <a:prstGeom prst="wedgeRectCallout">
            <a:avLst>
              <a:gd name="adj1" fmla="val 4384"/>
              <a:gd name="adj2" fmla="val 872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00080" y="189000"/>
                <a:ext cx="6127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940360" y="-27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66"/>
                </a:solidFill>
                <a:latin typeface="Times New Roman"/>
              </a:rPr>
              <a:t>A, B, C</a:t>
            </a: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 – nekolinea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redukcione tač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Riterov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5440" y="2347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zbog nekolinearnosti tača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0" y="692280"/>
            <a:ext cx="9144000" cy="1972440"/>
            <a:chOff x="0" y="692280"/>
            <a:chExt cx="9144000" cy="1972440"/>
          </a:xfrm>
        </p:grpSpPr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0" y="1052640"/>
                  <a:ext cx="91440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</m:e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"/>
            <p:cNvSpPr/>
            <p:nvPr/>
          </p:nvSpPr>
          <p:spPr>
            <a:xfrm flipV="1">
              <a:off x="0" y="981000"/>
              <a:ext cx="826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16000" y="98100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0920" y="1700280"/>
              <a:ext cx="433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3280" y="17002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7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5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3708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2276640"/>
                <a:ext cx="174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"/>
          <p:cNvGrpSpPr/>
          <p:nvPr/>
        </p:nvGrpSpPr>
        <p:grpSpPr>
          <a:xfrm>
            <a:off x="-34920" y="3019680"/>
            <a:ext cx="6084000" cy="3729240"/>
            <a:chOff x="-34920" y="3019680"/>
            <a:chExt cx="6084000" cy="3729240"/>
          </a:xfrm>
        </p:grpSpPr>
        <p:sp>
          <p:nvSpPr>
            <p:cNvPr id="967" name=""/>
            <p:cNvSpPr/>
            <p:nvPr/>
          </p:nvSpPr>
          <p:spPr>
            <a:xfrm rot="582000">
              <a:off x="682560" y="3355920"/>
              <a:ext cx="4232520" cy="2835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044880" y="3326040"/>
              <a:ext cx="1219680" cy="29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1665720" y="3373560"/>
              <a:ext cx="1358280" cy="437760"/>
              <a:chOff x="1665720" y="3373560"/>
              <a:chExt cx="1358280" cy="437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1665720" y="3373560"/>
                <a:ext cx="135828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1842480" y="3669480"/>
                <a:ext cx="14904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55440" y="37594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84080" y="3720240"/>
                <a:ext cx="14940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95960" y="38098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863160" y="3424320"/>
              <a:ext cx="609120" cy="648720"/>
              <a:chOff x="3863160" y="3424320"/>
              <a:chExt cx="609120" cy="648720"/>
            </a:xfrm>
          </p:grpSpPr>
          <p:sp>
            <p:nvSpPr>
              <p:cNvPr id="976" name=""/>
              <p:cNvSpPr/>
              <p:nvPr/>
            </p:nvSpPr>
            <p:spPr>
              <a:xfrm>
                <a:off x="3863160" y="342432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93840" y="349560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18160" y="5948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3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89840" y="3355920"/>
              <a:ext cx="1011240" cy="648720"/>
              <a:chOff x="789840" y="3355920"/>
              <a:chExt cx="1011240" cy="648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89840" y="3355920"/>
                <a:ext cx="1011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00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8560" y="342720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704240" y="5443560"/>
              <a:ext cx="609120" cy="648720"/>
              <a:chOff x="1704240" y="5443560"/>
              <a:chExt cx="609120" cy="648720"/>
            </a:xfrm>
          </p:grpSpPr>
          <p:sp>
            <p:nvSpPr>
              <p:cNvPr id="984" name=""/>
              <p:cNvSpPr/>
              <p:nvPr/>
            </p:nvSpPr>
            <p:spPr>
              <a:xfrm>
                <a:off x="1704240" y="54435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34920" y="551484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87640" y="328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572000" y="4868640"/>
              <a:ext cx="1477080" cy="1727280"/>
              <a:chOff x="4572000" y="4868640"/>
              <a:chExt cx="1477080" cy="172728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630320" y="6496920"/>
                <a:ext cx="122004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626000" y="5178240"/>
                <a:ext cx="419760" cy="1361880"/>
                <a:chOff x="4626000" y="5178240"/>
                <a:chExt cx="419760" cy="136188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626000" y="5178240"/>
                  <a:ext cx="419760" cy="1361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4971240" y="5348880"/>
                  <a:ext cx="10440" cy="1746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4885560" y="536040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5019840" y="5189760"/>
                  <a:ext cx="10440" cy="174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4934880" y="520056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5037840" y="4868640"/>
                <a:ext cx="1011240" cy="648720"/>
                <a:chOff x="5037840" y="4868640"/>
                <a:chExt cx="1011240" cy="6487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037840" y="486864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B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46560" y="4939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304600" y="5876640"/>
                <a:ext cx="609120" cy="648720"/>
                <a:chOff x="5304600" y="5876640"/>
                <a:chExt cx="609120" cy="648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04600" y="587664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660066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660066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35280" y="5947920"/>
                  <a:ext cx="360000" cy="0"/>
                </a:xfrm>
                <a:prstGeom prst="line">
                  <a:avLst/>
                </a:prstGeom>
                <a:ln w="2556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4572000" y="6453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-34920" y="4795920"/>
              <a:ext cx="2485080" cy="1303560"/>
              <a:chOff x="-34920" y="4795920"/>
              <a:chExt cx="2485080" cy="1303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438920" y="4795920"/>
                <a:ext cx="1011240" cy="648720"/>
                <a:chOff x="1438920" y="4795920"/>
                <a:chExt cx="1011240" cy="6487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1438920" y="479592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A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47640" y="4867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-34920" y="55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54320" y="5778000"/>
                <a:ext cx="122040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79880" y="5315760"/>
                <a:ext cx="1331640" cy="513000"/>
                <a:chOff x="479880" y="5315760"/>
                <a:chExt cx="1331640" cy="51300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>
                  <a:off x="479880" y="5320800"/>
                  <a:ext cx="1331640" cy="507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493640" y="5375520"/>
                  <a:ext cx="143640" cy="9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467720" y="537732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648800" y="5315760"/>
                  <a:ext cx="144000" cy="993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623960" y="531756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397080" y="57340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1016640" y="4137120"/>
              <a:ext cx="597600" cy="669960"/>
              <a:chOff x="1016640" y="4137120"/>
              <a:chExt cx="597600" cy="669960"/>
            </a:xfrm>
          </p:grpSpPr>
          <p:sp>
            <p:nvSpPr>
              <p:cNvPr id="1016" name=""/>
              <p:cNvSpPr/>
              <p:nvPr/>
            </p:nvSpPr>
            <p:spPr>
              <a:xfrm rot="21471000">
                <a:off x="1028520" y="414756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155240" y="429192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V="1">
              <a:off x="1368000" y="4132440"/>
              <a:ext cx="883080" cy="81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40600" y="6024600"/>
              <a:ext cx="1000080" cy="17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30240" y="4555800"/>
              <a:ext cx="42084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24640" y="6078960"/>
              <a:ext cx="597600" cy="669960"/>
              <a:chOff x="2024640" y="6078960"/>
              <a:chExt cx="597600" cy="669960"/>
            </a:xfrm>
          </p:grpSpPr>
          <p:sp>
            <p:nvSpPr>
              <p:cNvPr id="1022" name=""/>
              <p:cNvSpPr/>
              <p:nvPr/>
            </p:nvSpPr>
            <p:spPr>
              <a:xfrm rot="21471000">
                <a:off x="2036520" y="608940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165040" y="623520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897720" y="4569480"/>
              <a:ext cx="597600" cy="669960"/>
              <a:chOff x="3897720" y="4569480"/>
              <a:chExt cx="597600" cy="669960"/>
            </a:xfrm>
          </p:grpSpPr>
          <p:sp>
            <p:nvSpPr>
              <p:cNvPr id="1025" name=""/>
              <p:cNvSpPr/>
              <p:nvPr/>
            </p:nvSpPr>
            <p:spPr>
              <a:xfrm rot="21471000">
                <a:off x="3909600" y="457992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038120" y="472536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5796000" y="2754360"/>
                <a:ext cx="33480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90400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3 linearne zavis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71640" y="263844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765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le u ravni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 x-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4980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5416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44720" y="270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292720" y="1773360"/>
                <a:ext cx="2106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971640" y="1988640"/>
            <a:ext cx="3313080" cy="3168720"/>
            <a:chOff x="971640" y="1988640"/>
            <a:chExt cx="3313080" cy="3168720"/>
          </a:xfrm>
        </p:grpSpPr>
        <p:sp>
          <p:nvSpPr>
            <p:cNvPr id="1036" name=""/>
            <p:cNvSpPr/>
            <p:nvPr/>
          </p:nvSpPr>
          <p:spPr>
            <a:xfrm flipV="1">
              <a:off x="971640" y="198864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1640" y="51573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3925440" y="50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8040" y="1917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476360" y="3213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203640" y="32860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286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556000" y="45100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510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73332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73332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0532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447192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527120" y="3368880"/>
            <a:ext cx="1000440" cy="8290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40720" y="5498280"/>
            <a:ext cx="1279800" cy="5245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01800" y="2565360"/>
            <a:ext cx="543600" cy="648720"/>
            <a:chOff x="4501800" y="2565360"/>
            <a:chExt cx="543600" cy="648720"/>
          </a:xfrm>
        </p:grpSpPr>
        <p:sp>
          <p:nvSpPr>
            <p:cNvPr id="1053" name=""/>
            <p:cNvSpPr/>
            <p:nvPr/>
          </p:nvSpPr>
          <p:spPr>
            <a:xfrm>
              <a:off x="450180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3716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113560" y="3645000"/>
            <a:ext cx="635040" cy="648720"/>
            <a:chOff x="2113560" y="3645000"/>
            <a:chExt cx="635040" cy="648720"/>
          </a:xfrm>
        </p:grpSpPr>
        <p:sp>
          <p:nvSpPr>
            <p:cNvPr id="1056" name=""/>
            <p:cNvSpPr/>
            <p:nvPr/>
          </p:nvSpPr>
          <p:spPr>
            <a:xfrm>
              <a:off x="2113560" y="3645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3160" y="371628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192400" y="5734080"/>
            <a:ext cx="726480" cy="648720"/>
            <a:chOff x="2192400" y="5734080"/>
            <a:chExt cx="726480" cy="648720"/>
          </a:xfrm>
        </p:grpSpPr>
        <p:sp>
          <p:nvSpPr>
            <p:cNvPr id="1059" name=""/>
            <p:cNvSpPr/>
            <p:nvPr/>
          </p:nvSpPr>
          <p:spPr>
            <a:xfrm>
              <a:off x="2192400" y="57340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15880" y="5805360"/>
              <a:ext cx="36000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5876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3876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296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2096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2096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749600" y="263484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2838240" y="1755360"/>
            <a:ext cx="1165680" cy="10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320640" y="2959200"/>
            <a:ext cx="561960" cy="136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094200">
            <a:off x="2277000" y="734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335400" y="1197000"/>
            <a:ext cx="569520" cy="648720"/>
            <a:chOff x="3335400" y="1197000"/>
            <a:chExt cx="569520" cy="648720"/>
          </a:xfrm>
        </p:grpSpPr>
        <p:sp>
          <p:nvSpPr>
            <p:cNvPr id="1072" name=""/>
            <p:cNvSpPr/>
            <p:nvPr/>
          </p:nvSpPr>
          <p:spPr>
            <a:xfrm>
              <a:off x="333540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68600" y="126828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551400" y="3068640"/>
            <a:ext cx="569520" cy="648720"/>
            <a:chOff x="3551400" y="3068640"/>
            <a:chExt cx="569520" cy="648720"/>
          </a:xfrm>
        </p:grpSpPr>
        <p:sp>
          <p:nvSpPr>
            <p:cNvPr id="1075" name=""/>
            <p:cNvSpPr/>
            <p:nvPr/>
          </p:nvSpPr>
          <p:spPr>
            <a:xfrm>
              <a:off x="355140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460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462320" y="2349360"/>
            <a:ext cx="569520" cy="648720"/>
            <a:chOff x="1462320" y="2349360"/>
            <a:chExt cx="569520" cy="648720"/>
          </a:xfrm>
        </p:grpSpPr>
        <p:sp>
          <p:nvSpPr>
            <p:cNvPr id="1078" name=""/>
            <p:cNvSpPr/>
            <p:nvPr/>
          </p:nvSpPr>
          <p:spPr>
            <a:xfrm>
              <a:off x="146232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9552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 rot="21446400">
            <a:off x="2255400" y="126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4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Ako su TETRAEDARSKE koordinate datog sistema sila jednake nuli, sistem sila je u ravnote</a:t>
            </a:r>
            <a:r>
              <a:rPr b="1" lang="sr-Latn-CS" sz="3200" spc="-1" strike="noStrike">
                <a:solidFill>
                  <a:srgbClr val="9966ff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6521400" y="1773360"/>
                <a:ext cx="2298600" cy="47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4000" y="14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istem sila je u ravnote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ži ako su momenti tog sistema sila jednaki nuli za ose u prostoru koje čine šest ivica jednog tetra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260360" y="3645000"/>
                <a:ext cx="7088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400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STEM SI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66960" y="1338120"/>
            <a:ext cx="3024000" cy="28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917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0320" y="400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966960" y="977400"/>
            <a:ext cx="3313080" cy="3168720"/>
            <a:chOff x="966960" y="977400"/>
            <a:chExt cx="3313080" cy="3168720"/>
          </a:xfrm>
        </p:grpSpPr>
        <p:sp>
          <p:nvSpPr>
            <p:cNvPr id="1090" name=""/>
            <p:cNvSpPr/>
            <p:nvPr/>
          </p:nvSpPr>
          <p:spPr>
            <a:xfrm flipV="1">
              <a:off x="966960" y="9774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66960" y="41461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920760" y="4003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3000" y="90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863360" y="1806480"/>
            <a:ext cx="1662840" cy="112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844720" y="1268280"/>
            <a:ext cx="548640" cy="675720"/>
            <a:chOff x="2844720" y="1268280"/>
            <a:chExt cx="548640" cy="675720"/>
          </a:xfrm>
        </p:grpSpPr>
        <p:grpSp>
          <p:nvGrpSpPr>
            <p:cNvPr id="1096" name=""/>
            <p:cNvGrpSpPr/>
            <p:nvPr/>
          </p:nvGrpSpPr>
          <p:grpSpPr>
            <a:xfrm>
              <a:off x="2844720" y="1268280"/>
              <a:ext cx="452160" cy="581400"/>
              <a:chOff x="2844720" y="1268280"/>
              <a:chExt cx="452160" cy="581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284472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58920" y="133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06036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1830240" y="1841400"/>
            <a:ext cx="165744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87680" y="1841400"/>
            <a:ext cx="0" cy="108108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84600" y="2901960"/>
            <a:ext cx="1618920" cy="2160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57960" y="1849320"/>
            <a:ext cx="13320" cy="105372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59400" y="2841840"/>
            <a:ext cx="2520" cy="1310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966600" y="2922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74800" y="286704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86704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8" name=""/>
          <p:cNvGrpSpPr/>
          <p:nvPr/>
        </p:nvGrpSpPr>
        <p:grpSpPr>
          <a:xfrm>
            <a:off x="3130560" y="2922480"/>
            <a:ext cx="784440" cy="648720"/>
            <a:chOff x="3130560" y="2922480"/>
            <a:chExt cx="784440" cy="648720"/>
          </a:xfrm>
        </p:grpSpPr>
        <p:sp>
          <p:nvSpPr>
            <p:cNvPr id="1109" name=""/>
            <p:cNvSpPr/>
            <p:nvPr/>
          </p:nvSpPr>
          <p:spPr>
            <a:xfrm>
              <a:off x="3130560" y="2922480"/>
              <a:ext cx="784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7560" y="29941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176120" y="44337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219320" y="3965760"/>
            <a:ext cx="358560" cy="863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6400" y="292248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7360" y="320688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047240" y="1913040"/>
            <a:ext cx="782640" cy="648720"/>
            <a:chOff x="1047240" y="1913040"/>
            <a:chExt cx="782640" cy="648720"/>
          </a:xfrm>
        </p:grpSpPr>
        <p:sp>
          <p:nvSpPr>
            <p:cNvPr id="1116" name=""/>
            <p:cNvSpPr/>
            <p:nvPr/>
          </p:nvSpPr>
          <p:spPr>
            <a:xfrm>
              <a:off x="1047240" y="1913040"/>
              <a:ext cx="76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14240" y="19843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4567320" y="333360"/>
                <a:ext cx="454176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19" name=""/>
          <p:cNvGrpSpPr/>
          <p:nvPr/>
        </p:nvGrpSpPr>
        <p:grpSpPr>
          <a:xfrm>
            <a:off x="324000" y="5075280"/>
            <a:ext cx="8351640" cy="1604880"/>
            <a:chOff x="324000" y="5075280"/>
            <a:chExt cx="8351640" cy="1604880"/>
          </a:xfrm>
        </p:grpSpPr>
        <p:sp>
          <p:nvSpPr>
            <p:cNvPr id="1120" name=""/>
            <p:cNvSpPr/>
            <p:nvPr/>
          </p:nvSpPr>
          <p:spPr>
            <a:xfrm>
              <a:off x="324000" y="5084640"/>
              <a:ext cx="835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S obzirom da je uve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za sistem sila u ravni uvek se može naći rezultanta ukoliko je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4284720" y="5075280"/>
                  <a:ext cx="17114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⊥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4211640" y="6021360"/>
                  <a:ext cx="15127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3" name=""/>
          <p:cNvSpPr/>
          <p:nvPr/>
        </p:nvSpPr>
        <p:spPr>
          <a:xfrm flipV="1">
            <a:off x="1003320" y="2908080"/>
            <a:ext cx="869400" cy="12128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52640" y="2924280"/>
            <a:ext cx="456480" cy="648720"/>
            <a:chOff x="1052640" y="2924280"/>
            <a:chExt cx="456480" cy="648720"/>
          </a:xfrm>
        </p:grpSpPr>
        <p:sp>
          <p:nvSpPr>
            <p:cNvPr id="1125" name=""/>
            <p:cNvSpPr/>
            <p:nvPr/>
          </p:nvSpPr>
          <p:spPr>
            <a:xfrm>
              <a:off x="105264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85840" y="3068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95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VARINJONOVA TEOREMA: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napadne linije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4000" y="1700280"/>
                <a:ext cx="6811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4000" y="2890800"/>
                <a:ext cx="62863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395280" y="1197000"/>
            <a:ext cx="65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, y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) - napadna tačka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50920" y="4149720"/>
            <a:ext cx="7956360" cy="2519280"/>
            <a:chOff x="250920" y="4149720"/>
            <a:chExt cx="7956360" cy="2519280"/>
          </a:xfrm>
        </p:grpSpPr>
        <p:sp>
          <p:nvSpPr>
            <p:cNvPr id="1132" name=""/>
            <p:cNvSpPr/>
            <p:nvPr/>
          </p:nvSpPr>
          <p:spPr>
            <a:xfrm>
              <a:off x="250920" y="4149720"/>
              <a:ext cx="5545080" cy="2519280"/>
            </a:xfrm>
            <a:prstGeom prst="wedgeRoundRectCallout">
              <a:avLst>
                <a:gd name="adj1" fmla="val 58902"/>
                <a:gd name="adj2" fmla="val -2542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3" name=""/>
                <p:cNvSpPr txBox="1"/>
                <p:nvPr/>
              </p:nvSpPr>
              <p:spPr>
                <a:xfrm>
                  <a:off x="324000" y="4218120"/>
                  <a:ext cx="5430600" cy="23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4" name=""/>
            <p:cNvSpPr/>
            <p:nvPr/>
          </p:nvSpPr>
          <p:spPr>
            <a:xfrm>
              <a:off x="5940360" y="4508640"/>
              <a:ext cx="2266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Jednačin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napad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linij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VARINJONOVA TEOREMA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Ako sistem sila ima rezultantu, tada j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moment rezultante datog sistema sil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za neku redukcionu tačku </a:t>
            </a:r>
            <a:r>
              <a:rPr b="1" i="1" lang="sr-Latn-CS" sz="3200" spc="-1" strike="noStrike">
                <a:solidFill>
                  <a:srgbClr val="666633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jednak vektorskom zbiru redukcionih momenat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svih sila (komponenata) za istu redukcionu tač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ZADATAK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: Razložiti silu  </a:t>
            </a:r>
            <a:r>
              <a:rPr b="1" i="1" lang="sr-Latn-CS" sz="2800" spc="-1" strike="noStrike">
                <a:solidFill>
                  <a:srgbClr val="800080"/>
                </a:solidFill>
                <a:latin typeface="Times New Roman"/>
              </a:rPr>
              <a:t>F</a:t>
            </a:r>
            <a:r>
              <a:rPr b="1" i="1" lang="sr-Latn-CS" sz="2800" spc="-1" strike="noStrike" baseline="-25000">
                <a:solidFill>
                  <a:srgbClr val="800080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na komponente I, II, i III u datoj ravni.</a:t>
            </a: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šenje: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Primenjuje se VARINJONOVA 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907920"/>
                <a:ext cx="45720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79640" y="2565360"/>
            <a:ext cx="3456000" cy="41054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8920" y="6063840"/>
            <a:ext cx="502920" cy="63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56000" y="5950080"/>
            <a:ext cx="288720" cy="502920"/>
            <a:chOff x="4356000" y="5950080"/>
            <a:chExt cx="288720" cy="502920"/>
          </a:xfrm>
        </p:grpSpPr>
        <p:sp>
          <p:nvSpPr>
            <p:cNvPr id="221" name=""/>
            <p:cNvSpPr/>
            <p:nvPr/>
          </p:nvSpPr>
          <p:spPr>
            <a:xfrm flipV="1">
              <a:off x="4356000" y="6237360"/>
              <a:ext cx="288720" cy="215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9080" y="5950080"/>
              <a:ext cx="215640" cy="287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87320" y="6179400"/>
            <a:ext cx="754920" cy="742680"/>
            <a:chOff x="4387320" y="6179400"/>
            <a:chExt cx="754920" cy="742680"/>
          </a:xfrm>
        </p:grpSpPr>
        <p:sp>
          <p:nvSpPr>
            <p:cNvPr id="224" name=""/>
            <p:cNvSpPr/>
            <p:nvPr/>
          </p:nvSpPr>
          <p:spPr>
            <a:xfrm rot="2824800">
              <a:off x="4559400" y="622620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2800" y="6274800"/>
              <a:ext cx="19764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71280" y="1341360"/>
            <a:ext cx="5347800" cy="5185800"/>
            <a:chOff x="-71280" y="1341360"/>
            <a:chExt cx="5347800" cy="5185800"/>
          </a:xfrm>
        </p:grpSpPr>
        <p:sp>
          <p:nvSpPr>
            <p:cNvPr id="227" name=""/>
            <p:cNvSpPr/>
            <p:nvPr/>
          </p:nvSpPr>
          <p:spPr>
            <a:xfrm>
              <a:off x="26640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9320" y="5753160"/>
              <a:ext cx="4380480" cy="19368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0040" y="1757520"/>
              <a:ext cx="2057400" cy="418932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7080" y="1757160"/>
              <a:ext cx="2323800" cy="399600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200" y="3269880"/>
              <a:ext cx="652320" cy="1069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52560" y="3601080"/>
              <a:ext cx="615600" cy="1246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61800" y="5797080"/>
              <a:ext cx="1380600" cy="8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0840" y="3862440"/>
              <a:ext cx="543600" cy="648720"/>
              <a:chOff x="510840" y="3862440"/>
              <a:chExt cx="543600" cy="648720"/>
            </a:xfrm>
          </p:grpSpPr>
          <p:sp>
            <p:nvSpPr>
              <p:cNvPr id="235" name=""/>
              <p:cNvSpPr/>
              <p:nvPr/>
            </p:nvSpPr>
            <p:spPr>
              <a:xfrm>
                <a:off x="510840" y="3862440"/>
                <a:ext cx="543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" y="3933720"/>
                <a:ext cx="36036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2600" y="5878440"/>
              <a:ext cx="635040" cy="648720"/>
              <a:chOff x="2532600" y="5878440"/>
              <a:chExt cx="635040" cy="648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2600" y="587844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2200" y="5949720"/>
                <a:ext cx="3603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46720" y="2997360"/>
              <a:ext cx="726480" cy="648720"/>
              <a:chOff x="3546720" y="2997360"/>
              <a:chExt cx="726480" cy="648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546720" y="299736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0200" y="3068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24360" y="5446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71280" y="565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640" y="4222800"/>
              <a:ext cx="2016360" cy="1727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31640" y="3862080"/>
              <a:ext cx="3240360" cy="20876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447640" y="1773000"/>
              <a:ext cx="142920" cy="41050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224000" y="1773000"/>
              <a:ext cx="1224000" cy="9363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366560" y="4006800"/>
              <a:ext cx="3384360" cy="172728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75280" y="5734080"/>
              <a:ext cx="576000" cy="5047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2400" y="3886920"/>
              <a:ext cx="1194840" cy="144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76360" y="2494080"/>
              <a:ext cx="288720" cy="502920"/>
              <a:chOff x="1476360" y="2494080"/>
              <a:chExt cx="288720" cy="50292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1476360" y="2781360"/>
                <a:ext cx="288720" cy="215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9440" y="2494080"/>
                <a:ext cx="215640" cy="287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60680" y="5491440"/>
              <a:ext cx="370080" cy="360360"/>
              <a:chOff x="2560680" y="5491440"/>
              <a:chExt cx="370080" cy="360360"/>
            </a:xfrm>
          </p:grpSpPr>
          <p:sp>
            <p:nvSpPr>
              <p:cNvPr id="256" name=""/>
              <p:cNvSpPr/>
              <p:nvPr/>
            </p:nvSpPr>
            <p:spPr>
              <a:xfrm flipH="1" flipV="1">
                <a:off x="2919600" y="5491440"/>
                <a:ext cx="11160" cy="36036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560680" y="5491800"/>
                <a:ext cx="359280" cy="1152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23640" y="4198680"/>
              <a:ext cx="488160" cy="315000"/>
              <a:chOff x="1223640" y="4198680"/>
              <a:chExt cx="488160" cy="3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1223640" y="4339080"/>
                <a:ext cx="315360" cy="17424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38640" y="4198680"/>
                <a:ext cx="173160" cy="31500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77840" y="3926160"/>
              <a:ext cx="275760" cy="506160"/>
              <a:chOff x="1977840" y="3926160"/>
              <a:chExt cx="275760" cy="506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977840" y="3926160"/>
                <a:ext cx="275760" cy="2322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977840" y="4158000"/>
                <a:ext cx="231840" cy="2743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06160" y="3512160"/>
              <a:ext cx="302040" cy="497160"/>
              <a:chOff x="3206160" y="3512160"/>
              <a:chExt cx="302040" cy="4971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206160" y="3512160"/>
                <a:ext cx="302040" cy="1969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06160" y="3708720"/>
                <a:ext cx="196920" cy="3006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65400" y="414972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5400" y="263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8960" y="407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1040" y="551808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2960" y="3646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6680" y="6094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46520" y="4221720"/>
              <a:ext cx="1386000" cy="1467720"/>
              <a:chOff x="2846520" y="4221720"/>
              <a:chExt cx="1386000" cy="1467720"/>
            </a:xfrm>
          </p:grpSpPr>
          <p:sp>
            <p:nvSpPr>
              <p:cNvPr id="274" name=""/>
              <p:cNvSpPr/>
              <p:nvPr/>
            </p:nvSpPr>
            <p:spPr>
              <a:xfrm rot="2974200">
                <a:off x="2851560" y="4631040"/>
                <a:ext cx="1375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=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64200" y="4359600"/>
                <a:ext cx="233640" cy="27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5440" y="5018400"/>
                <a:ext cx="233640" cy="27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5800" y="4938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62160" y="5878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1080" y="22068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7560" y="4581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5560" y="5589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5000" y="177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7160" y="3716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7920" y="299736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2440" y="3789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LUČA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979640" y="981000"/>
                <a:ext cx="473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50920" y="1916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da se sistem sila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ne može zameniti jednom si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vakav sistem sila se može svesti na četiri sluč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krst (ukrst)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traedarske k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12000" y="338472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68800">
            <a:off x="6678720" y="346860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35640" y="4895640"/>
            <a:ext cx="151272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18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768800">
            <a:off x="4302000" y="272520"/>
            <a:ext cx="172584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137040" y="1662120"/>
            <a:ext cx="1551240" cy="195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791160" y="767880"/>
            <a:ext cx="900000" cy="1105560"/>
            <a:chOff x="3791160" y="767880"/>
            <a:chExt cx="900000" cy="1105560"/>
          </a:xfrm>
        </p:grpSpPr>
        <p:sp>
          <p:nvSpPr>
            <p:cNvPr id="296" name=""/>
            <p:cNvSpPr/>
            <p:nvPr/>
          </p:nvSpPr>
          <p:spPr>
            <a:xfrm>
              <a:off x="3791160" y="767880"/>
              <a:ext cx="900000" cy="1105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897720" y="91620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3480" y="927720"/>
              <a:ext cx="5796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792600" y="78732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98000" y="79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56280" y="1204920"/>
            <a:ext cx="978840" cy="979920"/>
            <a:chOff x="4256280" y="1204920"/>
            <a:chExt cx="978840" cy="979920"/>
          </a:xfrm>
        </p:grpSpPr>
        <p:sp>
          <p:nvSpPr>
            <p:cNvPr id="302" name=""/>
            <p:cNvSpPr/>
            <p:nvPr/>
          </p:nvSpPr>
          <p:spPr>
            <a:xfrm rot="711000">
              <a:off x="4640040" y="14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7972400">
              <a:off x="4385520" y="133632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26920" y="342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68800">
            <a:off x="1494000" y="351324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05000" y="4516200"/>
            <a:ext cx="978840" cy="979920"/>
            <a:chOff x="1305000" y="4516200"/>
            <a:chExt cx="978840" cy="979920"/>
          </a:xfrm>
        </p:grpSpPr>
        <p:sp>
          <p:nvSpPr>
            <p:cNvPr id="307" name=""/>
            <p:cNvSpPr/>
            <p:nvPr/>
          </p:nvSpPr>
          <p:spPr>
            <a:xfrm rot="711000">
              <a:off x="1688760" y="4761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7972400">
              <a:off x="1434240" y="46476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603520" y="39243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64600" y="5148360"/>
            <a:ext cx="55368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92360" y="5013000"/>
            <a:ext cx="934920" cy="73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91200" y="4682880"/>
            <a:ext cx="896040" cy="894240"/>
            <a:chOff x="1591200" y="4682880"/>
            <a:chExt cx="896040" cy="894240"/>
          </a:xfrm>
        </p:grpSpPr>
        <p:sp>
          <p:nvSpPr>
            <p:cNvPr id="313" name=""/>
            <p:cNvSpPr/>
            <p:nvPr/>
          </p:nvSpPr>
          <p:spPr>
            <a:xfrm rot="3333000">
              <a:off x="2098800" y="48916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94400">
              <a:off x="1679040" y="4771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1044360" y="436572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89720" y="4472280"/>
            <a:ext cx="978480" cy="979920"/>
            <a:chOff x="6489720" y="4472280"/>
            <a:chExt cx="978480" cy="979920"/>
          </a:xfrm>
        </p:grpSpPr>
        <p:sp>
          <p:nvSpPr>
            <p:cNvPr id="317" name=""/>
            <p:cNvSpPr/>
            <p:nvPr/>
          </p:nvSpPr>
          <p:spPr>
            <a:xfrm rot="711000">
              <a:off x="6873480" y="47170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7972400">
              <a:off x="6618960" y="46036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786800" y="394488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88880" y="4663440"/>
            <a:ext cx="791640" cy="789120"/>
            <a:chOff x="6788880" y="4663440"/>
            <a:chExt cx="791640" cy="789120"/>
          </a:xfrm>
        </p:grpSpPr>
        <p:sp>
          <p:nvSpPr>
            <p:cNvPr id="321" name=""/>
            <p:cNvSpPr/>
            <p:nvPr/>
          </p:nvSpPr>
          <p:spPr>
            <a:xfrm rot="3975600">
              <a:off x="7280280" y="4839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236400">
              <a:off x="6824520" y="4699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 flipV="1">
            <a:off x="6229080" y="432072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72360" y="4535640"/>
            <a:ext cx="863640" cy="158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32760" y="260280"/>
            <a:ext cx="1011240" cy="648720"/>
            <a:chOff x="2732760" y="260280"/>
            <a:chExt cx="1011240" cy="648720"/>
          </a:xfrm>
        </p:grpSpPr>
        <p:sp>
          <p:nvSpPr>
            <p:cNvPr id="326" name=""/>
            <p:cNvSpPr/>
            <p:nvPr/>
          </p:nvSpPr>
          <p:spPr>
            <a:xfrm>
              <a:off x="2732760" y="26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1480" y="33156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2440" y="1773360"/>
            <a:ext cx="609120" cy="648720"/>
            <a:chOff x="3142440" y="1773360"/>
            <a:chExt cx="609120" cy="648720"/>
          </a:xfrm>
        </p:grpSpPr>
        <p:sp>
          <p:nvSpPr>
            <p:cNvPr id="329" name=""/>
            <p:cNvSpPr/>
            <p:nvPr/>
          </p:nvSpPr>
          <p:spPr>
            <a:xfrm>
              <a:off x="3142440" y="177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184464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094840" y="4992840"/>
            <a:ext cx="466200" cy="622440"/>
            <a:chOff x="2094840" y="4992840"/>
            <a:chExt cx="466200" cy="622440"/>
          </a:xfrm>
        </p:grpSpPr>
        <p:sp>
          <p:nvSpPr>
            <p:cNvPr id="332" name=""/>
            <p:cNvSpPr/>
            <p:nvPr/>
          </p:nvSpPr>
          <p:spPr>
            <a:xfrm rot="21220200">
              <a:off x="2125440" y="5013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800" y="5156280"/>
              <a:ext cx="214920" cy="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574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5805360"/>
            <a:ext cx="501120" cy="581400"/>
            <a:chOff x="685800" y="5805360"/>
            <a:chExt cx="501120" cy="581400"/>
          </a:xfrm>
        </p:grpSpPr>
        <p:sp>
          <p:nvSpPr>
            <p:cNvPr id="338" name=""/>
            <p:cNvSpPr/>
            <p:nvPr/>
          </p:nvSpPr>
          <p:spPr>
            <a:xfrm>
              <a:off x="685800" y="580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587664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62160" y="3354480"/>
            <a:ext cx="646200" cy="581400"/>
            <a:chOff x="3062160" y="3354480"/>
            <a:chExt cx="646200" cy="581400"/>
          </a:xfrm>
        </p:grpSpPr>
        <p:sp>
          <p:nvSpPr>
            <p:cNvPr id="341" name=""/>
            <p:cNvSpPr/>
            <p:nvPr/>
          </p:nvSpPr>
          <p:spPr>
            <a:xfrm>
              <a:off x="3062160" y="33544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48000" y="34257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82040" y="4967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544000">
            <a:off x="3131640" y="27079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354600">
            <a:off x="4140000" y="465264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4200" y="3862440"/>
            <a:ext cx="1011240" cy="648720"/>
            <a:chOff x="934200" y="3862440"/>
            <a:chExt cx="1011240" cy="648720"/>
          </a:xfrm>
        </p:grpSpPr>
        <p:sp>
          <p:nvSpPr>
            <p:cNvPr id="347" name=""/>
            <p:cNvSpPr/>
            <p:nvPr/>
          </p:nvSpPr>
          <p:spPr>
            <a:xfrm>
              <a:off x="934200" y="386244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920" y="39337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6346800" y="5058360"/>
            <a:ext cx="620640" cy="112068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713120" y="54936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86120" y="4925880"/>
            <a:ext cx="1550880" cy="19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8640" y="5089680"/>
            <a:ext cx="609120" cy="648720"/>
            <a:chOff x="278640" y="5089680"/>
            <a:chExt cx="609120" cy="648720"/>
          </a:xfrm>
        </p:grpSpPr>
        <p:sp>
          <p:nvSpPr>
            <p:cNvPr id="353" name=""/>
            <p:cNvSpPr/>
            <p:nvPr/>
          </p:nvSpPr>
          <p:spPr>
            <a:xfrm>
              <a:off x="278640" y="50896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9320" y="51609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1709640" y="386568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5400000" y="4903560"/>
            <a:ext cx="1540440" cy="1515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447520" y="4319640"/>
            <a:ext cx="609120" cy="648720"/>
            <a:chOff x="5447520" y="4319640"/>
            <a:chExt cx="609120" cy="648720"/>
          </a:xfrm>
        </p:grpSpPr>
        <p:sp>
          <p:nvSpPr>
            <p:cNvPr id="358" name=""/>
            <p:cNvSpPr/>
            <p:nvPr/>
          </p:nvSpPr>
          <p:spPr>
            <a:xfrm>
              <a:off x="5447520" y="4319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78200" y="4390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0600" y="4875480"/>
            <a:ext cx="466200" cy="622440"/>
            <a:chOff x="7230600" y="4875480"/>
            <a:chExt cx="466200" cy="622440"/>
          </a:xfrm>
        </p:grpSpPr>
        <p:sp>
          <p:nvSpPr>
            <p:cNvPr id="361" name=""/>
            <p:cNvSpPr/>
            <p:nvPr/>
          </p:nvSpPr>
          <p:spPr>
            <a:xfrm rot="21220200">
              <a:off x="7261200" y="4896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96560" y="5038920"/>
              <a:ext cx="21492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75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374160" y="6162840"/>
            <a:ext cx="501480" cy="581400"/>
            <a:chOff x="6374160" y="6162840"/>
            <a:chExt cx="501480" cy="581400"/>
          </a:xfrm>
        </p:grpSpPr>
        <p:sp>
          <p:nvSpPr>
            <p:cNvPr id="365" name=""/>
            <p:cNvSpPr/>
            <p:nvPr/>
          </p:nvSpPr>
          <p:spPr>
            <a:xfrm>
              <a:off x="6374160" y="6162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62341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670520" y="3672000"/>
            <a:ext cx="646200" cy="581400"/>
            <a:chOff x="7670520" y="3672000"/>
            <a:chExt cx="646200" cy="581400"/>
          </a:xfrm>
        </p:grpSpPr>
        <p:sp>
          <p:nvSpPr>
            <p:cNvPr id="368" name=""/>
            <p:cNvSpPr/>
            <p:nvPr/>
          </p:nvSpPr>
          <p:spPr>
            <a:xfrm>
              <a:off x="7670520" y="3672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6360" y="374328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4858920" y="5974920"/>
            <a:ext cx="151308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788000" y="4824000"/>
            <a:ext cx="647640" cy="115092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89080" y="5038200"/>
            <a:ext cx="2154960" cy="91260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440" y="609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8680" y="4070160"/>
            <a:ext cx="952920" cy="1059840"/>
            <a:chOff x="778680" y="4070160"/>
            <a:chExt cx="952920" cy="1059840"/>
          </a:xfrm>
        </p:grpSpPr>
        <p:sp>
          <p:nvSpPr>
            <p:cNvPr id="375" name=""/>
            <p:cNvSpPr/>
            <p:nvPr/>
          </p:nvSpPr>
          <p:spPr>
            <a:xfrm>
              <a:off x="778680" y="4070160"/>
              <a:ext cx="95292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92440" y="42127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60" y="42242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80840" y="40892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960" y="40996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6948360" y="5013360"/>
            <a:ext cx="862200" cy="46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6840" y="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vi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44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0" y="0"/>
                <a:ext cx="2584440" cy="30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0.03792 L -0.16041 0.25827 E">
                                      <p:cBhvr>
                                        <p:cTn id="17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387E-006 L -0.16546 -0.0104 E">
                                      <p:cBhvr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8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3276720" y="206028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73000" y="0"/>
            <a:ext cx="28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Drug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st (ukr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48360" y="2162160"/>
            <a:ext cx="3192480" cy="2641680"/>
            <a:chOff x="5148360" y="2162160"/>
            <a:chExt cx="3192480" cy="2641680"/>
          </a:xfrm>
        </p:grpSpPr>
        <p:sp>
          <p:nvSpPr>
            <p:cNvPr id="387" name=""/>
            <p:cNvSpPr/>
            <p:nvPr/>
          </p:nvSpPr>
          <p:spPr>
            <a:xfrm>
              <a:off x="5148360" y="2162160"/>
              <a:ext cx="3192480" cy="2641680"/>
            </a:xfrm>
            <a:custGeom>
              <a:avLst/>
              <a:gdLst/>
              <a:ahLst/>
              <a:rect l="l" t="t" r="r" b="b"/>
              <a:pathLst>
                <a:path w="2011" h="1664">
                  <a:moveTo>
                    <a:pt x="3" y="92"/>
                  </a:moveTo>
                  <a:cubicBezTo>
                    <a:pt x="88" y="75"/>
                    <a:pt x="176" y="55"/>
                    <a:pt x="259" y="28"/>
                  </a:cubicBezTo>
                  <a:cubicBezTo>
                    <a:pt x="274" y="23"/>
                    <a:pt x="289" y="23"/>
                    <a:pt x="304" y="19"/>
                  </a:cubicBezTo>
                  <a:cubicBezTo>
                    <a:pt x="323" y="14"/>
                    <a:pt x="359" y="0"/>
                    <a:pt x="359" y="0"/>
                  </a:cubicBezTo>
                  <a:cubicBezTo>
                    <a:pt x="396" y="3"/>
                    <a:pt x="432" y="9"/>
                    <a:pt x="469" y="9"/>
                  </a:cubicBezTo>
                  <a:cubicBezTo>
                    <a:pt x="482" y="9"/>
                    <a:pt x="493" y="0"/>
                    <a:pt x="506" y="0"/>
                  </a:cubicBezTo>
                  <a:cubicBezTo>
                    <a:pt x="581" y="0"/>
                    <a:pt x="660" y="18"/>
                    <a:pt x="734" y="28"/>
                  </a:cubicBezTo>
                  <a:cubicBezTo>
                    <a:pt x="761" y="37"/>
                    <a:pt x="789" y="46"/>
                    <a:pt x="816" y="55"/>
                  </a:cubicBezTo>
                  <a:cubicBezTo>
                    <a:pt x="825" y="58"/>
                    <a:pt x="835" y="61"/>
                    <a:pt x="844" y="64"/>
                  </a:cubicBezTo>
                  <a:cubicBezTo>
                    <a:pt x="853" y="67"/>
                    <a:pt x="871" y="73"/>
                    <a:pt x="871" y="73"/>
                  </a:cubicBezTo>
                  <a:cubicBezTo>
                    <a:pt x="925" y="60"/>
                    <a:pt x="956" y="74"/>
                    <a:pt x="1008" y="92"/>
                  </a:cubicBezTo>
                  <a:cubicBezTo>
                    <a:pt x="1026" y="98"/>
                    <a:pt x="1063" y="110"/>
                    <a:pt x="1063" y="110"/>
                  </a:cubicBezTo>
                  <a:cubicBezTo>
                    <a:pt x="1093" y="139"/>
                    <a:pt x="1133" y="136"/>
                    <a:pt x="1173" y="147"/>
                  </a:cubicBezTo>
                  <a:cubicBezTo>
                    <a:pt x="1228" y="184"/>
                    <a:pt x="1301" y="178"/>
                    <a:pt x="1365" y="183"/>
                  </a:cubicBezTo>
                  <a:cubicBezTo>
                    <a:pt x="1407" y="197"/>
                    <a:pt x="1443" y="187"/>
                    <a:pt x="1484" y="174"/>
                  </a:cubicBezTo>
                  <a:cubicBezTo>
                    <a:pt x="1496" y="177"/>
                    <a:pt x="1508" y="181"/>
                    <a:pt x="1520" y="183"/>
                  </a:cubicBezTo>
                  <a:cubicBezTo>
                    <a:pt x="1548" y="187"/>
                    <a:pt x="1576" y="186"/>
                    <a:pt x="1603" y="192"/>
                  </a:cubicBezTo>
                  <a:cubicBezTo>
                    <a:pt x="1622" y="196"/>
                    <a:pt x="1658" y="211"/>
                    <a:pt x="1658" y="211"/>
                  </a:cubicBezTo>
                  <a:cubicBezTo>
                    <a:pt x="1737" y="193"/>
                    <a:pt x="1759" y="223"/>
                    <a:pt x="1831" y="247"/>
                  </a:cubicBezTo>
                  <a:cubicBezTo>
                    <a:pt x="1858" y="256"/>
                    <a:pt x="1887" y="256"/>
                    <a:pt x="1914" y="265"/>
                  </a:cubicBezTo>
                  <a:cubicBezTo>
                    <a:pt x="1928" y="307"/>
                    <a:pt x="1934" y="347"/>
                    <a:pt x="1959" y="384"/>
                  </a:cubicBezTo>
                  <a:cubicBezTo>
                    <a:pt x="1956" y="433"/>
                    <a:pt x="1957" y="482"/>
                    <a:pt x="1950" y="531"/>
                  </a:cubicBezTo>
                  <a:cubicBezTo>
                    <a:pt x="1947" y="550"/>
                    <a:pt x="1932" y="585"/>
                    <a:pt x="1932" y="585"/>
                  </a:cubicBezTo>
                  <a:cubicBezTo>
                    <a:pt x="1943" y="620"/>
                    <a:pt x="1966" y="628"/>
                    <a:pt x="1987" y="659"/>
                  </a:cubicBezTo>
                  <a:cubicBezTo>
                    <a:pt x="2011" y="731"/>
                    <a:pt x="2008" y="694"/>
                    <a:pt x="1996" y="768"/>
                  </a:cubicBezTo>
                  <a:cubicBezTo>
                    <a:pt x="1993" y="850"/>
                    <a:pt x="1999" y="934"/>
                    <a:pt x="1987" y="1015"/>
                  </a:cubicBezTo>
                  <a:cubicBezTo>
                    <a:pt x="1984" y="1037"/>
                    <a:pt x="1950" y="1070"/>
                    <a:pt x="1950" y="1070"/>
                  </a:cubicBezTo>
                  <a:cubicBezTo>
                    <a:pt x="1957" y="1136"/>
                    <a:pt x="1975" y="1187"/>
                    <a:pt x="1959" y="1253"/>
                  </a:cubicBezTo>
                  <a:cubicBezTo>
                    <a:pt x="1950" y="1290"/>
                    <a:pt x="1916" y="1314"/>
                    <a:pt x="1895" y="1344"/>
                  </a:cubicBezTo>
                  <a:cubicBezTo>
                    <a:pt x="1883" y="1383"/>
                    <a:pt x="1891" y="1394"/>
                    <a:pt x="1914" y="1427"/>
                  </a:cubicBezTo>
                  <a:cubicBezTo>
                    <a:pt x="1908" y="1492"/>
                    <a:pt x="1913" y="1555"/>
                    <a:pt x="1877" y="1609"/>
                  </a:cubicBezTo>
                  <a:cubicBezTo>
                    <a:pt x="1866" y="1653"/>
                    <a:pt x="1862" y="1635"/>
                    <a:pt x="1877" y="1664"/>
                  </a:cubicBezTo>
                  <a:lnTo>
                    <a:pt x="0" y="1660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2492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606160" y="4437000"/>
            <a:ext cx="360000" cy="581400"/>
            <a:chOff x="8606160" y="4437000"/>
            <a:chExt cx="360000" cy="581400"/>
          </a:xfrm>
        </p:grpSpPr>
        <p:sp>
          <p:nvSpPr>
            <p:cNvPr id="390" name=""/>
            <p:cNvSpPr/>
            <p:nvPr/>
          </p:nvSpPr>
          <p:spPr>
            <a:xfrm>
              <a:off x="8606160" y="443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50520" y="4508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21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46200" y="2060640"/>
            <a:ext cx="1800" cy="27385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44720" y="6237360"/>
            <a:ext cx="406440" cy="581400"/>
            <a:chOff x="2844720" y="6237360"/>
            <a:chExt cx="406440" cy="581400"/>
          </a:xfrm>
        </p:grpSpPr>
        <p:sp>
          <p:nvSpPr>
            <p:cNvPr id="395" name=""/>
            <p:cNvSpPr/>
            <p:nvPr/>
          </p:nvSpPr>
          <p:spPr>
            <a:xfrm>
              <a:off x="2844720" y="623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9440" y="63831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3080" y="1628640"/>
            <a:ext cx="497880" cy="581400"/>
            <a:chOff x="4573080" y="1628640"/>
            <a:chExt cx="497880" cy="581400"/>
          </a:xfrm>
        </p:grpSpPr>
        <p:sp>
          <p:nvSpPr>
            <p:cNvPr id="398" name=""/>
            <p:cNvSpPr/>
            <p:nvPr/>
          </p:nvSpPr>
          <p:spPr>
            <a:xfrm>
              <a:off x="4573080" y="162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8160" y="177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5148000" y="479736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150160" y="2804400"/>
            <a:ext cx="880560" cy="19843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74640" y="4010400"/>
            <a:ext cx="2053800" cy="783360"/>
            <a:chOff x="5174640" y="4010400"/>
            <a:chExt cx="2053800" cy="783360"/>
          </a:xfrm>
        </p:grpSpPr>
        <p:sp>
          <p:nvSpPr>
            <p:cNvPr id="403" name=""/>
            <p:cNvSpPr/>
            <p:nvPr/>
          </p:nvSpPr>
          <p:spPr>
            <a:xfrm flipH="1">
              <a:off x="5174640" y="4044240"/>
              <a:ext cx="2012040" cy="749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39280" y="40892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736320" y="4082760"/>
              <a:ext cx="250920" cy="187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54560" y="401796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954480" y="4010400"/>
              <a:ext cx="25200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69840" y="3429000"/>
            <a:ext cx="1011240" cy="648720"/>
            <a:chOff x="7269840" y="3429000"/>
            <a:chExt cx="1011240" cy="648720"/>
          </a:xfrm>
        </p:grpSpPr>
        <p:sp>
          <p:nvSpPr>
            <p:cNvPr id="409" name=""/>
            <p:cNvSpPr/>
            <p:nvPr/>
          </p:nvSpPr>
          <p:spPr>
            <a:xfrm>
              <a:off x="7269840" y="34290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78560" y="35002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736600" y="2205000"/>
            <a:ext cx="609120" cy="648720"/>
            <a:chOff x="5736600" y="2205000"/>
            <a:chExt cx="609120" cy="648720"/>
          </a:xfrm>
        </p:grpSpPr>
        <p:sp>
          <p:nvSpPr>
            <p:cNvPr id="412" name=""/>
            <p:cNvSpPr/>
            <p:nvPr/>
          </p:nvSpPr>
          <p:spPr>
            <a:xfrm>
              <a:off x="5736600" y="2205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27628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0" y="0"/>
            <a:ext cx="4356000" cy="6430680"/>
            <a:chOff x="0" y="0"/>
            <a:chExt cx="4356000" cy="6430680"/>
          </a:xfrm>
        </p:grpSpPr>
        <p:sp>
          <p:nvSpPr>
            <p:cNvPr id="415" name=""/>
            <p:cNvSpPr/>
            <p:nvPr/>
          </p:nvSpPr>
          <p:spPr>
            <a:xfrm>
              <a:off x="0" y="0"/>
              <a:ext cx="4356000" cy="64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U ravni koju čine glavni vektor sila i glavni vektor momenata postoji neograničen broj međusobno ortogonalnih pravaca koji sa normalom na tu ravan čine ortogonalni trijedar pravaca. Na slici je prikazan jedan takav trijedar, određen jediničnim vektorima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, l, 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9640" y="59500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000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H="1">
            <a:off x="2304720" y="383544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307600" y="3705840"/>
            <a:ext cx="2089080" cy="212760"/>
            <a:chOff x="2307600" y="3705840"/>
            <a:chExt cx="2089080" cy="212760"/>
          </a:xfrm>
        </p:grpSpPr>
        <p:sp>
          <p:nvSpPr>
            <p:cNvPr id="421" name=""/>
            <p:cNvSpPr/>
            <p:nvPr/>
          </p:nvSpPr>
          <p:spPr>
            <a:xfrm flipH="1" flipV="1">
              <a:off x="230760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52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93624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17960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15368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433440" y="109836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62880" y="3475080"/>
            <a:ext cx="360000" cy="581400"/>
            <a:chOff x="5762880" y="3475080"/>
            <a:chExt cx="360000" cy="581400"/>
          </a:xfrm>
        </p:grpSpPr>
        <p:sp>
          <p:nvSpPr>
            <p:cNvPr id="428" name=""/>
            <p:cNvSpPr/>
            <p:nvPr/>
          </p:nvSpPr>
          <p:spPr>
            <a:xfrm>
              <a:off x="576288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30520" y="3619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0364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40" y="5275440"/>
            <a:ext cx="406440" cy="581400"/>
            <a:chOff x="1440" y="5275440"/>
            <a:chExt cx="406440" cy="581400"/>
          </a:xfrm>
        </p:grpSpPr>
        <p:sp>
          <p:nvSpPr>
            <p:cNvPr id="433" name=""/>
            <p:cNvSpPr/>
            <p:nvPr/>
          </p:nvSpPr>
          <p:spPr>
            <a:xfrm>
              <a:off x="144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616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729800" y="666720"/>
            <a:ext cx="497880" cy="581400"/>
            <a:chOff x="1729800" y="666720"/>
            <a:chExt cx="497880" cy="581400"/>
          </a:xfrm>
        </p:grpSpPr>
        <p:sp>
          <p:nvSpPr>
            <p:cNvPr id="436" name=""/>
            <p:cNvSpPr/>
            <p:nvPr/>
          </p:nvSpPr>
          <p:spPr>
            <a:xfrm>
              <a:off x="1729800" y="666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4880" y="8128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306880" y="1842120"/>
            <a:ext cx="880560" cy="1983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331360" y="3048480"/>
            <a:ext cx="2053800" cy="783720"/>
            <a:chOff x="2331360" y="3048480"/>
            <a:chExt cx="2053800" cy="783720"/>
          </a:xfrm>
        </p:grpSpPr>
        <p:sp>
          <p:nvSpPr>
            <p:cNvPr id="440" name=""/>
            <p:cNvSpPr/>
            <p:nvPr/>
          </p:nvSpPr>
          <p:spPr>
            <a:xfrm flipH="1">
              <a:off x="2331360" y="308304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96000" y="312768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893040" y="312120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211280" y="305604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110480" y="304848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26560" y="2608200"/>
            <a:ext cx="1011240" cy="648720"/>
            <a:chOff x="4426560" y="2608200"/>
            <a:chExt cx="1011240" cy="648720"/>
          </a:xfrm>
        </p:grpSpPr>
        <p:sp>
          <p:nvSpPr>
            <p:cNvPr id="446" name=""/>
            <p:cNvSpPr/>
            <p:nvPr/>
          </p:nvSpPr>
          <p:spPr>
            <a:xfrm>
              <a:off x="4426560" y="2608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5280" y="2679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3320" y="1243080"/>
            <a:ext cx="609120" cy="648720"/>
            <a:chOff x="2893320" y="1243080"/>
            <a:chExt cx="609120" cy="648720"/>
          </a:xfrm>
        </p:grpSpPr>
        <p:sp>
          <p:nvSpPr>
            <p:cNvPr id="449" name=""/>
            <p:cNvSpPr/>
            <p:nvPr/>
          </p:nvSpPr>
          <p:spPr>
            <a:xfrm>
              <a:off x="2893320" y="12430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4000" y="13143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170160" y="1819440"/>
            <a:ext cx="0" cy="201600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304720" y="181944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04720" y="3043080"/>
            <a:ext cx="2089080" cy="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94160" y="3043080"/>
            <a:ext cx="0" cy="7923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281320" y="1798920"/>
            <a:ext cx="1728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62600" y="3827520"/>
            <a:ext cx="97128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180160" y="3024000"/>
            <a:ext cx="209880" cy="820080"/>
            <a:chOff x="2180160" y="3024000"/>
            <a:chExt cx="209880" cy="820080"/>
          </a:xfrm>
        </p:grpSpPr>
        <p:sp>
          <p:nvSpPr>
            <p:cNvPr id="458" name=""/>
            <p:cNvSpPr/>
            <p:nvPr/>
          </p:nvSpPr>
          <p:spPr>
            <a:xfrm flipH="1">
              <a:off x="227484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80160" y="3024000"/>
              <a:ext cx="209880" cy="462240"/>
              <a:chOff x="2180160" y="3024000"/>
              <a:chExt cx="209880" cy="462240"/>
            </a:xfrm>
          </p:grpSpPr>
          <p:sp>
            <p:nvSpPr>
              <p:cNvPr id="460" name=""/>
              <p:cNvSpPr/>
              <p:nvPr/>
            </p:nvSpPr>
            <p:spPr>
              <a:xfrm flipH="1" flipV="1">
                <a:off x="227340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18016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228348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18808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671480" y="1747800"/>
            <a:ext cx="635040" cy="648720"/>
            <a:chOff x="1671480" y="1747800"/>
            <a:chExt cx="635040" cy="648720"/>
          </a:xfrm>
        </p:grpSpPr>
        <p:sp>
          <p:nvSpPr>
            <p:cNvPr id="465" name=""/>
            <p:cNvSpPr/>
            <p:nvPr/>
          </p:nvSpPr>
          <p:spPr>
            <a:xfrm>
              <a:off x="1671480" y="17478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0360" y="18190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71560" y="3908520"/>
            <a:ext cx="517680" cy="648720"/>
            <a:chOff x="2671560" y="3908520"/>
            <a:chExt cx="517680" cy="648720"/>
          </a:xfrm>
        </p:grpSpPr>
        <p:sp>
          <p:nvSpPr>
            <p:cNvPr id="468" name=""/>
            <p:cNvSpPr/>
            <p:nvPr/>
          </p:nvSpPr>
          <p:spPr>
            <a:xfrm>
              <a:off x="267156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836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79920" y="3908520"/>
            <a:ext cx="607320" cy="648720"/>
            <a:chOff x="3679920" y="3908520"/>
            <a:chExt cx="607320" cy="648720"/>
          </a:xfrm>
        </p:grpSpPr>
        <p:sp>
          <p:nvSpPr>
            <p:cNvPr id="471" name=""/>
            <p:cNvSpPr/>
            <p:nvPr/>
          </p:nvSpPr>
          <p:spPr>
            <a:xfrm>
              <a:off x="367992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1636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6040" y="2827440"/>
            <a:ext cx="724680" cy="648720"/>
            <a:chOff x="986040" y="2827440"/>
            <a:chExt cx="724680" cy="648720"/>
          </a:xfrm>
        </p:grpSpPr>
        <p:sp>
          <p:nvSpPr>
            <p:cNvPr id="474" name=""/>
            <p:cNvSpPr/>
            <p:nvPr/>
          </p:nvSpPr>
          <p:spPr>
            <a:xfrm>
              <a:off x="98604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20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218280" y="46080"/>
                <a:ext cx="2925720" cy="676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H="1">
            <a:off x="3201840" y="3835440"/>
            <a:ext cx="33847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204360" y="3705840"/>
            <a:ext cx="2089080" cy="212760"/>
            <a:chOff x="3204360" y="3705840"/>
            <a:chExt cx="2089080" cy="212760"/>
          </a:xfrm>
        </p:grpSpPr>
        <p:sp>
          <p:nvSpPr>
            <p:cNvPr id="479" name=""/>
            <p:cNvSpPr/>
            <p:nvPr/>
          </p:nvSpPr>
          <p:spPr>
            <a:xfrm flipH="1" flipV="1">
              <a:off x="320436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85928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83300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07636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05044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1330200" y="1098360"/>
            <a:ext cx="460872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9640" y="3475080"/>
            <a:ext cx="360000" cy="581400"/>
            <a:chOff x="6659640" y="3475080"/>
            <a:chExt cx="360000" cy="581400"/>
          </a:xfrm>
        </p:grpSpPr>
        <p:sp>
          <p:nvSpPr>
            <p:cNvPr id="486" name=""/>
            <p:cNvSpPr/>
            <p:nvPr/>
          </p:nvSpPr>
          <p:spPr>
            <a:xfrm>
              <a:off x="665964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400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81320" y="37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040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98200" y="5275440"/>
            <a:ext cx="406440" cy="581400"/>
            <a:chOff x="898200" y="5275440"/>
            <a:chExt cx="406440" cy="581400"/>
          </a:xfrm>
        </p:grpSpPr>
        <p:sp>
          <p:nvSpPr>
            <p:cNvPr id="491" name=""/>
            <p:cNvSpPr/>
            <p:nvPr/>
          </p:nvSpPr>
          <p:spPr>
            <a:xfrm>
              <a:off x="89820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292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1840" y="907920"/>
            <a:ext cx="497880" cy="581400"/>
            <a:chOff x="2661840" y="907920"/>
            <a:chExt cx="497880" cy="581400"/>
          </a:xfrm>
        </p:grpSpPr>
        <p:sp>
          <p:nvSpPr>
            <p:cNvPr id="494" name=""/>
            <p:cNvSpPr/>
            <p:nvPr/>
          </p:nvSpPr>
          <p:spPr>
            <a:xfrm>
              <a:off x="266184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06920" y="1054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9021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177360" y="1798920"/>
            <a:ext cx="1764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159360" y="3827520"/>
            <a:ext cx="97164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76920" y="3024000"/>
            <a:ext cx="209880" cy="820080"/>
            <a:chOff x="3076920" y="3024000"/>
            <a:chExt cx="209880" cy="820080"/>
          </a:xfrm>
        </p:grpSpPr>
        <p:sp>
          <p:nvSpPr>
            <p:cNvPr id="500" name=""/>
            <p:cNvSpPr/>
            <p:nvPr/>
          </p:nvSpPr>
          <p:spPr>
            <a:xfrm flipH="1">
              <a:off x="317160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76920" y="3024000"/>
              <a:ext cx="209880" cy="462240"/>
              <a:chOff x="3076920" y="3024000"/>
              <a:chExt cx="209880" cy="46224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317016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07692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318024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8484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498400" y="1844640"/>
            <a:ext cx="635040" cy="648720"/>
            <a:chOff x="2498400" y="1844640"/>
            <a:chExt cx="635040" cy="648720"/>
          </a:xfrm>
        </p:grpSpPr>
        <p:sp>
          <p:nvSpPr>
            <p:cNvPr id="507" name=""/>
            <p:cNvSpPr/>
            <p:nvPr/>
          </p:nvSpPr>
          <p:spPr>
            <a:xfrm>
              <a:off x="2498400" y="1844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6920" y="191628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7480" y="3908520"/>
            <a:ext cx="517680" cy="648720"/>
            <a:chOff x="3687480" y="3908520"/>
            <a:chExt cx="517680" cy="648720"/>
          </a:xfrm>
        </p:grpSpPr>
        <p:sp>
          <p:nvSpPr>
            <p:cNvPr id="510" name=""/>
            <p:cNvSpPr/>
            <p:nvPr/>
          </p:nvSpPr>
          <p:spPr>
            <a:xfrm>
              <a:off x="368748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428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7040" y="3908520"/>
            <a:ext cx="607320" cy="648720"/>
            <a:chOff x="4577040" y="3908520"/>
            <a:chExt cx="607320" cy="648720"/>
          </a:xfrm>
        </p:grpSpPr>
        <p:sp>
          <p:nvSpPr>
            <p:cNvPr id="513" name=""/>
            <p:cNvSpPr/>
            <p:nvPr/>
          </p:nvSpPr>
          <p:spPr>
            <a:xfrm>
              <a:off x="457704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48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352960" y="2827440"/>
            <a:ext cx="724680" cy="648720"/>
            <a:chOff x="2352960" y="2827440"/>
            <a:chExt cx="724680" cy="648720"/>
          </a:xfrm>
        </p:grpSpPr>
        <p:sp>
          <p:nvSpPr>
            <p:cNvPr id="516" name=""/>
            <p:cNvSpPr/>
            <p:nvPr/>
          </p:nvSpPr>
          <p:spPr>
            <a:xfrm>
              <a:off x="235296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112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141640" y="4908600"/>
            <a:ext cx="9716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17240" y="3822120"/>
            <a:ext cx="939960" cy="20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34880" y="4941720"/>
            <a:ext cx="517680" cy="648720"/>
            <a:chOff x="2234880" y="4941720"/>
            <a:chExt cx="517680" cy="648720"/>
          </a:xfrm>
        </p:grpSpPr>
        <p:sp>
          <p:nvSpPr>
            <p:cNvPr id="521" name=""/>
            <p:cNvSpPr/>
            <p:nvPr/>
          </p:nvSpPr>
          <p:spPr>
            <a:xfrm>
              <a:off x="2234880" y="49417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71680" y="5013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513800" y="3500280"/>
            <a:ext cx="653400" cy="648720"/>
            <a:chOff x="1513800" y="3500280"/>
            <a:chExt cx="653400" cy="648720"/>
          </a:xfrm>
        </p:grpSpPr>
        <p:sp>
          <p:nvSpPr>
            <p:cNvPr id="524" name=""/>
            <p:cNvSpPr/>
            <p:nvPr/>
          </p:nvSpPr>
          <p:spPr>
            <a:xfrm>
              <a:off x="1513800" y="3500280"/>
              <a:ext cx="6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5320" y="357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9340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7400" y="450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828400">
            <a:off x="1798560" y="3715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753800" y="233640"/>
            <a:ext cx="17640" cy="20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66560" y="3833640"/>
            <a:ext cx="14760" cy="197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35160" y="620640"/>
            <a:ext cx="635040" cy="648720"/>
            <a:chOff x="4835160" y="620640"/>
            <a:chExt cx="635040" cy="648720"/>
          </a:xfrm>
        </p:grpSpPr>
        <p:sp>
          <p:nvSpPr>
            <p:cNvPr id="532" name=""/>
            <p:cNvSpPr/>
            <p:nvPr/>
          </p:nvSpPr>
          <p:spPr>
            <a:xfrm>
              <a:off x="4835160" y="620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4040" y="69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90400" y="4941720"/>
            <a:ext cx="770760" cy="648720"/>
            <a:chOff x="3290400" y="4941720"/>
            <a:chExt cx="770760" cy="648720"/>
          </a:xfrm>
        </p:grpSpPr>
        <p:sp>
          <p:nvSpPr>
            <p:cNvPr id="535" name=""/>
            <p:cNvSpPr/>
            <p:nvPr/>
          </p:nvSpPr>
          <p:spPr>
            <a:xfrm>
              <a:off x="3290400" y="4941720"/>
              <a:ext cx="77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2360" y="501336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rot="20828400">
            <a:off x="4405320" y="1125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7720" y="2344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227640" y="115920"/>
                <a:ext cx="2538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176880" y="836640"/>
                <a:ext cx="2643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51640" y="1628640"/>
                <a:ext cx="33130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5292720" y="4221000"/>
            <a:ext cx="3672000" cy="2665800"/>
            <a:chOff x="5292720" y="4221000"/>
            <a:chExt cx="3672000" cy="2665800"/>
          </a:xfrm>
        </p:grpSpPr>
        <p:sp>
          <p:nvSpPr>
            <p:cNvPr id="543" name=""/>
            <p:cNvSpPr/>
            <p:nvPr/>
          </p:nvSpPr>
          <p:spPr>
            <a:xfrm>
              <a:off x="5292720" y="4221000"/>
              <a:ext cx="367200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stem sila se svodi na 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krst </a:t>
              </a: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sil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l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m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a napadnim t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čkam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072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5964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7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8T20:48:27Z</dcterms:modified>
  <cp:revision>380</cp:revision>
  <dc:subject/>
  <dc:title>Slide 1</dc:title>
</cp:coreProperties>
</file>