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C79-C13D-43FB-A05A-3719D0D2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BD05-5C44-44A3-9BDF-7D61C78A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DFDC-7022-4C04-B24B-DC2E1E81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D94A-6D6B-45B0-A369-A2C65670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8CB4-C2DA-42F3-8F62-00644104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E41F-A8D2-4462-BC07-9D26C2EF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39FB-A9E6-4165-8E12-B3ED06D6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65EB-C46D-4856-97CB-39F13628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9A16-1154-4ADD-99F4-0AEAE141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99EB-4CEA-452A-9997-E8326B7D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52FF-2BF5-49FC-8A95-0C299EBA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9CEA-A61A-4392-B958-22728052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62B9-B6F4-4C23-B4A0-66A5620B9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826920" y="1700280"/>
                <a:ext cx="17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468360" y="126828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OBRTANJE TELA OKO NEPOKRETNE TAČKE (sferno kretanj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2492280"/>
            <a:ext cx="4105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 – se kreće po sfernoj površi čiji je poluprečnik AP, a centar u tačk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tela određuju tri tačke: A, P i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, Q – obrtanjem oko A prelaze u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i Q’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788000" y="1773360"/>
          <a:ext cx="3598920" cy="45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773360"/>
                    <a:ext cx="359892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39640" y="1916280"/>
                <a:ext cx="4286520" cy="44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Q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≃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PQ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zbog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epromenljivih rastojanj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PAQ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611280" y="155736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0920" y="595008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tačke rotiraju za isti uga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932360" y="2060640"/>
          <a:ext cx="3959280" cy="387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2060640"/>
                    <a:ext cx="395928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BRZINA I UBRZANJE TAČA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39640" y="2060640"/>
                <a:ext cx="4700520" cy="36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eqAr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:</m:t>
                    </m:r>
                    <m:r>
                      <m:rPr>
                        <m:lit/>
                        <m:nor/>
                      </m:rPr>
                      <m:t xml:space="preserve"> 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O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'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'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translacija</m:t>
                        </m:r>
                      </m:lim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'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obrtanje oko tacke A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graphicFrame>
        <p:nvGraphicFramePr>
          <p:cNvPr id="136" name=""/>
          <p:cNvGraphicFramePr/>
          <p:nvPr/>
        </p:nvGraphicFramePr>
        <p:xfrm>
          <a:off x="4680000" y="1628640"/>
          <a:ext cx="4464000" cy="380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0000" y="1628640"/>
                    <a:ext cx="4464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BRZINA I UBRZANJE TAČA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0" name=""/>
          <p:cNvGraphicFramePr/>
          <p:nvPr/>
        </p:nvGraphicFramePr>
        <p:xfrm>
          <a:off x="752400" y="1341360"/>
          <a:ext cx="5551560" cy="495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1341360"/>
                    <a:ext cx="555156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116000" y="602136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rotacije oko tačke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gaona brzina tela oko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5661000"/>
            <a:ext cx="71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transl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95640" y="530064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MATERIJALNE TAČKE KRUTOG 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479736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ektor ugaone brzine (ima pravac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ut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ose obrtan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EOREMA O PROJEKCIJAMA BRZ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9640" y="1484280"/>
                <a:ext cx="5184720" cy="469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 ; 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Q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Q</m:t>
                                </m:r>
                              </m:e>
                            </m:d>
                          </m:den>
                        </m:f>
                      </m:e>
                    </m:eqArr>
                    <m:r>
                      <m:rPr>
                        <m:lit/>
                        <m:nor/>
                      </m:rPr>
                      <m:t xml:space="preserve">DOKAZ: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/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Q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/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Q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49" name=""/>
          <p:cNvGraphicFramePr/>
          <p:nvPr/>
        </p:nvGraphicFramePr>
        <p:xfrm>
          <a:off x="4859280" y="1773360"/>
          <a:ext cx="4149720" cy="43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773360"/>
                    <a:ext cx="41497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OSTOR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95280" y="1628640"/>
                <a:ext cx="69120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:  O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y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     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4" name=""/>
          <p:cNvGraphicFramePr/>
          <p:nvPr/>
        </p:nvGraphicFramePr>
        <p:xfrm>
          <a:off x="1547640" y="2781360"/>
          <a:ext cx="4608720" cy="376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2781360"/>
                    <a:ext cx="4608720" cy="37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OSTOR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00000" y="1989000"/>
                <a:ext cx="5400720" cy="374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z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826920" y="1557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STORNA DESKRIPC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00720" y="4869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u prostornoj deskripci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573408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 ovakvom prikazivanju brzine tačka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je ona tačka tela koja se u trenutku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zatekla u tački prostora čije su koordinate (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ATERIJAL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826920" y="1916280"/>
                <a:ext cx="4478400" cy="46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η</m:t>
                            </m:r>
                            <m:r>
                              <m:t xml:space="preserve">;</m:t>
                            </m:r>
                            <m:r>
                              <m:t xml:space="preserve">ζ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ξ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η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ζ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 </m:t>
                            </m:r>
                            <m:r>
                              <m:t xml:space="preserve">;</m:t>
                            </m:r>
                            <m:r>
                              <m:t xml:space="preserve">q</m:t>
                            </m:r>
                            <m:r>
                              <m:t xml:space="preserve">;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ξ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lim>
                        </m:limLow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826920" y="1484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TERIJALNA DESKRIPC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ATERIJAL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624720" y="3716280"/>
            <a:ext cx="25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terij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eskrip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5640" y="1844640"/>
                <a:ext cx="5904000" cy="30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qζ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μη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pζ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rξ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pη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qξ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755640" y="515772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materijalnoj deskripciji data je brzina tačke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tela čije su materijalne koordinate (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ζ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i konstante su u vremenu dok se telo kreć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50" name=""/>
          <p:cNvGraphicFramePr/>
          <p:nvPr/>
        </p:nvGraphicFramePr>
        <p:xfrm>
          <a:off x="5078520" y="1600200"/>
          <a:ext cx="317664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8520" y="1600200"/>
                    <a:ext cx="31766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219640" y="3908520"/>
          <a:ext cx="3529080" cy="242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9640" y="3908520"/>
                    <a:ext cx="352908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684360" y="1341360"/>
            <a:ext cx="7777080" cy="44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oz A, P,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eče sferu po velikom krugu čiji je deo P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sto važi i za ravan A, Q, 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M=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QN=N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M - je deo velikog kruga sfere u rav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rmalnoj na tangentu u tački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N – je deo velikog kruga sfere u rav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rmalnoj na tangentu u tački 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55640" y="2637000"/>
          <a:ext cx="360360" cy="16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2637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258920" y="2637000"/>
          <a:ext cx="360360" cy="160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58920" y="2637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55640" y="3068640"/>
          <a:ext cx="360360" cy="160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3068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258920" y="3068640"/>
          <a:ext cx="360360" cy="16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58920" y="3068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971640" y="3933720"/>
          <a:ext cx="360360" cy="160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71640" y="3933720"/>
                    <a:ext cx="360360" cy="1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971640" y="4869000"/>
          <a:ext cx="360360" cy="160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71640" y="4869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39640" y="4869000"/>
                <a:ext cx="518472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Q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/  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Q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QCQ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900000" y="2133720"/>
                <a:ext cx="55911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'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- telo je kruto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'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11280" y="1341360"/>
            <a:ext cx="777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PQ ≈ </a:t>
            </a: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3141720"/>
            <a:ext cx="77774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r je C u ravni simetr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kost stran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PQ =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→ 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 →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508720" y="2852640"/>
          <a:ext cx="3311280" cy="29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8720" y="2852640"/>
                    <a:ext cx="331128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700360" y="2060640"/>
          <a:ext cx="360360" cy="16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2060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419640" y="2060640"/>
          <a:ext cx="360360" cy="16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2060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924360" y="2565360"/>
          <a:ext cx="360360" cy="160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2436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643280" y="2565360"/>
          <a:ext cx="360360" cy="160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4328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6012000" y="2565360"/>
          <a:ext cx="360360" cy="16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1200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292720" y="2565360"/>
          <a:ext cx="360360" cy="160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29272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11280" y="1341360"/>
            <a:ext cx="77770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LAMBEROVA TEORE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telo koje ima nepokretnu tačku možemo prevesti iz jednog u drugi položaj obrtanjem oko jedne ose koja prolazi kroz nepokretnu tač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 osa naziva se os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ekvivalent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84360" y="2133720"/>
                <a:ext cx="4032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'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611280" y="1341360"/>
            <a:ext cx="432108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izvršeno pomeranje tela primenjujemo Rodrigov obraza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je ugao obrtanja oko ose ekvivalentne rotacije pri kome prela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→ 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Q →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56000" y="1628640"/>
          <a:ext cx="4321440" cy="431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1628640"/>
                    <a:ext cx="432144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11280" y="1700280"/>
                <a:ext cx="4752720" cy="24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QP</m:t>
                        </m:r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trans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r>
                          <m:t xml:space="preserve">ΔA</m:t>
                        </m:r>
                        <m:r>
                          <m:t xml:space="preserve">'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obr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r>
                          <m:t xml:space="preserve">ΔA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p/>
                        </m:sSup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p/>
                        </m:sSup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p/>
                        </m:sSup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) OPŠTI SLUČAJ KRETAN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0" y="2637000"/>
          <a:ext cx="5904000" cy="368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0" y="2637000"/>
                    <a:ext cx="5904000" cy="36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55640" y="5877000"/>
                <a:ext cx="38955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11280" y="1341360"/>
            <a:ext cx="77770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konačno pomeranje tela sastoji se od translacije tela i rotacije oko one tačke tela koja je translacijom dospela u svoj definitivan položaj. Moguć je i obrnuti 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je P- proizvoljna tačka, A- referentna tačka, ta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835280" y="2349360"/>
          <a:ext cx="5400720" cy="371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2349360"/>
                    <a:ext cx="5400720" cy="37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849240" y="2637000"/>
          <a:ext cx="3700440" cy="22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240" y="2637000"/>
                    <a:ext cx="370044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846000" y="4937040"/>
          <a:ext cx="1401840" cy="137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6000" y="4937040"/>
                    <a:ext cx="140184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11280" y="1413000"/>
            <a:ext cx="77770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Pri obrtanju tela oko nepokretne tačke za svako beskonačno malo pomeranje koje se odigrava u intervalu vremena (t, t+dt) postoji osa obrtanja oko koje se telo obrtanjem prevodi iz prvog u drugi beskonačno blizak položaj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Ova osa se naziva 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trenutna osa rotacije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5013360"/>
            <a:ext cx="3960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Jedini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čni vektor trenutne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obrt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5445000"/>
            <a:ext cx="4032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Vektor elementarne rotacij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6308640"/>
            <a:ext cx="5040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Površ koju opisuje snop trenutnih osa je aksoi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292720" y="2205000"/>
          <a:ext cx="3328920" cy="4394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92720" y="2205000"/>
                    <a:ext cx="33289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11280" y="1700280"/>
            <a:ext cx="295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ije diferencijal, nego je to beskonačno mala veličina definisana u odnosu na trenutnu osu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869000"/>
            <a:ext cx="8280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TA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sfernom kretanju sve tače tela vrše obrtanje oko iste trenutne ose obrtanja za isti ugao i u istom smeru u posmatranom intervalu vremena, t.j. Vektor elementarna rotacije ne zavisi od položaja tačke u te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788000" y="1557360"/>
          <a:ext cx="2446200" cy="374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557360"/>
                    <a:ext cx="24462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0-18T10:06:44Z</dcterms:modified>
  <cp:revision>288</cp:revision>
  <dc:subject/>
  <dc:title>ТЕХНИЧКА МЕХАНИКА 2</dc:title>
</cp:coreProperties>
</file>