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CBA-8BB2-427F-AB87-5E42BE08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835E-624D-4516-80CD-9334436C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749-2672-42E1-844E-2DA8D25B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5F6-AD6F-42F4-BB42-B61D4B8F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E82-7F6D-4E8C-A69A-BB7289D5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622-B712-4EB7-83F5-906D5706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EF8-BDBF-4B67-A9D3-40DC323A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62E-6282-4DB6-8B1A-821FFA54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765-B3B6-4D77-9B21-D27E13A6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B58-BB25-4F65-A014-5B64FCEF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068-2F7D-4E34-AE76-767CB1BB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F42-CEA9-4ECB-AA54-84913067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7A86-D406-468B-91A1-17145914A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faze ud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ela se deformišu (sažimaju) do te mere dok relativna brzina približavanja ne postane jednaka nuli. U ovoj fazi kinetička energija prelazi u potencijalnu energiju, toplotnu, energiju akustičnih talasa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drugoj fazi oblik tela se ponovo uspostavlja. Potencijalna energija deformacije pretvara se u kinetičku energiju i na kraju druge faze tela se odvaj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Kod idealno plastičnog udara, udar se završava kod prve f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56000" y="1665360"/>
            <a:ext cx="360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19280" y="1376280"/>
            <a:ext cx="4308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11280" y="1376280"/>
          <a:ext cx="568980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1376280"/>
                    <a:ext cx="5689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26920" y="2313000"/>
                <a:ext cx="3959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5904000" y="1844280"/>
            <a:ext cx="2771640" cy="2059200"/>
            <a:chOff x="5904000" y="1844280"/>
            <a:chExt cx="2771640" cy="2059200"/>
          </a:xfrm>
        </p:grpSpPr>
        <p:grpSp>
          <p:nvGrpSpPr>
            <p:cNvPr id="46" name=""/>
            <p:cNvGrpSpPr/>
            <p:nvPr/>
          </p:nvGrpSpPr>
          <p:grpSpPr>
            <a:xfrm>
              <a:off x="5904000" y="1844280"/>
              <a:ext cx="2771640" cy="2059200"/>
              <a:chOff x="5904000" y="1844280"/>
              <a:chExt cx="2771640" cy="2059200"/>
            </a:xfrm>
          </p:grpSpPr>
          <p:sp>
            <p:nvSpPr>
              <p:cNvPr id="47" name=""/>
              <p:cNvSpPr/>
              <p:nvPr/>
            </p:nvSpPr>
            <p:spPr>
              <a:xfrm>
                <a:off x="5904000" y="3211200"/>
                <a:ext cx="2628720" cy="144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696000" y="2203200"/>
                <a:ext cx="179280" cy="181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4000" y="231120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767280" y="2060280"/>
                <a:ext cx="3636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5280" y="2384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28000" y="2923920"/>
                <a:ext cx="252360" cy="252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36000" y="31762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136000" y="18442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36000" y="23108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00" y="353520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00" y="2455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8244000" y="1879560"/>
                    <a:ext cx="31716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9" name=""/>
            <p:cNvSpPr/>
            <p:nvPr/>
          </p:nvSpPr>
          <p:spPr>
            <a:xfrm>
              <a:off x="6443640" y="21319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3280" y="3427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200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CENTRALNI UDAR TELA O NEPOKRETNU POV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eficijent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3645000"/>
            <a:ext cx="691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zavisi od vrste materij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plutu................................k=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drvo.................................. =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lik o čelik................................  =0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lo o staklo............................  =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gornji 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0→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-plastičan udar; udar se završava u prvoj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k=1→Brzina na kraju udara jednaka je brzini na početku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av udar je potpuno elastičan, kod njega se oblik tela (lopte) posle udara potuno uspost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→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rzina na kraju sudara manja je od brzine pre sud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karakteristika nepotpunog elastičnog udara. Kod ovog udara, oblik tela (lopte) se delimično m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PERIMENTALNO ODREĐIVANJE KOEFICIJENTA UD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34920" y="4653000"/>
                <a:ext cx="16812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5724360" y="4400280"/>
            <a:ext cx="2772000" cy="2059200"/>
            <a:chOff x="5724360" y="4400280"/>
            <a:chExt cx="2772000" cy="2059200"/>
          </a:xfrm>
        </p:grpSpPr>
        <p:sp>
          <p:nvSpPr>
            <p:cNvPr id="68" name=""/>
            <p:cNvSpPr/>
            <p:nvPr/>
          </p:nvSpPr>
          <p:spPr>
            <a:xfrm>
              <a:off x="5724360" y="5767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6720" y="4545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4720" y="4867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000" y="4616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0" y="494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4797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8000" y="5732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56720" y="4400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956720" y="5192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6091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360" y="5011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9280" y="46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04000" y="4581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77080" y="4941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360" y="49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24720" y="4905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9640" y="51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pta mase m=0.4kg pada na horizontalnu podlogu sa visine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2m i odskačući penje se na visinu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1.28m. Odrediti koeficijent udara i udarni impu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24360" y="3068280"/>
            <a:ext cx="2880000" cy="2059200"/>
            <a:chOff x="5724360" y="3068280"/>
            <a:chExt cx="2880000" cy="2059200"/>
          </a:xfrm>
        </p:grpSpPr>
        <p:sp>
          <p:nvSpPr>
            <p:cNvPr id="88" name=""/>
            <p:cNvSpPr/>
            <p:nvPr/>
          </p:nvSpPr>
          <p:spPr>
            <a:xfrm>
              <a:off x="5724360" y="4435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3213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720" y="3535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588000" y="3284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6000" y="36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48720" y="3465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400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56720" y="3068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56720" y="3860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6000" y="4759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4360" y="3679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9280" y="3284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04000" y="3249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23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36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52472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8720" y="396864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.2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2781360"/>
                <a:ext cx="489600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e kugle A i B ma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anslatorno duž istog pravca konstantnim brzinama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ri čemu je kugla B ispred kugle A. Ako je brzina kugle A veća od brzine kugle B, tako da dolazi do sudara, odrediti brzine oba tela posle sudara ako je koeficijent suda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ebno diskutovati sluč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) idealno elastičnog sud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) idealno plastičnog suda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265720"/>
            <a:ext cx="4429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9736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797360"/>
            <a:ext cx="46800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21000"/>
            <a:ext cx="7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545000"/>
            <a:ext cx="6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04172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žanju količine kre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1989000"/>
                <a:ext cx="431964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6360" y="375300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m gornjih jednačina dobij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4221000"/>
                <a:ext cx="4211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76360" y="4976640"/>
            <a:ext cx="44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k=1, e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5373720"/>
                <a:ext cx="7061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KUGL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ZMENJU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ZI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LASTICNO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DAR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k=0, p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26920" y="2241720"/>
                <a:ext cx="154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47640" y="3033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NAČIN: IDEALNO ELASTIČAN SU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(1) je ista a jednačina (2)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19280" y="3824280"/>
                <a:ext cx="5040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19280" y="4761000"/>
            <a:ext cx="69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jednačina (1) i (2) dobijamo za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3640" y="5265720"/>
                <a:ext cx="705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STI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S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LS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DAR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ZMENJUJ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ZIN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koren kvdratn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2241720"/>
                <a:ext cx="13687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00360" y="26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nema smisla, nije došlo do s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681360"/>
            <a:ext cx="67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: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4116240"/>
                <a:ext cx="839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80036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ugle razmenjuju br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0133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NAČIN ZA PLASTIČAN SUDAR SE DOBIJA IZ k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5553000"/>
                <a:ext cx="129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ZADAT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SPITNI ZADATAK, JANUAR 2005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25%=5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Definisati koeficijent sud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 Brod dužin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mas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ože se predstaviti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p), kreće se u pavcu svoje ose brzinom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'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br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o središta ugaonom brzinom . U jednom trenut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d udari pod uglom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 nepokretnu podlogu. Od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rni impuls ako je koeficijent udara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Pri udaru štap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loga se ponašaju kao idealno glatke pod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i</cp:lastModifiedBy>
  <dcterms:modified xsi:type="dcterms:W3CDTF">2006-12-11T16:39:13Z</dcterms:modified>
  <cp:revision>583</cp:revision>
  <dc:subject/>
  <dc:title>ТЕХНИЧКА МЕХАНИКА 2</dc:title>
</cp:coreProperties>
</file>