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EB0E-0753-41EE-A916-EF4453200A6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B9F1-A597-4E42-A3B8-8564D190824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BB1C-7888-473D-9F63-67D60D37EC1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7244-2EBC-4BE7-997D-C32FEDA93E2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2BE3-D53E-4877-8268-FFEFCB4D8D6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9A86-DEBD-4776-8204-635831A9050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C343-0B6C-40ED-ADC2-EB9B992BCA7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3922-FAFF-4D44-872B-FCF3323819F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C836-7944-4BB3-A00F-BA643A6FD68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7156-B3AA-414F-A49E-3A48A97431A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CD4B-0077-4553-BD28-9DF90620C14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1202-B569-4412-8312-6CB961CEA36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99C1-F7C7-4B5B-BB60-94234AF7B1A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063C-D9BE-4A39-BA11-76168BD2444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EF47-2921-46EC-B77F-DB01FF05582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E5A2-243D-45D4-AAA0-2A7D5192110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40A8-500C-4EF6-B055-B38967228CD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BE2A-7B1B-4CA7-A1EC-0C7277F8C88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D8B1-BF09-4110-B860-F74197ED36D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5AEB-28D3-4BF7-93AF-6D434737D3E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524-570C-4011-B003-681D3CED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E9D-7981-405F-A356-E9ED1CB4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F82-40A2-4FC7-AC55-5C0CC6CA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C1D-B670-4736-AE7A-38A00E4B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867-5711-44C5-8142-A4631811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F6F-D6F5-4112-BA6E-7EF0B5DD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C6D-13C7-4555-A0BD-7236702A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F6C-6279-4734-8C20-E81012FF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228-D423-475A-AC6B-0912B7BB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F9A-5245-4BD2-A1B5-9C39E924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7B7-9D68-47C9-9BF7-968462E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DF0-BC60-4826-8839-9755CD9D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6CB7-A352-4038-890C-7115325A6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UTNOVI AKSIOMI MEHA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SIO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INER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ostaje u stanju mirovanja ili jednolikog pravolinijskog kret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dok delovanje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e ne bude prinuđeno da to stanje prome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I NJUTN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a količine ktretanja tela (materijalne tačke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orcionalna je sili koja deluje na tel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rši se u prav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mer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ovanja sil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 mase materijalne tačke i njenog ubrz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 intenzitet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u i smer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i koja deluje na 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87280" y="4941720"/>
          <a:ext cx="3745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41720"/>
                    <a:ext cx="3745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30240" y="2133720"/>
                <a:ext cx="2448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4"/>
          <p:cNvSpPr/>
          <p:nvPr/>
        </p:nvSpPr>
        <p:spPr>
          <a:xfrm>
            <a:off x="3059280" y="2492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Impulsni mome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IMER-Kružno kretanje pod uticajem sile F=F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539640" y="1844640"/>
                <a:ext cx="5183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539640" y="2639880"/>
                <a:ext cx="518328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R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-  </m:t>
                    </m:r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;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16"/>
          <p:cNvSpPr/>
          <p:nvPr/>
        </p:nvSpPr>
        <p:spPr>
          <a:xfrm>
            <a:off x="2987640" y="54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četni u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50072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ona 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5148360" y="2205000"/>
          <a:ext cx="3609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60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684360" y="1601640"/>
                <a:ext cx="277812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/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6"/>
          <p:cNvGraphicFramePr/>
          <p:nvPr/>
        </p:nvGraphicFramePr>
        <p:xfrm>
          <a:off x="5435640" y="1628640"/>
          <a:ext cx="302580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302580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2"/>
          <p:cNvGraphicFramePr/>
          <p:nvPr/>
        </p:nvGraphicFramePr>
        <p:xfrm>
          <a:off x="6372360" y="4437000"/>
          <a:ext cx="187164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437000"/>
                    <a:ext cx="1871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8"/>
          <p:cNvSpPr/>
          <p:nvPr/>
        </p:nvSpPr>
        <p:spPr>
          <a:xfrm>
            <a:off x="2411280" y="6237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Zakon o promeni kinetičk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00360" y="3213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lementarni rad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6"/>
              <p:cNvSpPr txBox="1"/>
              <p:nvPr/>
            </p:nvSpPr>
            <p:spPr>
              <a:xfrm>
                <a:off x="4067280" y="4941720"/>
                <a:ext cx="23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826920" y="1701720"/>
          <a:ext cx="7704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704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2124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Kinetička energi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3059280" y="1488960"/>
          <a:ext cx="244944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8960"/>
                    <a:ext cx="24494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1187280" y="3860640"/>
                <a:ext cx="316872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ul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1 J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15"/>
          <p:cNvGraphicFramePr/>
          <p:nvPr/>
        </p:nvGraphicFramePr>
        <p:xfrm>
          <a:off x="4572000" y="2205000"/>
          <a:ext cx="4292640" cy="43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29264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187280" y="1773360"/>
                <a:ext cx="1513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m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826920" y="2565360"/>
                <a:ext cx="770436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d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y {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d>
                    <m:r>
                      <m:rPr>
                        <m:lit/>
                        <m:nor/>
                      </m:rPr>
                      <m:t xml:space="preserve">   ako 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dz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d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75564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755640" y="3573360"/>
                <a:ext cx="720108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4"/>
          <p:cNvSpPr/>
          <p:nvPr/>
        </p:nvSpPr>
        <p:spPr>
          <a:xfrm>
            <a:off x="755640" y="1700280"/>
            <a:ext cx="8137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rad sile ne zavisi od oblika putanje po kojoj se vrši kretanje već samo zavisi od početnog i krajnjeg položaja, tada se takva sila naziva konzervativnom silom. Rad sile u tom slučaju predstavlja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otalni diferencijal skalarne fun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ož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755640" y="2637000"/>
                <a:ext cx="489744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755640" y="1700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ila bila konzervativna koordinate vektora sile moraju biti izražene preko odgovarajućih izvoda jedne iste funkcije polo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27280" y="407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tencijal polja sile (potencijalja energija m. tač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e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826920" y="2311560"/>
          <a:ext cx="56167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11560"/>
                    <a:ext cx="561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755640" y="170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 poljem sile podrazumevamo prostor u kome deluje s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3500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 matematike, ako je f=f(x,y,z) – skalarna funkcija, tada je gradijent funkcije 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826920" y="4365720"/>
                <a:ext cx="39592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ad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44500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a kreće u polju konzervativne sile, onda se ulaže sila na račun potencij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755640" y="1700280"/>
                <a:ext cx="66247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     III NJUTNOV ZAKON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AKCIJE I REAK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ajamni mehanički uticaji dvaju tela ispoljavaju se silama koje imaju isti intenzitet i pravac, a deluju u suprotnim smer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V NJUTNOV ZAKON (ZAKON O SLAGAN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a telo (materijalnu tačku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uju istovrameno dve sile, tada se telo (tačka) kreće opisujući dijagonalu paralelograma konstruisanog nad tim silama kao vekto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dT=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→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Zakon o održanju energ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+U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prvi zadtatak ISPUS21okt04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826920" y="4437000"/>
                <a:ext cx="4464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  ;  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  ;  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;  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-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611280" y="2997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Njutnov zakon važi u odnosu na inercijalni koordinatni si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03280" y="249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nta svih sila koje deluju na materijalnu ta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DEKARTOV KOORDINAT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D.J. Kretan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971640" y="1413000"/>
                <a:ext cx="1412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500040" y="2143080"/>
          <a:ext cx="302256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30225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3635280" y="551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četni u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26828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RODNE KOORDI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284720" y="2060640"/>
          <a:ext cx="410364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060640"/>
                    <a:ext cx="41036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468360" y="1773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MER: Matematičko kla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84360" y="1700280"/>
                <a:ext cx="5327640" cy="30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m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684360" y="47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F=const ili F=F(t), tada se gornji integral može izraču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900000" y="1754280"/>
          <a:ext cx="66247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54280"/>
                    <a:ext cx="66247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900000" y="3571920"/>
          <a:ext cx="693900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71920"/>
                    <a:ext cx="693900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2"/>
          <p:cNvPicPr/>
          <p:nvPr/>
        </p:nvPicPr>
        <p:blipFill>
          <a:blip r:embed="rId1"/>
          <a:srcRect l="18565" t="24289" r="3795" b="19184"/>
          <a:stretch/>
        </p:blipFill>
        <p:spPr>
          <a:xfrm>
            <a:off x="3492360" y="4076640"/>
            <a:ext cx="5435640" cy="2479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826920" y="1557360"/>
                <a:ext cx="136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826920" y="2133720"/>
                <a:ext cx="365760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820800" y="1989000"/>
                <a:ext cx="3849480" cy="410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8"/>
          <p:cNvSpPr/>
          <p:nvPr/>
        </p:nvSpPr>
        <p:spPr>
          <a:xfrm>
            <a:off x="3492360" y="4653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diferencijal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5445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količine kretanja (inercijalni mo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0"/>
          <p:cNvGraphicFramePr/>
          <p:nvPr/>
        </p:nvGraphicFramePr>
        <p:xfrm>
          <a:off x="4788000" y="1413000"/>
          <a:ext cx="35272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35272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68360" y="2060640"/>
                <a:ext cx="377352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bSup>
                          </m:sub>
                          <m:sup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sup>
                          <m:e>
                            <m:r>
                              <m:t xml:space="preserve">d</m:t>
                            </m:r>
                          </m:e>
                        </m:nary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</m:e>
                    </m:eqAr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428472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konač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5805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je funkcija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2T07:51:02Z</dcterms:modified>
  <cp:revision>145</cp:revision>
  <dc:subject/>
  <dc:title>ТЕХНИЧКА МЕХАНИКА 2</dc:title>
</cp:coreProperties>
</file>