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7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28.wmf" ContentType="image/x-wmf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wmf" ContentType="image/x-wmf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1631-E5F0-4EED-8BAF-E7D29487526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85DD-6844-4A96-8EDA-F061A2CB0B3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9556-A8C1-4545-93F1-5C6E94976C1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31FB-D0D0-449B-ACBA-29CA7C3BF9B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CB8A-C5AE-4476-94ED-5D495224557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3D91-7C30-4819-BEA6-8D883D373AE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3F21-EEBB-4F1C-93B3-D38C9ED4F53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544A-2E27-4B22-9A6B-A68BA7FFEC6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AF6B-A82D-47E3-8A6C-2A29B81A9FE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AC34-ACD8-4679-8B3A-A327483A745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8B13-0F73-4090-813C-5BAAD838F17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598E-050F-4486-B6D4-A36C2C32CC0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55BF-2016-45D4-885E-3FA348A449D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7ABD-C679-424B-BA31-79FE4AF9A6B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CC37-52FE-4615-BDE0-30072171F48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38A5-F2D1-4AEE-A5CA-A4B0C75348C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EAB-0688-46D6-B748-843FB8F0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9FB-7874-425B-BCC7-D940F30A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35EB-C684-4DAD-8F91-07B2763C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9A7-CDBC-4BFE-BD96-51D3F57E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F056-6FBF-4856-82FD-D0D30ACE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629-822C-42AB-B57E-C352A0E9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7A5-F1E9-4C31-887C-70C6FDCF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890-55F7-49BE-9517-491608EB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2FCE-F402-41AB-A4B8-0D767BE0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DE8F-CA40-4100-BEF8-852D8FB4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2C0F-1D11-4AA6-A3AE-0DB44625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588-260A-44D6-8542-C36B1CA7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A28A-0F37-46F9-BB83-4B964A3E0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ЕХНИЧКА МЕХАНИКА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773360"/>
            <a:ext cx="89647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оф др Драгослав Шумара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султaц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уторком 10-11, соба 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 Проф Др Наталија Нерловић-Вељковић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ханик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Научна књига, 19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С.Б., Д.Г., Д. Ш. Р. М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Збирка задатака са испи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вод вектора положаја материјалне тачке по времену представља вектор брзине материјалне тач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826920" y="3284640"/>
          <a:ext cx="5185080" cy="21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284640"/>
                    <a:ext cx="518508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ктор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 и вектор брзине имају правац тангенте на путањ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908000" y="1557360"/>
                <a:ext cx="576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91" name="Object 11"/>
          <p:cNvGraphicFramePr/>
          <p:nvPr/>
        </p:nvGraphicFramePr>
        <p:xfrm>
          <a:off x="0" y="1268280"/>
          <a:ext cx="9144000" cy="51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1214280" y="1689120"/>
          <a:ext cx="514836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689120"/>
                    <a:ext cx="51483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716360" y="4994280"/>
          <a:ext cx="4251600" cy="13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4994280"/>
                    <a:ext cx="425160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9"/>
          <p:cNvGraphicFramePr/>
          <p:nvPr/>
        </p:nvGraphicFramePr>
        <p:xfrm>
          <a:off x="395280" y="5734080"/>
          <a:ext cx="388944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734080"/>
                    <a:ext cx="38894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22"/>
          <p:cNvGraphicFramePr/>
          <p:nvPr/>
        </p:nvGraphicFramePr>
        <p:xfrm>
          <a:off x="250920" y="1484280"/>
          <a:ext cx="5976720" cy="390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1484280"/>
                    <a:ext cx="59767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539640" y="2133720"/>
                <a:ext cx="5256360" cy="373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e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алгебарска вредност брзин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5" name="Object 7"/>
          <p:cNvGraphicFramePr/>
          <p:nvPr/>
        </p:nvGraphicFramePr>
        <p:xfrm>
          <a:off x="4788000" y="2349360"/>
          <a:ext cx="388764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349360"/>
                    <a:ext cx="388764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539640" y="1628640"/>
                <a:ext cx="7848720" cy="505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τ</m:t>
                                    </m:r>
                                  </m:e>
                                </m:acc>
                              </m:e>
                              <m:e/>
                            </m:d>
                          </m:e>
                        </m:eqAr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  <m:r>
                              <m:t xml:space="preserve">'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вектор  средње  кривине  на  делу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Δs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Δs</m:t>
                            </m:r>
                          </m:e>
                        </m:d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вектор  кривине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⊥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-полупречник кривине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9" name="Object 11"/>
          <p:cNvGraphicFramePr/>
          <p:nvPr/>
        </p:nvGraphicFramePr>
        <p:xfrm>
          <a:off x="5867280" y="4397400"/>
          <a:ext cx="259236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397400"/>
                    <a:ext cx="25923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826920" y="2104920"/>
          <a:ext cx="5472360" cy="35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04920"/>
                    <a:ext cx="54723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611280" y="1746360"/>
          <a:ext cx="8208720" cy="42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46360"/>
                    <a:ext cx="820872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1"/>
          <p:cNvGraphicFramePr/>
          <p:nvPr/>
        </p:nvGraphicFramePr>
        <p:xfrm>
          <a:off x="4356000" y="1125360"/>
          <a:ext cx="4032360" cy="410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125360"/>
                    <a:ext cx="403236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611280" y="1327320"/>
          <a:ext cx="745164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27320"/>
                    <a:ext cx="745164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9"/>
          <p:cNvGraphicFramePr/>
          <p:nvPr/>
        </p:nvGraphicFramePr>
        <p:xfrm>
          <a:off x="6715080" y="1413000"/>
          <a:ext cx="2033640" cy="14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5080" y="1413000"/>
                    <a:ext cx="203364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4" name="Object 11"/>
              <p:cNvSpPr txBox="1"/>
              <p:nvPr/>
            </p:nvSpPr>
            <p:spPr>
              <a:xfrm>
                <a:off x="7812000" y="1916280"/>
                <a:ext cx="60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кон пута: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=s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611280" y="2133720"/>
          <a:ext cx="4321080" cy="16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432108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2"/>
          <p:cNvGraphicFramePr/>
          <p:nvPr/>
        </p:nvGraphicFramePr>
        <p:xfrm>
          <a:off x="0" y="3716280"/>
          <a:ext cx="9144000" cy="29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16280"/>
                    <a:ext cx="914400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БАВЕЗ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СТУДЕН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3 до 4 домаћа (само се у јануару рачунају за испи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 колоквиј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8"/>
          <p:cNvGraphicFramePr/>
          <p:nvPr/>
        </p:nvGraphicFramePr>
        <p:xfrm>
          <a:off x="468360" y="1341360"/>
          <a:ext cx="3303720" cy="52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330372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13"/>
          <p:cNvGraphicFramePr/>
          <p:nvPr/>
        </p:nvGraphicFramePr>
        <p:xfrm>
          <a:off x="4788000" y="2519280"/>
          <a:ext cx="3311280" cy="238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519280"/>
                    <a:ext cx="331128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ИНАМИК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И АКСИОМИ МЕХАНИ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СИОМ (ЗАКОН ИНЕР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 тело остаје у стању мировања или једноликог праволинијског кретања, све док деловањем силе не буде принуђено да то стање про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 ЗА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мена количине кретања тела(материјалне тачке) пропорционална је сили која делује на тело (материјалну тачку) и врши се у правцу и смеру деловања силе. (Или, производ из масе материјалне тачке и њеног убрзања једнак је, по интензитету, правцу и смеру, сили која делује на материјалну тач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258920" y="5850000"/>
          <a:ext cx="230508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5850000"/>
                    <a:ext cx="2305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акције и реа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ајамни механички утицаји двају тела испољавају се силама које имају исти интензитет и правац, а делују у супротним смеров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о слагањ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на тело (материјалну ачку) делују истовремено две силе, тада се тело (материјална тачка) креће описујући дијагоналу паралелограма конструисаног над тим силама као вектор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smeni (teorijski) deo ispita iz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pismeni održan 24.01.2005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vesti izraze za brzinu i ubrzanje materijalne tač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 prirodnim kooordinatama a zatim za tačku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koj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će konstantnom brzinom na svakom od delo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I, II, II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rediti vrednost brzine tako da ubrzanje bude konstantno na svakom od ovih delov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К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НЕМАТИКА је део МЕХАНИКЕ који се бави проучавањем кретања материјалне тачке или тела не узимајући у обзир утицај сила на то крет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и делић тела представља материјалну та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slike"/>
          <p:cNvPicPr/>
          <p:nvPr/>
        </p:nvPicPr>
        <p:blipFill>
          <a:blip r:embed="rId1"/>
          <a:stretch/>
        </p:blipFill>
        <p:spPr>
          <a:xfrm>
            <a:off x="755640" y="3213000"/>
            <a:ext cx="4537080" cy="318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9"/>
          <p:cNvGraphicFramePr/>
          <p:nvPr/>
        </p:nvGraphicFramePr>
        <p:xfrm>
          <a:off x="3059280" y="4221000"/>
          <a:ext cx="2736720" cy="151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4221000"/>
                    <a:ext cx="2736720" cy="15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утања тачке (трајекторија) је ходограф вектора положа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векторском облик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9"/>
          <p:cNvGraphicFramePr/>
          <p:nvPr/>
        </p:nvGraphicFramePr>
        <p:xfrm>
          <a:off x="4500720" y="1413000"/>
          <a:ext cx="381636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413000"/>
                    <a:ext cx="38163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" name="Object 12"/>
              <p:cNvSpPr txBox="1"/>
              <p:nvPr/>
            </p:nvSpPr>
            <p:spPr>
              <a:xfrm>
                <a:off x="826920" y="5589720"/>
                <a:ext cx="46198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 кретању тачке бар једна координата мора да се м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ординатном облику ј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468360" y="3716280"/>
                <a:ext cx="867564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КООРДИНАТНИ ОБЛИК ЈЕДНАЧИНЕ КРЕТАЊ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д природног начина описивања кретања путања и лучна координата мерена по путањи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s=s(t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ређују положај тачке у било ком тренутку време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8"/>
          <p:cNvGraphicFramePr/>
          <p:nvPr/>
        </p:nvGraphicFramePr>
        <p:xfrm>
          <a:off x="3851280" y="2781360"/>
          <a:ext cx="446400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781360"/>
                    <a:ext cx="446400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1332000" y="2708280"/>
          <a:ext cx="633564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08280"/>
                    <a:ext cx="633564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7"/>
          <p:cNvGraphicFramePr/>
          <p:nvPr/>
        </p:nvGraphicFramePr>
        <p:xfrm>
          <a:off x="1258920" y="1557360"/>
          <a:ext cx="5184720" cy="8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557360"/>
                    <a:ext cx="51847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9"/>
          <p:cNvSpPr/>
          <p:nvPr/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6"/>
          <p:cNvGraphicFramePr/>
          <p:nvPr/>
        </p:nvGraphicFramePr>
        <p:xfrm>
          <a:off x="539640" y="1197000"/>
          <a:ext cx="43563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4356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" name="Object 19"/>
              <p:cNvSpPr txBox="1"/>
              <p:nvPr/>
            </p:nvSpPr>
            <p:spPr>
              <a:xfrm>
                <a:off x="5003640" y="2617920"/>
                <a:ext cx="309744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vektor  pomeranja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755640" y="1413000"/>
          <a:ext cx="498960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4989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8"/>
          <p:cNvGraphicFramePr/>
          <p:nvPr/>
        </p:nvGraphicFramePr>
        <p:xfrm>
          <a:off x="3708360" y="2205000"/>
          <a:ext cx="4105440" cy="449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2205000"/>
                    <a:ext cx="410544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09-30T20:45:09Z</dcterms:modified>
  <cp:revision>69</cp:revision>
  <dc:subject/>
  <dc:title>ТЕХНИЧКА МЕХАНИКА 2</dc:title>
</cp:coreProperties>
</file>