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wmf" ContentType="image/x-wmf"/>
  <Override PartName="/ppt/media/image3.wmf" ContentType="image/x-wmf"/>
  <Override PartName="/ppt/media/image4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15.wmf" ContentType="image/x-wmf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1CCE-3911-404F-B854-904F1BCE456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A9D2-A990-40D8-B8A8-542AE5B3F85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7BB1-9910-4A86-859C-075BC1D2018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EA2A-13D6-4C39-B71E-D28C1C5AEA5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83B7-8855-44FD-ABE6-97C1F9C719B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2026-C0E7-4E27-82E4-63173BF36C7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D8F7-3E3C-46A7-A92D-544075D0EE1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05B1-3EB3-4E7B-BE2B-6E6F1726175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22CF-868E-4DC2-81D9-57908962184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2680-ADDA-4A28-A158-49E8326A02D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8DE6-0BEF-4A3D-83EA-3D4CDCFEADC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C923-C617-4E02-8A42-223351EFE24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FE67-5D85-4662-A9B0-8F5D5D96FD9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F86D-EE8C-4987-957A-44892A1D806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9411-A1FF-4FD3-8647-47D1358A0B4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68C7-A1B4-4114-9799-55EB6FBF48D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5E52-EB94-4799-9847-54B4714022A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DF66-72A2-40D7-8577-21B61136022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B9F5-1E13-4CAB-B423-677FDB57AA4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D150-9B02-4F46-91A1-B7DAD358A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51B3-F071-414F-B166-E31670D2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A791-D4EA-480C-973D-B52651D0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B76F-E4A5-4A55-8380-3F9BC215D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0E87-F271-43DB-8FA5-6B1D5DA8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4D4E-0601-448B-BC53-1558A8E0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BE6C-7925-4EE5-8152-71883A53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B7F0-FEF6-440C-B107-2FF855D1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D07B-C5D1-4FED-98B8-7926229F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A66F-0B40-4055-BEB6-80D2C3DF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8D02-5B56-470B-85B4-FE5B5239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573E-CD5B-4354-981C-58A58CF6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F05D-0DD9-4B16-834F-E129DA5F8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719280" y="1341360"/>
            <a:ext cx="8424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van kretanja je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an.Brzina    pripad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ni i stalna je za sve tačke na istom pravc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ralelnom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10"/>
          <p:cNvGraphicFramePr/>
          <p:nvPr/>
        </p:nvGraphicFramePr>
        <p:xfrm>
          <a:off x="179280" y="3500280"/>
          <a:ext cx="867564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500280"/>
                    <a:ext cx="86756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9"/>
          <p:cNvGraphicFramePr/>
          <p:nvPr/>
        </p:nvGraphicFramePr>
        <p:xfrm>
          <a:off x="4788000" y="1284120"/>
          <a:ext cx="3254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1284120"/>
                    <a:ext cx="3254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12"/>
          <p:cNvGraphicFramePr/>
          <p:nvPr/>
        </p:nvGraphicFramePr>
        <p:xfrm>
          <a:off x="4356000" y="1628640"/>
          <a:ext cx="3456000" cy="345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1628640"/>
                    <a:ext cx="34560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NOSI IZMEĐ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E I RU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4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2"/>
              <p:cNvSpPr txBox="1"/>
              <p:nvPr/>
            </p:nvSpPr>
            <p:spPr>
              <a:xfrm>
                <a:off x="539640" y="2708280"/>
                <a:ext cx="8280360" cy="400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dη</m:t>
                            </m:r>
                          </m:num>
                          <m:den>
                            <m:r>
                              <m:t xml:space="preserve">dξ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ω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num>
                          <m:den>
                            <m:r>
                              <m:t xml:space="preserve">ω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Q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Text Box 5"/>
          <p:cNvSpPr/>
          <p:nvPr/>
        </p:nvSpPr>
        <p:spPr>
          <a:xfrm>
            <a:off x="457200" y="1219320"/>
            <a:ext cx="84582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zajedničkoj tački baza i ruleta imaju zajedničku tangentu, tj. Nalaze se u dodi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) Brzine kojom se trenutni centar pomera po jednoj i drugoj krivoj su jedn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K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7"/>
          <p:cNvGraphicFramePr/>
          <p:nvPr/>
        </p:nvGraphicFramePr>
        <p:xfrm>
          <a:off x="2700360" y="2205000"/>
          <a:ext cx="6192720" cy="26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205000"/>
                    <a:ext cx="6192720" cy="26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I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U I RUL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22" name="Object 2"/>
          <p:cNvGraphicFramePr/>
          <p:nvPr/>
        </p:nvGraphicFramePr>
        <p:xfrm>
          <a:off x="826920" y="2249640"/>
          <a:ext cx="244800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49640"/>
                    <a:ext cx="244800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5"/>
          <p:cNvSpPr/>
          <p:nvPr/>
        </p:nvSpPr>
        <p:spPr>
          <a:xfrm>
            <a:off x="468360" y="907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Štap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dužine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2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kreće se u ravni tako da mu kraj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klizi po krugu poluprečnika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oslanja se u tački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Odrediti bazu i ruletu štapa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700360" y="3141720"/>
            <a:ext cx="14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a baze 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u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uprečnika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627280" y="537372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uleta je k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uprečnika 2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539640" y="6093000"/>
            <a:ext cx="83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kle, kretanje štapa se može zameniti kotrljanjem velikog kruga po mal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971640" y="1628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I nač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12"/>
          <p:cNvGraphicFramePr/>
          <p:nvPr/>
        </p:nvGraphicFramePr>
        <p:xfrm>
          <a:off x="4284720" y="1665360"/>
          <a:ext cx="4680000" cy="421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1665360"/>
                    <a:ext cx="4680000" cy="42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I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U I RUL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2"/>
              <p:cNvSpPr txBox="1"/>
              <p:nvPr/>
            </p:nvSpPr>
            <p:spPr>
              <a:xfrm>
                <a:off x="826920" y="1341360"/>
                <a:ext cx="7488360" cy="534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num>
                              <m:den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;  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;   {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 ;  </m:t>
                        </m:r>
                      </m:e>
                    </m:eqAr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den>
                    </m:f>
                    <m:r>
                      <m:rPr>
                        <m:lit/>
                        <m:nor/>
                      </m:rPr>
                      <m:t xml:space="preserve">  ; 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                            ;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R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;</m:t>
                    </m:r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R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ω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num>
                                <m:den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ω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num>
                                <m:den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mr>
                        </m:m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-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Text Box 6"/>
          <p:cNvSpPr/>
          <p:nvPr/>
        </p:nvSpPr>
        <p:spPr>
          <a:xfrm>
            <a:off x="3203640" y="36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Isto kao pre za baz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900000" y="1052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II nači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pomoću formul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7"/>
              <p:cNvSpPr txBox="1"/>
              <p:nvPr/>
            </p:nvSpPr>
            <p:spPr>
              <a:xfrm>
                <a:off x="4643280" y="5877000"/>
                <a:ext cx="43563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z uslova 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</m:eqAr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Ruleta se kotrlja bez klizanja po baz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611280" y="126828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tački C koja je u tom tremutku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trenutni centar ubrzanj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ENUTNI CENTAR UBRZ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3"/>
          <p:cNvGraphicFramePr/>
          <p:nvPr/>
        </p:nvGraphicFramePr>
        <p:xfrm>
          <a:off x="1119240" y="1873080"/>
          <a:ext cx="5032440" cy="469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9240" y="1873080"/>
                    <a:ext cx="5032440" cy="46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971640" y="1146240"/>
                <a:ext cx="1079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1" name="Object 11"/>
          <p:cNvGraphicFramePr/>
          <p:nvPr/>
        </p:nvGraphicFramePr>
        <p:xfrm>
          <a:off x="6372360" y="2924280"/>
          <a:ext cx="2401920" cy="359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2924280"/>
                    <a:ext cx="2401920" cy="35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KRUTOG TELA PO KRUT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3"/>
              <p:cNvSpPr txBox="1"/>
              <p:nvPr/>
            </p:nvSpPr>
            <p:spPr>
              <a:xfrm>
                <a:off x="900000" y="1700280"/>
                <a:ext cx="3178440" cy="46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ξ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ζ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**</m:t>
                            </m:r>
                          </m:lim>
                        </m:limUpp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45" name="Object 8"/>
          <p:cNvGraphicFramePr/>
          <p:nvPr/>
        </p:nvGraphicFramePr>
        <p:xfrm>
          <a:off x="3924360" y="1700280"/>
          <a:ext cx="482436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700280"/>
                    <a:ext cx="482436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KRUTOG TELA PO KRUT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762120" y="1676520"/>
                <a:ext cx="3105000" cy="46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ξ</m:t>
                        </m:r>
                        <m:r>
                          <m:t xml:space="preserve">,</m:t>
                        </m:r>
                        <m:r>
                          <m:t xml:space="preserve">η</m:t>
                        </m:r>
                        <m:r>
                          <m:t xml:space="preserve">,</m:t>
                        </m:r>
                        <m:r>
                          <m:t xml:space="preserve">ζ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aterijalne ose tela I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aterijalne ose tela II</m:t>
                        </m:r>
                      </m:e>
                      <m:e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eqArr>
                    <m:r>
                      <m:t xml:space="preserve">P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p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e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e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5"/>
          <p:cNvSpPr/>
          <p:nvPr/>
        </p:nvSpPr>
        <p:spPr>
          <a:xfrm>
            <a:off x="1143000" y="563868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na ugaona brzi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kojm se telo II obrće oko tačke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143000" y="601992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enos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gaona brzi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kojm se telo I obrće oko tačke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219320" y="48769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lativna komponenta brzina koja potiče od translatornog kretanja referentne tačke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8"/>
          <p:cNvGraphicFramePr/>
          <p:nvPr/>
        </p:nvGraphicFramePr>
        <p:xfrm>
          <a:off x="4427640" y="981000"/>
          <a:ext cx="402912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981000"/>
                    <a:ext cx="402912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KRUTOG TELA PO KRUT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"/>
              <p:cNvSpPr txBox="1"/>
              <p:nvPr/>
            </p:nvSpPr>
            <p:spPr>
              <a:xfrm>
                <a:off x="838080" y="1371600"/>
                <a:ext cx="7543800" cy="529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ren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l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lim>
                        </m:limLow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+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s</m:t>
                                </m:r>
                              </m:sub>
                            </m:sSub>
                          </m:lim>
                        </m:limLow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 ; 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</m:eqAr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ε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457200" y="14479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istem materijalnih tačaka predstavlja skup tačaka čiji položaj ili brzine stoje u međusobnim zavisnostima. Te zavisnosti se ostvaruju pomoću v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04920" y="2209680"/>
          <a:ext cx="8534160" cy="4246560"/>
        </p:xfrm>
        <a:graphic>
          <a:graphicData uri="http://schemas.openxmlformats.org/drawingml/2006/table">
            <a:tbl>
              <a:tblPr/>
              <a:tblGrid>
                <a:gridCol w="1981080"/>
                <a:gridCol w="2057400"/>
                <a:gridCol w="2286000"/>
                <a:gridCol w="2209680"/>
              </a:tblGrid>
              <a:tr h="9601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 IZMEĐU TAČA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0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e između koordinata tača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IC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OLONOM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e između brzina tačaka koje se ne mogu integraliti po vremenu i svesti na veze između koordin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EMATIČKE (NEHOLONOM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0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KLER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 zavise eksplicitno od vrem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e zavise eksplicitno od vrem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KLER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457200" y="14479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matramo N- materijalnih tačak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22"/>
          <p:cNvGraphicFramePr/>
          <p:nvPr/>
        </p:nvGraphicFramePr>
        <p:xfrm>
          <a:off x="1309680" y="1905120"/>
          <a:ext cx="6676920" cy="9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9680" y="1905120"/>
                    <a:ext cx="66769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23"/>
          <p:cNvGraphicFramePr/>
          <p:nvPr/>
        </p:nvGraphicFramePr>
        <p:xfrm>
          <a:off x="762120" y="2895480"/>
          <a:ext cx="7804080" cy="88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895480"/>
                    <a:ext cx="78040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24"/>
          <p:cNvSpPr/>
          <p:nvPr/>
        </p:nvSpPr>
        <p:spPr>
          <a:xfrm>
            <a:off x="304920" y="388620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 tome koeficijenti mogu biti funk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25"/>
              <p:cNvSpPr txBox="1"/>
              <p:nvPr/>
            </p:nvSpPr>
            <p:spPr>
              <a:xfrm>
                <a:off x="762120" y="4267080"/>
                <a:ext cx="39430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539640" y="1557360"/>
                <a:ext cx="497520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: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ν</m:t>
                        </m:r>
                      </m:e>
                    </m:acc>
                    <m:r>
                      <m:t xml:space="preserve">⇒</m:t>
                    </m:r>
                    <m:r>
                      <m:t xml:space="preserve">ϑ</m:t>
                    </m:r>
                    <m:r>
                      <m:t xml:space="preserve">≡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ϑ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ψ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9" name="Object 10"/>
          <p:cNvGraphicFramePr/>
          <p:nvPr/>
        </p:nvGraphicFramePr>
        <p:xfrm>
          <a:off x="4932360" y="1268280"/>
          <a:ext cx="3887640" cy="35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268280"/>
                    <a:ext cx="3887640" cy="35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755640" y="1557360"/>
                <a:ext cx="6337440" cy="48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dθ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dθ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;</m:t>
                            </m:r>
                            <m:r>
                              <m:t xml:space="preserve">μ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/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</m:eqAr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ν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ξ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ξ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η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ξ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ξ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η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</m:mr>
                          <m:mr>
                            <m:e>
                              <m:r>
                                <m:t xml:space="preserve">ξ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+</m:t>
                              </m:r>
                              <m:r>
                                <m:t xml:space="preserve">η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</m:mr>
                        </m:m>
                      </m:e>
                    </m:d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; 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ξ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η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</m:e>
                              </m:d>
                              <m:r>
                                <m:t xml:space="preserve">⋅</m:t>
                              </m:r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θ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ξ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η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</m:d>
                              <m:r>
                                <m:t xml:space="preserve">⋅</m:t>
                              </m:r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θ</m:t>
                                  </m:r>
                                </m:e>
                              </m:acc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9"/>
              <p:cNvSpPr txBox="1"/>
              <p:nvPr/>
            </p:nvSpPr>
            <p:spPr>
              <a:xfrm>
                <a:off x="755640" y="2060640"/>
                <a:ext cx="410364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ξ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Text Box 8"/>
          <p:cNvSpPr/>
          <p:nvPr/>
        </p:nvSpPr>
        <p:spPr>
          <a:xfrm>
            <a:off x="539640" y="15573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PROSTORNA DESKRIP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611280" y="3141720"/>
            <a:ext cx="51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MATERIJALNA DESKRIP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1"/>
              <p:cNvSpPr txBox="1"/>
              <p:nvPr/>
            </p:nvSpPr>
            <p:spPr>
              <a:xfrm>
                <a:off x="755640" y="3716280"/>
                <a:ext cx="7704000" cy="21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ξ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      ;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η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    ;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2" name="Object 4"/>
          <p:cNvGraphicFramePr/>
          <p:nvPr/>
        </p:nvGraphicFramePr>
        <p:xfrm>
          <a:off x="826920" y="1405080"/>
          <a:ext cx="648180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405080"/>
                    <a:ext cx="648180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5"/>
          <p:cNvSpPr/>
          <p:nvPr/>
        </p:nvSpPr>
        <p:spPr>
          <a:xfrm>
            <a:off x="1332000" y="414972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 u ravni x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332000" y="4581360"/>
            <a:ext cx="51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 normalan vektor na xy-rav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7"/>
          <p:cNvGraphicFramePr/>
          <p:nvPr/>
        </p:nvGraphicFramePr>
        <p:xfrm>
          <a:off x="395280" y="5826240"/>
          <a:ext cx="367200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5826240"/>
                    <a:ext cx="367200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AL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0" name="Object 7"/>
          <p:cNvGraphicFramePr/>
          <p:nvPr/>
        </p:nvGraphicFramePr>
        <p:xfrm>
          <a:off x="1187280" y="3716280"/>
          <a:ext cx="3168720" cy="103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716280"/>
                    <a:ext cx="31687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2" name="Object 4"/>
              <p:cNvSpPr txBox="1"/>
              <p:nvPr/>
            </p:nvSpPr>
            <p:spPr>
              <a:xfrm>
                <a:off x="611280" y="1341360"/>
                <a:ext cx="4895640" cy="307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⇒</m:t>
                        </m:r>
                        <m:r>
                          <m:t xml:space="preserve">ΔA</m:t>
                        </m:r>
                        <m:r>
                          <m:t xml:space="preserve">'</m:t>
                        </m:r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S</m:t>
                        </m:r>
                        <m:r>
                          <m:t xml:space="preserve">≃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S</m:t>
                        </m:r>
                      </m:e>
                    </m:eqAr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SB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A</m:t>
                    </m:r>
                    <m:r>
                      <m:t xml:space="preserve">'</m:t>
                    </m:r>
                    <m:r>
                      <m:rPr>
                        <m:lit/>
                        <m:nor/>
                      </m:rPr>
                      <m:t xml:space="preserve">SB</m:t>
                    </m:r>
                    <m:r>
                      <m:t xml:space="preserve">'</m:t>
                    </m:r>
                    <m:r>
                      <m:rPr>
                        <m:lit/>
                        <m:nor/>
                      </m:rPr>
                      <m:t xml:space="preserve">  /  </m:t>
                    </m:r>
                    <m:r>
                      <m:t xml:space="preserve">+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SA'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SB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BSA'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A'SB'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BSA'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SA'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BSB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Text Box 5"/>
          <p:cNvSpPr/>
          <p:nvPr/>
        </p:nvSpPr>
        <p:spPr>
          <a:xfrm>
            <a:off x="611280" y="4797360"/>
            <a:ext cx="8280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konačno pomeranje u ravni može da se predstavi kao obrtanje u ravno oko nepokretne tačke koja pripada toj ravni i zove se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centar konač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eorema važi i za beskonačno malo pomeranje – obrtanje oko trenutnog centra rot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8"/>
          <p:cNvGraphicFramePr/>
          <p:nvPr/>
        </p:nvGraphicFramePr>
        <p:xfrm>
          <a:off x="5111640" y="2492280"/>
          <a:ext cx="4032360" cy="245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11640" y="2492280"/>
                    <a:ext cx="4032360" cy="24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AL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8" name="Object 6"/>
          <p:cNvGraphicFramePr/>
          <p:nvPr/>
        </p:nvGraphicFramePr>
        <p:xfrm>
          <a:off x="179280" y="5229360"/>
          <a:ext cx="295272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5229360"/>
                    <a:ext cx="295272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0" name="Object 8"/>
              <p:cNvSpPr txBox="1"/>
              <p:nvPr/>
            </p:nvSpPr>
            <p:spPr>
              <a:xfrm>
                <a:off x="611280" y="2205000"/>
                <a:ext cx="5040360" cy="429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/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⇒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</m:t>
                        </m:r>
                        <m:r>
                          <m:rPr>
                            <m:lit/>
                            <m:nor/>
                          </m:rPr>
                          <m:t xml:space="preserve"> ravansko kretanje: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Text Box 5"/>
          <p:cNvSpPr/>
          <p:nvPr/>
        </p:nvSpPr>
        <p:spPr>
          <a:xfrm>
            <a:off x="468360" y="141300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renutni centar S ima osobinu da je              u trenutku kada je ta tačka cen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916360" y="587700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ožaj centra rot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0"/>
              <p:cNvSpPr txBox="1"/>
              <p:nvPr/>
            </p:nvSpPr>
            <p:spPr>
              <a:xfrm>
                <a:off x="4716360" y="1341360"/>
                <a:ext cx="1008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AL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755640" y="1484280"/>
                <a:ext cx="2158920" cy="16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ω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9"/>
              <p:cNvSpPr txBox="1"/>
              <p:nvPr/>
            </p:nvSpPr>
            <p:spPr>
              <a:xfrm>
                <a:off x="3059280" y="1557360"/>
                <a:ext cx="215892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e>
                                </m:groupChr>
                              </m:e>
                              <m:lim>
                                <m:r>
                                  <m:t xml:space="preserve">0</m:t>
                                </m:r>
                              </m:lim>
                            </m:limLow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S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Text Box 6"/>
          <p:cNvSpPr/>
          <p:nvPr/>
        </p:nvSpPr>
        <p:spPr>
          <a:xfrm>
            <a:off x="539640" y="4941720"/>
            <a:ext cx="8064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eometrijsko mesto tačaka u ravni xy koje su predstavljale trenutne centre rotacije predstavljaju krivu koja se naziv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nepokretna centroid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baz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eometrijsko mesto tačaka na telu koje su bile trenutni centri brzina ja kriva na telu koja se naziv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pokretna centroid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rulet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539640" y="3357720"/>
            <a:ext cx="8353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zna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) položaj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2"/>
              <p:cNvSpPr txBox="1"/>
              <p:nvPr/>
            </p:nvSpPr>
            <p:spPr>
              <a:xfrm>
                <a:off x="2124000" y="3789360"/>
                <a:ext cx="5986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4"/>
              <p:cNvSpPr txBox="1"/>
              <p:nvPr/>
            </p:nvSpPr>
            <p:spPr>
              <a:xfrm>
                <a:off x="1403280" y="4221000"/>
                <a:ext cx="339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2" name="Text Box 15"/>
          <p:cNvSpPr/>
          <p:nvPr/>
        </p:nvSpPr>
        <p:spPr>
          <a:xfrm>
            <a:off x="2627280" y="414972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namo brzine svih tačaka te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7"/>
          <p:cNvGraphicFramePr/>
          <p:nvPr/>
        </p:nvGraphicFramePr>
        <p:xfrm>
          <a:off x="5580000" y="907920"/>
          <a:ext cx="302436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907920"/>
                    <a:ext cx="302436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18"/>
          <p:cNvGraphicFramePr/>
          <p:nvPr/>
        </p:nvGraphicFramePr>
        <p:xfrm>
          <a:off x="5940360" y="3357720"/>
          <a:ext cx="2305080" cy="16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3357720"/>
                    <a:ext cx="230508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I RUL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13"/>
              <p:cNvSpPr txBox="1"/>
              <p:nvPr/>
            </p:nvSpPr>
            <p:spPr>
              <a:xfrm>
                <a:off x="250920" y="1341360"/>
                <a:ext cx="6912000" cy="467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</m:e>
                      <m:e>
                        <m:r>
                          <m:t xml:space="preserve">S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>
                                        <m:e>
                                          <m:acc>
                                            <m:accPr>
                                              <m:chr m:val="˙"/>
                                            </m:accPr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ω</m:t>
                                      </m:r>
                                    </m:den>
                                  </m:f>
                                </m:e>
                              </m:mr>
                              <m:mr>
                                <m:e>
                                  <m:r>
                                    <m:t xml:space="preserve">y</m:t>
                                  </m:r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f>
                                    <m:num>
                                      <m:sSub>
                                        <m:e>
                                          <m:acc>
                                            <m:accPr>
                                              <m:chr m:val="˙"/>
                                            </m:acc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ω</m:t>
                                      </m:r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−</m:t>
                        </m:r>
                      </m:e>
                      <m:e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;</m:t>
                            </m:r>
                            <m:r>
                              <m:t xml:space="preserve">η</m:t>
                            </m:r>
                          </m:e>
                        </m:d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ξ</m:t>
                                </m:r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  <m:r>
                                  <m:t xml:space="preserve">=</m:t>
                                </m:r>
                                <m:f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num>
                                  <m:den>
                                    <m:r>
                                      <m:t xml:space="preserve">ω</m:t>
                                    </m:r>
                                  </m:den>
                                </m:f>
                                <m:r>
                                  <m:t xml:space="preserve">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ξ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  <m:r>
                                      <m:t xml:space="preserve">θ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  <m:r>
                                      <m:t xml:space="preserve">θ</m:t>
                                    </m:r>
                                  </m:num>
                                  <m:den>
                                    <m:r>
                                      <m:t xml:space="preserve">ω</m:t>
                                    </m:r>
                                  </m:den>
                                </m:f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Text Box 10"/>
          <p:cNvSpPr/>
          <p:nvPr/>
        </p:nvSpPr>
        <p:spPr>
          <a:xfrm>
            <a:off x="2743200" y="2209680"/>
            <a:ext cx="2981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iminacijom parametra vremena iz izraza za x i y dobijamo jednu jednačinu za x i y koja predstavlja jednačinu ba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7238880" y="4221000"/>
            <a:ext cx="1905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iminacijom vremena dobijamo jednu zavis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među  ξ i η  i to je jednačina rule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18"/>
          <p:cNvGraphicFramePr/>
          <p:nvPr/>
        </p:nvGraphicFramePr>
        <p:xfrm>
          <a:off x="5651640" y="1700280"/>
          <a:ext cx="324000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1700280"/>
                    <a:ext cx="324000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31T20:34:34Z</dcterms:modified>
  <cp:revision>378</cp:revision>
  <dc:subject/>
  <dc:title>ТЕХНИЧКА МЕХАНИКА 2</dc:title>
</cp:coreProperties>
</file>