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810-4C10-4B8B-AD93-57EC9DCF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B59-AE11-439D-9E98-F206A8FA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237-3782-43E5-9A46-86C13230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4B4-EEF8-4CEF-9874-51A967C1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9438-7D43-42D9-B9A2-15A6163D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1039-5D43-4BCF-87B5-26A09012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AB7A-07FB-4E83-BF3C-BE0F78E3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6BD8-CB09-4F62-A5FE-67E2B56E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E338-F7EC-47A2-8228-D4B1A4F5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5A0-CFF7-4050-8E77-610D68DD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E17D-636A-4A3B-87DC-7F8FB66F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FC4-BA11-4668-A4C4-D898E0A8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F165-FB8D-4FA4-B2D1-EB92AE343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44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inetički pritisci (reakcije vez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76360" y="2060640"/>
                <a:ext cx="349092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31640" y="4041720"/>
            <a:ext cx="500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TERNATIVA: DALAMBEROV PRINC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orizontalni šta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364000" y="3860640"/>
            <a:ext cx="3205080" cy="2890080"/>
            <a:chOff x="5364000" y="3860640"/>
            <a:chExt cx="3205080" cy="2890080"/>
          </a:xfrm>
        </p:grpSpPr>
        <p:sp>
          <p:nvSpPr>
            <p:cNvPr id="231" name=""/>
            <p:cNvSpPr/>
            <p:nvPr/>
          </p:nvSpPr>
          <p:spPr>
            <a:xfrm flipV="1">
              <a:off x="5903640" y="393372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03640" y="566100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471640" y="5661000"/>
              <a:ext cx="4316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03640" y="566100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343640" y="414972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64000" y="5445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36000" y="519264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48360" y="3860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43640" y="440028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43640" y="4400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3640" y="457992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704000" y="457956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04000" y="4400280"/>
              <a:ext cx="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75640" y="49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04000" y="4039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35640" y="5263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67280" y="4329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77080" y="566100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03640" y="5661000"/>
              <a:ext cx="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77080" y="5661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720" y="566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68720" y="6021360"/>
              <a:ext cx="10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77080" y="60213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19640" y="5697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64360" y="569736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587640" y="5661000"/>
              <a:ext cx="3970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85080" y="562428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948360" y="4473360"/>
              <a:ext cx="39528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43640" y="447336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72000" y="616572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20000" y="5229000"/>
              <a:ext cx="93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19640" y="472428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1640" y="634500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04000" y="4581360"/>
              <a:ext cx="86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03280" y="4976640"/>
                <a:ext cx="32814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t xml:space="preserve">dη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39640" y="1341360"/>
                <a:ext cx="374508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dη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  <m:r>
                                <m:t xml:space="preserve">dη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39640" y="3429000"/>
                <a:ext cx="38530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l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εl</m:t>
                                  </m:r>
                                </m:e>
                              </m:mr>
                            </m:m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68360" y="288936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rtikalni šta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716360" y="3321000"/>
            <a:ext cx="3708360" cy="3285360"/>
            <a:chOff x="4716360" y="332100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7380360" y="414972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"/>
            <p:cNvSpPr/>
            <p:nvPr/>
          </p:nvSpPr>
          <p:spPr>
            <a:xfrm>
              <a:off x="5977080" y="3832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97440" y="6099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97440" y="6280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13440" y="6099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3236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344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7080" y="519912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7201080" y="3903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732720" y="390384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57800" y="38322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29440" y="591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3440" y="4803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01080" y="4941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73800" y="3832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81800" y="368136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84720" y="3975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21440" y="6280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21440" y="5199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00720" y="3975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00720" y="5199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01080" y="5307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77080" y="5667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37080" y="4371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00720" y="5451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73800" y="527220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4716360" y="519264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36000" y="519264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977080" y="332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471640" y="627372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77080" y="627372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977080" y="58050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256360" y="397044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12000" y="396864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588000" y="519264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12000" y="5192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803640" y="454500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01080" y="45450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16720" y="486900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01080" y="4545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96000" y="595008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80000" y="5697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24360" y="620064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51280" y="414972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92720" y="3357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43640" y="465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5867280" y="429264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"/>
            <p:cNvSpPr/>
            <p:nvPr/>
          </p:nvSpPr>
          <p:spPr>
            <a:xfrm>
              <a:off x="6516720" y="4797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7308720" y="515772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6696000" y="560556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967280" y="2023920"/>
            <a:ext cx="3708360" cy="3285360"/>
            <a:chOff x="4967280" y="202392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7631280" y="285264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4" name=""/>
            <p:cNvSpPr/>
            <p:nvPr/>
          </p:nvSpPr>
          <p:spPr>
            <a:xfrm>
              <a:off x="6228000" y="253512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8360" y="480204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8360" y="498312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64360" y="480204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8328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6436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28000" y="390204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452000" y="260676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983640" y="260676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08720" y="25351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80360" y="4622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64360" y="3506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52000" y="36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24720" y="2535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32720" y="238428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35640" y="26780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72360" y="498312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72360" y="390204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51640" y="267804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51640" y="390204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52000" y="401004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28000" y="437040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88000" y="30747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51640" y="41544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4720" y="397512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967280" y="389556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86920" y="389556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228000" y="202392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722560" y="497664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28000" y="497664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28000" y="450792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507280" y="267336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62920" y="267156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838920" y="389556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62920" y="3895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054560" y="324792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52000" y="32479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67640" y="357192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52000" y="3247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46920" y="465300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30920" y="4400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75280" y="49035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02200" y="285264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43640" y="206064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94560" y="33559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6118200" y="299556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"/>
            <p:cNvSpPr/>
            <p:nvPr/>
          </p:nvSpPr>
          <p:spPr>
            <a:xfrm>
              <a:off x="6767640" y="3500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7559640" y="386064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6946920" y="430848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3" name=""/>
          <p:cNvSpPr/>
          <p:nvPr/>
        </p:nvSpPr>
        <p:spPr>
          <a:xfrm>
            <a:off x="647640" y="141300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dinamičke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76360" y="1736640"/>
                <a:ext cx="4535280" cy="34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406600" y="2584440"/>
                <a:ext cx="1396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443640" y="2673360"/>
                <a:ext cx="4078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376360" y="2781360"/>
                <a:ext cx="2811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1187280" y="2492280"/>
            <a:ext cx="270036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11280" y="1881360"/>
            <a:ext cx="21600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43280" y="2239920"/>
            <a:ext cx="21564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403280" y="1844640"/>
            <a:ext cx="1332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2448000" y="2708280"/>
            <a:ext cx="50328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408720" y="1989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64360" y="1628640"/>
            <a:ext cx="7207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92720" y="1521000"/>
            <a:ext cx="395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48000" y="16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24720" y="155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08720" y="2168640"/>
            <a:ext cx="576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048360" y="1592280"/>
                <a:ext cx="2570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 flipH="1" flipV="1">
            <a:off x="6587640" y="2205000"/>
            <a:ext cx="397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00000" y="3465360"/>
            <a:ext cx="723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POSTAV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janje dodira je bes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o kratko u intervalu (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, t+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→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darni impuls, koji se ostvaruje na mestu dodira je konač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971640" y="4761000"/>
                <a:ext cx="183672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τ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2843280" y="5049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 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u vredn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971640" y="5769000"/>
                <a:ext cx="3887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EST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ODIR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3. Posledic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tpostavke 1: U toku intrvala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ne dolazi do promene položaja tela koja učestvuju u udaru ili sudaru. Dodirna površina tela može biti glatka ili hrapava. Pri glatkoj dodirnoj površini      , odnosno     imaju pravac normale na tangencijalnu ravan konturne površi tela u dodirnoj tačk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4. Centralni udar nastaje onda kada normala na tangencijalnu ravan u tački dodira prolazi kroz središta masa oba tela. U suprotnom je ekscentrič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5. Pretpostavimo da je pre udara ili sudara kretanje tela bilo poznato, a posle udara (odvajanja) treba odrediti brzine. Nepoznata 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eličina udarnog impul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3111480" y="2276640"/>
                <a:ext cx="1652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281480" y="2241720"/>
                <a:ext cx="182520" cy="28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5977080" y="4653000"/>
            <a:ext cx="718920" cy="6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43640" y="5013360"/>
            <a:ext cx="1081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43640" y="4292640"/>
            <a:ext cx="2160360" cy="1800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84720" y="494172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96000" y="551664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335640" y="494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85080" y="548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35640" y="465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48360" y="51213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98600" y="4869000"/>
                <a:ext cx="5014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647640" y="5697360"/>
                <a:ext cx="303120" cy="3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1042920" y="5734080"/>
            <a:ext cx="518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re sudara (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47640" y="6200640"/>
                <a:ext cx="2732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1042920" y="6165720"/>
            <a:ext cx="55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osle sudara (ne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iminacijom impulsa     (sabiranjem jednačina) dobija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817800" y="1592280"/>
                <a:ext cx="2574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39640" y="2168640"/>
                <a:ext cx="40687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/>
                                </m:acc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76360" y="3357720"/>
                <a:ext cx="7559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ODRZANJ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OLICIN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RETANJ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OB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647640" y="3897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KSCENTRIČAN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59280" y="3824280"/>
            <a:ext cx="1289160" cy="1700280"/>
          </a:xfrm>
          <a:custGeom>
            <a:avLst/>
            <a:gdLst/>
            <a:ahLst/>
            <a:rect l="l" t="t" r="r" b="b"/>
            <a:pathLst>
              <a:path w="942" h="720">
                <a:moveTo>
                  <a:pt x="230" y="72"/>
                </a:moveTo>
                <a:cubicBezTo>
                  <a:pt x="209" y="80"/>
                  <a:pt x="183" y="81"/>
                  <a:pt x="166" y="96"/>
                </a:cubicBezTo>
                <a:cubicBezTo>
                  <a:pt x="159" y="102"/>
                  <a:pt x="132" y="198"/>
                  <a:pt x="126" y="216"/>
                </a:cubicBezTo>
                <a:cubicBezTo>
                  <a:pt x="126" y="216"/>
                  <a:pt x="66" y="276"/>
                  <a:pt x="54" y="288"/>
                </a:cubicBezTo>
                <a:cubicBezTo>
                  <a:pt x="40" y="302"/>
                  <a:pt x="22" y="336"/>
                  <a:pt x="22" y="336"/>
                </a:cubicBezTo>
                <a:cubicBezTo>
                  <a:pt x="0" y="424"/>
                  <a:pt x="4" y="589"/>
                  <a:pt x="110" y="624"/>
                </a:cubicBezTo>
                <a:cubicBezTo>
                  <a:pt x="136" y="663"/>
                  <a:pt x="145" y="646"/>
                  <a:pt x="182" y="664"/>
                </a:cubicBezTo>
                <a:cubicBezTo>
                  <a:pt x="238" y="692"/>
                  <a:pt x="289" y="708"/>
                  <a:pt x="350" y="720"/>
                </a:cubicBezTo>
                <a:cubicBezTo>
                  <a:pt x="430" y="717"/>
                  <a:pt x="510" y="719"/>
                  <a:pt x="590" y="712"/>
                </a:cubicBezTo>
                <a:cubicBezTo>
                  <a:pt x="600" y="711"/>
                  <a:pt x="605" y="700"/>
                  <a:pt x="614" y="696"/>
                </a:cubicBezTo>
                <a:cubicBezTo>
                  <a:pt x="637" y="686"/>
                  <a:pt x="665" y="686"/>
                  <a:pt x="686" y="672"/>
                </a:cubicBezTo>
                <a:cubicBezTo>
                  <a:pt x="723" y="647"/>
                  <a:pt x="758" y="620"/>
                  <a:pt x="798" y="600"/>
                </a:cubicBezTo>
                <a:cubicBezTo>
                  <a:pt x="815" y="575"/>
                  <a:pt x="842" y="556"/>
                  <a:pt x="854" y="528"/>
                </a:cubicBezTo>
                <a:cubicBezTo>
                  <a:pt x="874" y="483"/>
                  <a:pt x="887" y="433"/>
                  <a:pt x="894" y="384"/>
                </a:cubicBezTo>
                <a:cubicBezTo>
                  <a:pt x="914" y="256"/>
                  <a:pt x="886" y="375"/>
                  <a:pt x="918" y="304"/>
                </a:cubicBezTo>
                <a:cubicBezTo>
                  <a:pt x="925" y="289"/>
                  <a:pt x="934" y="256"/>
                  <a:pt x="934" y="256"/>
                </a:cubicBezTo>
                <a:cubicBezTo>
                  <a:pt x="931" y="213"/>
                  <a:pt x="942" y="164"/>
                  <a:pt x="918" y="128"/>
                </a:cubicBezTo>
                <a:cubicBezTo>
                  <a:pt x="893" y="90"/>
                  <a:pt x="901" y="113"/>
                  <a:pt x="870" y="96"/>
                </a:cubicBezTo>
                <a:cubicBezTo>
                  <a:pt x="816" y="66"/>
                  <a:pt x="796" y="40"/>
                  <a:pt x="734" y="32"/>
                </a:cubicBezTo>
                <a:cubicBezTo>
                  <a:pt x="705" y="28"/>
                  <a:pt x="675" y="27"/>
                  <a:pt x="646" y="24"/>
                </a:cubicBezTo>
                <a:cubicBezTo>
                  <a:pt x="630" y="22"/>
                  <a:pt x="614" y="18"/>
                  <a:pt x="598" y="16"/>
                </a:cubicBezTo>
                <a:cubicBezTo>
                  <a:pt x="561" y="10"/>
                  <a:pt x="486" y="0"/>
                  <a:pt x="486" y="0"/>
                </a:cubicBezTo>
                <a:cubicBezTo>
                  <a:pt x="425" y="3"/>
                  <a:pt x="363" y="2"/>
                  <a:pt x="302" y="8"/>
                </a:cubicBezTo>
                <a:cubicBezTo>
                  <a:pt x="264" y="12"/>
                  <a:pt x="240" y="37"/>
                  <a:pt x="206" y="48"/>
                </a:cubicBezTo>
                <a:cubicBezTo>
                  <a:pt x="189" y="99"/>
                  <a:pt x="190" y="79"/>
                  <a:pt x="190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699240" y="4689360"/>
            <a:ext cx="2336760" cy="1521000"/>
          </a:xfrm>
          <a:custGeom>
            <a:avLst/>
            <a:gdLst/>
            <a:ahLst/>
            <a:rect l="l" t="t" r="r" b="b"/>
            <a:pathLst>
              <a:path w="1023" h="832">
                <a:moveTo>
                  <a:pt x="588" y="40"/>
                </a:moveTo>
                <a:cubicBezTo>
                  <a:pt x="503" y="48"/>
                  <a:pt x="430" y="68"/>
                  <a:pt x="348" y="88"/>
                </a:cubicBezTo>
                <a:cubicBezTo>
                  <a:pt x="302" y="157"/>
                  <a:pt x="363" y="76"/>
                  <a:pt x="308" y="120"/>
                </a:cubicBezTo>
                <a:cubicBezTo>
                  <a:pt x="300" y="126"/>
                  <a:pt x="299" y="138"/>
                  <a:pt x="292" y="144"/>
                </a:cubicBezTo>
                <a:cubicBezTo>
                  <a:pt x="255" y="177"/>
                  <a:pt x="217" y="185"/>
                  <a:pt x="172" y="200"/>
                </a:cubicBezTo>
                <a:cubicBezTo>
                  <a:pt x="155" y="206"/>
                  <a:pt x="141" y="218"/>
                  <a:pt x="124" y="224"/>
                </a:cubicBezTo>
                <a:cubicBezTo>
                  <a:pt x="107" y="250"/>
                  <a:pt x="85" y="270"/>
                  <a:pt x="68" y="296"/>
                </a:cubicBezTo>
                <a:cubicBezTo>
                  <a:pt x="41" y="406"/>
                  <a:pt x="0" y="581"/>
                  <a:pt x="100" y="648"/>
                </a:cubicBezTo>
                <a:cubicBezTo>
                  <a:pt x="130" y="694"/>
                  <a:pt x="171" y="696"/>
                  <a:pt x="220" y="712"/>
                </a:cubicBezTo>
                <a:cubicBezTo>
                  <a:pt x="230" y="741"/>
                  <a:pt x="248" y="793"/>
                  <a:pt x="276" y="808"/>
                </a:cubicBezTo>
                <a:cubicBezTo>
                  <a:pt x="291" y="816"/>
                  <a:pt x="308" y="819"/>
                  <a:pt x="324" y="824"/>
                </a:cubicBezTo>
                <a:cubicBezTo>
                  <a:pt x="332" y="827"/>
                  <a:pt x="348" y="832"/>
                  <a:pt x="348" y="832"/>
                </a:cubicBezTo>
                <a:cubicBezTo>
                  <a:pt x="479" y="829"/>
                  <a:pt x="609" y="829"/>
                  <a:pt x="740" y="824"/>
                </a:cubicBezTo>
                <a:cubicBezTo>
                  <a:pt x="770" y="823"/>
                  <a:pt x="808" y="791"/>
                  <a:pt x="836" y="776"/>
                </a:cubicBezTo>
                <a:cubicBezTo>
                  <a:pt x="853" y="767"/>
                  <a:pt x="884" y="744"/>
                  <a:pt x="884" y="744"/>
                </a:cubicBezTo>
                <a:cubicBezTo>
                  <a:pt x="914" y="699"/>
                  <a:pt x="931" y="668"/>
                  <a:pt x="948" y="616"/>
                </a:cubicBezTo>
                <a:cubicBezTo>
                  <a:pt x="953" y="600"/>
                  <a:pt x="964" y="568"/>
                  <a:pt x="964" y="568"/>
                </a:cubicBezTo>
                <a:cubicBezTo>
                  <a:pt x="956" y="237"/>
                  <a:pt x="1023" y="309"/>
                  <a:pt x="916" y="184"/>
                </a:cubicBezTo>
                <a:cubicBezTo>
                  <a:pt x="901" y="167"/>
                  <a:pt x="893" y="143"/>
                  <a:pt x="876" y="128"/>
                </a:cubicBezTo>
                <a:cubicBezTo>
                  <a:pt x="821" y="80"/>
                  <a:pt x="756" y="48"/>
                  <a:pt x="684" y="40"/>
                </a:cubicBezTo>
                <a:cubicBezTo>
                  <a:pt x="585" y="29"/>
                  <a:pt x="588" y="0"/>
                  <a:pt x="588" y="4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335640" y="4473720"/>
            <a:ext cx="367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28000" y="5373720"/>
            <a:ext cx="3636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72360" y="4508640"/>
            <a:ext cx="46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840000" y="5229360"/>
            <a:ext cx="1187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624720" y="4581360"/>
                <a:ext cx="285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488360" y="5373720"/>
                <a:ext cx="2872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6300720" y="4041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01080" y="5013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468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956720" y="566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6372360" y="5049360"/>
            <a:ext cx="50472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877080" y="5229360"/>
            <a:ext cx="57456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408720" y="5121360"/>
                <a:ext cx="2095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989760" y="5337000"/>
                <a:ext cx="29700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28560" y="4508640"/>
                <a:ext cx="48643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S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150920" y="1743120"/>
                <a:ext cx="5041800" cy="44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←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41920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39640" y="1305000"/>
                <a:ext cx="78850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←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JEDNACIN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611280" y="3249720"/>
            <a:ext cx="55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j nepoznatih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03280" y="3789360"/>
                <a:ext cx="568944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+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5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odeći pretpostavk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 sl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aju glatkih dodirnih površi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934920" y="2529000"/>
                <a:ext cx="1908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r>
                      <m:t xml:space="preserve">J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;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2879640" y="274464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inični vektor normale na tangentnu ra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55640" y="3429000"/>
            <a:ext cx="76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da je       određen samo jednim podatk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727280" y="3429000"/>
                <a:ext cx="2286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826920" y="3968640"/>
            <a:ext cx="50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jednačina:         3x4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nepoznatih:   3x4+1=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3640" y="4761000"/>
            <a:ext cx="62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stoji dodatna jednačina u zavisnosti od toga kakav je sud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34920" y="54817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. Hipoteza o potpuno elastičnom sudaru: NEMA GUBITKA KINETIČKE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008000" y="6200640"/>
                <a:ext cx="2448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2. Hipoteza o potpuno plastičnom sudra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39640" y="2060640"/>
                <a:ext cx="48610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611280" y="2781360"/>
            <a:ext cx="7777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je tačka dod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odirnoj tački neposredno posle udara brzine oba tela u pravcu normale na tangencijalnu ravan imaju istu vredns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71640" y="2421000"/>
            <a:ext cx="2413080" cy="2741040"/>
            <a:chOff x="971640" y="2421000"/>
            <a:chExt cx="2413080" cy="2741040"/>
          </a:xfrm>
        </p:grpSpPr>
        <p:sp>
          <p:nvSpPr>
            <p:cNvPr id="72" name=""/>
            <p:cNvSpPr/>
            <p:nvPr/>
          </p:nvSpPr>
          <p:spPr>
            <a:xfrm>
              <a:off x="1763640" y="2571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84360" y="4838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84360" y="5019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00360" y="4838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1928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0036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63640" y="3938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987640" y="2642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556000" y="2643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44720" y="2571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16000" y="4659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00360" y="3543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60720" y="3759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60720" y="2571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68720" y="2421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71640" y="2714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08000" y="5019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08000" y="3938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87640" y="2714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87640" y="3938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87640" y="4046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63640" y="4406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24000" y="3111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87640" y="4190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60720" y="4011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948360" y="2313000"/>
            <a:ext cx="2052720" cy="2276280"/>
            <a:chOff x="6948360" y="2313000"/>
            <a:chExt cx="2052720" cy="2276280"/>
          </a:xfrm>
        </p:grpSpPr>
        <p:sp>
          <p:nvSpPr>
            <p:cNvPr id="98" name=""/>
            <p:cNvSpPr/>
            <p:nvPr/>
          </p:nvSpPr>
          <p:spPr>
            <a:xfrm flipV="1">
              <a:off x="7416720" y="3068640"/>
              <a:ext cx="1079640" cy="7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78560" y="3753000"/>
              <a:ext cx="73080" cy="10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8496000" y="306828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532720" y="2744280"/>
              <a:ext cx="43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51640" y="3897360"/>
              <a:ext cx="360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16720" y="3897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51640" y="382428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16720" y="4113360"/>
              <a:ext cx="250920" cy="125280"/>
            </a:xfrm>
            <a:custGeom>
              <a:avLst/>
              <a:gdLst/>
              <a:ahLst/>
              <a:rect l="l" t="t" r="r" b="b"/>
              <a:pathLst>
                <a:path w="158" h="79">
                  <a:moveTo>
                    <a:pt x="0" y="68"/>
                  </a:moveTo>
                  <a:cubicBezTo>
                    <a:pt x="32" y="73"/>
                    <a:pt x="64" y="79"/>
                    <a:pt x="90" y="68"/>
                  </a:cubicBezTo>
                  <a:cubicBezTo>
                    <a:pt x="116" y="57"/>
                    <a:pt x="137" y="28"/>
                    <a:pt x="15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56720" y="3429000"/>
              <a:ext cx="150480" cy="395280"/>
            </a:xfrm>
            <a:custGeom>
              <a:avLst/>
              <a:gdLst/>
              <a:ahLst/>
              <a:rect l="l" t="t" r="r" b="b"/>
              <a:pathLst>
                <a:path w="27" h="158">
                  <a:moveTo>
                    <a:pt x="23" y="158"/>
                  </a:moveTo>
                  <a:cubicBezTo>
                    <a:pt x="25" y="126"/>
                    <a:pt x="27" y="94"/>
                    <a:pt x="23" y="68"/>
                  </a:cubicBezTo>
                  <a:cubicBezTo>
                    <a:pt x="19" y="42"/>
                    <a:pt x="9" y="21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04360" y="2313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7236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88360" y="4221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56360" y="4221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6764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24720" y="3321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48360" y="350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48720" y="40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44000" y="3249720"/>
              <a:ext cx="468360" cy="71280"/>
            </a:xfrm>
            <a:custGeom>
              <a:avLst/>
              <a:gdLst/>
              <a:ahLst/>
              <a:rect l="l" t="t" r="r" b="b"/>
              <a:pathLst>
                <a:path w="204" h="79">
                  <a:moveTo>
                    <a:pt x="0" y="0"/>
                  </a:moveTo>
                  <a:cubicBezTo>
                    <a:pt x="28" y="28"/>
                    <a:pt x="57" y="57"/>
                    <a:pt x="91" y="68"/>
                  </a:cubicBezTo>
                  <a:cubicBezTo>
                    <a:pt x="125" y="79"/>
                    <a:pt x="164" y="73"/>
                    <a:pt x="204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5200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419640" y="1952640"/>
            <a:ext cx="3024000" cy="3682440"/>
            <a:chOff x="3419640" y="1952640"/>
            <a:chExt cx="3024000" cy="3682440"/>
          </a:xfrm>
        </p:grpSpPr>
        <p:sp>
          <p:nvSpPr>
            <p:cNvPr id="118" name=""/>
            <p:cNvSpPr/>
            <p:nvPr/>
          </p:nvSpPr>
          <p:spPr>
            <a:xfrm>
              <a:off x="4535640" y="2608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56000" y="4875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56000" y="5056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4875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9092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35640" y="3975120"/>
              <a:ext cx="1223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59280" y="2679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327640" y="2679480"/>
              <a:ext cx="431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03640" y="2241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46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0" y="357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6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32360" y="2608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76720" y="260028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43280" y="2751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80000" y="5056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80000" y="3975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59280" y="2751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59280" y="3975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59280" y="4083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5640" y="4443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95640" y="3147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59280" y="4227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8000" y="411336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526920" y="3968640"/>
              <a:ext cx="100836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816360" y="3968640"/>
              <a:ext cx="719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35640" y="3968640"/>
              <a:ext cx="1079280" cy="5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96000" y="39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535640" y="2097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032360" y="2744640"/>
              <a:ext cx="5032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35640" y="2744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176360" y="5049720"/>
              <a:ext cx="35892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35640" y="5049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535640" y="508428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19640" y="41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08360" y="44737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19640" y="4041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3280" y="1952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80000" y="4508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51280" y="4149720"/>
              <a:ext cx="216000" cy="114480"/>
            </a:xfrm>
            <a:custGeom>
              <a:avLst/>
              <a:gdLst/>
              <a:ahLst/>
              <a:rect l="l" t="t" r="r" b="b"/>
              <a:pathLst>
                <a:path w="136" h="72">
                  <a:moveTo>
                    <a:pt x="0" y="0"/>
                  </a:moveTo>
                  <a:cubicBezTo>
                    <a:pt x="6" y="17"/>
                    <a:pt x="12" y="34"/>
                    <a:pt x="23" y="45"/>
                  </a:cubicBezTo>
                  <a:cubicBezTo>
                    <a:pt x="34" y="56"/>
                    <a:pt x="49" y="64"/>
                    <a:pt x="68" y="68"/>
                  </a:cubicBezTo>
                  <a:cubicBezTo>
                    <a:pt x="87" y="72"/>
                    <a:pt x="111" y="70"/>
                    <a:pt x="136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03640" y="360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43280" y="2781360"/>
              <a:ext cx="611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0036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51280" y="519264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40360" y="4905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08360" y="522936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48360" y="350028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3176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40360" y="31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6000" y="3033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 kretanja krutog te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11280" y="2060640"/>
                <a:ext cx="1728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11280" y="35002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ožaj i ubrzanje središta mase štapov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508720" y="3608280"/>
            <a:ext cx="3022560" cy="2233800"/>
            <a:chOff x="5508720" y="3608280"/>
            <a:chExt cx="3022560" cy="2233800"/>
          </a:xfrm>
        </p:grpSpPr>
        <p:sp>
          <p:nvSpPr>
            <p:cNvPr id="174" name=""/>
            <p:cNvSpPr/>
            <p:nvPr/>
          </p:nvSpPr>
          <p:spPr>
            <a:xfrm flipV="1">
              <a:off x="6048360" y="368136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8360" y="540864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616360" y="540864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48360" y="540864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488360" y="389736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32720" y="5373720"/>
              <a:ext cx="34920" cy="3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51640" y="4653000"/>
              <a:ext cx="7308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5080" y="4976640"/>
              <a:ext cx="34920" cy="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67640" y="447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00720" y="5013360"/>
              <a:ext cx="1042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/2;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59640" y="4437000"/>
              <a:ext cx="97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;l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08720" y="5192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67640" y="4941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92720" y="3608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47640" y="3933720"/>
                <a:ext cx="453708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m</m:t>
                                    </m:r>
                                    <m:f>
                                      <m:num>
                                        <m:r>
                                          <m:t xml:space="preserve">ℓ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mℓ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ℓ</m:t>
                                </m:r>
                              </m:e>
                            </m:nary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1280" y="5769000"/>
                <a:ext cx="2448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84360" y="1449360"/>
                <a:ext cx="5435280" cy="493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ε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ε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ω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ℓ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ℓ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e koje deluju na si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47640" y="2097000"/>
                <a:ext cx="3997440" cy="47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ENTR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ASE</m:t>
                        </m:r>
                      </m:e>
                      <m:e/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l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l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96752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55640" y="1989000"/>
                <a:ext cx="2860560" cy="43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ζ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lζdζ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dζ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98" name=""/>
          <p:cNvGrpSpPr/>
          <p:nvPr/>
        </p:nvGrpSpPr>
        <p:grpSpPr>
          <a:xfrm>
            <a:off x="5148360" y="1989000"/>
            <a:ext cx="3205080" cy="2233800"/>
            <a:chOff x="5148360" y="1989000"/>
            <a:chExt cx="3205080" cy="2233800"/>
          </a:xfrm>
        </p:grpSpPr>
        <p:sp>
          <p:nvSpPr>
            <p:cNvPr id="199" name=""/>
            <p:cNvSpPr/>
            <p:nvPr/>
          </p:nvSpPr>
          <p:spPr>
            <a:xfrm flipV="1">
              <a:off x="5688000" y="206208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88000" y="378936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256000" y="378936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88000" y="378936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128000" y="227808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4836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20000" y="3321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3236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28000" y="252900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28000" y="25290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28000" y="2708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488360" y="27079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88360" y="252900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59640" y="3105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24720" y="2457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19640" y="3392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51640" y="245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47640" y="1160640"/>
                <a:ext cx="5364360" cy="534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</m:e>
                      <m:e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i vektor momenta s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39640" y="2023920"/>
                <a:ext cx="3665520" cy="483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F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Fℓ</m:t>
                            </m:r>
                            <m:r>
                              <m:t xml:space="preserve">;</m:t>
                            </m:r>
                            <m:r>
                              <m:t xml:space="preserve">Fℓ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G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G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11280" y="1125360"/>
                <a:ext cx="4824360" cy="350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G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539640" y="4508640"/>
            <a:ext cx="57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 (6) se dobija diferencijal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 obr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11280" y="4905360"/>
                <a:ext cx="471636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ε</m:t>
                        </m:r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num>
                          <m:den>
                            <m:r>
                              <m:t xml:space="preserve">mℓ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OMOG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CET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SLOVI</m:t>
                        </m:r>
                        <m:r>
                          <m:t xml:space="preserve">: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ω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ℓα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  <m:e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ℓ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2448000" y="6200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a jednačina obr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2-01T22:04:33Z</dcterms:modified>
  <cp:revision>569</cp:revision>
  <dc:subject/>
  <dc:title>ТЕХНИЧКА МЕХАНИКА 2</dc:title>
</cp:coreProperties>
</file>