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2AC-AFF5-49B0-B457-6EC54C91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EBD-076F-472B-9ADC-08ABF5FC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A85-38A8-4E00-AEAF-C4159A94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2C9-CEF3-4978-A5D0-DB751141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35E-9B04-4926-94E2-5A61E431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B211-8D5C-47AF-8992-C5BD4179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45CB-9EBA-4C8F-B357-569CC769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A59-3822-41B0-98A0-AC797696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694D-BF36-4397-8D38-24FD0774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EB0-B1CF-4BCA-BAD4-E415EEA7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71E-3427-43E0-8DD6-6E3D565D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8F2-84AE-4A62-BCD4-2A62536F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AD9E-8890-4610-B779-1CBC9229C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smatramo sistem od N materijalnih tačaka sa holonomnim idealnim vezama, pri čemu ima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veza. Broj sepeni slobode kretanja je: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n=3N-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63640" y="2276640"/>
                <a:ext cx="297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2276640"/>
            <a:ext cx="42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aktivnih sil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63640" y="2825640"/>
                <a:ext cx="2444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9080" y="278136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reakcija vez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162760" y="2168640"/>
            <a:ext cx="3117240" cy="1798560"/>
            <a:chOff x="5162760" y="2168640"/>
            <a:chExt cx="3117240" cy="1798560"/>
          </a:xfrm>
        </p:grpSpPr>
        <p:sp>
          <p:nvSpPr>
            <p:cNvPr id="48" name=""/>
            <p:cNvSpPr/>
            <p:nvPr/>
          </p:nvSpPr>
          <p:spPr>
            <a:xfrm>
              <a:off x="5400720" y="2708280"/>
              <a:ext cx="97128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72000" y="3716280"/>
              <a:ext cx="16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72000" y="3751200"/>
              <a:ext cx="1728360" cy="21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763600">
              <a:off x="4968360" y="3175200"/>
              <a:ext cx="1692000" cy="18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60720" y="28893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8360" y="328464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53080" y="342900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53080" y="267192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4360" y="24195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103560"/>
              <a:ext cx="3232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2360" y="3463920"/>
              <a:ext cx="720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96000" y="29592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6949440" y="2599920"/>
              <a:ext cx="50292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048000" y="2634840"/>
              <a:ext cx="57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669080" y="2168640"/>
              <a:ext cx="18072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984720" y="2887560"/>
              <a:ext cx="46800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48360" y="26719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848360" y="2203560"/>
                  <a:ext cx="269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119720" y="2995560"/>
                  <a:ext cx="2887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7053120" y="2492280"/>
              <a:ext cx="304560" cy="35568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192" y="0"/>
                  </a:moveTo>
                  <a:cubicBezTo>
                    <a:pt x="168" y="16"/>
                    <a:pt x="144" y="24"/>
                    <a:pt x="120" y="40"/>
                  </a:cubicBezTo>
                  <a:cubicBezTo>
                    <a:pt x="112" y="64"/>
                    <a:pt x="104" y="88"/>
                    <a:pt x="96" y="112"/>
                  </a:cubicBezTo>
                  <a:cubicBezTo>
                    <a:pt x="91" y="127"/>
                    <a:pt x="95" y="145"/>
                    <a:pt x="88" y="160"/>
                  </a:cubicBezTo>
                  <a:cubicBezTo>
                    <a:pt x="84" y="169"/>
                    <a:pt x="71" y="170"/>
                    <a:pt x="64" y="176"/>
                  </a:cubicBezTo>
                  <a:cubicBezTo>
                    <a:pt x="42" y="195"/>
                    <a:pt x="26" y="211"/>
                    <a:pt x="0" y="2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34000" y="3075120"/>
              <a:ext cx="355320" cy="128520"/>
            </a:xfrm>
            <a:custGeom>
              <a:avLst/>
              <a:gdLst/>
              <a:ahLst/>
              <a:rect l="l" t="t" r="r" b="b"/>
              <a:pathLst>
                <a:path w="224" h="81">
                  <a:moveTo>
                    <a:pt x="0" y="73"/>
                  </a:moveTo>
                  <a:cubicBezTo>
                    <a:pt x="24" y="0"/>
                    <a:pt x="67" y="45"/>
                    <a:pt x="112" y="65"/>
                  </a:cubicBezTo>
                  <a:cubicBezTo>
                    <a:pt x="127" y="72"/>
                    <a:pt x="160" y="81"/>
                    <a:pt x="160" y="81"/>
                  </a:cubicBezTo>
                  <a:cubicBezTo>
                    <a:pt x="168" y="76"/>
                    <a:pt x="175" y="69"/>
                    <a:pt x="184" y="65"/>
                  </a:cubicBezTo>
                  <a:cubicBezTo>
                    <a:pt x="192" y="61"/>
                    <a:pt x="201" y="62"/>
                    <a:pt x="208" y="57"/>
                  </a:cubicBezTo>
                  <a:cubicBezTo>
                    <a:pt x="216" y="51"/>
                    <a:pt x="224" y="33"/>
                    <a:pt x="224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76880" y="2594160"/>
              <a:ext cx="342360" cy="260280"/>
            </a:xfrm>
            <a:custGeom>
              <a:avLst/>
              <a:gdLst/>
              <a:ahLst/>
              <a:rect l="l" t="t" r="r" b="b"/>
              <a:pathLst>
                <a:path w="216" h="164">
                  <a:moveTo>
                    <a:pt x="0" y="0"/>
                  </a:moveTo>
                  <a:cubicBezTo>
                    <a:pt x="56" y="11"/>
                    <a:pt x="94" y="3"/>
                    <a:pt x="112" y="56"/>
                  </a:cubicBezTo>
                  <a:cubicBezTo>
                    <a:pt x="112" y="57"/>
                    <a:pt x="119" y="137"/>
                    <a:pt x="128" y="144"/>
                  </a:cubicBezTo>
                  <a:cubicBezTo>
                    <a:pt x="156" y="164"/>
                    <a:pt x="185" y="160"/>
                    <a:pt x="216" y="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00560" y="3127320"/>
              <a:ext cx="228240" cy="203400"/>
            </a:xfrm>
            <a:custGeom>
              <a:avLst/>
              <a:gdLst/>
              <a:ahLst/>
              <a:rect l="l" t="t" r="r" b="b"/>
              <a:pathLst>
                <a:path w="144" h="128">
                  <a:moveTo>
                    <a:pt x="0" y="128"/>
                  </a:moveTo>
                  <a:cubicBezTo>
                    <a:pt x="17" y="77"/>
                    <a:pt x="66" y="68"/>
                    <a:pt x="112" y="56"/>
                  </a:cubicBezTo>
                  <a:cubicBezTo>
                    <a:pt x="120" y="45"/>
                    <a:pt x="129" y="36"/>
                    <a:pt x="136" y="24"/>
                  </a:cubicBezTo>
                  <a:cubicBezTo>
                    <a:pt x="140" y="17"/>
                    <a:pt x="144" y="0"/>
                    <a:pt x="1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87960" y="3279960"/>
              <a:ext cx="90000" cy="36828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17" y="0"/>
                  </a:moveTo>
                  <a:cubicBezTo>
                    <a:pt x="30" y="40"/>
                    <a:pt x="20" y="55"/>
                    <a:pt x="57" y="80"/>
                  </a:cubicBezTo>
                  <a:cubicBezTo>
                    <a:pt x="54" y="96"/>
                    <a:pt x="56" y="113"/>
                    <a:pt x="49" y="128"/>
                  </a:cubicBezTo>
                  <a:cubicBezTo>
                    <a:pt x="45" y="137"/>
                    <a:pt x="32" y="137"/>
                    <a:pt x="25" y="144"/>
                  </a:cubicBezTo>
                  <a:cubicBezTo>
                    <a:pt x="0" y="169"/>
                    <a:pt x="1" y="199"/>
                    <a:pt x="1" y="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63640" y="3357720"/>
                <a:ext cx="5796000" cy="23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 flipV="1">
            <a:off x="5580000" y="4149360"/>
            <a:ext cx="900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422100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 kod idealnih v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6360" y="1592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možemo zapisati u obli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92000" y="2313000"/>
                <a:ext cx="51120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γ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γt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t xml:space="preserve">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6480000" y="1557360"/>
            <a:ext cx="2484360" cy="1657440"/>
            <a:chOff x="6480000" y="1557360"/>
            <a:chExt cx="2484360" cy="1657440"/>
          </a:xfrm>
        </p:grpSpPr>
        <p:sp>
          <p:nvSpPr>
            <p:cNvPr id="144" name=""/>
            <p:cNvSpPr/>
            <p:nvPr/>
          </p:nvSpPr>
          <p:spPr>
            <a:xfrm>
              <a:off x="7056360" y="321480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056360" y="1881360"/>
              <a:ext cx="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56360" y="2206800"/>
              <a:ext cx="1619280" cy="971280"/>
            </a:xfrm>
            <a:custGeom>
              <a:avLst/>
              <a:gdLst/>
              <a:ahLst/>
              <a:rect l="l" t="t" r="r" b="b"/>
              <a:pathLst>
                <a:path w="1020" h="612">
                  <a:moveTo>
                    <a:pt x="0" y="0"/>
                  </a:moveTo>
                  <a:cubicBezTo>
                    <a:pt x="107" y="119"/>
                    <a:pt x="215" y="238"/>
                    <a:pt x="385" y="340"/>
                  </a:cubicBezTo>
                  <a:cubicBezTo>
                    <a:pt x="555" y="442"/>
                    <a:pt x="914" y="567"/>
                    <a:pt x="1020" y="6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4360" y="23493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43640" y="2494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522560" y="2673360"/>
              <a:ext cx="180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702560" y="2781360"/>
              <a:ext cx="14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881840" y="2889360"/>
              <a:ext cx="1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060760" y="2925720"/>
              <a:ext cx="32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240040" y="2998800"/>
              <a:ext cx="32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4360" y="155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75640" y="2781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75280" y="2241720"/>
              <a:ext cx="108000" cy="93636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80000" y="256536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6360" y="2206800"/>
              <a:ext cx="6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0360" y="1954080"/>
              <a:ext cx="395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11640" y="2025720"/>
              <a:ext cx="397080" cy="181080"/>
            </a:xfrm>
            <a:custGeom>
              <a:avLst/>
              <a:gdLst/>
              <a:ahLst/>
              <a:rect l="l" t="t" r="r" b="b"/>
              <a:pathLst>
                <a:path w="250" h="114">
                  <a:moveTo>
                    <a:pt x="0" y="23"/>
                  </a:moveTo>
                  <a:cubicBezTo>
                    <a:pt x="28" y="11"/>
                    <a:pt x="57" y="0"/>
                    <a:pt x="91" y="0"/>
                  </a:cubicBezTo>
                  <a:cubicBezTo>
                    <a:pt x="125" y="0"/>
                    <a:pt x="178" y="4"/>
                    <a:pt x="204" y="23"/>
                  </a:cubicBezTo>
                  <a:cubicBezTo>
                    <a:pt x="230" y="42"/>
                    <a:pt x="242" y="99"/>
                    <a:pt x="250" y="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7451640" y="1809720"/>
                  <a:ext cx="126036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rctg {</m:t>
                          </m:r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"/>
          <p:cNvSpPr/>
          <p:nvPr/>
        </p:nvSpPr>
        <p:spPr>
          <a:xfrm>
            <a:off x="719280" y="360828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ritičn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arakteristična jednačina ima dvostruki ko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92000" y="4113360"/>
                <a:ext cx="32497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λ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55640" y="5697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 ovaj dijagram je sličan predhodnom, dakle aperiodično kreta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prigušen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rakteristič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dnač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su kompleks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03280" y="2708280"/>
                <a:ext cx="37083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>
                          <m:t xml:space="preserve">iγ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λ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751280" y="3284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enje d.j. uz date početne us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640" y="400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možemo prikazati u kompaktnijem obliku ka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11280" y="4581360"/>
                <a:ext cx="4321080" cy="19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λ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γ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;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γ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591920"/>
            <a:ext cx="867564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tom slučaju konačna jednačina kretanja, pri malom prigušenju, gl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00000" y="2673360"/>
                <a:ext cx="4284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47640" y="3681360"/>
            <a:ext cx="37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u pitanju je oscilatorno kretanje sa promenljivom amplitudom i faznim uglom (uglom faznog pomeranja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Pod amplitudom podrazumevamo najveće udaljenje od ravnotežnog položaja u toku polovine ciklusa harmonijske-kosinusne funkcije u jednačini kre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704000" y="3537000"/>
                <a:ext cx="517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4176720" y="3438360"/>
            <a:ext cx="8314200" cy="2376720"/>
            <a:chOff x="4176720" y="3438360"/>
            <a:chExt cx="8314200" cy="2376720"/>
          </a:xfrm>
        </p:grpSpPr>
        <p:sp>
          <p:nvSpPr>
            <p:cNvPr id="177" name=""/>
            <p:cNvSpPr/>
            <p:nvPr/>
          </p:nvSpPr>
          <p:spPr>
            <a:xfrm flipV="1">
              <a:off x="4681440" y="353700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9800" y="3618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37440" y="4627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10160" y="4591080"/>
              <a:ext cx="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4720" y="462780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0000" y="462780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93080" y="41594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4680000" y="343800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716360" y="487872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680000" y="412308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99280" y="4123080"/>
              <a:ext cx="100872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507640" y="4154400"/>
              <a:ext cx="1222200" cy="87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362920" y="4269240"/>
              <a:ext cx="10087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72000" y="4338720"/>
              <a:ext cx="5738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4338720"/>
              <a:ext cx="650160" cy="50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6984720" y="4193640"/>
              <a:ext cx="71712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950160" y="4339800"/>
              <a:ext cx="7171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667640" y="4375440"/>
              <a:ext cx="504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04360" y="4375440"/>
              <a:ext cx="431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8136000" y="4302720"/>
              <a:ext cx="64656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137800" y="4302720"/>
              <a:ext cx="57384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35280" y="4302360"/>
              <a:ext cx="108000" cy="28872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7200 h 288720"/>
                <a:gd name="textAreaBottom" fmla="*/ 2815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76720" y="430236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08360" y="538344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19640" y="5383440"/>
              <a:ext cx="11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6360" y="4986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3640" y="4986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580000" y="3835440"/>
                  <a:ext cx="5047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λ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cxnSp>
          <p:nvCxnSpPr>
            <p:cNvPr id="205" name=""/>
            <p:cNvCxnSpPr>
              <a:endCxn id="184" idx="0"/>
            </p:cNvCxnSpPr>
            <p:nvPr/>
          </p:nvCxnSpPr>
          <p:spPr>
            <a:xfrm>
              <a:off x="6084360" y="3984480"/>
              <a:ext cx="2485080" cy="392760"/>
            </a:xfrm>
            <a:prstGeom prst="bentConnector4">
              <a:avLst>
                <a:gd name="adj1" fmla="val 109069"/>
                <a:gd name="adj2" fmla="val 1574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 periodom oscilatornog kretnja ili vremenom jedne pune oscilacije, podrazumevamo vreme koje protekne izmedju dva uzastopna prolaska materijalne tačke kroz ravnotežni položaj pri kretanju u istom sme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34920" y="3860640"/>
                <a:ext cx="4105440" cy="20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frekvencij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934920" y="6237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ketanje neprigušeno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16000" y="1881360"/>
                <a:ext cx="23763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16000" y="2997360"/>
                <a:ext cx="32767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t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ω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419640" y="2133720"/>
            <a:ext cx="51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opstvena frekvencija ili frekvencija neprigušenih slobodnih oscil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67280" y="3249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armonijsko kretanje tač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340000" y="4508640"/>
            <a:ext cx="5148360" cy="2062080"/>
            <a:chOff x="2340000" y="4508640"/>
            <a:chExt cx="5148360" cy="206208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3959280" y="4797360"/>
                  <a:ext cx="3268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 flipV="1">
              <a:off x="2844720" y="458136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8000" y="4508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3440" y="5635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48360" y="567216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43280" y="567216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56360" y="52038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843280" y="516744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2200" y="5167440"/>
              <a:ext cx="100944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671280" y="5132160"/>
              <a:ext cx="1078920" cy="10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25840" y="5250600"/>
              <a:ext cx="100944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535640" y="5192640"/>
              <a:ext cx="576720" cy="9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7840" y="5192640"/>
              <a:ext cx="650160" cy="88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148360" y="5104440"/>
              <a:ext cx="716400" cy="98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113440" y="5250600"/>
              <a:ext cx="71712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98920" y="5346720"/>
              <a:ext cx="107640" cy="289080"/>
            </a:xfrm>
            <a:custGeom>
              <a:avLst/>
              <a:gdLst>
                <a:gd name="textAreaLeft" fmla="*/ 68760 w 107640"/>
                <a:gd name="textAreaRight" fmla="*/ 108000 w 107640"/>
                <a:gd name="textAreaTop" fmla="*/ 7200 h 289080"/>
                <a:gd name="textAreaBottom" fmla="*/ 2818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40000" y="5346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72000" y="642780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19640" y="60310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43280" y="5157720"/>
              <a:ext cx="34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43280" y="6093000"/>
              <a:ext cx="35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3095640" y="6129360"/>
                  <a:ext cx="43164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34920" y="1700280"/>
                <a:ext cx="44658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826920" y="3141720"/>
            <a:ext cx="806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A JEDNAČINA DINAMIKE (DALAMBER-LAGRANŽEVA JEDNAČ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vakom trenutku vremena tokom kretanja materijalnog sistema koji je potčinjen idealnim vezama (holonomnim ili neholonomnim) zbir radova svih aktivnih i inercijalnih sila na virtuelnim pomeranjima tačaka sistema jednak je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079640" y="5013360"/>
                <a:ext cx="971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050920" y="5084640"/>
            <a:ext cx="561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inercijalna sila koja potiče od tačke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TRANSFORMACIJA OPŠTE JEDNAČINE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4360" y="2241720"/>
                <a:ext cx="75247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V="1">
            <a:off x="5796000" y="2204640"/>
            <a:ext cx="129708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720" y="1808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7640" y="3213000"/>
                <a:ext cx="6769080" cy="32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δ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=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δ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v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bSup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nary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δ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δ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=</m:t>
                                    </m:r>
                                    <m:r>
                                      <m:t xml:space="preserve">δT</m:t>
                                    </m:r>
                                  </m:e>
                                </m:nary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NA JEDNA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A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47640" y="2133720"/>
                <a:ext cx="46450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A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19280" y="3789360"/>
                <a:ext cx="4679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19280" y="4869000"/>
                <a:ext cx="4968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4500720" y="378936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1484280"/>
                <a:ext cx="8101080" cy="34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2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ENTARL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INAMIK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26920" y="4976640"/>
                <a:ext cx="2587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55640" y="1413000"/>
                <a:ext cx="6121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 flipV="1">
            <a:off x="2232000" y="116064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651640" y="119700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63640" y="3402000"/>
                <a:ext cx="25923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635280" y="3681360"/>
            <a:ext cx="51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i=1,..,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LAGRANŽEVE JEDNAČINE II V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CILACI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3640" y="2457360"/>
                <a:ext cx="273672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" name=""/>
          <p:cNvGrpSpPr/>
          <p:nvPr/>
        </p:nvGrpSpPr>
        <p:grpSpPr>
          <a:xfrm>
            <a:off x="5508720" y="2349360"/>
            <a:ext cx="2914560" cy="1943280"/>
            <a:chOff x="5508720" y="2349360"/>
            <a:chExt cx="2914560" cy="1943280"/>
          </a:xfrm>
        </p:grpSpPr>
        <p:sp>
          <p:nvSpPr>
            <p:cNvPr id="105" name=""/>
            <p:cNvSpPr/>
            <p:nvPr/>
          </p:nvSpPr>
          <p:spPr>
            <a:xfrm>
              <a:off x="5508720" y="2349360"/>
              <a:ext cx="179280" cy="1943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6678720" y="2943360"/>
              <a:ext cx="179280" cy="2519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88000" y="3897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923440" y="3718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085080" y="3733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28200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6480360" y="3770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64236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840720" y="3735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20000" y="3933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01080" y="3789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67640" y="38973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29440" y="353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587640" y="3933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84360" y="3968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696000" y="3284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6070680" y="3357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5688000" y="3141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8000" y="4113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900000" y="4761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ove homogene linearne diferencijalne jednačine sa konstantnim koeficijentima tražimo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63640" y="5481720"/>
                <a:ext cx="38163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34920" y="1916280"/>
                <a:ext cx="38530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r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34920" y="4508640"/>
                <a:ext cx="30974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932360" y="2097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akterist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414972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i integral je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35640" y="4545000"/>
            <a:ext cx="388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u proizvoljne konstante koje se određuju iz početnih uslo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63640" y="5624640"/>
                <a:ext cx="3281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etnim uslovima odgovara integral-konačna jednačina kret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63640" y="2673360"/>
                <a:ext cx="5113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755640" y="3573360"/>
            <a:ext cx="75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roda rešenja datog gornjom jednačinom zavisi od toga, da li su koreni karakteristične jednačine realni ili kompleksni, odnosno imaginarni. Pri tome razlikujemo sledeće slučaje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900000" y="4689360"/>
                <a:ext cx="328140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71640" y="6324480"/>
                <a:ext cx="2376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≡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</m:e>
                      <m:e/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008000" y="58770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Velik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oreni karakteristične jednačine su real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14T19:10:02Z</dcterms:modified>
  <cp:revision>474</cp:revision>
  <dc:subject/>
  <dc:title>ТЕХНИЧКА МЕХАНИКА 2</dc:title>
</cp:coreProperties>
</file>