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7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28.wmf" ContentType="image/x-wmf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wmf" ContentType="image/x-wmf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A54F-8585-4CB4-A12A-7EC50DDA27D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C91E-ED92-4845-A7A9-A5EF1A3C212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0BAE-0917-4659-86A3-B4F4B12F1E9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A489-9881-42FD-AD16-6AC14C89E06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A595-4E0E-418B-9BB4-0FF4706CFBB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1BD3-5A48-4930-8C4E-862EFE81E93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5D41-D39F-4CCE-9E0E-6AF0776BA7E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A1E0-964D-476D-8D53-06502205F63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D6F9-5243-4649-BCB5-DEAFC6D5750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1A6B-BE20-4A22-8C5A-B676D9D24CA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CA7C-3B54-4846-8BD8-F5855BF6584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D5C6-8AA1-46F2-926A-4A8258F76F0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B817-E9BA-4E58-8B10-C97962F76D1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6A28-850A-49D0-99D2-3431DD93BB9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682A-6E7F-417E-A39A-28C02774E23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4637-09B0-443E-AD72-49B51A40058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EBE3-52AB-432C-98CF-047660CE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EE96-EEEE-4D28-AFD2-C52086AC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04CC-DC9C-4832-99A2-2E554775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2F40-3AB7-4DB5-945B-73386A40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C970-1101-4C5B-832F-914EF2AE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B4BA-8CC4-4B67-A36D-34B47DE7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2816-2FDF-4029-806C-901498D9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7965-171F-41D5-A9C5-11D2AA4C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ABD1-5357-426A-9967-A1EDA030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9091-3E52-4AA1-A6F0-CE50125F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0C09-A0CA-4340-96D1-BDD3CBF5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7BB4-ED90-42DB-86B8-BCCC0016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A78E-0342-4239-A084-9849D249A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ЕХНИЧКА МЕХАНИКА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773360"/>
            <a:ext cx="89647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оф др Драгослав Шумара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нсултaц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уторком 10-11, соба 1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ТЕРАТУ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. Проф Др Наталија Нерловић-Вељковић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ханик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Научна књига, 19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. С.Б., Д.Г., Д. Ш. Р. М.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Збирка задатака са испи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7786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вод вектора положаја материјалне тачке по времену представља вектор брзине материјалне тач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826920" y="3284640"/>
          <a:ext cx="5185080" cy="21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284640"/>
                    <a:ext cx="518508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УБРЗАЊЕ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ктор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 и вектор брзине имају правац тангенте на путањ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908000" y="1557360"/>
                <a:ext cx="576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91" name="Object 11"/>
          <p:cNvGraphicFramePr/>
          <p:nvPr/>
        </p:nvGraphicFramePr>
        <p:xfrm>
          <a:off x="0" y="1268280"/>
          <a:ext cx="9144000" cy="51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УБРЗАЊЕ МАТЕРИЈАЛНЕ Т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1214280" y="1689120"/>
          <a:ext cx="514836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689120"/>
                    <a:ext cx="514836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7"/>
          <p:cNvGraphicFramePr/>
          <p:nvPr/>
        </p:nvGraphicFramePr>
        <p:xfrm>
          <a:off x="4716360" y="4994280"/>
          <a:ext cx="4251600" cy="13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4994280"/>
                    <a:ext cx="425160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9"/>
          <p:cNvGraphicFramePr/>
          <p:nvPr/>
        </p:nvGraphicFramePr>
        <p:xfrm>
          <a:off x="395280" y="5734080"/>
          <a:ext cx="388944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5734080"/>
                    <a:ext cx="388944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22"/>
          <p:cNvGraphicFramePr/>
          <p:nvPr/>
        </p:nvGraphicFramePr>
        <p:xfrm>
          <a:off x="250920" y="1484280"/>
          <a:ext cx="5976720" cy="390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1484280"/>
                    <a:ext cx="597672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539640" y="2133720"/>
                <a:ext cx="5256360" cy="373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Δs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⇒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e>
                      <m:e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/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алгебарска вредност брзин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5" name="Object 7"/>
          <p:cNvGraphicFramePr/>
          <p:nvPr/>
        </p:nvGraphicFramePr>
        <p:xfrm>
          <a:off x="4788000" y="2349360"/>
          <a:ext cx="388764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349360"/>
                    <a:ext cx="388764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539640" y="1628640"/>
                <a:ext cx="7848720" cy="505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τ</m:t>
                                    </m:r>
                                  </m:e>
                                </m:acc>
                              </m:e>
                              <m:e/>
                            </m:d>
                          </m:e>
                        </m:eqAr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  <m:r>
                              <m:t xml:space="preserve">'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Δs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вектор  средње  кривине  на  делу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eqAr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Δs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t xml:space="preserve">Δs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Δs</m:t>
                            </m:r>
                          </m:e>
                        </m:d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num>
                      <m:den>
                        <m:r>
                          <m:t xml:space="preserve">Δ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вектор  кривине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⊥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-полупречник кривине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9" name="Object 11"/>
          <p:cNvGraphicFramePr/>
          <p:nvPr/>
        </p:nvGraphicFramePr>
        <p:xfrm>
          <a:off x="5867280" y="4397400"/>
          <a:ext cx="259236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397400"/>
                    <a:ext cx="259236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826920" y="2104920"/>
          <a:ext cx="5472360" cy="35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104920"/>
                    <a:ext cx="547236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ЕР:Кружно кретан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611280" y="1746360"/>
          <a:ext cx="8208720" cy="42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46360"/>
                    <a:ext cx="8208720" cy="42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1"/>
          <p:cNvGraphicFramePr/>
          <p:nvPr/>
        </p:nvGraphicFramePr>
        <p:xfrm>
          <a:off x="4356000" y="1125360"/>
          <a:ext cx="4032360" cy="410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125360"/>
                    <a:ext cx="403236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ЕР:Кружно кретан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611280" y="1327320"/>
          <a:ext cx="7451640" cy="44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27320"/>
                    <a:ext cx="745164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9"/>
          <p:cNvGraphicFramePr/>
          <p:nvPr/>
        </p:nvGraphicFramePr>
        <p:xfrm>
          <a:off x="6715080" y="1413000"/>
          <a:ext cx="2033640" cy="14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5080" y="1413000"/>
                    <a:ext cx="203364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4" name="Object 11"/>
              <p:cNvSpPr txBox="1"/>
              <p:nvPr/>
            </p:nvSpPr>
            <p:spPr>
              <a:xfrm>
                <a:off x="7812000" y="1916280"/>
                <a:ext cx="6033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ЧКИ ДИЈАГ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кон пута: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s=s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611280" y="2133720"/>
          <a:ext cx="4321080" cy="16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4321080" cy="16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12"/>
          <p:cNvGraphicFramePr/>
          <p:nvPr/>
        </p:nvGraphicFramePr>
        <p:xfrm>
          <a:off x="0" y="3716280"/>
          <a:ext cx="9144000" cy="29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716280"/>
                    <a:ext cx="914400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БАВЕЗЕ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СТУДЕН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3 до 4 домаћа (само се у јануару рачунају за испи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2 колоквиј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ЧКИ ДИЈАГ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8"/>
          <p:cNvGraphicFramePr/>
          <p:nvPr/>
        </p:nvGraphicFramePr>
        <p:xfrm>
          <a:off x="468360" y="1341360"/>
          <a:ext cx="3303720" cy="52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3303720" cy="52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13"/>
          <p:cNvGraphicFramePr/>
          <p:nvPr/>
        </p:nvGraphicFramePr>
        <p:xfrm>
          <a:off x="4788000" y="2519280"/>
          <a:ext cx="3311280" cy="238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2519280"/>
                    <a:ext cx="3311280" cy="23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ДИНАМИК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УТНОВИ АКСИОМИ МЕХАНИ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СИОМ (ЗАКОН ИНЕРЦ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о тело остаје у стању мировања или једноликог праволинијског кретања, све док деловањем силе не буде принуђено да то стање про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УТНОВ ЗА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мена количине кретања тела(материјалне тачке) пропорционална је сили која делује на тело (материјалну тачку) и врши се у правцу и смеру деловања силе. (Или, производ из масе материјалне тачке и њеног убрзања једнак је, по интензитету, правцу и смеру, сили која делује на материјалну тачк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258920" y="5850000"/>
          <a:ext cx="230508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5850000"/>
                    <a:ext cx="23050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кон (Закон акције и реак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ајамни механички утицаји двају тела испољавају се силама које имају исти интензитет и правац, а делују у супротним смеров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кон (Закон о слагањ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на тело (материјалну ачку) делују истовремено две силе, тада се тело (материјална тачка) креће описујући дијагоналу паралелограма конструисаног над тим силама као вектор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smeni (teorijski) deo ispita iz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EHNIČKE MEHANIKE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pismeni održan 24.01.2005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vesti izraze za brzinu i ubrzanje materijalne tač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 prirodnim kooordinatama a zatim za tačku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koja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eće konstantnom brzinom na svakom od delo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I, II, II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rediti vrednost brzine tako da ubrzanje bude konstantno na svakom od ovih delov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КА Т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ИНЕМАТИКА је део МЕХАНИКЕ који се бави проучавањем кретања материјалне тачке или тела не узимајући у обзир утицај сила на то крета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и делић тела представља материјалну тач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slike"/>
          <p:cNvPicPr/>
          <p:nvPr/>
        </p:nvPicPr>
        <p:blipFill>
          <a:blip r:embed="rId1"/>
          <a:stretch/>
        </p:blipFill>
        <p:spPr>
          <a:xfrm>
            <a:off x="755640" y="3213000"/>
            <a:ext cx="4537080" cy="318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9"/>
          <p:cNvGraphicFramePr/>
          <p:nvPr/>
        </p:nvGraphicFramePr>
        <p:xfrm>
          <a:off x="3059280" y="4221000"/>
          <a:ext cx="2736720" cy="151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4221000"/>
                    <a:ext cx="2736720" cy="15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РАЈЕКТОРИЈА Т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утања тачке (трајекторија) је ходограф вектора положа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начна једначина кретања тачке у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векторском облик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9"/>
          <p:cNvGraphicFramePr/>
          <p:nvPr/>
        </p:nvGraphicFramePr>
        <p:xfrm>
          <a:off x="4500720" y="1413000"/>
          <a:ext cx="3816360" cy="37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413000"/>
                    <a:ext cx="381636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1" name="Object 12"/>
              <p:cNvSpPr txBox="1"/>
              <p:nvPr/>
            </p:nvSpPr>
            <p:spPr>
              <a:xfrm>
                <a:off x="826920" y="5589720"/>
                <a:ext cx="46198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РАЈЕКТОРИЈА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 кретању тачке бар једна координата мора да се ме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ачна једначина кретања тачке у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ординатном облику ј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468360" y="3716280"/>
                <a:ext cx="867564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 КООРДИНАТНИ ОБЛИК ЈЕДНАЧИНЕ КРЕТАЊ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родни начин описивања крет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од природног начина описивања кретања путања и лучна координата мерена по путањи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</a:rPr>
              <a:t>s=s(t)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дређују положај тачке у било ком тренутку време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8"/>
          <p:cNvGraphicFramePr/>
          <p:nvPr/>
        </p:nvGraphicFramePr>
        <p:xfrm>
          <a:off x="3851280" y="2781360"/>
          <a:ext cx="4464000" cy="38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781360"/>
                    <a:ext cx="446400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1332000" y="2708280"/>
          <a:ext cx="633564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708280"/>
                    <a:ext cx="633564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7"/>
          <p:cNvGraphicFramePr/>
          <p:nvPr/>
        </p:nvGraphicFramePr>
        <p:xfrm>
          <a:off x="1258920" y="1557360"/>
          <a:ext cx="5184720" cy="84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557360"/>
                    <a:ext cx="518472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9"/>
          <p:cNvSpPr/>
          <p:nvPr/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родни начин описивања крет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6"/>
          <p:cNvGraphicFramePr/>
          <p:nvPr/>
        </p:nvGraphicFramePr>
        <p:xfrm>
          <a:off x="539640" y="1197000"/>
          <a:ext cx="435636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97000"/>
                    <a:ext cx="43563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" name="Object 19"/>
              <p:cNvSpPr txBox="1"/>
              <p:nvPr/>
            </p:nvSpPr>
            <p:spPr>
              <a:xfrm>
                <a:off x="5003640" y="2617920"/>
                <a:ext cx="309744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vektor  pomeranja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755640" y="1413000"/>
          <a:ext cx="498960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13000"/>
                    <a:ext cx="498960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8"/>
          <p:cNvGraphicFramePr/>
          <p:nvPr/>
        </p:nvGraphicFramePr>
        <p:xfrm>
          <a:off x="3708360" y="2205000"/>
          <a:ext cx="4105440" cy="449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2205000"/>
                    <a:ext cx="410544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09-30T20:45:09Z</dcterms:modified>
  <cp:revision>69</cp:revision>
  <dc:subject/>
  <dc:title>ТЕХНИЧКА МЕХАНИКА 2</dc:title>
</cp:coreProperties>
</file>