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214-B962-4205-A0E9-4BCA5F9F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CE74-A69B-47B9-AE3E-FB94582D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2A8-36ED-4179-84EA-9FD552D4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4390-E19F-4C9A-B945-BC441D32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FA1F-23AF-469C-BA18-7A9780E3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30B3-1582-468D-BA5C-1F5499AC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1AB-882B-4A81-B34D-66805335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32E-6247-42A0-B085-A9359AB6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BB99-8B39-4EEC-BF9E-2158219D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7DA8-1B31-43BD-8129-FAFCA014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ACF-24EB-420B-9EE6-F0D21075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1766-5DF5-499E-960A-3E6598A9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32C4-8296-457A-95BF-68FD4C841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292720" y="1413000"/>
            <a:ext cx="3211560" cy="1836720"/>
            <a:chOff x="5292720" y="1413000"/>
            <a:chExt cx="3211560" cy="1836720"/>
          </a:xfrm>
        </p:grpSpPr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5292720" y="235584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5" name=""/>
            <p:cNvSpPr/>
            <p:nvPr/>
          </p:nvSpPr>
          <p:spPr>
            <a:xfrm flipH="1">
              <a:off x="6524640" y="2889360"/>
              <a:ext cx="6127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37360" y="288936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7137360" y="1881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9000" y="206064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569360" y="1916280"/>
              <a:ext cx="792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711920" y="2421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9360" y="2313000"/>
              <a:ext cx="10764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8072280" y="159228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7596360" y="1665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7380360" y="1413000"/>
                  <a:ext cx="40644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47640" y="2384280"/>
                <a:ext cx="2952720" cy="17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55480" y="4168800"/>
            <a:ext cx="74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156360" y="3608280"/>
            <a:ext cx="2663640" cy="3103560"/>
            <a:chOff x="6156360" y="3608280"/>
            <a:chExt cx="2663640" cy="3103560"/>
          </a:xfrm>
        </p:grpSpPr>
        <p:sp>
          <p:nvSpPr>
            <p:cNvPr id="58" name=""/>
            <p:cNvSpPr/>
            <p:nvPr/>
          </p:nvSpPr>
          <p:spPr>
            <a:xfrm>
              <a:off x="7956720" y="45799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7956720" y="54435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0" name=""/>
            <p:cNvSpPr/>
            <p:nvPr/>
          </p:nvSpPr>
          <p:spPr>
            <a:xfrm flipH="1">
              <a:off x="6156360" y="58402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0360" y="58402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840360" y="44355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56720" y="58752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36000" y="49402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56720" y="40752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88360" y="50846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85080" y="53722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885080" y="52275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7380360" y="50842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7640" y="36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48360" y="45086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7080" y="49039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559640" y="49039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6840360" y="58402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77080" y="53722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7451640" y="59119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7164360" y="53006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" name=""/>
            <p:cNvSpPr/>
            <p:nvPr/>
          </p:nvSpPr>
          <p:spPr>
            <a:xfrm>
              <a:off x="7308720" y="50482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96400" y="52149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308720" y="41482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28000" y="41482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35640" y="63435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59640" y="63086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48360" y="41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8018640" y="49402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 flipV="1">
              <a:off x="6840360" y="51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886440" y="50752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6443640" y="47973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6227640" y="49053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11280" y="4797360"/>
                <a:ext cx="460836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u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</m:e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v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 flipV="1">
            <a:off x="3780000" y="5481360"/>
            <a:ext cx="90000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042920" y="1268280"/>
                <a:ext cx="242100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ℓ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2" name=""/>
          <p:cNvGrpSpPr/>
          <p:nvPr/>
        </p:nvGrpSpPr>
        <p:grpSpPr>
          <a:xfrm>
            <a:off x="6048360" y="1736640"/>
            <a:ext cx="2232000" cy="2989440"/>
            <a:chOff x="6048360" y="1736640"/>
            <a:chExt cx="2232000" cy="2989440"/>
          </a:xfrm>
        </p:grpSpPr>
        <p:sp>
          <p:nvSpPr>
            <p:cNvPr id="223" name=""/>
            <p:cNvSpPr/>
            <p:nvPr/>
          </p:nvSpPr>
          <p:spPr>
            <a:xfrm>
              <a:off x="7056360" y="40053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38800" y="2309760"/>
              <a:ext cx="1433520" cy="163692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337440" y="4041720"/>
              <a:ext cx="6458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6360" y="400536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021440" y="1881000"/>
              <a:ext cx="34920" cy="20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020000" y="2852640"/>
              <a:ext cx="179280" cy="10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93080" y="4329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45080" y="43290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48720" y="3753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3080" y="17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124760" y="308628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"/>
            <p:cNvSpPr/>
            <p:nvPr/>
          </p:nvSpPr>
          <p:spPr>
            <a:xfrm>
              <a:off x="7237440" y="26020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9128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1200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85080" y="3933720"/>
              <a:ext cx="7128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912000" y="4041720"/>
              <a:ext cx="108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20000" y="4041720"/>
              <a:ext cx="730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0360" y="4149720"/>
              <a:ext cx="360720" cy="1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084360" y="4005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48360" y="3610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72360" y="4005360"/>
              <a:ext cx="144360" cy="28872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11" y="0"/>
                  </a:moveTo>
                  <a:cubicBezTo>
                    <a:pt x="5" y="40"/>
                    <a:pt x="0" y="80"/>
                    <a:pt x="11" y="114"/>
                  </a:cubicBezTo>
                  <a:cubicBezTo>
                    <a:pt x="22" y="148"/>
                    <a:pt x="50" y="176"/>
                    <a:pt x="79" y="2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84720" y="4005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408360" y="2168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29440" y="2168640"/>
              <a:ext cx="647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84720" y="2025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32720" y="206064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3744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96000" y="1736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079640" y="4041720"/>
                <a:ext cx="2122200" cy="23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</m:e>
                      <m:e/>
                      <m:e>
                        <m:r>
                          <m:t xml:space="preserve">A</m:t>
                        </m:r>
                        <m:r>
                          <m:t xml:space="preserve">→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REDIST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P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ACKA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476080" y="3862080"/>
            <a:ext cx="360" cy="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47640" y="1233360"/>
                <a:ext cx="792000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bar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ba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c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ℓ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zadat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poljni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menat</m:t>
                            </m:r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47640" y="3608280"/>
                <a:ext cx="2627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j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λ</m:t>
                              </m:r>
                            </m:e>
                          </m:acc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μ</m:t>
                              </m:r>
                            </m:e>
                          </m:acc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ν</m:t>
                              </m:r>
                            </m:e>
                          </m:acc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11280" y="1952640"/>
                <a:ext cx="554508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03280" y="14842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 ispisane u xyz sistemu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76360" y="4059360"/>
                <a:ext cx="628488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0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92000" y="3933720"/>
                <a:ext cx="237492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47640" y="1376280"/>
                <a:ext cx="331164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719280" y="328464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jednačine (4), (5) i (6) postaj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3640" y="5661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erencijalna jednačina obrt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četni uslovi za diferencijalnu jednačinu obrtanja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47640" y="2168640"/>
                <a:ext cx="2664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19280" y="3068640"/>
            <a:ext cx="77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(4) i (5) postaju statički uslovi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19280" y="3608280"/>
                <a:ext cx="298908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755640" y="4834080"/>
                <a:ext cx="1187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2124000" y="486900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kinetički pritisci koji deluju u tačkama B i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9280" y="544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od (1) do (5) svodi se na uslove ravnoteže samo ako je središte na osi obr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276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92000" y="1413000"/>
                <a:ext cx="5688000" cy="26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EMENTAR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MPULS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92000" y="43657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256360" y="3500280"/>
            <a:ext cx="3276000" cy="2959200"/>
            <a:chOff x="5256360" y="3500280"/>
            <a:chExt cx="3276000" cy="295920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6192720" y="4689360"/>
                  <a:ext cx="33840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8101080" y="4761000"/>
                  <a:ext cx="27144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 flipH="1">
              <a:off x="5256360" y="5659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5636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15636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91160" y="4000680"/>
              <a:ext cx="1433520" cy="163656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02000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37440" y="5335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651672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15636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7236000" y="454356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56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436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6108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69080" y="5659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0108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164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6343560" y="5219640"/>
                  <a:ext cx="203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7377120" y="4776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6985080" y="41832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12000" y="50482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416720" y="4005360"/>
              <a:ext cx="75744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667280" y="522936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00720" y="4616280"/>
              <a:ext cx="53964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704000" y="3500280"/>
                  <a:ext cx="40644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19280" y="5013360"/>
                <a:ext cx="5653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REDIST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ATERIJALNA T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47640" y="2349360"/>
                <a:ext cx="4319640" cy="18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5400720" y="1484280"/>
            <a:ext cx="2706480" cy="1917720"/>
            <a:chOff x="5400720" y="1484280"/>
            <a:chExt cx="2706480" cy="191772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5400720" y="2303640"/>
                  <a:ext cx="10843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D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7" name=""/>
            <p:cNvSpPr/>
            <p:nvPr/>
          </p:nvSpPr>
          <p:spPr>
            <a:xfrm flipH="1">
              <a:off x="6127920" y="296064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40640" y="296064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740640" y="195264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11920" y="213192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172280" y="198720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5200" y="2492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72280" y="23842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7675560" y="16635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"/>
            <p:cNvSpPr/>
            <p:nvPr/>
          </p:nvSpPr>
          <p:spPr>
            <a:xfrm>
              <a:off x="7199280" y="173664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6983280" y="1484280"/>
                  <a:ext cx="40644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7" name=""/>
            <p:cNvSpPr/>
            <p:nvPr/>
          </p:nvSpPr>
          <p:spPr>
            <a:xfrm flipV="1">
              <a:off x="6732720" y="2491920"/>
              <a:ext cx="43164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6985080" y="2673360"/>
                  <a:ext cx="2221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"/>
            <p:cNvSpPr/>
            <p:nvPr/>
          </p:nvSpPr>
          <p:spPr>
            <a:xfrm>
              <a:off x="6624720" y="303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832360" y="3755880"/>
            <a:ext cx="2663640" cy="3103560"/>
            <a:chOff x="5832360" y="3755880"/>
            <a:chExt cx="2663640" cy="3103560"/>
          </a:xfrm>
        </p:grpSpPr>
        <p:sp>
          <p:nvSpPr>
            <p:cNvPr id="141" name=""/>
            <p:cNvSpPr/>
            <p:nvPr/>
          </p:nvSpPr>
          <p:spPr>
            <a:xfrm>
              <a:off x="7632720" y="47275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7632720" y="55911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 flipH="1">
              <a:off x="5832360" y="59878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6360" y="59878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516360" y="45831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32720" y="60228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12000" y="50878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2720" y="42228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64360" y="52322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61080" y="55198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561080" y="53751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56360" y="52318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43640" y="37558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24360" y="46562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53080" y="50515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7235640" y="50515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6516360" y="59878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553080" y="55198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7127640" y="60595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840360" y="54482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6984720" y="51958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72400" y="53625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984720" y="42958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04000" y="42958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11640" y="64911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35640" y="6456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4360" y="4259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7694640" y="50878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 flipV="1">
              <a:off x="6516360" y="52671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6562440" y="52228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6119640" y="49449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5903640" y="50529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3" name=""/>
          <p:cNvSpPr/>
          <p:nvPr/>
        </p:nvSpPr>
        <p:spPr>
          <a:xfrm>
            <a:off x="324000" y="422100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9640" y="4761000"/>
                <a:ext cx="525636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9640" y="1557360"/>
                <a:ext cx="7272360" cy="419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SV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BIRAM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U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03280" y="1484280"/>
                <a:ext cx="712944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r>
                                  <m:t xml:space="preserve">m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087960" y="1600200"/>
                <a:ext cx="115740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39640" y="3564000"/>
                <a:ext cx="5256360" cy="32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r>
                                      <m:t xml:space="preserve">m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2808360" y="616572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. OBLIK ZAKONA O PROMENI MOMENTA KOLI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76360" y="1628640"/>
                <a:ext cx="10225080" cy="29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←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NOS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EPOKRET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ACK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NACNO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LIKU</m:t>
                        </m:r>
                        <m:r>
                          <m:t xml:space="preserve">: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751280" y="1557360"/>
            <a:ext cx="3276000" cy="2958840"/>
            <a:chOff x="4751280" y="1557360"/>
            <a:chExt cx="3276000" cy="2958840"/>
          </a:xfrm>
        </p:grpSpPr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687640" y="2746080"/>
                  <a:ext cx="33840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7596000" y="2817720"/>
                  <a:ext cx="271440" cy="3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 flipH="1">
              <a:off x="4751280" y="3716280"/>
              <a:ext cx="900000" cy="64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51280" y="3716280"/>
              <a:ext cx="97164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651280" y="2312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86080" y="2057400"/>
              <a:ext cx="1433520" cy="163620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514920" y="3392280"/>
              <a:ext cx="216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360" y="3392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011640" y="2096640"/>
              <a:ext cx="719280" cy="12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651280" y="3391920"/>
              <a:ext cx="10796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730920" y="2599920"/>
              <a:ext cx="215640" cy="82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512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59280" y="4147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6000" y="2205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64000" y="37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96000" y="3284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46560" y="177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838480" y="3276360"/>
                  <a:ext cx="203400" cy="30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6872040" y="2833560"/>
                  <a:ext cx="31752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6480000" y="22399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6920" y="3105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911640" y="2062080"/>
              <a:ext cx="757440" cy="53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162200" y="32860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95640" y="2673000"/>
              <a:ext cx="5396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7198920" y="1557360"/>
                  <a:ext cx="40644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4000" y="2313000"/>
                <a:ext cx="514800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lim/>
                            </m:limUpp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58920" y="4221000"/>
                <a:ext cx="6192720" cy="236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ULEROV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5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dnačine (I) i (II) predstavljaju potpun sistem diferencijalnih jednačina kret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TELO IMA NEPOKRETNU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ADA SE DIF. J. KRETANJA SVODE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92000" y="3720960"/>
                <a:ext cx="5040360" cy="17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55640" y="569736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y=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z=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 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←KONA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ČNE JED.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KON O PROMENI KINETIČKE ENER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92000" y="1268280"/>
                <a:ext cx="835200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RZA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NERGIJ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26T11:43:56Z</dcterms:modified>
  <cp:revision>535</cp:revision>
  <dc:subject/>
  <dc:title>ТЕХНИЧКА МЕХАНИКА 2</dc:title>
</cp:coreProperties>
</file>