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F973C-9934-4BEE-A899-39CF7D614B04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7A1C8-78A3-47E8-956F-A6FA586B54E5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B21C3-A24F-44D1-92E2-E8B9BA6BDE1E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509C7-791B-4C56-A22B-4BA30FB3942B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7983A-C46C-47F4-BA2F-CD3431C8BF91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32F5A-467F-43E8-B6B5-0E3209CA0122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450FF-34E8-46EA-9EE1-C8F30BB658F4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D36D7-20CB-449B-A2EA-8353E351C573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8A132-CB3D-49F2-9803-0BABB2C9944A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777D9-834A-4AE2-8E46-419BA8DFCED9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DFD6F-F747-4DAE-A864-F9F38053A948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ED551-810F-4400-9301-B5B3F7ED115B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D421C-ED88-4673-9ED8-9A0934FFE873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3D3E5-6BF5-452A-AFDA-BEBD001B6CE7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FBE7F-24C0-4950-AC12-EE5E96AE1B45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94EB3-29E7-48E8-BDCE-C5D97E49A36D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22D05-5B9E-40D8-92AF-C5905B4C23B7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1B1F8-5D3F-4065-8D06-C245C127B3ED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82C92-B929-404B-BBD1-91D4B664B330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429C7-A01D-41F9-85C1-3AF47FC8AF28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21D6-5F2C-40AA-B91F-00EF19E3A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5E73-B91C-4E4B-AE12-48FA599EE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0062-C74C-46B4-A0E2-F92EEDB66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E0A3-1262-4761-BE72-9FD9FC548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9AD9-C6DC-429D-873C-AA3F3DC54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0CC7-6059-4ADA-94BC-594A84F45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2E5D-71BD-4D4C-90F8-F53C92974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4301-7834-45F6-9A80-EFFEA3038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DFEC-92F6-46EC-A784-0231DEC39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E7E1-DF52-4109-A633-271B65C1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297B-AE51-480F-A2DC-698CBC9F5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5324-60C1-4D2F-9E88-235C4BC7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76BF2-FBAC-425E-AA08-82DE687A34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DINAMIKA ME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71516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JUTNOVI AKSIOMI MEHANIK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KSIOM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KON INERCIJE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vako telo ostaje u stanju mirovanja ili jednolikog pravolinijskog kretanja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ve dok delovanjem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ile ne bude prinuđeno da to stanje promeni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 II NJUTNOV ZAK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mena količine ktretanja tela (materijalne tačke)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porcionalna je sili koja deluje na telo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aterijalnu tačku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 vrši se u pravcu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smeru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elovanja sile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 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li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izvod mase materijalne tačke i njenog ubrzanja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jednak je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 intenzitetu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avcu i smeru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ili koja deluje na materijalnu tačku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4"/>
          <p:cNvGraphicFramePr/>
          <p:nvPr/>
        </p:nvGraphicFramePr>
        <p:xfrm>
          <a:off x="1187280" y="4941720"/>
          <a:ext cx="3745080" cy="163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4941720"/>
                    <a:ext cx="374508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 PROMENI MOMENTA KOLIČINE KRETANJA MA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3"/>
              <p:cNvSpPr txBox="1"/>
              <p:nvPr/>
            </p:nvSpPr>
            <p:spPr>
              <a:xfrm>
                <a:off x="930240" y="2133720"/>
                <a:ext cx="2448000" cy="31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0</m:t>
                                    </m:r>
                                  </m:e>
                                </m:d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H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0</m:t>
                                    </m:r>
                                  </m:e>
                                </m:d>
                              </m:sup>
                            </m:sSup>
                          </m:e>
                        </m:nary>
                      </m:e>
                      <m:e/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3" name="Text Box 4"/>
          <p:cNvSpPr/>
          <p:nvPr/>
        </p:nvSpPr>
        <p:spPr>
          <a:xfrm>
            <a:off x="3059280" y="249228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Impulsni momen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PRIMER-Kružno kretanje pod uticajem sile F=F</a:t>
            </a:r>
            <a:r>
              <a:rPr b="0" lang="sr-Latn-CS" sz="3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=con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3"/>
              <p:cNvSpPr txBox="1"/>
              <p:nvPr/>
            </p:nvSpPr>
            <p:spPr>
              <a:xfrm>
                <a:off x="539640" y="1844640"/>
                <a:ext cx="518328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ρ</m:t>
                        </m:r>
                        <m:r>
                          <m:t xml:space="preserve">⋅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  ;  </m:t>
                        </m:r>
                        <m:r>
                          <m:t xml:space="preserve">ρ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5"/>
              <p:cNvSpPr txBox="1"/>
              <p:nvPr/>
            </p:nvSpPr>
            <p:spPr>
              <a:xfrm>
                <a:off x="539640" y="2639880"/>
                <a:ext cx="5183280" cy="421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×</m:t>
                        </m:r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g</m:t>
                                </m:r>
                              </m:e>
                            </m:acc>
                          </m:e>
                          <m:sub>
                            <m:r>
                              <m:t xml:space="preserve">ρ</m:t>
                            </m:r>
                          </m:sub>
                        </m:sSub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mR {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acc>
                          <m:accPr>
                            <m:chr m:val="˙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eqAr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</m:e>
                      <m:sub>
                        <m:r>
                          <m:t xml:space="preserve">ρ</m:t>
                        </m:r>
                      </m:sub>
                    </m:sSub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τ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</m:e>
                      <m:sub>
                        <m:r>
                          <m:t xml:space="preserve">ρ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τ</m:t>
                        </m:r>
                      </m:e>
                    </m:acc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</m:e>
                      <m: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za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t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⇒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ϕ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-  </m:t>
                    </m:r>
                    <m:sSup>
                      <m:e>
                        <m:r>
                          <m:t xml:space="preserve">m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acc>
                      <m:accPr>
                        <m:chr m:val="˙"/>
                      </m:accPr>
                      <m:e>
                        <m:r>
                          <m:t xml:space="preserve">ϕ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      ;     {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ϕ</m:t>
                        </m:r>
                      </m:e>
                    </m:acc>
                    <m:r>
                      <m:t xml:space="preserve">=</m:t>
                    </m:r>
                    <m:r>
                      <m:t xml:space="preserve">ω</m:t>
                    </m:r>
                    <m:r>
                      <m:rPr>
                        <m:lit/>
                        <m:nor/>
                      </m:rPr>
                      <m:t xml:space="preserve"> -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Text Box 16"/>
          <p:cNvSpPr/>
          <p:nvPr/>
        </p:nvSpPr>
        <p:spPr>
          <a:xfrm>
            <a:off x="2987640" y="544500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četni usl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7"/>
          <p:cNvSpPr/>
          <p:nvPr/>
        </p:nvSpPr>
        <p:spPr>
          <a:xfrm>
            <a:off x="4500720" y="595008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gaona brz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Object 22"/>
          <p:cNvGraphicFramePr/>
          <p:nvPr/>
        </p:nvGraphicFramePr>
        <p:xfrm>
          <a:off x="5148360" y="2205000"/>
          <a:ext cx="3609720" cy="37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8360" y="2205000"/>
                    <a:ext cx="3609720" cy="37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 PROMENI KINETIČKE ENERGIJE MA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7"/>
              <p:cNvSpPr txBox="1"/>
              <p:nvPr/>
            </p:nvSpPr>
            <p:spPr>
              <a:xfrm>
                <a:off x="684360" y="1601640"/>
                <a:ext cx="2778120" cy="525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e>
                        <m:r>
                          <m:t xml:space="preserve">m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⋅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e>
                        <m:r>
                          <m:t xml:space="preserve">m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⋅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e>
                        <m:r>
                          <m:t xml:space="preserve">m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/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/>
                        </m:nary>
                      </m:e>
                      <m:e>
                        <m:r>
                          <m:t xml:space="preserve">m</m:t>
                        </m:r>
                        <m:r>
                          <m:t xml:space="preserve">⋅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P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t</m:t>
                                    </m:r>
                                  </m:e>
                                </m:d>
                              </m: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</m:nary>
                          </m:e>
                        </m:nary>
                      </m:e>
                      <m:e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→</m:t>
                            </m:r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⇒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→</m:t>
                            </m:r>
                            <m:r>
                              <m:t xml:space="preserve">P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03" name="Object 16"/>
          <p:cNvGraphicFramePr/>
          <p:nvPr/>
        </p:nvGraphicFramePr>
        <p:xfrm>
          <a:off x="5435640" y="1628640"/>
          <a:ext cx="3025800" cy="28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35640" y="1628640"/>
                    <a:ext cx="3025800" cy="28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22"/>
          <p:cNvGraphicFramePr/>
          <p:nvPr/>
        </p:nvGraphicFramePr>
        <p:xfrm>
          <a:off x="6372360" y="4437000"/>
          <a:ext cx="1871640" cy="1724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72360" y="4437000"/>
                    <a:ext cx="187164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Text Box 8"/>
          <p:cNvSpPr/>
          <p:nvPr/>
        </p:nvSpPr>
        <p:spPr>
          <a:xfrm>
            <a:off x="2411280" y="6237360"/>
            <a:ext cx="44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Zakon o promeni kinetičke energ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2700360" y="321300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Elementarni rad s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26"/>
              <p:cNvSpPr txBox="1"/>
              <p:nvPr/>
            </p:nvSpPr>
            <p:spPr>
              <a:xfrm>
                <a:off x="4067280" y="4941720"/>
                <a:ext cx="23032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 PROMENI KINETIČKE ENERGIJE MA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Object 3"/>
          <p:cNvGraphicFramePr/>
          <p:nvPr/>
        </p:nvGraphicFramePr>
        <p:xfrm>
          <a:off x="826920" y="1701720"/>
          <a:ext cx="7704360" cy="331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701720"/>
                    <a:ext cx="7704360" cy="331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Text Box 5"/>
          <p:cNvSpPr/>
          <p:nvPr/>
        </p:nvSpPr>
        <p:spPr>
          <a:xfrm>
            <a:off x="2124000" y="198900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Kinetička energija materijalne tač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KONZERVATIVNE SILE.</a:t>
            </a:r>
            <a:br>
              <a:rPr sz="3600"/>
            </a:b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DRŽANJA ENERGI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Object 6"/>
          <p:cNvGraphicFramePr/>
          <p:nvPr/>
        </p:nvGraphicFramePr>
        <p:xfrm>
          <a:off x="3059280" y="1488960"/>
          <a:ext cx="2449440" cy="21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1488960"/>
                    <a:ext cx="2449440" cy="21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17" name="Object 13"/>
              <p:cNvSpPr txBox="1"/>
              <p:nvPr/>
            </p:nvSpPr>
            <p:spPr>
              <a:xfrm>
                <a:off x="1187280" y="3860640"/>
                <a:ext cx="3168720" cy="25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oule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1 J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18" name="Object 15"/>
          <p:cNvGraphicFramePr/>
          <p:nvPr/>
        </p:nvGraphicFramePr>
        <p:xfrm>
          <a:off x="4572000" y="2205000"/>
          <a:ext cx="4292640" cy="434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205000"/>
                    <a:ext cx="4292640" cy="434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0" name="Object 18"/>
              <p:cNvSpPr txBox="1"/>
              <p:nvPr/>
            </p:nvSpPr>
            <p:spPr>
              <a:xfrm>
                <a:off x="1187280" y="1773360"/>
                <a:ext cx="1513080" cy="10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-m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KONZERVATIVNE SILE.</a:t>
            </a:r>
            <a:br>
              <a:rPr sz="3600"/>
            </a:b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DRŽANJA ENERGI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3"/>
              <p:cNvSpPr txBox="1"/>
              <p:nvPr/>
            </p:nvSpPr>
            <p:spPr>
              <a:xfrm>
                <a:off x="826920" y="2565360"/>
                <a:ext cx="7704360" cy="307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;</m:t>
                            </m:r>
                            <m:r>
                              <m:t xml:space="preserve">Y</m:t>
                            </m:r>
                            <m:r>
                              <m:t xml:space="preserve">;</m:t>
                            </m:r>
                            <m:r>
                              <m:t xml:space="preserve">Z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;  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;</m:t>
                            </m:r>
                            <m:r>
                              <m:t xml:space="preserve">y</m:t>
                            </m:r>
                            <m:r>
                              <m:t xml:space="preserve">;</m:t>
                            </m:r>
                            <m:r>
                              <m:t xml:space="preserve">z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;   d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</m:eqAr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A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Z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dx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  <m:e/>
                      <m:e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dy {</m:t>
                        </m:r>
                        <m:r>
                          <m:t xml:space="preserve">j</m:t>
                        </m:r>
                      </m:e>
                      <m:e/>
                      <m:e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dz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e/>
                    </m:d>
                    <m:r>
                      <m:rPr>
                        <m:lit/>
                        <m:nor/>
                      </m:rPr>
                      <m:t xml:space="preserve">   ako je 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⊥</m:t>
                    </m:r>
                    <m:r>
                      <m:rPr>
                        <m:lit/>
                        <m:nor/>
                      </m:rPr>
                      <m:t xml:space="preserve"> d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dA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d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Xd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Ydy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Zdz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d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dy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Zdz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23" name="Text Box 4"/>
          <p:cNvSpPr/>
          <p:nvPr/>
        </p:nvSpPr>
        <p:spPr>
          <a:xfrm>
            <a:off x="755640" y="170028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 Dekartovim koordinat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KONZERVATIVNE SILE.</a:t>
            </a:r>
            <a:br>
              <a:rPr sz="3600"/>
            </a:b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DRŽANJA ENERGI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3"/>
              <p:cNvSpPr txBox="1"/>
              <p:nvPr/>
            </p:nvSpPr>
            <p:spPr>
              <a:xfrm>
                <a:off x="755640" y="3573360"/>
                <a:ext cx="7201080" cy="312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,</m:t>
                            </m:r>
                            <m:r>
                              <m:t xml:space="preserve">z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;   </m:t>
                        </m:r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Ydy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Zd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6" name="Text Box 4"/>
          <p:cNvSpPr/>
          <p:nvPr/>
        </p:nvSpPr>
        <p:spPr>
          <a:xfrm>
            <a:off x="755640" y="1700280"/>
            <a:ext cx="813744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 Dekartovim koordinat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ko rad sile ne zavisi od oblika putanje po kojoj se vrši kretanje već samo zavisi od početnog i krajnjeg položaja, tada se takva sila naziva konzervativnom silom. Rad sile u tom slučaju predstavlja 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totalni diferencijal skalarne funkcij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položaj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KONZERVATIVNE SILE.</a:t>
            </a:r>
            <a:br>
              <a:rPr sz="3600"/>
            </a:b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DRŽANJA ENERGI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3"/>
              <p:cNvSpPr txBox="1"/>
              <p:nvPr/>
            </p:nvSpPr>
            <p:spPr>
              <a:xfrm>
                <a:off x="755640" y="2637000"/>
                <a:ext cx="4897440" cy="18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;   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;   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</m:e>
                      <m:e/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;</m:t>
                        </m:r>
                        <m:r>
                          <m:t xml:space="preserve">y</m:t>
                        </m:r>
                        <m:r>
                          <m:t xml:space="preserve">;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9" name="Text Box 4"/>
          <p:cNvSpPr/>
          <p:nvPr/>
        </p:nvSpPr>
        <p:spPr>
          <a:xfrm>
            <a:off x="755640" y="1700280"/>
            <a:ext cx="813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a bi sila bila konzervativna koordinate vektora sile moraju biti izražene preko odgovarajućih izvoda jedne iste funkcije položa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2627280" y="4076640"/>
            <a:ext cx="68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Potencijal polja sile (potencijalja energija m. tačk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755640" y="3500280"/>
            <a:ext cx="68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gde j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KONZERVATIVNE SILE.</a:t>
            </a:r>
            <a:br>
              <a:rPr sz="3600"/>
            </a:b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DRŽANJA ENERGI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Object 3"/>
          <p:cNvGraphicFramePr/>
          <p:nvPr/>
        </p:nvGraphicFramePr>
        <p:xfrm>
          <a:off x="826920" y="2311560"/>
          <a:ext cx="5616720" cy="94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311560"/>
                    <a:ext cx="561672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4"/>
          <p:cNvSpPr/>
          <p:nvPr/>
        </p:nvSpPr>
        <p:spPr>
          <a:xfrm>
            <a:off x="755640" y="1700280"/>
            <a:ext cx="81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d poljem sile podrazumevamo prostor u kome deluje si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755640" y="3500280"/>
            <a:ext cx="68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z matematike, ako je f=f(x,y,z) – skalarna funkcija, tada je gradijent funkcije 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7"/>
              <p:cNvSpPr txBox="1"/>
              <p:nvPr/>
            </p:nvSpPr>
            <p:spPr>
              <a:xfrm>
                <a:off x="826920" y="4365720"/>
                <a:ext cx="3959280" cy="14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rad 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KONZERVATIVNE SILE.</a:t>
            </a:r>
            <a:br>
              <a:rPr sz="3600"/>
            </a:b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DRŽANJA ENERGI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684360" y="5445000"/>
            <a:ext cx="684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da se t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čka kreće u polju konzervativne sile, onda se ulaže sila na račun potencija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6"/>
              <p:cNvSpPr txBox="1"/>
              <p:nvPr/>
            </p:nvSpPr>
            <p:spPr>
              <a:xfrm>
                <a:off x="755640" y="1700280"/>
                <a:ext cx="6624720" cy="34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;   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⇒</m:t>
                        </m:r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;   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;   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t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eqAr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DINAMIKA ME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771516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3.      III NJUTNOV ZAKON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KON AKCIJE I REAKCIJE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zajamni mehanički uticaji dvaju tela ispoljavaju se silama koje imaju isti intenzitet i pravac, a deluju u suprotnim smerovi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 IV NJUTNOV ZAKON (ZAKON O SLAGANJ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ko na telo (materijalnu tačku)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eluju istovrameno dve sile, tada se telo (tačka) kreće opisujući dijagonalu paralelograma konstruisanog nad tim silama kao vektori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KONZERVATIVNE SILE.</a:t>
            </a:r>
            <a:br>
              <a:rPr sz="3600"/>
            </a:b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DRŽANJA ENERGI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dT=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sr-Latn-C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-T</a:t>
            </a:r>
            <a:r>
              <a:rPr b="0" i="1" lang="sr-Latn-C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=A</a:t>
            </a:r>
            <a:r>
              <a:rPr b="0" i="1" lang="sr-Latn-CS" sz="1400" spc="-1" strike="noStrike">
                <a:solidFill>
                  <a:srgbClr val="000000"/>
                </a:solidFill>
                <a:latin typeface="Arial"/>
              </a:rPr>
              <a:t>1→2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=U</a:t>
            </a:r>
            <a:r>
              <a:rPr b="0" i="1" lang="sr-Latn-C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-U</a:t>
            </a:r>
            <a:r>
              <a:rPr b="0" i="1" lang="sr-Latn-C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Zakon o održanju energi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sr-Latn-C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+U</a:t>
            </a:r>
            <a:r>
              <a:rPr b="0" i="1" lang="sr-Latn-C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=T</a:t>
            </a:r>
            <a:r>
              <a:rPr b="0" i="1" lang="sr-Latn-C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+U</a:t>
            </a:r>
            <a:r>
              <a:rPr b="0" i="1" lang="sr-Latn-C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=T+U=con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pitni prvi zadtatak ISPUS21okt04.do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DINAMIKA ME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16"/>
              <p:cNvSpPr txBox="1"/>
              <p:nvPr/>
            </p:nvSpPr>
            <p:spPr>
              <a:xfrm>
                <a:off x="826920" y="4437000"/>
                <a:ext cx="4464360" cy="15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 /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eqAr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X  ;  ma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Y  ;  ma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Z  ;  </m:t>
                    </m:r>
                    <m:r>
                      <m:t xml:space="preserve">m</m:t>
                    </m:r>
                    <m:acc>
                      <m:accPr>
                        <m:chr m:val="¨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X  ;  m {</m:t>
                    </m:r>
                    <m:acc>
                      <m:accPr>
                        <m:chr m:val="¨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Y  ;  m {</m:t>
                    </m:r>
                    <m:acc>
                      <m:accPr>
                        <m:chr m:val="¨"/>
                      </m:accPr>
                      <m:e>
                        <m:r>
                          <m:t xml:space="preserve">z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Z  -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" name="Text Box 7"/>
          <p:cNvSpPr/>
          <p:nvPr/>
        </p:nvSpPr>
        <p:spPr>
          <a:xfrm>
            <a:off x="611280" y="299736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I Njutnov zakon važi u odnosu na inercijalni koordinatni si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1403280" y="2492280"/>
            <a:ext cx="80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ezultanta svih sila koje deluju na materijalnu tač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539640" y="3573360"/>
            <a:ext cx="80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DEKARTOV KOORDINATNI SI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8"/>
          <p:cNvSpPr/>
          <p:nvPr/>
        </p:nvSpPr>
        <p:spPr>
          <a:xfrm>
            <a:off x="4788000" y="5516640"/>
            <a:ext cx="40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D.J. Kretanja materijalne tač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19"/>
              <p:cNvSpPr txBox="1"/>
              <p:nvPr/>
            </p:nvSpPr>
            <p:spPr>
              <a:xfrm>
                <a:off x="971640" y="1413000"/>
                <a:ext cx="1412640" cy="14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  <m:e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-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DINAMIKA ME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Object 3"/>
          <p:cNvGraphicFramePr/>
          <p:nvPr/>
        </p:nvGraphicFramePr>
        <p:xfrm>
          <a:off x="500040" y="2143080"/>
          <a:ext cx="302256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2143080"/>
                    <a:ext cx="302256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Text Box 4"/>
          <p:cNvSpPr/>
          <p:nvPr/>
        </p:nvSpPr>
        <p:spPr>
          <a:xfrm>
            <a:off x="3635280" y="5516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Početni uslo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539640" y="1268280"/>
            <a:ext cx="806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PRIRODNE KOORDIN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Object 6"/>
          <p:cNvGraphicFramePr/>
          <p:nvPr/>
        </p:nvGraphicFramePr>
        <p:xfrm>
          <a:off x="4284720" y="2060640"/>
          <a:ext cx="4103640" cy="350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2060640"/>
                    <a:ext cx="4103640" cy="35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Text Box 8"/>
          <p:cNvSpPr/>
          <p:nvPr/>
        </p:nvSpPr>
        <p:spPr>
          <a:xfrm>
            <a:off x="468360" y="1773360"/>
            <a:ext cx="806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PRIMER: Matematičko klat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 PROMENI KOLIČINE KRETANJA MA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5"/>
              <p:cNvSpPr txBox="1"/>
              <p:nvPr/>
            </p:nvSpPr>
            <p:spPr>
              <a:xfrm>
                <a:off x="684360" y="1700280"/>
                <a:ext cx="5327640" cy="308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num>
                          <m:den/>
                        </m:f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m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nst</m:t>
                            </m:r>
                          </m:e>
                        </m:d>
                        <m:r>
                          <m:t xml:space="preserve">⇒</m:t>
                        </m:r>
                        <m:r>
                          <m:t xml:space="preserve">m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v</m:t>
                            </m:r>
                          </m:sup>
                          <m:e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  <m:r>
                              <m:t xml:space="preserve">=</m:t>
                            </m:r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v</m:t>
                            </m:r>
                          </m: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r>
                          <m:t xml:space="preserve">m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1" name="Text Box 7"/>
          <p:cNvSpPr/>
          <p:nvPr/>
        </p:nvSpPr>
        <p:spPr>
          <a:xfrm>
            <a:off x="684360" y="4724280"/>
            <a:ext cx="79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ko je F=const ili F=F(t), tada se gornji integral može izračuna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 PROMENI KOLIČINE KRETANJA MA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Object 3"/>
          <p:cNvGraphicFramePr/>
          <p:nvPr/>
        </p:nvGraphicFramePr>
        <p:xfrm>
          <a:off x="900000" y="1754280"/>
          <a:ext cx="6624720" cy="16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754280"/>
                    <a:ext cx="6624720" cy="16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Object 5"/>
          <p:cNvGraphicFramePr/>
          <p:nvPr/>
        </p:nvGraphicFramePr>
        <p:xfrm>
          <a:off x="900000" y="3571920"/>
          <a:ext cx="6939000" cy="193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0000" y="3571920"/>
                    <a:ext cx="6939000" cy="19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2" descr="2"/>
          <p:cNvPicPr/>
          <p:nvPr/>
        </p:nvPicPr>
        <p:blipFill>
          <a:blip r:embed="rId1"/>
          <a:srcRect l="18565" t="24289" r="3795" b="19184"/>
          <a:stretch/>
        </p:blipFill>
        <p:spPr>
          <a:xfrm>
            <a:off x="3492360" y="4076640"/>
            <a:ext cx="5435640" cy="24796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 PROMENI KOLIČINE KRETANJA MA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3"/>
              <p:cNvSpPr txBox="1"/>
              <p:nvPr/>
            </p:nvSpPr>
            <p:spPr>
              <a:xfrm>
                <a:off x="826920" y="1557360"/>
                <a:ext cx="13687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Object 8"/>
              <p:cNvSpPr txBox="1"/>
              <p:nvPr/>
            </p:nvSpPr>
            <p:spPr>
              <a:xfrm>
                <a:off x="826920" y="2133720"/>
                <a:ext cx="3657600" cy="457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m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; 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⇒</m:t>
                        </m:r>
                      </m:e>
                      <m:e>
                        <m:r>
                          <m:t xml:space="preserve">Δt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Δt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ML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</m:num>
                          <m:den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ML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r>
                          <m:t xml:space="preserve">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 PROMENI MOMENTA KOLIČINE KRETANJA MA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7"/>
              <p:cNvSpPr txBox="1"/>
              <p:nvPr/>
            </p:nvSpPr>
            <p:spPr>
              <a:xfrm>
                <a:off x="820800" y="1989000"/>
                <a:ext cx="3849480" cy="410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num>
                          <m:den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den>
                        </m:f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×</m:t>
                        </m:r>
                        <m:r>
                          <m:t xml:space="preserve">m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r>
                              <m:t xml:space="preserve">m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</m:d>
                        <m:r>
                          <m:t xml:space="preserve">−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×</m:t>
                        </m:r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sup>
                        </m:sSup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r>
                              <m:t xml:space="preserve">m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- 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×</m:t>
                        </m:r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=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-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3" name="Text Box 8"/>
          <p:cNvSpPr/>
          <p:nvPr/>
        </p:nvSpPr>
        <p:spPr>
          <a:xfrm>
            <a:off x="3492360" y="4653000"/>
            <a:ext cx="482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kon o promeni momenta količine kretanja u diferencijalnom obli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3851280" y="5445000"/>
            <a:ext cx="482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oment količine kretanja (inercijalni mo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Object 10"/>
          <p:cNvGraphicFramePr/>
          <p:nvPr/>
        </p:nvGraphicFramePr>
        <p:xfrm>
          <a:off x="4788000" y="1413000"/>
          <a:ext cx="3527280" cy="35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1413000"/>
                    <a:ext cx="3527280" cy="35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 PROMENI MOMENTA KOLIČINE KRETANJA MA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3"/>
              <p:cNvSpPr txBox="1"/>
              <p:nvPr/>
            </p:nvSpPr>
            <p:spPr>
              <a:xfrm>
                <a:off x="468360" y="2060640"/>
                <a:ext cx="3773520" cy="428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r>
                              <m:t xml:space="preserve">m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0</m:t>
                                    </m:r>
                                  </m:e>
                                </m:d>
                              </m:sup>
                            </m:sSubSup>
                          </m:sub>
                          <m:sup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0</m:t>
                                    </m:r>
                                  </m:e>
                                </m:d>
                              </m:sup>
                            </m:sSup>
                          </m:sup>
                          <m:e>
                            <m:r>
                              <m:t xml:space="preserve">d</m:t>
                            </m:r>
                          </m:e>
                        </m:nary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0</m:t>
                                    </m:r>
                                  </m:e>
                                </m:d>
                              </m:sup>
                            </m:sSup>
                          </m:e>
                        </m:acc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0</m:t>
                                    </m:r>
                                  </m:e>
                                </m:d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-  {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0</m:t>
                                    </m:r>
                                  </m:e>
                                </m:d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-</m:t>
                        </m:r>
                      </m:e>
                    </m:eqArr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-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" name="Text Box 4"/>
          <p:cNvSpPr/>
          <p:nvPr/>
        </p:nvSpPr>
        <p:spPr>
          <a:xfrm>
            <a:off x="4284720" y="4292640"/>
            <a:ext cx="44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kon o promeni momenta količine kretanja u konačnom obli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1547640" y="5805360"/>
            <a:ext cx="44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oment je funkcija vrem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7-10-02T07:51:02Z</dcterms:modified>
  <cp:revision>145</cp:revision>
  <dc:subject/>
  <dc:title>ТЕХНИЧКА МЕХАНИКА 2</dc:title>
</cp:coreProperties>
</file>