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1D0C-D1C6-4CBF-9D67-F92DD3B51B9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21B8-D68F-4D64-866A-45436BE5555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EC9D-84DB-43D8-BB9F-2A706E7654D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E9DB-55DE-45DE-9F80-58FD063D020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AF55-6920-4AC0-BB1F-9A119FDDCB3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E76F-BB80-4CCB-815A-EEAC45BE515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366B-1843-4ECA-AE9D-00D2D5CC1B9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F9AE-01FF-44BC-B249-709DF778E4C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1465-FC7F-4ECA-958C-1FEE9AB65E1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F70B-B774-4D41-B9A0-97EC806BD21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2EA7-74E2-4677-A857-B0C674E8653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B933-9E8F-44B6-AA68-7328E534534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04E6-A331-4E4F-B73B-EEB629D1E98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6DE8-94C8-40DD-B143-4157BD86F31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3A6E-AA82-43DF-88DC-6BDE9AB67F1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10E-8193-4704-82F7-92E3BABA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6C0-0B27-4C49-86F4-808386A5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348-EA95-49E2-AE2D-14308EC7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9D82-DB49-48B0-BBB3-917B5FA9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33B-5CA0-4E67-8A6B-2019A416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943-BBD0-44D3-A3CF-ABACFB53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CC5-F051-4345-A7CD-A2F11932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9C7-EB72-42CE-8E5E-F7C828D6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734B-BC89-46EE-9870-6C4A9ED4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832-032C-4A31-B091-6A2918BD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B18-1435-4874-ABCB-8C7EC9CC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572-CE8A-4229-AD32-939023E1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D5F8-2D0F-4005-9859-E1D586C24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68360" y="3429000"/>
                <a:ext cx="676908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ξ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η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ζ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okalni izvod vektora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lim>
                        </m:limLow>
                      </m:e>
                    </m:eqAr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ζ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sferno kretanje tacke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ko 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" name="Object 10"/>
          <p:cNvGraphicFramePr/>
          <p:nvPr/>
        </p:nvGraphicFramePr>
        <p:xfrm>
          <a:off x="5219640" y="1773360"/>
          <a:ext cx="37432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37432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3" name="Object 4"/>
          <p:cNvGraphicFramePr/>
          <p:nvPr/>
        </p:nvGraphicFramePr>
        <p:xfrm>
          <a:off x="773280" y="1197000"/>
          <a:ext cx="7237080" cy="53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197000"/>
                    <a:ext cx="723708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611280" y="1989000"/>
                <a:ext cx="8208720" cy="473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đ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</m:eqArr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5"/>
          <p:cNvGraphicFramePr/>
          <p:nvPr/>
        </p:nvGraphicFramePr>
        <p:xfrm>
          <a:off x="3851280" y="1052640"/>
          <a:ext cx="3435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052640"/>
                    <a:ext cx="3435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6"/>
          <p:cNvSpPr/>
          <p:nvPr/>
        </p:nvSpPr>
        <p:spPr>
          <a:xfrm>
            <a:off x="687708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3" name="Object 4"/>
          <p:cNvGraphicFramePr/>
          <p:nvPr/>
        </p:nvGraphicFramePr>
        <p:xfrm>
          <a:off x="1476360" y="3284640"/>
          <a:ext cx="6767640" cy="32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84640"/>
                    <a:ext cx="676764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539640" y="1557360"/>
                <a:ext cx="48974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lim>
                        </m:limLow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6"/>
          <p:cNvSpPr/>
          <p:nvPr/>
        </p:nvSpPr>
        <p:spPr>
          <a:xfrm>
            <a:off x="3132000" y="249228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Elementar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u međusobno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9640" y="3068640"/>
            <a:ext cx="60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eđusobno nisu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68360" y="623736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, konačni položaj tela zavisi od redosleda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826920" y="4238640"/>
                <a:ext cx="158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4284720" y="4221000"/>
                <a:ext cx="1563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A IZMEĐU VEKTORA ELEM. ROTACIJE I ELEM. PRIRAŠTAJA OJLEROVIH UG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468360" y="1628640"/>
                <a:ext cx="7848720" cy="509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24000" y="386064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.                                                    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19280" y="1341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4716360" y="126828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26920" y="2205000"/>
                <a:ext cx="4016520" cy="28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900000" y="2637000"/>
                <a:ext cx="4000680" cy="34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2050920" y="3716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ugaonog ubrz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7164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BRZ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4360" y="2852640"/>
                <a:ext cx="5329080" cy="32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od translatornog kretanja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otaciono ubrzanje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R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aksipetalno ubrzan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/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je u ravn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trenutnu osu i usmereno od P ka os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4" name="Object 6"/>
          <p:cNvGraphicFramePr/>
          <p:nvPr/>
        </p:nvGraphicFramePr>
        <p:xfrm>
          <a:off x="5635800" y="1557360"/>
          <a:ext cx="31525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5800" y="1557360"/>
                    <a:ext cx="31525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987640" y="1628640"/>
                <a:ext cx="2521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826920" y="2852640"/>
                <a:ext cx="4032360" cy="36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</m:e>
                          <m:e/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ξ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η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ζ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Text Box 5"/>
          <p:cNvSpPr/>
          <p:nvPr/>
        </p:nvSpPr>
        <p:spPr>
          <a:xfrm>
            <a:off x="755640" y="1700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5564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SFERNO KRET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5087880" y="2421000"/>
          <a:ext cx="38149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7880" y="2421000"/>
                    <a:ext cx="3814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13"/>
          <p:cNvSpPr/>
          <p:nvPr/>
        </p:nvSpPr>
        <p:spPr>
          <a:xfrm>
            <a:off x="1835280" y="422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tač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a u trenut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ipada trenutnoj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84360" y="1916280"/>
                <a:ext cx="561636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eqArr>
                                  <m:e>
                                    <m:d>
                                      <m:dPr>
                                        <m:begChr m:val=""/>
                                        <m:endChr m:val="}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  <m:r>
                                          <m:t xml:space="preserve">y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   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y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r>
                                          <m:t xml:space="preserve">=</m:t>
                                        </m:r>
                                        <m:f>
                                          <m:num>
                                            <m:r>
                                              <m:t xml:space="preserve">z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z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  <m:e/>
                                    </m:d>
                                  </m:e>
                                </m:eqArr>
                              </m:e>
                              <m:e/>
                              <m:e/>
                              <m:e/>
                            </m:d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 Box 9"/>
          <p:cNvSpPr/>
          <p:nvPr/>
        </p:nvSpPr>
        <p:spPr>
          <a:xfrm>
            <a:off x="6516720" y="2421000"/>
            <a:ext cx="262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čina trenut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e u sistemu x, y,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rostorna deskri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4572000" y="2492280"/>
          <a:ext cx="187308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92280"/>
                    <a:ext cx="18730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3" name="Object 9"/>
          <p:cNvGraphicFramePr/>
          <p:nvPr/>
        </p:nvGraphicFramePr>
        <p:xfrm>
          <a:off x="324000" y="2112840"/>
          <a:ext cx="20160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12840"/>
                    <a:ext cx="20160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684360" y="1989000"/>
                <a:ext cx="3754440" cy="453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Text Box 5"/>
          <p:cNvSpPr/>
          <p:nvPr/>
        </p:nvSpPr>
        <p:spPr>
          <a:xfrm>
            <a:off x="900000" y="1557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sti nač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68360" y="2565360"/>
            <a:ext cx="28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Jednačina trenutne ose u materijalnoj deskri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276720" y="494172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ne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03640" y="5877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1"/>
          <p:cNvGraphicFramePr/>
          <p:nvPr/>
        </p:nvGraphicFramePr>
        <p:xfrm>
          <a:off x="4716360" y="1052640"/>
          <a:ext cx="381636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052640"/>
                    <a:ext cx="3816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3"/>
          <p:cNvSpPr/>
          <p:nvPr/>
        </p:nvSpPr>
        <p:spPr>
          <a:xfrm>
            <a:off x="7451640" y="2637000"/>
            <a:ext cx="230508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nop trenutnih 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otacije (nepokretni aksoid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4"/>
          <p:cNvGraphicFramePr/>
          <p:nvPr/>
        </p:nvGraphicFramePr>
        <p:xfrm>
          <a:off x="5651640" y="3716280"/>
          <a:ext cx="3024000" cy="29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716280"/>
                    <a:ext cx="30240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15"/>
          <p:cNvSpPr/>
          <p:nvPr/>
        </p:nvSpPr>
        <p:spPr>
          <a:xfrm>
            <a:off x="7451640" y="5373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okretni aks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900000" y="5373720"/>
                <a:ext cx="27370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042920" y="2492280"/>
                <a:ext cx="3529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Text Box 5"/>
          <p:cNvSpPr/>
          <p:nvPr/>
        </p:nvSpPr>
        <p:spPr>
          <a:xfrm>
            <a:off x="826920" y="148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ROTACIJ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26920" y="1916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jalni slučaj sfernog kretanja je obrtanje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26920" y="4005360"/>
            <a:ext cx="36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 odnosn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edsatvljaju pravu u koju degenerišu oba aksoida za ovaj slučaj kre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427640" y="2205000"/>
          <a:ext cx="355572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205000"/>
                    <a:ext cx="35557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900000" y="2637000"/>
                <a:ext cx="4608720" cy="37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ξ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Ovde vektor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je funkcija vremena!!!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groupChr>
                      </m:e>
                      <m:lim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/>
                        </m:limUpp>
                      </m:lim>
                    </m:limLow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826920" y="148428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a tačka se kreće po telu čije je kretanje zadato. Kretanje tačke po telu nazivamo relativnim, a kretanje tela nazivamo prenosnim kretanj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4284720" y="2448000"/>
          <a:ext cx="46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48000"/>
                    <a:ext cx="46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23T07:25:22Z</dcterms:modified>
  <cp:revision>296</cp:revision>
  <dc:subject/>
  <dc:title>ТЕХНИЧКА МЕХАНИКА 2</dc:title>
</cp:coreProperties>
</file>