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8CA2-6F11-4776-8EBD-1C7FD8EE17D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EC52-0970-428B-8FF4-CF96452CFF3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0092-7842-4138-8A7D-CD22D180533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0D9D-7282-4243-8B08-59CC2859FAF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46BB-F7A0-4073-92BC-DE72F232BF5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E568-8A06-4A21-83DA-3818309AFB5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E0C1-7AD8-4DB1-AF3E-F7906857D61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6C4D-6D0A-4459-B444-016C38A8557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BB93-CE18-4DCB-AEC6-9D0CF5B3DBF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774A-7230-4AD9-8540-971442C4899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968D-0459-4236-B079-6DD352C603B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D1FB-4C34-4E34-A50E-D674866D762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3096-CC79-45C5-8F39-1A3C2DD87CC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D98A-81B0-4582-B0C0-6F6A12652D5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E1E6-4258-47BF-8C61-C019F6EA84A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1FB-9196-4C81-852A-F6144D91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882-BB8E-4978-B680-4D5CE31C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3CDF-4039-45EB-9B3F-10BEB7A4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732-F2C8-4B4E-B1F8-D6846924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DC6-C5AE-4A8A-AF4B-A0B3428D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DF3-BF57-47C4-8414-0C96EA3C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1C1-A54E-4BA1-B5FE-541D8083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3E3-A24D-4302-BC32-63D40774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8FD-D5A2-4304-84C5-64BD92E6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E36-6C36-4CDA-B8DA-57B60A52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2CE-1E74-4DB3-9D7F-150F8C5C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93B-555B-46F1-813A-7267A7BB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39BA-5C7A-42BA-ADBB-D7626241E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68360" y="3429000"/>
                <a:ext cx="676908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ξ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η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ζ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okalni izvod vektora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lim>
                        </m:limLow>
                      </m:e>
                    </m:eqAr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ζ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- sferno kretanje tacke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oko 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" name="Object 10"/>
          <p:cNvGraphicFramePr/>
          <p:nvPr/>
        </p:nvGraphicFramePr>
        <p:xfrm>
          <a:off x="5219640" y="1773360"/>
          <a:ext cx="374328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374328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3" name="Object 4"/>
          <p:cNvGraphicFramePr/>
          <p:nvPr/>
        </p:nvGraphicFramePr>
        <p:xfrm>
          <a:off x="773280" y="1197000"/>
          <a:ext cx="7237080" cy="53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1197000"/>
                    <a:ext cx="723708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611280" y="1989000"/>
                <a:ext cx="8208720" cy="473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  <m:r>
                              <m:t xml:space="preserve">'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đ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</m:eqArr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5"/>
          <p:cNvGraphicFramePr/>
          <p:nvPr/>
        </p:nvGraphicFramePr>
        <p:xfrm>
          <a:off x="3851280" y="1052640"/>
          <a:ext cx="34354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052640"/>
                    <a:ext cx="34354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6"/>
          <p:cNvSpPr/>
          <p:nvPr/>
        </p:nvSpPr>
        <p:spPr>
          <a:xfrm>
            <a:off x="6877080" y="342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3" name="Object 4"/>
          <p:cNvGraphicFramePr/>
          <p:nvPr/>
        </p:nvGraphicFramePr>
        <p:xfrm>
          <a:off x="1476360" y="3284640"/>
          <a:ext cx="6767640" cy="32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84640"/>
                    <a:ext cx="676764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539640" y="1557360"/>
                <a:ext cx="48974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lim>
                        </m:limLow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6"/>
          <p:cNvSpPr/>
          <p:nvPr/>
        </p:nvSpPr>
        <p:spPr>
          <a:xfrm>
            <a:off x="3132000" y="2492280"/>
            <a:ext cx="60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Elementar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u međusobno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39640" y="3068640"/>
            <a:ext cx="601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eđusobno nisu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68360" y="623736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, konačni položaj tela zavisi od redosleda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826920" y="4238640"/>
                <a:ext cx="158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4284720" y="4221000"/>
                <a:ext cx="1563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A IZMEĐU VEKTORA ELEM. ROTACIJE I ELEM. PRIRAŠTAJA OJLEROVIH UG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468360" y="1628640"/>
                <a:ext cx="7848720" cy="509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24000" y="386064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.                                                                              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19280" y="1341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4716360" y="126828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26920" y="2205000"/>
                <a:ext cx="4016520" cy="28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900000" y="2637000"/>
                <a:ext cx="4000680" cy="34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2050920" y="3716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ugaonog ubrz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7164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BRZ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684360" y="2852640"/>
                <a:ext cx="5329080" cy="32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od translatornog kretanja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otaciono ubrzanje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R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aksipetalno ubrzan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/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je u ravn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trenutnu osu i usmereno od P ka os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4" name="Object 6"/>
          <p:cNvGraphicFramePr/>
          <p:nvPr/>
        </p:nvGraphicFramePr>
        <p:xfrm>
          <a:off x="5635800" y="1557360"/>
          <a:ext cx="31525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5800" y="1557360"/>
                    <a:ext cx="31525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2987640" y="1628640"/>
                <a:ext cx="25210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826920" y="2852640"/>
                <a:ext cx="4032360" cy="36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</m:e>
                          <m:e/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x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y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ξ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η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ζ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Text Box 5"/>
          <p:cNvSpPr/>
          <p:nvPr/>
        </p:nvSpPr>
        <p:spPr>
          <a:xfrm>
            <a:off x="755640" y="17002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5564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SFERNO KRET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1"/>
          <p:cNvGraphicFramePr/>
          <p:nvPr/>
        </p:nvGraphicFramePr>
        <p:xfrm>
          <a:off x="5087880" y="2421000"/>
          <a:ext cx="38149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87880" y="2421000"/>
                    <a:ext cx="38149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13"/>
          <p:cNvSpPr/>
          <p:nvPr/>
        </p:nvSpPr>
        <p:spPr>
          <a:xfrm>
            <a:off x="1835280" y="422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tač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a u trenut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ipada trenutnoj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84360" y="1916280"/>
                <a:ext cx="561636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eqArr>
                                  <m:e>
                                    <m:d>
                                      <m:dPr>
                                        <m:begChr m:val=""/>
                                        <m:endChr m:val="}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=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z</m:t>
                                            </m:r>
                                          </m:sub>
                                        </m:sSub>
                                        <m:r>
                                          <m:t xml:space="preserve">y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   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y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r>
                                          <m:t xml:space="preserve">=</m:t>
                                        </m:r>
                                        <m:f>
                                          <m:num>
                                            <m:r>
                                              <m:t xml:space="preserve">z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z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  <m:e/>
                                    </m:d>
                                  </m:e>
                                </m:eqArr>
                              </m:e>
                              <m:e/>
                              <m:e/>
                              <m:e/>
                            </m:d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Text Box 9"/>
          <p:cNvSpPr/>
          <p:nvPr/>
        </p:nvSpPr>
        <p:spPr>
          <a:xfrm>
            <a:off x="6516720" y="2421000"/>
            <a:ext cx="262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čina trenut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e u sistemu x, y,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rostorna deskri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0"/>
          <p:cNvGraphicFramePr/>
          <p:nvPr/>
        </p:nvGraphicFramePr>
        <p:xfrm>
          <a:off x="4572000" y="2492280"/>
          <a:ext cx="187308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92280"/>
                    <a:ext cx="187308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3" name="Object 9"/>
          <p:cNvGraphicFramePr/>
          <p:nvPr/>
        </p:nvGraphicFramePr>
        <p:xfrm>
          <a:off x="324000" y="2112840"/>
          <a:ext cx="20160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12840"/>
                    <a:ext cx="20160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684360" y="1989000"/>
                <a:ext cx="3754440" cy="453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Text Box 5"/>
          <p:cNvSpPr/>
          <p:nvPr/>
        </p:nvSpPr>
        <p:spPr>
          <a:xfrm>
            <a:off x="900000" y="1557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sti nač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68360" y="2565360"/>
            <a:ext cx="28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Jednačina trenutne ose u materijalnoj deskrip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276720" y="494172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ne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03640" y="5877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1"/>
          <p:cNvGraphicFramePr/>
          <p:nvPr/>
        </p:nvGraphicFramePr>
        <p:xfrm>
          <a:off x="4716360" y="1052640"/>
          <a:ext cx="3816360" cy="31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052640"/>
                    <a:ext cx="381636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3"/>
          <p:cNvSpPr/>
          <p:nvPr/>
        </p:nvSpPr>
        <p:spPr>
          <a:xfrm>
            <a:off x="7451640" y="2637000"/>
            <a:ext cx="230508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snop trenutnih 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rotacije (nepokretni aksoid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4"/>
          <p:cNvGraphicFramePr/>
          <p:nvPr/>
        </p:nvGraphicFramePr>
        <p:xfrm>
          <a:off x="5651640" y="3716280"/>
          <a:ext cx="3024000" cy="295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3716280"/>
                    <a:ext cx="30240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15"/>
          <p:cNvSpPr/>
          <p:nvPr/>
        </p:nvSpPr>
        <p:spPr>
          <a:xfrm>
            <a:off x="7451640" y="5373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pokretni aks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900000" y="5373720"/>
                <a:ext cx="27370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1042920" y="2492280"/>
                <a:ext cx="3529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Text Box 5"/>
          <p:cNvSpPr/>
          <p:nvPr/>
        </p:nvSpPr>
        <p:spPr>
          <a:xfrm>
            <a:off x="826920" y="1484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ROTACIJ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826920" y="1916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ecijalni slučaj sfernog kretanja je obrtanje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26920" y="4005360"/>
            <a:ext cx="36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 odnosn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edsatvljaju pravu u koju degenerišu oba aksoida za ovaj slučaj kre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427640" y="2205000"/>
          <a:ext cx="355572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205000"/>
                    <a:ext cx="35557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900000" y="2637000"/>
                <a:ext cx="4608720" cy="37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ξ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ζ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Ovde vektor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je funkcija vremena!!!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groupChr>
                      </m:e>
                      <m:lim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/>
                        </m:limUpp>
                      </m:lim>
                    </m:limLow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826920" y="1484280"/>
            <a:ext cx="813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a tačka se kreće po telu čije je kretanje zadato. Kretanje tačke po telu nazivamo relativnim, a kretanje tela nazivamo prenosnim kretanj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4284720" y="2448000"/>
          <a:ext cx="460836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48000"/>
                    <a:ext cx="46083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23T07:25:22Z</dcterms:modified>
  <cp:revision>296</cp:revision>
  <dc:subject/>
  <dc:title>ТЕХНИЧКА МЕХАНИКА 2</dc:title>
</cp:coreProperties>
</file>