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7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28.wmf" ContentType="image/x-wmf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wmf" ContentType="image/x-wmf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15B4-2724-455B-A091-6B3E6BCC7C2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B662-5DF4-4DB1-BEB9-7DD51E6C45C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0352-868B-4864-BDD6-8395EE067FD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E18A-24E8-4E62-AE8C-0A293F720AB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1AD6-367D-4E6D-A4A2-3E0FDFF7F99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8281-2C24-4AD6-817E-598EF314973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D0E7-C43A-44A1-AD74-C47F2D7CD94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9F75-DC4F-4652-BFD7-4E5ABAB7F24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3BA4-46D0-4425-B4F7-A92AA43BED8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BF98-2484-4CA3-8766-830F9F94FC0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2E6E-2369-4506-9E0C-0C9D26317DE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6339-3A0A-4A51-A271-287C52F52F0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70AE-AA4B-4FF7-99C3-613514D4D8C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9DC1-A6BB-4A40-9F7A-B6880C3F6FD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1107-E153-4946-A252-55885CF5AFC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878D-4289-4616-A383-E9C7A0051F1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348-F579-4812-8F59-E595019C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0DC-ADE9-4E7A-98D5-0D46CEA2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EA98-F4EE-4EE7-AE2D-F783F3C2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069-BA43-477E-9E5B-409F93ED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ACB-9B4F-4FBA-8DF4-8C4C47EB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C8A9-381C-46B3-8339-8104029D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244-E3D8-4A16-8277-CCCF44F8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516C-CCF7-4E78-9045-000EBB24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91D4-DA6E-4B1F-91BC-46994725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CA4-8A7A-4FAE-93D3-245511A4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6CA4-D9FA-4A38-9A1C-D574AC11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66A5-FF31-42B2-BE3A-C72B4C01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2A5A-A5DD-4821-8770-EEF3A4959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ХНИЧКА МЕХАНИКА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773360"/>
            <a:ext cx="89647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оф др Драгослав Шумара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султaц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торком 10-11, соба 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Проф Др Наталија Нерловић-Вељковић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ханик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Научна књига, 19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С.Б., Д.Г., Д. Ш. Р. М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Збирка задатака са испи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вод вектора положаја материјалне тачке по времену представља вектор брзине материјалне тач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826920" y="3284640"/>
          <a:ext cx="5185080" cy="21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284640"/>
                    <a:ext cx="51850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ктор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 и вектор брзине имају правац тангенте на пута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908000" y="1557360"/>
                <a:ext cx="57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91" name="Object 11"/>
          <p:cNvGraphicFramePr/>
          <p:nvPr/>
        </p:nvGraphicFramePr>
        <p:xfrm>
          <a:off x="0" y="1268280"/>
          <a:ext cx="9144000" cy="51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1214280" y="1689120"/>
          <a:ext cx="514836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689120"/>
                    <a:ext cx="51483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716360" y="4994280"/>
          <a:ext cx="4251600" cy="13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4994280"/>
                    <a:ext cx="425160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9"/>
          <p:cNvGraphicFramePr/>
          <p:nvPr/>
        </p:nvGraphicFramePr>
        <p:xfrm>
          <a:off x="395280" y="5734080"/>
          <a:ext cx="388944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734080"/>
                    <a:ext cx="38894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22"/>
          <p:cNvGraphicFramePr/>
          <p:nvPr/>
        </p:nvGraphicFramePr>
        <p:xfrm>
          <a:off x="250920" y="1484280"/>
          <a:ext cx="5976720" cy="390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1484280"/>
                    <a:ext cx="59767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539640" y="2133720"/>
                <a:ext cx="5256360" cy="37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алгебарска вредност брзин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5" name="Object 7"/>
          <p:cNvGraphicFramePr/>
          <p:nvPr/>
        </p:nvGraphicFramePr>
        <p:xfrm>
          <a:off x="4788000" y="2349360"/>
          <a:ext cx="388764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349360"/>
                    <a:ext cx="388764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539640" y="1628640"/>
                <a:ext cx="7848720" cy="505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τ</m:t>
                                    </m:r>
                                  </m:e>
                                </m:acc>
                              </m:e>
                              <m:e/>
                            </m:d>
                          </m:e>
                        </m:eqAr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  <m:r>
                              <m:t xml:space="preserve">'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вектор  средње  кривине  на  делу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Δs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Δs</m:t>
                            </m:r>
                          </m:e>
                        </m:d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вектор  кривине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⊥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-полупречник кривине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9" name="Object 11"/>
          <p:cNvGraphicFramePr/>
          <p:nvPr/>
        </p:nvGraphicFramePr>
        <p:xfrm>
          <a:off x="5867280" y="4397400"/>
          <a:ext cx="259236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397400"/>
                    <a:ext cx="25923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826920" y="2104920"/>
          <a:ext cx="5472360" cy="35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04920"/>
                    <a:ext cx="54723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11280" y="1746360"/>
          <a:ext cx="8208720" cy="42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46360"/>
                    <a:ext cx="820872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1"/>
          <p:cNvGraphicFramePr/>
          <p:nvPr/>
        </p:nvGraphicFramePr>
        <p:xfrm>
          <a:off x="4356000" y="1125360"/>
          <a:ext cx="4032360" cy="410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125360"/>
                    <a:ext cx="40323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611280" y="1327320"/>
          <a:ext cx="745164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27320"/>
                    <a:ext cx="745164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9"/>
          <p:cNvGraphicFramePr/>
          <p:nvPr/>
        </p:nvGraphicFramePr>
        <p:xfrm>
          <a:off x="6715080" y="1413000"/>
          <a:ext cx="2033640" cy="14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5080" y="1413000"/>
                    <a:ext cx="203364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Object 11"/>
              <p:cNvSpPr txBox="1"/>
              <p:nvPr/>
            </p:nvSpPr>
            <p:spPr>
              <a:xfrm>
                <a:off x="7812000" y="1916280"/>
                <a:ext cx="60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кон пута: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=s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611280" y="2133720"/>
          <a:ext cx="4321080" cy="16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432108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2"/>
          <p:cNvGraphicFramePr/>
          <p:nvPr/>
        </p:nvGraphicFramePr>
        <p:xfrm>
          <a:off x="0" y="3716280"/>
          <a:ext cx="914400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16280"/>
                    <a:ext cx="914400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БАВЕЗ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СТУДЕН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3 до 4 домаћа (само се у јануару рачунају за испи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 колокв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8"/>
          <p:cNvGraphicFramePr/>
          <p:nvPr/>
        </p:nvGraphicFramePr>
        <p:xfrm>
          <a:off x="468360" y="1341360"/>
          <a:ext cx="3303720" cy="52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330372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13"/>
          <p:cNvGraphicFramePr/>
          <p:nvPr/>
        </p:nvGraphicFramePr>
        <p:xfrm>
          <a:off x="4788000" y="2519280"/>
          <a:ext cx="3311280" cy="238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519280"/>
                    <a:ext cx="331128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НАМИК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И АКСИОМИ МЕХАН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СИОМ (ЗАКОН ИНЕР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 тело остаје у стању мировања или једноликог праволинијског кретања, све док деловањем силе не буде принуђено да то стање про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 ЗА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мена количине кретања тела(материјалне тачке) пропорционална је сили која делује на тело (материјалну тачку) и врши се у правцу и смеру деловања силе. (Или, производ из масе материјалне тачке и њеног убрзања једнак је, по интензитету, правцу и смеру, сили која делује на материјалну тач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258920" y="5850000"/>
          <a:ext cx="230508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5850000"/>
                    <a:ext cx="2305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акције и реа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ајамни механички утицаји двају тела испољавају се силама које имају исти интензитет и правац, а делују у супротним смеро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о слагањ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на тело (материјалну ачку) делују истовремено две силе, тада се тело (материјална тачка) креће описујући дијагоналу паралелограма конструисаног над тим силама као вектор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smeni (teorijski) deo ispita iz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pismeni održan 24.01.2005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vesti izraze za brzinu i ubrzanje materijalne tač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prirodnim kooordinatama a zatim za tačku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koj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će konstantnom brzinom na svakom od del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I, II, II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rediti vrednost brzine tako da ubrzanje bude konstantno na svakom od ovih delov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К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НЕМАТИКА је део МЕХАНИКЕ који се бави проучавањем кретања материјалне тачке или тела не узимајући у обзир утицај сила на то крет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и делић тела представља материјалну та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like"/>
          <p:cNvPicPr/>
          <p:nvPr/>
        </p:nvPicPr>
        <p:blipFill>
          <a:blip r:embed="rId1"/>
          <a:stretch/>
        </p:blipFill>
        <p:spPr>
          <a:xfrm>
            <a:off x="755640" y="3213000"/>
            <a:ext cx="4537080" cy="318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9"/>
          <p:cNvGraphicFramePr/>
          <p:nvPr/>
        </p:nvGraphicFramePr>
        <p:xfrm>
          <a:off x="3059280" y="4221000"/>
          <a:ext cx="2736720" cy="151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4221000"/>
                    <a:ext cx="2736720" cy="15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утања тачке (трајекторија) је ходограф вектора положа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екторском облик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9"/>
          <p:cNvGraphicFramePr/>
          <p:nvPr/>
        </p:nvGraphicFramePr>
        <p:xfrm>
          <a:off x="4500720" y="1413000"/>
          <a:ext cx="381636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413000"/>
                    <a:ext cx="38163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" name="Object 12"/>
              <p:cNvSpPr txBox="1"/>
              <p:nvPr/>
            </p:nvSpPr>
            <p:spPr>
              <a:xfrm>
                <a:off x="826920" y="5589720"/>
                <a:ext cx="4619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 кретању тачке бар једна координата мора да се м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ординатном облику 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468360" y="3716280"/>
                <a:ext cx="867564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КООРДИНАТНИ ОБЛИК ЈЕДНАЧИНЕ КРЕТАЊ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д природног начина описивања кретања путања и лучна координата мерена по путањи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s=s(t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ређују положај тачке у било ком тренутку врем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8"/>
          <p:cNvGraphicFramePr/>
          <p:nvPr/>
        </p:nvGraphicFramePr>
        <p:xfrm>
          <a:off x="3851280" y="2781360"/>
          <a:ext cx="446400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781360"/>
                    <a:ext cx="446400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332000" y="2708280"/>
          <a:ext cx="633564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08280"/>
                    <a:ext cx="633564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7"/>
          <p:cNvGraphicFramePr/>
          <p:nvPr/>
        </p:nvGraphicFramePr>
        <p:xfrm>
          <a:off x="1258920" y="1557360"/>
          <a:ext cx="518472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557360"/>
                    <a:ext cx="51847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9"/>
          <p:cNvSpPr/>
          <p:nvPr/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6"/>
          <p:cNvGraphicFramePr/>
          <p:nvPr/>
        </p:nvGraphicFramePr>
        <p:xfrm>
          <a:off x="539640" y="1197000"/>
          <a:ext cx="43563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4356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" name="Object 19"/>
              <p:cNvSpPr txBox="1"/>
              <p:nvPr/>
            </p:nvSpPr>
            <p:spPr>
              <a:xfrm>
                <a:off x="5003640" y="2617920"/>
                <a:ext cx="30974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vektor  pomeranja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755640" y="1413000"/>
          <a:ext cx="498960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4989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8"/>
          <p:cNvGraphicFramePr/>
          <p:nvPr/>
        </p:nvGraphicFramePr>
        <p:xfrm>
          <a:off x="3708360" y="2205000"/>
          <a:ext cx="4105440" cy="449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205000"/>
                    <a:ext cx="410544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09-30T20:45:09Z</dcterms:modified>
  <cp:revision>69</cp:revision>
  <dc:subject/>
  <dc:title>ТЕХНИЧКА МЕХАНИКА 2</dc:title>
</cp:coreProperties>
</file>