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26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8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266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29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2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2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62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6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320.xml.rels" ContentType="application/vnd.openxmlformats-package.relationships+xml"/>
  <Override PartName="/ppt/notesSlides/_rels/notesSlide26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0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321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07.xml.rels" ContentType="application/vnd.openxmlformats-package.relationships+xml"/>
  <Override PartName="/ppt/notesSlides/_rels/notesSlide29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71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2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7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291.xml.rels" ContentType="application/vnd.openxmlformats-package.relationships+xml"/>
  <Override PartName="/ppt/notesSlides/_rels/notesSlide31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78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2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269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267.xml.rels" ContentType="application/vnd.openxmlformats-package.relationships+xml"/>
  <Override PartName="/ppt/notesSlides/_rels/notesSlide280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30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64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295.xml.rels" ContentType="application/vnd.openxmlformats-package.relationships+xml"/>
  <Override PartName="/ppt/notesSlides/_rels/notesSlide30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8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298.xml.rels" ContentType="application/vnd.openxmlformats-package.relationships+xml"/>
  <Override PartName="/ppt/notesSlides/_rels/notesSlide306.xml.rels" ContentType="application/vnd.openxmlformats-package.relationships+xml"/>
  <Override PartName="/ppt/notesSlides/_rels/notesSlide31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292.xml.rels" ContentType="application/vnd.openxmlformats-package.relationships+xml"/>
  <Override PartName="/ppt/notesSlides/_rels/notesSlide300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317.xml.rels" ContentType="application/vnd.openxmlformats-package.relationships+xml"/>
  <Override PartName="/ppt/notesSlides/_rels/notesSlide297.xml.rels" ContentType="application/vnd.openxmlformats-package.relationships+xml"/>
  <Override PartName="/ppt/notesSlides/_rels/notesSlide305.xml.rels" ContentType="application/vnd.openxmlformats-package.relationships+xml"/>
  <Override PartName="/ppt/notesSlides/_rels/notesSlide2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287.xml.rels" ContentType="application/vnd.openxmlformats-package.relationships+xml"/>
  <Override PartName="/ppt/notesSlides/_rels/notesSlide316.xml.rels" ContentType="application/vnd.openxmlformats-package.relationships+xml"/>
  <Override PartName="/ppt/notesSlides/_rels/notesSlide27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28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96.xml.rels" ContentType="application/vnd.openxmlformats-package.relationships+xml"/>
  <Override PartName="/ppt/notesSlides/_rels/notesSlide304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286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318.xml.rels" ContentType="application/vnd.openxmlformats-package.relationships+xml"/>
  <Override PartName="/ppt/notesSlides/_rels/notesSlide2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319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2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88.xml.rels" ContentType="application/vnd.openxmlformats-package.relationships+xml"/>
  <Override PartName="/ppt/notesSlides/_rels/notesSlide30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31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310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73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74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289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02.xml.rels" ContentType="application/vnd.openxmlformats-package.relationships+xml"/>
  <Override PartName="/ppt/notesSlides/_rels/notesSlide29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284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27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14.xml.rels" ContentType="application/vnd.openxmlformats-package.relationships+xml"/>
  <Override PartName="/ppt/notesSlides/_rels/notesSlide50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27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27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31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318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1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60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30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27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0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6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26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2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269.xml" ContentType="application/vnd.openxmlformats-officedocument.presentationml.notesSlide+xml"/>
  <Override PartName="/ppt/notesSlides/notesSlide290.xml" ContentType="application/vnd.openxmlformats-officedocument.presentationml.notesSlide+xml"/>
  <Override PartName="/ppt/notesSlides/notesSlide288.xml" ContentType="application/vnd.openxmlformats-officedocument.presentationml.notesSlide+xml"/>
  <Override PartName="/ppt/notesSlides/notesSlide291.xml" ContentType="application/vnd.openxmlformats-officedocument.presentationml.notesSlide+xml"/>
  <Override PartName="/ppt/notesSlides/notesSlide289.xml" ContentType="application/vnd.openxmlformats-officedocument.presentationml.notesSlide+xml"/>
  <Override PartName="/ppt/notesSlides/notesSlide292.xml" ContentType="application/vnd.openxmlformats-officedocument.presentationml.notesSlide+xml"/>
  <Override PartName="/ppt/notesSlides/notesSlide293.xml" ContentType="application/vnd.openxmlformats-officedocument.presentationml.notesSlide+xml"/>
  <Override PartName="/ppt/notesSlides/notesSlide297.xml" ContentType="application/vnd.openxmlformats-officedocument.presentationml.notesSlide+xml"/>
  <Override PartName="/ppt/notesSlides/notesSlide298.xml" ContentType="application/vnd.openxmlformats-officedocument.presentationml.notesSlide+xml"/>
  <Override PartName="/ppt/notesSlides/notesSlide299.xml" ContentType="application/vnd.openxmlformats-officedocument.presentationml.notesSlide+xml"/>
  <Override PartName="/ppt/notesSlides/notesSlide294.xml" ContentType="application/vnd.openxmlformats-officedocument.presentationml.notesSlide+xml"/>
  <Override PartName="/ppt/notesSlides/notesSlide320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274.xml" ContentType="application/vnd.openxmlformats-officedocument.presentationml.notesSlide+xml"/>
  <Override PartName="/ppt/notesSlides/notesSlide295.xml" ContentType="application/vnd.openxmlformats-officedocument.presentationml.notesSlide+xml"/>
  <Override PartName="/ppt/notesSlides/notesSlide321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275.xml" ContentType="application/vnd.openxmlformats-officedocument.presentationml.notesSlide+xml"/>
  <Override PartName="/ppt/notesSlides/notesSlide296.xml" ContentType="application/vnd.openxmlformats-officedocument.presentationml.notesSlide+xml"/>
  <Override PartName="/ppt/notesSlides/notesSlide322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276.xml" ContentType="application/vnd.openxmlformats-officedocument.presentationml.notesSlide+xml"/>
  <Override PartName="/ppt/notesSlides/notesSlide287.xml" ContentType="application/vnd.openxmlformats-officedocument.presentationml.notesSlide+xml"/>
  <Override PartName="/ppt/notesSlides/notesSlide286.xml" ContentType="application/vnd.openxmlformats-officedocument.presentationml.notesSlide+xml"/>
  <Override PartName="/ppt/notesSlides/notesSlide28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73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28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283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282.xml" ContentType="application/vnd.openxmlformats-officedocument.presentationml.notesSlide+xml"/>
  <Override PartName="/ppt/notesSlides/notesSlide281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279.xml" ContentType="application/vnd.openxmlformats-officedocument.presentationml.notesSlide+xml"/>
  <Override PartName="/ppt/notesSlides/notesSlide280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27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277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307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306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05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31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2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1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0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315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03.xml" ContentType="application/vnd.openxmlformats-officedocument.presentationml.notesSlide+xml"/>
  <Override PartName="/ppt/notesSlides/notesSlide30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30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7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316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2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7.png" ContentType="image/png"/>
  <Override PartName="/ppt/media/image12.wmf" ContentType="image/x-wmf"/>
  <Override PartName="/ppt/media/image7.wmf" ContentType="image/x-wmf"/>
  <Override PartName="/ppt/media/image21.wmf" ContentType="image/x-wmf"/>
  <Override PartName="/ppt/media/image19.wmf" ContentType="image/x-wmf"/>
  <Override PartName="/ppt/media/image10.gif" ContentType="image/gif"/>
  <Override PartName="/ppt/media/image13.wmf" ContentType="image/x-wmf"/>
  <Override PartName="/ppt/media/image30.png" ContentType="image/png"/>
  <Override PartName="/ppt/media/image9.gif" ContentType="image/gif"/>
  <Override PartName="/ppt/media/image5.wmf" ContentType="image/x-wmf"/>
  <Override PartName="/ppt/media/image8.gif" ContentType="image/gif"/>
  <Override PartName="/ppt/media/image4.wmf" ContentType="image/x-wmf"/>
  <Override PartName="/ppt/media/image3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336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154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6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22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102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22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4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177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332.xml.rels" ContentType="application/vnd.openxmlformats-package.relationships+xml"/>
  <Override PartName="/ppt/slides/_rels/slide33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8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327.xml.rels" ContentType="application/vnd.openxmlformats-package.relationships+xml"/>
  <Override PartName="/ppt/slides/_rels/slide256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326.xml.rels" ContentType="application/vnd.openxmlformats-package.relationships+xml"/>
  <Override PartName="/ppt/slides/_rels/slide160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4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60.xml" ContentType="application/vnd.openxmlformats-officedocument.presentationml.slide+xml"/>
  <Override PartName="/ppt/slides/slide261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36.xml" ContentType="application/vnd.openxmlformats-officedocument.presentationml.slide+xml"/>
  <Override PartName="/ppt/slides/slide170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285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299.xml" ContentType="application/vnd.openxmlformats-officedocument.presentationml.slide+xml"/>
  <Override PartName="/ppt/slides/slide68.xml" ContentType="application/vnd.openxmlformats-officedocument.presentationml.slide+xml"/>
  <Override PartName="/ppt/slides/slide320.xml" ContentType="application/vnd.openxmlformats-officedocument.presentationml.slide+xml"/>
  <Override PartName="/ppt/slides/slide69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3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89.xml" ContentType="application/vnd.openxmlformats-officedocument.presentationml.slide+xml"/>
  <Override PartName="/ppt/slides/slide342.xml" ContentType="application/vnd.openxmlformats-officedocument.presentationml.slide+xml"/>
  <Override PartName="/ppt/slides/slide330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4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340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84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28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281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280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93.xml" ContentType="application/vnd.openxmlformats-officedocument.presentationml.slide+xml"/>
  <Override PartName="/ppt/slides/slide292.xml" ContentType="application/vnd.openxmlformats-officedocument.presentationml.slide+xml"/>
  <Override PartName="/ppt/slides/slide283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9823-1873-438A-A6B1-0FF48CA842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60.xml.rels><?xml version="1.0" encoding="UTF-8"?>
<Relationships xmlns="http://schemas.openxmlformats.org/package/2006/relationships"><Relationship Id="rId1" Type="http://schemas.openxmlformats.org/officeDocument/2006/relationships/slide" Target="../slides/slide260.xml"/><Relationship Id="rId2" Type="http://schemas.openxmlformats.org/officeDocument/2006/relationships/notesMaster" Target="../notesMasters/notesMaster1.xml"/>
</Relationships>
</file>

<file path=ppt/notesSlides/_rels/notesSlide261.xml.rels><?xml version="1.0" encoding="UTF-8"?>
<Relationships xmlns="http://schemas.openxmlformats.org/package/2006/relationships"><Relationship Id="rId1" Type="http://schemas.openxmlformats.org/officeDocument/2006/relationships/slide" Target="../slides/slide261.xml"/><Relationship Id="rId2" Type="http://schemas.openxmlformats.org/officeDocument/2006/relationships/notesMaster" Target="../notesMasters/notesMaster1.xml"/>
</Relationships>
</file>

<file path=ppt/notesSlides/_rels/notesSlide262.xml.rels><?xml version="1.0" encoding="UTF-8"?>
<Relationships xmlns="http://schemas.openxmlformats.org/package/2006/relationships"><Relationship Id="rId1" Type="http://schemas.openxmlformats.org/officeDocument/2006/relationships/slide" Target="../slides/slide262.xml"/><Relationship Id="rId2" Type="http://schemas.openxmlformats.org/officeDocument/2006/relationships/notesMaster" Target="../notesMasters/notesMaster1.xml"/>
</Relationships>
</file>

<file path=ppt/notesSlides/_rels/notesSlide263.xml.rels><?xml version="1.0" encoding="UTF-8"?>
<Relationships xmlns="http://schemas.openxmlformats.org/package/2006/relationships"><Relationship Id="rId1" Type="http://schemas.openxmlformats.org/officeDocument/2006/relationships/slide" Target="../slides/slide263.xml"/><Relationship Id="rId2" Type="http://schemas.openxmlformats.org/officeDocument/2006/relationships/notesMaster" Target="../notesMasters/notesMaster1.xml"/>
</Relationships>
</file>

<file path=ppt/notesSlides/_rels/notesSlide264.xml.rels><?xml version="1.0" encoding="UTF-8"?>
<Relationships xmlns="http://schemas.openxmlformats.org/package/2006/relationships"><Relationship Id="rId1" Type="http://schemas.openxmlformats.org/officeDocument/2006/relationships/slide" Target="../slides/slide264.xml"/><Relationship Id="rId2" Type="http://schemas.openxmlformats.org/officeDocument/2006/relationships/notesMaster" Target="../notesMasters/notesMaster1.xml"/>
</Relationships>
</file>

<file path=ppt/notesSlides/_rels/notesSlide265.xml.rels><?xml version="1.0" encoding="UTF-8"?>
<Relationships xmlns="http://schemas.openxmlformats.org/package/2006/relationships"><Relationship Id="rId1" Type="http://schemas.openxmlformats.org/officeDocument/2006/relationships/slide" Target="../slides/slide265.xml"/><Relationship Id="rId2" Type="http://schemas.openxmlformats.org/officeDocument/2006/relationships/notesMaster" Target="../notesMasters/notesMaster1.xml"/>
</Relationships>
</file>

<file path=ppt/notesSlides/_rels/notesSlide266.xml.rels><?xml version="1.0" encoding="UTF-8"?>
<Relationships xmlns="http://schemas.openxmlformats.org/package/2006/relationships"><Relationship Id="rId1" Type="http://schemas.openxmlformats.org/officeDocument/2006/relationships/slide" Target="../slides/slide266.xml"/><Relationship Id="rId2" Type="http://schemas.openxmlformats.org/officeDocument/2006/relationships/notesMaster" Target="../notesMasters/notesMaster1.xml"/>
</Relationships>
</file>

<file path=ppt/notesSlides/_rels/notesSlide267.xml.rels><?xml version="1.0" encoding="UTF-8"?>
<Relationships xmlns="http://schemas.openxmlformats.org/package/2006/relationships"><Relationship Id="rId1" Type="http://schemas.openxmlformats.org/officeDocument/2006/relationships/slide" Target="../slides/slide267.xml"/><Relationship Id="rId2" Type="http://schemas.openxmlformats.org/officeDocument/2006/relationships/notesMaster" Target="../notesMasters/notesMaster1.xml"/>
</Relationships>
</file>

<file path=ppt/notesSlides/_rels/notesSlide268.xml.rels><?xml version="1.0" encoding="UTF-8"?>
<Relationships xmlns="http://schemas.openxmlformats.org/package/2006/relationships"><Relationship Id="rId1" Type="http://schemas.openxmlformats.org/officeDocument/2006/relationships/slide" Target="../slides/slide268.xml"/><Relationship Id="rId2" Type="http://schemas.openxmlformats.org/officeDocument/2006/relationships/notesMaster" Target="../notesMasters/notesMaster1.xml"/>
</Relationships>
</file>

<file path=ppt/notesSlides/_rels/notesSlide269.xml.rels><?xml version="1.0" encoding="UTF-8"?>
<Relationships xmlns="http://schemas.openxmlformats.org/package/2006/relationships"><Relationship Id="rId1" Type="http://schemas.openxmlformats.org/officeDocument/2006/relationships/slide" Target="../slides/slide26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70.xml.rels><?xml version="1.0" encoding="UTF-8"?>
<Relationships xmlns="http://schemas.openxmlformats.org/package/2006/relationships"><Relationship Id="rId1" Type="http://schemas.openxmlformats.org/officeDocument/2006/relationships/slide" Target="../slides/slide270.xml"/><Relationship Id="rId2" Type="http://schemas.openxmlformats.org/officeDocument/2006/relationships/notesMaster" Target="../notesMasters/notesMaster1.xml"/>
</Relationships>
</file>

<file path=ppt/notesSlides/_rels/notesSlide271.xml.rels><?xml version="1.0" encoding="UTF-8"?>
<Relationships xmlns="http://schemas.openxmlformats.org/package/2006/relationships"><Relationship Id="rId1" Type="http://schemas.openxmlformats.org/officeDocument/2006/relationships/slide" Target="../slides/slide271.xml"/><Relationship Id="rId2" Type="http://schemas.openxmlformats.org/officeDocument/2006/relationships/notesMaster" Target="../notesMasters/notesMaster1.xml"/>
</Relationships>
</file>

<file path=ppt/notesSlides/_rels/notesSlide272.xml.rels><?xml version="1.0" encoding="UTF-8"?>
<Relationships xmlns="http://schemas.openxmlformats.org/package/2006/relationships"><Relationship Id="rId1" Type="http://schemas.openxmlformats.org/officeDocument/2006/relationships/slide" Target="../slides/slide272.xml"/><Relationship Id="rId2" Type="http://schemas.openxmlformats.org/officeDocument/2006/relationships/notesMaster" Target="../notesMasters/notesMaster1.xml"/>
</Relationships>
</file>

<file path=ppt/notesSlides/_rels/notesSlide273.xml.rels><?xml version="1.0" encoding="UTF-8"?>
<Relationships xmlns="http://schemas.openxmlformats.org/package/2006/relationships"><Relationship Id="rId1" Type="http://schemas.openxmlformats.org/officeDocument/2006/relationships/slide" Target="../slides/slide273.xml"/><Relationship Id="rId2" Type="http://schemas.openxmlformats.org/officeDocument/2006/relationships/notesMaster" Target="../notesMasters/notesMaster1.xml"/>
</Relationships>
</file>

<file path=ppt/notesSlides/_rels/notesSlide274.xml.rels><?xml version="1.0" encoding="UTF-8"?>
<Relationships xmlns="http://schemas.openxmlformats.org/package/2006/relationships"><Relationship Id="rId1" Type="http://schemas.openxmlformats.org/officeDocument/2006/relationships/slide" Target="../slides/slide274.xml"/><Relationship Id="rId2" Type="http://schemas.openxmlformats.org/officeDocument/2006/relationships/notesMaster" Target="../notesMasters/notesMaster1.xml"/>
</Relationships>
</file>

<file path=ppt/notesSlides/_rels/notesSlide275.xml.rels><?xml version="1.0" encoding="UTF-8"?>
<Relationships xmlns="http://schemas.openxmlformats.org/package/2006/relationships"><Relationship Id="rId1" Type="http://schemas.openxmlformats.org/officeDocument/2006/relationships/slide" Target="../slides/slide275.xml"/><Relationship Id="rId2" Type="http://schemas.openxmlformats.org/officeDocument/2006/relationships/notesMaster" Target="../notesMasters/notesMaster1.xml"/>
</Relationships>
</file>

<file path=ppt/notesSlides/_rels/notesSlide276.xml.rels><?xml version="1.0" encoding="UTF-8"?>
<Relationships xmlns="http://schemas.openxmlformats.org/package/2006/relationships"><Relationship Id="rId1" Type="http://schemas.openxmlformats.org/officeDocument/2006/relationships/slide" Target="../slides/slide276.xml"/><Relationship Id="rId2" Type="http://schemas.openxmlformats.org/officeDocument/2006/relationships/notesMaster" Target="../notesMasters/notesMaster1.xml"/>
</Relationships>
</file>

<file path=ppt/notesSlides/_rels/notesSlide277.xml.rels><?xml version="1.0" encoding="UTF-8"?>
<Relationships xmlns="http://schemas.openxmlformats.org/package/2006/relationships"><Relationship Id="rId1" Type="http://schemas.openxmlformats.org/officeDocument/2006/relationships/slide" Target="../slides/slide277.xml"/><Relationship Id="rId2" Type="http://schemas.openxmlformats.org/officeDocument/2006/relationships/notesMaster" Target="../notesMasters/notesMaster1.xml"/>
</Relationships>
</file>

<file path=ppt/notesSlides/_rels/notesSlide278.xml.rels><?xml version="1.0" encoding="UTF-8"?>
<Relationships xmlns="http://schemas.openxmlformats.org/package/2006/relationships"><Relationship Id="rId1" Type="http://schemas.openxmlformats.org/officeDocument/2006/relationships/slide" Target="../slides/slide278.xml"/><Relationship Id="rId2" Type="http://schemas.openxmlformats.org/officeDocument/2006/relationships/notesMaster" Target="../notesMasters/notesMaster1.xml"/>
</Relationships>
</file>

<file path=ppt/notesSlides/_rels/notesSlide279.xml.rels><?xml version="1.0" encoding="UTF-8"?>
<Relationships xmlns="http://schemas.openxmlformats.org/package/2006/relationships"><Relationship Id="rId1" Type="http://schemas.openxmlformats.org/officeDocument/2006/relationships/slide" Target="../slides/slide279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80.xml.rels><?xml version="1.0" encoding="UTF-8"?>
<Relationships xmlns="http://schemas.openxmlformats.org/package/2006/relationships"><Relationship Id="rId1" Type="http://schemas.openxmlformats.org/officeDocument/2006/relationships/slide" Target="../slides/slide280.xml"/><Relationship Id="rId2" Type="http://schemas.openxmlformats.org/officeDocument/2006/relationships/notesMaster" Target="../notesMasters/notesMaster1.xml"/>
</Relationships>
</file>

<file path=ppt/notesSlides/_rels/notesSlide281.xml.rels><?xml version="1.0" encoding="UTF-8"?>
<Relationships xmlns="http://schemas.openxmlformats.org/package/2006/relationships"><Relationship Id="rId1" Type="http://schemas.openxmlformats.org/officeDocument/2006/relationships/slide" Target="../slides/slide281.xml"/><Relationship Id="rId2" Type="http://schemas.openxmlformats.org/officeDocument/2006/relationships/notesMaster" Target="../notesMasters/notesMaster1.xml"/>
</Relationships>
</file>

<file path=ppt/notesSlides/_rels/notesSlide282.xml.rels><?xml version="1.0" encoding="UTF-8"?>
<Relationships xmlns="http://schemas.openxmlformats.org/package/2006/relationships"><Relationship Id="rId1" Type="http://schemas.openxmlformats.org/officeDocument/2006/relationships/slide" Target="../slides/slide282.xml"/><Relationship Id="rId2" Type="http://schemas.openxmlformats.org/officeDocument/2006/relationships/notesMaster" Target="../notesMasters/notesMaster1.xml"/>
</Relationships>
</file>

<file path=ppt/notesSlides/_rels/notesSlide283.xml.rels><?xml version="1.0" encoding="UTF-8"?>
<Relationships xmlns="http://schemas.openxmlformats.org/package/2006/relationships"><Relationship Id="rId1" Type="http://schemas.openxmlformats.org/officeDocument/2006/relationships/slide" Target="../slides/slide283.xml"/><Relationship Id="rId2" Type="http://schemas.openxmlformats.org/officeDocument/2006/relationships/notesMaster" Target="../notesMasters/notesMaster1.xml"/>
</Relationships>
</file>

<file path=ppt/notesSlides/_rels/notesSlide284.xml.rels><?xml version="1.0" encoding="UTF-8"?>
<Relationships xmlns="http://schemas.openxmlformats.org/package/2006/relationships"><Relationship Id="rId1" Type="http://schemas.openxmlformats.org/officeDocument/2006/relationships/slide" Target="../slides/slide284.xml"/><Relationship Id="rId2" Type="http://schemas.openxmlformats.org/officeDocument/2006/relationships/notesMaster" Target="../notesMasters/notesMaster1.xml"/>
</Relationships>
</file>

<file path=ppt/notesSlides/_rels/notesSlide285.xml.rels><?xml version="1.0" encoding="UTF-8"?>
<Relationships xmlns="http://schemas.openxmlformats.org/package/2006/relationships"><Relationship Id="rId1" Type="http://schemas.openxmlformats.org/officeDocument/2006/relationships/slide" Target="../slides/slide285.xml"/><Relationship Id="rId2" Type="http://schemas.openxmlformats.org/officeDocument/2006/relationships/notesMaster" Target="../notesMasters/notesMaster1.xml"/>
</Relationships>
</file>

<file path=ppt/notesSlides/_rels/notesSlide286.xml.rels><?xml version="1.0" encoding="UTF-8"?>
<Relationships xmlns="http://schemas.openxmlformats.org/package/2006/relationships"><Relationship Id="rId1" Type="http://schemas.openxmlformats.org/officeDocument/2006/relationships/slide" Target="../slides/slide286.xml"/><Relationship Id="rId2" Type="http://schemas.openxmlformats.org/officeDocument/2006/relationships/notesMaster" Target="../notesMasters/notesMaster1.xml"/>
</Relationships>
</file>

<file path=ppt/notesSlides/_rels/notesSlide287.xml.rels><?xml version="1.0" encoding="UTF-8"?>
<Relationships xmlns="http://schemas.openxmlformats.org/package/2006/relationships"><Relationship Id="rId1" Type="http://schemas.openxmlformats.org/officeDocument/2006/relationships/slide" Target="../slides/slide287.xml"/><Relationship Id="rId2" Type="http://schemas.openxmlformats.org/officeDocument/2006/relationships/notesMaster" Target="../notesMasters/notesMaster1.xml"/>
</Relationships>
</file>

<file path=ppt/notesSlides/_rels/notesSlide288.xml.rels><?xml version="1.0" encoding="UTF-8"?>
<Relationships xmlns="http://schemas.openxmlformats.org/package/2006/relationships"><Relationship Id="rId1" Type="http://schemas.openxmlformats.org/officeDocument/2006/relationships/slide" Target="../slides/slide288.xml"/><Relationship Id="rId2" Type="http://schemas.openxmlformats.org/officeDocument/2006/relationships/notesMaster" Target="../notesMasters/notesMaster1.xml"/>
</Relationships>
</file>

<file path=ppt/notesSlides/_rels/notesSlide289.xml.rels><?xml version="1.0" encoding="UTF-8"?>
<Relationships xmlns="http://schemas.openxmlformats.org/package/2006/relationships"><Relationship Id="rId1" Type="http://schemas.openxmlformats.org/officeDocument/2006/relationships/slide" Target="../slides/slide28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290.xml.rels><?xml version="1.0" encoding="UTF-8"?>
<Relationships xmlns="http://schemas.openxmlformats.org/package/2006/relationships"><Relationship Id="rId1" Type="http://schemas.openxmlformats.org/officeDocument/2006/relationships/slide" Target="../slides/slide290.xml"/><Relationship Id="rId2" Type="http://schemas.openxmlformats.org/officeDocument/2006/relationships/notesMaster" Target="../notesMasters/notesMaster1.xml"/>
</Relationships>
</file>

<file path=ppt/notesSlides/_rels/notesSlide291.xml.rels><?xml version="1.0" encoding="UTF-8"?>
<Relationships xmlns="http://schemas.openxmlformats.org/package/2006/relationships"><Relationship Id="rId1" Type="http://schemas.openxmlformats.org/officeDocument/2006/relationships/slide" Target="../slides/slide291.xml"/><Relationship Id="rId2" Type="http://schemas.openxmlformats.org/officeDocument/2006/relationships/notesMaster" Target="../notesMasters/notesMaster1.xml"/>
</Relationships>
</file>

<file path=ppt/notesSlides/_rels/notesSlide292.xml.rels><?xml version="1.0" encoding="UTF-8"?>
<Relationships xmlns="http://schemas.openxmlformats.org/package/2006/relationships"><Relationship Id="rId1" Type="http://schemas.openxmlformats.org/officeDocument/2006/relationships/slide" Target="../slides/slide292.xml"/><Relationship Id="rId2" Type="http://schemas.openxmlformats.org/officeDocument/2006/relationships/notesMaster" Target="../notesMasters/notesMaster1.xml"/>
</Relationships>
</file>

<file path=ppt/notesSlides/_rels/notesSlide293.xml.rels><?xml version="1.0" encoding="UTF-8"?>
<Relationships xmlns="http://schemas.openxmlformats.org/package/2006/relationships"><Relationship Id="rId1" Type="http://schemas.openxmlformats.org/officeDocument/2006/relationships/slide" Target="../slides/slide293.xml"/><Relationship Id="rId2" Type="http://schemas.openxmlformats.org/officeDocument/2006/relationships/notesMaster" Target="../notesMasters/notesMaster1.xml"/>
</Relationships>
</file>

<file path=ppt/notesSlides/_rels/notesSlide294.xml.rels><?xml version="1.0" encoding="UTF-8"?>
<Relationships xmlns="http://schemas.openxmlformats.org/package/2006/relationships"><Relationship Id="rId1" Type="http://schemas.openxmlformats.org/officeDocument/2006/relationships/slide" Target="../slides/slide294.xml"/><Relationship Id="rId2" Type="http://schemas.openxmlformats.org/officeDocument/2006/relationships/notesMaster" Target="../notesMasters/notesMaster1.xml"/>
</Relationships>
</file>

<file path=ppt/notesSlides/_rels/notesSlide295.xml.rels><?xml version="1.0" encoding="UTF-8"?>
<Relationships xmlns="http://schemas.openxmlformats.org/package/2006/relationships"><Relationship Id="rId1" Type="http://schemas.openxmlformats.org/officeDocument/2006/relationships/slide" Target="../slides/slide295.xml"/><Relationship Id="rId2" Type="http://schemas.openxmlformats.org/officeDocument/2006/relationships/notesMaster" Target="../notesMasters/notesMaster1.xml"/>
</Relationships>
</file>

<file path=ppt/notesSlides/_rels/notesSlide296.xml.rels><?xml version="1.0" encoding="UTF-8"?>
<Relationships xmlns="http://schemas.openxmlformats.org/package/2006/relationships"><Relationship Id="rId1" Type="http://schemas.openxmlformats.org/officeDocument/2006/relationships/slide" Target="../slides/slide296.xml"/><Relationship Id="rId2" Type="http://schemas.openxmlformats.org/officeDocument/2006/relationships/notesMaster" Target="../notesMasters/notesMaster1.xml"/>
</Relationships>
</file>

<file path=ppt/notesSlides/_rels/notesSlide297.xml.rels><?xml version="1.0" encoding="UTF-8"?>
<Relationships xmlns="http://schemas.openxmlformats.org/package/2006/relationships"><Relationship Id="rId1" Type="http://schemas.openxmlformats.org/officeDocument/2006/relationships/slide" Target="../slides/slide297.xml"/><Relationship Id="rId2" Type="http://schemas.openxmlformats.org/officeDocument/2006/relationships/notesMaster" Target="../notesMasters/notesMaster1.xml"/>
</Relationships>
</file>

<file path=ppt/notesSlides/_rels/notesSlide298.xml.rels><?xml version="1.0" encoding="UTF-8"?>
<Relationships xmlns="http://schemas.openxmlformats.org/package/2006/relationships"><Relationship Id="rId1" Type="http://schemas.openxmlformats.org/officeDocument/2006/relationships/slide" Target="../slides/slide298.xml"/><Relationship Id="rId2" Type="http://schemas.openxmlformats.org/officeDocument/2006/relationships/notesMaster" Target="../notesMasters/notesMaster1.xml"/>
</Relationships>
</file>

<file path=ppt/notesSlides/_rels/notesSlide299.xml.rels><?xml version="1.0" encoding="UTF-8"?>
<Relationships xmlns="http://schemas.openxmlformats.org/package/2006/relationships"><Relationship Id="rId1" Type="http://schemas.openxmlformats.org/officeDocument/2006/relationships/slide" Target="../slides/slide29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00.xml.rels><?xml version="1.0" encoding="UTF-8"?>
<Relationships xmlns="http://schemas.openxmlformats.org/package/2006/relationships"><Relationship Id="rId1" Type="http://schemas.openxmlformats.org/officeDocument/2006/relationships/slide" Target="../slides/slide300.xml"/><Relationship Id="rId2" Type="http://schemas.openxmlformats.org/officeDocument/2006/relationships/notesMaster" Target="../notesMasters/notesMaster1.xml"/>
</Relationships>
</file>

<file path=ppt/notesSlides/_rels/notesSlide301.xml.rels><?xml version="1.0" encoding="UTF-8"?>
<Relationships xmlns="http://schemas.openxmlformats.org/package/2006/relationships"><Relationship Id="rId1" Type="http://schemas.openxmlformats.org/officeDocument/2006/relationships/slide" Target="../slides/slide301.xml"/><Relationship Id="rId2" Type="http://schemas.openxmlformats.org/officeDocument/2006/relationships/notesMaster" Target="../notesMasters/notesMaster1.xml"/>
</Relationships>
</file>

<file path=ppt/notesSlides/_rels/notesSlide302.xml.rels><?xml version="1.0" encoding="UTF-8"?>
<Relationships xmlns="http://schemas.openxmlformats.org/package/2006/relationships"><Relationship Id="rId1" Type="http://schemas.openxmlformats.org/officeDocument/2006/relationships/slide" Target="../slides/slide302.xml"/><Relationship Id="rId2" Type="http://schemas.openxmlformats.org/officeDocument/2006/relationships/notesMaster" Target="../notesMasters/notesMaster1.xml"/>
</Relationships>
</file>

<file path=ppt/notesSlides/_rels/notesSlide303.xml.rels><?xml version="1.0" encoding="UTF-8"?>
<Relationships xmlns="http://schemas.openxmlformats.org/package/2006/relationships"><Relationship Id="rId1" Type="http://schemas.openxmlformats.org/officeDocument/2006/relationships/slide" Target="../slides/slide303.xml"/><Relationship Id="rId2" Type="http://schemas.openxmlformats.org/officeDocument/2006/relationships/notesMaster" Target="../notesMasters/notesMaster1.xml"/>
</Relationships>
</file>

<file path=ppt/notesSlides/_rels/notesSlide304.xml.rels><?xml version="1.0" encoding="UTF-8"?>
<Relationships xmlns="http://schemas.openxmlformats.org/package/2006/relationships"><Relationship Id="rId1" Type="http://schemas.openxmlformats.org/officeDocument/2006/relationships/slide" Target="../slides/slide304.xml"/><Relationship Id="rId2" Type="http://schemas.openxmlformats.org/officeDocument/2006/relationships/notesMaster" Target="../notesMasters/notesMaster1.xml"/>
</Relationships>
</file>

<file path=ppt/notesSlides/_rels/notesSlide305.xml.rels><?xml version="1.0" encoding="UTF-8"?>
<Relationships xmlns="http://schemas.openxmlformats.org/package/2006/relationships"><Relationship Id="rId1" Type="http://schemas.openxmlformats.org/officeDocument/2006/relationships/slide" Target="../slides/slide305.xml"/><Relationship Id="rId2" Type="http://schemas.openxmlformats.org/officeDocument/2006/relationships/notesMaster" Target="../notesMasters/notesMaster1.xml"/>
</Relationships>
</file>

<file path=ppt/notesSlides/_rels/notesSlide306.xml.rels><?xml version="1.0" encoding="UTF-8"?>
<Relationships xmlns="http://schemas.openxmlformats.org/package/2006/relationships"><Relationship Id="rId1" Type="http://schemas.openxmlformats.org/officeDocument/2006/relationships/slide" Target="../slides/slide306.xml"/><Relationship Id="rId2" Type="http://schemas.openxmlformats.org/officeDocument/2006/relationships/notesMaster" Target="../notesMasters/notesMaster1.xml"/>
</Relationships>
</file>

<file path=ppt/notesSlides/_rels/notesSlide307.xml.rels><?xml version="1.0" encoding="UTF-8"?>
<Relationships xmlns="http://schemas.openxmlformats.org/package/2006/relationships"><Relationship Id="rId1" Type="http://schemas.openxmlformats.org/officeDocument/2006/relationships/slide" Target="../slides/slide307.xml"/><Relationship Id="rId2" Type="http://schemas.openxmlformats.org/officeDocument/2006/relationships/notesMaster" Target="../notesMasters/notesMaster1.xml"/>
</Relationships>
</file>

<file path=ppt/notesSlides/_rels/notesSlide308.xml.rels><?xml version="1.0" encoding="UTF-8"?>
<Relationships xmlns="http://schemas.openxmlformats.org/package/2006/relationships"><Relationship Id="rId1" Type="http://schemas.openxmlformats.org/officeDocument/2006/relationships/slide" Target="../slides/slide308.xml"/><Relationship Id="rId2" Type="http://schemas.openxmlformats.org/officeDocument/2006/relationships/notesMaster" Target="../notesMasters/notesMaster1.xml"/>
</Relationships>
</file>

<file path=ppt/notesSlides/_rels/notesSlide309.xml.rels><?xml version="1.0" encoding="UTF-8"?>
<Relationships xmlns="http://schemas.openxmlformats.org/package/2006/relationships"><Relationship Id="rId1" Type="http://schemas.openxmlformats.org/officeDocument/2006/relationships/slide" Target="../slides/slide30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10.xml.rels><?xml version="1.0" encoding="UTF-8"?>
<Relationships xmlns="http://schemas.openxmlformats.org/package/2006/relationships"><Relationship Id="rId1" Type="http://schemas.openxmlformats.org/officeDocument/2006/relationships/slide" Target="../slides/slide310.xml"/><Relationship Id="rId2" Type="http://schemas.openxmlformats.org/officeDocument/2006/relationships/notesMaster" Target="../notesMasters/notesMaster1.xml"/>
</Relationships>
</file>

<file path=ppt/notesSlides/_rels/notesSlide311.xml.rels><?xml version="1.0" encoding="UTF-8"?>
<Relationships xmlns="http://schemas.openxmlformats.org/package/2006/relationships"><Relationship Id="rId1" Type="http://schemas.openxmlformats.org/officeDocument/2006/relationships/slide" Target="../slides/slide311.xml"/><Relationship Id="rId2" Type="http://schemas.openxmlformats.org/officeDocument/2006/relationships/notesMaster" Target="../notesMasters/notesMaster1.xml"/>
</Relationships>
</file>

<file path=ppt/notesSlides/_rels/notesSlide312.xml.rels><?xml version="1.0" encoding="UTF-8"?>
<Relationships xmlns="http://schemas.openxmlformats.org/package/2006/relationships"><Relationship Id="rId1" Type="http://schemas.openxmlformats.org/officeDocument/2006/relationships/slide" Target="../slides/slide312.xml"/><Relationship Id="rId2" Type="http://schemas.openxmlformats.org/officeDocument/2006/relationships/notesMaster" Target="../notesMasters/notesMaster1.xml"/>
</Relationships>
</file>

<file path=ppt/notesSlides/_rels/notesSlide313.xml.rels><?xml version="1.0" encoding="UTF-8"?>
<Relationships xmlns="http://schemas.openxmlformats.org/package/2006/relationships"><Relationship Id="rId1" Type="http://schemas.openxmlformats.org/officeDocument/2006/relationships/slide" Target="../slides/slide313.xml"/><Relationship Id="rId2" Type="http://schemas.openxmlformats.org/officeDocument/2006/relationships/notesMaster" Target="../notesMasters/notesMaster1.xml"/>
</Relationships>
</file>

<file path=ppt/notesSlides/_rels/notesSlide314.xml.rels><?xml version="1.0" encoding="UTF-8"?>
<Relationships xmlns="http://schemas.openxmlformats.org/package/2006/relationships"><Relationship Id="rId1" Type="http://schemas.openxmlformats.org/officeDocument/2006/relationships/slide" Target="../slides/slide314.xml"/><Relationship Id="rId2" Type="http://schemas.openxmlformats.org/officeDocument/2006/relationships/notesMaster" Target="../notesMasters/notesMaster1.xml"/>
</Relationships>
</file>

<file path=ppt/notesSlides/_rels/notesSlide315.xml.rels><?xml version="1.0" encoding="UTF-8"?>
<Relationships xmlns="http://schemas.openxmlformats.org/package/2006/relationships"><Relationship Id="rId1" Type="http://schemas.openxmlformats.org/officeDocument/2006/relationships/slide" Target="../slides/slide315.xml"/><Relationship Id="rId2" Type="http://schemas.openxmlformats.org/officeDocument/2006/relationships/notesMaster" Target="../notesMasters/notesMaster1.xml"/>
</Relationships>
</file>

<file path=ppt/notesSlides/_rels/notesSlide316.xml.rels><?xml version="1.0" encoding="UTF-8"?>
<Relationships xmlns="http://schemas.openxmlformats.org/package/2006/relationships"><Relationship Id="rId1" Type="http://schemas.openxmlformats.org/officeDocument/2006/relationships/slide" Target="../slides/slide316.xml"/><Relationship Id="rId2" Type="http://schemas.openxmlformats.org/officeDocument/2006/relationships/notesMaster" Target="../notesMasters/notesMaster1.xml"/>
</Relationships>
</file>

<file path=ppt/notesSlides/_rels/notesSlide317.xml.rels><?xml version="1.0" encoding="UTF-8"?>
<Relationships xmlns="http://schemas.openxmlformats.org/package/2006/relationships"><Relationship Id="rId1" Type="http://schemas.openxmlformats.org/officeDocument/2006/relationships/slide" Target="../slides/slide317.xml"/><Relationship Id="rId2" Type="http://schemas.openxmlformats.org/officeDocument/2006/relationships/notesMaster" Target="../notesMasters/notesMaster1.xml"/>
</Relationships>
</file>

<file path=ppt/notesSlides/_rels/notesSlide318.xml.rels><?xml version="1.0" encoding="UTF-8"?>
<Relationships xmlns="http://schemas.openxmlformats.org/package/2006/relationships"><Relationship Id="rId1" Type="http://schemas.openxmlformats.org/officeDocument/2006/relationships/slide" Target="../slides/slide318.xml"/><Relationship Id="rId2" Type="http://schemas.openxmlformats.org/officeDocument/2006/relationships/notesMaster" Target="../notesMasters/notesMaster1.xml"/>
</Relationships>
</file>

<file path=ppt/notesSlides/_rels/notesSlide319.xml.rels><?xml version="1.0" encoding="UTF-8"?>
<Relationships xmlns="http://schemas.openxmlformats.org/package/2006/relationships"><Relationship Id="rId1" Type="http://schemas.openxmlformats.org/officeDocument/2006/relationships/slide" Target="../slides/slide3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20.xml.rels><?xml version="1.0" encoding="UTF-8"?>
<Relationships xmlns="http://schemas.openxmlformats.org/package/2006/relationships"><Relationship Id="rId1" Type="http://schemas.openxmlformats.org/officeDocument/2006/relationships/slide" Target="../slides/slide320.xml"/><Relationship Id="rId2" Type="http://schemas.openxmlformats.org/officeDocument/2006/relationships/notesMaster" Target="../notesMasters/notesMaster1.xml"/>
</Relationships>
</file>

<file path=ppt/notesSlides/_rels/notesSlide321.xml.rels><?xml version="1.0" encoding="UTF-8"?>
<Relationships xmlns="http://schemas.openxmlformats.org/package/2006/relationships"><Relationship Id="rId1" Type="http://schemas.openxmlformats.org/officeDocument/2006/relationships/slide" Target="../slides/slide321.xml"/><Relationship Id="rId2" Type="http://schemas.openxmlformats.org/officeDocument/2006/relationships/notesMaster" Target="../notesMasters/notesMaster1.xml"/>
</Relationships>
</file>

<file path=ppt/notesSlides/_rels/notesSlide322.xml.rels><?xml version="1.0" encoding="UTF-8"?>
<Relationships xmlns="http://schemas.openxmlformats.org/package/2006/relationships"><Relationship Id="rId1" Type="http://schemas.openxmlformats.org/officeDocument/2006/relationships/slide" Target="../slides/slide3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7928-6218-44B1-91C3-31DBD9F6CF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AFE2-585A-43D2-AF41-C4A025500D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B67E-BA3D-453B-B66B-C5F3C5E0CC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737E-8E59-4A7D-8A10-996C3C9770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AE1B-D9B3-4090-B6C2-3285B87F8A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DAC4-C560-4EB7-A8E8-C2B09203C8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6C95-F73F-4148-8871-4FAE428FF4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C36B-07DF-4DEB-BAE9-5137408083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62B5-E4B2-4E61-A082-C209056FAB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A957-313B-456F-BC3D-3839BCC216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38BD-3B11-447A-8DEF-AD9A679CA9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FA71-F293-4B21-ABF6-9094245FF4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70C6-B9DF-428A-B74B-F7745F4585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9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8EEA-EFB6-44F1-A6C3-516E0F27EA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AC78-35FA-44DC-B675-9CA9D2F8C9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23AD-8719-4CCE-8669-0E9AF38840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B509-D8D0-4AAF-AFAD-2CACF72609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2079-212A-4F8D-ADC9-CC8A934F19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49F0-B39E-4665-AACD-B17A95E225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9D25-3738-41A9-B8E9-79E2EAF9D4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379D-CABD-4862-8E2D-263C427420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E9FC-9EF5-4D8E-94D8-3117BFA721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7A8F-4471-4828-B598-1B8B3E945E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5620-A8B4-4FB4-97D1-985545D399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D60B-C588-4EEE-BF4B-0B7CCD6814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4E3A-7D55-4868-A50C-CD9F06F300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9E69-55F0-4E7B-A662-3202BD3038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459E-9378-4396-AD29-E2DE9D597B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E88A-90A4-43A8-9E66-B17B8565E1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BFBC-D880-4841-A88F-E822557D5D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B735-999A-40F1-A839-0915BC90C3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DF73-F474-4670-8FCC-D6F8CA3061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F25C-DDEE-467B-AF16-915B1C4299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63B9-0EA2-420A-AAF4-480DCDBF21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B16B-E209-4467-A8FE-1C98C039D7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6E22-F0DC-49DA-95FC-77951DDCFC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AFE0-7BF5-4588-83D9-45267834A4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EB4E-4A52-475A-BCAE-51F29B41B4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4843-2F24-4FB6-B531-728FB599A9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564C-56C3-4BF6-8075-650C7A8194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36D9-65B6-4533-97A4-78C8EC102B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772D-5020-4459-8390-7822F4A644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902C-C8AD-4381-85D8-7B959D957C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79CE-8AB6-4A0B-80C6-3F4F8EACB9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9808-B7F6-4338-9A31-2967DCB865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43FF-587D-4628-AC80-F548174817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D1FC-9F2D-467C-97B0-90C0E9125C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D3FD-C485-45E4-986D-0C9FD1004F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8D10-F51F-4272-9FB4-48BFA58A2A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5ECC-C62A-42EB-A24C-8199D19FF5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7E0E-6459-43AA-A66E-7C4122FC58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F63E-1667-4C64-837E-FA0B66B019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4DD0-2F53-4C02-92A2-999247438E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5C1C-4ACE-40BF-A81A-B73F5006B7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C2D8-5EE7-4747-AEAE-F07959FEA8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E957-325E-4792-B86D-5C06EB4479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FB15-3FA1-4A9B-AFC0-AF89FC2DEB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2136-6A88-4C79-A9EC-9279E97B4E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E967-EA49-4BDA-8FE4-95428295F7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2361-C3CD-47CF-A113-1BC68106B7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558C-0DA8-419C-A297-436E263E94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FEDE-7343-470D-BBD7-940D8DC991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7CAA-E98B-41B6-9281-ECD74E8CD8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23D4-3EEB-4D1D-9431-F257D16481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BEFA-34D9-4165-B2BE-D46CA85F46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1109-D8E5-4A5A-A6CB-CFF9C995EB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A650-7EEF-4192-AC92-4387649F96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75A1-0ACE-4710-A96B-1DB78BDAC2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550B-5143-4B9F-8A51-A4EEC2D0AC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9DA3-3B1D-49BF-8944-5F729B5CA7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F3FE-DC39-4640-B919-3683F9494F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5B0F-89CA-4A1A-885F-F0C82DA98C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FD27-8E34-42CD-95EA-D78517F7A2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117A-E48E-4661-A8EE-AF154275B0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E2B5-854B-44F2-B3CA-B4BAB84C8E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579C-C242-4CA1-A56E-564DCC0AFD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D9A9-8379-492C-959B-FE5D095107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4AA0-E580-4C5F-914B-9972E06D5D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4BC3-3238-4360-851A-D7B1A426D5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B99D-813A-4538-A648-8630AF3BCB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DD5E-0820-4C6F-9777-6D8C58F7C2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0064-63CC-4F42-9C83-BFAB0ABF9E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4548-147C-45AB-BF12-342FDBF94E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32F1-9A30-4604-99DD-F5F9E596F5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AC64-E26C-4CE5-9FA0-235EE04CD0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C71D-3691-47B6-B84F-681760C246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66D9-0E5E-4FF8-8564-127CCDD9FF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9540-91E0-46B9-813C-D0DA5304B0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5B47-38FF-4969-9278-A60AB8564E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CE56-0BA0-4D0E-A4C4-9FCEECC6F3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7434-779E-4D09-8D6E-2458B58E3D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3A4A-5507-40F7-8D63-5FC4F17754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B4EB-BBB7-44BB-8FD0-0F3539145E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46AC-8C43-47C8-B264-9CDC2A5619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5EE5-1189-4FC6-B01C-27C86481AE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8180-3664-4EDC-9389-A83D6EDC6D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15EA-77CE-4C5C-8335-B4E15FF554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5320-6593-4D61-8D21-E69C3C1CBA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043B-B091-4DCB-8614-E6E6B44E15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072F-7CD6-41F8-9E5D-CF2A8CB188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3096-7F3B-4E86-8B41-3AE8F84BC8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C201-790D-4C14-88A3-721A7EF4AA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EE42-8B64-4F20-8DB7-66A868A471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88AA-F54C-4FDF-9B97-B59BB568DF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BDAC-09B9-4F6F-944A-EC1AB88245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A94C-521D-4ED4-8F39-84B3B0D7E4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FA4D-6833-4EBC-BA6E-D146501269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AF86-2823-49AE-BA40-BC16FE7133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5E91-4E81-4982-8A10-98460EAA0B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6440-5491-4297-BFD7-D1AC2ACE02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F67E-FA8B-4B1D-B887-BE2B92CCA6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36C2-714C-4BA2-9084-06FE5D582D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EB1B-3843-4879-B293-27B037F369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352F-C8A0-45BB-9CDE-E0833CCA9F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0DF6-7C2B-40C4-964A-1E88BEFED7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8BC8-B0F7-4B89-8C6B-A34C825BE3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3EA3-65E6-48B8-BB5A-AD4B390032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C5A6-FCC6-416C-88BC-80732C5D53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05B6-9C98-41A2-B0AD-031025F9C1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B84D-B742-45E7-ACA4-D2AC1D3C82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D4A6-6203-40B4-B97E-BABEFB066F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AC21-E898-4483-8886-7EA95239CC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4369-3E92-4C18-A81C-6416E8557A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EEF7-CB9C-4738-9853-25791B7254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C598-F522-47BB-914D-BC7937E81E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5ED9-8728-45B7-9D47-6E0ED54A72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7BAD-5BDA-4EE8-8745-BE946D04C6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9A42-8838-48C9-872F-8CC70D144E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6C0A-B533-41F0-94BF-B8EB4D6C77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9074-9D75-463F-A7EF-FE2A3C25D7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D20F-64A3-43A5-938F-969E19A6D5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CA4B-450B-46BD-855F-B63E4B6939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E313-9659-4CE7-A05F-85D0922546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3C1D-F0BC-4CD4-937E-F68A5EDEF6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2D36-2B3B-4994-8F9F-646C1BC361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9040-D5A3-426C-8D6B-15188955BB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3FE4-BA6F-4215-BA83-E2F9D01D77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A2D8-5164-492E-8A50-4834F983B1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62F5-8A81-4471-8824-B8DCDE8853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AB1B-0106-4757-B390-D9A0975584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088F-F059-43FF-AFD6-C2E6D0ED6C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3205-FE7F-408A-9C9D-AA8E0BA299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8101-A4AE-4BA5-8B78-4486858658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20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BB3C-06C2-4419-952A-5ECD2391F5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506B-D933-4D25-8A74-0045D0641E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5825-843F-477A-825B-7A65C9D9B7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DE67-FE2E-4C35-A2F6-F4AF4A93DE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DCC1-E88A-48F0-91B6-AF7392C697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AB14-409B-46DF-8EAB-9E7FED6528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401D-0FB2-431A-94A4-9F998DAD25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59FC-111B-4D34-BB1D-0D886E1523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4625-863F-451E-98FD-26A133B8B1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7A96-3F90-4ABE-941B-CE5E21172F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B7ED-2F06-443E-8097-CBB4060EF6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C2C9-43D7-4B57-99DF-A903F7D7C2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EDC4-8BED-44D2-A3EE-87697A9672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A30C-91C5-497F-B6AA-277C5F6E78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1873-B320-446F-B234-0459DFF7BA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9E39-74FD-4460-8EDD-BAAC68E5FF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ADC8-3D49-46DE-8D41-FA859876AC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9A3E-9263-4E13-B426-D8747F69C1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E4FF-BC80-42B1-9726-17502DF7D8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5E17-744F-43CD-B21B-1EB68F8B21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897E-0574-49FC-B292-81D4822A39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906F-3061-4871-8D43-A96A2122A6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056D-6A0E-4485-A558-3C56053F73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AA39-DD93-4125-81EA-B46FFC7B21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5EF0-CEC5-43E1-B684-7ED9D8BCB0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DCDD-BB58-4AB4-B87B-FFB5CDBA0A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BCE5-F828-4B02-A093-E128A2F58D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D34C-57A2-4D00-B35D-36CB9229D7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6C84-CB78-4330-80E2-28DFAD9720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31CE-16BC-4299-99AD-EB49EB1240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092F-E158-490D-B9CD-CD8A4C0E47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112F-1219-4D8B-B3C4-986DB7D88D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6C20-0AD9-41CE-BC72-7DC8EE1ABD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A7E4-3173-498C-BD49-5ECA0EDEEF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DA43-2C3A-4DDD-8A16-DE269E8CD5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1CCB-9D05-4E19-8575-4796DBB7DB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7CC5-FC76-4D17-8302-094D3BDE36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D7D1-C9FE-49DA-BADA-6F3D0C9456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46AE-DC93-4A64-8096-31F777281A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C4FA-51AE-4C31-8EEA-8C6438F279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CFE5-5B64-400E-919E-0A17FFF37A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6D7D-48E7-4F40-9EAE-8AE187E833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2091-6BF6-47BB-94F9-861864CC45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1D83-11DB-463B-9CF0-1CDB0B1C9C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A359-5A1E-42C0-B54F-5BF146AAF4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90C1-83DA-43A5-9CB9-13390DB1FC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7C16-1CEC-4D3A-BDB4-2BD8C1759B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EA2F-66D0-4F5F-BD6A-B2B7CF74DB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B12A-A152-4901-B57B-5F1FA32F14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24E9-8BE5-42BF-8089-C87320F55C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0FB2-4F49-4C60-A4A8-4F1D40EEB6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5832-84A1-46DC-B219-EB6AFA0BC0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A9E0-E0AC-465F-B825-5A3FE8D548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5EB7-93FE-44D8-B816-BAFC519CB0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9734-247A-4914-84AB-714B73040B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FD62-4994-482F-8D40-8574D762CA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C4E7-694E-4F98-93D2-A1CFDA963B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3C46-416D-44EF-AD56-515AD3F77B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A3DA-1CB6-41FE-AB28-83C4CEDE59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9247-73E7-42D0-B829-361D0557AB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2607-77D4-4812-9BD5-944033BCC1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84AE-9BEC-4001-8E25-D73DCF9BCF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464B-062F-4B1B-A933-CB6991E916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9F66-8222-4251-AAB5-E8E81809ED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90A0-C194-45EA-91BE-C7A5717D9D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52A1-6B62-478D-9A38-6590F17D05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10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3606-C024-4885-9B33-0A6D73C7D5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C4E8-867D-4511-9FAF-C42634F880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A6F2-CB5A-4205-BA4D-D67E51DAE6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651C-1EA3-4FB9-9D94-342BE5C8B2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3786-AD72-4CE1-ABDF-DFE03ABD5F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214E-06CF-4DA1-BE45-C7E1E6E215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7479-4A79-43AA-BDCE-4C0A7819A0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4FCB-F453-4CA2-83BE-BD159E7032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E4B2-7338-4404-B3B9-4868F2BF7F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589C-4702-4494-BBFD-D2D5356A6B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C3C7-3495-4318-9467-9AF8215C7B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FAF8-548A-4A84-A5AB-E130604515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BDD5-03FB-4601-AC9C-9EE34BC8C0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055A-E4D3-4C4E-ADC2-1E6AF106E4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B931-EFEC-4E6F-A47E-92E74892FB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34F0-A78C-427C-A7C5-45EAD2EEA3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29DA-F18E-4740-807C-1C654FAFA2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30F0-B389-45E9-BCD3-F1F8D9A8C6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8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DA07-651E-4B24-B09E-706A9697FA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BD4B-3BA0-44E7-AB90-35B93AE14B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94D5-60EF-4793-A7EE-D7B5704D66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DCE7-0862-4EFF-B111-5111126CDB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E767-6CE1-4272-8578-C90D62B9FF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678B-1150-42D8-A173-973F115490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24B3-5C86-4C8B-946C-DB42CA0478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7426-285D-4AF2-BB4C-D4A09547E2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AEEF-A7A2-4A9F-8F45-E52B1BFE59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B0FA-8B73-462E-A1A4-A34A5209EE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D344-01CF-46DC-85C3-C4500900F7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08CD-C1D0-46D2-99F6-97BCD23365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3FAB-2E5A-4741-A42A-A7536E5C69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3094-32F4-48ED-9929-DB57C0A81E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9E3E-90E3-4C2D-80CA-982A4FEA2F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1AC5-B956-491F-B2CA-53495A3C81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F810-8E62-43E3-8917-DAD6E55148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FA00-4C75-47D5-A678-004C370583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2BBF-279B-4D3F-B5FB-EA67335847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4B5D-CBF7-4680-AACF-5E92E185BD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F7FF-FE32-43F2-857A-65B393CA5C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DD0C-EE24-4293-B6C9-3A7D17821C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285B-D59F-4FDF-8902-18AB1A3FC2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9AF9-AD40-46CF-8E43-F53BC60E05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CBC9-F38B-48F3-8AAD-6D8FF1E6AF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9E98-417F-4855-87BA-C142B0E3A7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E46A-AF53-4BFC-99C3-8ABECAA46B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7DAC-C3F8-40A7-A88E-B3AD32EBEA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B1D-515C-491A-B80C-89EAEE2D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764-3783-442D-8A53-A8599B4D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221-1B25-4F3A-A081-FC2E9667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2BC-9578-491A-B4D8-D9EFB6C1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AF2-F4FD-485A-B950-E22B33E6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70D-0AA4-4C2F-95F8-6661C790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9D4E-AF9E-4463-9AD2-7740D29F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EDE-6C7D-4B0F-A6C4-73462049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450-BBED-4370-B6B7-0EC520CA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1F2-F311-47D1-83F9-7ED9877B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9B2-40BD-4C93-BF08-479AD7F6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890-F3AE-46D2-92D0-3A556D72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9710280"/>
            <a:ext cx="142848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A1BB-7E13-48DE-9D13-692CABAE32FD}" type="datetime">
              <a:rPr b="0" lang="sr-Latn-CS" sz="8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9710280"/>
            <a:ext cx="274320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Predavanja iz Upravljanja – 02-U čemu je razlik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520" y="9710280"/>
            <a:ext cx="142884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5DAA-466B-48B7-9324-F3CEEA581039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 od 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0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4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5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6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7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8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0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4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5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6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7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8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0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2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4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5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6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7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8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0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4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6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7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8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0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4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5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6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7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8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0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4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5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6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7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8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0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2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19520"/>
            <a:ext cx="5829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6095520"/>
            <a:ext cx="5790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čemu se ovaj predmet razlikuje od ostalih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5A6-A7C3-49C0-BBF6-C83DD3DCEC1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36121-6C7C-4576-A01F-927D6FE01A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5991120" cy="7543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 svemu tome ima istine,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1888920" cy="183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3591000" cy="193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95680" y="2438280"/>
            <a:ext cx="1828800" cy="1487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295280" y="5410080"/>
            <a:ext cx="1524240" cy="144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838080" y="72388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A05-2DB7-4296-805C-5EBDAF9CB21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B4189-5509-4C50-8EB8-F1BC714DF8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30906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investitora da postavl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rukovodioca projekta da prihvata tu ulo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s projekta sa osnovnim podacima o budž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e specifič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375-02E1-422C-B436-732CEFB172DE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35E5B-6B9B-467D-9DF0-9FCCABAAFE4C}" type="datetime1">
              <a:rPr lang="en-US"/>
              <a:t>07/30/26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0040" y="324288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žina angažovan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n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i za iz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konta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a 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E81-C8D6-425E-8D32-4F3147807667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46A3C-D0BB-4703-BECB-34390612055C}" type="datetime1">
              <a:rPr lang="en-US"/>
              <a:t>07/30/26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ši pr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zvođenja investicije (organizacioni konsalting) - ne ulazi projekto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ciono savetovanje (konsalting) - ne ulazi struč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9AF-00E0-41D8-B765-3B99790427A9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9E5DE-A1AF-470E-853C-6E65E6F672D1}" type="datetime1">
              <a:rPr lang="en-US"/>
              <a:t>07/30/26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dič UN - Ekonomska komisija za Evro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D83-C0BF-4661-8622-02A59CDAD1CE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B1C0E-F63C-48A3-A9C5-BCC53B8FC2FD}" type="datetime1">
              <a:rPr lang="en-US"/>
              <a:t>07/30/26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ukupn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obavlja profesionalne usl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zrada planova i specif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prema ten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upanje investi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dzor nad izgradnj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satu plus trošk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nat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šalni iz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AE8-52D9-4B45-BE05-DCFC367B58E2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7CF51-5090-4028-A804-27A99D52ECB0}" type="datetime1">
              <a:rPr lang="en-US"/>
              <a:t>07/30/26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konvencionalnog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nema finansijskih interesa u izgrad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sni odnosi konsultant - investitor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at se završava pre početka 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m radova je ja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pun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kladu je sa regulativom o jav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e obaveze su ja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A43-DA30-4688-B514-85369401CE5D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08372-5442-4F4F-AC30-0565DBA29132}" type="datetime1">
              <a:rPr lang="en-US"/>
              <a:t>07/30/26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i konsal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njuje mogućnost spoljnog sukoba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uigravanje stručnj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B2C-A4F4-4B59-B1A2-1BBEA2D8A18F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635B5-651E-458E-A73E-AB7C08A41214}" type="datetime1">
              <a:rPr lang="en-US"/>
              <a:t>07/30/26</a:t>
            </a:fld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 realizacije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ovanje i/ili upravljanje izradom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bavke i lici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je investitorov izvršni organ, bez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a podela uloga između više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F49-699C-4D7A-B867-03A693168266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2A323-CB81-4305-802E-1ACE61D58316}" type="datetime1">
              <a:rPr lang="en-US"/>
              <a:t>07/30/26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kusni savet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a unutrašnjih suk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i za nabavku se sklapaju na osnovu licitacija sa kompletnim specifik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licitacije moguće je porediti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stupanja se rano primeć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ije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152-65E9-4ECA-872D-51364D4A20EC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A55DB-BCC0-490D-BD0A-D2111322EC37}" type="datetime1">
              <a:rPr lang="en-US"/>
              <a:t>07/30/26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na odgovornost za projektovanje i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mogu da počnu pre završetka pro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 se utvrđuje na osnovu tačnih specifikacija, pre ili posle sklapanja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259-98F7-4140-A70F-42699193753E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879FF-250C-449B-B271-E63AA2778207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mi imamo još jedan predlog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200" spc="-1" strike="noStrike">
                <a:solidFill>
                  <a:srgbClr val="000000"/>
                </a:solidFill>
                <a:latin typeface="Times New Roman"/>
              </a:rPr>
              <a:t>Zarada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9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5943600"/>
            <a:ext cx="1565280" cy="213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19720" y="5943600"/>
            <a:ext cx="15652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12D-FB6B-434D-BBD7-E2016BB22C5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F4B26-312A-471F-807D-DC8A6EFA2D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šće konsulta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210024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a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i revizij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ja i 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opredaja objekta i obuka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ek mora biti profesionalan i nepristr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mogu dobiti samo oni koji imaju ug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A6F-1023-423F-B89C-CDA47E7876F8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E2D84-0687-4B3E-89CC-8DA5C7A3FBB0}" type="datetime1">
              <a:rPr lang="en-US"/>
              <a:t>07/30/26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496-7229-4E97-A103-DC7FA5DB162B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4B19E-F482-4BD6-B4FC-7542D5D62DCC}" type="datetime1">
              <a:rPr lang="en-US"/>
              <a:t>07/30/26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5CE-718F-4CC2-942E-D0C3E98F750C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39EDD-C448-4869-A78E-0D4F5D0920A6}" type="datetime1">
              <a:rPr lang="en-US"/>
              <a:t>07/30/26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652320"/>
            <a:ext cx="5829120" cy="20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pojm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440" y="2903400"/>
            <a:ext cx="5829120" cy="556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25B-D98B-4FD6-9490-D974E8804F59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5E297-11D5-4F57-88CB-01E072F4666B}" type="datetime1">
              <a:rPr lang="en-US"/>
              <a:t>07/30/26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37760" y="1294920"/>
            <a:ext cx="5829480" cy="76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čki: jednostrana izjava volje upućena određenom licu radi zaključiv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da bi bila valj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rži osnovne elemente ugovora (predmet, rok, ce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žena vol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 pod navedenim uslovima sklopi u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si 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i njegov punomoć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će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nvestit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obavezujuća z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 rok traj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BF3-9D12-4652-8E73-A8B5A1A69322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A71FD-619C-40E7-B527-44ABCF81D034}" type="datetime1">
              <a:rPr lang="en-US"/>
              <a:t>07/30/26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vrha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tni materij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azuje na tehničko-tehnološke aspekt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sposobnost izvođača da urad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ozbiljnost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 uslove pod kojima investitor može dobiti investiciono do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48E-57AE-42AB-BCF9-AB9780BF1314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7EC2C-9165-419D-B5A3-908A199221DB}" type="datetime1">
              <a:rPr lang="en-US"/>
              <a:t>07/30/26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gledavanj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7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asp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e za resursima i njihovi izv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zahtevi podizvođača i kooperanata (tehničko-tehnološki, organizacioni i finasij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isporu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j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 finans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A7A-C703-46C6-947A-61B2F4814088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277A0-3C8A-4FAE-8B09-0783712246E5}" type="datetime1">
              <a:rPr lang="en-US"/>
              <a:t>07/30/2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e želju kupca za investicionim dob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se definiše predmet budućeg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definiše i način izbora najpovoljnije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definiše i ostale prateće u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ovi resur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0F0-87D6-4C7B-9A8D-4017681AC898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4C875-416E-4AD0-8C8B-9E86D48D042D}" type="datetime1">
              <a:rPr lang="en-US"/>
              <a:t>07/30/26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definisanja predme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end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funkcionalnim paramet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E78-B468-4502-903E-1D9BCF0909F3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5E88B-37CD-4418-9C47-F0D080C298AC}" type="datetime1">
              <a:rPr lang="en-US"/>
              <a:t>07/30/26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440" y="1338120"/>
            <a:ext cx="5829120" cy="719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utstvo ponu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dnošenj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ja u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tstva za podnošenje ponude (rok važnosti, produženje, licitaciona garanc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ponude sa prilogom uz ponu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sa izjavom da će radovi biti izvršeni u roku i po ceni, koji ispunjava ponuđa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123-7920-4544-B316-5DAB9579D32B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6F3E3-DE40-43FF-A77C-4E032C2B412C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rada je važna svima koji grade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vestitor veoma često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vođač uvek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raditelj mora od nečeg da živi, i to dobro, ako je mog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o može da bude zaljubljenik u svoj posao, ali ostali obično traže svoj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C2D-BBCB-446F-A307-98C57F8880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45DC2-0E7E-41C0-A835-319D4C6E91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440" y="1414440"/>
            <a:ext cx="5829120" cy="79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na kome se zaključije ugovor, čiji je sastavni deo i ostala tenderska dokum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često bazirani na FIDIC-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kacije i opisi radova koje treba izv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čni zahte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"zamk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040-4D93-4DEC-9872-16F35A9BDEA0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14C6C-0D37-499A-BAA6-76D22950F581}" type="datetime1">
              <a:rPr lang="en-US"/>
              <a:t>07/30/26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14440" y="17949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 i predrač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količine radova koji se 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upisuj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rema stvarnim količi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bi trebalo da dobro sagleda šta se stvarno može očekiv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buhva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ek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os cena ponuđač prilagođava željenom toku nov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2D5C-73AD-4E91-AEB4-FF3959CEC78B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FF6EC-056E-49B1-9EBA-84F4C145806A}" type="datetime1">
              <a:rPr lang="en-US"/>
              <a:t>07/30/26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te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đuje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ovoljni za realiza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razrađuju i prilagođava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cija za dobro izvrše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je banka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10% vrednosti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naplativa na poziv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1E3F-5935-4D92-8634-B42BB973570C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9240B-D270-4E74-A875-C1ECE8E8F40C}" type="datetime1">
              <a:rPr lang="en-US"/>
              <a:t>07/30/26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kojom se najpovoljniji ponuđač informiše da je iza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ed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ugovor ne sklopi, gubi se licitaciona gara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o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a koja se dostavljaju naknad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se dostavljaju kao odgovor na pitanj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alju se svima, bez obzira da li su pi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882-5538-449A-99EC-C0BA60D16539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6E921-87DE-49A8-A1E8-25A18E57D0A6}" type="datetime1">
              <a:rPr lang="en-US"/>
              <a:t>07/30/26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i parametr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o vrsti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, spratnost, nivo obrade, oprema za poslovni obje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oizvoda, nivo proizvodnje za proizvodne ob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treba da uradi detaljnu razradu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o i dugotra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ća mogućnost za zaradu i gubi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9F4-619E-495E-AAB0-D5DC945BBF5A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AB84D-A4DC-4815-B9C9-81E605819D9F}" type="datetime1">
              <a:rPr lang="en-US"/>
              <a:t>07/30/26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izbora najpovoljnijeh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ji po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eni poslovni partn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882-5FF2-4D52-8D53-D0975F4E3EA0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FAC8A-1D57-4FCC-8A48-DAA5F504C581}" type="datetime1">
              <a:rPr lang="en-US"/>
              <a:t>07/30/26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ci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6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ju se kvalifikovani ponu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čekuju se kvalitet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da spreči dogovor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i poziv u specijalizovanim st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vima informis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postoji predkval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upak sprovodi konsul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B92-B545-48FA-8F2E-ADB26120F60E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8186F-6360-4415-B8ED-2BA54CCFCBE4}" type="datetime1">
              <a:rPr lang="en-US"/>
              <a:t>07/30/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najpovoljnije ponu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14440" y="1642680"/>
            <a:ext cx="5829120" cy="76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nije najjeftin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an je bon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i su finansijski uslovi (kreditiranje, plaćanje u domaćoj valu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da postoje i specifični uslovi (angažovanje domaćih firmi ili resursa, transfer znan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da postoje i drugi specifičn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procedura je definisana u konkursnom materija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905-8A1E-482F-A765-3D4965F3F880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52542-A3B4-4A7B-A40D-ED0FE2EE4F42}" type="datetime1">
              <a:rPr lang="en-US"/>
              <a:t>07/30/26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slovima za davanje prodajne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stvena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razni modalit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može biti i fik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221-8990-4D78-BD0F-5CFB8288AD62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72C91-30B7-4E36-AF0B-506931EF0370}" type="datetime1">
              <a:rPr lang="en-US"/>
              <a:t>07/30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617-5FB0-4DF3-AC76-F3BB70BCBF0A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F6D08-E629-4E67-AD71-551882071E24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rugačiji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m pokažemo kako da vodite računa o realnim moguć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s naučimo kako da vodite računa o realnim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A5E-EB06-47C0-8A0F-9FC95C8268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CA020-B6DF-409D-AC6A-2073C6A0D8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86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5829120" cy="59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13B-BC64-4807-B449-BF6358192DC0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9A8DF-C791-4085-A192-7F3911FE2323}" type="datetime1">
              <a:rPr lang="en-US"/>
              <a:t>07/30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ubedljivo najznačajn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uračunati faktor neizvesnosti, posebno u uslovima dugotraj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2D4-583E-45CD-B5CE-A78E8159A483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73F4E-9668-4639-9118-4DA85C06CB2E}" type="datetime1">
              <a:rPr lang="en-US"/>
              <a:t>07/30/26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 između glavnog izvođač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o je da glavni ponuđač (izvođač) uspostavi internu kontrolu ponuda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 mora biti "čvrsto držan, štapom i šargarepom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AA3-2179-40CE-9E29-6B1032CF9B91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CC853-8891-4AE3-960A-BFD73DAAAD1F}" type="datetime1">
              <a:rPr lang="en-US"/>
              <a:t>07/30/26</a:t>
            </a:fld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tap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angažovanja drug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promen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argarep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agođavanje ponude interesima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stiranje na tehnologiji koja odgovara pod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nost u raspodeli sredstava (iznos i tok nov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7F0-EAAD-4EFF-BC2A-F18A405467FA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E515C-1C64-435E-99B5-68595500AF1B}" type="datetime1">
              <a:rPr lang="en-US"/>
              <a:t>07/30/26</a:t>
            </a:fld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podizvođačem se ugovara cena koja se razlikuje od cene tih radova iz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voditi računa da isplaćen novac odgovara vrednosti izvrše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novca treba da bude u funkciji efikasnog završetk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091-6A00-4AE1-BF7F-CA04D614B358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4E5BE-5A54-46D3-AC30-4A4DA9354280}" type="datetime1">
              <a:rPr lang="en-US"/>
              <a:t>07/30/26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ceptu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v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procenu obavlja specijalizovana ekip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ipu vod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nitel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stimato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su približne, ali su nuž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kada se sagledaju troškovi, dodaje se pro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DF6-DE2E-4EFC-BFCC-7956B4ED196D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2F4E7-7F97-49E5-A964-3E3CABEDB863}" type="datetime1">
              <a:rPr lang="en-US"/>
              <a:t>07/30/26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omoćnih postrojenja i služ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žijsk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troškovi direkcije kompa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o nastaju pre ugovaranja (ponude, akvizicija, marke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63E-2F50-496B-8E73-9DAE9D08FB65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0C69E-4141-4997-BFEF-A077155C98BE}" type="datetime1">
              <a:rPr lang="en-US"/>
              <a:t>07/30/2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5829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6148440" cy="776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6B3-638F-41FB-A057-FB923B578948}" type="slidenum">
              <a:t>1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1F12B-1F57-40E5-AFFD-838AFB8172CC}" type="datetime1">
              <a:rPr lang="en-US"/>
              <a:t>07/30/26</a:t>
            </a:fld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 za donošenje odluke o radu na ponudi (slično studiji opravdanos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nders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ženi rok (ako ga 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č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učešća domaćih firmi i moguće posle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7DA-6D62-43E5-85BC-788537A673E5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A869C-7938-4F54-BA7B-4F7BAC20785D}" type="datetime1">
              <a:rPr lang="en-US"/>
              <a:t>07/30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konstrukcija investitora i njena sigu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 i način verifikacije obavljenog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iji su troškovi osiguranja, carine i druge tak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3D9-AB9A-4542-8111-A8E1E4E30484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120E0-49C4-4A2E-BCCA-DE2C9C8E84B9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ere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ednost onoga što uradite biće merena prema tome koliko doprinesete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mora biti da sačuvate svoj integritet stručnjaka, ali i da zarad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je da onaj koji vas je angažovao oseti da je imao koristi od t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080-180C-48DD-8036-2CCBD6D0B2D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EDD13-EF06-4750-B056-E29D723425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istraživanja tržišta 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ci troškovno značajnih stav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a osposoblje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C6E-4349-4FE9-BD17-78CEAEC6E873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EF899-4FC5-4FEF-A353-6697A163C766}" type="datetime1">
              <a:rPr lang="en-US"/>
              <a:t>07/30/26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a o usvaj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virna finansijska vr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tivnosti potrebne za akviziciju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ni dinamički plan izrad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e potrebe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sredstva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845-FBDC-4E5C-AD77-0C1A94A96AA9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A049F-DA78-44C8-B931-49F40901878C}" type="datetime1">
              <a:rPr lang="en-US"/>
              <a:t>07/30/26</a:t>
            </a:fld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7760" y="1191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7760" y="1719000"/>
            <a:ext cx="582948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izvor cene koja se nu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%-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bitniji element priprem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na za proceduru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i analiza ten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na tehnološke i prostorne pod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eneralnih 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tehnologije i njenih posle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A55-27C3-4084-9DB8-5BBF003C9F3E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49936-3D13-4B0A-9697-4CF85D1D81E4}" type="datetime1">
              <a:rPr lang="en-US"/>
              <a:t>07/30/26</a:t>
            </a:fld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14440" y="1871280"/>
            <a:ext cx="5829120" cy="734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generalnog dinamičkog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i izbor meh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rganizacione stru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priprem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režijskih troškova na gradiliš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56B-3E33-4EB0-8597-FD3D4216C7FE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84D25-3731-4B61-8F41-CCABCC1FDACB}" type="datetime1">
              <a:rPr lang="en-US"/>
              <a:t>07/30/26</a:t>
            </a:fld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716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sedišta fi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bankarsk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načina kontrole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zik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fit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tizovanje pripremlje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una baz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D65-66E5-4EBC-994E-27E953C43014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B5C4C-0ADD-46E0-A5FF-AF42EBE0B2C2}" type="datetime1">
              <a:rPr lang="en-US"/>
              <a:t>07/30/26</a:t>
            </a:fld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4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88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završe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sagledanog celog procesa 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mpletiranih ponuda isporučilac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određivanje poslovne strate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kontrolu troškova i upravljanje sredstvima prema isporučiocima i podizvo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4A4-17A9-4354-9E0F-DC1A203E53DF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0EE17-CFB8-4780-9B89-C0400BDB38E8}" type="datetime1">
              <a:rPr lang="en-US"/>
              <a:t>07/30/26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za buduće po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DEB-EC19-4346-970E-B8C73BBEF834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69915-AE86-4B6A-A07F-B4528A610C97}" type="datetime1">
              <a:rPr lang="en-US"/>
              <a:t>07/30/2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iti razumnu c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iti realno traj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gurati tražen 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985-0F69-4DE9-8CDA-92FF5C4C29E2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316E0-04AB-441B-A26F-0FA5B7919196}" type="datetime1">
              <a:rPr lang="en-US"/>
              <a:t>07/30/26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029-7960-41C3-8189-C2FDCCB476ED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B1C72-6291-4278-8495-4E5EC6E53EBC}" type="datetime1">
              <a:rPr lang="en-US"/>
              <a:t>07/30/26</a:t>
            </a:fld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0040" y="2590920"/>
            <a:ext cx="582948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4BD-58D4-4678-9817-95A6AC0B2A4E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F9BD1-AC0C-49EF-A3F9-819B309322D8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05320" y="6019920"/>
            <a:ext cx="2997000" cy="361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ženjersko balans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je potrebno da se usaglasi ekonomski interes i principi st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tko postoji jednoznačno reš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blemi se veoma često moraju rešavati na licu mesta, znanjem i oseća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732-49A5-4A2C-9E6A-A65F741A4B3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941ED-6AE9-48D7-AAAD-99951A7090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746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količine resursa  neophodnih za postizanje ci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procenjenih troškova i profita sklapa se 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om realizacije procene se koriguju u skladu sa stvarnim sta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late se prilagođavaju stvarnom st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e troškove i poređenje sa planiranim zove se 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D3A-4DBD-45FE-BA7A-C0BA941FD845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A7B0B-B542-4A80-A995-06FE3362EC88}" type="datetime1">
              <a:rPr lang="en-US"/>
              <a:t>07/30/26</a:t>
            </a:fld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pogled unapred n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troškova je pogled unazad na prošl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 dve aktivnosti su povezane i daju materijal jedna za dru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reporučljivo da analiz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nu rada dva nezavisna 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7F8-3AC7-4C5E-868C-D8C8DD842DF8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2B604-37F5-4C63-965C-13347C285EFD}" type="datetime1">
              <a:rPr lang="en-US"/>
              <a:t>07/30/26</a:t>
            </a:fld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j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za kvalitetnu procen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olaganje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metodologije i procedure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lana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a tehnoloških znanja i ve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e hardvera i softv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to je projekat složeniji potrebno je obezbediti više pred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A0A-0885-4103-A015-25E44B4435A3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5DD79-7C9D-4025-84D3-0FCE9ED3E106}" type="datetime1">
              <a:rPr lang="en-US"/>
              <a:t>07/30/26</a:t>
            </a:fld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37760" y="1904760"/>
            <a:ext cx="582948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1CB-7913-4BFA-AC16-5A48352D4D41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7F6FC-1732-40B2-80F6-D175985E7EFB}" type="datetime1">
              <a:rPr lang="en-US"/>
              <a:t>07/30/26</a:t>
            </a:fld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347760"/>
            <a:ext cx="640080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jerarhijsk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vrstam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ipskim eleme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o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iranje prati struktur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broja nivoa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formata ko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standardni načini klasifikacije troškova podržani institucijama i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3F4-90FC-413C-9E01-13E40DFEAEEF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0D47E-95CF-4C34-B9B0-F1DBE4C0413F}" type="datetime1">
              <a:rPr lang="en-US"/>
              <a:t>07/30/26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pozn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ogo je jednostavnije proceniti standardnu tehnolog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i detalji, materijali i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resursa standardno i povol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klično korišćenj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1C9-8569-495C-815E-B57D1A28C316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F54C7-B6A0-4701-9B17-91D4D34E49C5}" type="datetime1">
              <a:rPr lang="en-US"/>
              <a:t>07/30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gravanje realizacije radova kod poslova koji se ciklično obavlj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standardnih objekata procenjujemo cenu je nekom parametru (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revetu, kra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estandardnih objekata daje se cene po jedinici mere (bra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kombinacija strateg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7D7-15C5-46D0-8181-43F97CA4A4A3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19ADA-409A-4C46-8330-7522607F7D71}" type="datetime1">
              <a:rPr lang="en-US"/>
              <a:t>07/30/2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prilagoditi procenu predviđenom izvođaču i njegovoj tehnologiji i sposob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zeti u obzir veličin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428-A298-4811-9BCD-98859B7D2E95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4A83B-124B-4A4C-96B8-5279BF230410}" type="datetime1">
              <a:rPr lang="en-US"/>
              <a:t>07/30/26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23360"/>
            <a:ext cx="624816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440" y="23284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podataka o predviđenim oper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z su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raživanju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orijskim poda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svetu postoje programi, knjige i baze podataka za pomoć pri procen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postoje zastarele Komgrapove norme i Tanjug-ov bi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7358-5EBF-4075-9EBD-9C539ECC2226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55F81-9A5E-4FC5-B898-3E2FCD518766}" type="datetime1">
              <a:rPr lang="en-US"/>
              <a:t>07/30/26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2176200"/>
            <a:ext cx="594360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imati i sopstve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imati svedene podatke po nekom parametru standardnog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nemamo dovoljno detaljni projekat ili nemamo normative, moramo koristiti i specifične istorijsk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korisno prikupiti ponude podizvođača i isporuč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A73-2769-4B4A-B6B2-1A22A25CBDEB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DE08B-F135-4D92-9451-B3BEF6EA5644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što, kako i zbog ko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850-9399-40C6-8884-D294E0AF06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36E3E-3E57-4638-B197-77BF6C8AEFE2}" type="datetime1">
              <a:rPr lang="en-US"/>
              <a:t>07/30/2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14440" y="2743200"/>
            <a:ext cx="58291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infl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ačajan i kod malih inflacija (3%-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zna sk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različitih kompon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statističke ver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avisi od strukture cen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219320" y="7391520"/>
                <a:ext cx="4352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DD8-EF01-4AE2-B184-A08C13990570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35429-859E-4F7F-8FE5-48532F97A936}" type="datetime1">
              <a:rPr lang="en-US"/>
              <a:t>07/30/26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7760" y="1947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anirano povećanj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 kvalitet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bučenost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podizvođača i dobavlj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enadne promene zakonske i tehnič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dovoljno poznavanje pro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gle promene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edhodne an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vorišta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ja i istražni rad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ojeće podzemne insta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AF7-F1B0-463A-AE0F-9CB2EFEEB228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8B317-6E12-4DF3-805E-8C5BBD97423B}" type="datetime1">
              <a:rPr lang="en-US"/>
              <a:t>07/30/26</a:t>
            </a:fld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42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govoru, obično se zna na čiji teret padaju ov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a sil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avdano povećanje troškov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izvođača i podizvođača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uobičajeni problemi na nekim tržištima (cari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poslovi i mesta malog rizika (stalni investitori i podizvođač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E14-2D37-49F5-B4BD-5A02C92836BF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26AB9-6871-4AF9-81F9-FB47309EC764}" type="datetime1">
              <a:rPr lang="en-US"/>
              <a:t>07/30/26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2452320"/>
            <a:ext cx="5829120" cy="55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E3F-A07F-45F7-A0B4-6E68B18A6A14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9C144-EC09-4A4C-A451-F0576421E734}" type="datetime1">
              <a:rPr lang="en-US"/>
              <a:t>07/30/26</a:t>
            </a:fld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8120" y="42840"/>
            <a:ext cx="61149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čna cena prema predviđ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aci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pre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rš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e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%-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standardizovanim ob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ekcija prema dodatnim uticaj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F47-7ED1-40DF-A905-D77405F9C6F8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F9503-75E4-4E48-BEDC-2070F4F0A84C}" type="datetime1">
              <a:rPr lang="en-US"/>
              <a:t>07/30/26</a:t>
            </a:fld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7760" y="225216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komplikovane ob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objekta na ele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i bl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io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sni 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dobra 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8AB-559A-4E2B-9A62-9BDDA2A646BC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1CCD5-A27E-4BE3-8CDE-E2D4E6E92BCE}" type="datetime1">
              <a:rPr lang="en-US"/>
              <a:t>07/30/26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a vezan za matematički apa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i istorijski po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zriva pri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mode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ksponencij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aritam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istorijskih podataka bira 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B63-8DEC-40FC-9BA7-C6C21EBDFEFD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38FAD-A871-425E-BF8E-B19BAB9B1128}" type="datetime1">
              <a:rPr lang="en-US"/>
              <a:t>07/30/2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14440" y="17953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 završenoj projektnoj dokument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edica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n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podaci sa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korisno korišćenje standardnih no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ka jako pomaže pri povećanju tačnosti ovog mod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D38-987A-4F99-A33F-C21313983074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5C3EB-0223-4C1B-B1C6-A5651CFE19A0}" type="datetime1">
              <a:rPr lang="en-US"/>
              <a:t>07/30/26</a:t>
            </a:fld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no je da 20% pozicija nosi 80%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neke objekte (pogotovo niskogradnja) ova razlika je još već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dobro odredimo značajne stavke, procena može biti veoma precizn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godna metoda za utvrđivanje klizne sk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985-35B3-414C-984C-737A318E7B33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6DF85-843B-4B76-820E-98E8EC83D358}" type="datetime1">
              <a:rPr lang="en-US"/>
              <a:t>07/30/26</a:t>
            </a:fld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40080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1676520"/>
            <a:ext cx="5829120" cy="761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javljuju se u predm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arketinga i akvizicije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iguranje i deo ca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ajmljivanje i korišćenje ob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arske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anjanje otpadnog i nepotrebnog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D84-134F-4D70-831E-76AACB1BA3A4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E7749-993F-4A3B-B170-5D9DBA3F237A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što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iteljstvo je timski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mnogih str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đevin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struktiv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raš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braćaj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gra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izvo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ganiz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nsij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4E8-71BB-41EF-94C2-58C99813DA3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E3BEB-DC11-44FA-B313-E871F0D94F84}" type="datetime1">
              <a:rPr lang="en-US"/>
              <a:t>07/30/26</a:t>
            </a:fld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važna za dobija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čitao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ni 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rekapitu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tski privl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kvalitet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an vid rek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brzog prilagođavanja toku događaja i željam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8FF-BEFA-4E73-811A-CCFA04EECF53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CF22F-C24E-44D1-A891-6796C470215E}" type="datetime1">
              <a:rPr lang="en-US"/>
              <a:t>07/30/26</a:t>
            </a:fld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A41-ECEE-493F-B26A-3625F4A844B7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F6769-95FE-4C69-9791-BEB8482D4C58}" type="datetime1">
              <a:rPr lang="en-US"/>
              <a:t>07/30/26</a:t>
            </a:fld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F5E-4C20-4629-A0A3-1D053434CA40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40073-CD36-42B8-A3F4-C2519BD70E2D}" type="datetime1">
              <a:rPr lang="en-US"/>
              <a:t>07/30/26</a:t>
            </a:fld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5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365-A2CC-438B-900A-DACCE8017EB5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961FC-F010-487E-8A94-8A0A18020F74}" type="datetime1">
              <a:rPr lang="en-US"/>
              <a:t>07/30/26</a:t>
            </a:fld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asnost dva ili više lica koja ima pravno dej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element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predmetu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utvrđivanja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finans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246-C7CA-4DE4-8665-54F2ADF6FECD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2AFAE-3932-4285-98E0-E2D0854DBDC0}" type="datetime1">
              <a:rPr lang="en-US"/>
              <a:t>07/30/26</a:t>
            </a:fld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4440" y="194796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aža elektro-mašins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ispor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ka i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 u zemljama u razvo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tako čest u razvijenim zeml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zvod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887-0C9D-4DB8-B0F6-DC25D7FEEB52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E6D5A-BF6A-4F44-AB10-5EDC597F144D}" type="datetime1">
              <a:rPr lang="en-US"/>
              <a:t>07/30/26</a:t>
            </a:fld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amika plaćanja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o faz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etno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rada na osnovu količina koje meri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e mogu da se izmene ako se izm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BB2-D505-4DDA-A813-37045BAB00B8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25BF5-F135-45E8-BB3A-C63E57E577D6}" type="datetime1">
              <a:rPr lang="en-US"/>
              <a:t>07/30/26</a:t>
            </a:fld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plus dobit (Cost Pl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procenat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 i podela prof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ksni honorar i klauzula o nagr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lus klizna skala honor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DED-0D8C-4B00-95FB-8EF4C035D431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9B15C-8FA2-46B2-A82B-DDF6F1091F00}" type="datetime1">
              <a:rPr lang="en-US"/>
              <a:t>07/30/26</a:t>
            </a:fld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ena cena koja se ne sme premašiti (Sealing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janta fiks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rekoračanje preko neke granice izvođač snosi t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ksna cena (Fixed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ložna iz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rihvatljivosti promene cena (1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i u slučaju k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180-0779-40B6-A9A6-2AB869D97DAF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F1309-344A-4597-A274-18892DB88B75}" type="datetime1">
              <a:rPr lang="en-US"/>
              <a:t>07/30/26</a:t>
            </a:fld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iran na britanskom 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je i tumačenja (čl.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a (naručilac, izvođač, inženjer, podizvođač, zastupnik inženj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i (ugovor, specifikacije, crtež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odavni su samo pisani doku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22E-FE70-4F03-B44F-5BB9D9E7C0E4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56B91-03E0-437B-9306-170E7A5E2909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cioni projekat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ka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više lo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gotra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uđenost proc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klimatsk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vinsko-pravni 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2B0-4A76-42B1-B3F8-1F0B52E3C9C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3BECF-1166-4622-A108-6E8B1171399F}" type="datetime1">
              <a:rPr lang="en-US"/>
              <a:t>07/30/26</a:t>
            </a:fld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 i zastupnik inženjera (čl.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ja se daju ugov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mena uputstva moraju da se potvrde pismeno u roku od 7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može da oslobodi izvođača ugovornih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ovlašćenja se može preneti zastupniku, ali ne s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33F-CFF3-47BC-850C-DAD4E70DEA0B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ECF51-DD41-43CB-AFFC-047846D7FF31}" type="datetime1">
              <a:rPr lang="en-US"/>
              <a:t>07/30/26</a:t>
            </a:fld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os i podugovoranj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3,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ne može biti prenet na drugo lice bez saglasa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 se preneti novčana potraživanja svojoj banci bez saglas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D28-C636-483B-9E28-8C3A9A3AC210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B6626-9A9E-4BB1-918E-024A514B26D2}" type="datetime1">
              <a:rPr lang="en-US"/>
              <a:t>07/30/26</a:t>
            </a:fld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i dokument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5-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azum o Ugov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aki drugi dokument koji je 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šnjenje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63D-E6CF-4CB4-915F-4D95F2A69F19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C1BDF-EFD3-4B2B-9423-561FD842E7F9}" type="datetime1">
              <a:rPr lang="en-US"/>
              <a:t>07/30/26</a:t>
            </a:fld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naplate količina koje nisu obuhvaćene predme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postoji čim izvođač pošalje pismo o prihvat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cija za dobro izvršenje posla naplativa na prvi poz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govornost za stanje pod zeml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da odredi kako će izvoditi rad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151-4D9E-49CD-8572-8588AE090119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BE6CA-21DD-42ED-9FC3-F3AF4E594E3E}" type="datetime1">
              <a:rPr lang="en-US"/>
              <a:t>07/30/26</a:t>
            </a:fld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menja nadzor po sopstvenom naho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dođe do oštećenja zbog "rizika naručioca" postoji pravo na povećanje cene ali ne i povećanje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e transporta nestandardnih materijala i opreme snosi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8793-3A04-4F3C-B923-9C512E979097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BBA66-65F8-49A3-A02F-B540E75F3E3A}" type="datetime1">
              <a:rPr lang="en-US"/>
              <a:t>07/30/26</a:t>
            </a:fld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14440" y="182844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na snaga (čl. 34,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 izvođača da inženjeru dostavlja izveštaje o stanju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, postrojenja i izrada (čl. 36-3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traži ispitivanja uzor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oliko su ispitivanja mimo ugovora, a kvalitet je odgovarajući, troškovi padaju n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kontrol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dgovarajući elementi se mogu odbac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D20-15C9-4A8F-84EC-5F0EFC4A85D8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5F7F4-5790-40D2-ABE4-4190E0F4D79F}" type="datetime1">
              <a:rPr lang="en-US"/>
              <a:t>07/30/26</a:t>
            </a:fld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(čl.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nije zbog propusta izvođača i klimatskih uslova, investitor treba da nadoknadi š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obustava traje duže od 84 dana, i ne dobije se saglasnost za nastavak u roku od 28 dana, izvođač može da okonča svoj anagaž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C80-4CE2-4CD9-BE9C-600ACB2F3EA7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CA138-9142-4831-902E-71606A3D8E82}" type="datetime1">
              <a:rPr lang="en-US"/>
              <a:t>07/30/26</a:t>
            </a:fld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očinjanje radova i zakašnjenje (čl. 41-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preda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se ne izvode noću i u lokalne neradne dane, osim kada inženjer to odob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i za kašnjenje radova, ali ne preko neke 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vršetka i predaje radova i otklanjanja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63A-37D5-461C-8EB0-252E483349AC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5ACE3-44B0-42B4-BD52-B55B8B5289E1}" type="datetime1">
              <a:rPr lang="en-US"/>
              <a:t>07/30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nost za nedostatke (čl. 49, 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le predaje radova izvođač radi radove koje mu inženjer nalo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ti radovi zbog nepoštovanja ugovora, neodgovarajućeg rada i materijala, padaju na teret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uprotnom su naknadni radovi i investitor ih pla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tni rok (period održavanja) se propisuje ugovorom, ako drugačije ne odredi lokalno zakonodav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1A3-8EFB-46C3-86A4-2829D0CFBFF6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952B9-C309-4494-B918-436930865C59}" type="datetime1">
              <a:rPr lang="en-US"/>
              <a:t>07/30/26</a:t>
            </a:fld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e, dopune i ispuštanja (čl. 51, 5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laž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ju se prema ugovoru 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obima radova koj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% se posebno kalkuliš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79C-E4BF-43CC-A708-7B9BBF31F3EC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A9929-46A1-4A77-ABE9-4CCC756EB3B6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snici u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i i kooper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i, projektantski i upravn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7F7-D6DE-49D0-8763-17F343ABD1C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ABA21-4FEE-4814-A9FF-14E6A6265D9D}" type="datetime1">
              <a:rPr lang="en-US"/>
              <a:t>07/30/26</a:t>
            </a:fld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 za odštetne zahteve (claims) (čl. 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ava namere u roku od 28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čno slanje novih obračuna tok problem tr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okončanju problema u roku od 28 dana konačan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lučaju propuštanja procedura, iznos klejma ne može da pređe iznos koji utvrdi inženjer 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7AD-1363-4D62-A945-363D4870B366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16BF5-2FA8-43D5-A674-15F662CE570C}" type="datetime1">
              <a:rPr lang="en-US"/>
              <a:t>07/30/26</a:t>
            </a:fld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a izvođača, privremeni radovi i materijal (čl. 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, materijal i privremeni radova koji su potrebni za realizaciju objekta ne mogu biti uklonjeni bez saglasnosti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odnosi se na transportna sred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C48-44A3-4AF6-B585-FC9659007948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4410E-0256-42AD-8DF3-CC88DEF2D8EE}" type="datetime1">
              <a:rPr lang="en-US"/>
              <a:t>07/30/26</a:t>
            </a:fld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nje (čl. 55-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e količine iz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meri, izvođač može da prisustv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dostavlja rezul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14 dana vremena da uloži pri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i se na radove po jediničnim ce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žnost blagovremene pismene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8C6-EDE2-4717-B38B-B04361D398D2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62243-BFF2-46C4-98F1-3444706B7497}" type="datetime1">
              <a:rPr lang="en-US"/>
              <a:t>07/30/26</a:t>
            </a:fld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iznosi (čl. 5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i koji su pokriveni ugovorom, predmerom i predraču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i se prema uputstvima inženjera i njemu se dokazuju trošk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356-FCCD-4116-8E32-196C9B5ED334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B47C8-412E-469C-B69B-55969F666C9C}" type="datetime1">
              <a:rPr lang="en-US"/>
              <a:t>07/30/26</a:t>
            </a:fld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novani podizvođači (čl. 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ugovara sa 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treba da bude obezbeđen od propusta ov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e uslovi pod kojima izvođač može da odbije imenovan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2CE-74C9-4264-AD16-A27CDD9EFE27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3D5DB-9F29-4E0F-A9FC-194682CD542F}" type="datetime1">
              <a:rPr lang="en-US"/>
              <a:t>07/30/26</a:t>
            </a:fld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tifikati i plaćanja (čl. 60-6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dostavlja izjavu sa iznosom koja mu pripada na osnovu izvrše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u roku od 28 dana vrši korecije i potvrđuje iz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 se umanjuje za avans i retencionu svo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 završno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93A-0216-4C0E-9481-61248125E297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92F28-5AB3-42CB-BD00-87BC069522D5}" type="datetime1">
              <a:rPr lang="en-US"/>
              <a:t>07/30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lekovi (čl. 63, 6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naručilac stiče pravo na okončanje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ono što ostav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isključuje lokalne pravne prop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inženjer može da izvede radove koje izvođač neće ili ne mo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207-6331-49A3-A397-9C04A39D39FD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08317-FC58-43D7-9C64-7827740CA770}" type="datetime1">
              <a:rPr lang="en-US"/>
              <a:t>07/30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 (čl. 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treba i zauzimanje radova od stran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ške u inženjerovim projek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rodne sile, ratovi, pobune i revolucije van zemlje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svega se odnosi na finansijsk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 raskidanja ugovora u slučaju 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8B9-4FFB-48CF-8092-CEF86D1C32E5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F0F74-68C1-4D05-B6D7-2C90E9C6C179}" type="datetime1">
              <a:rPr lang="en-US"/>
              <a:t>07/30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tupanje okolnosti posle pisma o prihvatanju koje onemogućava izvršenje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 (čl. 6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prvoj instanci odlučuj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drugoj instanc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no je šta je uzeto kao osnovno pravo (švajcarsko, FIDIC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80A-19C1-4515-81D6-3F6A97AFF102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B920C-7B24-41F4-B159-20475D0746E0}" type="datetime1">
              <a:rPr lang="en-US"/>
              <a:t>07/30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štenja (čl. 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oš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resa mora biti zvan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eno obaveštavanje o promeni adr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689-AB85-4659-A9F7-C7E124D9404B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744B5-D100-45F0-A317-60DD87DB59ED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a su vas učili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veći deo predmeta koji su do sada slušani spadaju u dve kategori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eorijski (matematika, mehanika, mehanika fluida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ojektantski (mehanika tla, beton, čelik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obe kategorije predmeta je karakteristično da postoje neke formule i neka pravila. Ako ispoštujete te formule i pravila, vi ste dobri. Ako ih ne znate ili ne poštujete, niste dob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F81-6E28-4BAE-B5C1-8C705CFBCF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67D47-1783-4D68-85A1-F467887918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ranje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olaže novc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jekt se izvodi zbog njegove žel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inantan pristup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razvijenom sv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ajena ulo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slovensk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interesantno u našim usl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5DB-761E-4B73-B272-59304F90193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F73F7-DD4B-4914-A407-9933E0D87C56}" type="datetime1">
              <a:rPr lang="en-US"/>
              <a:t>07/30/26</a:t>
            </a:fld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, neizdavanje sertifikata, stečaj i 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čno specijalnim riz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oknada svih gubitaka, zajedno sa profitom, ka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usporava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 kasniji nastav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7D1-0680-4517-A0AE-47F7556553BD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0068E-F24E-4746-806C-E92D01E90006}" type="datetime1">
              <a:rPr lang="en-US"/>
              <a:t>07/30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e u troškovima i zakonodavstvu (čl. 7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promene cena rada 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u zakonodavstvu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stalno praćenje cena i zakons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2B6-47AE-4265-BE70-AAB955A78914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E6AC0-39A8-4CB2-BB37-920DD2BC6F20}" type="datetime1">
              <a:rPr lang="en-US"/>
              <a:t>07/30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ze i devizni tečaj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71-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promene deviznog tečaja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ograničenja u deviznom poslovanju u istom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ovde je veoma bitna stalna informis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2CF-0888-4632-BEED-9F3E8FC7BF50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577A1-81A4-4D4D-A21E-F9D71F16B2CB}" type="datetime1">
              <a:rPr lang="en-US"/>
              <a:t>07/30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59D-5FB6-432D-924B-A7ECB970CD78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8C24A-752F-4FCE-8FF8-052FBA23C28A}" type="datetime1">
              <a:rPr lang="en-US"/>
              <a:t>07/30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42F-65F9-4007-A36B-7F7CC03E8C4F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2AE35-1EF4-4CEE-804B-3896CA85B4D8}" type="datetime1">
              <a:rPr lang="en-US"/>
              <a:t>07/30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A0A-09AF-4651-895F-C9F9C25993CE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1BB25-0E43-4A24-A5A1-724274527DD4}" type="datetime1">
              <a:rPr lang="en-US"/>
              <a:t>07/30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utiče na dalji razvoj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zuje želje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voj fazi se ostvari 85%-90% mogućih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sa stanovišta izvođača može početi i tokom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trajati i tokom izvođenja rado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39F-2CF0-4B5D-A7D9-F2ADCF8FFB8C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080E1-BDC9-41F1-955E-A8236BED00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š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dgovornosti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tehničkih uslova i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2D3-4A74-4F43-99B6-64C24AE330D0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B2B77-F5E3-46C2-AAB8-7C0E5972F4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jerarhija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5456160" cy="49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469-548F-4F55-A313-D74D9F49110D}" type="slidenum">
              <a:t>20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F312F-7BC3-4EE0-8C0E-0A00B4FA98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tup u zavisnosti od značaja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idej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čujuć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2DE-03C1-4A2F-A82C-E34AAEAAE3AC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D884B-ED78-4FE6-9D6F-38ECE9F3EB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nvesti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844-F170-4565-9048-826EB55D32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82C36-F9D0-4A18-BA00-39FEFE713FEA}" type="datetime1">
              <a:rPr lang="en-US"/>
              <a:t>07/30/26</a:t>
            </a:fld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82912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glav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donekl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se definisati tokom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ECA-6D49-4D5E-AE24-CD7EF09BF038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A7AF6-A63F-4971-88F2-755CDCFA93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a pripr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ško usaglašavanje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tehnološ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anje mogućih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3D8-E32A-4CF4-9366-E412A33520B5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23FBA-D8AA-45E7-AD29-F15949888A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potrebnih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na poznavan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glašavanje svih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a načina upravljanja, kontrole i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F1C-1357-4691-970C-6F0DBD89B6CB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C9245-53F4-4682-8526-2F07BE88BA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klapanje u okruže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se grade samo na osnovu klasič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at mora da se uklopi u šire okruž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ju se obezbediti uslovi i saglasnosti koje daje administracija, odnosno v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dobijanja uslova i saglasnosti je obično značajno složenija i dugotrajnija od samog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C2E-AA3D-49A8-B7EA-6E6B3F3152BE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1223B-AD77-4603-ADCC-026F34AD82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cija, u načelu, ne daje uslove i saglasnosti na osnovu svoje slobodne vo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i na osnovu kojih administracija izdaje uslove i saglasnosti zovu 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nski doku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i dokumenti definišu prostorni raspored, vrstu i sadržaje objekata koji se mogu g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364-B6ED-44C8-85F8-9D39C5735907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25139-1EAA-4625-A905-E2F8ABC2CE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rebne karakterstike planske dokumen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14440" y="259056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uhvata prostorne i ekonomske kriterij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klađ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predmetu, prostoru i vremenskom perio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isanost, usklađivanje razvoja i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ivanje obavez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izrade i sprovođenja p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8F2-004D-41A4-92D6-E4E2D4AE2661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CC427-C9FC-437E-8FFA-7BBFF3D7D3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u Republici, regionu, gradu i opšt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eštaj stanovni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eža nase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obraćajna i tehnička infrastru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e za stimulisanje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914-057C-4997-B619-E50BAD7A0F03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A864E-7FFC-426D-8213-DD456880B1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i prostorni planovi područja sa posebnom na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 naseljenih mesta, gde ne postoje urbanistički planovi, rade se detaljni prostorni pla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ornim planovima planira se razvoj u narednih 20 god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933-3675-4F44-862F-9D403931C302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4C177-27BF-4C97-BBDB-B11EBF71FA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pri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ku donosi skupština nadležnog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uje se program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uje se komisija za praćenje i uskla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dokumentacije i an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i analiza planova, karata i slič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ao obavlja obrađivač, posebna stručna firma koja je angažovana za ovaj pos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8BD-1DA5-47D2-83C8-9E7779BFDFFF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4515D-A622-4EE5-AD32-9649082732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org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uređenja pro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jivanje i analiza varij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 se izvršnom organu skupš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javne rasp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odluke o izradi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atranje primedbi i pred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ošenje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0AA-348D-4FB4-9AAE-D82210927191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4B024-C2A2-471C-A915-AFE68758B3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po W. Hughes-u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25146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prihvatanja realizacije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ception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studije opravdanosti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easibility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ih reše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e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og i glavnog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tail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govaran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act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rad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jem objekta i puštanje u ra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ission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30E0-139D-4B6F-A849-BC89AED9BD2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189BD-40B3-4D13-9661-702C40F63B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predloga i donošenja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šljenje viših organa v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osi ga skup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avljuje se u službenom glas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C97-935A-414F-9D6C-2CABD17D4A1C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BE8E6-500B-4231-AD3E-177EB324B0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banističk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za područje naseljenog m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đuje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ava rešenja iz prostornog plana konkret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a os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3E6-22AD-44BF-BE97-F9240F70AA2C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A7FD4-48BB-435B-81A0-3DC6BFE025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na sličan način kao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jemu se navodi na koje se vreme don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 se deli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gramskog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storne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0EC-6E08-4E51-B893-2E00E7D05D8C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F4F2C-9555-48A5-90EA-2FBF688FDB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kturne objekte sa priključcima na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koncepciju stambene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ozelenj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štitu prirodnih vrednosti i kulturnih dob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CAA-AA03-4291-AA8E-EF0ED67C1386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6B747-7A06-444B-B226-2656CAADB6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faza urbanističkog plan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da GUP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retizuje GUP u vezi namene provršina i položaja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za manje celine - mesne zajednice, nekoliko blokova 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da previše detal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slično kao G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B33-8813-48C3-BFC3-7670ECFB9D70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A4761-8AA6-4F90-BAAD-1CDF76AE11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stualni deo DUP-a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 deo gde se nav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ni osnov i povod za izradu i donošenje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lj iz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 javne rasp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e za uređenje prostora sa smernicama za privođenje prostora na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B06-F659-4D4C-ABA2-33A51902A2C2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97778-F404-4265-9479-E3DAB6E5C8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i deo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one plan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kte koji se zadržavaju i ruš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ciona i nivelacio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jna rešenja za infrastrukturu i uređenje slobodnih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tske elemente za obele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parcel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8B9-667D-4DE8-80F5-CD93698F34F7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1EEFA-B72E-44F1-8F6C-CCC656807E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 za izradu tehnič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tke o lok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o-tehničk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ožaj regulacione i građevi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ane karakteristik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598-6483-45E3-9B7F-F5C790FBFBF2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92A18-89E1-4AD3-AD46-D57E12BD99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na osnovu DUP-a ili na osnovu privremen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e saglasnosti komunalnih služ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ga organ uprave nadležan za poslove urbani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je slična proceduri donošenja ostalih planskih dokume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13E-E212-494A-B1B3-07A204D63BB1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CC773-5ABE-4A74-A5BD-3798078B72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eđenje zemlj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funkcionišu bez prateće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troškova izgradnje objekta moraju se uračunati i troškovi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izgradnju na području Beograda plaća se opremanje zemljišta Gradskoj direkciji za puteve i zemlj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und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7C7-357D-414D-BDC4-73A45DFF4455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28D27-2192-4FE1-A978-DD74F10DB9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 real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i proširenje baze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A04-4395-4848-8261-86CADE8A80B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8D0B2-FE2E-4267-8A07-B95FB37B65B6}" type="datetime1">
              <a:rPr lang="en-US"/>
              <a:t>07/30/26</a:t>
            </a:fld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at tehnologije i organizacija grad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za sagledavanje stvar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6C0-44DF-4CCD-A77C-758215B30F0D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BEBA6-4243-433C-8CE8-BE22C31149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o gra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detske, ge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rološke i meteor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snabde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eksperata i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515-4F53-4B4D-AAE6-3A378CC7A929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F3E20-CCA8-4788-A1C5-4ACE1D5454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opis sa tehničkim uslovima za 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račun fonda radnog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cena materijala “franko gradiliš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iri i uži izbor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montaž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čki planovi potreba za resur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3B9-C3A8-47F8-ACAB-712695835818}" type="slidenum">
              <a:t>2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E3E71-CBBC-47DA-A734-2233F92535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enje informacionog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organizacije gradil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predhodnih i priprem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 zaštite na ra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AE6-47F7-46E5-B2CE-7855098DAC6A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9C9BB-711C-4526-B215-47855CC21C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8BB-5FA5-40AB-9F36-19F03D1D5CB1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77694-4A7E-4C64-8BE7-E463CD8356EF}" type="datetime1">
              <a:rPr lang="en-US"/>
              <a:t>07/30/26</a:t>
            </a:fld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đenje radova na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03B-1644-4D1B-AA8D-8184D7E0B0B2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F0C24-70A4-4408-8C0B-91974BE2AB0B}" type="datetime1">
              <a:rPr lang="en-US"/>
              <a:t>07/30/26</a:t>
            </a:fld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963-4DEC-4DDA-8144-8AF299BCE9CE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5D6C8-B3B9-4445-B854-C3B37AE57EE9}" type="datetime1">
              <a:rPr lang="en-US"/>
              <a:t>07/30/26</a:t>
            </a:fld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ktična realizacija idealizovanog modela koji je do tada razrađ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tovo uvek model se mora prilagođavati realnos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95A-5E9E-4C98-B214-A1AF0EDF5C2A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6C855-032A-4345-8864-B91D589F9B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gradnja uz razradu tehničko-tehnoloških i organizacionih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rcijalne aktivnosti vezane za obezbeđenje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sopstvenih ugovornih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ugovornih obavez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C22-053E-40AF-9D04-EAEB637BBC4B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1B9CF-8624-45EC-AA4F-C0AC05C8B4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a pitanja na koja moramo odgovara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i je obim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e saradnike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o vremena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i su troškovi ovog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kav kvalitet moramo da ostvari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407-DF5F-494B-ACE1-B7F56329B6D5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3ACEF-F492-4994-932F-4F581BC9B6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smo naučil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ški 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32B-50F6-4BF4-8F34-2A1ED238672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8B5E5-21CE-4F91-BA18-F8123C339766}" type="datetime1">
              <a:rPr lang="en-US"/>
              <a:t>07/30/26</a:t>
            </a:fld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na navedena pitanja se mogu unapred zn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se menjaju vremenom zbog razvoja situ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dovoljno odgovoriti na ova pitanja samo u jednom trenut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i se moraju pribavljati i korigovati tokom celog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613-80BB-4BFD-8782-CE9D2801BCBD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DF617-0603-4183-83D5-CC193C60FD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(plan) budućih događ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o st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akcije za smanjenje odstup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756-878C-4767-8006-8E18C8AA9F2F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F80F9-6DB0-4C93-AFF9-096EDBE2DD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 je obavezan uslov za  kontrolu realizacije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e osobine informacionog sistema za kontrolu realizacije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opljen u IS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obijanja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procene efekata odl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istribucije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je potrebna, ali ne apsolutna tačno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41E-411E-4FF6-91BC-E024C81AB8FE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A116F-4A82-49A8-B861-A59E3693D8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odvija na osnovu procena obima radova, procene praktičnog učinka i sagledavanj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prikazuje u mreženom pl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tačnih pl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ovi se stalno ispravljaju i prilagođavaju stvar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C09-1BA0-4B09-91D6-45D113C282DD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1FDF5-E812-4E3B-A780-9F044C2F13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stoji efikasan način da se automatski stigne od predmera do mrežnog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automatizovati samo veoma jednostavne pro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oželjno uspostaviti vezu između predmera i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mora kvalitetno ostva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ne mora biti potpuno t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7C1-39BF-4E57-9432-5D6692FA4B4A}" type="slidenum">
              <a:t>2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B7182-C37D-4EF6-9290-F946966DF2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kvalitetni programi za mrežno 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se može realizovati brzo, efikasno i pregl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dobiti odgovori na pitanja “Šta - ak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8B16-B980-4EAE-A965-4606D83E87A9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442D2-7DB3-4229-A530-BB0352A4F3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, možda najvažnije merilo uspeh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započeti sa kontrolom troškova što ran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troškove se najbolje utiče na samom početku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samom početku rada na projektu najslabije poznajemo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7409-90E0-42F7-92A0-A5CF16385B96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E309B-31BD-483E-847F-9B0158C42A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ranih studija na troškov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čine 2% vred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mogu da pruže 50% doprinosa profitabil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 definiše troškove s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šću ± 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projektne dokumentacije je ostvareno 85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553-08D9-4A5D-922B-A0E38DFDB216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C6524-FDF6-4902-B51D-7A5DB95E8B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raćenje vremena realizacije projekta može da značajno poveć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ženje vremena realizacije projekta može takođe da značajno podign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izabrati optimalno trajan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je primena kvalitetnih programa za planiranje tokom kontr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892-8AE3-41DD-BCEA-00D0096A8DD0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7B35F-CB5F-4F2B-BEE9-B0C32C10C2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 na bazi utroška resur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razrađen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paralelna 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ostvariti detaljnu kontrol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ost modela se mora pažljivo odrediti, da ne bi postao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6FB-71AA-4958-A863-AFA330EDEAD0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25566-70BA-44C8-ACD4-CC2B06D345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ćemo radit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živanje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a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rojektne dokumentacije i pri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vođe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istorijsk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6CEB-54C5-4C42-882D-7B63ADF0768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8F45A-B9D3-43F7-9727-3D4EFBB2E3AD}" type="datetime1">
              <a:rPr lang="en-US"/>
              <a:t>07/30/26</a:t>
            </a:fld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ih i realizovanih troškova po aktiv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efikasnog plana ne postoji direktna veza između aktivnosti i pozic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baviti kreativno povezivanje ta dva sk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21D-701B-44A3-8BBB-D6FC668B5786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3E2E0-4A6D-410B-9443-1907ED20BD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proceniti očekivane troškove pojedinih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i konkretan trošak treba pridruživati konkretnoj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rocene i stvarnog iznosa je osnova za kontro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DDE-D7F4-4368-8ACA-89398423D819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A316D-3BC5-4084-910B-375400ECC0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nostavniji i manje kvalitetan način je poređenje procenjenog troška pozicije radova i realizova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daje pregled u vre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presporo za efikasno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se sprovodi kroz čisto knjigovod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poboljšanje kroz primenu troškovno značajnih stav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4F5-594A-445B-9999-C20AE25BB502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652A2-6A48-426A-8D52-440E1CE310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oka novca (cash flow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toka nov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od životnog značaja za izvođača, pogotovu u naš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jedini način realne kontrole troškova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61A-0BCB-4DC1-B2CC-7B0FF12CA000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27BD6-FDC1-490C-A58F-9BC30FA7CE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a za razrešavanje sporov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bazirati na strategiji firme prema projektu i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voditi precizno i paž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stavlja deo ugovor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se vodi preko građevinske knjige i dnev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99B-E144-41FB-8923-D3322D7271D8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6F610-67E3-40EB-B4A3-E8730CB0C8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se vodi preko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u dugotrajnim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je deo IS koji će se baviti ovom prepisk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postoji klasifikacija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103-7DE8-4C64-8FE1-F761A2A9E88D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57464-2F8E-4A66-A0CA-328BBF8E56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asifikacija dopi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tehnologij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ro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o radovim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na licu me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te 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log za izmenu pozici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iation 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emna li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quest for approval of wor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evni izveštaj o izvođenju radov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ily re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6EA-ED55-4BCD-8F48-FA1760EE0053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66480-0253-44AA-AA63-23CD5EE7F7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i prateća doku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(računajući i situacije, planove i 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isnici sa sastan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i raznovr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je tokom celog toka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 efikasnog korišćenja dokumentacije može da zavisi veoma mn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712-844D-4E8A-B417-384E4B18B1A6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8F4D1-CA3E-4BB7-AD41-946D423FA6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čni metod arhiviranja je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o je praktično nemoguće dobiti prav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rganizovati sistem unošenja, analiziranja i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bitan interaktivan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neophodno unositi u računar cele doku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AE6-C63D-44F0-AD8D-126E87853DC2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1B822-E716-4121-8BD2-35323C2AA0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carinskim i komercijalnim poslov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da u neinženjerske poslove, po klasič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ro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zoravanje kori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9824-D5BC-4A0B-84F2-94920D12D4E7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C31AD-47A3-4953-8F83-D787D29BFF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E70-D055-4020-9BCA-FAA2799B542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C0FA0-AA74-45FC-B5E8-237131625DC8}" type="datetime1">
              <a:rPr lang="en-US"/>
              <a:t>07/30/26</a:t>
            </a:fld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E8F-30FA-4E93-99A6-8A3F0E4B514F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34AF9-566E-407A-BA8E-4618F2FB891C}" type="datetime1">
              <a:rPr lang="en-US"/>
              <a:t>07/30/26</a:t>
            </a:fld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47E-9979-4714-839A-37375739206D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523FA-2112-449B-AD69-DD6898707C16}" type="datetime1">
              <a:rPr lang="en-US"/>
              <a:t>07/30/26</a:t>
            </a:fld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5F4-566F-492C-B24E-3C8DA2CB3D37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63925-9CE2-47D9-99E9-72ED957513F2}" type="datetime1">
              <a:rPr lang="en-US"/>
              <a:t>07/30/26</a:t>
            </a:fld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14440" y="5000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5829120" cy="739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vija se tokom celog projek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vanje izvršenog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varni cilj svako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i uslov je dokumentacija a ne izvrš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podležu nacionalnim zako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zasnivati na internacional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E14-149F-43E4-BA49-EA350C6B7266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E0FD1-3F17-4172-8F89-3B1B2BE479A9}" type="datetime1">
              <a:rPr lang="en-US"/>
              <a:t>07/30/26</a:t>
            </a:fld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 L Times"/>
              </a:rPr>
              <a:t>FID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, dopune i ispušt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itivanj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i u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po tuđim specifik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oć drugim izvođač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tokom garantnog r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790-C0F9-45E3-A30C-EB609D71B1C0}" type="slidenum">
              <a:t>2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20384-2C86-4194-BC72-C7F9B65EA0E7}" type="datetime1">
              <a:rPr lang="en-US"/>
              <a:t>07/30/26</a:t>
            </a:fld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e cene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ovani mode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merenja prema FIDIC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hodno oba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tražen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rezult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dbe u roku od 14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A7D-D105-463E-946F-F1697F2E3B18}" type="slidenum">
              <a:t>2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5A871-9A2E-4D4E-837F-A67C6C97BAFC}" type="datetime1">
              <a:rPr lang="en-US"/>
              <a:t>07/30/26</a:t>
            </a:fld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pismeni nalog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je obavestiti inženjera u roku od 14 dana o zahtevu za dodatnu naplatu (količine ili ce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ukupna izmena pređe 15%, moguća je naplata i ako nalog ne posto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159-F10D-4E13-ACB0-54DBE72913EF}" type="slidenum">
              <a:t>2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75B2B-0671-4FD5-86F6-E26E71CF0053}" type="datetime1">
              <a:rPr lang="en-US"/>
              <a:t>07/30/26</a:t>
            </a:fld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ranje radova za koje se u trenutku sklapanja nije znalo da li će biti izved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e se na osnovu odobrenja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u se dostavljaju ponude, računi, fakture i 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8AE-999D-45BA-B239-CD8B52F69677}" type="slidenum">
              <a:t>2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09124-5D06-4537-9EC7-37381DC007BB}" type="datetime1">
              <a:rPr lang="en-US"/>
              <a:t>07/30/26</a:t>
            </a:fld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kvalit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čna procedura kao za mer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eno odredbam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čestanost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redviđeno u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plata od strane "krivc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A02-C25B-47BC-A11C-8168A1FBEF1F}" type="slidenum">
              <a:t>2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BB0CB-004C-4D5C-8C06-81CD1F6534DA}" type="datetime1">
              <a:rPr lang="en-US"/>
              <a:t>07/30/26</a:t>
            </a:fld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je tuđih specifik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je ugovoreno na osnovu specifikacija koje nije uradio, izvođač može da naplati prekoračenje količ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i i ako su specifikacije bile poznate u toku sklap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D8C-8149-46DD-A501-5CB2E766180E}" type="slidenum">
              <a:t>2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B2732-8D76-44D7-A3ED-93477A554D0D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formiranja koncep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3200400"/>
          <a:ext cx="600048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600048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205-1569-4A4E-99BC-E8EFAA41D7EB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19BF7-65A6-469C-A090-0733107E5292}" type="datetime1">
              <a:rPr lang="en-US"/>
              <a:t>07/30/26</a:t>
            </a:fld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drugim izvođači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n je pismeni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je poželjno da su uneti u spec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štećenja javnih puteva nastala i pored brig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B96-1559-4892-BF0F-C72CC6673CC3}" type="slidenum">
              <a:t>2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473DA-990E-440F-84AE-2397842056D5}" type="datetime1">
              <a:rPr lang="en-US"/>
              <a:t>07/30/26</a:t>
            </a:fld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ni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zvršava naloge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utvđuje odgovornost i naplata, na osnovu ov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može preuzeti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izvedene radove i naknadu za ostavljeno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34E-DE86-46ED-A7A8-A1DC4657E0F0}" type="slidenum">
              <a:t>2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AE85A-67A7-4B41-BDB7-1A30F5394BDC}" type="datetime1">
              <a:rPr lang="en-US"/>
              <a:t>07/30/26</a:t>
            </a:fld>
          </a:p>
        </p:txBody>
      </p:sp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 i oružani suko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zdavanje sertifi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č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A4F-AF3D-40BC-B80F-91CDA6B0657C}" type="slidenum">
              <a:t>2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86235-A12F-41F0-8C56-7A2F6FAAA82D}" type="datetime1">
              <a:rPr lang="en-US"/>
              <a:t>07/30/26</a:t>
            </a:fld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14440" y="1295280"/>
            <a:ext cx="5829120" cy="792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sertifik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i odobrav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na izvrše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o preuzimanju aktivnosti tokom garantnog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za otklanjanje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jska porav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po završe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rt konačne izj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a iz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i sertifi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731-758B-4AAC-8893-DA4E109DE129}" type="slidenum">
              <a:t>2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36A35-A8E0-45CB-8CF2-D1EE26127A5D}" type="datetime1">
              <a:rPr lang="en-US"/>
              <a:t>07/30/26</a:t>
            </a:fld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klauz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ovi nominovanih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e, materijali i stand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E95-D882-4CA6-9EB9-86DB835222BE}" type="slidenum">
              <a:t>2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2A905-E106-46E8-AA51-F1A907E49E17}" type="datetime1">
              <a:rPr lang="en-US"/>
              <a:t>07/30/26</a:t>
            </a:fld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14440" y="2819160"/>
            <a:ext cx="582912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podataka dobijenih od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prostora za gradilište i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ovo neispunjavanje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nac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 pri obeleža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95A-6870-49BD-A5FE-B613793974A3}" type="slidenum">
              <a:t>2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F7006-CC8E-4462-9601-FDAC8E415AF7}" type="datetime1">
              <a:rPr lang="en-US"/>
              <a:t>07/30/26</a:t>
            </a:fld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3776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 van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nih tereta van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D1F-4283-40F2-8414-2608FB859F6E}" type="slidenum">
              <a:t>2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52A0C-FC3B-432F-9044-3CA679873EE2}" type="datetime1">
              <a:rPr lang="en-US"/>
              <a:t>07/30/26</a:t>
            </a:fld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tupak pokretanja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ena najava inženjeru u roku od 28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ob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zahtev za plaćanje u bilo kojoj meseč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obravanje od strane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6B7-098E-424C-BEAC-7A619B2FF9BF}" type="slidenum">
              <a:t>2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8B481-E68F-439E-A6D5-6CDEDA893534}" type="datetime1">
              <a:rPr lang="en-US"/>
              <a:t>07/30/26</a:t>
            </a:fld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om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ž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zni vremenski 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avljeno dovoljno vremena za odlučivanje o arbitra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453-CB34-49BB-B1E8-1DF107A89A85}" type="slidenum">
              <a:t>2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C9B3A-F7EE-49E6-88D0-38EACA90DF66}" type="datetime1">
              <a:rPr lang="en-US"/>
              <a:t>07/30/26</a:t>
            </a:fld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F2C-090D-4B68-BCDB-6C6187DC5C37}" type="slidenum">
              <a:t>2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05C89-A73C-4E64-A00B-5939457D1B20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koncepcije - faza "juriša"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Želj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radi racionalnog sagledavanja že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jn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materijalizuje žel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 pomažu investitoru da donosi odl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4F0-6481-4151-9105-417F144C539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6FEC5-238E-4A48-B1D2-7871C7B2BCD5}" type="datetime1">
              <a:rPr lang="en-US"/>
              <a:t>07/30/26</a:t>
            </a:fld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F4E-222E-4BBE-B514-D90D78C44776}" type="slidenum">
              <a:t>2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C94B4-8919-46CE-B175-35AE8B8B2AF6}" type="datetime1">
              <a:rPr lang="en-US"/>
              <a:t>07/30/26</a:t>
            </a:fld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029-775E-4894-9CED-F49A2A47027B}" type="slidenum">
              <a:t>2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D02FF-388A-41BF-A9C4-8E0713E15AF3}" type="datetime1">
              <a:rPr lang="en-US"/>
              <a:t>07/30/26</a:t>
            </a:fld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jedno sa istraživanjem tržišta odvija se nezavisno od konkret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izvor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 najvredniju imovinu firme - zn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njuje zavisnost firme od pojedin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525-A9CB-4E58-A277-AE714DCCC496}" type="slidenum">
              <a:t>2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35F01-313E-4C1E-9C66-3403BB668E08}" type="datetime1">
              <a:rPr lang="en-US"/>
              <a:t>07/30/26</a:t>
            </a:fld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zavisne od konkretn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izvor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sistematizacija i sažimanje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3EF-0BAE-463D-8D13-BE2687917F2D}" type="slidenum">
              <a:t>2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996D8-7DEB-4031-9EE4-96B35583D6D5}" type="datetime1">
              <a:rPr lang="en-US"/>
              <a:t>07/30/26</a:t>
            </a:fld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u realizaciji projekata (investitor, izvođač, konsultant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ža oblast delovanja (izgradnja tunela, stanova, mostova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karakteristike firme (organizaciona struktura, veličina, strateg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znanja i iskus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lj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CE2-D474-47AC-AE12-31DB447A8EF2}" type="slidenum">
              <a:t>2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2B933-046F-43EE-B732-5E06D6A150C0}" type="datetime1">
              <a:rPr lang="en-US"/>
              <a:t>07/30/26</a:t>
            </a:fld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sistema i sagledavanje potreba za istorijskim poda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iranje izvo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 i toka informacija 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sadržaja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specifikacije za nabavku hardv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3E2-4989-4029-9D82-CD41BC21DA40}" type="slidenum">
              <a:t>2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E9E88-C991-485F-8F2B-97496C810B6B}" type="datetime1">
              <a:rPr lang="en-US"/>
              <a:t>07/30/26</a:t>
            </a:fld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implementcij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inuirano prikupljanje, selekcija i unoš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baze podataka (pretraživanje, izveštavanje, povezivanje različitih tipova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C97-D332-46F9-8CCC-9230C99C096B}" type="slidenum">
              <a:t>2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357BD-FC68-4902-9E9E-DC8C4A69B2A1}" type="datetime1">
              <a:rPr lang="en-US"/>
              <a:t>07/30/26</a:t>
            </a:fld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investicionim radovima, potpuno ili delimično realizov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i i pred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đevinski dnevnici i knj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cije o fizičkoj i finansijskoj real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izveštaji o kontroli vremena 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A80-00DC-49C8-80C7-D1FE565357EB}" type="slidenum">
              <a:t>2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06B2A-6E1B-42ED-9967-FBC02431989A}" type="datetime1">
              <a:rPr lang="en-US"/>
              <a:t>07/30/26</a:t>
            </a:fld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ski i drugi izveštaji o kontrol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e specif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a projektn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ugrađenoj opr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kovani iskustveni norm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a i zapisnici o ključnim tehničkim proble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112-336D-40F2-ADF7-A0BF8A53A672}" type="slidenum">
              <a:t>2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AD6C6-BDAA-451C-9B9B-5C539DC37FA3}" type="datetime1">
              <a:rPr lang="en-US"/>
              <a:t>07/30/26</a:t>
            </a:fld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rišćenoj mehan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carinskim i drugim komercijalnim troš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osigu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lokalne radne snage i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radu sklad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475-3974-4ECE-A62C-881C55330D61}" type="slidenum">
              <a:t>2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18AF5-26C2-4709-B489-406B99D48DBC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š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3505320"/>
          <a:ext cx="572796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572796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DB0-F327-430F-8F44-B3909E854AE5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59F7A-B7E8-4E7A-86CA-319BD73D21F0}" type="datetime1">
              <a:rPr lang="en-US"/>
              <a:t>07/30/26</a:t>
            </a:fld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ska eviden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e zvanične lokalne publ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imljeni materijali o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a zapažanja pojedi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1A8-3764-40ED-9F14-4DC569F6876E}" type="slidenum">
              <a:t>2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0608A-AF83-4A34-90DF-83EB63AF93E4}" type="datetime1">
              <a:rPr lang="en-US"/>
              <a:t>07/30/26</a:t>
            </a:fld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stvarno izvedenim količinama i naplaćenim cen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, po jedinici mere, o utrošku radne snage, mehanizacije i materijala, finansijski efekti i vreme izvo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unkcionisanju maš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podaci o izvedenim rad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CC5-9262-45D4-874F-E357F5FACC8B}" type="slidenum">
              <a:t>2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9E46A-B680-4580-901C-E45571756B3B}" type="datetime1">
              <a:rPr lang="en-US"/>
              <a:t>07/30/26</a:t>
            </a:fld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opremi (podizvođači, cene, vremena isporuke, transport, montaža, probni pogon i garantni 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(učešće i kvalitet r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investitor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i podaci iz lokalnih publ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bitni za 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17C-1AE0-4F12-AF99-D7591E5DE106}" type="slidenum">
              <a:t>2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5516B-E22F-4C93-8A61-638B9262787E}" type="datetime1">
              <a:rPr lang="en-US"/>
              <a:t>07/30/26</a:t>
            </a:fld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0AA-F55A-4917-A9B3-F39F23E3FCA7}" type="slidenum">
              <a:t>2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CA18C-2E9E-4319-B840-893D0AACA989}" type="datetime1">
              <a:rPr lang="en-US"/>
              <a:t>07/30/26</a:t>
            </a:fld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7CB-C781-451A-AED9-244C79E8CC13}" type="slidenum">
              <a:t>2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E0BDC-311B-4CF3-9724-DA847D39C6EA}" type="datetime1">
              <a:rPr lang="en-US"/>
              <a:t>07/30/26</a:t>
            </a:fld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FA7-ACD0-4968-B7CE-99FA2C060210}" type="slidenum">
              <a:t>2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B9C99-93F2-46FF-8F34-004E467D945E}" type="datetime1">
              <a:rPr lang="en-US"/>
              <a:t>07/30/26</a:t>
            </a:fld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je znatno više od prostog skupa de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ovi sistema su povezani vez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transformišu i razmenjuju res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imaju svoj cil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podeliti na podsiste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ABD1-5BB7-45AA-B475-B99BEFE56700}" type="slidenum">
              <a:t>2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3DEEF-BDA0-441F-A52E-292D8BBA46A1}" type="datetime1">
              <a:rPr lang="en-US"/>
              <a:t>07/30/26</a:t>
            </a:fld>
          </a:p>
        </p:txBody>
      </p:sp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u građevinarstvu reaguju na spoljne uticaje (otvoreni siste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ma u građevinarstvu se može upravlj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 se na osnovu resursa "informacij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75A-71AE-46C4-A17A-8F43D642AFD5}" type="slidenum">
              <a:t>2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34389-3E44-4D25-83E2-4ECE9F644926}" type="datetime1">
              <a:rPr lang="en-US"/>
              <a:t>07/30/26</a:t>
            </a:fld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sistemi za razmenu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bi upravljanje bilo moguće, treba da odgovara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u "činjenice iz kojih možemo da izvučemo zaključk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e su "značenja koji čovek pripisuje podacim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E00-C3F3-4CA1-8B44-C3C64F0E7205}" type="slidenum">
              <a:t>2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D9D49-1504-46D2-9BDD-7D045DF4AD42}" type="datetime1">
              <a:rPr lang="en-US"/>
              <a:t>07/30/26</a:t>
            </a:fld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tke je potrebno prikupiti, skladištiti i ob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posle obrade dobijamo informaciju koja je kori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st informacije opada sa vre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a treba da bude tačna, dovoljna i pravo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B49-5921-43E6-BAAF-A24C63F6602E}" type="slidenum">
              <a:t>2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AC04D-2B3C-4E05-9BBE-09DF4609965A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šta ćemo vas mi uči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ncipi upravljanja se razlikuju od principa matemat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ema opštih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rešiti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“snaći 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ije dovoljno znati “šta je predava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znanje ima smisla samo ako se kreativno primenjuje u realnim situ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296-8BAF-4FD4-AA1B-324FC45C81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0385A-F9A4-41DB-BBB0-6B5530B6A8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"rovovska" borb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eni su suštinski po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te su suštinske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investitora je da kontroliše na bazi predhodnih z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680-0391-42BA-81BC-56717CC6FC4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E2F29-8BCC-442E-A82B-156D60936517}" type="datetime1">
              <a:rPr lang="en-US"/>
              <a:t>07/30/26</a:t>
            </a:fld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u upravljanju projektim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 odgovara interak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i informisanja odgovaraju učesni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govremenost je od suštinskog znač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čunari nisu obavezni ali pomaž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treba da bude slična sam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593-9019-419E-B583-EC4A58463280}" type="slidenum">
              <a:t>3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C22E0-5557-421A-A822-BF7E68E8C25B}" type="datetime1">
              <a:rPr lang="en-US"/>
              <a:t>07/30/26</a:t>
            </a:fld>
          </a:p>
        </p:txBody>
      </p:sp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S za upravljanje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5797440" cy="28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136B-C0FC-402C-99F2-A579D5D993A0}" type="slidenum">
              <a:t>30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579CE-AD59-4F0A-A7D0-F1C0C002C37D}" type="datetime1">
              <a:rPr lang="en-US"/>
              <a:t>07/30/26</a:t>
            </a:fld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vivaletan je modelu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čari se ne razumeju u menadž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zumevanje da je potrebna investicija koje će se ispla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ocenjivanje budućih organizacionih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sagledavanje potreba za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odr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EF5-5BE8-4722-AB25-BCD5B6342032}" type="slidenum">
              <a:t>3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3FE34-9C05-434F-9B93-CC2C1B9E2053}" type="datetime1">
              <a:rPr lang="en-US"/>
              <a:t>07/30/26</a:t>
            </a:fld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budućeg razvoja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kad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log poboljšanja u rukovo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en konkretnom poslovn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budž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B16-9BF8-4A39-AB99-4205C6644C31}" type="slidenum">
              <a:t>3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D8A4E-D8D5-4D16-9EA9-7A2F651772BB}" type="datetime1">
              <a:rPr lang="en-US"/>
              <a:t>07/30/26</a:t>
            </a:fld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e postavk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e podataka su "kolekcije podatak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poslovnu primenu trebaju 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investitorima u rokov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zaposlenima u ličnim dosije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knjigovodstvu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. .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a od navedenih skupova su "tabel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2B1-2AC2-4D30-8799-290E42137012}" type="slidenum">
              <a:t>3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E05F3-F5EE-4156-8420-C0EAE1504E59}" type="datetime1">
              <a:rPr lang="en-US"/>
              <a:t>07/30/26</a:t>
            </a:fld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e između tabe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 nisu nezavis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komuniciraju sa pojedinim poslovnim partne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poslovnim partner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BE0-5D0B-4E1C-8A00-95D2E047461D}" type="slidenum">
              <a:t>3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6386E-B950-4B96-9EA5-A796CD1DBBED}" type="datetime1">
              <a:rPr lang="en-US"/>
              <a:t>07/30/26</a:t>
            </a:fld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sno definisan matematičk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avaju smeštaj podataka na jednom me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u 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uje efikasnu pripremu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uje raspodelu prav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E0E-5706-4A1B-85B3-6132F07AFFBD}" type="slidenum">
              <a:t>3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9DD0D-E7E9-4195-A73B-EB5947F6B1F4}" type="datetime1">
              <a:rPr lang="en-US"/>
              <a:t>07/30/26</a:t>
            </a:fld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i 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i (que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ri (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eštaji (Re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i za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nički interfejs (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071-E0A4-4684-82DB-B83EBA593487}" type="slidenum">
              <a:t>3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C57A7-4318-47BB-A879-E1A62FC6BD2E}" type="datetime1">
              <a:rPr lang="en-US"/>
              <a:t>07/30/26</a:t>
            </a:fld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tribuiranost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 mogu da budu smeštene na različitim računa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postoje kvalitetne telekomunikacione veze i programi, distribuiranost može biti prozirna (transparent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postojati redundansa (višestruko ponavljanje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univerzalni jezik (SQ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68A-1071-4809-94CC-6C10FE9AA896}" type="slidenum">
              <a:t>3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1E2F2-1518-4265-B902-B6E97C25E154}" type="datetime1">
              <a:rPr lang="en-US"/>
              <a:t>07/30/26</a:t>
            </a:fld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i na svim sistemima od velikih do mal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pogodan za velike 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ije ne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oji za Windows NT okr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no 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aničen PC i Windows arhitektu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5F7-4C4F-4078-9DE4-69C1FA6F957B}" type="slidenum">
              <a:t>3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A6146-9D8C-4312-B8D3-6AD024973E31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činje završetkom garantnog r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ciono dobro se u potpunosti prepušt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na 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om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ika i tehn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spada u upravljanje projektima u užem smis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3AF-0D5C-4B49-87EF-3E1166799D7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1C677-CFA7-4808-97EA-7193655F8300}" type="datetime1">
              <a:rPr lang="en-US"/>
              <a:t>07/30/26</a:t>
            </a:fld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window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 platformom i OS-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ro povezan sa osta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DO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, ali donekle ogranič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ednj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6D0-C0C4-4FC7-9DBB-E9F64AA8B3DD}" type="slidenum">
              <a:t>3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F989F-35B5-4CDD-B096-FE555B93DA6E}" type="datetime1">
              <a:rPr lang="en-US"/>
              <a:t>07/30/26</a:t>
            </a:fld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municiranje između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univerzalnog jezika (S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tabela u standardnom formatu (d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z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eč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komunikacioni ka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e 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1AF-DA19-4958-A891-BDA395B64974}" type="slidenum">
              <a:t>3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C35AF-C530-4AF2-B0BE-7D5D27BDF374}" type="datetime1">
              <a:rPr lang="en-US"/>
              <a:t>07/30/26</a:t>
            </a:fld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ijent-sever konce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"poslužilac (server)" koji je dovoljno "fizički jak" da opsluži više "mušterija (klijent)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jent postavi zahtev, server obradi podatke i vrati ih ob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iše se koristi baš z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3C6-CCE2-4FAF-ADF7-FA7966FA1818}" type="slidenum">
              <a:t>3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26B70-1C14-4D46-B765-1193B65D76BD}" type="datetime1">
              <a:rPr lang="en-US"/>
              <a:t>07/30/26</a:t>
            </a:fld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j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53C-0AB2-4D5E-9616-D6831EAF6269}" type="slidenum">
              <a:t>3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7D7F6-4A45-4C12-82DA-27C024048B1D}" type="datetime1">
              <a:rPr lang="en-US"/>
              <a:t>07/30/26</a:t>
            </a:fld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ljivos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še korisnika (pojedinaca ili programa) deli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unose samo jed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mnogo p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ograničavanja prava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8BD-6EAA-4342-97CB-1995B1FAD05F}" type="slidenum">
              <a:t>3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C148E-6064-4284-89EF-D1EDB39FD4AC}" type="datetime1">
              <a:rPr lang="en-US"/>
              <a:t>07/30/26</a:t>
            </a:fld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14440" y="2557080"/>
            <a:ext cx="5829120" cy="67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kasan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trenu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željenom me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obl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adišt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i jez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e metode ob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like između korisnik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orjentisani (komand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čunarski orjentisani (interaktiv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6AF-9585-40C8-ADA8-D7CDC41CC562}" type="slidenum">
              <a:t>3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1B181-4EF8-491A-80FC-2B3EE582A4A5}" type="datetime1">
              <a:rPr lang="en-US"/>
              <a:t>07/30/26</a:t>
            </a:fld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niza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daljen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vencijal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niž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59E-074B-4586-ACF1-610EC20B4A6E}" type="slidenum">
              <a:t>3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C043D-77E9-461A-A12C-4069178ADBB8}" type="datetime1">
              <a:rPr lang="en-US"/>
              <a:t>07/30/26</a:t>
            </a:fld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viso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izak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tehničkog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ut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viš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EFA-0DE9-40B9-86AA-A6479073129D}" type="slidenum">
              <a:t>3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03BD8-1CCB-41BF-83FD-DFF013289114}" type="datetime1">
              <a:rPr lang="en-US"/>
              <a:t>07/30/26</a:t>
            </a:fld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sobnost menjanja i prilagođa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veze za prošir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ćanje performansi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a format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novih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678-5418-45CB-BF3C-019AD4579BC7}" type="slidenum">
              <a:t>3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A038E-A99F-4C03-BA69-34FFACB735D4}" type="datetime1">
              <a:rPr lang="en-US"/>
              <a:t>07/30/26</a:t>
            </a:fld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grite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judske greš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grešno uneti pod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estruko unoš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zdanost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kazi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organizacioni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168-0692-43B3-8E48-66A263D198B0}" type="slidenum">
              <a:t>3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68858-4A24-4B3E-A840-CC4279609F2D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duje novac koji želi da invest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ra da bude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učesnik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predmet izučavanja u razvijenim zeml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z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CE8-FA48-464B-94E6-4ADB158D3D8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3E9DD-3270-4D35-8B8A-6047B8AC2FDA}" type="datetime1">
              <a:rPr lang="en-US"/>
              <a:t>07/30/26</a:t>
            </a:fld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htevi 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eira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sanje novog izvešt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ti za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i korisnici (česta slab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željno je da i administrator i koris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FF2-D4AD-44BE-BDFE-F3D3EED0852D}" type="slidenum">
              <a:t>3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99392-9833-48AC-9DD8-ADE351A7386C}" type="datetime1">
              <a:rPr lang="en-US"/>
              <a:t>07/30/26</a:t>
            </a:fld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1E7-95BD-4C1E-B754-659540677AE7}" type="slidenum">
              <a:t>3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BDF34-2D2F-4511-8CB1-E9FB9B502C15}" type="datetime1">
              <a:rPr lang="en-US"/>
              <a:t>07/30/26</a:t>
            </a:fld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traživanje Inter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0AB-D024-447A-8911-AE484F40BC02}" type="slidenum">
              <a:t>3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39492-5554-4062-9577-CFFB7860F363}" type="datetime1">
              <a:rPr lang="en-US"/>
              <a:t>07/30/26</a:t>
            </a:fld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vet u kome živimo je baziran na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iše od 95% istraživača koji su ikada živeli još su ž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je verovatno da neko, negde ima informacije koje nas zanim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često, najbolje i najefikasnije je da prikupimo i organizujemo postojeće informacije na drugi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979-A1F9-4B81-A8E5-C82008AA3ECB}" type="slidenum">
              <a:t>3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4A855-2F37-4BFB-94B3-DFD79C2432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Razmen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 sada, stručnjaci su provodili najveći deo svog vremena u potrazi za postojećim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bolja pomoć svakom stručnjaku je mišljenje nekog kolege, koji se negde u svetu bavim sličnim pos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mena podataka i komunikacija između stručnjaka je osnova stručnog i naučnog napret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3BE-AC70-47CD-9B3A-4DBE50795F3D}" type="slidenum">
              <a:t>3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A4C40-6E44-443D-B276-2CC1ADAC4F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re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biblioteke bile najvažnije institucije za prikupljanje znanja koje su stručnjaci korist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iblioteke su bile među prvim institucijama koje su počele da primenjuju informacion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važnijih prodora je bilo pretraživanje bibliotečkih kataloga na daljinu, obično uz pomoć mod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29A3-FEF2-45C2-90CA-098A1740480F}" type="slidenum">
              <a:t>3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5A12B-EFAB-411E-9CC7-CB00F2563C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očeci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ternet je nastao kao istraživački projekat koje je finansiralo USA ministarstvo od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lavni cilj je bio da se obezbedi da različiti računari rade zaj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aj cilj je postignut tako što je obezbeđen način za komunikaciju između račun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6AF-3310-41DC-B22A-57055737442C}" type="slidenum">
              <a:t>3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50899-2DAD-485C-AF98-EDB32BEB1A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irenje Intere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straživači koji su radili na računarim koji su međusobno komunicirali otkrili su da je to veoma kori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 prvi put, računari su postali sredstvo za komunik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 akademskim sredinama elektronska pošta (E-mail) i razmena fajlova (FTP) su počeli da se koriste kao najbolji način za komunic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6D9-F22B-432B-B1CA-22B6F04E2B82}" type="slidenum">
              <a:t>3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186B6-83BB-4D3B-808E-302F9A1FDE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i WE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WWW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 je kao standard definisan 1989. u CERN-u, Švajcar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ostavio svoju web prezentaciju 199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roglas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ao svoj glavni priorit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995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, komunikacija u poslovnom i akademskom okruženju je velikim delom bazirana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570-9DFA-4C8D-BCCC-90F00FCF41B4}" type="slidenum">
              <a:t>3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16581-7482-400E-8E5D-3F5C600235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Podaci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14440" y="2285640"/>
            <a:ext cx="47433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br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veća svetska kolekcija svih vrsta podatak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ja 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oš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najveća svetska kolekcija svih vrsta podataka, koj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1A8-EF54-40FF-BEA0-CB4518263BF8}" type="slidenum">
              <a:t>3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FA81E-D3BD-4765-BE8A-12B8571CCE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DF9-C137-4F90-B89E-6C509A9BA4F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63BD5-8A98-4BE6-9B6D-5FB4283E8999}" type="datetime1">
              <a:rPr lang="en-US"/>
              <a:t>07/30/26</a:t>
            </a:fld>
          </a:p>
        </p:txBody>
      </p:sp>
    </p:spTree>
  </p:cSld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4022640" y="6858000"/>
            <a:ext cx="2835360" cy="304812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leda ka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omna biblioteka, u koju gotovo svako donosi gotovo s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otovo svi podaci su tu, ali niko ne može da nađe ništa, zato što biblioteka nije uređena, odnosno nema kata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ožemo naći neke podatke samo ako znamo gde su ih naši prijatelji ostav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FFB-9D2D-42B9-BE5B-6F26479E4280}" type="slidenum">
              <a:t>3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6312B-E5E7-4285-BD4F-F19E154C76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Al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kompanije su formirale sisteme za pretraživanje i katalogiziranje WEB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zultati se takođe objavljuju na WEB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akav tip servisa, ako je dobar, može privući mnogo poset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klame koje posetioci vide i njihovi lični podaci mogu da ceo posao učine profitabiln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7F3-64E5-4748-B97E-EE654CABE43B}" type="slidenum">
              <a:t>3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AA3BB-AA40-4377-961C-ECA3707D0D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Tipovi kata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granata struktu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ma predmetu interesovanja, lokaciji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aza podataka sa pretraživanjem ključnih reči i celog tek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pecijalizovani katalozi koji sadrže važne adrese (URL) u nekoj oblasti (građevinske mašine, univerziteti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DD8-ADC3-470C-AA6F-3767761EB64F}" type="slidenum">
              <a:t>3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BEA04-2A72-4A02-96C3-F321DD5681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Katalog u obliku razgranat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ako vam treb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organiza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o poznatog proizvođač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davnice, akademske institu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dobar ako vam trebaju podaci o nekom posebnom pitanju ili iz nepoznatog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yaho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555A-7180-427F-94D4-8778087C101F}" type="slidenum">
              <a:t>3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8ECC3-5616-43DB-8899-4A2D563046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AHOO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152280" y="2527200"/>
            <a:ext cx="6553440" cy="605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7FE-E1CE-466C-9006-5ACE748A3762}" type="slidenum">
              <a:t>3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45C73-177E-4A4D-A524-6F35701341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e ako vam trebaju informacije čiji izvor ne znate ili podaci o veoma specifičnoj tem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efikasni ako vam trebaj adresa poznate kompanije ili institu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zahtevaju korišćenje složenog jezika za postavljanje upita, koji mora da se posebno u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taV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ltaVist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4EB-9C81-4E77-830A-8E7276049A96}" type="slidenum">
              <a:t>3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CE859-A55E-4DBE-B482-668A09F3F6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taV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171360" y="1847880"/>
            <a:ext cx="6534360" cy="64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656-B531-44D3-8337-89DACCF7CBD7}" type="slidenum">
              <a:t>3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AB74E-41B0-4BD5-8FE6-CB1210239D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Specijalizovani kataloz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izvor podataka o važnim URL-ovima u nekoj posebnoj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graničeni svojom posebnom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eoma dobar specijalizovani katalog za građevinsku mehanizaciju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to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5253-3169-4EC8-BAB8-E52ECF430871}" type="slidenum">
              <a:t>3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2F3A3-CE9E-4A2D-A538-52994378E3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82440" y="2647800"/>
            <a:ext cx="6623280" cy="46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2EF-F4B6-41DB-909F-F31EE2EE34E0}" type="slidenum">
              <a:t>3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E504D-5873-4E00-8F72-8F10701279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reni pretraživač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aktično sve lokacije imaju neku vrstu internog pretraživ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ebno su značajni kod kataloga u obliku razgranate strukture i specijalizovanih kata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lakši za upotrebu ali i sa manje mogućnosti od pretraživača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F3F-7EFE-4FEC-AD1F-2851D00115E7}" type="slidenum">
              <a:t>3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7CCB4-A77C-40BE-92B7-3355944325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obavezni učesnik u projektu (uz investit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biti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običajena uloga jugoslovensk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ično neinteresantan u zapadnom sv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mu je podređen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35C-B65A-4120-BA0B-EBEF559CBA9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C0CBF-8372-4D23-81E7-5EEAB62EE8A0}" type="datetime1">
              <a:rPr lang="en-US"/>
              <a:t>07/30/26</a:t>
            </a:fld>
          </a:p>
        </p:txBody>
      </p:sp>
    </p:spTree>
  </p:cSld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menic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lično telefonskim imenicima, postoje i Internet imen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adrže obično E-mail adrese korisnika, koji su ih sami uneli u baz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toji opasnost od dobijanja neželjene po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popularnijih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g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foo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990-AFFB-4019-98DF-B800BCD54B81}" type="slidenum">
              <a:t>3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0C477-19BE-468B-AEF9-1EEAD8679F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gfoo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655344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660-E9C2-4597-9CC8-89043134FCD3}" type="slidenum">
              <a:t>3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14CA1-1C23-44AD-9145-9ADBAAFE4F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askanje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firme nude sisteme za časkanje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 sistemi obično omogućavaju potragu za korisnicima prema želje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o je vrlo korisno ako tražite ljude koji dele vaš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renutno je najpopularn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cq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E81-DDCF-4004-B9AD-0082CF4D6185}" type="slidenum">
              <a:t>3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1676A-FC14-4FA9-A0AC-843594C2DC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6461280" cy="528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002-AFCA-4C75-BE1E-48D20B73682E}" type="slidenum">
              <a:t>3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E7A4A-74F2-47A8-A7BB-BBE6C7C953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Opšti save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proizvođači cementa u Italiji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članci o merenju specifične površine cementa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taVi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 neko u Nemačkoj, koga zanima upravljanje projektima u građevinarstvu, koristi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FD4-5319-46D8-B02A-7E6E77C4603F}" type="slidenum">
              <a:t>3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72284-B3EC-4C70-955D-6AFDE53A6A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realizacije projekta sa stanovišta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627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C6D-E88F-4EC3-A6E4-6868413CA02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BA1B9-F844-4762-867A-E6CFCA120AFE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faz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27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 i VII se odvijaju kontinual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I-VI su vezane za konkretan proje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6005520" cy="140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46F-6778-4FB7-91F8-7EB048AFA77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00410-4D17-4446-A8F7-21A7976E5956}" type="datetime1">
              <a:rPr lang="en-US"/>
              <a:t>07/30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C1A-9E26-4A9E-956F-4258A1DEB2A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9CB86-C8C8-4CE4-82E7-1249AF44BDF3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u toku realizacije projekta (II-V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snije detaljno raz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ali za razmenu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i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š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92F-CEFE-4182-AAF3-87BF1F7A702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85779-7D5A-4A95-8E6A-169989AC9B7E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e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rišt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D4E-33EB-40F8-99CA-B4B27D8E255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D85D7-935A-4079-8214-01B3B2D8C58F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studirate Građevinski fakulte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6400800" cy="641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2B7D-7797-46C6-855B-3CB23CDC3F1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3BFAC-62CC-40A1-A608-B1048B23F4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a II-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edene i naplać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ak resursa i tra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i efek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čki podaci o mehaniz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jena tehničko-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 i 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109-A01E-4634-BB34-702C53D4600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ED1D0-4845-428F-BB19-4FD798528C5F}" type="datetime1">
              <a:rPr lang="en-US"/>
              <a:t>07/30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ljive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ljn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utrašnj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F7C-B707-467C-A2F0-3444625F881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63450-3502-434B-9A36-276F00111962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oljn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rakteristik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ž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razv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tura i trad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odred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pored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E13-F6F5-443D-95E9-548E6A2410C5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EE07A-747C-442A-A42D-ABE037BEB1F4}" type="datetime1">
              <a:rPr lang="en-US"/>
              <a:t>07/30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utrašnj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ja i ciljevi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nivo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čin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FFC-AAB6-46D0-962E-74C735BE757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15095-4408-465F-8A4F-3B24899C5ABB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cionalne (klasič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o-štab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rem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o-tim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BE6-FB4A-4A4B-9DBA-62009E22279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0EE17-27CC-41CC-AC56-D54B7546528E}" type="datetime1">
              <a:rPr lang="en-US"/>
              <a:t>07/30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06400" y="3146400"/>
          <a:ext cx="52056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3146400"/>
                    <a:ext cx="52056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604-1AA1-4807-93B4-372AE6827508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0B981-A52E-4291-93FD-2751FBAFE3B1}" type="datetime1">
              <a:rPr lang="en-US"/>
              <a:t>07/30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20720" y="4602240"/>
          <a:ext cx="5388120" cy="22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4602240"/>
                    <a:ext cx="538812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8D0-68E5-4E0B-9CB9-7EDC437F3B6C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3DFD4-EBFB-49E5-BAA8-9B4A204CD724}" type="datetime1">
              <a:rPr lang="en-US"/>
              <a:t>07/30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o-štab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95560" y="2631960"/>
          <a:ext cx="4417920" cy="61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631960"/>
                    <a:ext cx="441792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1C1-5FA5-4215-B79C-11929504DA4E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1A0D9-FECC-4540-A0AE-4F3EEA4CD82E}" type="datetime1">
              <a:rPr lang="en-US"/>
              <a:t>07/30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o-tim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49320" y="4653000"/>
          <a:ext cx="493092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4653000"/>
                    <a:ext cx="49309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F14-F908-412D-8CB8-FEDD3DC8158C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7DE0C-FD69-4956-90A2-F4375AE791DC}" type="datetime1">
              <a:rPr lang="en-US"/>
              <a:t>07/30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t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20880" y="4633920"/>
          <a:ext cx="4986360" cy="22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4633920"/>
                    <a:ext cx="498636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B66-BF40-4A07-969C-BEF8254C2E0E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D9CA2-50CA-4BEE-A3A3-564C10253FCE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bog nauk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4880" y="3079800"/>
            <a:ext cx="5121000" cy="49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FEC-A3ED-434C-BC94-4971B560D96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F371E-6FEB-4DF8-9E6D-7538DA385C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čna organizacio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5960" y="4322880"/>
          <a:ext cx="55958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4322880"/>
                    <a:ext cx="5595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C9B-D2B0-4B14-AE40-19BFF4043F37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37AED-01BB-4F9B-A7C8-210898C08BF3}" type="datetime1">
              <a:rPr lang="en-US"/>
              <a:t>07/30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fir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4343400"/>
          <a:ext cx="603252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43400"/>
                    <a:ext cx="60325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B09-8547-4BAD-B68F-B88958B98A62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D3E70-435F-4B4B-986A-7C26B2F64EE4}" type="datetime1">
              <a:rPr lang="en-US"/>
              <a:t>07/30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004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01600" y="3071880"/>
          <a:ext cx="4788000" cy="57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3071880"/>
                    <a:ext cx="478800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9A6C-0FF1-4D76-8EFB-824F805CA04E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910BE-5641-4BEE-B9A3-AD459B3D449C}" type="datetime1">
              <a:rPr lang="en-US"/>
              <a:t>07/30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AB1-EC85-4EE3-88A2-A5EFAA60E85C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0E228-7F9E-429F-BBC1-32D01630CDD9}" type="datetime1">
              <a:rPr lang="en-US"/>
              <a:t>07/30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46A-A159-4292-AFD2-E0A9687DD04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FABB4-D78A-4068-B83B-F9E8EBCE48A8}" type="datetime1">
              <a:rPr lang="en-US"/>
              <a:t>07/30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odac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andar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prenos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izvor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format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formalni ka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struktuira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o pisan soft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1F0-50D8-492D-AB6C-D83727B2A9AC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1C873-DF8B-4EEA-AD38-C56671429557}" type="datetime1">
              <a:rPr lang="en-US"/>
              <a:t>07/30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 asortimana po slič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C33-57F4-484C-8260-22C7A84040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AE53A-50F7-417F-BA6B-7ADF8B4D2C53}" type="datetime1">
              <a:rPr lang="en-US"/>
              <a:t>07/30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geološk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012-DC8D-445C-9A54-18E7276EB67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B9B75-CA75-498D-9BB7-EF72F8DD4052}" type="datetime1">
              <a:rPr lang="en-US"/>
              <a:t>07/30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6519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69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ne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6D2-0A2F-438F-90E0-C9983EFCD24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B173A-DA14-4D6F-BF9C-72C05FE486D4}" type="datetime1">
              <a:rPr lang="en-US"/>
              <a:t>07/30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71440"/>
            <a:ext cx="65530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naš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EF4-E621-4B00-B3DE-986B405AAEC1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B3C82-EAD2-4E25-9805-234E739E9795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to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želite da gradit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6095880" cy="32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206-6E33-4010-9002-D4DB8038523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93530-F886-41F1-8293-5ADD32A9C2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ursi za izradu predinvesticionih studija i projektne dokumentac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nkursima za konsultantsk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oslovima u kućama koje se bave predinvesticionim stud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razvoja velikih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E23-FB6F-4727-AEA0-9344E2027BE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01126-89E0-4B87-ACE1-9312D5EFA1E3}" type="datetime1">
              <a:rPr lang="en-US"/>
              <a:t>07/30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e informacije investit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87E-17E4-4049-94D5-EB46DAB3DB8B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6C0E9-D8EA-468D-B4F1-FB61774B856B}" type="datetime1">
              <a:rPr lang="en-US"/>
              <a:t>07/30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D18-EB2A-48E8-80B6-9A35190581B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00FCF-1BED-49C9-9591-273997B311A7}" type="datetime1">
              <a:rPr lang="en-US"/>
              <a:t>07/30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4440" y="804600"/>
            <a:ext cx="582912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2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inski propisi i služ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494-85E6-4BC7-80C7-714C2C0630C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79683-ACF1-4A58-A02F-D643D9391976}" type="datetime1">
              <a:rPr lang="en-US"/>
              <a:t>07/30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3B7-BCA4-4F4D-9EA3-BEA6BD443E89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DD1D5-B9FC-4831-BFF5-69A21341A4A7}" type="datetime1">
              <a:rPr lang="en-US"/>
              <a:t>07/30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99F-AF2B-4A2B-8F2A-FEEA7BE0E100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3D32C-DA08-4C0C-81EE-1F1CBE0D21A3}" type="datetime1">
              <a:rPr lang="en-US"/>
              <a:t>07/30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dužem vremenskom perio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poslednjih godinu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32B-D432-4A8A-9E7F-32C1F2B7E39E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73E31-9CEE-47DB-9BE4-EE4203A120D9}" type="datetime1">
              <a:rPr lang="en-US"/>
              <a:t>07/30/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velikih izvođača i/ili pro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s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 (predstavništ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B47-6C8B-44D9-8CC6-6699AE0833E1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16CB9-A879-42CE-896C-B83D4D600406}" type="datetime1">
              <a:rPr lang="en-US"/>
              <a:t>07/30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bonitet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rukovodstv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opljeni ugovori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ugovora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CC3-AE18-40E9-884D-2D8E23679D32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2A8F1-4041-4B58-8F0B-42BA02CBFFA8}" type="datetime1">
              <a:rPr lang="en-US"/>
              <a:t>07/30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D6A-D7AB-4197-A2CF-39FF55C9F80D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929B5-13D6-4266-AC02-1348E5F3397D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to što volite posao inženjer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3337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8D60-D66C-49B2-84AA-C31D1D161BD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4C7A0-1F06-4634-A3AB-C0825F1E6B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320" y="576360"/>
            <a:ext cx="67053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o istraživanju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sak mogućih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stanju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neformalnih konta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skupljačk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a je šir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a mogućnost pre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7BD-7880-4239-A278-BA12A0058E19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46B1D-E9DC-41EF-BFE8-6F4B780E28E6}" type="datetime1">
              <a:rPr lang="en-US"/>
              <a:t>07/30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0D2-7A47-4C85-8659-1459FEF9DF95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A633D-CDFA-4383-BCF4-7794EBCA0A85}" type="datetime1">
              <a:rPr lang="en-US"/>
              <a:t>07/30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798-8A85-44AB-BE95-00E32E0C724E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F88E0-2BF5-4FB9-96D7-E2E004416B6C}" type="datetime1">
              <a:rPr lang="en-US"/>
              <a:t>07/30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obavez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ki su projekti gde ne učestvu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svega ga angažuje investitor koji nije sam dovoljno osposoblj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da ga angažuje i izvođač, pogotovo genera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poznatije međunarodno udruženje - 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B83-DE49-4938-8AC7-E5CDEA354D68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CD069-1E0F-40D8-8949-102C7F3F12AB}" type="datetime1">
              <a:rPr lang="en-US"/>
              <a:t>07/30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ljanje posla na visokoj profesionalnoj i etičkoj os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samo zadataka kojima su doras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je veliki dijapazon usluga, od ličnih saveta do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je uska specijalizacija ili široki repert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E85-641B-47CE-A4DE-3D2D2FCCC61F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CB1DC-89F9-429C-B1C0-AF4EDB4F7140}" type="datetime1">
              <a:rPr lang="en-US"/>
              <a:t>07/30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prihodi smeju da budu od honorara koji isplaćuje naruči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že učestvovati u poslovima ili imati finansijski interes koji može uticati na njegovo stručno mišlj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049-ABCA-4127-AB3A-46842710D126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87987-BAEB-4742-ABB4-C7FB9D75C170}" type="datetime1">
              <a:rPr lang="en-US"/>
              <a:t>07/30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4440" y="1947600"/>
            <a:ext cx="5829120" cy="71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hodna istraživanja o uslovima za gradnju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ha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z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eo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 i mogućnost plas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i stud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ktiv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kti primene naučnih met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68E-B173-4674-8BA4-AFA1E738E5A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11806-1E27-4508-A4FB-FA3BBCBCF4B8}" type="datetime1">
              <a:rPr lang="en-US"/>
              <a:t>07/30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 praćenje razvo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zaštite i unapređenja životne i radne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a i vrsta ener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studija rentabilnosti, ekonomskih i finansijskih pokazate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da podataka, investicioni programi i projektni za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FB1-31F4-4194-A7B4-625DAE09BFEC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96E70-1046-4B54-AF96-42A4FD9D5D7D}" type="datetime1">
              <a:rPr lang="en-US"/>
              <a:t>07/30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440" y="26334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radom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nje podataka i dokumentacije za ustup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vođ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i usklađivanje rada učesnika u izgradn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investicionog programa i finansijske ko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A1C-E788-424B-9FE1-28B4EE9D99A5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5683F-249B-48AF-901D-5E8A04C6D2FB}" type="datetime1">
              <a:rPr lang="en-US"/>
              <a:t>07/30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omoć tokom primopredaje objekta i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funkcionisanjem objekta tokom probnog pog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760-0C69-4855-9329-FA8608176E2F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DC09F-680C-4E1F-8B0F-A7988959E4CE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bog diplome i status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5038920" cy="47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251-42CC-4E1C-9BD5-7AD35F16CDD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6BEB0-11A0-4F42-B43D-84B51B98C4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gućnost učešća u više u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ziju projektne dokumentacije ne može da vrši projektant i/ili 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stručni nadzor mogu da idu zajedno, ali ponekad nije preporuč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ja varijanta je projektantsk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1A2-2053-4D5C-A125-F1185A7279C0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93C64-6B6F-4F3F-A9FC-8D8AB5FB39B8}" type="datetime1">
              <a:rPr lang="en-US"/>
              <a:t>07/30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FIDIC-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4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davne uloge (Counselling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e usluge (Pre-Investment Stud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uge projektovanja i nadzora nad izgradnjom objekata (Design and Supervision Services for Construction of Wor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izovane projektne usluge razrade i razvoja (Specialised Design and Development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 (Project Manag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113-CA20-439F-BDCC-B09D0040E89A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69AEA-66DF-4CC0-9D50-D66C7D3F5833}" type="datetime1">
              <a:rPr lang="en-US"/>
              <a:t>07/30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vetodav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14440" y="24048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anje save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inui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osebne projekte i probl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asti savet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kovođ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ranje i kontrola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upanje pred sudovima, komisijama i drugim pravnim te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B3E-D294-4113-9B58-9EC8D53329FF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6C3FC-9CC4-4D88-B01E-9B35FF884632}" type="datetime1">
              <a:rPr lang="en-US"/>
              <a:t>07/30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investicio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e za donošenje odluke o investir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investicione polit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glavnih karakteristika i opravda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promena u politici, radu i organizacionim reše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DA8-213B-42FD-9374-C43B570FB93C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1084E-5221-49F5-A1FF-4E3A168142EE}" type="datetime1">
              <a:rPr lang="en-US"/>
              <a:t>07/30/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projektna f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pravda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ci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a i definisanje zahteva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i optimizaci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a i istraživanja gradilišta i ostalih fa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3E7-BEEA-4A47-8ADA-77B51980B792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714A8-C852-4569-8017-F0B4F1D0CC1A}" type="datetime1">
              <a:rPr lang="en-US"/>
              <a:t>07/30/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7760" y="3477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440" y="21337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lkulacija približnih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ristupa gra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bn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ident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jalni pregledi i test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B83-9C73-4842-86B4-EE6E4295F7A1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ED08A-D43F-4DC7-BDA2-B55356269739}" type="datetime1">
              <a:rPr lang="en-US"/>
              <a:t>07/30/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9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cijalizovane 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proj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i obrade sirov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a automatskih koma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ažne z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j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ršeni rad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 gotovih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461-5DFF-439F-A892-EB0867AB6D4D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2B594-9C62-4BD2-A18F-3B5D61236AF4}" type="datetime1">
              <a:rPr lang="en-US"/>
              <a:t>07/30/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izacije resursa i njihova koordinacija da bi se postigao investitorov cilj u okviru plana, bud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a 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jen nivo poslova i odgovornosti između investitora i konsult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 zadržava pravo odobravanja i revizije ključnih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125-4133-417C-8964-22313D99EF25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40C13-8F33-4FA4-A6C2-ADCEE0763C35}" type="datetime1">
              <a:rPr lang="en-US"/>
              <a:t>07/30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1800" y="271440"/>
            <a:ext cx="626760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nicijalnih stud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raživanje mogućnosti plaćanja zemlj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govor sa potencijalnim suinvestito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moć pri rešavanju imovinsko-pravnih odn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sa raselje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govor sa budućim stana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D8B-1971-4D38-AA16-3BCE0F9337BF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B55EE-1088-4AC0-A88D-D327529E09ED}" type="datetime1">
              <a:rPr lang="en-US"/>
              <a:t>07/30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budžetskih troškova i izrada studije opravdanosti z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crteža kojima se definišu idej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o planu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iranje baze podataka o sastancima i drugim aktivnos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a idejnog rešenja prema željam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zivanje i presedavanje sastancima o realizacij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893-9189-4CC1-922A-E2A04E0FD0FD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37195-794F-49DE-893F-39258BBCBB24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 bi izgradili svoju zemlju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6372360" cy="47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F17-B61F-4CE0-959D-B9D1D0442A8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7C2CB-ACF4-4245-B9C5-1E2D358434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dospelih zahteva projektanata i izvođača za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idejnog rešenja i podnošenje investitoru na o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isanje investitoru o predlozima za skice i crt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izvoda iz dinamičkih planov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straž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zij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ostvarivanja glavnog plana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89C-3BD3-4FF5-87EF-56E47AD6F024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6E8BA-5FEF-467D-B7D8-88C3FE429FD8}" type="datetime1">
              <a:rPr lang="en-US"/>
              <a:t>07/30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realizacije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rojektnih zahteva i zahteva za dopunama rukovodiocu projekto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o izmenama glavnog plana radova i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visine naknade za kon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utovanje inženjerskih i tehničkih rešenja iz projekta sa izvođač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nominovanih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850-2768-4CBE-A882-48F38DDC431C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24D0A-FD83-4663-8DEE-2D422F76DC4B}" type="datetime1">
              <a:rPr lang="en-US"/>
              <a:t>07/30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mesečnih izveštaja investitoru sa procenom finalnih troškova i roka završetk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menovanja i obezbeđenje angažovanja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ovanje dopune plana troškova i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komponenti i materijala koji se ugrađ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šenje konačnog predloga projekata i revidovanog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činjavanje liste mogućih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leđivanje tenderskih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666-8B89-4CAA-A48B-D7E89820B86A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80385-02A9-45F2-BA34-31654B9A5C72}" type="datetime1">
              <a:rPr lang="en-US"/>
              <a:t>07/30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obrađenih tendera i zahtevanje dodatnih obj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predloga za izbor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iranje ugovornih dokumenata, sračunavanje potrebne garancije i obezbeđenje pristanka investit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ovanje pravovremenog naručivanja komponenti sa dugim vremenom ispo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ertifikata o osiguranju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nje procene izvršenih radova i rad na pripremi konačnog obrač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87D-3C2C-4D92-8C14-647DFC2E4761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D25CB-3983-4C54-B189-4C3BDE20315C}" type="datetime1">
              <a:rPr lang="en-US"/>
              <a:t>07/30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naloga o izmenama i instrukcija 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na izmene u obimu i vrednosti koje su van njegovih ovlašćenja i regulisanje potraživanj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vljenje klejmovima u vezi osigu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aglas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za produž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o primopredaji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da li su nedostaci odklonj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ECB-25F9-42FE-B09F-81046F8D6BD5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8025B-095E-4638-A381-CE947B20435C}" type="datetime1">
              <a:rPr lang="en-US"/>
              <a:t>07/30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804960"/>
            <a:ext cx="655344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7760" y="3012840"/>
            <a:ext cx="5829480" cy="590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vremeno reagovanje na rana upozorenja u toku realizaci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realizacije programa opremanja i obezbeđivanje uputstva za održavanje i skica izvedenog s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414-B443-4F3B-B08B-DC58D61F74CA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8713B-9D90-419F-9CC1-BE893B0E07B9}" type="datetime1">
              <a:rPr lang="en-US"/>
              <a:t>07/30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vanje klij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rukovodećeg projekta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ažovanje drugih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ovi za predhodne izb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i odobravanje troškova i programa rada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koji se direktno ugovaraju sa investit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enovanje nadz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1DD-AE1F-412D-8AB7-BB9B584364AE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0B19D-1107-4A0D-A0BE-E320FB4F0B60}" type="datetime1">
              <a:rPr lang="en-US"/>
              <a:t>07/30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ivanje i i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posla u projekto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 informacije koji dostavljaju konsultanti i projekt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 o proceduri izvešt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192-6034-47AB-87FD-9E8AF8BD9806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29FCA-FB3D-49A1-8ED8-29225F55B9DD}" type="datetime1">
              <a:rPr lang="en-US"/>
              <a:t>07/30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ovanje učinaka projektanata, konsultanata, nadz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zivanje i 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ezivanje sa prav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rdinacija zahteva budućih stan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423-970E-4219-B81F-569CBF434B5B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6B3C5-EDCA-4717-9D99-C2F360BE2DF7}" type="datetime1">
              <a:rPr lang="en-US"/>
              <a:t>07/30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21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etaljni, nego se pozivaju na predhodno navedenu li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toje se od dva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D09-E5E5-4550-AECD-DDF96CDB9B5C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549A6-DA34-46DA-9B7D-2402CA5AEC69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9T10:38:17Z</dcterms:created>
  <dc:creator>Zoran B. Djordjevic</dc:creator>
  <dc:description/>
  <dc:language>en-US</dc:language>
  <cp:lastModifiedBy>Matej</cp:lastModifiedBy>
  <dcterms:modified xsi:type="dcterms:W3CDTF">2008-01-12T12:04:32Z</dcterms:modified>
  <cp:revision>21</cp:revision>
  <dc:subject/>
  <dc:title>U čemu je razlika?</dc:title>
</cp:coreProperties>
</file>