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26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8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266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29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2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2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62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6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320.xml.rels" ContentType="application/vnd.openxmlformats-package.relationships+xml"/>
  <Override PartName="/ppt/notesSlides/_rels/notesSlide26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0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321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07.xml.rels" ContentType="application/vnd.openxmlformats-package.relationships+xml"/>
  <Override PartName="/ppt/notesSlides/_rels/notesSlide29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71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2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7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291.xml.rels" ContentType="application/vnd.openxmlformats-package.relationships+xml"/>
  <Override PartName="/ppt/notesSlides/_rels/notesSlide31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78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2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269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267.xml.rels" ContentType="application/vnd.openxmlformats-package.relationships+xml"/>
  <Override PartName="/ppt/notesSlides/_rels/notesSlide280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30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64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295.xml.rels" ContentType="application/vnd.openxmlformats-package.relationships+xml"/>
  <Override PartName="/ppt/notesSlides/_rels/notesSlide30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8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298.xml.rels" ContentType="application/vnd.openxmlformats-package.relationships+xml"/>
  <Override PartName="/ppt/notesSlides/_rels/notesSlide306.xml.rels" ContentType="application/vnd.openxmlformats-package.relationships+xml"/>
  <Override PartName="/ppt/notesSlides/_rels/notesSlide31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292.xml.rels" ContentType="application/vnd.openxmlformats-package.relationships+xml"/>
  <Override PartName="/ppt/notesSlides/_rels/notesSlide300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317.xml.rels" ContentType="application/vnd.openxmlformats-package.relationships+xml"/>
  <Override PartName="/ppt/notesSlides/_rels/notesSlide297.xml.rels" ContentType="application/vnd.openxmlformats-package.relationships+xml"/>
  <Override PartName="/ppt/notesSlides/_rels/notesSlide305.xml.rels" ContentType="application/vnd.openxmlformats-package.relationships+xml"/>
  <Override PartName="/ppt/notesSlides/_rels/notesSlide2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287.xml.rels" ContentType="application/vnd.openxmlformats-package.relationships+xml"/>
  <Override PartName="/ppt/notesSlides/_rels/notesSlide316.xml.rels" ContentType="application/vnd.openxmlformats-package.relationships+xml"/>
  <Override PartName="/ppt/notesSlides/_rels/notesSlide27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28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96.xml.rels" ContentType="application/vnd.openxmlformats-package.relationships+xml"/>
  <Override PartName="/ppt/notesSlides/_rels/notesSlide304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286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318.xml.rels" ContentType="application/vnd.openxmlformats-package.relationships+xml"/>
  <Override PartName="/ppt/notesSlides/_rels/notesSlide2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319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2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88.xml.rels" ContentType="application/vnd.openxmlformats-package.relationships+xml"/>
  <Override PartName="/ppt/notesSlides/_rels/notesSlide30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31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310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73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74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289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02.xml.rels" ContentType="application/vnd.openxmlformats-package.relationships+xml"/>
  <Override PartName="/ppt/notesSlides/_rels/notesSlide29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284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27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14.xml.rels" ContentType="application/vnd.openxmlformats-package.relationships+xml"/>
  <Override PartName="/ppt/notesSlides/_rels/notesSlide50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27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27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31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318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1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60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30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27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0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6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26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2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269.xml" ContentType="application/vnd.openxmlformats-officedocument.presentationml.notesSlide+xml"/>
  <Override PartName="/ppt/notesSlides/notesSlide290.xml" ContentType="application/vnd.openxmlformats-officedocument.presentationml.notesSlide+xml"/>
  <Override PartName="/ppt/notesSlides/notesSlide288.xml" ContentType="application/vnd.openxmlformats-officedocument.presentationml.notesSlide+xml"/>
  <Override PartName="/ppt/notesSlides/notesSlide291.xml" ContentType="application/vnd.openxmlformats-officedocument.presentationml.notesSlide+xml"/>
  <Override PartName="/ppt/notesSlides/notesSlide289.xml" ContentType="application/vnd.openxmlformats-officedocument.presentationml.notesSlide+xml"/>
  <Override PartName="/ppt/notesSlides/notesSlide292.xml" ContentType="application/vnd.openxmlformats-officedocument.presentationml.notesSlide+xml"/>
  <Override PartName="/ppt/notesSlides/notesSlide293.xml" ContentType="application/vnd.openxmlformats-officedocument.presentationml.notesSlide+xml"/>
  <Override PartName="/ppt/notesSlides/notesSlide297.xml" ContentType="application/vnd.openxmlformats-officedocument.presentationml.notesSlide+xml"/>
  <Override PartName="/ppt/notesSlides/notesSlide298.xml" ContentType="application/vnd.openxmlformats-officedocument.presentationml.notesSlide+xml"/>
  <Override PartName="/ppt/notesSlides/notesSlide299.xml" ContentType="application/vnd.openxmlformats-officedocument.presentationml.notesSlide+xml"/>
  <Override PartName="/ppt/notesSlides/notesSlide294.xml" ContentType="application/vnd.openxmlformats-officedocument.presentationml.notesSlide+xml"/>
  <Override PartName="/ppt/notesSlides/notesSlide320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274.xml" ContentType="application/vnd.openxmlformats-officedocument.presentationml.notesSlide+xml"/>
  <Override PartName="/ppt/notesSlides/notesSlide295.xml" ContentType="application/vnd.openxmlformats-officedocument.presentationml.notesSlide+xml"/>
  <Override PartName="/ppt/notesSlides/notesSlide321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275.xml" ContentType="application/vnd.openxmlformats-officedocument.presentationml.notesSlide+xml"/>
  <Override PartName="/ppt/notesSlides/notesSlide296.xml" ContentType="application/vnd.openxmlformats-officedocument.presentationml.notesSlide+xml"/>
  <Override PartName="/ppt/notesSlides/notesSlide322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276.xml" ContentType="application/vnd.openxmlformats-officedocument.presentationml.notesSlide+xml"/>
  <Override PartName="/ppt/notesSlides/notesSlide287.xml" ContentType="application/vnd.openxmlformats-officedocument.presentationml.notesSlide+xml"/>
  <Override PartName="/ppt/notesSlides/notesSlide286.xml" ContentType="application/vnd.openxmlformats-officedocument.presentationml.notesSlide+xml"/>
  <Override PartName="/ppt/notesSlides/notesSlide28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73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28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283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282.xml" ContentType="application/vnd.openxmlformats-officedocument.presentationml.notesSlide+xml"/>
  <Override PartName="/ppt/notesSlides/notesSlide281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279.xml" ContentType="application/vnd.openxmlformats-officedocument.presentationml.notesSlide+xml"/>
  <Override PartName="/ppt/notesSlides/notesSlide280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27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277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307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306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05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31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2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1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0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315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03.xml" ContentType="application/vnd.openxmlformats-officedocument.presentationml.notesSlide+xml"/>
  <Override PartName="/ppt/notesSlides/notesSlide30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30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7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316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2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7.png" ContentType="image/png"/>
  <Override PartName="/ppt/media/image12.wmf" ContentType="image/x-wmf"/>
  <Override PartName="/ppt/media/image7.wmf" ContentType="image/x-wmf"/>
  <Override PartName="/ppt/media/image21.wmf" ContentType="image/x-wmf"/>
  <Override PartName="/ppt/media/image19.wmf" ContentType="image/x-wmf"/>
  <Override PartName="/ppt/media/image10.gif" ContentType="image/gif"/>
  <Override PartName="/ppt/media/image13.wmf" ContentType="image/x-wmf"/>
  <Override PartName="/ppt/media/image30.png" ContentType="image/png"/>
  <Override PartName="/ppt/media/image9.gif" ContentType="image/gif"/>
  <Override PartName="/ppt/media/image5.wmf" ContentType="image/x-wmf"/>
  <Override PartName="/ppt/media/image8.gif" ContentType="image/gif"/>
  <Override PartName="/ppt/media/image4.wmf" ContentType="image/x-wmf"/>
  <Override PartName="/ppt/media/image3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336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154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6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22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102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22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4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177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332.xml.rels" ContentType="application/vnd.openxmlformats-package.relationships+xml"/>
  <Override PartName="/ppt/slides/_rels/slide33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8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327.xml.rels" ContentType="application/vnd.openxmlformats-package.relationships+xml"/>
  <Override PartName="/ppt/slides/_rels/slide256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326.xml.rels" ContentType="application/vnd.openxmlformats-package.relationships+xml"/>
  <Override PartName="/ppt/slides/_rels/slide160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4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60.xml" ContentType="application/vnd.openxmlformats-officedocument.presentationml.slide+xml"/>
  <Override PartName="/ppt/slides/slide261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36.xml" ContentType="application/vnd.openxmlformats-officedocument.presentationml.slide+xml"/>
  <Override PartName="/ppt/slides/slide170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285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299.xml" ContentType="application/vnd.openxmlformats-officedocument.presentationml.slide+xml"/>
  <Override PartName="/ppt/slides/slide68.xml" ContentType="application/vnd.openxmlformats-officedocument.presentationml.slide+xml"/>
  <Override PartName="/ppt/slides/slide320.xml" ContentType="application/vnd.openxmlformats-officedocument.presentationml.slide+xml"/>
  <Override PartName="/ppt/slides/slide69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3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89.xml" ContentType="application/vnd.openxmlformats-officedocument.presentationml.slide+xml"/>
  <Override PartName="/ppt/slides/slide342.xml" ContentType="application/vnd.openxmlformats-officedocument.presentationml.slide+xml"/>
  <Override PartName="/ppt/slides/slide330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4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340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84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28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281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280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93.xml" ContentType="application/vnd.openxmlformats-officedocument.presentationml.slide+xml"/>
  <Override PartName="/ppt/slides/slide292.xml" ContentType="application/vnd.openxmlformats-officedocument.presentationml.slide+xml"/>
  <Override PartName="/ppt/slides/slide283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D68E-2724-4A57-95FD-7B4B9D92CB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60.xml.rels><?xml version="1.0" encoding="UTF-8"?>
<Relationships xmlns="http://schemas.openxmlformats.org/package/2006/relationships"><Relationship Id="rId1" Type="http://schemas.openxmlformats.org/officeDocument/2006/relationships/slide" Target="../slides/slide260.xml"/><Relationship Id="rId2" Type="http://schemas.openxmlformats.org/officeDocument/2006/relationships/notesMaster" Target="../notesMasters/notesMaster1.xml"/>
</Relationships>
</file>

<file path=ppt/notesSlides/_rels/notesSlide261.xml.rels><?xml version="1.0" encoding="UTF-8"?>
<Relationships xmlns="http://schemas.openxmlformats.org/package/2006/relationships"><Relationship Id="rId1" Type="http://schemas.openxmlformats.org/officeDocument/2006/relationships/slide" Target="../slides/slide261.xml"/><Relationship Id="rId2" Type="http://schemas.openxmlformats.org/officeDocument/2006/relationships/notesMaster" Target="../notesMasters/notesMaster1.xml"/>
</Relationships>
</file>

<file path=ppt/notesSlides/_rels/notesSlide262.xml.rels><?xml version="1.0" encoding="UTF-8"?>
<Relationships xmlns="http://schemas.openxmlformats.org/package/2006/relationships"><Relationship Id="rId1" Type="http://schemas.openxmlformats.org/officeDocument/2006/relationships/slide" Target="../slides/slide262.xml"/><Relationship Id="rId2" Type="http://schemas.openxmlformats.org/officeDocument/2006/relationships/notesMaster" Target="../notesMasters/notesMaster1.xml"/>
</Relationships>
</file>

<file path=ppt/notesSlides/_rels/notesSlide263.xml.rels><?xml version="1.0" encoding="UTF-8"?>
<Relationships xmlns="http://schemas.openxmlformats.org/package/2006/relationships"><Relationship Id="rId1" Type="http://schemas.openxmlformats.org/officeDocument/2006/relationships/slide" Target="../slides/slide263.xml"/><Relationship Id="rId2" Type="http://schemas.openxmlformats.org/officeDocument/2006/relationships/notesMaster" Target="../notesMasters/notesMaster1.xml"/>
</Relationships>
</file>

<file path=ppt/notesSlides/_rels/notesSlide264.xml.rels><?xml version="1.0" encoding="UTF-8"?>
<Relationships xmlns="http://schemas.openxmlformats.org/package/2006/relationships"><Relationship Id="rId1" Type="http://schemas.openxmlformats.org/officeDocument/2006/relationships/slide" Target="../slides/slide264.xml"/><Relationship Id="rId2" Type="http://schemas.openxmlformats.org/officeDocument/2006/relationships/notesMaster" Target="../notesMasters/notesMaster1.xml"/>
</Relationships>
</file>

<file path=ppt/notesSlides/_rels/notesSlide265.xml.rels><?xml version="1.0" encoding="UTF-8"?>
<Relationships xmlns="http://schemas.openxmlformats.org/package/2006/relationships"><Relationship Id="rId1" Type="http://schemas.openxmlformats.org/officeDocument/2006/relationships/slide" Target="../slides/slide265.xml"/><Relationship Id="rId2" Type="http://schemas.openxmlformats.org/officeDocument/2006/relationships/notesMaster" Target="../notesMasters/notesMaster1.xml"/>
</Relationships>
</file>

<file path=ppt/notesSlides/_rels/notesSlide266.xml.rels><?xml version="1.0" encoding="UTF-8"?>
<Relationships xmlns="http://schemas.openxmlformats.org/package/2006/relationships"><Relationship Id="rId1" Type="http://schemas.openxmlformats.org/officeDocument/2006/relationships/slide" Target="../slides/slide266.xml"/><Relationship Id="rId2" Type="http://schemas.openxmlformats.org/officeDocument/2006/relationships/notesMaster" Target="../notesMasters/notesMaster1.xml"/>
</Relationships>
</file>

<file path=ppt/notesSlides/_rels/notesSlide267.xml.rels><?xml version="1.0" encoding="UTF-8"?>
<Relationships xmlns="http://schemas.openxmlformats.org/package/2006/relationships"><Relationship Id="rId1" Type="http://schemas.openxmlformats.org/officeDocument/2006/relationships/slide" Target="../slides/slide267.xml"/><Relationship Id="rId2" Type="http://schemas.openxmlformats.org/officeDocument/2006/relationships/notesMaster" Target="../notesMasters/notesMaster1.xml"/>
</Relationships>
</file>

<file path=ppt/notesSlides/_rels/notesSlide268.xml.rels><?xml version="1.0" encoding="UTF-8"?>
<Relationships xmlns="http://schemas.openxmlformats.org/package/2006/relationships"><Relationship Id="rId1" Type="http://schemas.openxmlformats.org/officeDocument/2006/relationships/slide" Target="../slides/slide268.xml"/><Relationship Id="rId2" Type="http://schemas.openxmlformats.org/officeDocument/2006/relationships/notesMaster" Target="../notesMasters/notesMaster1.xml"/>
</Relationships>
</file>

<file path=ppt/notesSlides/_rels/notesSlide269.xml.rels><?xml version="1.0" encoding="UTF-8"?>
<Relationships xmlns="http://schemas.openxmlformats.org/package/2006/relationships"><Relationship Id="rId1" Type="http://schemas.openxmlformats.org/officeDocument/2006/relationships/slide" Target="../slides/slide26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70.xml.rels><?xml version="1.0" encoding="UTF-8"?>
<Relationships xmlns="http://schemas.openxmlformats.org/package/2006/relationships"><Relationship Id="rId1" Type="http://schemas.openxmlformats.org/officeDocument/2006/relationships/slide" Target="../slides/slide270.xml"/><Relationship Id="rId2" Type="http://schemas.openxmlformats.org/officeDocument/2006/relationships/notesMaster" Target="../notesMasters/notesMaster1.xml"/>
</Relationships>
</file>

<file path=ppt/notesSlides/_rels/notesSlide271.xml.rels><?xml version="1.0" encoding="UTF-8"?>
<Relationships xmlns="http://schemas.openxmlformats.org/package/2006/relationships"><Relationship Id="rId1" Type="http://schemas.openxmlformats.org/officeDocument/2006/relationships/slide" Target="../slides/slide271.xml"/><Relationship Id="rId2" Type="http://schemas.openxmlformats.org/officeDocument/2006/relationships/notesMaster" Target="../notesMasters/notesMaster1.xml"/>
</Relationships>
</file>

<file path=ppt/notesSlides/_rels/notesSlide272.xml.rels><?xml version="1.0" encoding="UTF-8"?>
<Relationships xmlns="http://schemas.openxmlformats.org/package/2006/relationships"><Relationship Id="rId1" Type="http://schemas.openxmlformats.org/officeDocument/2006/relationships/slide" Target="../slides/slide272.xml"/><Relationship Id="rId2" Type="http://schemas.openxmlformats.org/officeDocument/2006/relationships/notesMaster" Target="../notesMasters/notesMaster1.xml"/>
</Relationships>
</file>

<file path=ppt/notesSlides/_rels/notesSlide273.xml.rels><?xml version="1.0" encoding="UTF-8"?>
<Relationships xmlns="http://schemas.openxmlformats.org/package/2006/relationships"><Relationship Id="rId1" Type="http://schemas.openxmlformats.org/officeDocument/2006/relationships/slide" Target="../slides/slide273.xml"/><Relationship Id="rId2" Type="http://schemas.openxmlformats.org/officeDocument/2006/relationships/notesMaster" Target="../notesMasters/notesMaster1.xml"/>
</Relationships>
</file>

<file path=ppt/notesSlides/_rels/notesSlide274.xml.rels><?xml version="1.0" encoding="UTF-8"?>
<Relationships xmlns="http://schemas.openxmlformats.org/package/2006/relationships"><Relationship Id="rId1" Type="http://schemas.openxmlformats.org/officeDocument/2006/relationships/slide" Target="../slides/slide274.xml"/><Relationship Id="rId2" Type="http://schemas.openxmlformats.org/officeDocument/2006/relationships/notesMaster" Target="../notesMasters/notesMaster1.xml"/>
</Relationships>
</file>

<file path=ppt/notesSlides/_rels/notesSlide275.xml.rels><?xml version="1.0" encoding="UTF-8"?>
<Relationships xmlns="http://schemas.openxmlformats.org/package/2006/relationships"><Relationship Id="rId1" Type="http://schemas.openxmlformats.org/officeDocument/2006/relationships/slide" Target="../slides/slide275.xml"/><Relationship Id="rId2" Type="http://schemas.openxmlformats.org/officeDocument/2006/relationships/notesMaster" Target="../notesMasters/notesMaster1.xml"/>
</Relationships>
</file>

<file path=ppt/notesSlides/_rels/notesSlide276.xml.rels><?xml version="1.0" encoding="UTF-8"?>
<Relationships xmlns="http://schemas.openxmlformats.org/package/2006/relationships"><Relationship Id="rId1" Type="http://schemas.openxmlformats.org/officeDocument/2006/relationships/slide" Target="../slides/slide276.xml"/><Relationship Id="rId2" Type="http://schemas.openxmlformats.org/officeDocument/2006/relationships/notesMaster" Target="../notesMasters/notesMaster1.xml"/>
</Relationships>
</file>

<file path=ppt/notesSlides/_rels/notesSlide277.xml.rels><?xml version="1.0" encoding="UTF-8"?>
<Relationships xmlns="http://schemas.openxmlformats.org/package/2006/relationships"><Relationship Id="rId1" Type="http://schemas.openxmlformats.org/officeDocument/2006/relationships/slide" Target="../slides/slide277.xml"/><Relationship Id="rId2" Type="http://schemas.openxmlformats.org/officeDocument/2006/relationships/notesMaster" Target="../notesMasters/notesMaster1.xml"/>
</Relationships>
</file>

<file path=ppt/notesSlides/_rels/notesSlide278.xml.rels><?xml version="1.0" encoding="UTF-8"?>
<Relationships xmlns="http://schemas.openxmlformats.org/package/2006/relationships"><Relationship Id="rId1" Type="http://schemas.openxmlformats.org/officeDocument/2006/relationships/slide" Target="../slides/slide278.xml"/><Relationship Id="rId2" Type="http://schemas.openxmlformats.org/officeDocument/2006/relationships/notesMaster" Target="../notesMasters/notesMaster1.xml"/>
</Relationships>
</file>

<file path=ppt/notesSlides/_rels/notesSlide279.xml.rels><?xml version="1.0" encoding="UTF-8"?>
<Relationships xmlns="http://schemas.openxmlformats.org/package/2006/relationships"><Relationship Id="rId1" Type="http://schemas.openxmlformats.org/officeDocument/2006/relationships/slide" Target="../slides/slide279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80.xml.rels><?xml version="1.0" encoding="UTF-8"?>
<Relationships xmlns="http://schemas.openxmlformats.org/package/2006/relationships"><Relationship Id="rId1" Type="http://schemas.openxmlformats.org/officeDocument/2006/relationships/slide" Target="../slides/slide280.xml"/><Relationship Id="rId2" Type="http://schemas.openxmlformats.org/officeDocument/2006/relationships/notesMaster" Target="../notesMasters/notesMaster1.xml"/>
</Relationships>
</file>

<file path=ppt/notesSlides/_rels/notesSlide281.xml.rels><?xml version="1.0" encoding="UTF-8"?>
<Relationships xmlns="http://schemas.openxmlformats.org/package/2006/relationships"><Relationship Id="rId1" Type="http://schemas.openxmlformats.org/officeDocument/2006/relationships/slide" Target="../slides/slide281.xml"/><Relationship Id="rId2" Type="http://schemas.openxmlformats.org/officeDocument/2006/relationships/notesMaster" Target="../notesMasters/notesMaster1.xml"/>
</Relationships>
</file>

<file path=ppt/notesSlides/_rels/notesSlide282.xml.rels><?xml version="1.0" encoding="UTF-8"?>
<Relationships xmlns="http://schemas.openxmlformats.org/package/2006/relationships"><Relationship Id="rId1" Type="http://schemas.openxmlformats.org/officeDocument/2006/relationships/slide" Target="../slides/slide282.xml"/><Relationship Id="rId2" Type="http://schemas.openxmlformats.org/officeDocument/2006/relationships/notesMaster" Target="../notesMasters/notesMaster1.xml"/>
</Relationships>
</file>

<file path=ppt/notesSlides/_rels/notesSlide283.xml.rels><?xml version="1.0" encoding="UTF-8"?>
<Relationships xmlns="http://schemas.openxmlformats.org/package/2006/relationships"><Relationship Id="rId1" Type="http://schemas.openxmlformats.org/officeDocument/2006/relationships/slide" Target="../slides/slide283.xml"/><Relationship Id="rId2" Type="http://schemas.openxmlformats.org/officeDocument/2006/relationships/notesMaster" Target="../notesMasters/notesMaster1.xml"/>
</Relationships>
</file>

<file path=ppt/notesSlides/_rels/notesSlide284.xml.rels><?xml version="1.0" encoding="UTF-8"?>
<Relationships xmlns="http://schemas.openxmlformats.org/package/2006/relationships"><Relationship Id="rId1" Type="http://schemas.openxmlformats.org/officeDocument/2006/relationships/slide" Target="../slides/slide284.xml"/><Relationship Id="rId2" Type="http://schemas.openxmlformats.org/officeDocument/2006/relationships/notesMaster" Target="../notesMasters/notesMaster1.xml"/>
</Relationships>
</file>

<file path=ppt/notesSlides/_rels/notesSlide285.xml.rels><?xml version="1.0" encoding="UTF-8"?>
<Relationships xmlns="http://schemas.openxmlformats.org/package/2006/relationships"><Relationship Id="rId1" Type="http://schemas.openxmlformats.org/officeDocument/2006/relationships/slide" Target="../slides/slide285.xml"/><Relationship Id="rId2" Type="http://schemas.openxmlformats.org/officeDocument/2006/relationships/notesMaster" Target="../notesMasters/notesMaster1.xml"/>
</Relationships>
</file>

<file path=ppt/notesSlides/_rels/notesSlide286.xml.rels><?xml version="1.0" encoding="UTF-8"?>
<Relationships xmlns="http://schemas.openxmlformats.org/package/2006/relationships"><Relationship Id="rId1" Type="http://schemas.openxmlformats.org/officeDocument/2006/relationships/slide" Target="../slides/slide286.xml"/><Relationship Id="rId2" Type="http://schemas.openxmlformats.org/officeDocument/2006/relationships/notesMaster" Target="../notesMasters/notesMaster1.xml"/>
</Relationships>
</file>

<file path=ppt/notesSlides/_rels/notesSlide287.xml.rels><?xml version="1.0" encoding="UTF-8"?>
<Relationships xmlns="http://schemas.openxmlformats.org/package/2006/relationships"><Relationship Id="rId1" Type="http://schemas.openxmlformats.org/officeDocument/2006/relationships/slide" Target="../slides/slide287.xml"/><Relationship Id="rId2" Type="http://schemas.openxmlformats.org/officeDocument/2006/relationships/notesMaster" Target="../notesMasters/notesMaster1.xml"/>
</Relationships>
</file>

<file path=ppt/notesSlides/_rels/notesSlide288.xml.rels><?xml version="1.0" encoding="UTF-8"?>
<Relationships xmlns="http://schemas.openxmlformats.org/package/2006/relationships"><Relationship Id="rId1" Type="http://schemas.openxmlformats.org/officeDocument/2006/relationships/slide" Target="../slides/slide288.xml"/><Relationship Id="rId2" Type="http://schemas.openxmlformats.org/officeDocument/2006/relationships/notesMaster" Target="../notesMasters/notesMaster1.xml"/>
</Relationships>
</file>

<file path=ppt/notesSlides/_rels/notesSlide289.xml.rels><?xml version="1.0" encoding="UTF-8"?>
<Relationships xmlns="http://schemas.openxmlformats.org/package/2006/relationships"><Relationship Id="rId1" Type="http://schemas.openxmlformats.org/officeDocument/2006/relationships/slide" Target="../slides/slide28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290.xml.rels><?xml version="1.0" encoding="UTF-8"?>
<Relationships xmlns="http://schemas.openxmlformats.org/package/2006/relationships"><Relationship Id="rId1" Type="http://schemas.openxmlformats.org/officeDocument/2006/relationships/slide" Target="../slides/slide290.xml"/><Relationship Id="rId2" Type="http://schemas.openxmlformats.org/officeDocument/2006/relationships/notesMaster" Target="../notesMasters/notesMaster1.xml"/>
</Relationships>
</file>

<file path=ppt/notesSlides/_rels/notesSlide291.xml.rels><?xml version="1.0" encoding="UTF-8"?>
<Relationships xmlns="http://schemas.openxmlformats.org/package/2006/relationships"><Relationship Id="rId1" Type="http://schemas.openxmlformats.org/officeDocument/2006/relationships/slide" Target="../slides/slide291.xml"/><Relationship Id="rId2" Type="http://schemas.openxmlformats.org/officeDocument/2006/relationships/notesMaster" Target="../notesMasters/notesMaster1.xml"/>
</Relationships>
</file>

<file path=ppt/notesSlides/_rels/notesSlide292.xml.rels><?xml version="1.0" encoding="UTF-8"?>
<Relationships xmlns="http://schemas.openxmlformats.org/package/2006/relationships"><Relationship Id="rId1" Type="http://schemas.openxmlformats.org/officeDocument/2006/relationships/slide" Target="../slides/slide292.xml"/><Relationship Id="rId2" Type="http://schemas.openxmlformats.org/officeDocument/2006/relationships/notesMaster" Target="../notesMasters/notesMaster1.xml"/>
</Relationships>
</file>

<file path=ppt/notesSlides/_rels/notesSlide293.xml.rels><?xml version="1.0" encoding="UTF-8"?>
<Relationships xmlns="http://schemas.openxmlformats.org/package/2006/relationships"><Relationship Id="rId1" Type="http://schemas.openxmlformats.org/officeDocument/2006/relationships/slide" Target="../slides/slide293.xml"/><Relationship Id="rId2" Type="http://schemas.openxmlformats.org/officeDocument/2006/relationships/notesMaster" Target="../notesMasters/notesMaster1.xml"/>
</Relationships>
</file>

<file path=ppt/notesSlides/_rels/notesSlide294.xml.rels><?xml version="1.0" encoding="UTF-8"?>
<Relationships xmlns="http://schemas.openxmlformats.org/package/2006/relationships"><Relationship Id="rId1" Type="http://schemas.openxmlformats.org/officeDocument/2006/relationships/slide" Target="../slides/slide294.xml"/><Relationship Id="rId2" Type="http://schemas.openxmlformats.org/officeDocument/2006/relationships/notesMaster" Target="../notesMasters/notesMaster1.xml"/>
</Relationships>
</file>

<file path=ppt/notesSlides/_rels/notesSlide295.xml.rels><?xml version="1.0" encoding="UTF-8"?>
<Relationships xmlns="http://schemas.openxmlformats.org/package/2006/relationships"><Relationship Id="rId1" Type="http://schemas.openxmlformats.org/officeDocument/2006/relationships/slide" Target="../slides/slide295.xml"/><Relationship Id="rId2" Type="http://schemas.openxmlformats.org/officeDocument/2006/relationships/notesMaster" Target="../notesMasters/notesMaster1.xml"/>
</Relationships>
</file>

<file path=ppt/notesSlides/_rels/notesSlide296.xml.rels><?xml version="1.0" encoding="UTF-8"?>
<Relationships xmlns="http://schemas.openxmlformats.org/package/2006/relationships"><Relationship Id="rId1" Type="http://schemas.openxmlformats.org/officeDocument/2006/relationships/slide" Target="../slides/slide296.xml"/><Relationship Id="rId2" Type="http://schemas.openxmlformats.org/officeDocument/2006/relationships/notesMaster" Target="../notesMasters/notesMaster1.xml"/>
</Relationships>
</file>

<file path=ppt/notesSlides/_rels/notesSlide297.xml.rels><?xml version="1.0" encoding="UTF-8"?>
<Relationships xmlns="http://schemas.openxmlformats.org/package/2006/relationships"><Relationship Id="rId1" Type="http://schemas.openxmlformats.org/officeDocument/2006/relationships/slide" Target="../slides/slide297.xml"/><Relationship Id="rId2" Type="http://schemas.openxmlformats.org/officeDocument/2006/relationships/notesMaster" Target="../notesMasters/notesMaster1.xml"/>
</Relationships>
</file>

<file path=ppt/notesSlides/_rels/notesSlide298.xml.rels><?xml version="1.0" encoding="UTF-8"?>
<Relationships xmlns="http://schemas.openxmlformats.org/package/2006/relationships"><Relationship Id="rId1" Type="http://schemas.openxmlformats.org/officeDocument/2006/relationships/slide" Target="../slides/slide298.xml"/><Relationship Id="rId2" Type="http://schemas.openxmlformats.org/officeDocument/2006/relationships/notesMaster" Target="../notesMasters/notesMaster1.xml"/>
</Relationships>
</file>

<file path=ppt/notesSlides/_rels/notesSlide299.xml.rels><?xml version="1.0" encoding="UTF-8"?>
<Relationships xmlns="http://schemas.openxmlformats.org/package/2006/relationships"><Relationship Id="rId1" Type="http://schemas.openxmlformats.org/officeDocument/2006/relationships/slide" Target="../slides/slide29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00.xml.rels><?xml version="1.0" encoding="UTF-8"?>
<Relationships xmlns="http://schemas.openxmlformats.org/package/2006/relationships"><Relationship Id="rId1" Type="http://schemas.openxmlformats.org/officeDocument/2006/relationships/slide" Target="../slides/slide300.xml"/><Relationship Id="rId2" Type="http://schemas.openxmlformats.org/officeDocument/2006/relationships/notesMaster" Target="../notesMasters/notesMaster1.xml"/>
</Relationships>
</file>

<file path=ppt/notesSlides/_rels/notesSlide301.xml.rels><?xml version="1.0" encoding="UTF-8"?>
<Relationships xmlns="http://schemas.openxmlformats.org/package/2006/relationships"><Relationship Id="rId1" Type="http://schemas.openxmlformats.org/officeDocument/2006/relationships/slide" Target="../slides/slide301.xml"/><Relationship Id="rId2" Type="http://schemas.openxmlformats.org/officeDocument/2006/relationships/notesMaster" Target="../notesMasters/notesMaster1.xml"/>
</Relationships>
</file>

<file path=ppt/notesSlides/_rels/notesSlide302.xml.rels><?xml version="1.0" encoding="UTF-8"?>
<Relationships xmlns="http://schemas.openxmlformats.org/package/2006/relationships"><Relationship Id="rId1" Type="http://schemas.openxmlformats.org/officeDocument/2006/relationships/slide" Target="../slides/slide302.xml"/><Relationship Id="rId2" Type="http://schemas.openxmlformats.org/officeDocument/2006/relationships/notesMaster" Target="../notesMasters/notesMaster1.xml"/>
</Relationships>
</file>

<file path=ppt/notesSlides/_rels/notesSlide303.xml.rels><?xml version="1.0" encoding="UTF-8"?>
<Relationships xmlns="http://schemas.openxmlformats.org/package/2006/relationships"><Relationship Id="rId1" Type="http://schemas.openxmlformats.org/officeDocument/2006/relationships/slide" Target="../slides/slide303.xml"/><Relationship Id="rId2" Type="http://schemas.openxmlformats.org/officeDocument/2006/relationships/notesMaster" Target="../notesMasters/notesMaster1.xml"/>
</Relationships>
</file>

<file path=ppt/notesSlides/_rels/notesSlide304.xml.rels><?xml version="1.0" encoding="UTF-8"?>
<Relationships xmlns="http://schemas.openxmlformats.org/package/2006/relationships"><Relationship Id="rId1" Type="http://schemas.openxmlformats.org/officeDocument/2006/relationships/slide" Target="../slides/slide304.xml"/><Relationship Id="rId2" Type="http://schemas.openxmlformats.org/officeDocument/2006/relationships/notesMaster" Target="../notesMasters/notesMaster1.xml"/>
</Relationships>
</file>

<file path=ppt/notesSlides/_rels/notesSlide305.xml.rels><?xml version="1.0" encoding="UTF-8"?>
<Relationships xmlns="http://schemas.openxmlformats.org/package/2006/relationships"><Relationship Id="rId1" Type="http://schemas.openxmlformats.org/officeDocument/2006/relationships/slide" Target="../slides/slide305.xml"/><Relationship Id="rId2" Type="http://schemas.openxmlformats.org/officeDocument/2006/relationships/notesMaster" Target="../notesMasters/notesMaster1.xml"/>
</Relationships>
</file>

<file path=ppt/notesSlides/_rels/notesSlide306.xml.rels><?xml version="1.0" encoding="UTF-8"?>
<Relationships xmlns="http://schemas.openxmlformats.org/package/2006/relationships"><Relationship Id="rId1" Type="http://schemas.openxmlformats.org/officeDocument/2006/relationships/slide" Target="../slides/slide306.xml"/><Relationship Id="rId2" Type="http://schemas.openxmlformats.org/officeDocument/2006/relationships/notesMaster" Target="../notesMasters/notesMaster1.xml"/>
</Relationships>
</file>

<file path=ppt/notesSlides/_rels/notesSlide307.xml.rels><?xml version="1.0" encoding="UTF-8"?>
<Relationships xmlns="http://schemas.openxmlformats.org/package/2006/relationships"><Relationship Id="rId1" Type="http://schemas.openxmlformats.org/officeDocument/2006/relationships/slide" Target="../slides/slide307.xml"/><Relationship Id="rId2" Type="http://schemas.openxmlformats.org/officeDocument/2006/relationships/notesMaster" Target="../notesMasters/notesMaster1.xml"/>
</Relationships>
</file>

<file path=ppt/notesSlides/_rels/notesSlide308.xml.rels><?xml version="1.0" encoding="UTF-8"?>
<Relationships xmlns="http://schemas.openxmlformats.org/package/2006/relationships"><Relationship Id="rId1" Type="http://schemas.openxmlformats.org/officeDocument/2006/relationships/slide" Target="../slides/slide308.xml"/><Relationship Id="rId2" Type="http://schemas.openxmlformats.org/officeDocument/2006/relationships/notesMaster" Target="../notesMasters/notesMaster1.xml"/>
</Relationships>
</file>

<file path=ppt/notesSlides/_rels/notesSlide309.xml.rels><?xml version="1.0" encoding="UTF-8"?>
<Relationships xmlns="http://schemas.openxmlformats.org/package/2006/relationships"><Relationship Id="rId1" Type="http://schemas.openxmlformats.org/officeDocument/2006/relationships/slide" Target="../slides/slide30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10.xml.rels><?xml version="1.0" encoding="UTF-8"?>
<Relationships xmlns="http://schemas.openxmlformats.org/package/2006/relationships"><Relationship Id="rId1" Type="http://schemas.openxmlformats.org/officeDocument/2006/relationships/slide" Target="../slides/slide310.xml"/><Relationship Id="rId2" Type="http://schemas.openxmlformats.org/officeDocument/2006/relationships/notesMaster" Target="../notesMasters/notesMaster1.xml"/>
</Relationships>
</file>

<file path=ppt/notesSlides/_rels/notesSlide311.xml.rels><?xml version="1.0" encoding="UTF-8"?>
<Relationships xmlns="http://schemas.openxmlformats.org/package/2006/relationships"><Relationship Id="rId1" Type="http://schemas.openxmlformats.org/officeDocument/2006/relationships/slide" Target="../slides/slide311.xml"/><Relationship Id="rId2" Type="http://schemas.openxmlformats.org/officeDocument/2006/relationships/notesMaster" Target="../notesMasters/notesMaster1.xml"/>
</Relationships>
</file>

<file path=ppt/notesSlides/_rels/notesSlide312.xml.rels><?xml version="1.0" encoding="UTF-8"?>
<Relationships xmlns="http://schemas.openxmlformats.org/package/2006/relationships"><Relationship Id="rId1" Type="http://schemas.openxmlformats.org/officeDocument/2006/relationships/slide" Target="../slides/slide312.xml"/><Relationship Id="rId2" Type="http://schemas.openxmlformats.org/officeDocument/2006/relationships/notesMaster" Target="../notesMasters/notesMaster1.xml"/>
</Relationships>
</file>

<file path=ppt/notesSlides/_rels/notesSlide313.xml.rels><?xml version="1.0" encoding="UTF-8"?>
<Relationships xmlns="http://schemas.openxmlformats.org/package/2006/relationships"><Relationship Id="rId1" Type="http://schemas.openxmlformats.org/officeDocument/2006/relationships/slide" Target="../slides/slide313.xml"/><Relationship Id="rId2" Type="http://schemas.openxmlformats.org/officeDocument/2006/relationships/notesMaster" Target="../notesMasters/notesMaster1.xml"/>
</Relationships>
</file>

<file path=ppt/notesSlides/_rels/notesSlide314.xml.rels><?xml version="1.0" encoding="UTF-8"?>
<Relationships xmlns="http://schemas.openxmlformats.org/package/2006/relationships"><Relationship Id="rId1" Type="http://schemas.openxmlformats.org/officeDocument/2006/relationships/slide" Target="../slides/slide314.xml"/><Relationship Id="rId2" Type="http://schemas.openxmlformats.org/officeDocument/2006/relationships/notesMaster" Target="../notesMasters/notesMaster1.xml"/>
</Relationships>
</file>

<file path=ppt/notesSlides/_rels/notesSlide315.xml.rels><?xml version="1.0" encoding="UTF-8"?>
<Relationships xmlns="http://schemas.openxmlformats.org/package/2006/relationships"><Relationship Id="rId1" Type="http://schemas.openxmlformats.org/officeDocument/2006/relationships/slide" Target="../slides/slide315.xml"/><Relationship Id="rId2" Type="http://schemas.openxmlformats.org/officeDocument/2006/relationships/notesMaster" Target="../notesMasters/notesMaster1.xml"/>
</Relationships>
</file>

<file path=ppt/notesSlides/_rels/notesSlide316.xml.rels><?xml version="1.0" encoding="UTF-8"?>
<Relationships xmlns="http://schemas.openxmlformats.org/package/2006/relationships"><Relationship Id="rId1" Type="http://schemas.openxmlformats.org/officeDocument/2006/relationships/slide" Target="../slides/slide316.xml"/><Relationship Id="rId2" Type="http://schemas.openxmlformats.org/officeDocument/2006/relationships/notesMaster" Target="../notesMasters/notesMaster1.xml"/>
</Relationships>
</file>

<file path=ppt/notesSlides/_rels/notesSlide317.xml.rels><?xml version="1.0" encoding="UTF-8"?>
<Relationships xmlns="http://schemas.openxmlformats.org/package/2006/relationships"><Relationship Id="rId1" Type="http://schemas.openxmlformats.org/officeDocument/2006/relationships/slide" Target="../slides/slide317.xml"/><Relationship Id="rId2" Type="http://schemas.openxmlformats.org/officeDocument/2006/relationships/notesMaster" Target="../notesMasters/notesMaster1.xml"/>
</Relationships>
</file>

<file path=ppt/notesSlides/_rels/notesSlide318.xml.rels><?xml version="1.0" encoding="UTF-8"?>
<Relationships xmlns="http://schemas.openxmlformats.org/package/2006/relationships"><Relationship Id="rId1" Type="http://schemas.openxmlformats.org/officeDocument/2006/relationships/slide" Target="../slides/slide318.xml"/><Relationship Id="rId2" Type="http://schemas.openxmlformats.org/officeDocument/2006/relationships/notesMaster" Target="../notesMasters/notesMaster1.xml"/>
</Relationships>
</file>

<file path=ppt/notesSlides/_rels/notesSlide319.xml.rels><?xml version="1.0" encoding="UTF-8"?>
<Relationships xmlns="http://schemas.openxmlformats.org/package/2006/relationships"><Relationship Id="rId1" Type="http://schemas.openxmlformats.org/officeDocument/2006/relationships/slide" Target="../slides/slide3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20.xml.rels><?xml version="1.0" encoding="UTF-8"?>
<Relationships xmlns="http://schemas.openxmlformats.org/package/2006/relationships"><Relationship Id="rId1" Type="http://schemas.openxmlformats.org/officeDocument/2006/relationships/slide" Target="../slides/slide320.xml"/><Relationship Id="rId2" Type="http://schemas.openxmlformats.org/officeDocument/2006/relationships/notesMaster" Target="../notesMasters/notesMaster1.xml"/>
</Relationships>
</file>

<file path=ppt/notesSlides/_rels/notesSlide321.xml.rels><?xml version="1.0" encoding="UTF-8"?>
<Relationships xmlns="http://schemas.openxmlformats.org/package/2006/relationships"><Relationship Id="rId1" Type="http://schemas.openxmlformats.org/officeDocument/2006/relationships/slide" Target="../slides/slide321.xml"/><Relationship Id="rId2" Type="http://schemas.openxmlformats.org/officeDocument/2006/relationships/notesMaster" Target="../notesMasters/notesMaster1.xml"/>
</Relationships>
</file>

<file path=ppt/notesSlides/_rels/notesSlide322.xml.rels><?xml version="1.0" encoding="UTF-8"?>
<Relationships xmlns="http://schemas.openxmlformats.org/package/2006/relationships"><Relationship Id="rId1" Type="http://schemas.openxmlformats.org/officeDocument/2006/relationships/slide" Target="../slides/slide3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2512-3AC9-4282-9706-D2F6A548E1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E976-2FF0-4D09-977E-5BFD44B048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F280-2A7B-4BB0-A4F8-3A879D93BD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359B-0063-4AD1-9FE3-A8B5210D50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1C31-F6EA-4A5C-9891-4DAC70805E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7BF1-3898-404E-B9D6-DAD83F6E3A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4990-FFED-4705-883D-899381C4C5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29EF-8886-4D1E-87E0-B6F5A83687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149D-92AD-4845-9A2C-EB559F495C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3430-4ED1-4E58-A9E9-A867F5E124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2FD6-D4A0-43BA-9525-4FA9314D5D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D07F-09C6-48AA-86D0-8A7372EA83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71D8-BC32-4AC1-8B6D-885324D40C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9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7A91-958B-41AC-B890-DD2CBE1B10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99DA-9AC1-4FA5-BBC7-9072D12A77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AE48-761A-4AC1-90D7-808036E2DA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5FFD-304C-4DF4-A6BE-14A455486B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0081-D877-4084-A148-2EBCA66167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074B-6F56-42E0-BEE9-1A36866CE8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697C-1A47-4CDF-B186-1CC530DB7B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ED57-505D-487C-9462-2CF95E65C5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16AF-9881-4595-86AB-87E9413E14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3375-A02A-48CA-8273-B2077507E4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55F5-7799-437B-996E-669D70BF10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8A3E-A737-46EF-B2F7-B17E3159C0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A092-EA23-4C98-B31A-AA29979918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E457-9BD0-46BC-9EA2-A4B0C6C09A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984A-67CE-4F60-9B8E-C26F8FC494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F361-CBC2-4982-9F9F-7C0C867898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D84C-6D37-4232-BFAD-96E5B601AE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52AD-4E6D-4BB1-81F0-15484344DD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55DB-D861-49C9-BE7C-32069CFF9C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D6A5-1AA1-42C6-BF91-57F535D357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D343-0B45-45D2-9857-DE1C7B5456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6393-66D0-475E-A68A-A85CBDFA88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4927-9F86-4D82-A44E-14F3D45C80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C81C-2A35-4974-A7C4-2D44E816C6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6CBF-3DAA-4D7D-B6E9-8A6AEF33AB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3495-8043-45BE-B6D6-816773BDF3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6C22-21B0-46A0-AACE-87D08D1EAF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2C9F-5C82-4D97-BD9E-B367BE4D6D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583C-D68D-481B-9BA0-0697F1870F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668A-F1CB-401A-ABDA-15C38E3EF3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F062-5946-4BBF-9A43-A7E1FCC7FB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D824-74B7-463D-B120-23B091667A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C289-9C2E-46F8-BEEA-8559852344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7BBF-B306-4FE7-8E1D-B6F0AC4E7B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297D-9FFE-4852-ADF8-A922B57487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B088-A947-4B04-9E5F-136E9521BF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AF74-5BCB-4C2E-824B-8E11519C00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01EB-5D57-4B17-AFC3-DE807374AA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BF11-67D1-415C-BE87-B0C3845EFA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127A-6EBA-4393-84B1-71EA439425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18C4-8CFE-4E13-8846-E9FD964913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BF2A-69A5-4B7F-B948-3C55070928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D804-9D3B-4B4E-8073-AE07CD3087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39A2-76CF-4E0A-A65C-91054E19E5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849F-9FDC-4431-BDFE-2B68026346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5F72-149C-4402-910A-00A1888D7E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DD42-9854-4771-9C56-844AAC4E2B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26A0-91EA-4982-9D51-3B0F52F92B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F762-A159-46DF-9B04-803B9C768D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B5F2-D9D1-4892-AE32-E141482725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3E9B-0D60-4E97-93EF-5F52F5868C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4A0B-7F9B-4137-BD9A-1C74E84693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AF09-CAD3-419A-9BC1-B81A299BAF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3361-E3FA-4174-8B67-737139BC92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A692-E4A6-4679-832F-7AA3DD0DF5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57EA-16DC-4DC3-A976-A0B7F3A190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9403-C0B5-49D8-AFDC-022F059BA8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7939-43D9-4F0D-94E4-78A05B0880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384F-63C7-4877-A02B-B8A8CAE993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E24C-B4CB-4943-9221-7A970F8F47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20A2-D889-4C8A-9AC0-745949B435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8079-36EE-4A59-86C1-E029FF97F4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63AB-3AF0-42F6-9AA1-D5F6F2A92A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D238-39DF-42E6-9CA7-8AB14E71FA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392F-63B8-4385-BCF3-83663DE349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D68B-485D-47E1-8441-94A915763C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6F3B-E506-4EFE-B629-0D4E077586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6E91-8F36-4992-800A-DC9022630A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C711-6F79-440B-B508-56D8C51157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CF5B-5568-44CE-9E9E-7ABFAF7D64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0869-3C1F-4D77-B0B8-2E7D424478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8610-3490-452B-A522-467A3728EA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6D45-778B-4F49-9171-B431A96385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EB72-3181-42A2-B88B-501F52D368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38A4-1EA9-46F9-9DC4-E59ED6AA67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03F3-8536-41EB-8EC0-14F522F74F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379E-F089-4BA2-A854-D9705521E1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F775-E2FA-417E-A348-8200494A94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09DF-860D-4DCC-8934-B9FA3983FC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8D55-E7F2-4E52-9BD3-7D51405123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9531-0A25-4D59-913F-B13CD55DE7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BA4F-4FD6-47A4-8885-77218F3CD1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1695-429B-412F-A724-8F84F7A26B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563F-3FE0-4696-AFC2-6F64C36772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1DB5-4839-4E2C-9C6C-75ABD60BDE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AB30-7F3F-466C-9445-A01388C5A9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32F2-6FF7-4951-AD00-CA4523A8E4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452B-4EDD-428F-BD9A-D9D11D1EBC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DCF1-52B6-4F49-921E-0AA551F34D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135D-B701-43F4-A4F2-6DF991A7BB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7978-D8EA-4706-95A9-D4C5D60CFD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C664-157A-417B-923C-C5F1A3D5EA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4CD1-E61D-4DB3-97EB-71599F0CFA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8F03-F2A0-4ED6-8C78-0CB6B9F723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BFE4-185D-49BB-85C4-98523C5BB3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9E9E-F311-4CEB-A2E1-556ADE0F94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9054-C94C-4605-B6A5-17C971D3AD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6C90-E144-44FE-A82B-71A769C6F4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784B-C71E-4686-A813-9308AF79F2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787F-B352-4556-8EB3-50D1EF4EB6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19DE-9F09-487D-8E5D-E912C765AA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123F-EC66-4C23-A06A-3EBBE804F4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8BE3-5470-4890-AF99-EEE6023898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ECBE-2B99-4C23-9B25-376AC165F3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DF35-BB54-4BE8-98BF-22359A208A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F02D-A56C-4481-9408-21AA074E4E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AAAB-B275-491F-970C-01BE5CE9FA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A821-D6A0-42B4-8D1A-7AAB7CD6D4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4D36-6E3D-48CE-927F-AB764DF461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9B7D-1C37-4925-ABBA-432EF87F1B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D536-F5D7-45C2-91D9-91E4118796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2076-2526-492E-A953-C63E98B558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3732-CC45-4C2F-8AA5-7102C24304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F764-2EE5-488B-8D38-31686116B8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4DAB-E151-45B4-8147-B8C925A676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03D9-7940-473E-9D8D-B83221AB47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B94D-BA18-4850-A806-8C78795C39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7C1C-D3FB-4393-B9F8-6E1083C86B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41B5-6B7B-4E6B-BE3C-7A27804C08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B18B-E53C-401E-BBB5-4A7D824F2E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D8E0-F5B8-421B-BC57-03AD504640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FF4D-C050-4C9A-B2CD-790F791E0A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388E-7D6F-4963-B5AA-C4480373AB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10E2-051F-4222-8931-458334ECB8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FD78-9869-4817-BE64-C841EDC611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243F-7521-417E-B9D4-1F9FA75A95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81AC-5477-443E-B68D-540C0766C5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19ED-EC3F-484D-BE9E-F7294F9578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C020-2292-4925-ADC6-20D721F26B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447E-B0EE-4CA4-B9E4-FEDBEE801C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20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486-30DB-4524-9A69-32BC1D9BC3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AC3D-A336-4A0B-8125-97F9272713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B535-9F1E-4E47-89AF-BD3AB8AB17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8B2D-5E9C-421E-96EF-AF64BBF225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A0CC-B902-499D-BFC7-884350B80E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0C0B-9F57-4650-8958-56927E2014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073D-12A9-4D71-9085-496C272D1B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4959-929A-4713-9F88-05B9361192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A5DB-7894-4066-8730-91AD5C5338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4308-37B2-4794-AB69-C3A5D402C1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5132-7950-4958-841D-A606D6B430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DEFD-BFA6-4570-857E-BF46223708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0E8F-C86E-4396-8F43-4685FCFE80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BBA6-8BC3-4E46-ACDC-9DA5C40188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7428-32BB-48E7-88CC-F7DCC4192C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3ABE-BAF5-49E6-847F-7341F46BD7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2A77-F905-4E67-A20C-EC5B8F955C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CE31-137D-4BAA-A9DF-75C724F1FB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2BDB-AC77-4D9A-BF72-14B19C5D69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C0C6-A5CE-48FB-BE15-29645DEBEF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246B-5566-4437-9261-2F0B6CE1F5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0A08-A21C-47C8-BD7B-A32D581962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ECF6-40EE-4319-BF69-2E99BD196C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5E55-0363-469B-8E09-04A5A58F2F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04C2-8BFF-467D-90B2-043D51D5D0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79DC-429C-4F72-94AD-F6A07A1AF1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D418-56E7-4EEB-8C87-61DC157853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B25F-7165-40B7-9357-32F90BC349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2DF6-18DA-4FAE-B488-BE804923CE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6FF4-3080-4423-B1E0-5B55E14357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BBF4-AA85-42DC-8355-F8C3D37020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CCC1-DAB2-4AE1-BDA6-5D80E5E0AE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B9BF-1CC7-4A28-9CEC-F3716C6475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B01D-E99E-4586-9E9E-22B7F2069A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B622-A8F9-4C2F-83E5-D23418757C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9A12-4E66-4FB9-8373-69CB0146F4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5AEA-0F59-4479-8FB9-52C47E1037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0B8C-1BBF-4BE0-9AD7-0885FB1BBE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C4E0-43CE-4598-A465-09BFB4E7B8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E6B8-70A3-470F-989A-D23AFD5339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8E3D-BF3F-47D0-BD43-74FFAD7A63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9000-FC5C-4CFF-89BE-0C1A6EC657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BD52-D73D-4335-BCBD-450A086C13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3C51-C7E5-466F-8F7B-A1A88C28FA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22D3-47D8-4375-BF13-5AE673C80F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FF2C-CE4C-4E3A-88B5-7F9DE3F774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88EC-09E8-45CC-A84A-618A2492C5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AEE3-01D6-4197-B767-1A65E58E0A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EBFF-BAEB-4CEF-B5F7-ED9676B1A8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125E-7069-451C-9D57-1501DA2248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1DD5-E8F8-4E19-B4FA-BCDEDC3EE1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5A74-5AB4-415A-BC5B-1111D2BEE5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9C7D-0F26-4B61-8911-332E661DCA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2ABA-A3E7-4240-971B-C300CC133D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8501-A922-4B77-B0A4-68745F9D89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7BB9-7594-4621-AE0D-B6F3864F6C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6803-DB63-44FD-99E9-DF553778E8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3E90-DAA6-41D9-BCE0-0A4C9A560C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16B1-9F3C-4691-B205-DE3B1D737D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1CB5-3101-4DF2-827F-173611B15E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4274-5D6F-43DC-9333-3751EF19B3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560B-EA97-4D3F-8CDE-7786EC1A32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AA2C-DC13-4E7F-A04C-B73CD74565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BC53-C661-4379-BBA9-8C65F12262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5C7D-2985-4E4C-9364-07C1A9A712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B120-3F03-495D-8462-D2DB03BF72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10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EF57-CEE9-4206-9E1F-D527B45280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8E36-65D5-43B4-A614-E57D936F0A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6E66-968C-4416-BC67-0D7B183B95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B220-4B81-4D73-9671-F39C3BF1C0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C6B0-8103-40E4-88E0-10EB45E1C2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76BD-4773-429C-A0D5-B3269A048A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1CC7-0CD5-486D-8028-4AC6878E27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71AC-9C90-4F04-8310-2FD9CF83C4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B698-1EBC-414B-BB52-E966DA9090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45F9-977E-4928-BDDA-F72CBEFE10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D0F8-90BD-4E62-844B-E2B502FD0E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5249-68ED-44E0-A56C-647C329D70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BC5C-EC2C-4461-B6CD-46BAD4B7BC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1D5D-7B78-4311-BB4C-91126575C3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FE3F-8749-4089-A6F6-7CE3FAA1C4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A448-25F3-48CF-9C59-45EDEEA9B6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3529-8C3B-4289-B5C0-5A570F6E54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E079-9E05-4613-ACA6-28B79B2EC2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8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EABD-4EBE-42BB-94A1-0A36705250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7259-ED72-4E9E-BDB7-726A21DDA6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6F98-55C5-41D7-B8AB-9607A88F40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3AF8-5486-4CCF-B42E-0818CCA260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E100-3C12-4982-B352-BC6223DAA1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3587-9CA0-477F-897F-DDD0ED9230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70F6-A997-422C-91A1-A49A892179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C66B-AFFC-498C-BE9E-DECAD6F192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7D25-DB7D-4480-959B-D2405E7910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D9CE-3E90-4014-9949-5BDF2DC9E3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8327-A8FD-4499-A211-C4230B30F1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907A-0C83-4C31-97E0-4605ECBFD3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C654-D918-44ED-A5DC-70A16E8376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74D3-F8C0-4774-AC2A-1D3DA91BDD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BB01-0FDB-442A-85C7-8EE3D0514C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14E7-FFAC-47C0-BE3A-7FBD6E3822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61D6-5D62-44C6-BA7F-A81197E11C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2161-F545-4D13-AC25-747F683522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15D5-451A-4F00-94BE-CFA40106D4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BEA2-AC7B-4A61-BDB0-522F8B1121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FAC9-67FB-404F-A26E-B1A6066952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CBC5-DF15-4729-8662-951852521C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0436-BB74-4742-B607-347E0ABCD9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8094-349A-48C5-91A6-E264D973B8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589D-6063-4D33-815D-1BD47D145A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9E62-BBE1-416E-87F1-D6728D37A1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8259-1E1B-4454-BDAB-364BC4E856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9A16-AA68-4CA2-AB51-F24503C101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E2C-3974-4942-849F-E23899B7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514-21DD-4B08-9CA0-1E7504E1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3F4-057F-4B8C-93E6-0AAFF3D5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A44-F96E-46A1-B8F1-C5ECFF0D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95A-557A-4744-829A-1DB395A5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3FC-C04E-4E19-BF36-888EF483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BB4-9700-4E58-88D2-98ACDEB4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6B3-6FBA-48FB-9A01-4B0FA0F5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A7F-78CD-4060-AACE-E1FB18E6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7BA-FCDA-46E4-BDE1-13614B6A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9E2-521F-4197-9316-4C0CE54F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10F-A845-4BD6-B236-1745DC10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9710280"/>
            <a:ext cx="142848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78D2-F9D6-415A-A680-5A0ACA51E776}" type="datetime">
              <a:rPr b="0" lang="sr-Latn-CS" sz="8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9710280"/>
            <a:ext cx="274320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Predavanja iz Upravljanja – 02-U čemu je razlik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520" y="9710280"/>
            <a:ext cx="142884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29C0-3114-436B-B491-EF35C5B77FB1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 od 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0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4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5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6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7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8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0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4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5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6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7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8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0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2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4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5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6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7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8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0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4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6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7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8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0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4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5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6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7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8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0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4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5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6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7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8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0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2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19520"/>
            <a:ext cx="5829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6095520"/>
            <a:ext cx="5790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čemu se ovaj predmet razlikuje od ostalih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39C-D164-4285-BF01-31EE1F57BFB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99E26-0E84-4CCC-B2E6-267320A91B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5991120" cy="7543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 svemu tome ima istine,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1888920" cy="183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3591000" cy="193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95680" y="2438280"/>
            <a:ext cx="1828800" cy="1487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295280" y="5410080"/>
            <a:ext cx="1524240" cy="144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838080" y="72388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E0E-34A4-480E-BD7F-3002AB08644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30B78-2866-4E43-BD3E-CD189B4864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30906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investitora da postavl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rukovodioca projekta da prihvata tu ulo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s projekta sa osnovnim podacima o budž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e specifič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CA9-6ECA-4D67-B576-D5262F8950EC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72410-08B8-4E04-9C8C-2B368A4FD0C0}" type="datetime1">
              <a:rPr lang="en-US"/>
              <a:t>07/29/26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0040" y="324288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žina angažovan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n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i za iz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konta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a 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6AF-CC3E-4D00-8C52-DB44DB957274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498A4-54F3-45A1-A13C-1DD9BB3F3AAB}" type="datetime1">
              <a:rPr lang="en-US"/>
              <a:t>07/29/26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ši pr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zvođenja investicije (organizacioni konsalting) - ne ulazi projekto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ciono savetovanje (konsalting) - ne ulazi struč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6F6-D6A4-4C62-9447-4BEACDFE6021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513A0-F2BB-49C7-8D50-0A474E6FDA4B}" type="datetime1">
              <a:rPr lang="en-US"/>
              <a:t>07/29/26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dič UN - Ekonomska komisija za Evro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DAF-3C26-453F-8525-0FF539CA30DF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4720D-F15B-4648-89A1-56F902872B87}" type="datetime1">
              <a:rPr lang="en-US"/>
              <a:t>07/29/26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ukupn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obavlja profesionalne usl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zrada planova i specif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prema ten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upanje investi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dzor nad izgradnj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satu plus trošk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nat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šalni iz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73E-9A68-4181-9AB8-7381766B11A2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C4885-3106-46D8-8B41-41C9D7F48FB1}" type="datetime1">
              <a:rPr lang="en-US"/>
              <a:t>07/29/26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konvencionalnog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nema finansijskih interesa u izgrad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sni odnosi konsultant - investitor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at se završava pre početka 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m radova je ja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pun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kladu je sa regulativom o jav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e obaveze su ja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A46-BE44-4315-811E-EF293017E8AF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EF26B-720C-4D50-9E74-46D8B36E89FB}" type="datetime1">
              <a:rPr lang="en-US"/>
              <a:t>07/29/26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i konsal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njuje mogućnost spoljnog sukoba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uigravanje stručnj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AAD-0AF4-4747-86B9-A7315EDDC4BC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680C9-D586-49D3-A3E2-D05E6DFA644B}" type="datetime1">
              <a:rPr lang="en-US"/>
              <a:t>07/29/26</a:t>
            </a:fld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 realizacije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ovanje i/ili upravljanje izradom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bavke i lici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je investitorov izvršni organ, bez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a podela uloga između više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F4F-2D79-43BC-A93E-781C062771E4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7F818-939C-411A-89E9-2C8700DC9AA7}" type="datetime1">
              <a:rPr lang="en-US"/>
              <a:t>07/29/26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kusni savet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a unutrašnjih suk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i za nabavku se sklapaju na osnovu licitacija sa kompletnim specifik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licitacije moguće je porediti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stupanja se rano primeć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ije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E0A-BE82-4608-9247-A8C35011F456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D80A5-55AA-419C-923B-D87902ACFC2C}" type="datetime1">
              <a:rPr lang="en-US"/>
              <a:t>07/29/26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na odgovornost za projektovanje i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mogu da počnu pre završetka pro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 se utvrđuje na osnovu tačnih specifikacija, pre ili posle sklapanja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A9E-B1D7-47A9-8A29-2733B1F41065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AFCD2-0B28-4606-87B3-40AB573175E5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mi imamo još jedan predlog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200" spc="-1" strike="noStrike">
                <a:solidFill>
                  <a:srgbClr val="000000"/>
                </a:solidFill>
                <a:latin typeface="Times New Roman"/>
              </a:rPr>
              <a:t>Zarada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9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5943600"/>
            <a:ext cx="1565280" cy="213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19720" y="5943600"/>
            <a:ext cx="15652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9DB-B9D2-4BBC-83EA-42191CA2BD2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B0911-3B40-4CAD-888D-E5983AF3AD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šće konsulta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210024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a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i revizij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ja i 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opredaja objekta i obuka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ek mora biti profesionalan i nepristr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mogu dobiti samo oni koji imaju ug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4AF-62D8-4617-936A-DD0B037B0E10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DA5BE-E581-47C2-A148-52956C414DFA}" type="datetime1">
              <a:rPr lang="en-US"/>
              <a:t>07/29/26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22B-A109-4771-9D9F-D887790C4419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35530-77D3-4328-B06E-AE4BAF5CACD1}" type="datetime1">
              <a:rPr lang="en-US"/>
              <a:t>07/29/26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F89-5B64-42D2-97EE-0A00EA53A1B9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AF1CF-FBBD-41E4-A9EF-C8DEC363260E}" type="datetime1">
              <a:rPr lang="en-US"/>
              <a:t>07/29/26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652320"/>
            <a:ext cx="5829120" cy="20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pojm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440" y="2903400"/>
            <a:ext cx="5829120" cy="556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11D0-FF8E-43D1-A15E-279DB5F61E68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129E9-1064-4386-9F80-5CFD3E036E2E}" type="datetime1">
              <a:rPr lang="en-US"/>
              <a:t>07/29/26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37760" y="1294920"/>
            <a:ext cx="5829480" cy="76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čki: jednostrana izjava volje upućena određenom licu radi zaključiv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da bi bila valj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rži osnovne elemente ugovora (predmet, rok, ce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žena vol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 pod navedenim uslovima sklopi u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si 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i njegov punomoć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će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nvestit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obavezujuća z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 rok traj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867F-B5D9-40FA-9B27-46EA04CC51B7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00F6A-89BB-4890-B1FB-73C0BD8071F6}" type="datetime1">
              <a:rPr lang="en-US"/>
              <a:t>07/29/26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vrha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tni materij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azuje na tehničko-tehnološke aspekt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sposobnost izvođača da urad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ozbiljnost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 uslove pod kojima investitor može dobiti investiciono do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6A7-347A-45FC-A143-09EABAD984CA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CBA74-0646-4147-850A-8D271887283B}" type="datetime1">
              <a:rPr lang="en-US"/>
              <a:t>07/29/26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gledavanj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7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asp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e za resursima i njihovi izv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zahtevi podizvođača i kooperanata (tehničko-tehnološki, organizacioni i finasij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isporu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j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 finans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765-71A4-41DB-9902-92A25CAB50ED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CB0C7-10AC-4A87-9141-D445495297B1}" type="datetime1">
              <a:rPr lang="en-US"/>
              <a:t>07/29/2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e želju kupca za investicionim dob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se definiše predmet budućeg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definiše i način izbora najpovoljnije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definiše i ostale prateće u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ovi resur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9ED-74F3-4B66-82D6-C033DBF6F205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96584-926A-4A92-A5BF-EAAA91A81DF6}" type="datetime1">
              <a:rPr lang="en-US"/>
              <a:t>07/29/26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definisanja predme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end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funkcionalnim paramet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C8F-CD0D-4B64-B707-1ACCD351A986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BC58A-EEFC-43A1-931E-4171EABD016D}" type="datetime1">
              <a:rPr lang="en-US"/>
              <a:t>07/29/26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440" y="1338120"/>
            <a:ext cx="5829120" cy="719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utstvo ponu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dnošenj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ja u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tstva za podnošenje ponude (rok važnosti, produženje, licitaciona garanc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ponude sa prilogom uz ponu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sa izjavom da će radovi biti izvršeni u roku i po ceni, koji ispunjava ponuđa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DFC-8B41-4CD0-A90A-645332F39494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3818F-6DA6-467E-B1A0-8D53F3DADBC8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rada je važna svima koji grade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vestitor veoma često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vođač uvek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raditelj mora od nečeg da živi, i to dobro, ako je mog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o može da bude zaljubljenik u svoj posao, ali ostali obično traže svoj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5AC-4749-46B9-8180-6936511242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F98FE-A40A-4C20-94AF-C50B980230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440" y="1414440"/>
            <a:ext cx="5829120" cy="79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na kome se zaključije ugovor, čiji je sastavni deo i ostala tenderska dokum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često bazirani na FIDIC-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kacije i opisi radova koje treba izv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čni zahte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"zamk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AFC-4E3E-4D7A-AB5D-F3EB3750BBF3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23169-DD58-40D0-812A-9EF1CE4135A6}" type="datetime1">
              <a:rPr lang="en-US"/>
              <a:t>07/29/26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14440" y="17949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 i predrač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količine radova koji se 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upisuj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rema stvarnim količi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bi trebalo da dobro sagleda šta se stvarno može očekiv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buhva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ek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os cena ponuđač prilagođava željenom toku nov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462-EADE-4391-AD31-A47401B7D859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92BE4-C0B4-48B7-A332-E7A64BFD0AAA}" type="datetime1">
              <a:rPr lang="en-US"/>
              <a:t>07/29/26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te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đuje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ovoljni za realiza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razrađuju i prilagođava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cija za dobro izvrše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je banka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10% vrednosti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naplativa na poziv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316-2515-4315-9194-2D4F5130AA9A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18D0E-F913-41C4-A699-BE91C6D28EC5}" type="datetime1">
              <a:rPr lang="en-US"/>
              <a:t>07/29/26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kojom se najpovoljniji ponuđač informiše da je iza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ed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ugovor ne sklopi, gubi se licitaciona gara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o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a koja se dostavljaju naknad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se dostavljaju kao odgovor na pitanj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alju se svima, bez obzira da li su pi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A0F-7A6A-421C-A474-CEBCC567A258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94271-A4D5-46DB-BE7E-5D4A2214FDBB}" type="datetime1">
              <a:rPr lang="en-US"/>
              <a:t>07/29/26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i parametr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o vrsti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, spratnost, nivo obrade, oprema za poslovni obje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oizvoda, nivo proizvodnje za proizvodne ob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treba da uradi detaljnu razradu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o i dugotra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ća mogućnost za zaradu i gubi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2FA-8A5A-4C36-A111-2F3B28BB93C0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05287-9414-4B0B-9C14-33A5E3DE17E8}" type="datetime1">
              <a:rPr lang="en-US"/>
              <a:t>07/29/26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izbora najpovoljnijeh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ji po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eni poslovni partn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2CA-19E0-4869-8070-1326B2D25AFF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A3815-2ED8-43B0-9217-B535A6050334}" type="datetime1">
              <a:rPr lang="en-US"/>
              <a:t>07/29/26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ci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6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ju se kvalifikovani ponu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čekuju se kvalitet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da spreči dogovor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i poziv u specijalizovanim st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vima informis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postoji predkval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upak sprovodi konsul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B65-46FA-40BF-B0D4-88E21A16DA6E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3947B-A342-45FE-B6AC-E448C3E6A1E0}" type="datetime1">
              <a:rPr lang="en-US"/>
              <a:t>07/29/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najpovoljnije ponu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14440" y="1642680"/>
            <a:ext cx="5829120" cy="76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nije najjeftin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an je bon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i su finansijski uslovi (kreditiranje, plaćanje u domaćoj valu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da postoje i specifični uslovi (angažovanje domaćih firmi ili resursa, transfer znan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da postoje i drugi specifičn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procedura je definisana u konkursnom materija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EE2-290C-48EC-87EB-4F8DE7628553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C872E-DA40-48B4-9D76-97333CE146D2}" type="datetime1">
              <a:rPr lang="en-US"/>
              <a:t>07/29/26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slovima za davanje prodajne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stvena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razni modalit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može biti i fik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B80-B0FC-4BD4-A5E9-8FFD75DB7F3E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A1B17-68BC-4CA8-9EF5-DC6C754979B4}" type="datetime1">
              <a:rPr lang="en-US"/>
              <a:t>07/29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394-4AC9-4C41-9A5C-D2EDA48AC281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11016-40EB-44CE-B0FB-28D7C10931B7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rugačiji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m pokažemo kako da vodite računa o realnim moguć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s naučimo kako da vodite računa o realnim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D5C-A56D-4B65-B945-39C9069781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E0252-0983-40F7-BC52-B104C1FCC1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86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5829120" cy="59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320-BA3E-4FA9-9954-E36C35C83282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067D4-D499-45B2-8C0A-2D416AD1AE0E}" type="datetime1">
              <a:rPr lang="en-US"/>
              <a:t>07/29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ubedljivo najznačajn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uračunati faktor neizvesnosti, posebno u uslovima dugotraj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D512-7522-4E52-9AB3-DDFF2DE67E11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96973-9F1D-49CE-9680-35BB79D4B85F}" type="datetime1">
              <a:rPr lang="en-US"/>
              <a:t>07/29/26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 između glavnog izvođač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o je da glavni ponuđač (izvođač) uspostavi internu kontrolu ponuda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 mora biti "čvrsto držan, štapom i šargarepom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C7B-556F-4996-B184-B5576B79E8A9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B32F9-FF00-449D-A7EE-84E01F4CDF49}" type="datetime1">
              <a:rPr lang="en-US"/>
              <a:t>07/29/26</a:t>
            </a:fld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tap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angažovanja drug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promen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argarep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agođavanje ponude interesima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stiranje na tehnologiji koja odgovara pod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nost u raspodeli sredstava (iznos i tok nov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999-DBC3-4297-B9BD-6A64DB66A066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CEF82-200F-4DEC-8437-FA19C072C23E}" type="datetime1">
              <a:rPr lang="en-US"/>
              <a:t>07/29/26</a:t>
            </a:fld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podizvođačem se ugovara cena koja se razlikuje od cene tih radova iz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voditi računa da isplaćen novac odgovara vrednosti izvrše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novca treba da bude u funkciji efikasnog završetk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08B-0018-4347-AE8B-D11EBB8EBC76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3A06C-A023-4EE7-8EC7-722CBE8D6305}" type="datetime1">
              <a:rPr lang="en-US"/>
              <a:t>07/29/26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ceptu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v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procenu obavlja specijalizovana ekip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ipu vod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nitel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stimato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su približne, ali su nuž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kada se sagledaju troškovi, dodaje se pro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70B-ABCA-42E6-B99A-73C7438CD8A3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52425-123A-49C5-83D9-0E2AC8BACAD7}" type="datetime1">
              <a:rPr lang="en-US"/>
              <a:t>07/29/26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omoćnih postrojenja i služ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žijsk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troškovi direkcije kompa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o nastaju pre ugovaranja (ponude, akvizicija, marke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D6F-8136-4882-9622-158054BACBFB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D09B2-748A-40AF-820B-755F994CE99C}" type="datetime1">
              <a:rPr lang="en-US"/>
              <a:t>07/29/2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5829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6148440" cy="776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3DD-AD82-4CA6-BCBD-BE30FED0DADD}" type="slidenum">
              <a:t>1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55D46-8500-475D-966D-1A3519D7B0AB}" type="datetime1">
              <a:rPr lang="en-US"/>
              <a:t>07/29/26</a:t>
            </a:fld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 za donošenje odluke o radu na ponudi (slično studiji opravdanos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nders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ženi rok (ako ga 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č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učešća domaćih firmi i moguće posle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DF2-9267-4DF0-B717-C4B015AADC2C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A202F-B876-4FF3-9F10-8B8F66FC4251}" type="datetime1">
              <a:rPr lang="en-US"/>
              <a:t>07/29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konstrukcija investitora i njena sigu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 i način verifikacije obavljenog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iji su troškovi osiguranja, carine i druge tak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487-71A0-4D7C-9B8F-A3FF98EF7388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7FF5D-ACC9-4FBC-A64C-E067505CF8DE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ere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ednost onoga što uradite biće merena prema tome koliko doprinesete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mora biti da sačuvate svoj integritet stručnjaka, ali i da zarad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je da onaj koji vas je angažovao oseti da je imao koristi od t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085-12BA-4B08-93F6-155C3821621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8A647-9A4A-499D-91CB-37E089B1AF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istraživanja tržišta 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ci troškovno značajnih stav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a osposoblje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F7B-B0DD-4067-AFB9-4F7294DD4E0B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F9DE9-E205-41C4-ABA2-81462FE9772D}" type="datetime1">
              <a:rPr lang="en-US"/>
              <a:t>07/29/26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a o usvaj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virna finansijska vr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tivnosti potrebne za akviziciju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ni dinamički plan izrad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e potrebe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sredstva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DC87-FC58-4DC0-A9DE-48C6F12D5F30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1EE4E-40D2-49C4-B9F0-4974963C42E7}" type="datetime1">
              <a:rPr lang="en-US"/>
              <a:t>07/29/26</a:t>
            </a:fld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7760" y="1191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7760" y="1719000"/>
            <a:ext cx="582948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izvor cene koja se nu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%-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bitniji element priprem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na za proceduru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i analiza ten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na tehnološke i prostorne pod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eneralnih 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tehnologije i njenih posle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FAD-5335-4E63-BB30-E651F1EC642F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7EFB3-EFCD-4D2A-89D4-205C726A5D1E}" type="datetime1">
              <a:rPr lang="en-US"/>
              <a:t>07/29/26</a:t>
            </a:fld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14440" y="1871280"/>
            <a:ext cx="5829120" cy="734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generalnog dinamičkog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i izbor meh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rganizacione stru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priprem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režijskih troškova na gradiliš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0F7-3654-45BB-88EB-C47B5DEF0722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15286-86B8-44E7-83AF-93F4EC3CED12}" type="datetime1">
              <a:rPr lang="en-US"/>
              <a:t>07/29/26</a:t>
            </a:fld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716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sedišta fi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bankarsk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načina kontrole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zik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fit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tizovanje pripremlje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una baz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5EA-63AF-4F81-85ED-45386ED07DF8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40FFB-182D-4CEC-987D-078E89124425}" type="datetime1">
              <a:rPr lang="en-US"/>
              <a:t>07/29/26</a:t>
            </a:fld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4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88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završe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sagledanog celog procesa 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mpletiranih ponuda isporučilac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određivanje poslovne strate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kontrolu troškova i upravljanje sredstvima prema isporučiocima i podizvo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CA0-4284-4D21-B9B8-E1220D120595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34304-AD3C-4BC2-904B-6F09AF5891AF}" type="datetime1">
              <a:rPr lang="en-US"/>
              <a:t>07/29/26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za buduće po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7AF-9589-440F-B585-E9E90E73A893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F8A7F-9278-45D5-8271-D3D63168CA39}" type="datetime1">
              <a:rPr lang="en-US"/>
              <a:t>07/29/2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iti razumnu c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iti realno traj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gurati tražen 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892-B60E-4439-A86B-1DB39CA27D91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62B82-54FF-4620-A7F5-7267848F0998}" type="datetime1">
              <a:rPr lang="en-US"/>
              <a:t>07/29/26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372-F4F8-403F-822D-C880F0722C69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76302-8EC8-4A1B-86AF-644E8B483947}" type="datetime1">
              <a:rPr lang="en-US"/>
              <a:t>07/29/26</a:t>
            </a:fld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0040" y="2590920"/>
            <a:ext cx="582948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228-491A-4C30-972E-01AFE27E8D65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8E3AD-BC3B-4B42-B60D-09A662ABE883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05320" y="6019920"/>
            <a:ext cx="2997000" cy="361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ženjersko balans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je potrebno da se usaglasi ekonomski interes i principi st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tko postoji jednoznačno reš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blemi se veoma često moraju rešavati na licu mesta, znanjem i oseća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DD7-3821-4569-B71B-6BB87F32CCE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986D1-580C-4A96-842D-394C975B7B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746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količine resursa  neophodnih za postizanje ci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procenjenih troškova i profita sklapa se 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om realizacije procene se koriguju u skladu sa stvarnim sta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late se prilagođavaju stvarnom st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e troškove i poređenje sa planiranim zove se 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8F6-A37A-4CBD-A08B-01963CC7F674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AF305-4E3B-4414-9387-FFC0B58D1EF9}" type="datetime1">
              <a:rPr lang="en-US"/>
              <a:t>07/29/26</a:t>
            </a:fld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pogled unapred n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troškova je pogled unazad na prošl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 dve aktivnosti su povezane i daju materijal jedna za dru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reporučljivo da analiz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nu rada dva nezavisna 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C32-EB62-46C1-9887-C2CB827E9058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28264-1362-485F-9260-B92836C09C3D}" type="datetime1">
              <a:rPr lang="en-US"/>
              <a:t>07/29/26</a:t>
            </a:fld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j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za kvalitetnu procen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olaganje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metodologije i procedure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lana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a tehnoloških znanja i ve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e hardvera i softv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to je projekat složeniji potrebno je obezbediti više pred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42B-80F3-40C0-8BA3-6A840B4DDEE5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39133-E28B-47B7-9840-1DE6F333D6BB}" type="datetime1">
              <a:rPr lang="en-US"/>
              <a:t>07/29/26</a:t>
            </a:fld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37760" y="1904760"/>
            <a:ext cx="582948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015-697C-4B05-93FD-E166D1ED97F0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CC36E-7650-43F2-A234-6F67C360228E}" type="datetime1">
              <a:rPr lang="en-US"/>
              <a:t>07/29/26</a:t>
            </a:fld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347760"/>
            <a:ext cx="640080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jerarhijsk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vrstam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ipskim eleme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o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iranje prati struktur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broja nivoa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formata ko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standardni načini klasifikacije troškova podržani institucijama i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A56-A387-452C-AEFE-D1640D998913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39B18-0E86-49E0-BBEA-7C398A37E669}" type="datetime1">
              <a:rPr lang="en-US"/>
              <a:t>07/29/26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pozn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ogo je jednostavnije proceniti standardnu tehnolog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i detalji, materijali i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resursa standardno i povol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klično korišćenj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849-E1E7-4555-A110-B45C12B56FC7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0E5E5-B3CC-4BE2-B178-2EFE3F17071C}" type="datetime1">
              <a:rPr lang="en-US"/>
              <a:t>07/29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gravanje realizacije radova kod poslova koji se ciklično obavlj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standardnih objekata procenjujemo cenu je nekom parametru (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revetu, kra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estandardnih objekata daje se cene po jedinici mere (bra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kombinacija strateg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D8F-4041-4D50-AACE-C318BA4D26E6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1C51B-60C0-456F-8FB4-DBD2D15B0112}" type="datetime1">
              <a:rPr lang="en-US"/>
              <a:t>07/29/2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prilagoditi procenu predviđenom izvođaču i njegovoj tehnologiji i sposob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zeti u obzir veličin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750E-A36E-4EA4-A6C2-E8E83353E3E2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342DA-C9B4-4D78-8B05-61D71549CE30}" type="datetime1">
              <a:rPr lang="en-US"/>
              <a:t>07/29/26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23360"/>
            <a:ext cx="624816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440" y="23284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podataka o predviđenim oper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z su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raživanju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orijskim poda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svetu postoje programi, knjige i baze podataka za pomoć pri procen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postoje zastarele Komgrapove norme i Tanjug-ov bi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40A-DBE3-4DB2-AC12-3A221F33FDC0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6D72A-1287-4C99-AD28-DCEB3B04C65D}" type="datetime1">
              <a:rPr lang="en-US"/>
              <a:t>07/29/26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2176200"/>
            <a:ext cx="594360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imati i sopstve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imati svedene podatke po nekom parametru standardnog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nemamo dovoljno detaljni projekat ili nemamo normative, moramo koristiti i specifične istorijsk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korisno prikupiti ponude podizvođača i isporuč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AB9-DD72-453B-B964-06C433BBAD62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6F413-CAF2-4D34-A86F-31CD4605D282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što, kako i zbog ko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20B-029A-4194-A6C8-23A3FC2C45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274B3-FFA1-4191-BFAE-C9083917C961}" type="datetime1">
              <a:rPr lang="en-US"/>
              <a:t>07/29/2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14440" y="2743200"/>
            <a:ext cx="58291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infl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ačajan i kod malih inflacija (3%-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zna sk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različitih kompon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statističke ver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avisi od strukture cen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219320" y="7391520"/>
                <a:ext cx="4352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30F-552E-47E6-B824-3A9A6FB7AC1F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9DEFA-2439-4734-A3B0-5488057FBD64}" type="datetime1">
              <a:rPr lang="en-US"/>
              <a:t>07/29/26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7760" y="1947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anirano povećanj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 kvalitet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bučenost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podizvođača i dobavlj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enadne promene zakonske i tehnič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dovoljno poznavanje pro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gle promene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edhodne an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vorišta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ja i istražni rad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ojeće podzemne insta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712-B650-4C56-86B2-3DBB1C96C52D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E0E25-DA96-4ADB-A811-8C19CC2173DE}" type="datetime1">
              <a:rPr lang="en-US"/>
              <a:t>07/29/26</a:t>
            </a:fld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42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govoru, obično se zna na čiji teret padaju ov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a sil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avdano povećanje troškov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izvođača i podizvođača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uobičajeni problemi na nekim tržištima (cari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poslovi i mesta malog rizika (stalni investitori i podizvođač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C92-E838-4AC6-80C8-24F48B8CEBC3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E29BB-267A-46B5-B6C9-4FE7083429C2}" type="datetime1">
              <a:rPr lang="en-US"/>
              <a:t>07/29/26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2452320"/>
            <a:ext cx="5829120" cy="55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C22-BFD1-42E4-A638-66EEE4DFABAF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60CDB-9339-438D-B791-B7C88D07834A}" type="datetime1">
              <a:rPr lang="en-US"/>
              <a:t>07/29/26</a:t>
            </a:fld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8120" y="42840"/>
            <a:ext cx="61149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čna cena prema predviđ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aci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pre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rš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e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%-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standardizovanim ob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ekcija prema dodatnim uticaj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681-25E1-4782-B7C9-FB09341B929D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18900-CBD5-4A34-B11D-4DADBE374EA6}" type="datetime1">
              <a:rPr lang="en-US"/>
              <a:t>07/29/26</a:t>
            </a:fld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7760" y="225216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komplikovane ob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objekta na ele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i bl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io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sni 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dobra 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E88-A61D-4B8A-8984-4A685B9EBED8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4ED34-67EA-4DDF-8385-E80380BB332E}" type="datetime1">
              <a:rPr lang="en-US"/>
              <a:t>07/29/26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a vezan za matematički apa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i istorijski po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zriva pri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mode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ksponencij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aritam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istorijskih podataka bira 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F6B-3A17-4A42-AA22-3F498620EC3A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0517C-604C-4D42-A1AA-D9B625659420}" type="datetime1">
              <a:rPr lang="en-US"/>
              <a:t>07/29/2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14440" y="17953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 završenoj projektnoj dokument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edica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n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podaci sa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korisno korišćenje standardnih no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ka jako pomaže pri povećanju tačnosti ovog mod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C7A-696D-49AD-AEE6-74219D69DBB7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54A8E-D35A-4982-AF2A-92BFB9980F8D}" type="datetime1">
              <a:rPr lang="en-US"/>
              <a:t>07/29/26</a:t>
            </a:fld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no je da 20% pozicija nosi 80%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neke objekte (pogotovo niskogradnja) ova razlika je još već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dobro odredimo značajne stavke, procena može biti veoma precizn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godna metoda za utvrđivanje klizne sk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9CE-DDB2-442F-B9AF-665DC2D54DF0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A735E-AD10-43CB-9783-9C406200C6D5}" type="datetime1">
              <a:rPr lang="en-US"/>
              <a:t>07/29/26</a:t>
            </a:fld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40080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1676520"/>
            <a:ext cx="5829120" cy="761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javljuju se u predm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arketinga i akvizicije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iguranje i deo ca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ajmljivanje i korišćenje ob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arske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anjanje otpadnog i nepotrebnog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C8E-985E-48EB-A870-115160EAF13F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A5961-F766-4425-B59E-EA69500A95EC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što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iteljstvo je timski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mnogih str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đevin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struktiv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raš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braćaj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gra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izvo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ganiz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nsij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C4E-0062-4278-A6A8-2579F206B12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D261D-7BB8-4A0B-B68B-FE0E4E6C2B1E}" type="datetime1">
              <a:rPr lang="en-US"/>
              <a:t>07/29/26</a:t>
            </a:fld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važna za dobija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čitao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ni 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rekapitu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tski privl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kvalitet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an vid rek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brzog prilagođavanja toku događaja i željam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0AB-79B4-4549-801B-830C1824C40A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D7585-5A77-433A-8037-7161F9B18734}" type="datetime1">
              <a:rPr lang="en-US"/>
              <a:t>07/29/26</a:t>
            </a:fld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AAE-A736-40E3-B16D-26D127CE7741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64736-EB92-40C5-BFB1-0F181C0E6D73}" type="datetime1">
              <a:rPr lang="en-US"/>
              <a:t>07/29/26</a:t>
            </a:fld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079-70E7-493E-ABBB-6EBE0751A0AB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B16A3-031B-48AE-B17D-E8C8B4984049}" type="datetime1">
              <a:rPr lang="en-US"/>
              <a:t>07/29/26</a:t>
            </a:fld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5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1B8-180F-4A2A-8851-AFDC29F41C5A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94B46-9F72-46DE-90CB-8BBA76BD7B15}" type="datetime1">
              <a:rPr lang="en-US"/>
              <a:t>07/29/26</a:t>
            </a:fld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asnost dva ili više lica koja ima pravno dej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element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predmetu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utvrđivanja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finans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8D8-8062-4760-8E4C-DAFA5B425103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33DD4-BA8E-48B0-A0D3-49B930151E47}" type="datetime1">
              <a:rPr lang="en-US"/>
              <a:t>07/29/26</a:t>
            </a:fld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4440" y="194796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aža elektro-mašins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ispor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ka i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 u zemljama u razvo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tako čest u razvijenim zeml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zvod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C86-8E8C-4367-9F9A-F74CC6593661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9836E-A2DE-433F-98F9-9385CC6B82E5}" type="datetime1">
              <a:rPr lang="en-US"/>
              <a:t>07/29/26</a:t>
            </a:fld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amika plaćanja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o faz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etno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rada na osnovu količina koje meri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e mogu da se izmene ako se izm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4C3-A6F9-413E-ADC1-FD717FC2E257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66962-6E6D-4237-B55C-1FCAFDB1325C}" type="datetime1">
              <a:rPr lang="en-US"/>
              <a:t>07/29/26</a:t>
            </a:fld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plus dobit (Cost Pl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procenat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 i podela prof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ksni honorar i klauzula o nagr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lus klizna skala honor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76C-6F60-4075-AB58-F6A23700429D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9DAAF-19C1-4D1F-88EB-EC630C968E34}" type="datetime1">
              <a:rPr lang="en-US"/>
              <a:t>07/29/26</a:t>
            </a:fld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ena cena koja se ne sme premašiti (Sealing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janta fiks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rekoračanje preko neke granice izvođač snosi t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ksna cena (Fixed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ložna iz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rihvatljivosti promene cena (1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i u slučaju k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04D-C490-422B-8942-C417295E8AD8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FEB4D-17C6-439B-B61B-2A1FA7EF4392}" type="datetime1">
              <a:rPr lang="en-US"/>
              <a:t>07/29/26</a:t>
            </a:fld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iran na britanskom 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je i tumačenja (čl.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a (naručilac, izvođač, inženjer, podizvođač, zastupnik inženj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i (ugovor, specifikacije, crtež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odavni su samo pisani doku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DD4-F6B2-4073-BECB-D79B5EF6133B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56C1A-D4A6-44B1-BC0F-E0A98CBB90AD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cioni projekat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ka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više lo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gotra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uđenost proc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klimatsk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vinsko-pravni 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2CD-DE52-471C-8CC2-E252B85442C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D000E-A078-4BE6-8CB8-EC11D5DCC95E}" type="datetime1">
              <a:rPr lang="en-US"/>
              <a:t>07/29/26</a:t>
            </a:fld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 i zastupnik inženjera (čl.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ja se daju ugov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mena uputstva moraju da se potvrde pismeno u roku od 7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može da oslobodi izvođača ugovornih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ovlašćenja se može preneti zastupniku, ali ne s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D10-7AD9-4FA1-B531-F29E45E7FB16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AFAEC-D5FF-40A8-ADEF-67B2124C9761}" type="datetime1">
              <a:rPr lang="en-US"/>
              <a:t>07/29/26</a:t>
            </a:fld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os i podugovoranj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3,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ne može biti prenet na drugo lice bez saglasa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 se preneti novčana potraživanja svojoj banci bez saglas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AC1-1319-4E61-8886-B181655B2B20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8717C-FBA1-442C-A666-0C8993DDABC6}" type="datetime1">
              <a:rPr lang="en-US"/>
              <a:t>07/29/26</a:t>
            </a:fld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i dokument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5-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azum o Ugov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aki drugi dokument koji je 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šnjenje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8E9-DBDF-49E1-AF6B-6D974890DA2E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0443B-55A3-4A32-A98D-B3B82F973B9B}" type="datetime1">
              <a:rPr lang="en-US"/>
              <a:t>07/29/26</a:t>
            </a:fld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naplate količina koje nisu obuhvaćene predme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postoji čim izvođač pošalje pismo o prihvat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cija za dobro izvršenje posla naplativa na prvi poz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govornost za stanje pod zeml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da odredi kako će izvoditi rad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18C-1C62-4402-92C9-EE9F604C16FC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7E367-D9BD-41C2-B9DB-2F4664CAB4F5}" type="datetime1">
              <a:rPr lang="en-US"/>
              <a:t>07/29/26</a:t>
            </a:fld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menja nadzor po sopstvenom naho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dođe do oštećenja zbog "rizika naručioca" postoji pravo na povećanje cene ali ne i povećanje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e transporta nestandardnih materijala i opreme snosi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D8D-45EF-4C7D-8D11-3D915366D14A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CDD36-17DF-4B54-9833-6F05C7819606}" type="datetime1">
              <a:rPr lang="en-US"/>
              <a:t>07/29/26</a:t>
            </a:fld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14440" y="182844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na snaga (čl. 34,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 izvođača da inženjeru dostavlja izveštaje o stanju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, postrojenja i izrada (čl. 36-3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traži ispitivanja uzor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oliko su ispitivanja mimo ugovora, a kvalitet je odgovarajući, troškovi padaju n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kontrol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dgovarajući elementi se mogu odbac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69F-BF40-4274-B64C-8C27683577C2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81E3F-7043-40EA-ABA5-2C322A027B50}" type="datetime1">
              <a:rPr lang="en-US"/>
              <a:t>07/29/26</a:t>
            </a:fld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(čl.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nije zbog propusta izvođača i klimatskih uslova, investitor treba da nadoknadi š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obustava traje duže od 84 dana, i ne dobije se saglasnost za nastavak u roku od 28 dana, izvođač može da okonča svoj anagaž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704-7BDA-47CA-9841-00AEA473A35E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8CE23-0C91-4019-BFEF-3B28C20E62B2}" type="datetime1">
              <a:rPr lang="en-US"/>
              <a:t>07/29/26</a:t>
            </a:fld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očinjanje radova i zakašnjenje (čl. 41-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preda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se ne izvode noću i u lokalne neradne dane, osim kada inženjer to odob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i za kašnjenje radova, ali ne preko neke 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vršetka i predaje radova i otklanjanja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7CCC-D75C-4F03-8A12-EAADF52A6E4D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39E3C-3405-4F7B-9734-B0A7E94EA2E8}" type="datetime1">
              <a:rPr lang="en-US"/>
              <a:t>07/29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nost za nedostatke (čl. 49, 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le predaje radova izvođač radi radove koje mu inženjer nalo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ti radovi zbog nepoštovanja ugovora, neodgovarajućeg rada i materijala, padaju na teret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uprotnom su naknadni radovi i investitor ih pla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tni rok (period održavanja) se propisuje ugovorom, ako drugačije ne odredi lokalno zakonodav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F0B-3671-49E8-A052-9785B2DE99D9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0A89E-CAED-4B00-ABE4-ED179785AFE6}" type="datetime1">
              <a:rPr lang="en-US"/>
              <a:t>07/29/26</a:t>
            </a:fld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e, dopune i ispuštanja (čl. 51, 5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laž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ju se prema ugovoru 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obima radova koj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% se posebno kalkuliš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3C2-2A18-42F5-9CAF-7754C793077B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36F73-FC34-4E64-B53F-8A2C95E4DF51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snici u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i i kooper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i, projektantski i upravn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DDF-CC78-4BFA-87F7-F745EF46582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9164F-F18A-48EC-B4FF-D46F5A9F7EC8}" type="datetime1">
              <a:rPr lang="en-US"/>
              <a:t>07/29/26</a:t>
            </a:fld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 za odštetne zahteve (claims) (čl. 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ava namere u roku od 28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čno slanje novih obračuna tok problem tr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okončanju problema u roku od 28 dana konačan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lučaju propuštanja procedura, iznos klejma ne može da pređe iznos koji utvrdi inženjer 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4CE-0C69-40BD-A80F-5523B7CB588B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4D982-FE99-49C4-84BE-5E44B2E8713D}" type="datetime1">
              <a:rPr lang="en-US"/>
              <a:t>07/29/26</a:t>
            </a:fld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a izvođača, privremeni radovi i materijal (čl. 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, materijal i privremeni radova koji su potrebni za realizaciju objekta ne mogu biti uklonjeni bez saglasnosti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odnosi se na transportna sred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CC6-6175-45C4-8ECE-31AADA9B6834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0A1B0-22A2-498C-9B51-A827A9EB6B10}" type="datetime1">
              <a:rPr lang="en-US"/>
              <a:t>07/29/26</a:t>
            </a:fld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nje (čl. 55-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e količine iz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meri, izvođač može da prisustv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dostavlja rezul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14 dana vremena da uloži pri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i se na radove po jediničnim ce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žnost blagovremene pismene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931-5F6E-4962-8268-C6A44036F05E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D65D6-BB8F-4C53-A3E6-8FEB730E87B8}" type="datetime1">
              <a:rPr lang="en-US"/>
              <a:t>07/29/26</a:t>
            </a:fld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iznosi (čl. 5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i koji su pokriveni ugovorom, predmerom i predraču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i se prema uputstvima inženjera i njemu se dokazuju trošk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93A-1BC7-415F-AB30-C0907057CBDD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819EC-3663-4D33-ABCD-8EA182AA9477}" type="datetime1">
              <a:rPr lang="en-US"/>
              <a:t>07/29/26</a:t>
            </a:fld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novani podizvođači (čl. 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ugovara sa 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treba da bude obezbeđen od propusta ov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e uslovi pod kojima izvođač može da odbije imenovan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D73-D20F-4BB0-8F33-93718F274582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96C6E-D6B9-411E-A87A-545020045789}" type="datetime1">
              <a:rPr lang="en-US"/>
              <a:t>07/29/26</a:t>
            </a:fld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tifikati i plaćanja (čl. 60-6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dostavlja izjavu sa iznosom koja mu pripada na osnovu izvrše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u roku od 28 dana vrši korecije i potvrđuje iz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 se umanjuje za avans i retencionu svo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 završno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672-7D66-45D4-91E1-EB885D3A01FF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9BD57-9B03-4606-BA46-938DDAC60282}" type="datetime1">
              <a:rPr lang="en-US"/>
              <a:t>07/29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lekovi (čl. 63, 6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naručilac stiče pravo na okončanje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ono što ostav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isključuje lokalne pravne prop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inženjer može da izvede radove koje izvođač neće ili ne mo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A07B-3B05-41A7-A40B-88A92283FBE6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F840F-D3E2-454E-A5BE-EB0BA6177815}" type="datetime1">
              <a:rPr lang="en-US"/>
              <a:t>07/29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 (čl. 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treba i zauzimanje radova od stran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ške u inženjerovim projek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rodne sile, ratovi, pobune i revolucije van zemlje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svega se odnosi na finansijsk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 raskidanja ugovora u slučaju 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242-FCBF-45AE-9C5E-A40D0824CFC0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EBFA6-2E5D-47CC-B3D0-FC2EAC04F44C}" type="datetime1">
              <a:rPr lang="en-US"/>
              <a:t>07/29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tupanje okolnosti posle pisma o prihvatanju koje onemogućava izvršenje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 (čl. 6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prvoj instanci odlučuj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drugoj instanc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no je šta je uzeto kao osnovno pravo (švajcarsko, FIDIC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144-2F75-4329-9AFE-CE286581B30A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72A31-0A53-4E17-A99D-CA1CB2BD920F}" type="datetime1">
              <a:rPr lang="en-US"/>
              <a:t>07/29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štenja (čl. 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oš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resa mora biti zvan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eno obaveštavanje o promeni adr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946-7958-4D04-8777-2F48B33020E0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67569-59F8-4F9D-8451-A3F32D00ED2B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a su vas učili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veći deo predmeta koji su do sada slušani spadaju u dve kategori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eorijski (matematika, mehanika, mehanika fluida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ojektantski (mehanika tla, beton, čelik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obe kategorije predmeta je karakteristično da postoje neke formule i neka pravila. Ako ispoštujete te formule i pravila, vi ste dobri. Ako ih ne znate ili ne poštujete, niste dob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92D2-3BFF-49F0-9940-3EAF3F5BC1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A6EDE-A3FB-4C5E-A8CB-81010CDC44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ranje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olaže novc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jekt se izvodi zbog njegove žel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inantan pristup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razvijenom sv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ajena ulo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slovensk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interesantno u našim usl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035-11B2-4AE4-92EA-E89E9149B5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D2A4C-56B2-45C8-9D35-F93A4B2EA521}" type="datetime1">
              <a:rPr lang="en-US"/>
              <a:t>07/29/26</a:t>
            </a:fld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, neizdavanje sertifikata, stečaj i 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čno specijalnim riz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oknada svih gubitaka, zajedno sa profitom, ka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usporava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 kasniji nastav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446-C2BD-489F-A2BF-284B430774CC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D24A9-308F-46CE-AB77-C9A8FCB2027F}" type="datetime1">
              <a:rPr lang="en-US"/>
              <a:t>07/29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e u troškovima i zakonodavstvu (čl. 7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promene cena rada 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u zakonodavstvu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stalno praćenje cena i zakons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2E4-BE47-4EE2-ADD5-BA13B5CCD5BC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BEBE1-6C5C-42B5-8796-E3E0ADC40DF6}" type="datetime1">
              <a:rPr lang="en-US"/>
              <a:t>07/29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ze i devizni tečaj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71-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promene deviznog tečaja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ograničenja u deviznom poslovanju u istom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ovde je veoma bitna stalna informis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C55-923E-4409-A9EA-59082930233D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027FB-D506-4027-8B47-802018FC4395}" type="datetime1">
              <a:rPr lang="en-US"/>
              <a:t>07/29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698-7376-425D-A14C-07880AC06B9F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FBA94-5F81-4A0F-9039-6E0DCB6D62BF}" type="datetime1">
              <a:rPr lang="en-US"/>
              <a:t>07/29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9BB-E24B-42E6-82A4-7726E82E5426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72505-5C92-4CCC-8D43-0022D6E33374}" type="datetime1">
              <a:rPr lang="en-US"/>
              <a:t>07/29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48F-BBF7-471D-8F44-162C1484D2B9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E64E8-D157-406A-875A-559BF6311D86}" type="datetime1">
              <a:rPr lang="en-US"/>
              <a:t>07/29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utiče na dalji razvoj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zuje želje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voj fazi se ostvari 85%-90% mogućih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sa stanovišta izvođača može početi i tokom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trajati i tokom izvođenja rado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149-0CB4-4015-98AE-EDF97341EE51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B4675-B24E-4205-9383-11FC051869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š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dgovornosti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tehničkih uslova i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E25-6880-412A-96EE-AF5C95B26739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66AF1-EB54-4228-8D67-5055B23D57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jerarhija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5456160" cy="49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10B-6C52-41EA-980E-8DF80E8B5F6A}" type="slidenum">
              <a:t>20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0E41B-7453-418C-AE96-78C2D4283F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tup u zavisnosti od značaja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idej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čujuć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25F-B168-42A6-935C-3C1FE4FF9FC4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1EF06-84E4-4425-89CA-12D3CC2CB5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nvesti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10A-DE77-47E3-9F56-11DFBBA5CF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2DC97-3A6F-4A9F-AD91-80FB176866DB}" type="datetime1">
              <a:rPr lang="en-US"/>
              <a:t>07/29/26</a:t>
            </a:fld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82912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glav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donekl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se definisati tokom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8AB8-7701-4460-9939-C1A42E0FE699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E80F8-B814-4BDB-AD20-452E5D519D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a pripr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ško usaglašavanje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tehnološ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anje mogućih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36D-2D1E-451C-B7D8-D1F1EAF61FEF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F8CD4-3F7B-443B-83A2-745A9A407A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potrebnih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na poznavan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glašavanje svih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a načina upravljanja, kontrole i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9EA-B160-4619-B48F-D65E638E9DE7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86E12-0570-46FA-B663-CC8C75EF49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klapanje u okruže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se grade samo na osnovu klasič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at mora da se uklopi u šire okruž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ju se obezbediti uslovi i saglasnosti koje daje administracija, odnosno v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dobijanja uslova i saglasnosti je obično značajno složenija i dugotrajnija od samog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28A-8EBC-40C6-B34F-704AF8C2D329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88F02-C9AD-4659-B450-91B1D5F086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cija, u načelu, ne daje uslove i saglasnosti na osnovu svoje slobodne vo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i na osnovu kojih administracija izdaje uslove i saglasnosti zovu 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nski doku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i dokumenti definišu prostorni raspored, vrstu i sadržaje objekata koji se mogu g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39D-6DFE-4D11-9D3B-A3AED80C9719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604F6-D5EF-4455-8DD3-D3CF4455D7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rebne karakterstike planske dokumen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14440" y="259056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uhvata prostorne i ekonomske kriterij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klađ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predmetu, prostoru i vremenskom perio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isanost, usklađivanje razvoja i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ivanje obavez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izrade i sprovođenja p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0099-0BCC-430C-80B3-1C3203E50584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250BF-A96C-4700-BB3E-EE796B5CAA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u Republici, regionu, gradu i opšt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eštaj stanovni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eža nase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obraćajna i tehnička infrastru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e za stimulisanje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24C-C454-4775-8DA1-D0C0CF636630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78ACC-CC10-4637-868A-1A06D156E8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i prostorni planovi područja sa posebnom na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 naseljenih mesta, gde ne postoje urbanistički planovi, rade se detaljni prostorni pla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ornim planovima planira se razvoj u narednih 20 god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E5A-A186-4BCA-90B9-76BBF222765A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5C325-A899-4147-AEBB-35B91D6830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pri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ku donosi skupština nadležnog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uje se program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uje se komisija za praćenje i uskla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dokumentacije i an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i analiza planova, karata i slič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ao obavlja obrađivač, posebna stručna firma koja je angažovana za ovaj pos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D1D-DEAD-4912-BBF3-0BF770BC24EB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D88C1-E3D6-497F-AE56-F1EE02C489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org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uređenja pro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jivanje i analiza varij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 se izvršnom organu skupš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javne rasp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odluke o izradi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atranje primedbi i pred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ošenje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BE3-88C5-4F90-890C-EDB70AE9B8A7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12AEF-E317-4D20-8B05-C083A690D4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po W. Hughes-u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25146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prihvatanja realizacije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ception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studije opravdanosti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easibility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ih reše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e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og i glavnog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tail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govaran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act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rad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jem objekta i puštanje u ra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ission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B66-4ABF-4EF1-A42A-2B5047702C0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0EBE3-6A22-45AB-A586-F06A514292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predloga i donošenja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šljenje viših organa v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osi ga skup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avljuje se u službenom glas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5B7-5B21-4C8C-AC2C-44D8B2A59705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AC886-0BCA-45FA-91E9-455E31AF8A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banističk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za područje naseljenog m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đuje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ava rešenja iz prostornog plana konkret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a os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4DE-EC74-440F-A1F6-ABE33036ADD1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5D88A-BC6C-44B1-BC38-D08AEB4BCA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na sličan način kao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jemu se navodi na koje se vreme don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 se deli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gramskog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storne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94F-1B84-411D-95A3-7BD4A28B038B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3889F-1E5C-4614-B8A2-0202438DA7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kturne objekte sa priključcima na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koncepciju stambene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ozelenj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štitu prirodnih vrednosti i kulturnih dob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4CF-CCBF-47B6-8FDE-E29468522F59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716D7-6078-47C3-94BE-B69BDD23E2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faza urbanističkog plan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da GUP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retizuje GUP u vezi namene provršina i položaja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za manje celine - mesne zajednice, nekoliko blokova 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da previše detal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slično kao G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8B3-6B71-4B00-AF71-ED81C9534E10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77222-E89C-4B05-A044-439D5C0FC9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stualni deo DUP-a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 deo gde se nav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ni osnov i povod za izradu i donošenje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lj iz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 javne rasp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e za uređenje prostora sa smernicama za privođenje prostora na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B62-F695-434B-95D1-5177F0396B12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A95D5-22CD-4D79-B1A6-8C1002BA8B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i deo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one plan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kte koji se zadržavaju i ruš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ciona i nivelacio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jna rešenja za infrastrukturu i uređenje slobodnih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tske elemente za obele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parcel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867-784F-471B-A3AC-5B6D4DEE9E11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DEFB8-7841-4A97-AE89-27C2A93290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 za izradu tehnič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tke o lok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o-tehničk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ožaj regulacione i građevi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ane karakteristik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FE7-CA33-457F-81ED-45759311E47E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FE036-8A91-4C83-A927-2D899A8184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na osnovu DUP-a ili na osnovu privremen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e saglasnosti komunalnih služ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ga organ uprave nadležan za poslove urbani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je slična proceduri donošenja ostalih planskih dokume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0EE-11B6-4F46-B424-261D8AC73FC1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406C3-24E1-42DD-94A5-B1FFCF4C19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eđenje zemlj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funkcionišu bez prateće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troškova izgradnje objekta moraju se uračunati i troškovi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izgradnju na području Beograda plaća se opremanje zemljišta Gradskoj direkciji za puteve i zemlj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und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911-27AC-423B-B523-1F4E162529A5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6BDCE-9FFB-473B-9A0D-3E67D9B7C8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 real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i proširenje baze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EBD-BB79-4B02-A7B5-EB408EEF7CB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E49A8-3EE8-4141-8D6F-64C93914982E}" type="datetime1">
              <a:rPr lang="en-US"/>
              <a:t>07/29/26</a:t>
            </a:fld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at tehnologije i organizacija grad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za sagledavanje stvar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39B-D443-4FB2-BBDC-B42ADF458C9C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D3C38-9319-4AA3-99BF-C4C086919B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o gra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detske, ge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rološke i meteor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snabde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eksperata i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E38-56A9-4484-92DA-355FADEB5893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DD38D-E74D-4459-A856-4A1820FE88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opis sa tehničkim uslovima za 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račun fonda radnog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cena materijala “franko gradiliš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iri i uži izbor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montaž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čki planovi potreba za resur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F53-334A-4818-924D-775B06E42BFD}" type="slidenum">
              <a:t>2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98C05-BA1C-4D2C-A36E-7D07B4F0E5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enje informacionog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organizacije gradil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predhodnih i priprem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 zaštite na ra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3A1-6240-4455-9B06-F38D61251850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4B500-DCA3-4D65-B09A-351DA1CA43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1B6-7AAF-4AB6-8EB3-F3A5C79E68C9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85119-C179-4694-AD1B-24F218AB574C}" type="datetime1">
              <a:rPr lang="en-US"/>
              <a:t>07/29/26</a:t>
            </a:fld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đenje radova na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865-2E99-41B4-AC3D-91C80F7AD3F1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1E2F2-A135-48B8-BC5F-F536539D79AD}" type="datetime1">
              <a:rPr lang="en-US"/>
              <a:t>07/29/26</a:t>
            </a:fld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2CD-334F-422A-AF68-1B2F20FC9D54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231CB-4A58-4450-9FC3-E945E6D5E322}" type="datetime1">
              <a:rPr lang="en-US"/>
              <a:t>07/29/26</a:t>
            </a:fld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ktična realizacija idealizovanog modela koji je do tada razrađ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tovo uvek model se mora prilagođavati realnos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AE1-1281-47E7-B199-5E82EF0D57B3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40757-4BA3-46C8-9ADA-3471844BCC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gradnja uz razradu tehničko-tehnoloških i organizacionih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rcijalne aktivnosti vezane za obezbeđenje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sopstvenih ugovornih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ugovornih obavez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487-3E7B-444B-AED4-4AB8C72F7033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9ED29-0BFC-4BD6-B476-78E33A2400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a pitanja na koja moramo odgovara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i je obim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e saradnike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o vremena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i su troškovi ovog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kav kvalitet moramo da ostvari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ADF-211F-4084-A196-064EF434DF61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A7AB3-670B-4638-A66E-B67AA1BAA5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smo naučil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ški 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A82-B5F4-4706-B0EB-066E2F2B1AE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D01ED-4E4A-4C0B-8659-06552CF588E9}" type="datetime1">
              <a:rPr lang="en-US"/>
              <a:t>07/29/26</a:t>
            </a:fld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na navedena pitanja se mogu unapred zn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se menjaju vremenom zbog razvoja situ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dovoljno odgovoriti na ova pitanja samo u jednom trenut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i se moraju pribavljati i korigovati tokom celog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5BB-266A-49F4-8408-6065373E01FF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F5989-C33C-4929-9C80-06FC8E2E03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(plan) budućih događ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o st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akcije za smanjenje odstup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531-1542-47B1-BA2D-B16A6303B209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71A40-EFAB-4470-BDE6-78B2B6A5A9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 je obavezan uslov za  kontrolu realizacije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e osobine informacionog sistema za kontrolu realizacije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opljen u IS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obijanja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procene efekata odl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istribucije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je potrebna, ali ne apsolutna tačno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4915-969D-499E-9700-FB4BFF95109F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FFB0F-CD1C-4464-9D56-5BBE711DC8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odvija na osnovu procena obima radova, procene praktičnog učinka i sagledavanj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prikazuje u mreženom pl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tačnih pl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ovi se stalno ispravljaju i prilagođavaju stvar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2F8-7AF0-4104-976F-CC04CB5298C1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47136-A7DA-4A7E-ABDA-5E596AE786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stoji efikasan način da se automatski stigne od predmera do mrežnog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automatizovati samo veoma jednostavne pro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oželjno uspostaviti vezu između predmera i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mora kvalitetno ostva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ne mora biti potpuno t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FA8-00FF-4184-9118-E1568DF42965}" type="slidenum">
              <a:t>2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533ED-C4B7-471D-B737-4C0C614BE0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kvalitetni programi za mrežno 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se može realizovati brzo, efikasno i pregl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dobiti odgovori na pitanja “Šta - ak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0EE7-FB21-4623-8F55-3C900AC361DC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B4E2E-A545-4338-BF8A-EA4FC161AF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, možda najvažnije merilo uspeh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započeti sa kontrolom troškova što ran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troškove se najbolje utiče na samom početku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samom početku rada na projektu najslabije poznajemo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154-4B78-42C2-8D36-17F31D606727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38808-CC65-475B-8AB8-28900BFEB5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ranih studija na troškov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čine 2% vred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mogu da pruže 50% doprinosa profitabil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 definiše troškove s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šću ± 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projektne dokumentacije je ostvareno 85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D8C-1229-48A3-B945-A8E4B6D400DB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E5D2C-0717-4DF6-8374-EEEF08FE06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raćenje vremena realizacije projekta može da značajno poveć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ženje vremena realizacije projekta može takođe da značajno podign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izabrati optimalno trajan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je primena kvalitetnih programa za planiranje tokom kontr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F26-093B-4DEE-AE29-20D8D9521713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B8BCE-2845-4456-A85A-FE22BA9B1A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 na bazi utroška resur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razrađen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paralelna 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ostvariti detaljnu kontrol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ost modela se mora pažljivo odrediti, da ne bi postao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055-C975-4400-B5FF-495BB958149B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CE614-9AA3-496E-8234-675084B302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ćemo radit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živanje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a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rojektne dokumentacije i pri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vođe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istorijsk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47B-AB5B-48BE-822D-CF66341ADB8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B5B16-8E86-4B84-82EB-4A44893C0ADD}" type="datetime1">
              <a:rPr lang="en-US"/>
              <a:t>07/29/26</a:t>
            </a:fld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ih i realizovanih troškova po aktiv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efikasnog plana ne postoji direktna veza između aktivnosti i pozic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baviti kreativno povezivanje ta dva sk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638-E7B2-468B-BDC8-A0FEBF5793F8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FBB7E-42A6-47FF-B400-BE0606AE48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proceniti očekivane troškove pojedinih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i konkretan trošak treba pridruživati konkretnoj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rocene i stvarnog iznosa je osnova za kontro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D8D5-46D8-4724-8791-949590C18461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6F852-01CB-42FC-B54F-37E5D08E59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nostavniji i manje kvalitetan način je poređenje procenjenog troška pozicije radova i realizova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daje pregled u vre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presporo za efikasno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se sprovodi kroz čisto knjigovod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poboljšanje kroz primenu troškovno značajnih stav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713-EEE7-42DA-840B-BCA2275CFD8C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5F511-1582-4B77-8D6D-651A6797DE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oka novca (cash flow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toka nov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od životnog značaja za izvođača, pogotovu u naš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jedini način realne kontrole troškova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770-6A46-4D5E-951C-BE5753A0BB8C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6A06D-1E66-494A-8D78-0B75840982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a za razrešavanje sporov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bazirati na strategiji firme prema projektu i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voditi precizno i paž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stavlja deo ugovor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se vodi preko građevinske knjige i dnev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392-66D4-42B8-B930-F33AC573E8C3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5407B-8F63-437C-A4CA-4AEE29A3AE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se vodi preko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u dugotrajnim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je deo IS koji će se baviti ovom prepisk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postoji klasifikacija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2AF-105E-43E3-BCE4-2BD7BC3E414C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F201F-CE18-41FC-806F-991B3F04AF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asifikacija dopi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tehnologij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ro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o radovim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na licu me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te 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log za izmenu pozici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iation 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emna li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quest for approval of wor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evni izveštaj o izvođenju radov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ily re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FCA-E2B9-4350-8B32-BE922C498967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EDC01-9DF3-4CF5-99C9-687C7C38C3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i prateća doku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(računajući i situacije, planove i 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isnici sa sastan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i raznovr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je tokom celog toka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 efikasnog korišćenja dokumentacije može da zavisi veoma mn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83C-735F-4F8C-A2DE-3985032C2DFA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E727E-2617-4E7B-920B-D482010B88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čni metod arhiviranja je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o je praktično nemoguće dobiti prav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rganizovati sistem unošenja, analiziranja i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bitan interaktivan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neophodno unositi u računar cele doku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39F-997F-4235-A9D5-DD8AD5069A44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E9E24-7B50-4C4C-A607-840935C061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carinskim i komercijalnim poslov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da u neinženjerske poslove, po klasič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ro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zoravanje kori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989-19EA-4068-8CCC-90359188DCFC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59E0D-DC23-46FB-B8F5-4A7DC4EB0C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C26-90DA-4AF4-8A18-89B264C08C9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E9D57-D327-4455-A82A-E78ACA5EC1DD}" type="datetime1">
              <a:rPr lang="en-US"/>
              <a:t>07/29/26</a:t>
            </a:fld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9E8-5E36-42F0-B20D-3DC2122866CA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95D42-E340-4722-A55E-BDECE3913EE9}" type="datetime1">
              <a:rPr lang="en-US"/>
              <a:t>07/29/26</a:t>
            </a:fld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9CA-DD57-47E1-B79B-97D5E1101481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7C15E-10F9-4611-82D1-135B6EBE1B15}" type="datetime1">
              <a:rPr lang="en-US"/>
              <a:t>07/29/26</a:t>
            </a:fld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146-27FB-4D23-B91E-4E6E13DF6C55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9991D-A19A-4907-BE54-B3634AD8DDB1}" type="datetime1">
              <a:rPr lang="en-US"/>
              <a:t>07/29/26</a:t>
            </a:fld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14440" y="5000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5829120" cy="739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vija se tokom celog projek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vanje izvršenog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varni cilj svako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i uslov je dokumentacija a ne izvrš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podležu nacionalnim zako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zasnivati na internacional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C91-1E7E-40E8-B5D8-276F3BC1D304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B73B4-0628-479B-BAA1-AF6E826142ED}" type="datetime1">
              <a:rPr lang="en-US"/>
              <a:t>07/29/26</a:t>
            </a:fld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 L Times"/>
              </a:rPr>
              <a:t>FID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, dopune i ispušt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itivanj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i u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po tuđim specifik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oć drugim izvođač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tokom garantnog r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567-5C63-485C-A8E1-B3467BD3EC11}" type="slidenum">
              <a:t>2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F32B4-3F9B-40B3-A804-01DC03A246D7}" type="datetime1">
              <a:rPr lang="en-US"/>
              <a:t>07/29/26</a:t>
            </a:fld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e cene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ovani mode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merenja prema FIDIC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hodno oba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tražen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rezult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dbe u roku od 14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C46-DD2D-4ED5-A601-374E7D4005EA}" type="slidenum">
              <a:t>2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7313A-2865-438E-A5CA-B77897246FA6}" type="datetime1">
              <a:rPr lang="en-US"/>
              <a:t>07/29/26</a:t>
            </a:fld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pismeni nalog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je obavestiti inženjera u roku od 14 dana o zahtevu za dodatnu naplatu (količine ili ce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ukupna izmena pređe 15%, moguća je naplata i ako nalog ne posto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661-39CC-4354-8BC8-EBEC2F5C9278}" type="slidenum">
              <a:t>2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BBD19-893C-48F0-B00C-2634978CA9A1}" type="datetime1">
              <a:rPr lang="en-US"/>
              <a:t>07/29/26</a:t>
            </a:fld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ranje radova za koje se u trenutku sklapanja nije znalo da li će biti izved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e se na osnovu odobrenja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u se dostavljaju ponude, računi, fakture i 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91E-0E16-4BD6-9D56-B5F53A2CA35B}" type="slidenum">
              <a:t>2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3FE7B-8D5F-462D-967D-8BFC0D7E8109}" type="datetime1">
              <a:rPr lang="en-US"/>
              <a:t>07/29/26</a:t>
            </a:fld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kvalit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čna procedura kao za mer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eno odredbam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čestanost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redviđeno u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plata od strane "krivc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DA0-02EC-4A12-8612-25F367A269BE}" type="slidenum">
              <a:t>2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124A2-9B92-4B6B-B693-ADF937EA23F8}" type="datetime1">
              <a:rPr lang="en-US"/>
              <a:t>07/29/26</a:t>
            </a:fld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je tuđih specifik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je ugovoreno na osnovu specifikacija koje nije uradio, izvođač može da naplati prekoračenje količ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i i ako su specifikacije bile poznate u toku sklap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178-46E5-4100-B684-DA1DBB05DFFB}" type="slidenum">
              <a:t>2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582F4-FDFE-44E8-9C55-6A091DDDAAE9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formiranja koncep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3200400"/>
          <a:ext cx="600048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600048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AE8-9F82-4768-84EC-0B513680A116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F0A14-6A35-4B8D-B2AF-EE4F22EB009D}" type="datetime1">
              <a:rPr lang="en-US"/>
              <a:t>07/29/26</a:t>
            </a:fld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drugim izvođači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n je pismeni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je poželjno da su uneti u spec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štećenja javnih puteva nastala i pored brig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3DA-70A0-4DEF-B14D-0F55480B76CF}" type="slidenum">
              <a:t>2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ADA80-D783-4833-8622-3161E5662F13}" type="datetime1">
              <a:rPr lang="en-US"/>
              <a:t>07/29/26</a:t>
            </a:fld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ni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zvršava naloge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utvđuje odgovornost i naplata, na osnovu ov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može preuzeti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izvedene radove i naknadu za ostavljeno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FB7-E021-44CF-B3AF-FBF03AAB24A7}" type="slidenum">
              <a:t>2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6697E-77B7-4B2E-86D1-C90F876CF240}" type="datetime1">
              <a:rPr lang="en-US"/>
              <a:t>07/29/26</a:t>
            </a:fld>
          </a:p>
        </p:txBody>
      </p:sp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 i oružani suko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zdavanje sertifi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č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0C3-6BB0-41CB-99A3-B9992D1B69E9}" type="slidenum">
              <a:t>2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F190E-0D22-422F-A8FD-33272402A53F}" type="datetime1">
              <a:rPr lang="en-US"/>
              <a:t>07/29/26</a:t>
            </a:fld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14440" y="1295280"/>
            <a:ext cx="5829120" cy="792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sertifik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i odobrav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na izvrše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o preuzimanju aktivnosti tokom garantnog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za otklanjanje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jska porav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po završe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rt konačne izj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a iz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i sertifi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423-B947-4B04-9938-0290DED9A977}" type="slidenum">
              <a:t>2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A68A2-70EB-4410-9A2A-49BCF3760F15}" type="datetime1">
              <a:rPr lang="en-US"/>
              <a:t>07/29/26</a:t>
            </a:fld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klauz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ovi nominovanih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e, materijali i stand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7BC-B7DB-44F1-BAC2-04BB7D81FC21}" type="slidenum">
              <a:t>2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FE009-BDB6-4835-8473-927FF4153403}" type="datetime1">
              <a:rPr lang="en-US"/>
              <a:t>07/29/26</a:t>
            </a:fld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14440" y="2819160"/>
            <a:ext cx="582912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podataka dobijenih od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prostora za gradilište i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ovo neispunjavanje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nac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 pri obeleža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A60-8C13-4571-A812-229A4E0E92D9}" type="slidenum">
              <a:t>2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ECF9C-A0BF-4A21-A559-A7734C69EBD4}" type="datetime1">
              <a:rPr lang="en-US"/>
              <a:t>07/29/26</a:t>
            </a:fld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3776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 van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nih tereta van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C3F-CAB9-4CEC-8F2E-DDDB699E429E}" type="slidenum">
              <a:t>2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A5CC9-FA4C-48E4-80A1-FE41F08CF82B}" type="datetime1">
              <a:rPr lang="en-US"/>
              <a:t>07/29/26</a:t>
            </a:fld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tupak pokretanja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ena najava inženjeru u roku od 28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ob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zahtev za plaćanje u bilo kojoj meseč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obravanje od strane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C5D-5486-41AE-89B5-5A861499E3FF}" type="slidenum">
              <a:t>2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0A4A9-83BB-43A4-9E13-495965C8A597}" type="datetime1">
              <a:rPr lang="en-US"/>
              <a:t>07/29/26</a:t>
            </a:fld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om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ž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zni vremenski 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avljeno dovoljno vremena za odlučivanje o arbitra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ABB-8CC8-41C3-BC5D-CE657E93F0E7}" type="slidenum">
              <a:t>2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942FC-10B0-4980-B457-E5A2971CD5F3}" type="datetime1">
              <a:rPr lang="en-US"/>
              <a:t>07/29/26</a:t>
            </a:fld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8AF-61C2-43E4-8592-2A3D127E7EB9}" type="slidenum">
              <a:t>2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E6668-0FA3-4FC5-9878-8E0BD81BC542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koncepcije - faza "juriša"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Želj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radi racionalnog sagledavanja že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jn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materijalizuje žel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 pomažu investitoru da donosi odl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73A-4602-4A75-BCD1-DF9FDC6E4E5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1557C-BB9F-4389-8AC3-1DD0A8DF8CAE}" type="datetime1">
              <a:rPr lang="en-US"/>
              <a:t>07/29/26</a:t>
            </a:fld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F04-F3AA-4366-8BD2-EF854BEACEC2}" type="slidenum">
              <a:t>2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5FA22-287B-4BD2-9271-43D29451A72C}" type="datetime1">
              <a:rPr lang="en-US"/>
              <a:t>07/29/26</a:t>
            </a:fld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4421-38A9-4AB9-8878-7135F7E91356}" type="slidenum">
              <a:t>2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07953-AF3A-41FA-AF5D-6D524D7B9821}" type="datetime1">
              <a:rPr lang="en-US"/>
              <a:t>07/29/26</a:t>
            </a:fld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jedno sa istraživanjem tržišta odvija se nezavisno od konkret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izvor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 najvredniju imovinu firme - zn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njuje zavisnost firme od pojedin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7E1-0DB2-4355-9A03-89BDD131240B}" type="slidenum">
              <a:t>2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F8B2A-2997-4B41-B535-D2A9BB973824}" type="datetime1">
              <a:rPr lang="en-US"/>
              <a:t>07/29/26</a:t>
            </a:fld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zavisne od konkretn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izvor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sistematizacija i sažimanje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F9C-0DD2-48B4-8FFF-17B2AF16CD7C}" type="slidenum">
              <a:t>2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5B48B-1A0D-497F-8EAF-49C85A0F2B73}" type="datetime1">
              <a:rPr lang="en-US"/>
              <a:t>07/29/26</a:t>
            </a:fld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u realizaciji projekata (investitor, izvođač, konsultant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ža oblast delovanja (izgradnja tunela, stanova, mostova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karakteristike firme (organizaciona struktura, veličina, strateg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znanja i iskus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lj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6BB-936E-483A-A0C2-CD1F2F9489ED}" type="slidenum">
              <a:t>2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71B71-3465-4159-B863-30E158BF5A64}" type="datetime1">
              <a:rPr lang="en-US"/>
              <a:t>07/29/26</a:t>
            </a:fld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sistema i sagledavanje potreba za istorijskim poda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iranje izvo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 i toka informacija 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sadržaja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specifikacije za nabavku hardv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855-B245-4207-8683-B7959D73E6F6}" type="slidenum">
              <a:t>2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A451E-3A47-4525-BEF7-E7AF3E613EE6}" type="datetime1">
              <a:rPr lang="en-US"/>
              <a:t>07/29/26</a:t>
            </a:fld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implementcij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inuirano prikupljanje, selekcija i unoš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baze podataka (pretraživanje, izveštavanje, povezivanje različitih tipova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61F-1DBC-4BE0-909C-F93FF8C015FB}" type="slidenum">
              <a:t>2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42296-638A-45CC-A75C-342E9373C473}" type="datetime1">
              <a:rPr lang="en-US"/>
              <a:t>07/29/26</a:t>
            </a:fld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investicionim radovima, potpuno ili delimično realizov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i i pred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đevinski dnevnici i knj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cije o fizičkoj i finansijskoj real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izveštaji o kontroli vremena 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4BE-4D0C-4A6B-8CC6-9666EA5EE7AB}" type="slidenum">
              <a:t>2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4BFA5-1101-4C55-AFBC-07A7C4BBBA7F}" type="datetime1">
              <a:rPr lang="en-US"/>
              <a:t>07/29/26</a:t>
            </a:fld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ski i drugi izveštaji o kontrol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e specif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a projektn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ugrađenoj opr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kovani iskustveni norm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a i zapisnici o ključnim tehničkim proble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2AC-1ECD-4312-AF86-86338E872DEE}" type="slidenum">
              <a:t>2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F61E9-0354-40CA-B28F-B48A94E75959}" type="datetime1">
              <a:rPr lang="en-US"/>
              <a:t>07/29/26</a:t>
            </a:fld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rišćenoj mehan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carinskim i drugim komercijalnim troš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osigu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lokalne radne snage i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radu sklad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DB1-B49B-4A73-B661-FFE566758B5C}" type="slidenum">
              <a:t>2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8C23F-2FDF-460B-9246-4AF0DA0E44F4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š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3505320"/>
          <a:ext cx="572796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572796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A99-64C6-48FD-BD74-B0592BB9C370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6FCDF-EF9B-45FA-B811-A40164877A8E}" type="datetime1">
              <a:rPr lang="en-US"/>
              <a:t>07/29/26</a:t>
            </a:fld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ska eviden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e zvanične lokalne publ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imljeni materijali o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a zapažanja pojedi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EE1-5B58-4944-8720-B73AED7F3471}" type="slidenum">
              <a:t>2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413AB-A3D3-47F4-B47D-29B1054F1857}" type="datetime1">
              <a:rPr lang="en-US"/>
              <a:t>07/29/26</a:t>
            </a:fld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stvarno izvedenim količinama i naplaćenim cen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, po jedinici mere, o utrošku radne snage, mehanizacije i materijala, finansijski efekti i vreme izvo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unkcionisanju maš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podaci o izvedenim rad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DA8-F9BA-4864-9B24-1FD4304B7F2C}" type="slidenum">
              <a:t>2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35A49-F805-438D-B7B2-1174E21EA222}" type="datetime1">
              <a:rPr lang="en-US"/>
              <a:t>07/29/26</a:t>
            </a:fld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opremi (podizvođači, cene, vremena isporuke, transport, montaža, probni pogon i garantni 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(učešće i kvalitet r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investitor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i podaci iz lokalnih publ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bitni za 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BE6-ED43-4BC9-9C53-EE01C6F6157B}" type="slidenum">
              <a:t>2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A21E3-BB18-4163-85D7-ABC6F040332F}" type="datetime1">
              <a:rPr lang="en-US"/>
              <a:t>07/29/26</a:t>
            </a:fld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A3D-AA9F-43D5-905E-F09B5247D5EF}" type="slidenum">
              <a:t>2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15A22-EFD5-432F-BBF8-58FF8B6537F8}" type="datetime1">
              <a:rPr lang="en-US"/>
              <a:t>07/29/26</a:t>
            </a:fld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D31-7A48-445E-9408-775C689D0F7A}" type="slidenum">
              <a:t>2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183CD-AD76-4851-944B-49AF400C947B}" type="datetime1">
              <a:rPr lang="en-US"/>
              <a:t>07/29/26</a:t>
            </a:fld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44D-4E34-4556-BC75-D98CB30CF485}" type="slidenum">
              <a:t>2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68CD7-CAE0-47E3-9A89-E679D7F8D091}" type="datetime1">
              <a:rPr lang="en-US"/>
              <a:t>07/29/26</a:t>
            </a:fld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je znatno više od prostog skupa de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ovi sistema su povezani vez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transformišu i razmenjuju res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imaju svoj cil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podeliti na podsiste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F78-35E5-4D5C-AA88-1A7719857117}" type="slidenum">
              <a:t>2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D9D0C-9858-4AE3-9555-EAFC4526D14E}" type="datetime1">
              <a:rPr lang="en-US"/>
              <a:t>07/29/26</a:t>
            </a:fld>
          </a:p>
        </p:txBody>
      </p:sp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u građevinarstvu reaguju na spoljne uticaje (otvoreni siste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ma u građevinarstvu se može upravlj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 se na osnovu resursa "informacij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1DE-BB88-4734-850F-980C44538FC3}" type="slidenum">
              <a:t>2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1912D-F5D6-478A-9419-7083DE1B539A}" type="datetime1">
              <a:rPr lang="en-US"/>
              <a:t>07/29/26</a:t>
            </a:fld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sistemi za razmenu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bi upravljanje bilo moguće, treba da odgovara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u "činjenice iz kojih možemo da izvučemo zaključk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e su "značenja koji čovek pripisuje podacim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E41-5A68-4521-8C8A-4062EA16A4B5}" type="slidenum">
              <a:t>2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98B6D-484C-4EA2-B008-E5505D4D0EC2}" type="datetime1">
              <a:rPr lang="en-US"/>
              <a:t>07/29/26</a:t>
            </a:fld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tke je potrebno prikupiti, skladištiti i ob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posle obrade dobijamo informaciju koja je kori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st informacije opada sa vre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a treba da bude tačna, dovoljna i pravo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374-86FD-4E1C-971D-4681E759FB66}" type="slidenum">
              <a:t>2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65D94-6521-48D7-920B-5FB984058250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šta ćemo vas mi uči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ncipi upravljanja se razlikuju od principa matemat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ema opštih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rešiti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“snaći 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ije dovoljno znati “šta je predava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znanje ima smisla samo ako se kreativno primenjuje u realnim situ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661-9473-4A1A-BCFA-946B003D8F9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2DAA5-DD43-422A-B196-BC7A267AFA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"rovovska" borb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eni su suštinski po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te su suštinske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investitora je da kontroliše na bazi predhodnih z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664-E17A-4CCE-9F52-FAFC1E2D453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AF3B5-F6AE-437A-801E-EBF91CDF184F}" type="datetime1">
              <a:rPr lang="en-US"/>
              <a:t>07/29/26</a:t>
            </a:fld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u upravljanju projektim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 odgovara interak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i informisanja odgovaraju učesni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govremenost je od suštinskog znač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čunari nisu obavezni ali pomaž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treba da bude slična sam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C32-0164-43CB-B5BE-3EC057DFE0F0}" type="slidenum">
              <a:t>3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1C4E7-E3A8-406F-9D65-DF7F88021C41}" type="datetime1">
              <a:rPr lang="en-US"/>
              <a:t>07/29/26</a:t>
            </a:fld>
          </a:p>
        </p:txBody>
      </p:sp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S za upravljanje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5797440" cy="28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BE9-2F86-4202-8A62-0BA8BDEC75B8}" type="slidenum">
              <a:t>30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8C52E-B637-4844-A2E4-FA421E02CECF}" type="datetime1">
              <a:rPr lang="en-US"/>
              <a:t>07/29/26</a:t>
            </a:fld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vivaletan je modelu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čari se ne razumeju u menadž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zumevanje da je potrebna investicija koje će se ispla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ocenjivanje budućih organizacionih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sagledavanje potreba za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odr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D52-0852-4D60-9E75-80E3B665EAE4}" type="slidenum">
              <a:t>3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49EBE-3179-4F6A-A910-EF8357F7B518}" type="datetime1">
              <a:rPr lang="en-US"/>
              <a:t>07/29/26</a:t>
            </a:fld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budućeg razvoja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kad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log poboljšanja u rukovo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en konkretnom poslovn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budž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E534-115A-47C4-A736-5731BB8EC0FD}" type="slidenum">
              <a:t>3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DC771-9B5C-4494-A94C-1FA1552B798E}" type="datetime1">
              <a:rPr lang="en-US"/>
              <a:t>07/29/26</a:t>
            </a:fld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e postavk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e podataka su "kolekcije podatak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poslovnu primenu trebaju 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investitorima u rokov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zaposlenima u ličnim dosije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knjigovodstvu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. .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a od navedenih skupova su "tabel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510-E5F4-4938-8D06-6D234337507E}" type="slidenum">
              <a:t>3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C659F-E432-465E-BE1D-1F64C6463B6B}" type="datetime1">
              <a:rPr lang="en-US"/>
              <a:t>07/29/26</a:t>
            </a:fld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e između tabe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 nisu nezavis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komuniciraju sa pojedinim poslovnim partne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poslovnim partner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5A7-E31B-4478-B4E5-B317650C23C6}" type="slidenum">
              <a:t>3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03C4B-C160-4B81-ABE9-DAB48FE70912}" type="datetime1">
              <a:rPr lang="en-US"/>
              <a:t>07/29/26</a:t>
            </a:fld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sno definisan matematičk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avaju smeštaj podataka na jednom me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u 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uje efikasnu pripremu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uje raspodelu prav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CB3-1D18-451C-92EE-CA05D96D0F82}" type="slidenum">
              <a:t>3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5844D-3F64-48C0-A07B-FA5B133B0D21}" type="datetime1">
              <a:rPr lang="en-US"/>
              <a:t>07/29/26</a:t>
            </a:fld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i 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i (que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ri (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eštaji (Re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i za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nički interfejs (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1265-7561-446E-8563-52F364C68602}" type="slidenum">
              <a:t>3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F6A35-42E1-461C-B283-D64BE84FEDB0}" type="datetime1">
              <a:rPr lang="en-US"/>
              <a:t>07/29/26</a:t>
            </a:fld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tribuiranost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 mogu da budu smeštene na različitim računa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postoje kvalitetne telekomunikacione veze i programi, distribuiranost može biti prozirna (transparent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postojati redundansa (višestruko ponavljanje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univerzalni jezik (SQ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F3A-13B3-4102-9588-BCA0C64267F4}" type="slidenum">
              <a:t>3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050ED-2483-4C28-9275-6C7DBA4ABA0C}" type="datetime1">
              <a:rPr lang="en-US"/>
              <a:t>07/29/26</a:t>
            </a:fld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i na svim sistemima od velikih do mal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pogodan za velike 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ije ne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oji za Windows NT okr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no 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aničen PC i Windows arhitektu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D29-0B8F-428C-8231-EEF3DBDE51DA}" type="slidenum">
              <a:t>3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F6330-505D-456F-A2F5-F03C28D140EB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činje završetkom garantnog r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ciono dobro se u potpunosti prepušt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na 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om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ika i tehn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spada u upravljanje projektima u užem smis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659-D50B-4856-B498-E1F2E7248F8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03870-AA28-4B8C-9218-51EEEFD0B74D}" type="datetime1">
              <a:rPr lang="en-US"/>
              <a:t>07/29/26</a:t>
            </a:fld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window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 platformom i OS-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ro povezan sa osta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DO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, ali donekle ogranič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ednj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DD0-EEB7-4095-80F8-3843E2E5D3FA}" type="slidenum">
              <a:t>3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39167-E2E4-4743-8A15-E19527518AEF}" type="datetime1">
              <a:rPr lang="en-US"/>
              <a:t>07/29/26</a:t>
            </a:fld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municiranje između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univerzalnog jezika (S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tabela u standardnom formatu (d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z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eč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komunikacioni ka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e 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DD7-5D52-4AEA-9D84-5375ACE39AAB}" type="slidenum">
              <a:t>3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89388-BF3F-454B-97E0-4C2B038EE77C}" type="datetime1">
              <a:rPr lang="en-US"/>
              <a:t>07/29/26</a:t>
            </a:fld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ijent-sever konce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"poslužilac (server)" koji je dovoljno "fizički jak" da opsluži više "mušterija (klijent)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jent postavi zahtev, server obradi podatke i vrati ih ob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iše se koristi baš z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632-412E-4A3B-8854-DF3B3066048E}" type="slidenum">
              <a:t>3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A9512-7190-461C-91B6-F4AC1635E5EB}" type="datetime1">
              <a:rPr lang="en-US"/>
              <a:t>07/29/26</a:t>
            </a:fld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j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44D-E883-4643-B3DA-F689056610DB}" type="slidenum">
              <a:t>3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059A3-F2C1-47BF-A820-124AA0E99F7F}" type="datetime1">
              <a:rPr lang="en-US"/>
              <a:t>07/29/26</a:t>
            </a:fld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ljivos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še korisnika (pojedinaca ili programa) deli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unose samo jed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mnogo p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ograničavanja prava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3F7-66C4-4F42-9594-CAC3EF7A9CFE}" type="slidenum">
              <a:t>3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9F387-AF8A-4B9D-8656-5A34CBF23164}" type="datetime1">
              <a:rPr lang="en-US"/>
              <a:t>07/29/26</a:t>
            </a:fld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14440" y="2557080"/>
            <a:ext cx="5829120" cy="67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kasan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trenu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željenom me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obl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adišt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i jez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e metode ob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like između korisnik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orjentisani (komand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čunarski orjentisani (interaktiv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C8F-4CA9-4BBB-92C3-69F1D8048092}" type="slidenum">
              <a:t>3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18896-E4D1-4DBB-8015-7ACC06E0EDF7}" type="datetime1">
              <a:rPr lang="en-US"/>
              <a:t>07/29/26</a:t>
            </a:fld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niza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daljen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vencijal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niž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90F-0E5A-4FA4-A8A4-09C0F9CC45F5}" type="slidenum">
              <a:t>3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14EBD-6C22-431C-B3DE-14051FBD9DD2}" type="datetime1">
              <a:rPr lang="en-US"/>
              <a:t>07/29/26</a:t>
            </a:fld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viso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izak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tehničkog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ut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viš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725-5F7B-4458-B1E9-3D7884D4158A}" type="slidenum">
              <a:t>3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20739-9813-4D37-A934-65F25D89DFBE}" type="datetime1">
              <a:rPr lang="en-US"/>
              <a:t>07/29/26</a:t>
            </a:fld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sobnost menjanja i prilagođa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veze za prošir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ćanje performansi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a format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novih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90C-2A53-4188-959A-24B7449F647A}" type="slidenum">
              <a:t>3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01856-4283-4829-9615-2A4E09E65B4F}" type="datetime1">
              <a:rPr lang="en-US"/>
              <a:t>07/29/26</a:t>
            </a:fld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grite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judske greš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grešno uneti pod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estruko unoš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zdanost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kazi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organizacioni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EC9-DF3C-4BE9-99C6-2361C7A860B2}" type="slidenum">
              <a:t>3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4A4FA-2099-4F76-AC25-DA03A945E517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duje novac koji želi da invest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ra da bude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učesnik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predmet izučavanja u razvijenim zeml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z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0BA-43AA-49A5-8429-B918B1975B8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54FE0-E88F-46FA-9E48-DA0E6B0B1B71}" type="datetime1">
              <a:rPr lang="en-US"/>
              <a:t>07/29/26</a:t>
            </a:fld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htevi 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eira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sanje novog izvešt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ti za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i korisnici (česta slab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željno je da i administrator i koris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8E5-3616-4B39-91BB-19D51418B724}" type="slidenum">
              <a:t>3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EEE5C-2DD3-4FE6-A152-A14D1F10F10B}" type="datetime1">
              <a:rPr lang="en-US"/>
              <a:t>07/29/26</a:t>
            </a:fld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2F9-A799-44D5-9C63-77DC9667FA04}" type="slidenum">
              <a:t>3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AEE63-3436-4DCD-A4A2-23D547956CA0}" type="datetime1">
              <a:rPr lang="en-US"/>
              <a:t>07/29/26</a:t>
            </a:fld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traživanje Inter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52E-5F77-4754-922A-D83B3B833DE2}" type="slidenum">
              <a:t>3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BC787-5262-4BBC-88C9-225E18087994}" type="datetime1">
              <a:rPr lang="en-US"/>
              <a:t>07/29/26</a:t>
            </a:fld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vet u kome živimo je baziran na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iše od 95% istraživača koji su ikada živeli još su ž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je verovatno da neko, negde ima informacije koje nas zanim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često, najbolje i najefikasnije je da prikupimo i organizujemo postojeće informacije na drugi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0A5-4F2D-4BFC-8803-6783D95E528A}" type="slidenum">
              <a:t>3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F123C-9812-46EC-8B38-F450AA9F88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Razmen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 sada, stručnjaci su provodili najveći deo svog vremena u potrazi za postojećim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bolja pomoć svakom stručnjaku je mišljenje nekog kolege, koji se negde u svetu bavim sličnim pos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mena podataka i komunikacija između stručnjaka je osnova stručnog i naučnog napret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4A4-DE7F-4B8B-A970-4C836E51C231}" type="slidenum">
              <a:t>3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A45F9-9500-4516-8EB6-10CB910F22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re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biblioteke bile najvažnije institucije za prikupljanje znanja koje su stručnjaci korist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iblioteke su bile među prvim institucijama koje su počele da primenjuju informacion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važnijih prodora je bilo pretraživanje bibliotečkih kataloga na daljinu, obično uz pomoć mod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A8F-F080-4FC0-998F-A8AE907C1678}" type="slidenum">
              <a:t>3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3EB63-9057-456C-B800-CF6D102C83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očeci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ternet je nastao kao istraživački projekat koje je finansiralo USA ministarstvo od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lavni cilj je bio da se obezbedi da različiti računari rade zaj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aj cilj je postignut tako što je obezbeđen način za komunikaciju između račun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2C6B-CCC0-4084-8B2B-E9D0A6C126A0}" type="slidenum">
              <a:t>3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87AB6-A2A3-4CB6-A29C-AB79C3FBC5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irenje Intere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straživači koji su radili na računarim koji su međusobno komunicirali otkrili su da je to veoma kori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 prvi put, računari su postali sredstvo za komunik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 akademskim sredinama elektronska pošta (E-mail) i razmena fajlova (FTP) su počeli da se koriste kao najbolji način za komunic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9F9-155C-4DD4-B9B6-251FDCE56EE9}" type="slidenum">
              <a:t>3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363FC-B443-4E59-9153-49AA7C3C2F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i WE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WWW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 je kao standard definisan 1989. u CERN-u, Švajcar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ostavio svoju web prezentaciju 199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roglas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ao svoj glavni priorit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995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, komunikacija u poslovnom i akademskom okruženju je velikim delom bazirana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917-A68D-4948-B537-067E6B87E7F9}" type="slidenum">
              <a:t>3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BAA61-3B14-41B6-843F-2976EC7BDD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Podaci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14440" y="2285640"/>
            <a:ext cx="47433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br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veća svetska kolekcija svih vrsta podatak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ja 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oš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najveća svetska kolekcija svih vrsta podataka, koj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848-C9C5-4400-B789-2EE2D77AF935}" type="slidenum">
              <a:t>3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7EA13-3B38-486C-BE1F-74771884A3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FD7-0AA7-42DE-B43E-323591487AF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F3EC5-F3F7-471F-A65B-DE1C9DC1BEBF}" type="datetime1">
              <a:rPr lang="en-US"/>
              <a:t>07/29/26</a:t>
            </a:fld>
          </a:p>
        </p:txBody>
      </p:sp>
    </p:spTree>
  </p:cSld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4022640" y="6858000"/>
            <a:ext cx="2835360" cy="304812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leda ka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omna biblioteka, u koju gotovo svako donosi gotovo s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otovo svi podaci su tu, ali niko ne može da nađe ništa, zato što biblioteka nije uređena, odnosno nema kata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ožemo naći neke podatke samo ako znamo gde su ih naši prijatelji ostav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3B1-1857-4C40-9E02-58C5243D08B9}" type="slidenum">
              <a:t>3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9DA56-2827-4F56-B678-5658F2537A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Al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kompanije su formirale sisteme za pretraživanje i katalogiziranje WEB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zultati se takođe objavljuju na WEB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akav tip servisa, ako je dobar, može privući mnogo poset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klame koje posetioci vide i njihovi lični podaci mogu da ceo posao učine profitabiln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2F3-8DF1-4E6D-B006-F68B80957246}" type="slidenum">
              <a:t>3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47506-E41A-4C0C-B5B4-275D526089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Tipovi kata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granata struktu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ma predmetu interesovanja, lokaciji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aza podataka sa pretraživanjem ključnih reči i celog tek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pecijalizovani katalozi koji sadrže važne adrese (URL) u nekoj oblasti (građevinske mašine, univerziteti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853-D4C0-41A3-97B8-4011C7B80091}" type="slidenum">
              <a:t>3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DCF93-DE48-4682-B8A6-918F468CE6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Katalog u obliku razgranat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ako vam treb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organiza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o poznatog proizvođač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davnice, akademske institu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dobar ako vam trebaju podaci o nekom posebnom pitanju ili iz nepoznatog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yaho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E37-7C34-4AA1-9970-F6372507BECA}" type="slidenum">
              <a:t>3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E619E-B7F1-4DF5-91BF-6F2A715256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AHOO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152280" y="2527200"/>
            <a:ext cx="6553440" cy="605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174-8118-4D96-B9C4-CC403AA6A91A}" type="slidenum">
              <a:t>3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8035D-0E71-46BC-9AF5-08DC5B769E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e ako vam trebaju informacije čiji izvor ne znate ili podaci o veoma specifičnoj tem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efikasni ako vam trebaj adresa poznate kompanije ili institu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zahtevaju korišćenje složenog jezika za postavljanje upita, koji mora da se posebno u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taV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ltaVist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3C2-2C43-4C96-937C-A36029B94FCD}" type="slidenum">
              <a:t>3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D89A5-970C-46FF-A81B-821FF3E21C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taV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171360" y="1847880"/>
            <a:ext cx="6534360" cy="64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BE61-CFE2-41E6-AB29-D80C03F88D99}" type="slidenum">
              <a:t>3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BE7AE-27E6-4767-9F50-F7ACFEC33B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Specijalizovani kataloz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izvor podataka o važnim URL-ovima u nekoj posebnoj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graničeni svojom posebnom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eoma dobar specijalizovani katalog za građevinsku mehanizaciju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to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6D5-010B-4E8D-9A0E-05E375977124}" type="slidenum">
              <a:t>3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59DF2-F0CB-4D13-B0C8-C405A9F96D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82440" y="2647800"/>
            <a:ext cx="6623280" cy="46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1CE-5F6B-470F-9F5D-313D1A132E8B}" type="slidenum">
              <a:t>3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8E0D4-1B3D-4AA9-8263-25A09E3DFE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reni pretraživač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aktično sve lokacije imaju neku vrstu internog pretraživ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ebno su značajni kod kataloga u obliku razgranate strukture i specijalizovanih kata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lakši za upotrebu ali i sa manje mogućnosti od pretraživača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E03-E2F8-40C4-8EA5-4C994F688FE6}" type="slidenum">
              <a:t>3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6E551-7822-4BA8-9620-FDFD5DF52C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obavezni učesnik u projektu (uz investit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biti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običajena uloga jugoslovensk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ično neinteresantan u zapadnom sv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mu je podređen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CC4-8CB9-412A-84DA-776ACE875A1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6A6F7-7986-474E-A86F-F20009C2FB69}" type="datetime1">
              <a:rPr lang="en-US"/>
              <a:t>07/29/26</a:t>
            </a:fld>
          </a:p>
        </p:txBody>
      </p:sp>
    </p:spTree>
  </p:cSld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menic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lično telefonskim imenicima, postoje i Internet imen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adrže obično E-mail adrese korisnika, koji su ih sami uneli u baz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toji opasnost od dobijanja neželjene po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popularnijih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g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foo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816-855B-421F-87F6-697E61CE6453}" type="slidenum">
              <a:t>3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D7125-677C-44A0-B621-9FB99FE190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gfoo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655344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7FA-BDFD-4993-ABBE-E357E84D6961}" type="slidenum">
              <a:t>3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57D21-7D18-414F-9451-6FA256B593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askanje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firme nude sisteme za časkanje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 sistemi obično omogućavaju potragu za korisnicima prema želje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o je vrlo korisno ako tražite ljude koji dele vaš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renutno je najpopularn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cq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D59-1790-48B3-B878-B472505AE35E}" type="slidenum">
              <a:t>3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A1951-2A2D-4E7D-8BDC-D0A9DFECC0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6461280" cy="528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406-FF0E-45FE-ABAB-05E0656E22AF}" type="slidenum">
              <a:t>3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82C98-3326-4795-B2AC-6F211B3259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Opšti save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proizvođači cementa u Italiji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članci o merenju specifične površine cementa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taVi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 neko u Nemačkoj, koga zanima upravljanje projektima u građevinarstvu, koristi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61C-F64D-4C38-B2AE-6A79C70C89D3}" type="slidenum">
              <a:t>3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67467-D38F-4939-9744-A47961D83F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realizacije projekta sa stanovišta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627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94A-5D22-4907-9866-D41AD9A3FCA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C631C-6E4A-4F82-8F76-30A2B3EBCA18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faz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27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 i VII se odvijaju kontinual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I-VI su vezane za konkretan proje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6005520" cy="140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2A1-24B8-460C-B807-F356C1C6129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32EDE-A1A0-4B2C-BAB2-3CF046174998}" type="datetime1">
              <a:rPr lang="en-US"/>
              <a:t>07/29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FD9-77C8-4EC1-B2B1-B1048D3A060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DF96F-2A2C-44AD-9DAE-81FFE95DE8AE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u toku realizacije projekta (II-V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snije detaljno raz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ali za razmenu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i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š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6BD-9F31-4B1E-8484-B691966F922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A67FB-0E40-4EE8-8421-037157E1AE38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e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rišt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CB6-7B0A-4FF7-A9BC-68A5A47F8C8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13448-CAB8-468B-9CA8-0CD24E108DCD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studirate Građevinski fakulte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6400800" cy="641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D04-6B3B-4CC1-AEF5-B44243F7F7A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9F609-8AF7-4059-848F-7322A019F8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a II-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edene i naplać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ak resursa i tra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i efek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čki podaci o mehaniz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jena tehničko-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 i 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8DB-18F4-46CA-9D24-BC8235DAE83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36A07-C9FD-476C-9FBE-30156A635E95}" type="datetime1">
              <a:rPr lang="en-US"/>
              <a:t>07/29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ljive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ljn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utrašnj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64D-C62B-4DFD-AB72-6566EDAD5F0B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724F0-FEF8-4F4C-9650-9FC010B8E505}" type="datetime1">
              <a:rPr lang="en-US"/>
              <a:t>07/29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oljn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rakteristik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ž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razv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tura i trad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odred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pored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880-1B01-431A-A17E-5F8A4DFCE5C7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86FB1-A6C1-45C2-A593-2FED37DD0EAC}" type="datetime1">
              <a:rPr lang="en-US"/>
              <a:t>07/29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utrašnj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ja i ciljevi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nivo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čin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C84-B04C-4E82-A830-2CFF7377717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D5029-E80E-4B1E-9A7B-165C247105ED}" type="datetime1">
              <a:rPr lang="en-US"/>
              <a:t>07/29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cionalne (klasič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o-štab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rem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o-tim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1F3-E887-4D07-A2FB-8F659720D26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95997-AC3D-4C8C-BC70-77FBE39B1B2E}" type="datetime1">
              <a:rPr lang="en-US"/>
              <a:t>07/29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06400" y="3146400"/>
          <a:ext cx="52056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3146400"/>
                    <a:ext cx="52056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5F7-C1AC-4719-861D-EF8891733145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8DE14-F820-4606-ABBC-DAE8ADAFA499}" type="datetime1">
              <a:rPr lang="en-US"/>
              <a:t>07/29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20720" y="4602240"/>
          <a:ext cx="5388120" cy="22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4602240"/>
                    <a:ext cx="538812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BE9-9AC7-4A8C-ADD8-B080897064D4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24CBA-735F-461C-A1C1-FFE473EE198E}" type="datetime1">
              <a:rPr lang="en-US"/>
              <a:t>07/29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o-štab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95560" y="2631960"/>
          <a:ext cx="4417920" cy="61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631960"/>
                    <a:ext cx="441792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CC09-8E15-4FCB-BFAB-4996D54A4664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0D779-BFCF-4902-B3AE-F39CDE29E901}" type="datetime1">
              <a:rPr lang="en-US"/>
              <a:t>07/29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o-tim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49320" y="4653000"/>
          <a:ext cx="493092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4653000"/>
                    <a:ext cx="49309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4E0-DA2B-4E24-9442-E8BF1199A746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7EB3B-77D3-4D60-9F29-4A0FB787F62F}" type="datetime1">
              <a:rPr lang="en-US"/>
              <a:t>07/29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t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20880" y="4633920"/>
          <a:ext cx="4986360" cy="22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4633920"/>
                    <a:ext cx="498636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183-7655-4C35-A178-3007F441214D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6451A-5B6B-4194-A932-1AD86D25D990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bog nauk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4880" y="3079800"/>
            <a:ext cx="5121000" cy="49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2EC-A741-4D48-B105-C497749488C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001BD-4CF5-4A34-B063-A5D75F8570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čna organizacio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5960" y="4322880"/>
          <a:ext cx="55958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4322880"/>
                    <a:ext cx="5595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555-4199-4949-80C9-74B7E3D5F9FE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CA9F3-3EF8-4D77-8AFE-A7950A5D0AE2}" type="datetime1">
              <a:rPr lang="en-US"/>
              <a:t>07/29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fir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4343400"/>
          <a:ext cx="603252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43400"/>
                    <a:ext cx="60325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96E-CDC4-4E63-A9B7-04F9AFCF6D62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F573D-6459-4DF4-B72E-163E7705ADD0}" type="datetime1">
              <a:rPr lang="en-US"/>
              <a:t>07/29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004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01600" y="3071880"/>
          <a:ext cx="4788000" cy="57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3071880"/>
                    <a:ext cx="478800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8CB-EC4F-42AC-9246-E8F5C5901262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2D0BC-AAC4-4417-9BD0-CF1828BB4B9C}" type="datetime1">
              <a:rPr lang="en-US"/>
              <a:t>07/29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3AF-B4D2-4434-AC0B-AF0EC2C366DA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13B35-4F45-4943-9416-50D3919B5739}" type="datetime1">
              <a:rPr lang="en-US"/>
              <a:t>07/29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61E-F39B-48D1-BEB3-9EC3543A620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03E0F-165F-480E-AA7F-76E4DECE26E9}" type="datetime1">
              <a:rPr lang="en-US"/>
              <a:t>07/29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odac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andar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prenos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izvor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format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formalni ka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struktuira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o pisan soft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A64-7841-40E2-AEAA-173F6555C5D0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A1AD8-94B1-462E-B6B9-E19A9A8AD868}" type="datetime1">
              <a:rPr lang="en-US"/>
              <a:t>07/29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 asortimana po slič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B22-5118-40B3-994C-294B3C16574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CE55B-BA46-4A19-8F66-C4E1629BF104}" type="datetime1">
              <a:rPr lang="en-US"/>
              <a:t>07/29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geološk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0C8-4AF9-4DB6-8A27-3E78FBADFCC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1AE32-6A27-4053-A947-6809913E4576}" type="datetime1">
              <a:rPr lang="en-US"/>
              <a:t>07/29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6519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69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ne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7CC-35BF-4A7A-B9B8-91AD81C2F47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9A3BF-A9B0-4989-B879-13635FD3F6E7}" type="datetime1">
              <a:rPr lang="en-US"/>
              <a:t>07/29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71440"/>
            <a:ext cx="65530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naš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778-9E09-44D1-B5CA-0CF4FB39DF98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41722-2A57-46F0-B736-929FBC666C64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to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želite da gradit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6095880" cy="32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431-E30E-4B89-BE40-CD5099D2425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56638-1E74-41AC-998A-56BC959AC3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ursi za izradu predinvesticionih studija i projektne dokumentac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nkursima za konsultantsk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oslovima u kućama koje se bave predinvesticionim stud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razvoja velikih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CC1-FA38-4033-A0E8-B02E6F56D9F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534BE-21B3-41F3-9F41-32C63C25B526}" type="datetime1">
              <a:rPr lang="en-US"/>
              <a:t>07/29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e informacije investit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11D-2FEF-400F-806F-F3D5164999D0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F0A58-E25B-4495-9CEA-08AF8147C452}" type="datetime1">
              <a:rPr lang="en-US"/>
              <a:t>07/29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8AC-6B8D-4682-BD3D-F5FA76093EA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9A42D-0574-435B-B0F9-3417F8B41F4A}" type="datetime1">
              <a:rPr lang="en-US"/>
              <a:t>07/29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4440" y="804600"/>
            <a:ext cx="582912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2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inski propisi i služ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83A-0731-4CF6-8970-D6D7849620E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86815-99EA-4CE5-BA13-168CBA779635}" type="datetime1">
              <a:rPr lang="en-US"/>
              <a:t>07/29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A0B-AC9A-4AC6-A47C-2D24D147C347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9A9B9-1966-4FC6-9487-D4AC21CD8183}" type="datetime1">
              <a:rPr lang="en-US"/>
              <a:t>07/29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115-C0DB-4278-A7E9-EEB2048DFA3A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AC967-858D-4AEA-A50B-A62E2D708424}" type="datetime1">
              <a:rPr lang="en-US"/>
              <a:t>07/29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dužem vremenskom perio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poslednjih godinu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845-476D-429D-B36A-F9A78C6613F7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26F03-4288-419E-86AC-D0FCD5B01ECA}" type="datetime1">
              <a:rPr lang="en-US"/>
              <a:t>07/29/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velikih izvođača i/ili pro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s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 (predstavništ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BB9-EE6E-4C74-BA90-51E82D5B7C95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D1A28-8C79-422F-AA2A-7EF81AA6F829}" type="datetime1">
              <a:rPr lang="en-US"/>
              <a:t>07/29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bonitet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rukovodstv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opljeni ugovori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ugovora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596-5EB4-41A0-8A88-D4675D504410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0FEEE-E37D-465C-AAEA-97AE8AEEC412}" type="datetime1">
              <a:rPr lang="en-US"/>
              <a:t>07/29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02B-7C45-4D13-88B8-0380C6ACB3DC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8C698-C7FB-43EA-A671-C1DAAF835EF7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to što volite posao inženjer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3337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319-D5B7-40D7-AF21-8134321E4C9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F89D0-4224-40AF-9E8B-E340721421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320" y="576360"/>
            <a:ext cx="67053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o istraživanju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sak mogućih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stanju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neformalnih konta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skupljačk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a je šir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a mogućnost pre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372-CA6A-4815-952F-7B1F525E258D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22F03-E479-4FC6-9719-7092132BC678}" type="datetime1">
              <a:rPr lang="en-US"/>
              <a:t>07/29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00A-57F1-47FE-A26A-C07B07051885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CE5D2-C527-42CE-AD27-BE57DBA80F07}" type="datetime1">
              <a:rPr lang="en-US"/>
              <a:t>07/29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DDC-D930-4DEB-AEB9-9EFEB8FDFF8E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AF034-C11D-48BD-8429-A73950B03DA3}" type="datetime1">
              <a:rPr lang="en-US"/>
              <a:t>07/29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obavez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ki su projekti gde ne učestvu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svega ga angažuje investitor koji nije sam dovoljno osposoblj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da ga angažuje i izvođač, pogotovo genera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poznatije međunarodno udruženje - 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3C5-A8F6-4F1D-92C4-78305A44CB38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6CF95-3346-4E25-9A81-FF6B23DC5717}" type="datetime1">
              <a:rPr lang="en-US"/>
              <a:t>07/29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ljanje posla na visokoj profesionalnoj i etičkoj os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samo zadataka kojima su doras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je veliki dijapazon usluga, od ličnih saveta do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je uska specijalizacija ili široki repert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D0E-594C-47BF-9787-821FC89085D1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38401-4FBF-4E46-B389-05F6002A8111}" type="datetime1">
              <a:rPr lang="en-US"/>
              <a:t>07/29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prihodi smeju da budu od honorara koji isplaćuje naruči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že učestvovati u poslovima ili imati finansijski interes koji može uticati na njegovo stručno mišlj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AD8-1AA6-4114-AD87-8D6A0DFB001F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16912-1F56-4EE3-85B0-2A9A8A6C46BF}" type="datetime1">
              <a:rPr lang="en-US"/>
              <a:t>07/29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4440" y="1947600"/>
            <a:ext cx="5829120" cy="71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hodna istraživanja o uslovima za gradnju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ha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z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eo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 i mogućnost plas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i stud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ktiv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kti primene naučnih met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CAD-6A89-49F4-856A-5C69C3697E5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5A30E-CC11-4F32-9A50-9B4476A8BED5}" type="datetime1">
              <a:rPr lang="en-US"/>
              <a:t>07/29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 praćenje razvo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zaštite i unapređenja životne i radne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a i vrsta ener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studija rentabilnosti, ekonomskih i finansijskih pokazate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da podataka, investicioni programi i projektni za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537-FFAC-4CC8-BC61-9B127A8E204F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3C6DD-665D-49BC-9878-707EF238738C}" type="datetime1">
              <a:rPr lang="en-US"/>
              <a:t>07/29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440" y="26334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radom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nje podataka i dokumentacije za ustup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vođ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i usklađivanje rada učesnika u izgradn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investicionog programa i finansijske ko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2FF-DDEE-4BBC-96E2-6E859E8E1F1B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8764F-D788-4FDD-ABAE-D9EC50D3560D}" type="datetime1">
              <a:rPr lang="en-US"/>
              <a:t>07/29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omoć tokom primopredaje objekta i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funkcionisanjem objekta tokom probnog pog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0E7-BF3A-485E-8ADD-8B4A677EFA7A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EE4C0-6FA6-479C-8324-2118A5E9B181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bog diplome i status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5038920" cy="47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470-579C-47F1-8EE9-A56E63DE7DF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D4B6D-5768-4778-8B4A-D2E41A443C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gućnost učešća u više u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ziju projektne dokumentacije ne može da vrši projektant i/ili 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stručni nadzor mogu da idu zajedno, ali ponekad nije preporuč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ja varijanta je projektantsk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2DC-D28F-427A-B887-A13BF114CD0B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AEC29-2926-4B24-A59F-6EA8AF0C3EA8}" type="datetime1">
              <a:rPr lang="en-US"/>
              <a:t>07/29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FIDIC-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4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davne uloge (Counselling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e usluge (Pre-Investment Stud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uge projektovanja i nadzora nad izgradnjom objekata (Design and Supervision Services for Construction of Wor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izovane projektne usluge razrade i razvoja (Specialised Design and Development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 (Project Manag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C15-9CCC-4C99-834C-017F20EAC9BC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AF5E5-7945-4097-B647-1C9ECC23C882}" type="datetime1">
              <a:rPr lang="en-US"/>
              <a:t>07/29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vetodav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14440" y="24048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anje save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inui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osebne projekte i probl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asti savet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kovođ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ranje i kontrola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upanje pred sudovima, komisijama i drugim pravnim te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5B4-6233-41A0-9AF6-79A23663DCC5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5FE8F-0CBA-4B9A-9DC2-2A36800749B6}" type="datetime1">
              <a:rPr lang="en-US"/>
              <a:t>07/29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investicio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e za donošenje odluke o investir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investicione polit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glavnih karakteristika i opravda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promena u politici, radu i organizacionim reše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80E-3984-4190-8631-7709650127F9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3D157-83DB-4C1A-A317-1C14C8DE8874}" type="datetime1">
              <a:rPr lang="en-US"/>
              <a:t>07/29/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projektna f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pravda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ci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a i definisanje zahteva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i optimizaci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a i istraživanja gradilišta i ostalih fa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830-F8E4-40CA-AB94-186B98CF68E7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9682C-A3AA-4922-8831-9694B66385A5}" type="datetime1">
              <a:rPr lang="en-US"/>
              <a:t>07/29/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7760" y="3477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440" y="21337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lkulacija približnih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ristupa gra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bn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ident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jalni pregledi i test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6B2-745B-43D9-987A-766A6C60DF54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A37F5-86D7-402A-919D-ED2B6C4F74F5}" type="datetime1">
              <a:rPr lang="en-US"/>
              <a:t>07/29/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9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cijalizovane 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proj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i obrade sirov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a automatskih koma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ažne z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j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ršeni rad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 gotovih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95E-855A-4CD0-905E-DCCE1B52F31A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EAA30-4CF1-4FA0-82B3-3CC4E803CEAA}" type="datetime1">
              <a:rPr lang="en-US"/>
              <a:t>07/29/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izacije resursa i njihova koordinacija da bi se postigao investitorov cilj u okviru plana, bud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a 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jen nivo poslova i odgovornosti između investitora i konsult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 zadržava pravo odobravanja i revizije ključnih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3F4-A18A-4057-B240-A915A3E74582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E80D5-E9E3-4763-9DDC-EE862CC531F0}" type="datetime1">
              <a:rPr lang="en-US"/>
              <a:t>07/29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1800" y="271440"/>
            <a:ext cx="626760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nicijalnih stud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raživanje mogućnosti plaćanja zemlj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govor sa potencijalnim suinvestito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moć pri rešavanju imovinsko-pravnih odn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sa raselje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govor sa budućim stana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3E5-7184-40A3-8653-74BBF8BD8A0B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70676-0A2C-4A46-9B07-815C51918952}" type="datetime1">
              <a:rPr lang="en-US"/>
              <a:t>07/29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budžetskih troškova i izrada studije opravdanosti z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crteža kojima se definišu idej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o planu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iranje baze podataka o sastancima i drugim aktivnos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a idejnog rešenja prema željam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zivanje i presedavanje sastancima o realizacij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678-6B4E-4DA4-9495-FDFDA922EFEF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2BDCF-77F9-4C23-8790-6283A9630981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 bi izgradili svoju zemlju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6372360" cy="47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EC9-E5D5-44A4-8CDF-40AA6225290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F849D-AA99-4191-B71D-7A180C02B5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dospelih zahteva projektanata i izvođača za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idejnog rešenja i podnošenje investitoru na o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isanje investitoru o predlozima za skice i crt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izvoda iz dinamičkih planov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straž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zij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ostvarivanja glavnog plana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AB8-7F08-43D9-AFFB-AE0C081B0D51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BC581-B93D-4980-B82D-A0360EB7B909}" type="datetime1">
              <a:rPr lang="en-US"/>
              <a:t>07/29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realizacije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rojektnih zahteva i zahteva za dopunama rukovodiocu projekto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o izmenama glavnog plana radova i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visine naknade za kon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utovanje inženjerskih i tehničkih rešenja iz projekta sa izvođač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nominovanih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5C6-CD82-4FB0-85A8-CC2E4D168036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A830E-6C90-4D9F-930E-7276901E2370}" type="datetime1">
              <a:rPr lang="en-US"/>
              <a:t>07/29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mesečnih izveštaja investitoru sa procenom finalnih troškova i roka završetk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menovanja i obezbeđenje angažovanja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ovanje dopune plana troškova i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komponenti i materijala koji se ugrađ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šenje konačnog predloga projekata i revidovanog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činjavanje liste mogućih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leđivanje tenderskih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59F5-37E5-406A-B6A1-F412C17CC5E5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4BE15-139E-4A6F-B353-C98CF7EFF0C7}" type="datetime1">
              <a:rPr lang="en-US"/>
              <a:t>07/29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obrađenih tendera i zahtevanje dodatnih obj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predloga za izbor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iranje ugovornih dokumenata, sračunavanje potrebne garancije i obezbeđenje pristanka investit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ovanje pravovremenog naručivanja komponenti sa dugim vremenom ispo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ertifikata o osiguranju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nje procene izvršenih radova i rad na pripremi konačnog obrač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068-A3E3-4B14-B129-59509C4BB2D7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C783B-3EFC-4693-9D1F-E8A1C2FE4C0F}" type="datetime1">
              <a:rPr lang="en-US"/>
              <a:t>07/29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naloga o izmenama i instrukcija 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na izmene u obimu i vrednosti koje su van njegovih ovlašćenja i regulisanje potraživanj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vljenje klejmovima u vezi osigu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aglas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za produž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o primopredaji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da li su nedostaci odklonj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6D9-6523-4ADE-A2EF-59EB7DE91910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653F8-C40D-48F3-BB09-022FBDC5CFAD}" type="datetime1">
              <a:rPr lang="en-US"/>
              <a:t>07/29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804960"/>
            <a:ext cx="655344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7760" y="3012840"/>
            <a:ext cx="5829480" cy="590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vremeno reagovanje na rana upozorenja u toku realizaci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realizacije programa opremanja i obezbeđivanje uputstva za održavanje i skica izvedenog s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55E-E54D-4936-A5EE-669970121861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4B826-90FA-4BF6-B247-A0359CACCEEB}" type="datetime1">
              <a:rPr lang="en-US"/>
              <a:t>07/29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vanje klij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rukovodećeg projekta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ažovanje drugih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ovi za predhodne izb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i odobravanje troškova i programa rada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koji se direktno ugovaraju sa investit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enovanje nadz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03F-7913-4CD2-AE9A-09CE61B22307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EF53C-4189-4E98-9D91-194E6F93C8D3}" type="datetime1">
              <a:rPr lang="en-US"/>
              <a:t>07/29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ivanje i i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posla u projekto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 informacije koji dostavljaju konsultanti i projekt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 o proceduri izvešt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5AF1-36FF-472F-A6E8-87B3ABDB4D5B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40333-BA00-4CE0-873C-2F85D0679943}" type="datetime1">
              <a:rPr lang="en-US"/>
              <a:t>07/29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ovanje učinaka projektanata, konsultanata, nadz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zivanje i 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ezivanje sa prav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rdinacija zahteva budućih stan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61C-38D7-49AA-8938-1AD01CC34897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0C1E0-F061-4DCE-9E9D-EF551489E38C}" type="datetime1">
              <a:rPr lang="en-US"/>
              <a:t>07/29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21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etaljni, nego se pozivaju na predhodno navedenu li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toje se od dva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84F-13AA-4E41-9F6B-50E181445C43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D8B3B-957F-493C-81E8-FA1020603645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9T10:38:17Z</dcterms:created>
  <dc:creator>Zoran B. Djordjevic</dc:creator>
  <dc:description/>
  <dc:language>en-US</dc:language>
  <cp:lastModifiedBy>Matej</cp:lastModifiedBy>
  <dcterms:modified xsi:type="dcterms:W3CDTF">2008-01-12T12:04:32Z</dcterms:modified>
  <cp:revision>21</cp:revision>
  <dc:subject/>
  <dc:title>U čemu je razlika?</dc:title>
</cp:coreProperties>
</file>