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5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1.wmf" ContentType="image/x-wmf"/>
  <Override PartName="/ppt/media/image19.wmf" ContentType="image/x-wmf"/>
  <Override PartName="/ppt/media/image10.gif" ContentType="image/gif"/>
  <Override PartName="/ppt/media/image13.wmf" ContentType="image/x-wmf"/>
  <Override PartName="/ppt/media/image30.png" ContentType="image/png"/>
  <Override PartName="/ppt/media/image9.gif" ContentType="image/gif"/>
  <Override PartName="/ppt/media/image5.wmf" ContentType="image/x-wmf"/>
  <Override PartName="/ppt/media/image8.gif" ContentType="image/gif"/>
  <Override PartName="/ppt/media/image4.wmf" ContentType="image/x-wmf"/>
  <Override PartName="/ppt/media/image3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3C61-8D54-4C30-A241-04AC35F00E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63B-AAE6-4771-93CA-A5ABB94EAF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DD16-6785-4C0E-B94B-F99399DD4C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8ED9-9F38-4CE2-BA63-C7AD02B192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B844-2875-425C-B9ED-3BE2962D85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349C-099D-4681-AD18-C9FA3A6DEE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8371-7935-4B55-8651-A62F5A3E5B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33BD-179A-4869-A08C-BACD972CB8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F05E-5922-4CAF-AEAC-7C67423C75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AD02-3AAC-447B-B517-F6A1B1A11E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94E0-CF20-487B-8BFE-71102F7BAC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CC8F-F43F-467E-AE79-3001896257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F78F-ABB7-43BD-9C12-988572F12E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D082-1267-42FC-BAB8-D5D68AFC48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9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1119-E5C5-447E-BE19-158B7FDCCF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4914-2A75-4021-BFDB-ACCC6751E2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C26C-5E06-4251-A8E6-4C7F10A72B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8F0F-D41B-4208-86B0-ABC3BE7082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7F43-1A7C-4E43-BA09-8901F06297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EFE5-ACE1-4F7D-BC9B-EBD6940080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6324-BA77-4519-8110-0EA0B01F26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32F2-E0C8-4C33-9C82-57C0236354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2A91-AF9A-419D-9CBF-C664262D3D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DF37-B6BF-4E4B-8226-3B1EDA7A52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F24A-40E0-436A-9A10-A41A7F9B9F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2177-5F01-4323-AE3E-48C74B499B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5E7F-3F4C-40E7-9410-FEBC383C3F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B013-F18A-4403-92D5-BB5E0364BA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7DAC-A873-46C5-92E8-A9BE89E68E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6F79-B89F-49E6-9909-39491916F2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FF47-EF8E-43DE-98D2-43849007F6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023B-F72F-4CA5-9F5C-A7384C6AA3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B8D0-B85F-4AA4-8B43-E715C30742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A087-420A-4E45-86A7-6894EAC596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9827-56AB-4C67-B54F-A0AB63827B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F985-DDB2-4FB6-916F-F3B21F2F1A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7156-2565-45C6-8E09-076E353AC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76A1-D046-4F93-96B0-774622846D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115B-7527-4EED-8993-FA001B9BF6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2AB-974C-4D9E-A4F9-DF43C0A3BA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315-80C4-4F13-A18C-F7DFA3814B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FBA2-CF9F-425C-9D98-38E7FCE074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6471-F3F6-46A9-8863-90DACA153A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EBE4-C06C-45A5-A1EC-097FA23FE0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1949-C791-4A4B-8C3B-35EDC2A48E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68FC-787E-4D26-BE90-6638929E8A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448A-F060-498F-8ACE-D12A993644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CF65-0594-4DFB-B96D-5BB50C3DAD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9A29-6E68-432E-AB7E-660244D28A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C4D-8AAC-4371-B0CA-7E79D8FF96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1158-E3CF-4DF1-A245-136F8FFD43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7B3E-16CD-4711-BA92-EB81AB8BD4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66AC-B38F-492C-9EF2-03521E72BA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B3ED-A9CB-432F-9224-3B8BC66D03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2463-3B2B-4D5A-BA04-1552A24528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228A-9706-4F73-9EF7-280124EECC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0D09-9C61-4ACD-B95A-690D3A0DC7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7EE1-F284-4C38-9BD5-265D62C507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6C40-1AC2-443F-8D74-33022059E3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F925-1CFD-4342-90A2-BF0EE746AF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017C-EAE3-42FC-A6DE-140531CB80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568-EC4B-47C8-93ED-E161547077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3336-A72C-4F28-95B9-E5A7E6BC4D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5C17-9EC8-4EEF-ACD2-A8C5255F4D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1B96-7017-46C6-BEF7-290669EF23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0C58-308A-4625-8D15-C9596EA5A4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9A2A-48A1-4286-BF53-77FB76BFB8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36F4-4146-4B73-AFCE-289E0CE304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E4BD-1DC1-4A3C-A3C5-FEDE524857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1003-3E78-4160-ACC8-9B39F58DB2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6354-6CE7-4CD2-9631-80B18DB7F4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1545-E90A-4EAF-8397-6C8A9DC293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0421-EF53-4719-AD93-AA1B300E80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E1E5-6112-4AC3-8A36-57F6CCF4E7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46E0-09DA-4B2C-A849-38B17D35E1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AB92-B9C7-4F8D-AF26-B1CE7E7CC1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D351-249D-419E-B565-D8C9A74D62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A9BB-081D-4C03-8051-4D19E824DC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84A4-859A-4336-BDEE-6329446E7F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9FB0-A077-4EAA-BEFC-0B85BCC31F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A2F4-2E16-45AF-8F36-777BE75272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7C80-907E-45AE-88E4-550BD34B4A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D1D8-EB3C-43DF-808A-F6AA6F65CC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FA82-EB76-41E7-AE17-2E2FC18E94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F10E-13DD-4BBC-B6FD-2D65F02BD3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5234-9DC0-4D2B-A76A-DA1E48635B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E22E-A3E4-4827-A162-05D9019E10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EF2E-FEDF-4560-BCAD-264F431F93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746F-0C27-4226-AC1C-36B96F657F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5D65-A368-434C-BF3E-371B487992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6AEF-3F46-4A66-873F-80D094358E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4659-DB95-4797-A345-1A64268BDC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9B77-B225-4054-B492-EF19610162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13E7-DD23-4ACA-9B81-DCBB7716BA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2F76-F5FB-4704-A4FC-D7DD57585C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555F-9B01-439F-B3D0-300C4CCC8E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CF75-09DD-4656-A201-06DE0A4098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1548-105F-4746-8501-F6A90CF6C8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8D28-BB4B-4C40-89FA-F6783E525B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52F3-5DAF-4FE7-9DE8-3B1F5CE864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5959-F475-4A3B-9FB6-743C0D666D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A474-4053-4197-822E-C22F68E468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10C9-3E1A-4F9D-AE4C-775573C80E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C4F6-EC9B-4A4C-8D76-E7FA5088AF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FDC2-14A9-4205-B95B-DD3A5372F6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533F-9FFB-468B-82F5-A9D9AE5FE4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799B-F1A7-4A40-9AEE-937E9CABD8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9A5E-6BA5-407F-8200-CD8ECAE179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0992-3A9E-4F11-A0BC-940435C63B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84F2-3D27-4EB9-A704-88296D0927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A5CF-C14C-44BA-9182-97A895A9AB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D529-48A5-4E99-88B9-B829DA12F0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FCB6-54C4-412D-954B-0C9456C860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80A-C285-44AD-BCDF-16708E64E3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E358-090E-429C-9D30-91D80B6D72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C95B-1630-4C50-B600-805F385567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0DB0-AC80-43C9-92ED-18D45CBC40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0353-38CF-4CC5-A8D8-D2CC8FCD0D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6DC0-A837-4687-B293-FEE9CDB0F0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B1B7-01E2-41EE-BB64-1D3F7DA548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7DE0-CE01-4A89-AB84-19085EE4DB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CD26-440A-45AA-A83D-A5A925E137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A403-6926-4EB2-AE85-0E447BC483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A74F-4FB5-4E62-A1D8-32A65FBC60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854E-C82E-4DCF-A9F2-50CDBF6C4F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75A-E262-4ACF-BFBE-9F18E19119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D9B8-D04B-4DA8-9608-6BBCAB8C53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82F5-C9F6-458C-A197-C0880BFDA6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6CD3-2D80-4935-9450-164527D555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41C0-5C71-4A6E-BEBC-7AD97B0E5F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CCBA-2967-4A8B-B3B3-E8A5606D93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984B-6859-4B88-8BD5-4A207F5BE2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D30A-3784-48A7-BA55-483DE37CA0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2B2D-9002-42D8-ABCD-BE17217E44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A530-C52C-4558-A23A-A6FA9CCA1A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CCCE-8567-46C4-BEBE-1A20D22FC8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B992-1C2D-4BE2-B756-08E6335094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BACF-E742-4EA8-9978-694DC8FC58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E351-8EE2-4D85-9589-D7BB432C68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A349-F395-4A2E-ADE9-B0679B1D67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6B50-A0D5-4308-9467-5A58DA8F09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1CE1-17B6-4D10-8748-6DE2D63150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9624-8CB2-4A8D-B1D0-3DCDA0159D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9EDA-735F-47DE-8D31-DAB408EF12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2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FAAE-0E33-4EAD-AB5D-1F899B3C1D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20B5-D076-4449-BD74-F275F2B361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E74F-4F16-4E34-A40E-690DC4030B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FFC5-FB05-4CC2-9180-162DDC598B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15C9-6583-417B-887D-BA6DE13C11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4C01-3406-4BD7-9222-1C5EFB696B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1F0A-5475-4865-AD4A-9D1F0F9B9F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FE15-C167-4567-AC1A-9E3B845A29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8B81-7633-42AD-8AA7-2E7177C4AF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79DF-149C-4369-8E61-1BD366407D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73DE-ECE5-4C84-BB79-7347740E68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A8C4-99D6-4DDE-9C60-5FDB694D45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91F2-8401-4C66-8A6F-5EE1120A0F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4FB0-17C6-41BE-8139-F2749CD43F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BD46-1953-413F-957E-F7EEF3D909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EBAC-00F6-4A18-9FD1-1BF5CEB3CA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E2E4-8FCE-46EA-A86B-28250C9EA1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D4E0-957A-4476-BAEB-80764463F7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6F8B-255B-4BE0-980E-B67557DEF0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FCDE-3ED7-4D28-9A08-958B87E332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4900-CFBE-48EC-8F9A-03110F366D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9E20-4178-4D80-A8E8-52AABA0946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1A05-CD29-430E-B056-B4E61E9DFE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A061-5D63-492C-A335-065D47D2C4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DE87-F4A9-44C2-ACEB-B4F89B0B1A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4281-D7D8-4F7F-9C8E-AF047FCCDA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92C9-4EB0-490A-B815-00AF81622A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B691-E052-47E5-A353-92899311E0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71C8-4562-4BD9-903F-41C80B5249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FFE1-5258-413A-B7F9-F22593FD29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E773-B8C3-47B5-BCF8-E025E549A4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4D44-6047-4E46-BEEE-5FA9F254DF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5DFA-C07C-43C9-8D35-8479FBB3C7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7F0C-4BA3-4BA2-B6F6-10B33956B8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0B97-1970-4CA5-94EC-903DB7B171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65B2-B1FF-4971-9A6E-A2BC119BC2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F142-2537-43F6-9E22-23C41DA139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2BB6-26A3-4086-92C0-4D714EAAF4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4C0C-32BF-4509-AA6A-3D56F0328A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9258-9836-4D5B-8B4A-9C6DD9A1BD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D8A6-E02C-4675-858A-655AD32B58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C595-9C55-4FE1-81B3-3AF03F4C6F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BFAB-0829-4275-BE75-4A2AA587A3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BC81-4168-46A8-8A74-447D80A2AA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58E3-AF13-4F19-A392-EB0486EB07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756D-236C-4957-9192-0763A3775D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1659-583A-4EF1-84C9-16AC443558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2492-363A-482D-B9A9-EEF305D9D6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74D0-2C90-43BF-B9F0-8562363A0B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3178-5BAF-427E-9033-A84BB1ECF6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4784-7AEA-4A52-AB4A-7015BEF2CA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EF04-4AA6-4600-8509-51EB335C31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11E4-EFAB-457C-994A-B2E365DCA2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BAF1-EF6B-4209-ADB6-541EC6F320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367-95F2-455C-BD94-F5428E911B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8B2A-B2C9-4D58-8025-9FC6BAC011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2717-E70C-4A37-BFDC-75138CD92C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33D3-D357-4A20-997F-EF3AE189B9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2CE-DB6C-4E04-B503-C4BBAAF3F6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9FF5-9D43-467A-AD23-FEB30EB216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2421-7C23-4B79-8DF9-7059140794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DA2F-5723-4CC2-BB87-0EEC9914E6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90DD-71C7-439B-A367-D379DB213F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A345-38C5-4ABB-83EC-EE8BF1BFEA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8008-8070-4C9D-9890-B0AAE0F4BB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4D39-D848-4D46-BF0E-D001C12154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10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852E-B2D6-4D4D-9A83-00E5EFDF06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2EA9-9857-431F-B807-8C58389E1E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711A-7B5F-4BBC-80DD-6C264A33BC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739B-FBF7-4080-8F99-7F0ECED99E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506D-ADAC-4A86-A4FA-D269285389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E7C3-02AE-4050-868C-93310E1E5D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620E-216C-4783-8F36-9DB843C520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BAE5-E070-4988-BE08-9BD72B82B3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8C5E-DF11-4F8B-9D15-0ACF1FC24C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C97B-5CED-4947-B04B-D7939F7F63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973B-2827-4FCB-8CC4-519F4725B7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D6ED-E5F9-4B96-80A9-EEDA64D41E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2152-8FD3-4802-9A42-473DDD7620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0000-7185-4B9A-AD12-77BDEDAD0B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15B3-F5DA-4428-BB9E-48110E7333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A67A-7245-4E6A-9274-10BEF41DBD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50EF-8BF4-4D81-8869-21BE2C1F62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985E-B68D-457B-A803-B02BBE3C6F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8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26BA-7786-487D-B068-21D99A8C2B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FDF9-F380-4875-B8FA-CA0B9DCB85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CF86-FDF4-408F-9C9B-CDC6E4412F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884C-BD8C-4AE3-BA31-928F37E38B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0C34-4949-4D2A-B5AE-345617D93F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1963-19AC-4EFC-AF58-A4997CB404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432F-7287-44E1-88AB-2D7EB81D0F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B5A6-440D-4829-AC07-142996858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D09F-149A-4977-8231-D68AD0207E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1BD4-0FDD-42B6-8525-6020F52F2E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4BA7-63AE-42F6-AF95-2D58FA85E7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FDC1-933E-4D6C-A0E8-E9E01CB5E7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F26C-4FD9-4FA5-9F8B-C497EC2447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46C1-B46C-4554-89D5-19FEE8011F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7D7B-75A8-4D91-9417-795B3D6A99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3427-C43E-4420-BF84-96E441C92F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6CB9-D060-47F4-8226-5176946D48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B918-4812-4E20-AE18-1EE617CC7F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74EE-F88C-4211-85C0-63BB135349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5F5C-2A4E-4F9C-AC6F-9473B418D8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F008-15CF-41EC-9315-B4173C92AC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67EA-CF58-4E69-935E-A5913CFDE9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F062-46D4-427E-A5A1-13D54BAF68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0EE6-A4D6-4943-B842-E36C39A6BB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A91D-6A5F-41A1-AFA9-706FE0529F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E1CC-6990-40BE-9384-48E0D63B01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7B74-9670-4FA8-9031-A1E3C81F10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0809-B115-49D0-BFD5-AEA0C815DA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20C-F727-4F70-BB80-523AEC66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C9D-2D21-4823-802F-8CA0D767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E4A-7D33-4C93-8CD1-8E31497B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A18-78B7-49FF-99EF-1F8A484D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B65-A4E5-45D4-8D26-8EB180D0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1D3-FE7E-4A5B-85E2-3F6CAA70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942-D040-4B2E-95AF-6D848CB1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430-89C0-43BA-B015-905554EB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EC6-9264-4BC3-BDE3-217D548F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DBE-4459-43DB-BD63-E1F335DC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07C-F76F-4342-9493-3042F11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29D-1EF3-48EF-99AE-4D4858C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971028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3E41-5979-40A0-8B05-6FE6196C4B03}" type="datetime">
              <a:rPr b="0" lang="sr-Latn-CS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9710280"/>
            <a:ext cx="274320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Predavanja iz Upravljanja – 02-U čemu je razlik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9710280"/>
            <a:ext cx="142884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5FD8-91E6-443C-9BCB-69F62A8DBE92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 od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1952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6095520"/>
            <a:ext cx="5790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čemu se ovaj predmet razlikuje od ostali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A3D-75FA-426D-8630-3E83B8B8752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4AAB2-A1AD-4B2D-9AAF-438C80ED8B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991120" cy="7543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 svemu tome ima istine,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88920" cy="183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591000" cy="19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95680" y="243828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152424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72388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613-A9C7-417A-929C-866EE78A4F0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C70F0-1A29-45D2-B7A8-85D070355F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0906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investitora da postavl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rukovodioca projekta da prihvata tu ul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 projekta sa osnovnim podacima o budž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e specifič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0D4-D706-4A1A-A5C1-99DBAB79F6BF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ABFA8-9036-4AD7-8B5C-6D88B1CD3509}" type="datetime1">
              <a:rPr lang="en-US"/>
              <a:t>07/30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324288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žina angažovan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n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i za iz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konta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a 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FA0-DC11-4DF2-B335-DE0BECCB6D76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10E6D-8E3E-4617-B8F0-85F0F04F1809}" type="datetime1">
              <a:rPr lang="en-US"/>
              <a:t>07/30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ši pr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zvođenja investicije (organizacioni konsalting) - ne ulazi projekt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ciono savetovanje (konsalting) - ne ulazi struč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4C1-B79E-4B91-8927-98EC33711A16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8204C-622E-40A8-9A2F-B35BC584DD15}" type="datetime1">
              <a:rPr lang="en-US"/>
              <a:t>07/30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dič UN - Ekonomska komisija za Evro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F86-6FDB-4E1E-A155-EE2478B863A7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F2D6B-49A3-4EC2-82CF-740F8921657E}" type="datetime1">
              <a:rPr lang="en-US"/>
              <a:t>07/30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ukupn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obavlja profesionalne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rada planova i specif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prema te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upanje investi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zor nad izgradnj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atu plus troš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nat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šalni iz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106-14F3-41BC-95B0-555455040A96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FD4C8-D16D-4A86-8AE1-10B4C58B4822}" type="datetime1">
              <a:rPr lang="en-US"/>
              <a:t>07/30/26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konvencionalnog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nema finansijskih interesa u izgrad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ni odnosi konsultant - investitor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at se završava pre početka 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m radova je j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pun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kladu je sa regulativom o jav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obaveze su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C2E-CA0D-4148-AA46-682D0785BF50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A1176-8C1F-4444-85E9-F447B5760302}" type="datetime1">
              <a:rPr lang="en-US"/>
              <a:t>07/30/26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i konsa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njuje mogućnost spoljnog sukoba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uigravanje stručnj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F6E-9731-4CC2-9FC9-3FA44DCD07C5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40B88-0344-4FB6-ADE5-081A4DE00AF8}" type="datetime1">
              <a:rPr lang="en-US"/>
              <a:t>07/30/2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 realizacije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vanje i/ili upravljanje izradom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bavke i lici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je investitorov izvršni organ, bez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a podela uloga između više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196-4859-47DD-9199-F84279C17270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BF88D-053A-4D1E-B87F-D483CD6FA0F7}" type="datetime1">
              <a:rPr lang="en-US"/>
              <a:t>07/30/26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kusni sav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 unutrašnjih suk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i za nabavku se sklapaju na osnovu licitacija sa kompletnim specifik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licitacije moguće je porediti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stupanja se rano primeć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ije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152-81BC-4B98-A27C-F3A1639BD195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7DDA7-84E8-42DA-A247-AE96A1945745}" type="datetime1">
              <a:rPr lang="en-US"/>
              <a:t>07/30/26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na odgovornost za projektovanje i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mogu da počnu pre završetka pro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 se utvrđuje na osnovu tačnih specifikacija, pre ili posle sklapanja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57A-D507-4D16-A0FB-492DD746C836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234CB-CD5B-4D2B-A56D-DE7969F55ECF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mi imamo još jedan predlog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000000"/>
                </a:solidFill>
                <a:latin typeface="Times New Roman"/>
              </a:rPr>
              <a:t>Zarad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156528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5943600"/>
            <a:ext cx="15652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575-9677-4428-A7D2-731C4284EAA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49D99-F473-480A-9088-3C92706850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šće konsulta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0024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a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i revizij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ja i 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predaja objekta i obuka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ek mora biti profesionalan i nepristr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mogu dobiti samo oni koji imaju ug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85A-6377-42D4-8417-718F8CC67A9D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6E96B-EF92-4819-A171-F9C8589E342F}" type="datetime1">
              <a:rPr lang="en-US"/>
              <a:t>07/30/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C65-9D54-4C29-A9CB-6180EDF42930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AADFD-4FEE-4345-A834-EE934A552810}" type="datetime1">
              <a:rPr lang="en-US"/>
              <a:t>07/30/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572-FC3C-4B0F-830E-35B5E849F48D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75B8A-E649-4A98-982F-A5B8E74D53B5}" type="datetime1">
              <a:rPr lang="en-US"/>
              <a:t>07/30/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652320"/>
            <a:ext cx="5829120" cy="20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2903400"/>
            <a:ext cx="5829120" cy="55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CD6-187A-4D5E-A2C0-466802BF34D1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652B7-86B7-486A-8511-966E12977FCB}" type="datetime1">
              <a:rPr lang="en-US"/>
              <a:t>07/30/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7760" y="1294920"/>
            <a:ext cx="5829480" cy="76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čki: jednostrana izjava volje upućena određenom licu radi zaključiv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da bi bila valj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rži osnovne elemente ugovora (predmet, rok, ce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žena vol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pod navedenim uslovima sklopi u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si 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njegov punomoć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će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vesti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obavezujuća z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 rok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768-3BC8-4C20-B993-66B60162E517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BC222-658C-429E-97A2-DA1A68923BF9}" type="datetime1">
              <a:rPr lang="en-US"/>
              <a:t>07/30/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rha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ni materi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azuje na tehničko-tehnološke aspekt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sposobnost izvođača da urad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ozbiljnost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 uslove pod kojima investitor može dobiti investiciono do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92E-08B6-4497-B1BB-F4F034C3E919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2ABC9-1A97-465E-A22A-6CD3D6141DB9}" type="datetime1">
              <a:rPr lang="en-US"/>
              <a:t>07/30/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gledavanj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7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asp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e za resursima i njihovi iz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zahtevi podizvođača i kooperanata (tehničko-tehnološki, organizacioni i finasij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isporu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j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 finans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9C9-8F7B-4AF8-9DCB-424426BC8CA8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E7CDF-3562-43B9-8EFB-7DEAB8BA1E4E}" type="datetime1">
              <a:rPr lang="en-US"/>
              <a:t>07/30/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e želju kupca za investicionim dob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e definiše predmet budućeg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definiše i način izbora najpovoljnije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definiše i ostale prateće u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ov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D38-8C0D-46AB-A43E-067C70AFFA8D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EFCB6-04D1-44C4-BC84-189CB0BED8CE}" type="datetime1">
              <a:rPr lang="en-US"/>
              <a:t>07/30/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definisanja predme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en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unkcionalnim paramet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0FA-5450-4B7D-8D72-455C394CFD94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A4551-049E-44FD-A322-35DA49FFADF7}" type="datetime1">
              <a:rPr lang="en-US"/>
              <a:t>07/30/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1338120"/>
            <a:ext cx="5829120" cy="719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utstvo ponu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dnošenj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ja u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tstva za podnošenje ponude (rok važnosti, produženje, licitaciona gara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ponude sa prilogom uz pon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sa izjavom da će radovi biti izvršeni u roku i po ceni, koji ispunjava ponuđa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234-9C97-4BE1-A2D8-3695FF5033B9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648F8-4D6F-4513-8D03-94703ADDA51F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rada je važna svima koji grad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vestitor veoma često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vođač uvek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raditelj mora od nečeg da živi, i to dobro, ako je mog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o može da bude zaljubljenik u svoj posao, ali ostali obično traže svoj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413-414B-49C0-981C-7FD009FDB9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2DAA4-4717-4166-9025-5F1C8C859E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440" y="1414440"/>
            <a:ext cx="5829120" cy="79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na kome se zaključije ugovor, čiji je sastavni deo i ostala tenderska dokum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često bazirani na FIDIC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kacije i opisi radova koje treba izv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čni zaht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"zamk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712-CB9B-46BA-8D97-92C82F968B12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56D42-743A-48AF-88C4-27CEC9FB489E}" type="datetime1">
              <a:rPr lang="en-US"/>
              <a:t>07/30/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4440" y="17949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 i predrač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količine radova koji se 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upisuj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rema stvarnim količi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bi trebalo da dobro sagleda šta se stvarno može očeki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buhva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ek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os cena ponuđač prilagođava željenom toku nov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9F8-8823-4220-A0EA-233E6BD3C62F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E7CE6-94B8-47EF-89AF-174EFBF4DFC9}" type="datetime1">
              <a:rPr lang="en-US"/>
              <a:t>07/30/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đuje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ovoljni za real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razrađuju i prilagođav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cija za dobro izvrše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je banka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10% vrednosti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naplativa na poziv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F96-86D3-4382-8B68-26899F726C25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3E5D7-EC85-4A77-9F9D-5E2F4B145B2E}" type="datetime1">
              <a:rPr lang="en-US"/>
              <a:t>07/30/26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kojom se najpovoljniji ponuđač informiše da je iza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ed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ugovor ne sklopi, gubi se licitaciona gara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a koja se dostavljaju naknad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se dostavljaju kao odgovor na pitanj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alju se svima, bez obzira da li su pi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647-76F3-445D-A840-D3FA0F1D4C81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9FB71-7E03-4104-BBF5-9CD806B5676D}" type="datetime1">
              <a:rPr lang="en-US"/>
              <a:t>07/30/26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i paramet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o vrsti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, spratnost, nivo obrade, oprema za poslov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oizvoda, nivo proizvodnje za proizvodne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treba da uradi detaljnu razradu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o i dugotra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ća mogućnost za zaradu i gubi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FB8-7F35-4BD5-8358-E290D32C1716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3AFB6-2713-4F90-9F4F-A4A93747EEE9}" type="datetime1">
              <a:rPr lang="en-US"/>
              <a:t>07/30/26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izbora najpovoljnijeh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ji po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eni poslovni partn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2A2-6E52-44E4-91A5-C936FEE1C397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A7A53-3E2B-49B2-AE69-A70BAA528DA4}" type="datetime1">
              <a:rPr lang="en-US"/>
              <a:t>07/30/26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ci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6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ju se kvalifikovani ponu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čekuju se kvalitet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da spreči dogovor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i poziv u specijalizovanim st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vima informis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postoji pred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pak sprovodi k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55E-926E-42B9-A0E5-124569CBFCA5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F8DB5-021A-4EBB-A55E-953B0B1BE250}" type="datetime1">
              <a:rPr lang="en-US"/>
              <a:t>07/30/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najpovoljnije ponu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4440" y="1642680"/>
            <a:ext cx="5829120" cy="76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nije najjeftin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an je bon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i su finansijski uslovi (kreditiranje, plaćanje u domaćoj val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da postoje i specifični uslovi (angažovanje domaćih firmi ili resursa, transfer zna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da postoje i drugi specifičn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procedura je definisana u konkursnom materija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C75-B4A5-4EA8-8BCC-20ECB993302D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88BAF-C723-4E40-A36D-54C3F6D92430}" type="datetime1">
              <a:rPr lang="en-US"/>
              <a:t>07/30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slovima za davanje prodajne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stvena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razni modalit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može biti i fik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AB8-3F14-4799-BC95-2BA59EC427B5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39ABF-C0D8-4825-9EDA-B490D35250C1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337-1C63-484D-A9A6-B004968A511C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F6133-69A3-4F44-BD90-3CF4B1796C69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rugačiji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m pokažemo kako da vodite računa o realnim moguć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s naučimo kako da vodite računa o realnim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1AE-0D5A-4EAC-885A-2F9B0CF059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4B77D-8F78-40C9-807B-CDB33F3D58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86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582912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686-580A-4FD4-A28F-0A2B124B9535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39935-7B1C-48F9-ACA4-08CBEDAD2976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ubedljivo najznačaj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uračunati faktor neizvesnosti, posebno u uslovima dugotraj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F7F-DF20-4BFB-A8A2-F149C090940D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CA5B1-6FF7-4595-B63F-FBD868FB6FF9}" type="datetime1">
              <a:rPr lang="en-US"/>
              <a:t>07/30/26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 između glavnog izvođač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o je da glavni ponuđač (izvođač) uspostavi internu kontrolu ponuda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 mora biti "čvrsto držan, štapom i šargarepom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5A1-8114-4DB1-BFC2-56607432E567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D138A-2BDF-4878-B9AA-C5D1E4DA09E3}" type="datetime1">
              <a:rPr lang="en-US"/>
              <a:t>07/30/26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ta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angažovanja drug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prome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argarep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agođavanje ponude interesima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stiranje na tehnologiji koja odgovara pod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nost u raspodeli sredstava (iznos i tok nov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3AE-D82F-4714-A84C-93A205F1164C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3D3E0-F728-4171-A581-81F50D33B8D9}" type="datetime1">
              <a:rPr lang="en-US"/>
              <a:t>07/30/26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podizvođačem se ugovara cena koja se razlikuje od cene tih radova iz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voditi računa da isplaćen novac odgovara vrednosti izvrše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novca treba da bude u funkciji efikasnog završetk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FB4-A092-410A-B23B-FABD60A3F6AD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F54EC-F7B0-4835-9B4F-625781D9D526}" type="datetime1">
              <a:rPr lang="en-US"/>
              <a:t>07/30/26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ceptu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procenu obavlja specijalizovana ekip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ipu vo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nitel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stimat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su približne, ali su nuž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kada se sagledaju troškovi, dodaje s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3B9-7684-4C42-B12B-3D0F41CDA7C0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DFDBB-2877-446D-A3DA-A633AD5C79DE}" type="datetime1">
              <a:rPr lang="en-US"/>
              <a:t>07/30/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omoćnih postrojenja i služ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žijsk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troškovi direkcije kompa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o nastaju pre ugovaranja (ponude, akvizicija, marke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1F1-D8D8-42E9-B067-C72DE9324818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D138F-09C4-4D2D-AC2A-B4519C9AE46E}" type="datetime1">
              <a:rPr lang="en-US"/>
              <a:t>07/30/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5829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48440" cy="77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49B-77B3-4F64-B0D4-CB8278012BD0}" type="slidenum">
              <a:t>1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B8802-C40D-40A8-8E9A-B5B669528190}" type="datetime1">
              <a:rPr lang="en-US"/>
              <a:t>07/30/26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 za donošenje odluke o radu na ponudi (slično studiji opravda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nders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ženi rok (ako ga 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č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učešća domaćih firmi i moguće posle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8A4-9B6D-4AB2-BF6E-C85179DBEBE0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4251B-9291-4E60-A65B-B667527BD583}" type="datetime1">
              <a:rPr lang="en-US"/>
              <a:t>07/30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konstrukcija investitora i njena sigu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 i način verifikacije obavljenog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iji su troškovi osiguranja, carine i druge ta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F8C-310C-464E-9240-CC75D73E9731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B4C0D-6F12-49D6-A6CD-48D1E65C681D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er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ednost onoga što uradite biće merena prema tome koliko doprinesete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mora biti da sačuvate svoj integritet stručnjaka, ali i da zarad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je da onaj koji vas je angažovao oseti da je imao koristi od t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A5A-6E8C-44E9-83A0-1DCAC09DA5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47223-B008-4783-A932-DEDAD3F99B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istraživanja tržišta 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ci troškovno značajnih 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a osposoblj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3C7-F099-4FE2-9062-A8DE59BC0741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664A6-3065-408F-8348-E59502A35FE9}" type="datetime1">
              <a:rPr lang="en-US"/>
              <a:t>07/30/26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a o usvaj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virna finansijska vr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nosti potrebne za akviziciju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ni dinamički plan izrad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e potrebe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sredstva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2F6-69C4-4271-A97B-1A640F67DFA1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79E40-84E8-4C63-99F6-4F40A0DBEEDB}" type="datetime1">
              <a:rPr lang="en-US"/>
              <a:t>07/30/26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7760" y="1191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7760" y="1719000"/>
            <a:ext cx="582948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izvor cene koja se n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bitniji element priprem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na za proceduru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i analiza ten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na tehnološke i prostorne pod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eneraln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tehnologije i njenih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D5A-D0E0-4662-A61A-50113F39BE2B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3CF26-18FB-4583-A04C-7FDF5CB03977}" type="datetime1">
              <a:rPr lang="en-US"/>
              <a:t>07/30/26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440" y="187128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generalnog dinamičk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i izbor meh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rganizacione stru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priprem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režijskih troškova na gradil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6E8-214F-4970-8FDB-DE79871B84E1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7E9EC-A8A6-490C-A394-D145C4DE41CA}" type="datetime1">
              <a:rPr lang="en-US"/>
              <a:t>07/30/26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sedišta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bankarsk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načina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zik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fit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tizovanje pripremlje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una baz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374-0A9F-477E-BE91-36C2B13A8BEB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56D60-5153-4F48-8D7E-60F24558A7CA}" type="datetime1">
              <a:rPr lang="en-US"/>
              <a:t>07/30/26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88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završe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sagledanog celog procesa 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mpletiranih ponuda isporučilac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određivanje poslovne strate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kontrolu troškova i upravljanje sredstvima prema isporučiocima i podizvo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F6B-58D5-4F4A-883E-B4E3BAC1AA1E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C9354-1B39-4012-97A9-41E72425EDBC}" type="datetime1">
              <a:rPr lang="en-US"/>
              <a:t>07/30/26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za buduće po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8FA-2382-4514-B85C-938B8FFD3A40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7EE4C-C539-4486-B3E5-8AFB43724D8C}" type="datetime1">
              <a:rPr lang="en-US"/>
              <a:t>07/30/2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iti razumnu c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iti realno traj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gurati tražen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BC5-C890-4D56-B653-72E751693450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CFC2E-A4B2-4D1A-AB0B-FBBA123E6945}" type="datetime1">
              <a:rPr lang="en-US"/>
              <a:t>07/30/26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307-2B01-47C9-A7E4-764C252B11CE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C48F0-BC52-434D-A3D5-4A8D6B710E8F}" type="datetime1">
              <a:rPr lang="en-US"/>
              <a:t>07/30/26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0040" y="2590920"/>
            <a:ext cx="58294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9E2-8FDE-45FC-931C-3A46E099A042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21894-94DE-4E99-9790-9ED2C2811087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6019920"/>
            <a:ext cx="2997000" cy="361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ženjersko balans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je potrebno da se usaglasi ekonomski interes i principi st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tko postoji jednoznačno reš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blemi se veoma često moraju rešavati na licu mesta, znanjem i oseća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ED3-A188-496B-95B3-ACB9502A6E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C5FE9-17AB-470A-A3F9-8FB845E94B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46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količine resursa  neophodnih za postizanje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procenjenih troškova i profita sklapa se 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om realizacije procene se koriguju u skladu sa stvarnim sta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late se prilagođavaju stvarnom st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e troškove i poređenje sa planiranim zove se 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6DA-17EF-4185-BEA1-9500AA40DBE4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92283-9A17-4814-B13D-23E6375FE05D}" type="datetime1">
              <a:rPr lang="en-US"/>
              <a:t>07/30/26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pogled unapred n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troškova je pogled unazad na prošl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 dve aktivnosti su povezane i daju materijal jedna za dru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reporučljivo da analiz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nu rada dva nezavisna 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15F-E33A-4104-8CF2-527272B6ABF4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8516C-5815-4EEA-87CD-EB49661A71D5}" type="datetime1">
              <a:rPr lang="en-US"/>
              <a:t>07/30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j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za kvalitetnu procen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olaganje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metodologije i procedure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lan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a tehnoloških znanja i v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e hardvera i soft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to je projekat složeniji potrebno je obezbediti više pred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44C-F6F4-4820-BB70-BC51DF2DF058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392A3-482A-4932-B6B4-9AD209F16184}" type="datetime1">
              <a:rPr lang="en-US"/>
              <a:t>07/30/26</a:t>
            </a:fld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7760" y="1904760"/>
            <a:ext cx="582948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A8E-6D94-4A0A-AFFC-841D910AB9E6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7E039-99B8-4C99-A28D-1F7E7F716D09}" type="datetime1">
              <a:rPr lang="en-US"/>
              <a:t>07/30/26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47760"/>
            <a:ext cx="64008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jerarhijsk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rstam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ipskim elem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o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iranje prati struktur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broja nivoa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formata ko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standardni načini klasifikacije troškova podržani institucijama i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703-12E3-4FD1-947B-06E2AF63C993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EEC7D-1450-440D-9D2D-A573C5F676F4}" type="datetime1">
              <a:rPr lang="en-US"/>
              <a:t>07/30/26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pozn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go je jednostavnije proceniti standardnu tehn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i detalji, materijali i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resursa standardno i povol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klično korišćenj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65A-45B6-44A6-BBFE-9FAC35419A86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39A19-8C31-4F8E-96E9-2D46458AFDFC}" type="datetime1">
              <a:rPr lang="en-US"/>
              <a:t>07/30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gravanje realizacije radova kod poslova koji se ciklično obavlj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standardnih objekata procenjujemo cenu je nekom parametru (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revetu, kra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estandardnih objekata daje se cene po jedinici mere (bra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kombinacija strate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C52-FD4E-4AA5-820E-9573C270CEB3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78AE1-F734-4678-A748-8D27C0305744}" type="datetime1">
              <a:rPr lang="en-US"/>
              <a:t>07/30/2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prilagoditi procenu predviđenom izvođaču i njegovoj tehnologiji i sposob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eti u obzir veličin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FFE-64BC-4D46-B5C8-B4713EC1D917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5C40D-4E19-45A2-996D-42774730CB6F}" type="datetime1">
              <a:rPr lang="en-US"/>
              <a:t>07/30/26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23360"/>
            <a:ext cx="624816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23284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podataka o predviđenim oper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z su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raživanju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orijsk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svetu postoje programi, knjige i baze podataka za pomoć pri procen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postoje zastarele Komgrapove norme i Tanjug-ov bi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0BC-2463-470B-BAFB-AE64F519DA6C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DCD21-081D-4081-BAAB-0DE9C3E11C63}" type="datetime1">
              <a:rPr lang="en-US"/>
              <a:t>07/30/26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2176200"/>
            <a:ext cx="594360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imati i sopstve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imati svedene podatke po nekom parametru standardnog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nemamo dovoljno detaljni projekat ili nemamo normative, moramo koristiti i specifične istorijsk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korisno prikupiti ponude podizvođača i isporuč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FC4-25DC-47D1-8DD4-E589C4E6D164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E2CD9-4BF1-4361-A2E7-5C720E30D0EE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što, kako i zbog ko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ED9-AD4A-44F7-A109-D00B8E59B2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6EA0C-3C02-4973-BC2B-3A45E03D4C8F}" type="datetime1">
              <a:rPr lang="en-US"/>
              <a:t>07/30/2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infl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čajan i kod malih inflacija (3%-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zna sk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različitih k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statističke ver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visi od strukture cen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9320" y="7391520"/>
                <a:ext cx="4352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B38-1A96-484D-8D29-533283136486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4A3EF-F9E7-4B24-9BF1-FE11210E82E1}" type="datetime1">
              <a:rPr lang="en-US"/>
              <a:t>07/30/26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7760" y="1947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anirano povećanj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 kvalitet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bučenost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podizvođača i dobavlj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enadne promene zakonske i tehnič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dovoljno poznavanje pr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le promene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edhodne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vorišt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ja i istražni ra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jeće podzemne insta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355-03BA-42B6-985A-E445A0CABE7E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C345E-94D1-4217-A38F-1B1E2C686AAF}" type="datetime1">
              <a:rPr lang="en-US"/>
              <a:t>07/30/26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4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govoru, obično se zna na čiji teret padaju ov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a sil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avdano povećanje troškov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izvođača i podizvođača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uobičajeni problemi na nekim tržištima (cari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poslovi i mesta malog rizika (stalni investitori i podizvođač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3DB-11E7-469C-AD62-4D3AAAB2A06F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10741-1154-4DE3-9978-6E18BD97D560}" type="datetime1">
              <a:rPr lang="en-US"/>
              <a:t>07/30/26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2452320"/>
            <a:ext cx="58291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E08-1304-4142-8BA4-989EA81C1CE8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B91F5-E956-4530-83FE-1FCE4F59155D}" type="datetime1">
              <a:rPr lang="en-US"/>
              <a:t>07/30/26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42840"/>
            <a:ext cx="61149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čna cena prema predviđ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ac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re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š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e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standardizovanim ob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kcija prema dodatnim uticaj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F6D-65AD-470E-958C-CD317D321F9F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3105C-E126-4408-B52C-6B5D23C9E469}" type="datetime1">
              <a:rPr lang="en-US"/>
              <a:t>07/30/26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7760" y="225216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komplikovane ob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objekta na ele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i b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i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sni 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dobra 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209-2B6B-43D9-8D3D-531A2C4E0697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5ED22-EC82-4BFD-B2F0-78C40FFF2E1F}" type="datetime1">
              <a:rPr lang="en-US"/>
              <a:t>07/30/26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a vezan za matematički apa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i istorijski po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zriva pri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mode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ksponencij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am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istorijskih podataka bira 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3BA-1668-42C4-AB08-FD1AE4CAC25C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773AE-1788-4B27-A470-90CD93E93224}" type="datetime1">
              <a:rPr lang="en-US"/>
              <a:t>07/30/2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440" y="17953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 završenoj projektnoj dokument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a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n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podaci s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korisno korišćenje standardnih no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ka jako pomaže pri povećanju tačnosti ov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A51-E160-4EFE-986D-5FC9992A3CD8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F4CBF-0022-4FBD-86FD-20399DB5BE18}" type="datetime1">
              <a:rPr lang="en-US"/>
              <a:t>07/30/26</a:t>
            </a:fld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no je da 20% pozicija nosi 80%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neke objekte (pogotovo niskogradnja) ova razlika je još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dobro odredimo značajne stavke, procena može biti veoma precizn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godna metoda za utvrđivanje klizne s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1BD-D5EE-4EB2-8AF1-F5ECCAAB7B21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D5F16-E543-4784-971A-8A97387DFF64}" type="datetime1">
              <a:rPr lang="en-US"/>
              <a:t>07/30/26</a:t>
            </a:fld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40080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1676520"/>
            <a:ext cx="5829120" cy="761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javljuju se u predm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arketinga i akvizicije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guranje i deo c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ajmljivanje i korišćenje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arske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anjanje otpadnog i nepotrebnog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35A-9D78-4593-AA30-09B79857687E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B5502-13B5-4A25-849C-B5EBC90989E4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š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teljstvo je timski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mnogih str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đe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trukti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a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braćaj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ra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izvo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aniz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nsi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825-1E6A-48F6-AB59-2773FBE6FE0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412F4-109A-4535-BCA9-6E678FAFF81F}" type="datetime1">
              <a:rPr lang="en-US"/>
              <a:t>07/30/26</a:t>
            </a:fld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važna za dobija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čitao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ni 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rekapit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tski privl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kvalitet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an vid rek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brzog prilagođavanja toku događaja i željam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D57-3BCC-4DBC-B2CD-A5304FB87FF8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73429-061D-4F2B-9B9F-00A20672CFF2}" type="datetime1">
              <a:rPr lang="en-US"/>
              <a:t>07/30/26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4F5-38C5-4C46-990D-307A89463BFE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87F4F-11B2-40C9-9610-07F77237EEB2}" type="datetime1">
              <a:rPr lang="en-US"/>
              <a:t>07/30/26</a:t>
            </a:fld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DCF-B7AF-4005-A3C1-9D50FFA08F8F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E1994-F463-451C-9E1B-8E889F9F762F}" type="datetime1">
              <a:rPr lang="en-US"/>
              <a:t>07/30/26</a:t>
            </a:fld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2B0-7539-439D-A6DC-B601EA98CB87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71E43-2431-4276-932F-147EBCBF5F2E}" type="datetime1">
              <a:rPr lang="en-US"/>
              <a:t>07/30/26</a:t>
            </a:fld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asnost dva ili više lica koja ima pravno dej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element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predmetu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utvrđivanja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finans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163-311F-4794-8888-A2F4B7B51ED0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84AC0-7469-4738-AD26-733C78D8BF99}" type="datetime1">
              <a:rPr lang="en-US"/>
              <a:t>07/30/26</a:t>
            </a:fld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194796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ža elektro-mašins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ispor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ka i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 u zemljama u razv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tako čest u razvijenim zeml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zvod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B99-7206-4415-956F-9B457B59941E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411D3-AF42-47E9-89D3-BA6FF8C22A09}" type="datetime1">
              <a:rPr lang="en-US"/>
              <a:t>07/30/26</a:t>
            </a:fld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a plaćanja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o faz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etno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rada na osnovu količina koje meri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e mogu da se izmene ako se izm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9B5-5F47-438F-B590-5FEC9F2E4E06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C6B8B-3384-426E-8E7D-FB7CBB70EE58}" type="datetime1">
              <a:rPr lang="en-US"/>
              <a:t>07/30/26</a:t>
            </a:fld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plus dobit (Cost P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procenat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 i podela pro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ksni honorar i klauzula o nag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lus klizna skala honor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EE1-D83C-4116-8493-DD9A70C20802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F1CD5-53F1-49F9-96AD-5DA4DFD7AADB}" type="datetime1">
              <a:rPr lang="en-US"/>
              <a:t>07/30/26</a:t>
            </a:fld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ena cena koja se ne sme premašiti (Sealing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janta fiks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rekoračanje preko neke granice izvođač snosi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ksna cena (Fixed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ložna iz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rihvatljivosti promene cena (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i u slučaju k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F3F-69DB-4942-A8B0-7FAAB41E2149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CA3E6-1ECD-4F22-8CF3-0CEB70C34945}" type="datetime1">
              <a:rPr lang="en-US"/>
              <a:t>07/30/26</a:t>
            </a:fld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ran na britanskom 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je i tumačenja (čl.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a (naručilac, izvođač, inženjer, podizvođač, zastupnik inženj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i (ugovor, specifikacije, crtež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davni su samo pisani dok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97E-FE88-4EDC-B2C4-EA0489EFC7F3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57216-D941-47DA-9685-864A5DA6905C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cioni projekat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više lo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otra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uđenost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klimatsk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vinsko-pravn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404-401F-4559-AFE7-3E7EEED6843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026C8-1DE1-4750-96C3-87C552A1C4A6}" type="datetime1">
              <a:rPr lang="en-US"/>
              <a:t>07/30/26</a:t>
            </a:fld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 i zastupnik inženjera (čl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ja se daju ugov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mena uputstva moraju da se potvrde pismeno u roku od 7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može da oslobodi izvođača ugovornih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ovlašćenja se može preneti zastupniku, ali ne s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B47-2AAD-427A-BE9B-C4AE01A0BBE7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0CA59-13DA-499B-8904-616959B1D487}" type="datetime1">
              <a:rPr lang="en-US"/>
              <a:t>07/30/26</a:t>
            </a:fld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os i podugovoranj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ne može biti prenet na drugo lice bez saglasa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 se preneti novčana potraživanja svojoj banci bez saglas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B6B-E7E3-4847-9CB9-E4A28707096F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D9AA3-E4D2-45C0-AD96-D111CDDB487D}" type="datetime1">
              <a:rPr lang="en-US"/>
              <a:t>07/30/26</a:t>
            </a:fld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i dokumen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5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zum o Ugov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i drugi dokument koji je 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šnjenje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25B-15D7-448C-B18E-7AAD32E0A462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95187-06E6-4B0A-9A67-E43496EB84AF}" type="datetime1">
              <a:rPr lang="en-US"/>
              <a:t>07/30/26</a:t>
            </a:fld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naplate količina koje nisu obuhvaćene predme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postoji čim izvođač pošalje pismo o prihvat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cija za dobro izvršenje posla naplativa na prvi po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govornost za stanje pod zeml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da odredi kako će izvoditi rad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CD4-A53F-4029-8AE9-BA567DA02652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D16B3-BF4D-4FCB-A379-10E982E1A64D}" type="datetime1">
              <a:rPr lang="en-US"/>
              <a:t>07/30/26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menja nadzor po sopstvenom naho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dođe do oštećenja zbog "rizika naručioca" postoji pravo na povećanje cene ali ne i povećanje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e transporta nestandardnih materijala i opreme snosi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F3D-37F6-4BDF-A36B-553659ABFA1C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7F7C8-FFF1-45C0-A081-3D7A94E4998B}" type="datetime1">
              <a:rPr lang="en-US"/>
              <a:t>07/30/26</a:t>
            </a:fld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4440" y="182844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na snaga (čl. 34,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 izvođača da inženjeru dostavlja izveštaje o stanju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, postrojenja i izrada (čl. 36-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traži ispitivanja uzor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oliko su ispitivanja mimo ugovora, a kvalitet je odgovarajući, troškovi padaju n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kontrol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dgovarajući elementi se mogu odba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AE5-94C4-498C-9195-F4F60904F36C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21213-54E8-4258-8203-BEE95141506D}" type="datetime1">
              <a:rPr lang="en-US"/>
              <a:t>07/30/26</a:t>
            </a:fld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(čl.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nije zbog propusta izvođača i klimatskih uslova, investitor treba da nadoknadi š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obustava traje duže od 84 dana, i ne dobije se saglasnost za nastavak u roku od 28 dana, izvođač može da okonča svoj anagaž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DE1-8394-4159-A638-09AA2E8243C5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9ECB2-DF42-4A49-B188-560AE12E353D}" type="datetime1">
              <a:rPr lang="en-US"/>
              <a:t>07/30/26</a:t>
            </a:fld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činjanje radova i zakašnjenje (čl. 41-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preda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se ne izvode noću i u lokalne neradne dane, osim kada inženjer to odob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i za kašnjenje radova, ali ne preko neke 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vršetka i predaje radova i otklanjanja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439-E820-46B9-80F9-B39F96C0B2D9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F0286-6E15-4527-9EF3-98B4D43CE530}" type="datetime1">
              <a:rPr lang="en-US"/>
              <a:t>07/30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nost za nedostatke (čl. 49, 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le predaje radova izvođač radi radove koje mu inženjer nalo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ti radovi zbog nepoštovanja ugovora, neodgovarajućeg rada i materijala, padaju na teret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uprotnom su naknadni radovi i investitor ih pla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ni rok (period održavanja) se propisuje ugovorom, ako drugačije ne odredi lokalno zakonodav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832-C1C0-43C6-A674-F526DC8BB872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33B89-335C-4A31-898B-CA221B4A13BE}" type="datetime1">
              <a:rPr lang="en-US"/>
              <a:t>07/30/26</a:t>
            </a:fld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e, dopune i ispuštanja (čl. 51, 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až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ju se prema ugovoru 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obima radova ko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se posebno kalkuliš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F47-6080-4BE3-9F12-9CB006C6C96C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8A92E-F21F-4D8B-A17E-76F5BFF40FE1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snici u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i i koope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i, projektantski i upravn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9BB-1381-4FBA-B156-B0C571B818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D3F8A-03A8-44C6-873E-93DC37345037}" type="datetime1">
              <a:rPr lang="en-US"/>
              <a:t>07/30/26</a:t>
            </a:fld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za odštetne zahteve (claims) (čl. 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ava namere u roku od 28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čno slanje novih obračuna tok problem 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okončanju problema u roku od 28 dana konačan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lučaju propuštanja procedura, iznos klejma ne može da pređe iznos koji utvrdi inženjer 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BA1-4D95-479E-A8B1-30379C07CB38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09F0A-D701-4F73-B5AC-77751CFF1018}" type="datetime1">
              <a:rPr lang="en-US"/>
              <a:t>07/30/26</a:t>
            </a:fld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a izvođača, privremeni radovi i materijal (čl. 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, materijal i privremeni radova koji su potrebni za realizaciju objekta ne mogu biti uklonjeni bez saglasnosti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odnosi se na transportna sred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D32-9FA2-4252-8B48-2E510FFE9E51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EC415-4B81-4C04-A3F3-12B9BF6EE016}" type="datetime1">
              <a:rPr lang="en-US"/>
              <a:t>07/30/26</a:t>
            </a:fld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nje (čl. 55-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e količine iz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meri, izvođač može da prisustv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dostavlja rezul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14 dana vremena da uloži pri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i se na radove po jediničnim ce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žnost blagovremene pismene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966-2601-494D-B925-9A48C9B06EBD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A023E-3413-4358-ADC3-24FF0B0640E7}" type="datetime1">
              <a:rPr lang="en-US"/>
              <a:t>07/30/26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iznosi (čl. 5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i koji su pokriveni ugovorom, predmerom i predraču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i se prema uputstvima inženjera i njemu se dokazuju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238-1F6B-42FF-86B8-F5E6BF703410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C99BE-3232-4DB5-A98C-0493E9CF02B4}" type="datetime1">
              <a:rPr lang="en-US"/>
              <a:t>07/30/26</a:t>
            </a:fld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novani podizvođači (čl. 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ugovara sa 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treba da bude obezbeđen od propusta ov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e uslovi pod kojima izvođač može da odbije imenovan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B56-07A5-4BA9-837B-2941D462EAE6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E6101-3C3F-4EC3-B1D4-49328E6AA50F}" type="datetime1">
              <a:rPr lang="en-US"/>
              <a:t>07/30/26</a:t>
            </a:fld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tifikati i plaćanja (čl. 60-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dostavlja izjavu sa iznosom koja mu pripada na osnovu izvrše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u roku od 28 dana vrši korecije i potvrđuje i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 se umanjuje za avans i retencionu svo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 završno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41C-E5BA-4D50-8FC7-DC5C2380E1E9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BF071-150B-43CC-B818-F4F262ACB5B4}" type="datetime1">
              <a:rPr lang="en-US"/>
              <a:t>07/30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lekovi (čl. 63, 6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naručilac stiče pravo na okončanje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ono što ostav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isključuje lokalne pravne prop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inženjer može da izvede radove koje izvođač neće ili ne m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107-BED3-4EA0-BC4F-E5041C3A5AD2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FD485-764B-4949-8DD1-18C566846F54}" type="datetime1">
              <a:rPr lang="en-US"/>
              <a:t>07/30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 (čl.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treba i zauzimanje radova od stran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ške u inženjerov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e sile, ratovi, pobune i revolucije van zemlje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svega se odnosi na finansijsk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 raskidanja ugovora u slučaju 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AD8-662F-4A07-91E2-48E9D8BFF71D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4F086-C8E3-47F9-8E5E-B1005BBFE5F0}" type="datetime1">
              <a:rPr lang="en-US"/>
              <a:t>07/30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upanje okolnosti posle pisma o prihvatanju koje onemogućava izvršenje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 (čl. 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prvoj instanci odlučuj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drugoj instanc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no je šta je uzeto kao osnovno pravo (švajcarsko, FIDIC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703-180C-4E84-B003-7DE0346B4076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E3621-3047-49AE-9075-99DD207FF001}" type="datetime1">
              <a:rPr lang="en-US"/>
              <a:t>07/30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štenja (čl. 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oš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sa mora biti zvan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eno obaveštavanje o promeni ad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85B0-26C2-4308-B3C6-695B87CEAB36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1F5E3-C393-4685-9838-6BD32D1BF8D7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a su vas učili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veći deo predmeta koji su do sada slušani spadaju u dve kategor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eorijski (matematika, mehanika, mehanika fluida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jektantski (mehanika tla, beton, čeli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obe kategorije predmeta je karakteristično da postoje neke formule i neka pravila. Ako ispoštujete te formule i pravila, vi ste dobri. Ako ih ne znate ili ne poštujete, niste do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43B-58E3-4544-8EDE-D708D3C955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E9485-D893-41D0-B287-2E7DE87A9F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ranje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olaže n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jekt se izvodi zbog njegove že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nantan pristup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razvijenom sv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ajena ulo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slovensk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interesantno u našim usl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293-5593-4C6B-88F2-5737450A41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BBB53-7CC5-4548-9500-D051152B0A15}" type="datetime1">
              <a:rPr lang="en-US"/>
              <a:t>07/30/26</a:t>
            </a:fld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, neizdavanje sertifikata, stečaj i 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čno specijalnim riz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oknada svih gubitaka, zajedno sa profitom, ka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usporava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 kasniji nastav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A9A-55D4-49D0-994E-976D79A9F96A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B0A35-B140-4758-BA22-6770A65B5B6E}" type="datetime1">
              <a:rPr lang="en-US"/>
              <a:t>07/30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e u troškovima i zakonodavstvu (čl. 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promene cena rada 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u zakonodavstvu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stalno praćenje cena i zakons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D7D-6981-44A9-B431-54515D04A7BC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8EADF-52B2-44C4-B1A7-A75308A0DFB1}" type="datetime1">
              <a:rPr lang="en-US"/>
              <a:t>07/30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ze i devizni tečaj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71-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promene deviznog tečaja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ograničenja u deviznom poslovanju u istom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vde je veoma bitna stalna informis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F31-3E88-4B02-A54E-EFC15D03B6E2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B00EC-E887-4CE6-999F-2A10FA3E8D75}" type="datetime1">
              <a:rPr lang="en-US"/>
              <a:t>07/30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863-4796-49F1-ACF4-D127002C2DBC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3A79E-C63F-4C45-9818-83941269F42B}" type="datetime1">
              <a:rPr lang="en-US"/>
              <a:t>07/30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47C-0C6D-4AF1-A4D6-961A67FEFB43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63846-8103-4842-85E1-B97F9567AC49}" type="datetime1">
              <a:rPr lang="en-US"/>
              <a:t>07/30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B00-588E-42F9-86FE-2A9351C3255E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349D2-7974-4174-BC3F-F7D16CA28EFA}" type="datetime1">
              <a:rPr lang="en-US"/>
              <a:t>07/30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utiče na dalji razvoj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zuje želje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voj fazi se ostvari 85%-90% mogućih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sa stanovišta izvođača može početi i tokom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trajati i tokom izvođenja rad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FC4-EF50-4508-8112-45EC175473A7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23A05-B47F-4EC8-AB8E-4848F033A1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š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dgovornosti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tehničkih uslova i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92A-4380-4263-B10F-01D16F8FCAF3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31CEB-96CA-4E6E-83FE-5A2B9C7416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jerarhija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54561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45C-D846-4F92-A99C-DCF8104737DA}" type="slidenum">
              <a:t>2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DD4A8-A762-47F9-823B-5DFCA3AAC0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up u zavisnosti od značaja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idej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čujuć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556-E144-4F25-A805-413F36ED08F2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79D30-6B6C-4CA9-9F92-A83C00FA91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nvesti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E52-3071-4462-A121-F4925ED07C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0C88F-1E80-4519-8765-D5C060665FBE}" type="datetime1">
              <a:rPr lang="en-US"/>
              <a:t>07/30/26</a:t>
            </a:fld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glav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donekl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se definisati tokom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00B-C517-4B4E-970A-699925E36397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E8207-9B73-401F-862B-D6108FC17C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a pripr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ško usaglašavanje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tehnološ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anje mogućih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98B-D0CB-498E-B816-095CC380CE3B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99FED-E2E3-4B81-9524-858754073D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potrebnih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na poznavan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lašavanje svih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a načina upravljanja, kontrole i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CDC-9FFC-4454-AEF6-C31BB80751AD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CF604-EF32-4D31-8AAA-A35E116542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klapanje u okruže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se grade samo na osnovu klasič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at mora da se uklopi u šire okruž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ju se obezbediti uslovi i saglasnosti koje daje administracija, odnosno v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dobijanja uslova i saglasnosti je obično značajno složenija i dugotrajnija od samog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B2C-0E35-4101-ACA8-EAF1CF842BFF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A3BEA-0C47-4937-97DE-9EC6DF6A73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cija, u načelu, ne daje uslove i saglasnosti na osnovu svoje slobodne vo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i na osnovu kojih administracija izdaje uslove i saglasnosti zovu 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nski doku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i dokumenti definišu prostorni raspored, vrstu i sadržaje objekata koji se mogu g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2BD-4C64-4CE0-B63C-2C862B759BE9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E4FA3-ACBF-449A-A594-66982246C6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rebne karakterstike planske dokumen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uhvata prostorne i ekonomske kriterij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klađ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redmetu, prostoru i vremenskom peri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sanost, usklađivanje razvoja i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ivanje obavez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izrade i sprovođenja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D00-F1C5-45E8-AB28-93752E8ECFCE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5E5D3-792A-4895-850A-B0F80B177B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u Republici, regionu, gradu i opšt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eštaj stanovni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ža nas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obraćajna i tehnička infra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e za stimulisanje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BEC-9B25-4DDD-A4FE-A0EB8D6C6DB0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12AD5-650E-4F29-848A-582DF6851C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i prostorni planovi područja sa posebnom na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aseljenih mesta, gde ne postoje urbanistički planovi, rade se detaljni prostorni pla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ornim planovima planira se razvoj u narednih 20 g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F3D-2188-4947-8880-67033CFC25BB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B30A8-D9EA-4072-ADA1-6632B736D5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pri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ku donosi skupština nadležnog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uje se program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uje se komisija za praćenje i uskla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dokumentacije i an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i analiza planova, karata i slič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ao obavlja obrađivač, posebna stručna firma koja je angažovana za ovaj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03E-F32C-498E-86DD-40D53B0386BC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FE451-9454-4FF5-88C4-3841196537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uređenja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jivanje i analiza varij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 se izvršnom organu skup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avn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odluke o izradi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atranje primedbi i pred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šenje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6AA-FB3C-4D25-97EA-E0486EB244FB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A0E3C-5307-43BB-904B-E1CB5B44C5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po W. Hughes-u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5146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prihvatanja realizacije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eption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studije opravdanosti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easibility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ih reše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e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og i glavnog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govaran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ct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rad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jem objekta i puštanje u ra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ssion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A7A-9B42-48BC-800F-C2A1C881D9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69E64-38E1-4A50-8658-88423A0A48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predloga i donošenja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šljenje viših organa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osi ga skup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avljuje se u službenom glas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DD5-21A6-43E6-B06A-759C909D16B2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E2CEB-A640-4D93-AE21-2DC556C086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banističk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za područje naseljenog m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đuje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ava rešenja iz prostornog plana konkret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9D2-AAFD-4A4B-98E5-4D063007CC51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BEE5B-7FEC-4011-8958-5AD36F26C9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na sličan način kao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jemu se navodi na koje se vreme do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 se deli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gramskog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storne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D72-490B-4EF1-B230-3D3F24E860AE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CDAEB-04C3-4695-8C53-8BB81CDEBD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kturne objekte sa priključcima na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koncepciju stambene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ozelenj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štitu prirodnih vrednosti i kulturnih dob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99F-2434-4770-8F77-FED87693307B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D24B6-BB4A-46F0-852D-BD42204625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faza urbanističkog plan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da GUP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retizuje GUP u vezi namene provršina i položaja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za manje celine - mesne zajednice, nekoliko blokova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da previše detal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slično kao G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FBD-D5D1-4BB2-A645-7C538EDE0472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393A6-0B56-4424-9B39-C41BCCF0D3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stualni deo DUP-a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 deo gde se nav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ni osnov i povod za izradu i donošenj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 iz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 javne rasp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e za uređenje prostora sa smernicama za privođenje prostora n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704-A5CA-4A71-AFCE-B78637270A3E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5710D-0756-413F-B29A-75850F8189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i deo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 pl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kte koji se zadržavaju i r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ciona i nivelacio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jna rešenja za infrastrukturu i uređenje slobodnih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tske elemente za obele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parce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A3E-F651-4E5E-BD13-4565A575BB91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ECB53-B769-4D93-9C53-257B0D9586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 za izradu tehnič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tke o lo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o-tehničk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žaj regulacione i građevi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ane karakteristik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76C-8F43-4F72-AFD7-964E8981887E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63876-28EF-4CED-904F-6A99F84839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na osnovu DUP-a ili na osnovu privremen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e saglasnosti komunalnih slu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ga organ uprave nadležan za poslove urban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je slična proceduri donošenja ostalih planskih dokume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D20-3DCD-42A4-B879-93A954DFA3E0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FDA32-C86A-4FAC-ADBC-C2365586F9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eđenje zemlj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funkcionišu bez prateće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troškova izgradnje objekta moraju se uračunati i troškovi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izgradnju na području Beograda plaća se opremanje zemljišta Gradskoj direkciji za puteve i zemlj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2CD-9B13-4E7C-B54A-BAEB28096F03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DB918-3E2C-4646-8DE7-24CAE2BFC2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 re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i proširenje baze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851-0BFF-477C-9E19-680AF1FA721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6CD34-5782-42B3-BBAA-F7DE681F39BE}" type="datetime1">
              <a:rPr lang="en-US"/>
              <a:t>07/30/26</a:t>
            </a:fld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at tehnologije i organizacija grad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za sagledavanje stvar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BA1-1381-46D8-80A3-1771A22B97C6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B61A4-F022-4FEF-87D5-2343FD6CB9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o gra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detske, ge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rološke i meteor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snabd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eksperata i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8E2-6271-45E1-909C-787E4751D611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7B8D9-AF78-44B7-9C07-DCDCF306C2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opis sa tehničkim uslovima za 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račun fonda radnog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cena materijala “franko gradiliš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ri i uži izbor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monta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čki planovi potreba za resur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3B3-D3FF-4232-B3A7-AC4409E5A26C}" type="slidenum">
              <a:t>2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9141D-A474-473B-A30D-25587B8533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enje informacio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organizacije gradil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predhodnih i priprem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 zaštite na r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A64-6BDA-4711-9E8E-890CA67BC003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2F63D-876B-47E1-B589-06B3AB1B3C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1B9-82A1-4EB5-A7F5-B39F1AED1A4E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1549C-0E6F-48F5-8FC8-4203F7310944}" type="datetime1">
              <a:rPr lang="en-US"/>
              <a:t>07/30/26</a:t>
            </a:fld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đenje radova na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F71-2899-475F-83E1-66E96ADDDD9E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DE1B7-7BE5-4248-B16C-7310E15EC6D9}" type="datetime1">
              <a:rPr lang="en-US"/>
              <a:t>07/30/26</a:t>
            </a:fld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9DD-46BF-489E-BC87-E155C84FD6B7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F4B44-3889-4826-A7D2-8421A0EC989F}" type="datetime1">
              <a:rPr lang="en-US"/>
              <a:t>07/30/2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čna realizacija idealizovanog modela koji je do tada razrađ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vo uvek model se mora prilagođavati real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D06-9701-4408-94E5-9AE2F255296A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0B29D-4FB5-4596-B7CA-F3D2D92F10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gradnja uz razradu tehničko-tehnoloških i organizacionih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rcijalne aktivnosti vezane za obezbeđenje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sopstvenih ugovornih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ugovornih obavez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851-FDC8-4B17-91CE-451187037EF9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9F3AE-7FA0-4925-BDE9-D996D4FBA9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a pitanja na koja moramo odgovar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bim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e saradnike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o vremena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i su troškovi ovog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kav kvalitet moramo da ostvari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F12-F8D2-4AA7-9063-1E5BE6ED0490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B2FFA-146B-487A-98F1-5A915CB350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smo nauči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š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301-2B47-42BB-B436-8C041FFFCE6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0A61E-9410-41F4-A794-B3A8B85C80BA}" type="datetime1">
              <a:rPr lang="en-US"/>
              <a:t>07/30/26</a:t>
            </a:fld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na navedena pitanja se mogu unapred z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se menjaju vremenom zbog razvoja situ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dovoljno odgovoriti na ova pitanja samo u jednom trenu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i se moraju pribavljati i korigovati tokom celog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A37-29F9-4F69-B507-C47DCC40C7F6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40349-52DE-4C23-85FE-B7CAEA12F1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(plan) budućih događ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o st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akcije za smanjenje odstup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DDD-60D8-43B1-B4D6-859ABFD3EA2E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779B0-AB86-4D4C-B546-C352124277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 je obavezan uslov za  kontrolu realizacije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e osobine informacionog sistema za kontrolu realizacije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opljen u IS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obijanja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procene efekata 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istribuci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je potrebna, ali ne apsolutna tačn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984-3C29-4AE4-B062-267C909A69D5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949B6-5FBE-4444-B399-1FD161C5E0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odvija na osnovu procena obima radova, procene praktičnog učinka i sagledavanj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prikazuje u mreženom pl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tačnih pl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ovi se stalno ispravljaju i prilagođavaju stvar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809-A7F6-465A-98F0-603935BFF700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3D7E4-B038-4B41-AFB9-E8C3BFC36E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stoji efikasan način da se automatski stigne od predmera do mrežnog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automatizovati samo veoma jednostavn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oželjno uspostaviti vezu između predmera i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mora kvalitetno ostv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ne mora biti potpuno t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14C-7F4C-4672-B61A-9CF0CD793DFE}" type="slidenum">
              <a:t>2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DFC97-DC32-40F8-8B9E-A9A5EF71C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kvalitetni programi za mrežno 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se može realizovati brzo, efikasno i pregl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dobiti odgovori na pitanja “Šta - ak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7CF-3DC1-4BC7-A623-89EA2B001BB0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6DED5-DC90-4416-923B-2AF0E8C8C8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, možda najvažnije merilo uspeh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započeti sa kontrolom troškova što ran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troškove se najbolje utiče na samom početku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samom početku rada na projektu najslabije poznajemo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176-A2EB-44CE-B2DE-9875B699274A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EF62C-AA87-416A-B5D9-0E18C7185B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ranih studija na troškov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čine 2% vred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mogu da pruže 50% doprinosa profitabil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 definiše troškove 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šću ± 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projektne dokumentacije je ostvareno 85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4A2-1493-448B-8F4F-12E78D29BB34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4AC7B-C8A1-49A7-86AF-56E5B66DCC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aćenje vremena realizacije projekta može da značajno poveć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ženje vremena realizacije projekta može takođe da značajno podign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izabrati optimalno trajan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je primena kvalitetnih programa za planiranje tokom k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B51-3E8D-46C2-B5C5-E15408A228C9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68938-4C88-4DDF-87E5-9E4B9121D3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 na bazi utroška resur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razrađen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paralelna 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ostvariti detaljnu kontrol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ost modela se mora pažljivo odrediti, da ne bi postao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366-09D0-4E0C-8190-88BC7DD169C3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EF189-6D57-45D2-A57E-CD62F13C63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ćemo radit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živanje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rojektne dokumentacije i pri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ođe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istorijsk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F6F-F29D-428E-BF6B-85881E552A9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36CFC-4B1A-406C-AA7A-84D85F6551E3}" type="datetime1">
              <a:rPr lang="en-US"/>
              <a:t>07/30/26</a:t>
            </a:fld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ih i realizovanih troškova po aktiv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efikasnog plana ne postoji direktna veza između aktivnosti i pozic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baviti kreativno povezivanje ta dva sk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790-E984-485B-9FF4-0D8F2FD7034B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84A20-CE6B-4E55-A5AE-DE97670F4A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proceniti očekivane troškove pojedinih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i konkretan trošak treba pridruživati konkretnoj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rocene i stvarnog iznosa je osnova za kontr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D2B-109B-4A56-95BF-207C9950A212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EF0D1-8DE2-4C09-B9C6-92A0B5B72F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stavniji i manje kvalitetan način je poređenje procenjenog troška pozicije radova i realizova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daje pregled u vr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presporo za efikasno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se sprovodi kroz čisto knjigo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poboljšanje kroz primenu troškovno značajnih stav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7CF-7F7B-4D24-A7CF-B1DADAAEF1E2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9B286-CEEF-4ABC-ADC3-E4E064014C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oka novca (cash flow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toka nov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od životnog značaja za izvođača, pogotovu u naš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jedini način realne kontrole troškova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081-8858-4A38-91E4-0518E161F5C6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F62B9-1F47-4A42-A826-18816A6339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a za razrešavanje sporov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bazirati na strategiji firme prema projektu i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voditi precizno i paž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stavlja deo ugovor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se vodi preko građevinske knjige i dnev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EEE-68A9-4428-AF26-1EDB529FC400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4798D-9A52-464A-A2E9-E38B1B8E3C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se vodi preko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u dugotrajnim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je deo IS koji će se baviti ovom prepis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postoji klasifikacija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D7C-F109-4DD4-AB95-464A5A436590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408AF-EC3F-4B34-A11A-6AE67BB7E6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asifikacija dopi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tehnologij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ro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o radovi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na licu me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log za izmenu pozici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tion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emna li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est for approval of wo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evni izveštaj o izvođenju radov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 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689-F741-4AB6-95A9-539993388C54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DCB9F-5943-45DF-9E87-E43229DCA5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i prateća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(računajući i situacije, planove i 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nici sa sastan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i raznovr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je tokom celog toka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efikasnog korišćenja dokumentacije može da zavisi veoma mn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4AF-465B-4F7A-B8A6-31169534A7CA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B93DD-3720-4C26-8ED0-8C3B6CDAD7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čni metod arhiviranja je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o je praktično nemoguće dobiti prav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rganizovati sistem unošenja, analiziranja i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bitan interaktivan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neophodno unositi u računar cele 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498-C20C-4116-AE14-BE64DB54216F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BDA32-EC45-4B3C-81AE-C82F9E1049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carinskim i komercijalnim poslov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da u neinženjerske poslove, po klasič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ro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zoravanje kori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E75-807B-4414-8C72-EF416DD4CD01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7668F-028E-4A5B-A377-EB61E2F70B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954-7FAD-4A40-BA9A-97A5C3D2F07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57152-9E86-45E2-B240-07CF09E6D198}" type="datetime1">
              <a:rPr lang="en-US"/>
              <a:t>07/30/26</a:t>
            </a:fld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CBA-328E-4259-BF5E-F6225F2ECBDF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2A32A-0606-4706-B66A-73B146F0F145}" type="datetime1">
              <a:rPr lang="en-US"/>
              <a:t>07/30/26</a:t>
            </a:fld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0EA-B34E-44D1-91BB-30D7FE09A7DE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D3D44-DF93-4ADA-B943-5AC1524A94F5}" type="datetime1">
              <a:rPr lang="en-US"/>
              <a:t>07/30/26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BB1-71AF-485B-AF79-8BDC83D8FD13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D348B-298B-4DFB-98EE-8917C8FD5350}" type="datetime1">
              <a:rPr lang="en-US"/>
              <a:t>07/30/26</a:t>
            </a:fld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4440" y="5000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739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vija se tokom celog projek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vanje izvršenog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varni cilj svako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i uslov je dokumentacija a ne izvrš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podležu nacionalnim zako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zasnivati na internacional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1E1-CDC9-4683-9FA6-B30C59067116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25021-E5FB-43FD-ACB9-D6C71D078895}" type="datetime1">
              <a:rPr lang="en-US"/>
              <a:t>07/30/26</a:t>
            </a:fld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 L Times"/>
              </a:rPr>
              <a:t>FID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, dopune i ispuš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itivanj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po tuđim specifik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ć drugim izvođa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tokom garantnog r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569-724A-458C-B48B-173683072B8D}" type="slidenum">
              <a:t>2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3D3BD-21B5-4249-A316-A561CCEF07C5}" type="datetime1">
              <a:rPr lang="en-US"/>
              <a:t>07/30/26</a:t>
            </a:fld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e cene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i mod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merenja prema FIDI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hodno oba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tražen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dbe u roku od 14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9E8-6AB3-4789-999C-36186E70CD80}" type="slidenum">
              <a:t>2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2E7BB-27CD-495D-9404-6A759EA7E307}" type="datetime1">
              <a:rPr lang="en-US"/>
              <a:t>07/30/26</a:t>
            </a:fld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pismeni nalog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je obavestiti inženjera u roku od 14 dana o zahtevu za dodatnu naplatu (količine ili c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ukupna izmena pređe 15%, moguća je naplata i ako nalog ne posto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F47-D219-4507-AF0F-EEA227D63850}" type="slidenum">
              <a:t>2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269C3-B031-48B6-91F9-C42FA418AA06}" type="datetime1">
              <a:rPr lang="en-US"/>
              <a:t>07/30/26</a:t>
            </a:fld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ranje radova za koje se u trenutku sklapanja nije znalo da li će biti izve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e se na osnovu odobrenja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u se dostavljaju ponude, računi, fakture i 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892-FB2D-44D2-B180-933A14A97140}" type="slidenum">
              <a:t>2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06362-29F9-472B-8833-FE46B25CA151}" type="datetime1">
              <a:rPr lang="en-US"/>
              <a:t>07/30/26</a:t>
            </a:fld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kvalit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čna procedura kao za mer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eno odredbam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čestanost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redviđeno u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ata od strane "krivc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27B-4B3A-4493-8420-19BC320AABB6}" type="slidenum">
              <a:t>2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A9074-E6BC-43F0-A539-9F6B964652FB}" type="datetime1">
              <a:rPr lang="en-US"/>
              <a:t>07/30/26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je tuđih specifik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je ugovoreno na osnovu specifikacija koje nije uradio, izvođač može da naplati prekoračenje količ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i i ako su specifikacije bile poznate u toku sklap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2C6-C356-45D3-A2E7-AEA1966E9EDD}" type="slidenum">
              <a:t>2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55AF1-8BA9-4FD4-9883-30B1AD165D66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formiranja koncep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200400"/>
          <a:ext cx="6000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60004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5D0-20FC-460D-BEDC-BEA4AD56040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D8722-FA10-4F9C-8886-29A5427A9C75}" type="datetime1">
              <a:rPr lang="en-US"/>
              <a:t>07/30/26</a:t>
            </a:fld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drugim izvođač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n je pismeni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je poželjno da su uneti u spec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štećenja javnih puteva nastala i pored brig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1C6-66E7-438C-AD23-50A4C39BCCA3}" type="slidenum">
              <a:t>2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EEC62-4DEE-451E-AAD8-476EB7147171}" type="datetime1">
              <a:rPr lang="en-US"/>
              <a:t>07/30/26</a:t>
            </a:fld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ni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zvršava naloge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utvđuje odgovornost i naplata, na osnovu ov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može preuzeti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izvedene radove i naknadu za ostavljeno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3E4-76FC-471F-9050-06367A660240}" type="slidenum">
              <a:t>2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7E2F8-4DA7-4EAD-95E4-AFFBD2249C7A}" type="datetime1">
              <a:rPr lang="en-US"/>
              <a:t>07/30/26</a:t>
            </a:fld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i oružani su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zdavanje sertif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č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689-C6D3-478D-9658-28895870EEB3}" type="slidenum">
              <a:t>2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F2BD0-890D-4BBE-AD05-7ECDA8B543FB}" type="datetime1">
              <a:rPr lang="en-US"/>
              <a:t>07/30/26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92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sertifik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i odobrav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na izvrše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o preuzimanju aktivnosti tokom garantnog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za otklanjanje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jska porav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po završe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rt konačne iz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a iz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i sertif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761-1AE6-458C-9B2D-7CCAD1F1C34C}" type="slidenum">
              <a:t>2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AE24B-6051-4E45-BEAA-DE71D14DB2A9}" type="datetime1">
              <a:rPr lang="en-US"/>
              <a:t>07/30/26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klauz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ovi nominovanih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e, materijali 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6B8-96D5-43BD-9515-AD3D79F9418F}" type="slidenum">
              <a:t>2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52CF4-4D3E-40F2-AD57-56DFD788D154}" type="datetime1">
              <a:rPr lang="en-US"/>
              <a:t>07/30/26</a:t>
            </a:fld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440" y="2819160"/>
            <a:ext cx="582912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podataka dobijenih od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prostora za gradilište i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ovo neispunjavanje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nac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 pri obelež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842-850D-45E1-A9FA-6AD4B619C7FF}" type="slidenum">
              <a:t>2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67CC3-1DDC-4F23-B26E-EF02573A6C02}" type="datetime1">
              <a:rPr lang="en-US"/>
              <a:t>07/30/26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776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 van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nih tereta van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794-B966-4560-BB35-5132494E5679}" type="slidenum">
              <a:t>2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4C68A-004C-4DF7-AB63-8B06521C7057}" type="datetime1">
              <a:rPr lang="en-US"/>
              <a:t>07/30/2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upak pokretanja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ena najava inženjeru u roku od 28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ob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zahtev za plaćanje u bilo kojoj meseč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bravanje od strane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864-1FE7-4427-A270-4A9D4BAED4CD}" type="slidenum">
              <a:t>2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6FF80-C8A2-4B82-A023-0ED00EEA5D98}" type="datetime1">
              <a:rPr lang="en-US"/>
              <a:t>07/30/26</a:t>
            </a:fld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om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ž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zni vremenski 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avljeno dovoljno vremena za odlučivanje o arbitra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D5C-A3CB-43E6-AF18-114130889391}" type="slidenum">
              <a:t>2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9B8AD-FDF3-4B82-B68F-DB08C1A3EAB4}" type="datetime1">
              <a:rPr lang="en-US"/>
              <a:t>07/30/26</a:t>
            </a:fld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955-67BC-488E-BBB6-36B1BDC0AEBB}" type="slidenum">
              <a:t>2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73185-6D2C-4F1E-B7AE-5C547A8703DE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koncepcije - faza "juriša"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elj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radi racionalnog sagledavanja že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n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materijalizuje žel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 pomažu investitoru da donosi odl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D15-969D-4068-A929-AB4ED68F2B9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364B4-C4C2-4C91-A7A9-A1D74330879D}" type="datetime1">
              <a:rPr lang="en-US"/>
              <a:t>07/30/26</a:t>
            </a:fld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63D-E347-4F91-8213-0FEE70971414}" type="slidenum">
              <a:t>2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E4EB9-F264-4592-BF4E-580C45781393}" type="datetime1">
              <a:rPr lang="en-US"/>
              <a:t>07/30/26</a:t>
            </a:fld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677-11F8-4BF1-9D82-A2BAAFA64F5B}" type="slidenum">
              <a:t>2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0F3DC-6D1A-42BA-9407-A453C4820B43}" type="datetime1">
              <a:rPr lang="en-US"/>
              <a:t>07/30/26</a:t>
            </a:fld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edno sa istraživanjem tržišta odvija se nezavisno od konkret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izvor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 najvredniju imovinu firme - zn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uje zavisnost firme od pojedin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1ED-EE14-41C4-B851-87C6AEFC8CE7}" type="slidenum">
              <a:t>2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D82FF-6D26-4043-8D89-77E7A7493A1A}" type="datetime1">
              <a:rPr lang="en-US"/>
              <a:t>07/30/26</a:t>
            </a:fld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zavisne od konkretn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izvor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sistematizacija i sažimanje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A1F-6D6B-4107-84D6-B917FB78FBE2}" type="slidenum">
              <a:t>2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0821B-580C-42BF-A832-CFE6545F5A62}" type="datetime1">
              <a:rPr lang="en-US"/>
              <a:t>07/30/26</a:t>
            </a:fld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u realizaciji projekata (investitor, izvođač, konsultant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a oblast delovanja (izgradnja tunela, stanova, mostova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karakteristike firme (organizaciona struktura, veličina, 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znanja i isku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661-B25E-414B-AD48-AA53D42F3B02}" type="slidenum">
              <a:t>2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54EFE-04FF-490E-876E-A7C72B4FBB5F}" type="datetime1">
              <a:rPr lang="en-US"/>
              <a:t>07/30/26</a:t>
            </a:fld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sistema i sagledavanje potreba za istorijskim poda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iranje izvo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 i toka informacija 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sadržaja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specifikacije za nabavku hard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387-EAF5-4615-9A1C-DC3126CA2B6D}" type="slidenum">
              <a:t>2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946AB-E5D6-49BB-9BEB-830B1FCFECE3}" type="datetime1">
              <a:rPr lang="en-US"/>
              <a:t>07/30/26</a:t>
            </a:fld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implementcij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inuirano prikupljanje, selekcija i unoš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baze podataka (pretraživanje, izveštavanje, povezivanje različitih tipova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FF5-03A7-444C-987F-54B6FF2F938A}" type="slidenum">
              <a:t>2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A3F58-2DAA-41DE-B5D3-E80757CF4D5B}" type="datetime1">
              <a:rPr lang="en-US"/>
              <a:t>07/30/26</a:t>
            </a:fld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investicionim radovima, potpuno ili delimično realizov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i i pred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đevinski dnevnici i knj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je o fizičkoj i finansijskoj real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izveštaji o kontroli vremena 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A4E-FEBF-49DF-9DB3-0345F090C650}" type="slidenum">
              <a:t>2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B8262-A4B1-4605-B9E0-CB7B562453E1}" type="datetime1">
              <a:rPr lang="en-US"/>
              <a:t>07/30/26</a:t>
            </a:fld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ski i drugi izveštaji o kontrol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e specif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a projektn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ugrađenoj opr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kovani iskustveni norm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a i zapisnici o ključnim tehničkim proble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1CC-BDD2-4E82-9D71-82127E27E58F}" type="slidenum">
              <a:t>2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D2A46-DC28-454E-BA5B-A915B6564C7E}" type="datetime1">
              <a:rPr lang="en-US"/>
              <a:t>07/30/26</a:t>
            </a:fld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rišćenoj mehan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carinskim i drugim komercijalnim troš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lokalne radne snage i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radu sklad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271-BAC9-484A-AB66-9480E004CE9C}" type="slidenum">
              <a:t>2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44362-5422-4520-87A5-69588207D2DC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š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505320"/>
          <a:ext cx="572796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57279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584-4EE9-46EC-B9A1-E5F3826EF42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0839A-7B25-483F-8EE5-1296C67BCF1B}" type="datetime1">
              <a:rPr lang="en-US"/>
              <a:t>07/30/26</a:t>
            </a:fld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ska ev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e zvanične lokalne pub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mljeni materijali o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a zapažanja 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EF8-89B0-4085-B6F7-021236ADF44C}" type="slidenum">
              <a:t>2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71935-1FB7-48BD-A972-F5AF5F82E6F6}" type="datetime1">
              <a:rPr lang="en-US"/>
              <a:t>07/30/26</a:t>
            </a:fld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stvarno izvedenim količinama i naplaćenim ce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, po jedinici mere, o utrošku radne snage, mehanizacije i materijala, finansijski efekti i vreme izvo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unkcionisanju maš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podaci o izvedenim rad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DE2-4844-4033-9A72-FF79BFC7234D}" type="slidenum">
              <a:t>2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3515B-321C-4067-ABF3-8AC5CA809155}" type="datetime1">
              <a:rPr lang="en-US"/>
              <a:t>07/30/26</a:t>
            </a:fld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opremi (podizvođači, cene, vremena isporuke, transport, montaža, probni pogon i garantni 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(učešće i kvalitet r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investitor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i podaci iz lokalnih publ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bitni za 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775-3408-4788-833F-ECFB1A513D84}" type="slidenum">
              <a:t>2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96509-7F29-41B4-B8E7-7A2627897C05}" type="datetime1">
              <a:rPr lang="en-US"/>
              <a:t>07/30/26</a:t>
            </a:fld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862-0D10-4BD6-900B-5D9EF8F57469}" type="slidenum">
              <a:t>2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C3B82-EA9C-4D7D-981B-2255AEDCAB34}" type="datetime1">
              <a:rPr lang="en-US"/>
              <a:t>07/30/26</a:t>
            </a:fld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F1E-FFA8-4D9B-8F0B-582FB3139BCC}" type="slidenum">
              <a:t>2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FD4CE-8F73-49BE-85D6-FC389252F282}" type="datetime1">
              <a:rPr lang="en-US"/>
              <a:t>07/30/26</a:t>
            </a:fld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05C-E5ED-44E3-8FA8-E1E8C9EE7B1B}" type="slidenum">
              <a:t>2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D61EE-D3AC-4DCF-ACF6-E05CEEC4C07A}" type="datetime1">
              <a:rPr lang="en-US"/>
              <a:t>07/30/26</a:t>
            </a:fld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je znatno više od prostog skupa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ovi sistema su povezani vez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transformišu i razmenjuju res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imaju svo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podeliti na podsist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CC8-EEE9-4C64-B41B-1952BF44B474}" type="slidenum">
              <a:t>2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B02B7-6FBB-47BD-A72B-9BB03C84FFAA}" type="datetime1">
              <a:rPr lang="en-US"/>
              <a:t>07/30/26</a:t>
            </a:fld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u građevinarstvu reaguju na spoljne uticaje (otvoreni siste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ma u građevinarstvu se može upravlj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 se na osnovu resursa "informacij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D9D-9DA2-474E-83E3-DACC048D612B}" type="slidenum">
              <a:t>2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8B1AC-7A2D-455E-BDF6-76987D4F259C}" type="datetime1">
              <a:rPr lang="en-US"/>
              <a:t>07/30/26</a:t>
            </a:fld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istemi za razmenu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bi upravljanje bilo moguće, treba da odgovara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u "činjenice iz kojih možemo da izvučemo zaključk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e su "značenja koji čovek pripisuje podacim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EE3-5BD2-4A9F-B089-3CE3DABF4822}" type="slidenum">
              <a:t>2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945A0-6095-4367-84B7-E57FB0FC1778}" type="datetime1">
              <a:rPr lang="en-US"/>
              <a:t>07/30/26</a:t>
            </a:fld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tke je potrebno prikupiti, skladištiti i ob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posle obrade dobijamo informaciju koja je kori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st informacije opada sa vre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a treba da bude tačna, dovoljna i pravo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003-1172-45B9-80C9-913A7EF7A73F}" type="slidenum">
              <a:t>2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52CFE-B0BB-4D14-A917-4CBDD0DB547B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šta ćemo vas mi uči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ncipi upravljanja se razlikuju od principa matema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ema opštih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rešit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“snaći 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ije dovoljno znati “šta je predav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znanje ima smisla samo ako se kreativno primenjuje u realnim situ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978-583C-4BC0-B25D-2D246BC339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66EB6-9A57-4CBB-A1E8-1044359CF0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"rovovska" borb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eni su suštinski po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te su suštinske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investitora je da kontroliše na bazi predhodnih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24B-7C33-40CA-BC62-CBCA33E6FC9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113D9-7D73-49F5-A1B7-B119C7956755}" type="datetime1">
              <a:rPr lang="en-US"/>
              <a:t>07/30/26</a:t>
            </a:fld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u upravljanju projektim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 odgovara inter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informisanja odgovaraju učes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govremenost je od suštinskog znač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čunari nisu obavezni ali poma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treba da bude slična sam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A09-A1E2-41E4-9EAB-3E6A08355548}" type="slidenum">
              <a:t>3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E2AD3-2335-460A-A6E6-21C2907EEB8D}" type="datetime1">
              <a:rPr lang="en-US"/>
              <a:t>07/30/26</a:t>
            </a:fld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S za upravljanje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5797440" cy="28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0C0-2BC2-49B3-B79D-49CBFF5F1057}" type="slidenum">
              <a:t>3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EA8F8-8967-411B-8975-B0BEC67D06B6}" type="datetime1">
              <a:rPr lang="en-US"/>
              <a:t>07/30/26</a:t>
            </a:fld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vivaletan je modelu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čari se ne razumeju u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zumevanje da je potrebna investicija koje će se ispla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ocenjivanje budućih organizacionih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sagledavanje potreba za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odr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2F8-0023-41C3-B6C8-4DE2E4288BBB}" type="slidenum">
              <a:t>3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C9EEA-91D0-4CE8-8266-A152D251C3C6}" type="datetime1">
              <a:rPr lang="en-US"/>
              <a:t>07/30/26</a:t>
            </a:fld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budućeg razvoja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kad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log poboljšanja u rukovo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en konkretnom poslovn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budž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0F6-6F5B-4DAF-A7F6-7604563BDA35}" type="slidenum">
              <a:t>3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495E0-F690-417F-B633-735FE926B424}" type="datetime1">
              <a:rPr lang="en-US"/>
              <a:t>07/30/26</a:t>
            </a:fld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e postavk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e podataka su "kolekcije podatak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poslovnu primenu trebaju 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investitorima u rokov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zaposlenima u ličnim dosije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knjigovodstvu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 .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a od navedenih skupova su "tabe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73A-3F30-4A32-A9C5-F9DA354FE48D}" type="slidenum">
              <a:t>3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5FC38-5107-4B6E-8209-CD28DA7FBCDA}" type="datetime1">
              <a:rPr lang="en-US"/>
              <a:t>07/30/26</a:t>
            </a:fld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e između tabe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 nisu nezavi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komuniciraju sa pojedinim poslovnim partne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poslovnim partner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3DD-2F4E-428E-AD8C-E4BB89DA94E5}" type="slidenum">
              <a:t>3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0B383-AE9B-4717-B8F7-1EDD5DDEB950}" type="datetime1">
              <a:rPr lang="en-US"/>
              <a:t>07/30/26</a:t>
            </a:fld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no definisan matematičk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avaju smeštaj podataka na jednom m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u 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uje efikasnu pripremu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uje raspodelu prav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F0F-5EE2-48D7-B3AA-7433CEF126F1}" type="slidenum">
              <a:t>3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41952-B623-40F4-B827-CCB721C4DC07}" type="datetime1">
              <a:rPr lang="en-US"/>
              <a:t>07/30/26</a:t>
            </a:fld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i 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i (qu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ri (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eštaji (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i za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nički interfejs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DD0-9B75-4E9C-8393-260107766DB1}" type="slidenum">
              <a:t>3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0991B-DAB3-4661-88FB-D70685CC30A0}" type="datetime1">
              <a:rPr lang="en-US"/>
              <a:t>07/30/26</a:t>
            </a:fld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iranost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 mogu da budu smeštene na različitim račun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postoje kvalitetne telekomunikacione veze i programi, distribuiranost može biti prozirna (transparent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postojati redundansa (višestruko ponavljanje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univerzalni jezik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D41-AF47-42D6-8F08-20C6B0AF1A4F}" type="slidenum">
              <a:t>3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B65BA-3A21-4447-A320-962455407F2E}" type="datetime1">
              <a:rPr lang="en-US"/>
              <a:t>07/30/26</a:t>
            </a:fld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i na svim sistemima od velikih do mal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pogodan za velike 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ije ne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oji za Windows NT okr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aničen PC i Windows arhitektu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491-3A35-463D-A375-54C5680061E1}" type="slidenum">
              <a:t>3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E2F79-6441-4BB5-A271-FA5DD1B04511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činje završetkom garantnog r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ciono dobro se u potpunosti prepušt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n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ika i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spada u upravljanje projektima u užem smis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E3E-D145-4AB6-8E94-88A635292E9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FE4D6-B395-4631-8D74-9A59D127C337}" type="datetime1">
              <a:rPr lang="en-US"/>
              <a:t>07/30/26</a:t>
            </a:fld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window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 platformom i OS-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ro povezan sa osta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DO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, ali donekle ogranič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dnj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90B-469F-45CE-AD9C-A562026A4F1D}" type="slidenum">
              <a:t>3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77FA6-2233-4C52-82B3-183573B9E53B}" type="datetime1">
              <a:rPr lang="en-US"/>
              <a:t>07/30/26</a:t>
            </a:fld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municiranje između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univerzalnog jezika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tabela u standardnom formatu (d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eč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komunikacioni ka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e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245-05A4-4872-B826-8F9C07B569AB}" type="slidenum">
              <a:t>3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30FBF-936A-4A0B-9192-C33A8DA2BB63}" type="datetime1">
              <a:rPr lang="en-US"/>
              <a:t>07/30/26</a:t>
            </a:fld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ijent-sever konce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"poslužilac (server)" koji je dovoljno "fizički jak" da opsluži više "mušterija (klijent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jent postavi zahtev, server obradi podatke i vrati ih ob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iše se koristi baš z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D5B-6F3A-4513-86C7-14115C1A54A7}" type="slidenum">
              <a:t>3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C3B45-59B7-4CE2-996A-37ECD9CE7202}" type="datetime1">
              <a:rPr lang="en-US"/>
              <a:t>07/30/26</a:t>
            </a:fld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760-33B1-4D4B-907B-1B4F73FFC43F}" type="slidenum">
              <a:t>3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43B42-D958-4AEB-BB05-1D0528B8A7F9}" type="datetime1">
              <a:rPr lang="en-US"/>
              <a:t>07/30/26</a:t>
            </a:fld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jivos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še korisnika (pojedinaca ili programa) deli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unose samo jed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mnogo p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ograničavanja prava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DB2-17CB-41F1-B87E-219CC0EB3ACD}" type="slidenum">
              <a:t>3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3A25C-1974-44CA-9432-81A6976358A8}" type="datetime1">
              <a:rPr lang="en-US"/>
              <a:t>07/30/26</a:t>
            </a:fld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4440" y="2557080"/>
            <a:ext cx="5829120" cy="67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kasan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tren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željenom me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ob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adišt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i jez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e metode ob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ike između korisnik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orjentisani (komand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čunarski orjentisani (interaktiv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ED0-9EBA-45CB-ACE7-E16494B267CC}" type="slidenum">
              <a:t>3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3AFE9-13D9-426A-895C-B3FB80E3436F}" type="datetime1">
              <a:rPr lang="en-US"/>
              <a:t>07/30/26</a:t>
            </a:fld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niza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aljen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vencijal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niž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67A-042E-4C49-8C12-612E7C39B081}" type="slidenum">
              <a:t>3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40A52-BC7A-4ECE-9FE8-8DBA6B840C79}" type="datetime1">
              <a:rPr lang="en-US"/>
              <a:t>07/30/26</a:t>
            </a:fld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viso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izak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tehničkog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ut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viš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AFB-5220-4F87-93A6-AEE7187613C9}" type="slidenum">
              <a:t>3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CF4E4-CED6-49A1-8DC6-8F4EE8958DC7}" type="datetime1">
              <a:rPr lang="en-US"/>
              <a:t>07/30/26</a:t>
            </a:fld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sobnost menjanja i prilagođ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veze za prošir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ćanje performansi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a format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novih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DA2-C882-404D-9A7D-44461259233E}" type="slidenum">
              <a:t>3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694F2-9133-4BD2-B6D3-C7715E282E99}" type="datetime1">
              <a:rPr lang="en-US"/>
              <a:t>07/30/26</a:t>
            </a:fld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grite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dske gre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grešno uneti 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estruko uno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zdanost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kazi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organizacion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24B-6E72-4551-8577-9F295796FD79}" type="slidenum">
              <a:t>3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AB135-7433-44B7-9379-31C71BFA5C88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duje novac koji želi da inves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ra da bude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učesnik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predmet izučavanja u razvijenim zeml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z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E49-A2F6-4633-A091-2D05568328D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02932-A669-498C-9B86-3E0C3B5C80DF}" type="datetime1">
              <a:rPr lang="en-US"/>
              <a:t>07/30/26</a:t>
            </a:fld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htevi 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eira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sanje novog izveš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ti za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i korisnici (česta slab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željno je da i administrator i koris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795-48CE-4497-825A-11AF01F41900}" type="slidenum">
              <a:t>3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6B8E8-8F3B-46C5-8818-1CCA59E7B77B}" type="datetime1">
              <a:rPr lang="en-US"/>
              <a:t>07/30/26</a:t>
            </a:fld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1E1-1694-4A31-BA5D-64278F918A29}" type="slidenum">
              <a:t>3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E5A38-2794-431B-A985-427E1194EB4E}" type="datetime1">
              <a:rPr lang="en-US"/>
              <a:t>07/30/26</a:t>
            </a:fld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traživanje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6E4-B78D-4D2D-9C59-5D2588B9252F}" type="slidenum">
              <a:t>3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6AA74-DED5-46F8-842E-5F3AEC0C89EA}" type="datetime1">
              <a:rPr lang="en-US"/>
              <a:t>07/30/26</a:t>
            </a:fld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vet u kome živimo je baziran na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iše od 95% istraživača koji su ikada živeli još su ž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je verovatno da neko, negde ima informacije koje nas zanim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često, najbolje i najefikasnije je da prikupimo i organizujemo postojeće informacije na drugi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411-8696-4AD5-8350-31A3808FD3B3}" type="slidenum">
              <a:t>3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001E0-93F7-412A-82B2-EE65AF5C13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Razmen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 sada, stručnjaci su provodili najveći deo svog vremena u potrazi za postojećim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bolja pomoć svakom stručnjaku je mišljenje nekog kolege, koji se negde u svetu bavim sličnim pos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mena podataka i komunikacija između stručnjaka je osnova stručnog i naučnog napre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45B-F880-47EE-A0F3-853EE8CE075D}" type="slidenum">
              <a:t>3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A05B7-704A-4628-A025-5C2317EB8F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re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biblioteke bile najvažnije institucije za prikupljanje znanja koje su stručnjaci korist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iblioteke su bile među prvim institucijama koje su počele da primenjuju informacion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važnijih prodora je bilo pretraživanje bibliotečkih kataloga na daljinu, obično uz pomoć mo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B15-CC85-4F6A-8F48-B0CB284C57FB}" type="slidenum">
              <a:t>3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80B32-F64A-45AA-99A6-4052C3541D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očeci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ternet je nastao kao istraživački projekat koje je finansiralo USA ministarstvo od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lavni cilj je bio da se obezbedi da različiti računari rade zaj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aj cilj je postignut tako što je obezbeđen način za komunikaciju između račun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3DE-616E-4D16-B3E6-49A45AC2FCC2}" type="slidenum">
              <a:t>3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15E96-6193-4EC0-802B-C8D6CF05D8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irenje Intere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straživači koji su radili na računarim koji su međusobno komunicirali otkrili su da je to veoma kori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 prvi put, računari su postali sredstvo za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 akademskim sredinama elektronska pošta (E-mail) i razmena fajlova (FTP) su počeli da se koriste kao najbolji način za komunic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40D-B6E2-4DE1-A479-A8ECDA729066}" type="slidenum">
              <a:t>3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87F17-923A-4A6D-908A-2134360C60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i WE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WWW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 je kao standard definisan 1989. u CERN-u, Švajc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ostavio svoju web prezentaciju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roglas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ao svoj glavni priori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995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, komunikacija u poslovnom i akademskom okruženju je velikim delom bazirana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DE0-93A2-4059-BAB9-EC2AEEB7345E}" type="slidenum">
              <a:t>3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A5FD5-A5A3-4A1E-8BBB-FD7A6E1FA6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Podaci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14440" y="2285640"/>
            <a:ext cx="4743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br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veća svetska kolekcija svih vrsta podata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a 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oš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najveća svetska kolekcija svih vrsta podataka, koj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FCA-8AE3-4A92-A500-FBE4C9138E20}" type="slidenum">
              <a:t>3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BF26E-906C-45A9-B78C-9BB06E0E99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A76-FFB5-4E99-A1F2-3112EE8DBB1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1DC71-3D8D-4393-92AD-06327A948CAA}" type="datetime1">
              <a:rPr lang="en-US"/>
              <a:t>07/30/26</a:t>
            </a:fld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22640" y="6858000"/>
            <a:ext cx="2835360" cy="3048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leda ka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omna biblioteka, u koju gotovo svako donosi gotovo s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otovo svi podaci su tu, ali niko ne može da nađe ništa, zato što biblioteka nije uređena, odnosno nema kata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ožemo naći neke podatke samo ako znamo gde su ih naši prijatelji 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9AC-AC2C-4FFB-9F33-394F1503EB47}" type="slidenum">
              <a:t>3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63B2D-CE5C-4CA4-B33E-AD1DF3532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Al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kompanije su formirale sisteme za pretraživanje i katalogiziranje WEB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zultati se takođe objavljuju na WEB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akav tip servisa, ako je dobar, može privući mnogo poset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klame koje posetioci vide i njihovi lični podaci mogu da ceo posao učine profitabiln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0C5-304C-45D0-BCA4-97D4221B0711}" type="slidenum">
              <a:t>3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570F8-9FE7-4B63-AA87-7DFD4E449B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Tipovi kata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granata struk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ma predmetu interesovanja, lokaciji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aza podataka sa pretraživanjem ključnih reči i celog tek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pecijalizovani katalozi koji sadrže važne adrese (URL) u nekoj oblasti (građevinske mašine, univerziteti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0A6-8235-4499-99E1-B6111136196B}" type="slidenum">
              <a:t>3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E4B9A-B699-4073-8852-0A555C5BCE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Katalog u obliku razgranat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ako vam tre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organiza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o poznatog proizvođač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davnice, akademske institu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dobar ako vam trebaju podaci o nekom posebnom pitanju ili iz nepoznatog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AC0-ADD4-4E09-BCCD-F8A13A341B82}" type="slidenum">
              <a:t>3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E326A-09BB-440A-9980-C4182A65FA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52280" y="2527200"/>
            <a:ext cx="6553440" cy="60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DBD-F24C-432D-A308-2DE09F79796E}" type="slidenum">
              <a:t>3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CB783-511C-471F-ADE9-3B302E454F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e ako vam trebaju informacije čiji izvor ne znate ili podaci o veoma specifičnoj t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efikasni ako vam trebaj adresa poznate kompanije ili institu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zahtevaju korišćenje složenog jezika za postavljanje upita, koji mora da se posebno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ta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ltaVist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30A-F328-48BF-954F-879F381295E6}" type="slidenum">
              <a:t>3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4BB0E-AF96-4791-B2CF-E6A6804EAD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taV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1360" y="1847880"/>
            <a:ext cx="6534360" cy="64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241-C2BA-4594-AA99-699FA4F3AA65}" type="slidenum">
              <a:t>3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0D3D3-2E8E-474D-A563-CC7C3EBD03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Specijalizovani kataloz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izvor podataka o važnim URL-ovima u nekoj posebnoj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graničeni svojom posebnom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eoma dobar specijalizovani katalog za građevinsku mehanizaciju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to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65B-9305-42DD-B8F8-F1C5791A3DB6}" type="slidenum">
              <a:t>3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92F7E-DFB9-41D4-AAD4-2B1DAEB619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82440" y="2647800"/>
            <a:ext cx="662328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469-C6E4-4D88-AB06-31D296CE35E4}" type="slidenum">
              <a:t>3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D2A6D-A875-4AD0-915E-19E6690187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reni pretraživač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aktično sve lokacije imaju neku vrstu internog pretraživ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ebno su značajni kod kataloga u obliku razgranate strukture i specijalizovanih kata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lakši za upotrebu ali i sa manje mogućnosti od pretraživača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8EF-037A-490B-9BEF-910062F9F4C8}" type="slidenum">
              <a:t>3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60473-BF52-4654-8FAF-37760DA88A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obavezni učesnik u projektu (uz investit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biti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običajena uloga jugoslovensk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ično neinteresantan u zapadnom sv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mu je podređen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6D4-F32C-4A88-AE4A-7E1A3E55C67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4CFDA-DCF3-45D1-A0E2-2E4DFED3009E}" type="datetime1">
              <a:rPr lang="en-US"/>
              <a:t>07/30/26</a:t>
            </a:fld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men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lično telefonskim imenicima, postoje i Internet ime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adrže obično E-mail adrese korisnika, koji su ih sami uneli u ba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toji opasnost od dobijanja neželjene po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popularnijih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g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foo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1C0-2C28-44E4-824D-7EE4C38FCA22}" type="slidenum">
              <a:t>3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5E72A-2267-4413-9893-022CF2823B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65534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973-11D2-410E-AB2B-BD804BAF8F4B}" type="slidenum">
              <a:t>3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7CBE6-7F9A-46FF-9F93-AF7CD6F30A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askanje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firme nude sisteme za časkanje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 sistemi obično omogućavaju potragu za korisnicima prema želje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o je vrlo korisno ako tražite ljude koji dele vaš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renutno je najpopularn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c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770-B004-4703-8553-8D27B75B317B}" type="slidenum">
              <a:t>3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C0354-7094-47C3-888B-6A8E7C9127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646128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E22-7B10-44E7-A8DC-E32EAB813C43}" type="slidenum">
              <a:t>3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0BF0B-329A-40F3-A7C5-D2C1D31583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pšti save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proizvođači cementa u Italiji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članci o merenju specifične površine cementa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taV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 neko u Nemačkoj, koga zanima upravljanje projektima u građevinarstvu, korist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71D-DCB8-4C7F-9B0D-97D4EF843C0A}" type="slidenum">
              <a:t>3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ACE2E-2588-47C0-B4EC-7A739DE186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realizacije projekta sa stanovišta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627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C24-9917-4391-BA72-D5C3962B172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5F292-890D-424F-A9EC-B3369AF8511D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fa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 i VII se odvijaju kontin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I-VI su vezane za konkret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6005520" cy="14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189-54F1-493D-861E-8813FB42838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D6806-B292-43F9-B988-4E1444BC1021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05C-18B9-4E0B-AF2A-FA79F31F947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5901B-5237-4DA8-B3C2-7E3ACE2523E6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u toku realizacije projekta (II-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nije detaljno raz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ali za razmenu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š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C7F-7763-46D0-87B5-CB8A8A72BE8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B62A4-5BAF-4A9A-85F7-2609BE47C891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t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CB3-C327-42DF-9DFF-DE5C0D6F168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6FB08-00AE-4E7D-8526-396B0F595E9A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studirate Građevinski fakult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64008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2BE-97D9-4C28-9BAB-FB67E69DC22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1DCBE-B431-47AD-A8F4-E65A5EEEC5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a II-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edene i naplać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ak resursa i tra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i efek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čki podaci o mehaniz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jena tehničko-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 i 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5F8-B5AB-4FCA-A58A-6A3B9ADB62C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89748-D8DD-4F80-B5FC-AFD098486A0C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ljive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ljn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trašnj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88D-8AAD-4B96-9D71-788D771B9C0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70DFA-E60E-4767-8E50-36F5715D26F4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ljn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kteristik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a i trad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odred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pore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AC8-F478-4295-859F-3A1BE5281FC1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AAAE8-EE08-4D2A-8415-B869E814869C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trašnj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ja i ciljevi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nivo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čin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EDD-9FB7-4B83-B4B1-2CA5A1C56E6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AC1A9-D964-4C5A-9F9E-F38CE9609A75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cionalne (klasič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o-štab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rem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o-tim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D12-83D3-41CC-AD0C-953A236662A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E7314-8120-4DA1-AEDA-AE21EE306184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06400" y="3146400"/>
          <a:ext cx="52056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3146400"/>
                    <a:ext cx="52056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9E2-49CD-4E32-A367-DE9DCCDD883E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2DC53-5F3C-48B4-9B57-A69EA7A013D4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20720" y="4602240"/>
          <a:ext cx="53881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4602240"/>
                    <a:ext cx="53881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F16-5EDA-435E-BC53-869ACA69D7E4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290D8-6C8B-4A84-8C22-DBB3C5A00C1B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o-štab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5560" y="2631960"/>
          <a:ext cx="441792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631960"/>
                    <a:ext cx="441792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4BB-C40A-466C-A597-9B8C5481E95E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79159-C3D7-4ACA-A1F6-D43ACD9C4255}" type="datetime1">
              <a:rPr lang="en-US"/>
              <a:t>07/30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o-tim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49320" y="4653000"/>
          <a:ext cx="49309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653000"/>
                    <a:ext cx="4930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A28-713E-4E00-90E0-89E9EC9D202C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7CE6C-9CA7-4830-811E-036B5A135063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t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20880" y="4633920"/>
          <a:ext cx="4986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633920"/>
                    <a:ext cx="4986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FC9-F0D8-4210-87BA-BF9859478B08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83D68-2BA5-46F5-8D1F-704EA612B06C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bog nauk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4880" y="3079800"/>
            <a:ext cx="51210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834-E545-4F44-BF8D-6001B246595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6D185-0870-4BB2-A8A1-6C7C949497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čna organizacio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5960" y="4322880"/>
          <a:ext cx="55958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4322880"/>
                    <a:ext cx="5595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EB0-ABE9-46A2-B73F-B7A6B2E350E7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5113A-5B64-4D4F-8C0E-A86450DA6990}" type="datetime1">
              <a:rPr lang="en-US"/>
              <a:t>07/30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fir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343400"/>
          <a:ext cx="60325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3400"/>
                    <a:ext cx="60325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B6B-1A11-4D63-BE38-42CCFA0E3783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18D67-0E59-4057-BE24-4248B30FFCD7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004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1600" y="3071880"/>
          <a:ext cx="478800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3071880"/>
                    <a:ext cx="47880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24A-6417-4D5D-91BF-03C412BFC2B6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EC12E-D480-498B-93D9-F9DFCF0A5F8D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971-B34F-4F55-97E7-03D6D29A7451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32437-878E-476E-B303-33AF07D5489C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5E7-7BD0-4E8F-90FA-ABCD032DE0D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D5908-0079-46DD-8256-F21AB600FF08}" type="datetime1">
              <a:rPr lang="en-US"/>
              <a:t>07/30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odac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andar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prenos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izvor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format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formalni ka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struktuira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o pisan soft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293-2562-4B27-8F87-FBB9293DEB0F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544EA-5849-417E-864C-B56111222043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 asortimana po sli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733-2FC2-449C-9D5E-7654C9D065A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D8920-EA6B-4BC1-830B-D616A5F7BE47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geološk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150-2144-4687-8C88-7922A7EB0D0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BCD79-05FE-4C9E-B9A2-FD6C494D2307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519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69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ne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3BC-80D6-44C4-852A-8BC7610A06B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5A93E-02F1-4AA8-A19A-9B10634B6250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1440"/>
            <a:ext cx="65530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naš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80A-7B5C-4352-8E16-2042BDD0095D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40105-63CF-4217-97E9-A707DFF235EF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to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želite da gradit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26F-B346-4B04-8EEE-1CAAC0DBE50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ED78E-2239-4552-928C-4DD3B5E071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ursi za izradu predinvesticionih studija i projektne dokument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nkursima za konsultantsk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oslovima u kućama koje se bave predinvesticionim stud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razvoja velikih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C34-8FA7-4753-836B-23044AF04E6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A3916-E533-49CC-A3AE-AFFCDCD33E11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e informacije investi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BDC-6694-40AC-A90B-365D27F395DD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3518A-BAB2-47AE-A741-C3611CE66E4C}" type="datetime1">
              <a:rPr lang="en-US"/>
              <a:t>07/30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F4D-0A47-46D0-8DCD-86D89B80E8D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7940F-7DBE-457C-95F0-09E55492677D}" type="datetime1">
              <a:rPr lang="en-US"/>
              <a:t>07/30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80460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2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nski propisi i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8E3-00EF-44FC-930C-785B63F21DE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182B2-1037-4DFC-9F1C-6CD3D0312782}" type="datetime1">
              <a:rPr lang="en-US"/>
              <a:t>07/30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FEB-130A-4887-9AA3-BA47D77C10C1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979BA-262F-4F07-956D-FFC039ADA61B}" type="datetime1">
              <a:rPr lang="en-US"/>
              <a:t>07/30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853-756E-43A9-BFA8-33D5F697EBDA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C554A-8583-47F4-AA19-DAF247AF8802}" type="datetime1">
              <a:rPr lang="en-US"/>
              <a:t>07/30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dužem vremenskom peri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poslednjih godinu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651-F97D-49B6-A9BC-F6E44A40DC5E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B36AE-714B-469A-83F1-3010D3CA0DCF}" type="datetime1">
              <a:rPr lang="en-US"/>
              <a:t>07/30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velikih izvođača i/ili pro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s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 (predstavništ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DA0-F201-4DC4-9600-1D68F83CBF93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625CF-1632-4D28-94D4-73AC638C5A4F}" type="datetime1">
              <a:rPr lang="en-US"/>
              <a:t>07/30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bonitet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rukovodstv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pljeni ugovori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ugovora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BE7-1C28-42DB-B81B-35A3BDE626DF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8DCC2-E46B-46CF-AC7E-44CB27A76C75}" type="datetime1">
              <a:rPr lang="en-US"/>
              <a:t>07/30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654-9C9D-4DFE-BC68-4E2427C2E99F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594CA-AF65-4CBB-B44A-F6A2DDCE35ED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to što volite posao inženjer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35FC-5678-4B3A-941F-1F381B15E6E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48141-9178-4CC5-9ECF-773F5747B8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576360"/>
            <a:ext cx="67053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o istraživanju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sak mogućih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stanj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neformalnih konta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skupljačk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a je š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a mogućnost pre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BF4-F893-4407-B0B6-0ED7B5124950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A672C-961B-4466-8566-82543584BF5B}" type="datetime1">
              <a:rPr lang="en-US"/>
              <a:t>07/30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E72-CE71-4E7A-8DBC-DAA3F691B809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1BAB2-3AE4-407E-AB92-71523AD08917}" type="datetime1">
              <a:rPr lang="en-US"/>
              <a:t>07/30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5D7-141F-47B5-840D-E42A81A81904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1C930-F39E-4E6E-911C-FD84B3C74C58}" type="datetime1">
              <a:rPr lang="en-US"/>
              <a:t>07/30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obave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ki su projekti gde ne učestvu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svega ga angažuje investitor koji nije sam dovoljno osposobl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da ga angažuje i izvođač, pogotovo genera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poznatije međunarodno udruženje - 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239-5568-4491-AA9B-8E774F6004F3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D586B-3B3C-4FD8-81D4-D1F2AB15BD93}" type="datetime1">
              <a:rPr lang="en-US"/>
              <a:t>07/30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ljanje posla na visokoj profesionalnoj i etičkoj os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samo zadataka kojima su doras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je veliki dijapazon usluga, od ličnih saveta do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je uska specijalizacija ili široki repert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918-9E85-4EFB-9A6F-7114179CA2F6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5B2B9-2E9C-44B7-9643-F3EF330FF710}" type="datetime1">
              <a:rPr lang="en-US"/>
              <a:t>07/30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prihodi smeju da budu od honorara koji isplaćuje naruči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že učestvovati u poslovima ili imati finansijski interes koji može uticati na njegovo stručno miš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C88-6D0F-4660-B618-2DB9D2237D55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269FE-A9F9-40B5-87F3-764F2210D83F}" type="datetime1">
              <a:rPr lang="en-US"/>
              <a:t>07/30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1947600"/>
            <a:ext cx="5829120" cy="71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hodna istraživanja o uslovima za gradnju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h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 i mogućnost plas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i stud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kti primene naučnih met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DDE-3B99-40AC-A848-AF90D0FE52B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35148-232B-4952-ABFC-405124CFE476}" type="datetime1">
              <a:rPr lang="en-US"/>
              <a:t>07/30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 praćenje razvo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zaštite i unapređenja životne i radn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a i vrsta ener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studija rentabilnosti, ekonomskih i finansijskih pokazate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da podataka, investicioni programi i projektni za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C69-C3B2-4482-8FD1-AFBF8E709882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84B14-B37A-4B4C-8DEB-D5ECA4A9761C}" type="datetime1">
              <a:rPr lang="en-US"/>
              <a:t>07/30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6334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radom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nje podataka i dokumentacije za ustup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vođ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i usklađivanje rada učesnika u izgradn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investicionog programa i finansijske ko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F0B-5F94-4E92-827B-6F5E977E8F08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D1A54-7496-4701-A073-7950A0E55230}" type="datetime1">
              <a:rPr lang="en-US"/>
              <a:t>07/30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omoć tokom primopredaje objekta i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funkcionisanjem objekta tokom probnog pog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B2A-1C05-43A1-9419-32EFFDD27352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B54D6-030F-43E2-97F6-CA9E838DAEDB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bog diplome i status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503892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103-2519-4EA0-80D6-DC6C0E2D535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1BB76-EB0A-48B4-877B-F51E2D006F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gućnost učešća u više u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ziju projektne dokumentacije ne može da vrši projektant i/ili 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stručni nadzor mogu da idu zajedno, ali ponekad nije preporuč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ja varijanta je projektantsk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11E-A704-4C6A-A581-2F029485DF4A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63544-5A76-449A-AA5D-7B6DB5EF81DE}" type="datetime1">
              <a:rPr lang="en-US"/>
              <a:t>07/30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FIDIC-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4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davne uloge (Counselling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e usluge (Pre-Investment Stud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uge projektovanja i nadzora nad izgradnjom objekata (Design and Supervision Services for Construction of 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izovane projektne usluge razrade i razvoja (Specialised Design and Development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 (Project Manag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FE3-C018-4807-89B8-5117987C6352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E8E4B-1352-4A7A-BAAE-D06B562F319F}" type="datetime1">
              <a:rPr lang="en-US"/>
              <a:t>07/30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vetodav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4440" y="24048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anje sav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inui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osebne projekte i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asti savet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ranje i kontrola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upanje pred sudovima, komisijama i drugim pravnim te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1A1-4A31-4885-8035-E98AB3FFBB23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8A649-1CBD-459C-AD72-34B51C25559E}" type="datetime1">
              <a:rPr lang="en-US"/>
              <a:t>07/30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investicio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e za donošenje odluke o investir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investicione poli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glavnih karakteristika i opravda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promena u politici, radu i organizacionim reše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136-B733-49FC-9D03-71198AC1F806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C1D52-B12E-4754-8210-B9486A9ED315}" type="datetime1">
              <a:rPr lang="en-US"/>
              <a:t>07/30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projektna f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prav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ci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a i definisanje zahteva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i optimizaci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a i istraživanja gradilišta i ostalih fa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DFF-7AC7-4148-86EB-5D02D42DC9A1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F51BB-8A49-4EBB-8800-3B4B0EE307B1}" type="datetime1">
              <a:rPr lang="en-US"/>
              <a:t>07/30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3477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440" y="21337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kulacija približnih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ristupa gra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b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ident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jalni pregledi i test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51E-11B9-4286-8884-D70A23D3949F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5F579-D4F7-45E1-86A5-C01EFD39EF8B}" type="datetime1">
              <a:rPr lang="en-US"/>
              <a:t>07/30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9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cijalizovane 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proj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i obrade sir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a automatskih kom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ažne z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j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ršeni rad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 gotov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FDF-D858-4D96-A7CF-AC0B995CBCEC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5FDD2-E7E7-415F-808C-A8147310C290}" type="datetime1">
              <a:rPr lang="en-US"/>
              <a:t>07/30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zacije resursa i njihova koordinacija da bi se postigao investitorov cilj u okviru plana, bud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a 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jen nivo poslova i odgovornosti između investitora i konsult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 zadržava pravo odobravanja i revizije ključnih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EB7-32AA-4C1E-9C0B-AAF5809E111F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684F9-EF96-4CBE-B51D-294F63804316}" type="datetime1">
              <a:rPr lang="en-US"/>
              <a:t>07/30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1800" y="271440"/>
            <a:ext cx="626760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nicijalnih stud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aživanje mogućnosti plaćanja zemlj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govor sa potencijalnim suinvesti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moć pri rešavanju imovinsko-pravn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sa raselje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ovor sa budućim sta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D6A-B7DB-4EA7-B4C8-D3CB2D250334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943F3-8BF0-4465-88C1-E94E26813A51}" type="datetime1">
              <a:rPr lang="en-US"/>
              <a:t>07/30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budžetskih troškova i izrada studije opravdanosti z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crteža kojima se definišu idej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o planu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iranje baze podataka o sastancima i drugim aktivnos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a idejnog rešenja prema željam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zivanje i presedavanje sastancima o realizacij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3F4-EC4B-4A52-B43C-001891F4C4CE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6C9DB-C45A-437C-9277-74DFAAFDA982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 bi izgradili svoju zemlju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63723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4A4-F059-4648-904E-90C48526823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EB279-DA8D-41CD-B9B9-A74DB6F5A6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dospelih zahteva projektanata i izvođača za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idejnog rešenja i podnošenje investitoru na o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isanje investitoru o predlozima za skice i crt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izvoda iz dinamičkih planov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straž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zij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ostvarivanja glavnog plana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606-7855-4EFA-A858-D7D723827FED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E6A34-A5A9-4181-A6EB-98819D3FB3AB}" type="datetime1">
              <a:rPr lang="en-US"/>
              <a:t>07/30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realizacije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rojektnih zahteva i zahteva za dopunama rukovodiocu projekt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o izmenama glavnog plana radova i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visine naknade za kon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utovanje inženjerskih i tehničkih rešenja iz projekta sa izvođač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nominovanih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8AD-9849-4726-AB09-4FC012D04179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D278B-CA44-4564-9658-A9A162D4D57C}" type="datetime1">
              <a:rPr lang="en-US"/>
              <a:t>07/30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mesečnih izveštaja investitoru sa procenom finalnih troškova i roka završetk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menovanja i obezbeđenje angažovanja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ovanje dopune plana troškova i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komponenti i materijala koji se ugrađ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šenje konačnog predloga projekata i revidovanog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činjavanje liste mogućih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leđivanje tenderskih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EA9-A517-494E-948F-24693C90F7DE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A7A22-3250-4BE0-B84D-E7F95D5665DA}" type="datetime1">
              <a:rPr lang="en-US"/>
              <a:t>07/30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obrađenih tendera i zahtevanje dodatnih obj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predloga za izbor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iranje ugovornih dokumenata, sračunavanje potrebne garancije i obezbeđenje pristanka investit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ovanje pravovremenog naručivanja komponenti sa dugim vremenom ispo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ertifikata o osiguranju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nje procene izvršenih radova i rad na pripremi konačnog obrač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933-E4D3-4B5A-AAF4-E75D81FB8746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A0969-E817-409A-A506-EF1DB642B4F0}" type="datetime1">
              <a:rPr lang="en-US"/>
              <a:t>07/30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naloga o izmenama i instrukcija 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na izmene u obimu i vrednosti koje su van njegovih ovlašćenja i regulisanje potraživanj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vljenje klejmovima u vezi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agla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za produž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o primopredaji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da li su nedostaci odklonj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835-35F8-4304-B3BB-226C70E3202C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C82C1-4EE8-492D-AE62-33183D6F6B9B}" type="datetime1">
              <a:rPr lang="en-US"/>
              <a:t>07/30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04960"/>
            <a:ext cx="655344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7760" y="3012840"/>
            <a:ext cx="5829480" cy="59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vremeno reagovanje na rana upozorenja u toku realizaci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realizacije programa opremanja i obezbeđivanje uputstva za održavanje i skica izvedenog s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9F5-8F4B-4E7A-84B3-BE7C3E20254A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D8FC5-2582-4BD1-B16E-FD19B970BF80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vanje klij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rukovodećeg projekt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ažovanje drugih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ovi za predhodne iz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i odobravanje troškova i programa rada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koji se direktno ugovaraju sa investit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enovanje nad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217-E865-4806-B975-E17F2386B3B2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CE8A7-B27B-4973-A76B-7E2C71EA9C8D}" type="datetime1">
              <a:rPr lang="en-US"/>
              <a:t>07/30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ivanje i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posla u projekt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 informacije koji dostavljaju konsultanti i projek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 o proceduri izvešt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FE3-21C9-4856-9890-E1AFDAF15C47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15D79-FE3F-4F26-B65A-C7F69FBE93B2}" type="datetime1">
              <a:rPr lang="en-US"/>
              <a:t>07/30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ovanje učinaka projektanata, konsultanata, nadz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zivanje i 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sa pr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rdinacija zahteva budućih sta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78D-B1A7-4B0D-AA1E-853C773E13B2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CC858-79F7-43B7-B92B-C3E1DA0923A4}" type="datetime1">
              <a:rPr lang="en-US"/>
              <a:t>07/30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etaljni, nego se pozivaju na predhodno navedenu li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toje se od dva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28E-19A1-4C76-9662-290382AE43DA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4ECB7-07E8-42BA-A8E5-037EE9953184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0:38:17Z</dcterms:created>
  <dc:creator>Zoran B. Djordjevic</dc:creator>
  <dc:description/>
  <dc:language>en-US</dc:language>
  <cp:lastModifiedBy>Matej</cp:lastModifiedBy>
  <dcterms:modified xsi:type="dcterms:W3CDTF">2008-01-12T12:04:32Z</dcterms:modified>
  <cp:revision>21</cp:revision>
  <dc:subject/>
  <dc:title>U čemu je razlika?</dc:title>
</cp:coreProperties>
</file>