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F6E-4BBA-4C36-A6A1-70957BD129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6CB-95EF-4937-BF17-3FBA7BECE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3012-0CE9-4BD9-B4A6-6478E8D2C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E516-43EC-4C16-A02A-4760E16117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EE2-275F-4F5A-8A5E-CC5308C3B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473-327E-4B55-87C1-D3DCAADC76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2CC2-56B4-486E-A19F-C2B306DC41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7C19-3433-4B9C-90BC-5DC4200955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D6D-93AB-4571-9ADA-0C57574C17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3002-2176-48F1-A6B2-93E67287E1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34FB-B56F-4946-9E1C-95EA36B2EE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22B-87E4-4838-814A-41C0480526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B4C-A8BB-467D-8B96-5684FCCBD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D5F9-CD58-4F94-8115-A9F62C8B2D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7EC-C1F9-4BCD-9788-95176EE5B0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DA35-3FCD-4E9A-A178-A763B3423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DC50-B416-4BF1-ACDA-FC70ADAB7A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02B-BEF5-4216-98F2-E7FC6D22FE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DE01-4669-4F3E-9879-6B2B3BD6B8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D248-F9B4-4F52-8756-505B18C8E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CEB3-66CD-4C93-9DF8-9754B67FA9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E7E-2ECF-495F-AB65-B3AF6E78CA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103-F1B5-488A-AF1B-B82BB1D40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B359-8CAC-4CB2-B150-0DD0D7827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889-FCF4-4CB5-B811-9AA0C6FE48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560-1831-4750-A246-EAF72BC2A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973-8252-4CD7-B71E-18FEEC5943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336-06D9-4356-8B15-9294EE3E25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61F-C5D4-4340-8C5B-CBB97B82F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BE2-DA31-4E32-9A6B-6A9E09B41A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A67-4485-4B35-9316-96E3254FBB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D96-BFBB-487E-A69F-49A1CD09B6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E79-74EB-40C4-B056-FC79B1122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AB00-87E9-4EFC-9B0D-60E8A5307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041-24A1-4783-8299-1E8ED1212F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29C-8FB1-4B15-A435-E58CA20EC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EE5C-FCBD-4CA0-9AFE-8BE7CD211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1F3-DED5-4B8A-B991-262978999A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2417-22B6-483C-BA15-2CB4BDDA64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6BA9-23C6-4CA7-8B54-7E6AAB68FD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FBA-107F-4DD9-BD07-82CC3AC87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178-18A6-4191-A5ED-E56755B11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CB5-E415-44B5-86DF-016C1D3D54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486B-C263-4F83-A23F-56895085A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3254-BB16-4863-9292-ED9EE48827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182-7BB7-4BD9-8818-DA0A6D3DF8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18D-E639-41FC-8CFF-6CD373CE0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93E-8C49-4B73-BFD2-D15706E593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934-80D2-432D-A6DC-307A686BC4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712-9B7D-4FC1-ADCC-7D778C801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041-EA0B-446F-8BE8-35C4464022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9C96-610D-4D14-878E-DE02EBDC55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BD1A-FE02-4DC7-A28F-D18A760521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C5B9-F4EC-4CE2-8BAC-7E340B78C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A89-BED3-4326-9DB1-D59C137F1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7FE0-DC1F-416B-8DF6-8CBDF9B6C3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A19E-376D-4D76-BEC9-8D566D30D1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1C1-E8BB-4DC1-9CEF-A07B31B670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82B1-E423-4168-AF8D-C6A1064D6C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7C7-96BE-4D29-B5FF-00DA131C4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7D0-4B31-40E1-8CAB-560C5C4AD1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8AC-B8A2-4DD4-9C0B-77C9C4AA8D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7F5-10FE-47D5-94E5-A27BC6E686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0EC3-FFC7-426D-95C8-33CC33571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B87-99AB-4AF6-A8C1-9A2BB12F88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754-7DBD-4550-A64F-921C2C6782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0B1-22FE-401F-A87C-31B33CF2F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8BAA-1310-40DA-BEE6-07DC06C5B0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CF7-47F8-4FA3-BF1B-57172FD333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E74-D546-4083-8394-F21329A91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FF14-5FE0-4F02-9C9D-46AA76E379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01B-A2F8-4061-98CE-A2EC8D75E8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DF4-6CAE-426F-B8FE-3E337C972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532F-81C7-4E78-99DA-948759A41E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C96-16CD-4D6D-9A9A-2A3A38F481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6F7-3F2D-4563-9BB5-449A84572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F21-B735-48CD-BD97-31596C69D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6E2-3DB7-4020-AD44-2397B7C4C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7E0-C0C9-431B-84F0-C1D9DA5688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4B8E-AC39-4240-958C-E501013CC8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88A-020B-4AC7-880A-72B80653FD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449-0BC6-427A-86CF-6231C578D6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3E1C-ADAB-427C-9BA8-982799C32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DD2D-263D-4C5A-9009-0AB1CF469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5735-31A9-4AD3-8872-7EC84FA2EC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A750-8319-46A1-AE85-13210B8597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1013-1286-4A96-93E1-42BC4D795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0A0-86CA-4AE5-97E3-D37EC9AB10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81C-2F3E-430E-B201-C00A0A393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57B-58A2-4008-A242-9CCF41BB2E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D0E-AED1-4EA8-BB63-B378AE881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0051-B3AF-4E07-A663-5246F07F1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E96-6FBA-4C17-968E-623C6EF9A0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B74-15EA-44CF-871B-E6DB29FD7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2909-324D-4ABF-8C88-293E6197B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E96-5F8C-404C-B0FE-2F0A81A0E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816-9630-4714-AA3D-B0DCE23CD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B3AD-0772-49E7-9078-69BAC6068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860-B240-4B6E-B617-2AD97CA6E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DAA-303B-40EC-B652-25CF37347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72A6-97E2-4039-84B0-2E4C5E402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429-C326-42D2-8220-E747701F8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92F-349B-4356-91A8-CFF4EC836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057-B318-401F-A341-C5EED1D3B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9E5-B3C4-489F-BDE3-E93166243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619-804D-4000-8823-18C8A2340A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1B5-764B-4CCA-BF21-1D111FB106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E650-BB99-4926-BB22-05ADFA639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71C5-3335-419F-9178-52548D5B2E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9A6-ED2C-4E20-9F2C-43503786AD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1E77-9D31-45D9-B4F7-B57345A8D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CF9-5044-44BA-87A1-040F7F9E0E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08E4-C333-4F91-BF90-1C6D82951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2FF-A92A-4CFF-AFE3-9D33B80AC4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80C-81F2-4823-9865-A526795935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5FBD-D2E1-4FE7-8A59-9E5DAF7BEF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F5B-28BC-4492-8247-473037513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2950-6941-4C0A-9877-D8AA74682D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9738-21A4-4406-ACD7-EB3FA779D8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A32-9731-4C39-BB80-E95545984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DF26-EB47-436A-8DF8-6D058AA474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55E-0C18-437D-BA24-C7A5955ECC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7AA9-F32D-4708-86F8-320316B24D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2CB1-F489-4151-9A12-F915CECA12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8C5D-9A34-4405-A8E4-68DCE53B4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F8C2-DA00-46B0-8DF9-4867CE7052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1D9-CA1A-477E-83C6-F270DF46E3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D66-F7EA-4FC7-B43B-4CF68E8E08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F46C-D5A1-4A36-A740-A0CD1F0D34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9293-D28F-46C2-BA3E-27B776FEB3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1CD-1C38-4F0C-B3FF-035A62479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8CCD-12EB-4B6D-BBFB-DB20DB41A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6E2A-943F-4B74-A92D-B650AED98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343-3749-4B2B-88E3-2FCDC06F7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7C7-2446-415B-9FF1-B229D997F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2BB3-7AE8-4BFC-B6CF-5FE238E459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D31-7AA9-42EA-893D-C3D01CBC52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C6EB-DCFC-466A-A19A-524FE094C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A369-9770-4862-AE5D-D50FA0AB6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E63-6B26-4743-8247-C5B0CDBA5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409-F7FE-4B12-9441-5D49388B9A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4FDB-30ED-4D12-9EEB-996DBF93D3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2948-B0C7-4EB8-B7E9-A91B5BBA5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9D0-881A-429A-8270-24E5ABD8B9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E13-B0BA-4CC4-B443-477F1D2E98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AF1D-1A31-405E-8631-ABF5D8AB54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371-0AAC-4559-86F1-98C83487E1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75E-3B17-45E6-8B72-11DF0282B9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D588-8757-4444-BF93-ACAAD5893D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1A81-287B-4CB9-AC3C-17806589C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E01F-0607-41CE-9D07-008B5248F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2C9C-5ADB-4B67-ABEF-6FA6C5573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8FB6-47A5-404E-A8BA-2EBD65D1B4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19C-0004-43DF-AD6E-3DA4B8714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967-8005-4C38-A5DC-1325236639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B46-4895-4C9C-92CC-9F831ABE5E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213D-7A77-4FFF-9EB2-7F2AE94CE7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EE7-2B69-4B61-A8B4-6C94F15EE1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5E3-9891-44AD-9C36-B0576696C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E15E-5840-42BA-B9C1-3A0631F04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3F7C-5A9D-48BE-BF59-AFACB3EF2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AC61-77CF-49DA-B066-C1634980F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A2D-B7E2-4AD6-9B12-242BFCF7A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850-CDD5-4E36-8FF3-0DC0FD0FD2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E4B-64C0-4DED-8DDE-FD17E7D6E5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0FCE-4909-413F-982D-47DD9DF741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13FF-909C-42DB-B252-1BF42D8363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A67-7999-411B-91AF-632E2C52F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169F-B6EA-4109-9F9B-29943A0DB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6EF5-DD9C-4404-B0C9-7F72A63769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485E-069F-43F4-A47E-B3A6C300A2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F3F4-3099-49DF-802D-38BF36BC5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AD2-EB72-4847-96C1-4DD582BBB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9F8-463E-46E6-8269-89363DD871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C49-0C10-4E69-8150-014BD9DF5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4A9-CF0F-4A82-B107-65B59BC85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541-54EA-48D5-BA94-6E9E783F0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E01-4C2E-46A3-AC90-C111909A3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E39-6131-41CA-B9E7-FE75E3B78D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F04-701B-4439-8FFE-1DDE488722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6054-897C-4534-AF25-C5D6B45938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4C2-3009-4EA3-9377-45B9AC53A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0DD-E839-4890-9B15-48BC94AA90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3F0-0D86-44DC-8127-88447A227E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1624-7A89-46AF-AB17-4968AEF560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ABB-4252-4789-A716-3FB093BCD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4DD-977F-4360-BF13-117168B32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F6F-9035-4C71-B39C-8827AE6BF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5061-6DF9-43FA-993C-C887200D9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F24-F52D-4EDA-BEDC-1E427AC62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9ED-DDDE-422F-A340-8D5FB9E10B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BD73-89C6-47A3-A731-BEB9501AC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B64-B291-412C-9316-A1D5BEDFE2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193F-9CE7-4C5A-96F6-570B5F9BF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59C4-F34A-474E-AF28-F329B8317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A09-B6C9-4C6F-B4E1-09FE8118BF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867D-6BF7-4B20-885D-35FC5750CF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0694-C0EE-45DC-B83C-B20E19F1A6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4187-D3C2-46C1-9467-3CA93BB254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4304-D545-4F78-96E3-3D01418B08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2EB2-9FD1-49D4-BE2A-8749E3777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75B-0902-462E-9C3C-28DF128926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D4C4-73DE-4C4E-9E70-DCFD59665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4B2-15A0-4930-84E2-315DA4A0FE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8B2-79A9-4C8D-B80F-57244C9E9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CC37-5966-4723-84F0-606AA3AAF5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951-CE6D-4970-ADBA-D73BBC060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A255-AEB2-4498-903A-1CAADBDA0D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C8F0-3495-4650-B749-384D90C76A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F5E7-2CD4-4DAF-A9AD-763110D261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4BB-A12B-48C6-9BA0-34C0B72A54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BA1-1B8A-4ED7-A650-7738C9039D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CD3-83C6-4BBF-BE62-A2D6C95985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B3B-0EC6-48DF-894F-78443ED3BB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4880-F6CE-40B5-B328-EF8D15574F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F57-4C30-47B5-8064-379520EAF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D3D7-AAB9-4156-8D92-7A35BD251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FEC-3BC8-4F0B-9B94-97D7A1CF96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44A-1C8F-48AE-B3DF-1FD1B26FEE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E97-93C3-445C-8F39-A87D0CFED4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DE6-E9B5-46A8-AAB4-EC78CA10A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B93-8C6C-46EE-B891-8EBD43DD69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B20B-17B1-443A-A0CE-E1DE168AC5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E25-10B7-446F-A933-EAF0F3B3E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EF1-3131-4776-B0C1-D330C6B4B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1772-D8A7-4FC9-859A-5DF0236748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669-18B1-4CDD-84B4-95AE1FFD11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B522-575E-49CA-830C-AD250B1E66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C87-2F9E-45F9-85B3-5727123A7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123-7FCF-4B5F-B117-9E88A02ED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462-A8D3-4FA2-B5FB-44BAD4497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3D5-8D91-433C-A442-C40D0BEE54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D94-DEA0-4C18-B4F3-130BA76887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EE65-BD14-4E2B-B776-C71F31E7F9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F62-186B-42C2-B98F-E97303524D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4A4-48F8-4BD0-8675-8A3B020A6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190-95F6-47DA-AFA5-896D87875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0C6-E4CF-4675-A149-C8C94F1894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859-C6D1-4D0D-B5E4-6CF11472FE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4520-D544-429C-B0AC-33C55E51A4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523-9EBC-46C1-A023-2EAABF7C46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B56-A88A-405E-8678-11B6EA5599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6E3-61BD-4197-BDA4-A79F6F90D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762-D333-4F99-871C-02A964DF25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AD67-3B7E-4FFC-8688-8EC1A97029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4B43-25CB-4493-A898-3CD8E675E5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F207-2F7F-4CBD-B94F-0BF5DBECA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191-8125-4FC4-845F-889A5B999C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446F-DFEB-466C-8BFF-3D708F9DB5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0D8-A303-49A1-9F46-F8A6C1CC95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967C-45C1-4507-A502-2116D2FBA8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F76-DF91-42A3-A2FB-27C895744D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EF86-83A6-43AF-8319-9DC40084AB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E3D1-76E8-448E-878A-3F0501A791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9D4-5032-464A-A901-005701E7F4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E4B-6DA5-4B7B-A966-1BD02023FB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FBB-7799-4D04-A880-C3C2625F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248-C0C6-4C72-BBE1-87EF58C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6C0-4F05-4E31-9996-3A7CE319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20E-320B-44AD-B2DB-14DFEF0E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160-0F3F-4FAC-A772-7D8123D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E90-1B02-47DF-985E-B79697D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D86-C25D-4A9E-A966-E87DBAC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DCD-E5B5-4CB3-B87D-0D09DB9D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A6F-A07E-4AC1-857D-7F0A1000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041-83E4-4290-8395-A717164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706-F6C3-43EF-9A6B-C6AF7DF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865-BF7C-4452-A561-9F4B7CA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A14-2633-4B2A-AAC3-0B367ABBFF0D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3F3-4B56-455E-BBB0-CF7B6E550155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E98-F20B-40C9-8F73-31F31302851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5A94A-B642-41F3-8A45-2D97C17E34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AA8-0BD9-4E34-A4F5-33E3ECA027D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1C2B0-3758-4461-B680-A7BE7A5A51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1A7-AD22-400F-B4F5-E36BDECA51E8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F2F84-3F4A-4123-AF4B-BC448697818F}" type="datetime1">
              <a:rPr lang="en-US"/>
              <a:t>07/30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126-BF7E-4A32-9B57-A857B6C1B4CD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1F1C9-7024-4C07-9B09-7920814FC621}" type="datetime1">
              <a:rPr lang="en-US"/>
              <a:t>07/30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016-DFDA-41EC-832E-948918B53BF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FC279-FD78-4BB2-8B66-B50C8FA75E69}" type="datetime1">
              <a:rPr lang="en-US"/>
              <a:t>07/30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E0E-09F1-453C-B829-BE0020D2DBAD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D34A5-16C7-4827-A0B4-934E2DD1363C}" type="datetime1">
              <a:rPr lang="en-US"/>
              <a:t>07/30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CBF-E842-4FAB-B489-B1B336234F1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446B2-554B-4FD5-BAAE-372897186F25}" type="datetime1">
              <a:rPr lang="en-US"/>
              <a:t>07/30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5C6-C3CE-4A05-B214-43A54AF52553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A6147-68CD-48DB-9BDD-1A00AAD093F0}" type="datetime1">
              <a:rPr lang="en-US"/>
              <a:t>07/30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9A6-33D4-4F56-841C-F776AD474A05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7F866-B087-4EE8-984B-8B57C2BDB39A}" type="datetime1">
              <a:rPr lang="en-US"/>
              <a:t>07/30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F2A-331E-49D0-A8E9-5D8601FA95C4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12B01-5909-4EBF-95AC-3044C98023FA}" type="datetime1">
              <a:rPr lang="en-US"/>
              <a:t>07/30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EBD-F7A2-4DA0-90C1-04FC13BA2E93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75E09-38A7-4ECE-BFDC-12B866526330}" type="datetime1">
              <a:rPr lang="en-US"/>
              <a:t>07/30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F18-675C-4865-9629-46187DCAEC7D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3FB50-B0B8-4C97-8E0D-CB5A64365D38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485-D6B6-469E-978D-161604F33E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65E3D-CAE1-4DFB-BD04-410329E8BA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879-CCD2-4E0B-85A7-FAC396822735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7C89-E881-4911-A9C1-89A62F65E921}" type="datetime1">
              <a:rPr lang="en-US"/>
              <a:t>07/30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528-B44F-4B44-9E9A-5572E8D10758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E7C19-DBDC-4720-B9B5-FCEDBB4EE63C}" type="datetime1">
              <a:rPr lang="en-US"/>
              <a:t>07/30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A45-2002-4632-93B3-9B0A282052CD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95958-0087-43E3-A56F-F0E0A0945CF9}" type="datetime1">
              <a:rPr lang="en-US"/>
              <a:t>07/30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DA4-2F3B-4BA2-AE48-5867F583BDE1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9A640-8B8D-4CC6-B014-313360226CC8}" type="datetime1">
              <a:rPr lang="en-US"/>
              <a:t>07/30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4F1-3F8B-4B1D-B82A-85D24F4968F9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CBD53-12F4-4491-B248-5B6F3EF11EB0}" type="datetime1">
              <a:rPr lang="en-US"/>
              <a:t>07/30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DC9-A4DE-4BF4-B0F0-80EA716533D1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0BF16-E510-45EE-A2BE-DF31CA2B546E}" type="datetime1">
              <a:rPr lang="en-US"/>
              <a:t>07/30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C17-2277-47AD-AA75-E5B56CB26E8F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588F7-5482-4387-981A-7E6FFF0D3D75}" type="datetime1">
              <a:rPr lang="en-US"/>
              <a:t>07/30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100-3DA1-4D29-BD38-32FBF9D0F4CD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09611-F969-4517-AEEF-2CA93743969A}" type="datetime1">
              <a:rPr lang="en-US"/>
              <a:t>07/30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AD2-B45E-46C1-A136-6ECC902FA65A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6C81E-195E-4501-AB5D-EBBF46B9D489}" type="datetime1">
              <a:rPr lang="en-US"/>
              <a:t>07/30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D19-3158-464C-8A9A-6C72213C2B53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CC3D4-88A4-419B-AB54-3C793D8EC587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2A8-73D8-4654-8793-67A0B15F95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7FB5F-96B9-492B-8658-0E4DC65413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96C-D589-4E3F-BC01-7F7E099111F1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836BF-CFD3-4DB0-A997-278CCE94ABA5}" type="datetime1">
              <a:rPr lang="en-US"/>
              <a:t>07/30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F6C-BCEB-4C27-97A9-74B38E9D2EF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18B1E-A676-467A-865F-C131DAB85DDC}" type="datetime1">
              <a:rPr lang="en-US"/>
              <a:t>07/30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867-A362-4E25-8880-84214A281A9C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EF13-1975-45AC-B874-8F78BB14BBAF}" type="datetime1">
              <a:rPr lang="en-US"/>
              <a:t>07/30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5CA-B2BA-4A88-A26E-6901EDFA5653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12F93-9E3D-4433-A753-E9ADCEED2171}" type="datetime1">
              <a:rPr lang="en-US"/>
              <a:t>07/30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155-2232-4488-88FA-D3FA6C6671F3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1156A-9DA5-4A19-B397-2A6A4CE89FD5}" type="datetime1">
              <a:rPr lang="en-US"/>
              <a:t>07/30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88D-A9E2-4F58-822A-956EDEB90192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D3B6F-4E3B-421C-AD44-A5A684FEBE45}" type="datetime1">
              <a:rPr lang="en-US"/>
              <a:t>07/30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7BB-CCD6-4B5B-A4A7-C678FA1AA4D4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EC18D-717C-4579-9CCF-65F1B7BD1400}" type="datetime1">
              <a:rPr lang="en-US"/>
              <a:t>07/30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078-5C40-4ACD-96FD-C82DD058D2E3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1BF0D-94E3-4830-BAA2-552A1205022C}" type="datetime1">
              <a:rPr lang="en-US"/>
              <a:t>07/30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401-7396-42A1-9C75-96991A15780F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560B6-79C1-411E-8FEB-BD3ED464907C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4BA-5B80-45F5-BE5F-E5A7CA52F6EE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8C68-688E-43FE-A5A1-F71E3FB5225D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77E-D2B5-4564-BA98-9039045C81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DDAF1-D2ED-4D58-A43D-87378F966F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9BB-5421-4405-AA2B-6CD8880538E5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A1606-E636-4411-A3CE-32FE518CCFA1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99A-252B-49B5-89CC-357075DC4827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D218B-35A2-450F-B083-34199381A4EF}" type="datetime1">
              <a:rPr lang="en-US"/>
              <a:t>07/30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EB2-B957-4DBB-A1C1-837903E145A0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94E78-2CE5-42B8-A8F3-68E3D5679E84}" type="datetime1">
              <a:rPr lang="en-US"/>
              <a:t>07/30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BF7-AEA2-4571-8B7C-48BDEF059EF7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5732A-43C5-4321-8D3D-CEC2E1568249}" type="datetime1">
              <a:rPr lang="en-US"/>
              <a:t>07/30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28B-BDD5-4992-86F3-43964165014D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19F8F-79DB-4106-9F3F-CA0DFBC3FA78}" type="datetime1">
              <a:rPr lang="en-US"/>
              <a:t>07/30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697-AC41-47D6-9372-BF8976C4967C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4D541-728A-4332-8575-600BEBDBC356}" type="datetime1">
              <a:rPr lang="en-US"/>
              <a:t>07/30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50A-5859-44B8-AD54-80B9F559754B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89B46-36BE-4A22-B360-18181CF09E2B}" type="datetime1">
              <a:rPr lang="en-US"/>
              <a:t>07/30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B5A-957D-4CC1-8904-8AFA8EA6E72B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1B90B-D8FF-4126-B991-B044C026498E}" type="datetime1">
              <a:rPr lang="en-US"/>
              <a:t>07/30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DCB-9527-46A6-92E6-39DAEF8847FD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FFFB2-BF42-4B29-AA12-D4DA3D48DCAC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8F3-B98B-4A01-80F5-36BD0E68F6EB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C3B38-BF0C-4FEF-84C8-B2E386691ED6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BD9-F5E6-4B9C-94EA-C01CE809A1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7A813-7561-4B5C-8D22-0BC80E0A3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DEA-BE3B-4292-9AC1-DAE242E449FA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65EF-2586-46F9-BB97-5E580FF2D327}" type="datetime1">
              <a:rPr lang="en-US"/>
              <a:t>07/30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EAF-CEFB-453E-A7B6-7A2D820DE33F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C4319-7C4C-434A-81A5-454A858E1DE0}" type="datetime1">
              <a:rPr lang="en-US"/>
              <a:t>07/30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F29-D56A-4D7F-BB05-D12592ED60B1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3B43D-56DF-4C09-BD7C-54B0F7418023}" type="datetime1">
              <a:rPr lang="en-US"/>
              <a:t>07/30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81E-AD46-437B-A7F5-2565829091D3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49BC1-19B8-4C10-B1A2-A507063D0AF4}" type="datetime1">
              <a:rPr lang="en-US"/>
              <a:t>07/30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2B8-1D63-4DD6-8719-24E684A50099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5567-0634-4F27-8BAD-764178ADC890}" type="datetime1">
              <a:rPr lang="en-US"/>
              <a:t>07/30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D92-C700-4D28-BF4D-E9D1CB856493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BC30-5106-479A-9805-5179B60744DA}" type="datetime1">
              <a:rPr lang="en-US"/>
              <a:t>07/30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831-5CB9-404A-A410-B35EDCF06C3C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6FA8-2E41-491B-BB85-53C4D41F050B}" type="datetime1">
              <a:rPr lang="en-US"/>
              <a:t>07/30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9EA-6B4E-4553-93DC-199252EC9290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B32E0-4D8A-4B2F-9B95-EB53079257D0}" type="datetime1">
              <a:rPr lang="en-US"/>
              <a:t>07/30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7FD-BB3E-45EC-B908-927A0C7265C0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B7016-BDBE-4F1B-BCA4-FBC215DB27EE}" type="datetime1">
              <a:rPr lang="en-US"/>
              <a:t>07/30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230-70B8-49A7-A465-6E4E13BC0F74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2F4DE-A601-4B78-9EF5-66282EDCC71F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396-6EB6-47D3-979D-3B22129DBB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CB6DC-A575-4DC7-A8CF-0B8E1B22C7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22B-4053-4EBD-9C2F-5C5C7BA7AEAE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62814-CB5C-4180-A5BE-D88123FC3E12}" type="datetime1">
              <a:rPr lang="en-US"/>
              <a:t>07/30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54F-0B12-4A9F-B38A-0566F2E29510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49F29-37E4-41ED-8154-C6B995ACC4C3}" type="datetime1">
              <a:rPr lang="en-US"/>
              <a:t>07/30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0D5-C776-413C-B7F2-701C2AAA0269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8872-E8A0-4DF2-B0BC-2CD7742F8720}" type="datetime1">
              <a:rPr lang="en-US"/>
              <a:t>07/30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8CF-BE7D-40D1-8357-2AA3D962FB5B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4484-CAC9-41C5-AA0B-0F6FA515B0CA}" type="datetime1">
              <a:rPr lang="en-US"/>
              <a:t>07/30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021-E57F-48E7-A279-3625F09BCA6F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375E0-C20E-40FD-9FEB-4720641AD31D}" type="datetime1">
              <a:rPr lang="en-US"/>
              <a:t>07/30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A22-1CC6-4629-B553-C22B53C48F91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00956-CDA1-40F4-8C3F-E64867FF6314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318-219B-4EC5-84D5-1996F8AFCE36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BEDA0-CF05-466D-B2DC-7214CDCD0D6D}" type="datetime1">
              <a:rPr lang="en-US"/>
              <a:t>07/30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809-A21F-49AB-A87D-C071949F14A1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EAFEF-499B-40D2-9ED8-D1BCD8A4A08A}" type="datetime1">
              <a:rPr lang="en-US"/>
              <a:t>07/30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BC6-87A3-4190-B908-BCAD26256908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1AF7-E736-473A-8DC8-B33E12A8C8DB}" type="datetime1">
              <a:rPr lang="en-US"/>
              <a:t>07/30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2A4-ED31-4A2E-8F87-79263CEB29DF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0DC01-4CFB-40CF-8E80-2D3004237DD5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E7F-457E-40E6-A948-3EE0F01EB4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A01E-D740-4185-8DA8-031B8D65FF76}" type="datetime1">
              <a:rPr lang="en-US"/>
              <a:t>07/30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92C-71B4-4BA3-8A4C-74E1E1902A44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F1817-6C58-4AC4-AF8C-6174938D1655}" type="datetime1">
              <a:rPr lang="en-US"/>
              <a:t>07/30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ED5-BCB6-42F4-8DC8-ACC355377AB5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4E6F-2FE7-42E6-B593-40C78C87BE59}" type="datetime1">
              <a:rPr lang="en-US"/>
              <a:t>07/30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910-56E6-4382-9B5E-49538F737D46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FFA40-2872-4862-8974-0863CD71E06F}" type="datetime1">
              <a:rPr lang="en-US"/>
              <a:t>07/30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7E5-646F-4638-BA2E-F480013B0624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0DEC-6049-49E8-8418-6D413F79690C}" type="datetime1">
              <a:rPr lang="en-US"/>
              <a:t>07/30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4B7-9134-4B39-809B-E8D1E2C2C14E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DCF08-DB3C-48AB-9FEF-B85733ADA361}" type="datetime1">
              <a:rPr lang="en-US"/>
              <a:t>07/30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C53-ED3A-4739-BFF1-BD4D3E345FF0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9F002-C07D-476E-B70E-0CBE716D0CFC}" type="datetime1">
              <a:rPr lang="en-US"/>
              <a:t>07/30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F43-1961-46BF-871D-CFF84C5AB11B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BABF-2B05-4540-AD55-A62778F0C8F0}" type="datetime1">
              <a:rPr lang="en-US"/>
              <a:t>07/30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4D9-3C34-4AE4-8B76-C328C9370EBD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CEDAA-83D4-4129-9119-D5BC31F3790A}" type="datetime1">
              <a:rPr lang="en-US"/>
              <a:t>07/30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8F8-C845-422E-808F-93689DB5000E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7697B-F602-4C40-89A8-1B201750A81A}" type="datetime1">
              <a:rPr lang="en-US"/>
              <a:t>07/30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C63-520D-4914-A094-2B8AC52BA057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22977-8064-46F7-B4C8-BCD3DC7C4865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9F0-ABD0-4551-9FE1-33F3BAC2C8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D2740-A7CC-4CDB-B256-ABCC73F6032B}" type="datetime1">
              <a:rPr lang="en-US"/>
              <a:t>07/30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648-0DE7-487A-9C98-B11576F9DAE0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CA60-64D0-4224-AA24-022D3610DBA7}" type="datetime1">
              <a:rPr lang="en-US"/>
              <a:t>07/30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CA0-F154-4B25-AB93-FDCE878DEC66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9938D-60EF-4110-8226-0F3A1EC6D963}" type="datetime1">
              <a:rPr lang="en-US"/>
              <a:t>07/30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36C-CA1E-4236-89AC-83FAEBEF870C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648F7-FC75-4617-B8C0-AF19B117147A}" type="datetime1">
              <a:rPr lang="en-US"/>
              <a:t>07/30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DA4-9E81-4C4B-8E81-A5F55B10B54B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99567-D717-4911-BA29-BF6F6A802E88}" type="datetime1">
              <a:rPr lang="en-US"/>
              <a:t>07/30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A3A-834A-4DB2-BC65-EA31DDA126AA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47454-5C11-4B04-879C-A80F79663E23}" type="datetime1">
              <a:rPr lang="en-US"/>
              <a:t>07/30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474-19B0-4380-8045-62DB0E0A1F3D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FEBA-BCD7-4BF4-ACF9-24FD7A9AA44B}" type="datetime1">
              <a:rPr lang="en-US"/>
              <a:t>07/30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93B-DE6E-4DD1-897A-94D773167910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FDACD-E3EE-4219-A06A-A7F608E8D6EC}" type="datetime1">
              <a:rPr lang="en-US"/>
              <a:t>07/30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84F-34D1-4F74-AE9C-0F819AC208B0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62622-0628-4DFC-80DA-723825BBD653}" type="datetime1">
              <a:rPr lang="en-US"/>
              <a:t>07/30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DE6-250B-4124-992A-68FF1A25CE81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D802C-7916-4109-878C-86A89A6AE9EF}" type="datetime1">
              <a:rPr lang="en-US"/>
              <a:t>07/30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51B-5FC6-4BA9-9AD9-5BAC4563C5EB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A113C-2B1F-4E1C-B3C3-80D4A23E230B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A29-9AB6-4C67-A11C-6BC8077FAD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D4B1A-5CCD-4BC9-BB2C-EDD8D798FC37}" type="datetime1">
              <a:rPr lang="en-US"/>
              <a:t>07/30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CF6-EA1A-4906-91E9-40F96E8CBCDA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3235B-01B7-4ED3-BC25-2BB6616FA30B}" type="datetime1">
              <a:rPr lang="en-US"/>
              <a:t>07/30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BDB-1A17-45F6-BEDB-8FC3CD058703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C4B10-11C2-49BC-B635-49C8B6635239}" type="datetime1">
              <a:rPr lang="en-US"/>
              <a:t>07/30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0CF-AA49-471B-B0C8-E2D8D0EE5692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3B165-E960-495D-86E4-238A4CBB451D}" type="datetime1">
              <a:rPr lang="en-US"/>
              <a:t>07/30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E7E-F228-4C25-B2ED-9E5E3D516662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385BE-E892-409C-AECD-3E984A76DF93}" type="datetime1">
              <a:rPr lang="en-US"/>
              <a:t>07/30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C81-A44F-4B3C-BEE5-7C6F805EBC72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3B869-0D2C-427B-A25F-2B839D29284F}" type="datetime1">
              <a:rPr lang="en-US"/>
              <a:t>07/30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B66-CB53-406C-B927-56E97C4BEB46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4894-7FD9-487C-BFD9-FC8DD8CD92A6}" type="datetime1">
              <a:rPr lang="en-US"/>
              <a:t>07/30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178-0E9A-4161-9F2C-9162E0CBCA1C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A40FD-8101-47EA-8181-AC86DCAB968D}" type="datetime1">
              <a:rPr lang="en-US"/>
              <a:t>07/30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D09-636E-4073-93BA-84FE99451F6E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C3124-9A82-4B55-BF96-2FEF7D3103D8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2B3-857F-408E-84E2-9E519B82DC4B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50ABF-612F-4174-A12A-FD2707EF6210}" type="datetime1">
              <a:rPr lang="en-US"/>
              <a:t>07/30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780-618D-4740-850D-4C4BFD18BE83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6FCC4-AE30-4650-9178-6365BF4875CB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05C-3E2E-453A-961B-C92331F29A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A1597-7F79-4290-9F15-629F1B94D232}" type="datetime1">
              <a:rPr lang="en-US"/>
              <a:t>07/30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D80-2DA8-400A-8A20-6827FE660601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AC667-472D-48BD-ABD0-EFBE07FFC630}" type="datetime1">
              <a:rPr lang="en-US"/>
              <a:t>07/30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015-5E51-4175-BC88-6C43BA824304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44A50-FC3E-4315-8B94-F773C9075A79}" type="datetime1">
              <a:rPr lang="en-US"/>
              <a:t>07/30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764-523B-4134-991A-AF458090291E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30AB2-9305-4070-995E-AC5A7AF0DD19}" type="datetime1">
              <a:rPr lang="en-US"/>
              <a:t>07/30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DC8-F5E5-4BA7-B97C-1BA016EA7B8F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8BCE5-2420-4004-BCD1-1D860C857C0E}" type="datetime1">
              <a:rPr lang="en-US"/>
              <a:t>07/30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17F-067F-4B1D-B75B-A9D86CC2904B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D096F-DF80-4011-82A0-108DF9D5E900}" type="datetime1">
              <a:rPr lang="en-US"/>
              <a:t>07/30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176-90FC-45D3-A068-E28E0406CA3C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D12BE-14E1-479F-BBE1-150D280C9B2E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F20-8FCE-41E5-8776-F836B65E9D81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224FE-7D3A-4749-B557-4FA979790FE4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EA7-440D-4104-819A-9910D4246F6F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CC28A-8752-4146-8573-2F0352D4207E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CEF-22B9-46E8-8DD0-B5E4AA231360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24870-6A86-46AA-BE5F-A11A768700F8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592-17D8-4D13-B2C6-D3DD2ABE61CF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71E1D-44EF-483B-94CB-1299001AD766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AF9-E85E-4ADE-9D5E-EC04023149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B150D-642C-4A4C-A71E-41DF24ACF7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D84-6DEE-4560-8FA3-946FD0DD55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6D357-5FE2-4259-A12E-19DD44F97ADF}" type="datetime1">
              <a:rPr lang="en-US"/>
              <a:t>07/30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87B-600B-4217-B232-4B2C51231B4F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93208-6321-460F-8314-3A43F8DE692A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5BF-CD55-4227-9026-62CD2E196C68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23769-CF8B-47B1-AB19-6346B5245463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ABE-CAC3-4545-B985-815D070F1898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A8B51-ED07-43B0-B471-9C3FFB8992DF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4EC-0996-49C7-B8B7-69AD371B167F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694AA-FD04-4E1B-9949-BDCD06EC6D91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747-925F-4FAD-8C0C-7C4BF452D37F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A66B8-1DFB-4328-B346-33D0357EA92C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77F-4952-4153-9B84-74925627CE1B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AB559-2A36-4C41-B33D-31D81D92B599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FB5-34E5-46A0-8B36-ECE89BFFD6AF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F5043-30C5-4D51-827C-836E4B8933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BF3-BBFE-4D27-8ADF-27E2EBF86732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0D40A-D76D-494C-8BA9-A73C8BB39E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9DD-BD9E-4986-B84E-03F5F0CB4C70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966CB-05B1-442A-B548-E92AB591AC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B21-64F5-4453-BDF2-3BE517E7802B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7163B-E2EF-4AA1-9C95-603F676BD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2E6-1B9F-492E-921E-972478844A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1D0DE-9D46-41FF-A9EC-FF32669850B2}" type="datetime1">
              <a:rPr lang="en-US"/>
              <a:t>07/30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C9B-41B8-40F8-AF08-BFD9630BF1D5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16A9-33DA-443A-B9A9-74FA11CD7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E8C-0673-42BC-B809-0B6F73033B99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F6DE6-9CE4-46FA-A68D-E911EB137A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C1B-045B-4BA6-8E34-B23A179FF4A7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651C5-1D80-465E-B226-CBAD86C8D4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1C6-68CE-44B5-90B3-366921CA0398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5612-1A32-4889-8B72-307E6E8AF2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DEE-1756-4B73-9CD0-7F392374C3B3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6BE16-8512-4714-929B-7A3603B20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BC2-DEBB-47F8-BF05-055EC20021B5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834C5-E5CD-4AFA-ADAC-7BB9404954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148-49D5-4103-8D2F-48DF202EFD69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EB15A-AB26-4B49-975C-128A6522F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00B-AF3B-403B-BD11-84A870EC18D9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0E92B-1E6D-4EDB-89CA-2EE8C2284B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41F-B802-4DF1-8BD8-3371BFF0874D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76F87-CE45-42A8-BF5D-49703852B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0D0-9329-413C-9314-011D7B66BC69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0DBF6-0DEA-4B31-9246-331CC445A1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01C-68D0-48F6-8109-7FD638BACB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4E082-FA74-4A5A-907F-9BD13CA6ED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2B9-5E28-4609-B2AC-E3E3D9975D89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499D3-2F10-4E8F-BC79-72108FC878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8B1-1BBD-4AF5-879D-993DBECA36EF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E4C19-E8DC-4072-8864-425C55704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DD0-BB0B-4B08-ACD8-0669FBABEBA9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3CFD3-D345-464B-A0C2-522A12D23F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D52-325F-47B0-A8F5-C632E3F6E29C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30673-9891-4497-A0F8-0AF4354B92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3CC-D051-414A-B159-E309353282C2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35139-91D6-4750-948E-A18762035B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C34-6259-4CC2-A878-444050A7BA2F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E454F-40B0-4D8A-9F55-1C710DF28C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C89-4BAD-4176-9488-C2EBECDDD9DD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D1154-7DEE-4C77-9AF7-8D350010BD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C5C-42C5-4B1B-8307-7019B6D165FC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5A674-1C22-47B9-B9D2-6FD4713FFF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AEA-147B-44ED-9D3F-A997A3B1F7D1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4CBD-B327-419A-B513-3C678BA34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58C-04CC-4FED-9324-B869A13BBA3F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AB46E-F8AA-4095-93EA-FBF53A95DA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3D1-609A-43FA-8B17-EB8862762C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C584F-8BE4-43CE-97DB-A1F5D34C0A70}" type="datetime1">
              <a:rPr lang="en-US"/>
              <a:t>07/30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638-B2FD-40FA-B1D6-51310F827F3E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76F30-A0BA-4888-B5E2-EE203D608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E83-6806-4BB6-9B7B-75E51DF80005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B26B4-9BFA-4D9C-8E1F-A39CD32471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AB9-2BC7-4990-8A33-86B7A82CF23C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F9114-386D-4EB9-AE91-38F2B8722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38D-D371-4569-8ED5-2DC17C97F40E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75352-605A-407C-9AC9-385F99D72A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F22-9F06-46A7-ABC7-882A7FAEA2FF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B7EBB-8C86-4090-8F61-B5C8ACED5EC3}" type="datetime1">
              <a:rPr lang="en-US"/>
              <a:t>07/30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918-F4D2-4485-89B2-0A1CF24F4830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C3D3B-54EA-46C0-94C9-F40F6101E564}" type="datetime1">
              <a:rPr lang="en-US"/>
              <a:t>07/30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2E1-D63B-4641-B478-A0784A4E9642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11936-6913-4AD4-B3A9-49C43B33E500}" type="datetime1">
              <a:rPr lang="en-US"/>
              <a:t>07/30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133-C786-4D2B-BC75-43510E9F7CBE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357B-75BF-4877-9D2B-ABCD98C19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B06-C0E3-43F3-99E3-991CBC6DEFA1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0FDAC-04F9-446C-849C-025006F9D2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E50-596F-4D51-BD45-2CA3615AB1DE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2E7AD-5C4A-4EA8-BD0B-2302BA1C2E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F32-88AA-45BF-A27F-D7FD9F8934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C0EEB-0D03-4149-8505-A6D2D6DAB180}" type="datetime1">
              <a:rPr lang="en-US"/>
              <a:t>07/30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9A8-345C-4ED4-A97D-13CEDB1FBD93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D1DF1-FA72-45A8-B803-D92C6254BC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0BA-CBB6-46E6-A93E-30951CA729FB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ADC5D-CE25-4EEA-9990-B2696B51F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68E-45F6-431D-B64B-623633A44DCB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E7F42-CB41-46A6-8F8C-478D379C73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D88-11A4-4290-A2DA-9CF02D1C31A9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91EC4-3F59-4091-B8D0-4FD274727D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26C-7493-4280-9B72-17E4E8089349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21559-2053-469F-9F74-84BCF561C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C42-7ED6-4148-8864-9D92E113E4EE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4F3DE-1CF7-4D9E-AB5C-4ECE48DC17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3B-D97C-4551-B100-60DBE94C1B37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63001-89B3-4F9A-811E-6A290187F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8CD-1CFD-4B0F-9718-136875DE7CB0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E71C-2300-4681-BA55-A343BF2499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442-C27E-477C-A35C-98E03A2096EA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7D75D-EB75-4462-96FB-E55748E2A9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6DC-69A7-4003-9483-8EB63C4B8259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E70D7-4A12-4AEC-9ED0-984E5D5B9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0CC-ACA9-4963-A5C6-C1BC423B0D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CDBAE-3E75-4988-9F04-B360206DC5D1}" type="datetime1">
              <a:rPr lang="en-US"/>
              <a:t>07/30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72C-D753-4D85-AC3C-26A4586CE63D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16ED4-85F1-40CD-9362-519F9850CD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311-9C37-4356-B3DB-6AD02EA0C5F5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958D6-7365-42F2-82DA-A6ACA8E674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E25-222F-4652-B48D-DDF2FB35019C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97361-8010-41C4-B3CA-233D07449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BA4-8E19-498F-8654-DD6650615EB5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A43E3-5D81-4B80-8742-8B6092BE06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FE6-063C-4637-BD97-F6E5D09E45F1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BA5F4-AE8C-4953-8854-2A997B407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EC8-62D5-4F48-9BE9-5AAEC7616A49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00031-55E9-4207-8720-F5A381BA4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07D-3E6D-4519-BEFA-7E8BDFD116F2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A13D9-C550-4D19-96DE-7B89D81368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B64-82D4-4290-9DB3-29AC4ADE6CAA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B254C-73B3-4AA1-AA84-A6CD67F295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AEF-72F9-4909-80AB-8801F69E4217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D1DC1-B768-4F41-B035-619E92E33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9B4-6790-485D-AF3F-436CBA1A0F66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6E68-4E1B-4D61-9A96-B08991CA38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1E8-9AFC-4CFC-9EFD-22E88A05544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BE9C0-6669-41D9-AA75-67C4C2806098}" type="datetime1">
              <a:rPr lang="en-US"/>
              <a:t>07/30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E85-4B8D-43A9-BF40-87D796359823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0D062-A064-445F-B024-6551DDEEDB16}" type="datetime1">
              <a:rPr lang="en-US"/>
              <a:t>07/30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1F9-C6B8-48F6-8338-B0EA408E2B9B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A7366-D81C-4221-8274-CBA8102E6E51}" type="datetime1">
              <a:rPr lang="en-US"/>
              <a:t>07/30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8FF-E9BE-4A39-860B-C355E13C1059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F0DA1-11ED-4527-AB75-C977286336C5}" type="datetime1">
              <a:rPr lang="en-US"/>
              <a:t>07/30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7E2-DA14-43D7-A69A-BDDC13C01EC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4762F-27AE-4EED-8C99-4465992BBD8E}" type="datetime1">
              <a:rPr lang="en-US"/>
              <a:t>07/30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DFB-E4E6-49FD-B09A-F4E17A2BAF9E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9794-1397-45B3-A4CC-C5105D5B1F57}" type="datetime1">
              <a:rPr lang="en-US"/>
              <a:t>07/30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2B3-74C2-4650-B414-3585A58BA8FB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670ED-835A-4653-A9E7-39E878B09F3F}" type="datetime1">
              <a:rPr lang="en-US"/>
              <a:t>07/30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9C3-C01A-4AE9-A05B-389038969DB3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711DF-FD1E-4D66-BDBB-2FFB871F0D9F}" type="datetime1">
              <a:rPr lang="en-US"/>
              <a:t>07/30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D4F-5069-473B-8C14-8896ED96E606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75D5F-790A-4DB8-8B8A-FFD072378468}" type="datetime1">
              <a:rPr lang="en-US"/>
              <a:t>07/30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A78-0742-430E-8198-956A76C69DF8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AA63-FB70-46F3-904B-1ABFF4827E20}" type="datetime1">
              <a:rPr lang="en-US"/>
              <a:t>07/30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C74-DC59-4071-8D45-1B09FFC0283A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7DE20-C2DD-4F81-AED0-BAF85BA13700}" type="datetime1">
              <a:rPr lang="en-US"/>
              <a:t>07/30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E42-9250-4A4E-8904-6E417653A85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8C440-EA61-40F7-AFA2-2F3B13220877}" type="datetime1">
              <a:rPr lang="en-US"/>
              <a:t>07/30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D65-9FC9-4F29-B1C6-6A8E5E7A4449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F3A3C-8262-449E-82BA-E177A450B094}" type="datetime1">
              <a:rPr lang="en-US"/>
              <a:t>07/30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B1A-D9CD-4565-89FA-59526B4856B1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E43B-17F9-4A64-AA5F-26CD85084C48}" type="datetime1">
              <a:rPr lang="en-US"/>
              <a:t>07/30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309-67C8-4125-8A71-9EDBF5348B51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9976B-C636-4583-BE7B-D19277D859DA}" type="datetime1">
              <a:rPr lang="en-US"/>
              <a:t>07/30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E2D-02B9-4A6B-836B-AA970F2DA0BD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3D734-90AD-4B99-B7A4-41CBA4040644}" type="datetime1">
              <a:rPr lang="en-US"/>
              <a:t>07/30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D1A-2C46-47D1-9D8A-C2A7C3B8D190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8014-B010-4458-AC5A-DB53B7ABD792}" type="datetime1">
              <a:rPr lang="en-US"/>
              <a:t>07/30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698-2392-4176-B84E-7FA9EC2E6A43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F57F-D74A-4B85-B813-5E3FDD3A4FE4}" type="datetime1">
              <a:rPr lang="en-US"/>
              <a:t>07/30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FBD-2A87-4016-AD1D-6E38F0C3DA57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9D024-9D01-4744-AB8A-44D2DE2B930E}" type="datetime1">
              <a:rPr lang="en-US"/>
              <a:t>07/30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80F-846C-410D-B9C6-76E42BB9F7FE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90B3B-0756-44BD-BE1C-99A51A53E80D}" type="datetime1">
              <a:rPr lang="en-US"/>
              <a:t>07/30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FDA-DB51-4746-A52B-B854FBCC3003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23A27-404F-432C-AA1B-97584BBBCDFA}" type="datetime1">
              <a:rPr lang="en-US"/>
              <a:t>07/30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EF8-E19A-45D1-A88C-4A07FBDD0BB4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F1EE2-F656-4B23-B470-DE5D48348EBA}" type="datetime1">
              <a:rPr lang="en-US"/>
              <a:t>07/30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4EC-DAB3-49CF-A798-CDD623FF88B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5640F-0313-4336-9221-316D7DF25098}" type="datetime1">
              <a:rPr lang="en-US"/>
              <a:t>07/30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49F-ED66-4A12-AA58-CB3C1E15039E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C200-0483-4BD4-9020-6F518D5F49D6}" type="datetime1">
              <a:rPr lang="en-US"/>
              <a:t>07/30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C57-C0E2-4631-9E83-E50840547850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F54E4-4BF7-4805-821E-201473FC406C}" type="datetime1">
              <a:rPr lang="en-US"/>
              <a:t>07/30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E59-694B-45EC-9347-E1AB1E9C8D55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16894-EA5F-4FAE-9AEE-EE3F72B70C54}" type="datetime1">
              <a:rPr lang="en-US"/>
              <a:t>07/30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5C4-9ECC-4A18-89C1-5DAAA5FAF9D4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560F8-775D-40D3-91D4-11FFD68B6770}" type="datetime1">
              <a:rPr lang="en-US"/>
              <a:t>07/30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377-6550-45F1-8E91-E9D17F2C20A7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73A1F-6AE2-41E2-9A36-F99F02114EA4}" type="datetime1">
              <a:rPr lang="en-US"/>
              <a:t>07/30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DA9-86CF-49D7-8531-08AE5D72F76B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BA78D-BECA-4E8B-B696-8A2AEC66F720}" type="datetime1">
              <a:rPr lang="en-US"/>
              <a:t>07/30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E6B-3056-4909-9DA4-81511F3AACE5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C7740-3A6C-4BDD-BC3A-222F4B8A01E0}" type="datetime1">
              <a:rPr lang="en-US"/>
              <a:t>07/30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CA0-045F-48DE-8146-09478592BB13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220AA-C4D6-471A-9ED2-FC034B67339C}" type="datetime1">
              <a:rPr lang="en-US"/>
              <a:t>07/30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092-F401-464A-95B5-93764885EC06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824D8-7FA2-42AA-979C-34AF5DEF0DBE}" type="datetime1">
              <a:rPr lang="en-US"/>
              <a:t>07/30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ED0-995B-4692-BEBD-9D3F25AA0363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DC1F8-F14C-436B-A25D-52319811AE17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6AD-FCE0-40E7-9E03-8400B89AF5E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51EC2-F5EE-4335-8B9D-32A84CC0BB21}" type="datetime1">
              <a:rPr lang="en-US"/>
              <a:t>07/30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AD3-B999-4E41-864D-D79C8422CC69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D354F-D03D-4AC3-A720-4C1EC7F7E6C5}" type="datetime1">
              <a:rPr lang="en-US"/>
              <a:t>07/30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359-42F2-445C-B61C-3C850F24E202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F6890-2DE0-4F7B-BA28-42F30328EFAF}" type="datetime1">
              <a:rPr lang="en-US"/>
              <a:t>07/30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055-0F7F-4739-9A9C-1B626E3D52DD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ECC79-0172-4A37-88CB-2AB8502BF9F5}" type="datetime1">
              <a:rPr lang="en-US"/>
              <a:t>07/30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1CD-B481-4331-AC91-2B2CBA2D428D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65ED4-DFD3-47AB-96E0-3674A7DFDA36}" type="datetime1">
              <a:rPr lang="en-US"/>
              <a:t>07/30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611-3EF8-4CEF-93D7-10A9FC26E1DA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6718D-7C89-4134-A210-634EFB6D2A59}" type="datetime1">
              <a:rPr lang="en-US"/>
              <a:t>07/30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0D8-1726-4F9E-B6CD-68957AF089EC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0E4A-11E9-44AA-8713-01E1128BE09A}" type="datetime1">
              <a:rPr lang="en-US"/>
              <a:t>07/30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B9B-D6CF-4606-889F-4FE0E2F132A0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DCADF-EF7D-4685-8759-7576CD3D7438}" type="datetime1">
              <a:rPr lang="en-US"/>
              <a:t>07/30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FAA-AE40-4A31-9E19-56824693B3C7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582FC-E2E0-42A4-891B-3DE9212B4BB5}" type="datetime1">
              <a:rPr lang="en-US"/>
              <a:t>07/30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17A-F5B2-4789-B8B8-E9D89B56ABAC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BDB0B-991C-4771-BB4C-E563E1AD29B8}" type="datetime1">
              <a:rPr lang="en-US"/>
              <a:t>07/30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B0B-045F-4FD9-86BA-CEEF8A667428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F8643-227B-4376-BF11-FD6494E60110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B3D-870E-4534-8C8F-AC144B31F0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168C4-2D31-47D9-B3C3-76E76176B6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778-8734-4CD4-A71E-F69ABA93D06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C8F8E-2CAB-4BBA-A521-7B258AEEBD20}" type="datetime1">
              <a:rPr lang="en-US"/>
              <a:t>07/30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236-2640-4E81-90F3-488AD60F5279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1651B-743C-4AA0-A208-9C89163FBF01}" type="datetime1">
              <a:rPr lang="en-US"/>
              <a:t>07/30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617-CCFB-49A3-BAF8-D7DAE0A80925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6BF54-30C5-4089-8D50-F7EE163A6765}" type="datetime1">
              <a:rPr lang="en-US"/>
              <a:t>07/30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7BC-B012-472E-82A8-3211F1277771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90202-BDBE-4811-A543-190E48EA3A8D}" type="datetime1">
              <a:rPr lang="en-US"/>
              <a:t>07/30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80D-6053-4676-B694-B7F4CD039948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999C7-1EF6-4194-8433-2C78FFA34BF2}" type="datetime1">
              <a:rPr lang="en-US"/>
              <a:t>07/30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64B-1326-4DC4-845B-108D5F371427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3CF9F-DF1A-47E0-A33F-3E36669E2ADF}" type="datetime1">
              <a:rPr lang="en-US"/>
              <a:t>07/30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07E-7FFE-4CFD-8E6B-F5347353434E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AF5D0-00A1-4CF5-A182-37AE49228486}" type="datetime1">
              <a:rPr lang="en-US"/>
              <a:t>07/30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149-4A33-4DDA-97D8-165953E86EB9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32DB6-522F-484D-96E2-62AF5C5B2A13}" type="datetime1">
              <a:rPr lang="en-US"/>
              <a:t>07/30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FCD-7650-4EEB-A753-593EA021DE8F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2134D-5446-422A-94DA-1F861A9C12FA}" type="datetime1">
              <a:rPr lang="en-US"/>
              <a:t>07/30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A59-BFBD-4ED4-AEB5-391DFBE3CB13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88C1A-814F-40BA-88C3-1DC7373066D6}" type="datetime1">
              <a:rPr lang="en-US"/>
              <a:t>07/30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622-2CBD-4E37-9CD6-5237F6AE82AD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E88F1-C044-4E6F-87C8-3AA32D73E042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AB2-66C2-4C8E-9155-A551CD7383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56BEE-8545-440A-9BA6-C78355A3265E}" type="datetime1">
              <a:rPr lang="en-US"/>
              <a:t>07/30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6B2-F056-49E7-AB90-144FA8713BF4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99A06-CE78-4228-ADB7-86CFA93140F8}" type="datetime1">
              <a:rPr lang="en-US"/>
              <a:t>07/30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655-697D-423D-B05C-EDD75693AFB3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213E-DC10-4817-8F07-8ABA989DC62E}" type="datetime1">
              <a:rPr lang="en-US"/>
              <a:t>07/30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1AF-0CF9-4A72-AE6C-66D75B342418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4192-C15E-402E-AD3F-3197BEA406E0}" type="datetime1">
              <a:rPr lang="en-US"/>
              <a:t>07/30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593-55B0-4587-A55A-70F2420B4D97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E7881-4EB4-4D34-BBC5-5AD161343706}" type="datetime1">
              <a:rPr lang="en-US"/>
              <a:t>07/30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FB4-272E-430A-9B7A-935813D4E5EA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2D34-D59B-4DDE-AF77-2887460445C6}" type="datetime1">
              <a:rPr lang="en-US"/>
              <a:t>07/30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F81-65CF-415B-B67F-BDABDB7F4C94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888F7-93E6-463C-A098-9660CED4CB3C}" type="datetime1">
              <a:rPr lang="en-US"/>
              <a:t>07/30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CA0-30CC-4B48-A876-BD450C9E5AF5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AE151-ECA1-4548-8014-766DC57F930C}" type="datetime1">
              <a:rPr lang="en-US"/>
              <a:t>07/30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5CF-1EA0-46CD-A869-5178E8FFD8AC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5FF90-67AC-401D-82BF-CB173BCC4EE5}" type="datetime1">
              <a:rPr lang="en-US"/>
              <a:t>07/30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B1E-1069-40AA-AEC0-2E72F9C810F8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61E6F-B96E-4226-9FC7-5BC80127BFF0}" type="datetime1">
              <a:rPr lang="en-US"/>
              <a:t>07/30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5AC-7497-483C-A167-D15D4036FA99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9B499-8340-46AB-B1AB-DBF86B47C4BC}" type="datetime1">
              <a:rPr lang="en-US"/>
              <a:t>07/30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FCC-6C66-4FA1-8646-40A2749F65B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E97B-9109-4F5C-8601-7C6060C8E728}" type="datetime1">
              <a:rPr lang="en-US"/>
              <a:t>07/30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360-C73A-4FE6-BF54-8C40B4C295F8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9599A-361F-418D-85A6-66A0EB76C997}" type="datetime1">
              <a:rPr lang="en-US"/>
              <a:t>07/30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5D1-3B61-46A4-97CF-EFEE5650F120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09E1F-4D13-497E-8D4C-2C45C1193126}" type="datetime1">
              <a:rPr lang="en-US"/>
              <a:t>07/30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8ED-4E62-41B9-98F4-482E94CD5DE3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B97EC-0119-413F-8953-795413B302E4}" type="datetime1">
              <a:rPr lang="en-US"/>
              <a:t>07/30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5A3-E9D8-4D01-8C31-7D0E742955C5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C459A-5951-4381-BBB7-7318E0A95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F97-C690-4650-A92B-BA0D77214A4E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CA07E-DCD1-4B65-BD1F-986835118D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886-89E3-4A2A-B9E7-CC7EDFAC851B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FF492-84E0-4BBF-9841-8C7C964A8A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B52-9FB7-4BF1-A29B-B4C97FE0B06F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C578C-8BAF-4B73-9026-45820800C2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347-AE7E-47E6-AF6E-CD3467D08C66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7FAE8-EEED-4BD2-B3B1-C47DE886C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BB0-5FDD-4AB8-9518-7FADA42E3371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7552A-0AB8-482B-9045-C42E595FA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A57-D00E-43F1-AF82-CDB901589A13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F8823-6654-4BAC-AF18-C16DC3927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503-E36B-4F5F-823D-6570EA150DC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02330-70D5-488D-A09D-AEB4BE90EC4F}" type="datetime1">
              <a:rPr lang="en-US"/>
              <a:t>07/30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336-1F1E-465C-A565-54C892490755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D49B4-41A1-4999-B299-BE6002659E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012-C484-4493-A359-A8A7343C82EA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E110D-AF8B-4EDB-91A0-EA88C40553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778-E214-47A7-A7D7-AC3AE5416681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D0C8E-A81B-46A4-9B1A-5D0172E60D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2DB-7A3A-420F-8E55-F46C7660007F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AC9E7-1900-4355-B754-9BDE19F341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637-9088-4921-95BC-F7FC3DDA76A5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91D6-0106-4362-8278-60709F2E48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327-760B-41CB-84FA-207D1D55687F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1FF07-004D-4021-917D-E839319529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167-B11D-42E3-AA7B-895F8EB87F26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4C13A-B226-4E0B-B087-C988B3D94C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77E-3B9A-4AAD-ADD8-413B301619B3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8C60-B63F-4DD3-A900-D689AD22C4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DF1-F70D-489E-8BDF-3DF8A66BB7F4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3B230-BCDC-42BE-987C-5BD4B9DC7D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A54-C8FF-492A-A984-2C483070A3F0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A08E2-14B9-4813-8D94-20FDD98E55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CEA-3F1E-4793-A2BB-EE341EECC47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735C5-8F69-4724-A2DA-B5D854FD4C7F}" type="datetime1">
              <a:rPr lang="en-US"/>
              <a:t>07/30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5BE-BD4E-4E04-8B35-F1F581CD43C4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D6A1E-AD86-4C4D-A865-881A468A41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562-DBA7-4CBF-9D55-26367389D033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A5E9-70C2-4100-BB80-E3C453680D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732-213D-4D42-9B74-D23C8EF447A8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91098-C1D9-4927-918E-A9497CA00F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8BA-7F1B-4CB3-A2EE-3965AEC0644D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D430D-A124-4321-85F6-DCF7842176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7BC-D68C-48BC-9072-284EE4ADBEAB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1BE53-A6ED-4060-B15A-F944F578EF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07A-D6AC-471F-B96D-5C4EB4C099D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B8396-7528-42BD-8A8F-CC8016C8CD9E}" type="datetime1">
              <a:rPr lang="en-US"/>
              <a:t>07/30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6BE-3B35-4DDA-BFE1-3C8CFBA34CD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E8811-3044-405A-9DB6-7986BC812461}" type="datetime1">
              <a:rPr lang="en-US"/>
              <a:t>07/30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89D-7953-4413-A346-9149203FE75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F0E8D-A2A6-4637-8504-5296E099AB9E}" type="datetime1">
              <a:rPr lang="en-US"/>
              <a:t>07/30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E47-A35F-46F5-B490-2736110E391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C3230-7C47-49D1-92EC-4D4D192D9859}" type="datetime1">
              <a:rPr lang="en-US"/>
              <a:t>07/30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B35-51B8-4674-9ECA-7B66DC377B3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231EF-B34B-4F9A-8DE0-A248A888F62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4DE-39FD-4F03-B950-4B9A79058F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16E96-8A17-4B22-B67C-EF3C9F6C3E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4F9-EA72-4ED7-A568-990C695315B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48BE5-8039-4CD5-A109-8E6B0EB5D506}" type="datetime1">
              <a:rPr lang="en-US"/>
              <a:t>07/30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5F4-446F-42C9-85AB-0198165A8BF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FB45-8855-4B43-898C-52CFA5875BD7}" type="datetime1">
              <a:rPr lang="en-US"/>
              <a:t>07/30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3F2-5B00-4938-A4DA-B1157B21F6A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AE6B1-2BCC-458C-8290-A20D58AF15B7}" type="datetime1">
              <a:rPr lang="en-US"/>
              <a:t>07/30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87F-3CF3-4FE7-8BBB-2ADF841BFDE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7D7C-A5F6-4206-B8BD-2FEDD0E618F2}" type="datetime1">
              <a:rPr lang="en-US"/>
              <a:t>07/30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253-E14E-4E2F-A49C-C2BADB4FB9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DBFC0-3F5F-40CD-93D8-80EC9759C647}" type="datetime1">
              <a:rPr lang="en-US"/>
              <a:t>07/30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327-B15C-4C3A-B955-316E862312C3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2AA37-8934-438D-AA76-BD8D315E4FFD}" type="datetime1">
              <a:rPr lang="en-US"/>
              <a:t>07/30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076-29FF-4D0E-AF0B-8FB31AC71819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D384A-2C73-4A64-A121-94680BD463BA}" type="datetime1">
              <a:rPr lang="en-US"/>
              <a:t>07/30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A70-3B92-46CE-BB7D-2A7EDDB2899F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EF497-161E-48CA-8DEF-6EF3351123FD}" type="datetime1">
              <a:rPr lang="en-US"/>
              <a:t>07/30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4EC-E610-4D9A-BD32-6F43DFED8DE5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7FEF8-CE2A-4717-8E79-144DF1180901}" type="datetime1">
              <a:rPr lang="en-US"/>
              <a:t>07/30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731-437C-40A7-8AF9-BB5392C14E7A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2BA23-ACCA-49E2-A805-09A4556EEF8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22D-A418-455F-A30F-B684B0EDA01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8536D-D3A6-42F2-835A-8DC404D63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C34-1D07-4926-B73D-FD04496A68AE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5315B-7519-4F41-8779-2EBADDC51407}" type="datetime1">
              <a:rPr lang="en-US"/>
              <a:t>07/30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98C-83D6-4342-8009-D9A4BDB285DF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6284-802A-4958-BEBD-977BFCCF55F9}" type="datetime1">
              <a:rPr lang="en-US"/>
              <a:t>07/30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651-FCF0-427A-B3E0-65B8C93A7283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D9993-79E9-4867-86C9-D7AF3AE49D10}" type="datetime1">
              <a:rPr lang="en-US"/>
              <a:t>07/30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7FB-9212-41C0-8055-9E7489AA19D9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F1011-3FEA-4F7F-83CB-E65185E29D63}" type="datetime1">
              <a:rPr lang="en-US"/>
              <a:t>07/30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259-3DE4-486E-ACC6-8A022F1635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130A0-60F8-464B-B5D1-46C43A3A3245}" type="datetime1">
              <a:rPr lang="en-US"/>
              <a:t>07/30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AA7-1206-4725-930F-81FEE07984E5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99E68-CE47-4B34-963A-17110CDA47E9}" type="datetime1">
              <a:rPr lang="en-US"/>
              <a:t>07/30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AA0-D780-452B-B4BF-D94836BFAC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0F0E3-2AF0-460D-A67D-894AADA9802C}" type="datetime1">
              <a:rPr lang="en-US"/>
              <a:t>07/30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6E1-620A-4278-8A84-736682EE37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229A6-8E86-4B7A-8757-DA9583D0CEBE}" type="datetime1">
              <a:rPr lang="en-US"/>
              <a:t>07/30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13B-81C1-4D9B-8649-C4339DA33E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79AF0-4554-4D52-A6D3-512E1B07FA8C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0CF-7514-404A-B8EF-FF7EAC3209A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50BD5-D437-4745-980B-45BD956D646F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4E3-072E-4AD1-8172-2046616A969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77904-69B5-415B-B6F6-06B4581956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EA1-8E06-4647-ACBF-0EFE2AA46AD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DB93D-597B-498B-9540-928E42991E7D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E6E-6475-40B0-BA9C-A9955054E653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7DA0E-A452-4AEA-B571-9F5D02A28FBC}" type="datetime1">
              <a:rPr lang="en-US"/>
              <a:t>07/30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0B0-44B4-4869-AD22-9DE43AF0F8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2CD29-824A-4B68-B00B-876CE2ED043C}" type="datetime1">
              <a:rPr lang="en-US"/>
              <a:t>07/30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FD9-0C4F-4FB3-B8A6-AAAA634997E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D8E49-0C9D-447F-A83D-093E71AEE1F4}" type="datetime1">
              <a:rPr lang="en-US"/>
              <a:t>07/30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411-EDA0-4E32-85A9-AA111DD0E450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70217-1D98-4BB4-84B3-A3A1AD645C8C}" type="datetime1">
              <a:rPr lang="en-US"/>
              <a:t>07/30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E31-5F79-40D9-A445-ACC8A6F68D0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129BF-EBBC-427D-9AFE-F8FB3FD74BF3}" type="datetime1">
              <a:rPr lang="en-US"/>
              <a:t>07/30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C87-7CE0-4D69-BCA4-5F95CBE1F4AF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A45A4-87E0-4D40-9096-42302988B259}" type="datetime1">
              <a:rPr lang="en-US"/>
              <a:t>07/30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8D8-AC2D-4DA7-AEAF-CEBDB4B05D27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6EE39-ABC8-4C26-8761-1752DDD0B98C}" type="datetime1">
              <a:rPr lang="en-US"/>
              <a:t>07/30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024-536C-453A-BB01-7901218A387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082D2-75B0-45E2-964B-4213AB3D4A88}" type="datetime1">
              <a:rPr lang="en-US"/>
              <a:t>07/30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390-7883-47D8-9592-F3B18F68936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58060-5A80-424A-8311-12364D57B7D9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186-8658-4E2C-BD70-3D68205CF96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181B9-4946-45C1-95A1-F4DF863A80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C67-5A2A-4D6A-BCE9-7963BD393B11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4E157-BAA0-457F-972B-45F5D8BC523B}" type="datetime1">
              <a:rPr lang="en-US"/>
              <a:t>07/30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B75-CB16-48DE-BD8D-E4E8B9A27BE7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E1F4B-82A1-406E-A82B-BC20342B4C02}" type="datetime1">
              <a:rPr lang="en-US"/>
              <a:t>07/30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C9E-F76B-474A-9A81-7AF4C7BCCE7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F3705-18B9-4D4A-91EB-04AD51184578}" type="datetime1">
              <a:rPr lang="en-US"/>
              <a:t>07/30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762-0143-40D5-96F6-C1039BCBD1DB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914A9-D000-4445-BD15-6BEDFD1A817E}" type="datetime1">
              <a:rPr lang="en-US"/>
              <a:t>07/30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C19-207E-4E3D-88A8-43B4B4A42A2F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687AA-3E3D-4032-8401-1F8A74307499}" type="datetime1">
              <a:rPr lang="en-US"/>
              <a:t>07/30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C7F-E5E1-4B86-9A8B-AFA83DAC3D86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AFACA-5EF4-42D6-A53C-222B5536EDF9}" type="datetime1">
              <a:rPr lang="en-US"/>
              <a:t>07/30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38C-0B2B-452C-B79E-C433CD94F8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D3722-2DC5-4E23-8311-C20DEDF25C6B}" type="datetime1">
              <a:rPr lang="en-US"/>
              <a:t>07/30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044-31D8-48D6-A37D-597E168F9026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445C2-0950-4B18-95F4-8646A5153A61}" type="datetime1">
              <a:rPr lang="en-US"/>
              <a:t>07/30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21C-F98E-40FF-A119-A1B0064C89A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2715E-F16D-466D-80A1-D2BFBEAE10B7}" type="datetime1">
              <a:rPr lang="en-US"/>
              <a:t>07/30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CCA-30A4-4E84-BF1A-5A2BBA7F1E19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3344B-ACBF-4FBE-A15C-976A0EF6A5B0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9C3-89E5-4225-AAFE-8FFBAAEF685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C9D1A-E549-4975-9039-9C1D4335B2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156-BF70-49BA-8FA5-998D35D37EF2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C99E-C4E3-4596-BF97-54A0EE402B35}" type="datetime1">
              <a:rPr lang="en-US"/>
              <a:t>07/30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904-2229-4888-94EA-761EE99B1C9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26230-EB80-4375-8A60-4681999FCDC5}" type="datetime1">
              <a:rPr lang="en-US"/>
              <a:t>07/30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355-F777-4BD7-AE3E-165AC99EADD2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5CFBC-D837-431E-A873-7BD6547E76A4}" type="datetime1">
              <a:rPr lang="en-US"/>
              <a:t>07/30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BA9-7577-47B7-9A99-3F4B6F7A7350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A161-3A02-4552-853F-F0BE58E4B677}" type="datetime1">
              <a:rPr lang="en-US"/>
              <a:t>07/30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9D7-62D9-4FC3-BAA7-D59298054BC9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B45BD-9497-4731-9A6A-224A2A2C75E3}" type="datetime1">
              <a:rPr lang="en-US"/>
              <a:t>07/30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A2D-39A0-4898-B2AF-8BC6BE2E600D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65C19-EE72-49D1-BCE7-42F18EF749F1}" type="datetime1">
              <a:rPr lang="en-US"/>
              <a:t>07/30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FD5-D157-46C3-8775-1A01F211247B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94E24-AAEE-4C05-8B99-76A616AFBD96}" type="datetime1">
              <a:rPr lang="en-US"/>
              <a:t>07/30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03C-1AE2-4466-AB78-6B257FB886EE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2D3FD-5BAA-44EA-A891-8A822978EFB6}" type="datetime1">
              <a:rPr lang="en-US"/>
              <a:t>07/30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94B-5C9A-4044-B9A9-8FD09CE91B65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FC716-EF00-4FF3-8E7B-CAA4F111579C}" type="datetime1">
              <a:rPr lang="en-US"/>
              <a:t>07/30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698-8610-4F38-9D3E-D5590228FCC4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00829-678D-429B-B0DD-5761BC7F3640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691-DB96-48AC-ACE2-B39DF66D4A2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F869-D5D1-4EE9-BE1A-A49226AEA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58D-8FA8-44EB-8521-B12EE45B0BF7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4FC13-1077-490A-865C-29DC969C2856}" type="datetime1">
              <a:rPr lang="en-US"/>
              <a:t>07/30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252-86C3-493B-B9BC-BF22474A48D9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DE9C8-F867-4134-AD85-0823AFAD609C}" type="datetime1">
              <a:rPr lang="en-US"/>
              <a:t>07/30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9AE-A47C-46ED-81A7-905A1A9998C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4CCE-1091-4CB1-B3D7-53A22E509192}" type="datetime1">
              <a:rPr lang="en-US"/>
              <a:t>07/30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757-FA71-4E27-8E54-8096599BB7D9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2B9EE-5173-4DA7-A5A1-28E1043269BF}" type="datetime1">
              <a:rPr lang="en-US"/>
              <a:t>07/30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587-2F8D-44FB-B16B-EC0C7CBE751A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6DD12-B824-4257-9063-AEC646867385}" type="datetime1">
              <a:rPr lang="en-US"/>
              <a:t>07/30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D01-7687-44D3-8731-7C43F8E59B41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B4470-ABA5-4FE2-9200-49A834DDEE4B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EE3-F669-4E79-98C5-6029EBB998B8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D1C6F-C56A-444B-9D7C-78AC85954267}" type="datetime1">
              <a:rPr lang="en-US"/>
              <a:t>07/30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BE9-8642-4DF9-83B2-6A8D5AE29BF3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EE74E-1291-4DD4-A349-A12A5FBF1E2E}" type="datetime1">
              <a:rPr lang="en-US"/>
              <a:t>07/30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389-43AD-4E0D-B46C-B87B9AB0ADEF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4C330-65B1-455E-87C2-87B6EFF9928B}" type="datetime1">
              <a:rPr lang="en-US"/>
              <a:t>07/30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85D-BE45-4DED-82E3-6EC03CF99425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96CC1-0720-42A3-9F53-08CDB8EBD447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